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png" ContentType="image/png"/>
  <Override PartName="/ppt/media/image2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7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0D3-E5E7-40C2-9434-C618803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995-3E9A-4496-904D-3CFDC020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575-2A08-4AF1-BD78-09FB1784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E3A-B1C7-459F-A1F2-DA3A2273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39E6-E3ED-43DD-98AA-1E7951B2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E95-C2EF-4D20-A581-68F5735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5731-21D9-4957-B356-B13ACBA5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EB0-53FC-4751-8DBC-7C09CB77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79C0-1B25-48CC-9EBA-18BD03DE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625F-68E1-43DC-A0CF-EEF0C5F3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FC6-14B7-4D05-ACD8-815EBAF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310-4D4B-493A-A88D-5FB75D22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4CF9-9A86-4D36-A0B7-261FF63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22B-4077-4BEF-9DC9-2C26ECC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7BC4-50E3-411C-A1B7-7CD1C3C0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3AF-9747-4B6B-9BAA-4DC21CE9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29FE-1277-4B5D-BF92-BE70479B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345-7330-4113-A608-E665AC3E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5DD-D980-49DD-A12D-8F63513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D0E-EC2E-4E29-B9C2-68174BF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EB3-7002-4322-8FA0-8AAB62C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F80-FB23-45DE-80EC-62D173D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EBA-1A8B-4238-B118-2BBB3DE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5E2-E595-47A1-8CD6-9CA015F5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EEEE-F875-4A29-B4D4-DCECB7CD7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C80-AD54-4DE9-98BF-6A10A8935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2349000"/>
            <a:ext cx="6193080" cy="1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79640" y="3357720"/>
            <a:ext cx="668952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340000" y="404640"/>
            <a:ext cx="6480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708360" y="49417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релов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2843280" y="177336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в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77933c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п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604a7b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195640" y="407520"/>
            <a:ext cx="69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Школа для обучающихся с ограниченными возмож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доровья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г. Мичуринск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TextBox 1"/>
          <p:cNvGrpSpPr/>
          <p:nvPr/>
        </p:nvGrpSpPr>
        <p:grpSpPr>
          <a:xfrm>
            <a:off x="1127160" y="328680"/>
            <a:ext cx="7138800" cy="1407960"/>
            <a:chOff x="1127160" y="328680"/>
            <a:chExt cx="7138800" cy="1407960"/>
          </a:xfrm>
        </p:grpSpPr>
        <p:pic>
          <p:nvPicPr>
            <p:cNvPr id="152" name="TextBox 1" descr=""/>
            <p:cNvPicPr/>
            <p:nvPr/>
          </p:nvPicPr>
          <p:blipFill>
            <a:blip r:embed="rId1"/>
            <a:stretch/>
          </p:blipFill>
          <p:spPr>
            <a:xfrm>
              <a:off x="1127160" y="328680"/>
              <a:ext cx="71388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332000" y="476280"/>
              <a:ext cx="676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Какого цвета потребуются салфетки на изготовление ёлочки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Рисунок 4" descr="IMG_0241.JPG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84360" y="549360"/>
            <a:ext cx="381636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Делаем ёл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684360" y="1844640"/>
            <a:ext cx="388764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1 вариан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Стоит ёлочка – зелё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иголочка в зимне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Ждёт, когда её снеж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укутают. Выложи на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ветках снег из бел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бумажных шар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чание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При выполнении д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работы можно использ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в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IMG_1795.JPG"/>
          <p:cNvPicPr/>
          <p:nvPr/>
        </p:nvPicPr>
        <p:blipFill>
          <a:blip r:embed="rId1"/>
          <a:stretch/>
        </p:blipFill>
        <p:spPr>
          <a:xfrm>
            <a:off x="4643280" y="1413000"/>
            <a:ext cx="3961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771640" y="404640"/>
            <a:ext cx="3456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Ёлочка в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2" descr="Untitled-Scanned-08.jpg"/>
          <p:cNvPicPr/>
          <p:nvPr/>
        </p:nvPicPr>
        <p:blipFill>
          <a:blip r:embed="rId1"/>
          <a:stretch/>
        </p:blipFill>
        <p:spPr>
          <a:xfrm>
            <a:off x="2050920" y="1125360"/>
            <a:ext cx="5186520" cy="52563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1116000" y="476280"/>
            <a:ext cx="712800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Нарядилась ёлочка к новому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826920" y="1916280"/>
            <a:ext cx="3168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2вари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Стоит ёлочка – зелё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иголочка. Ждёт, ког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её украсят разноцвет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шариками и фонариками к новогоднему празднику. Укрась ёлочку разноцве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бумажными шар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" descr="IMG_0206.JPG"/>
          <p:cNvPicPr/>
          <p:nvPr/>
        </p:nvPicPr>
        <p:blipFill>
          <a:blip r:embed="rId1"/>
          <a:stretch/>
        </p:blipFill>
        <p:spPr>
          <a:xfrm>
            <a:off x="4067280" y="119700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2" descr="bfoto_ru_2981.jpg"/>
          <p:cNvPicPr/>
          <p:nvPr/>
        </p:nvPicPr>
        <p:blipFill>
          <a:blip r:embed="rId1"/>
          <a:stretch/>
        </p:blipFill>
        <p:spPr>
          <a:xfrm>
            <a:off x="5435640" y="1341360"/>
            <a:ext cx="331308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64" name="TextBox 3"/>
          <p:cNvGrpSpPr/>
          <p:nvPr/>
        </p:nvGrpSpPr>
        <p:grpSpPr>
          <a:xfrm>
            <a:off x="1560600" y="5224320"/>
            <a:ext cx="2309760" cy="914400"/>
            <a:chOff x="1560600" y="5224320"/>
            <a:chExt cx="2309760" cy="914400"/>
          </a:xfrm>
        </p:grpSpPr>
        <p:pic>
          <p:nvPicPr>
            <p:cNvPr id="165" name="TextBox 3" descr=""/>
            <p:cNvPicPr/>
            <p:nvPr/>
          </p:nvPicPr>
          <p:blipFill>
            <a:blip r:embed="rId2"/>
            <a:stretch/>
          </p:blipFill>
          <p:spPr>
            <a:xfrm>
              <a:off x="1560600" y="5224320"/>
              <a:ext cx="2309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763640" y="537372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4f6228"/>
                  </a:solidFill>
                  <a:latin typeface="Calibri"/>
                </a:rPr>
                <a:t>Петуш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TextBox 4"/>
          <p:cNvGrpSpPr/>
          <p:nvPr/>
        </p:nvGrpSpPr>
        <p:grpSpPr>
          <a:xfrm>
            <a:off x="841320" y="1335240"/>
            <a:ext cx="4614840" cy="3376440"/>
            <a:chOff x="841320" y="1335240"/>
            <a:chExt cx="4614840" cy="3376440"/>
          </a:xfrm>
        </p:grpSpPr>
        <p:pic>
          <p:nvPicPr>
            <p:cNvPr id="168" name="TextBox 4" descr=""/>
            <p:cNvPicPr/>
            <p:nvPr/>
          </p:nvPicPr>
          <p:blipFill>
            <a:blip r:embed="rId3"/>
            <a:stretch/>
          </p:blipFill>
          <p:spPr>
            <a:xfrm>
              <a:off x="841320" y="1335240"/>
              <a:ext cx="461484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062000" y="1484280"/>
              <a:ext cx="4210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Гребешок аленький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Кафтанчик рябенький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Двойная бород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Важная походк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Раньше всех встаёт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Голосисто поё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5"/>
          <p:cNvSpPr/>
          <p:nvPr/>
        </p:nvSpPr>
        <p:spPr>
          <a:xfrm>
            <a:off x="1403280" y="404640"/>
            <a:ext cx="684072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Какого цвета потребуются салфетки на изготовление пет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IMG_0236.JPG"/>
          <p:cNvPicPr/>
          <p:nvPr/>
        </p:nvPicPr>
        <p:blipFill>
          <a:blip r:embed="rId1"/>
          <a:stretch/>
        </p:blipFill>
        <p:spPr>
          <a:xfrm>
            <a:off x="1258920" y="1844640"/>
            <a:ext cx="70581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2268360" y="476280"/>
            <a:ext cx="4104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Делаем пет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" descr="Untitled-Scanned-03.jpg"/>
          <p:cNvPicPr/>
          <p:nvPr/>
        </p:nvPicPr>
        <p:blipFill>
          <a:blip r:embed="rId1"/>
          <a:stretch/>
        </p:blipFill>
        <p:spPr>
          <a:xfrm>
            <a:off x="3924360" y="1341360"/>
            <a:ext cx="4751280" cy="50403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74" name="TextBox 6"/>
          <p:cNvSpPr/>
          <p:nvPr/>
        </p:nvSpPr>
        <p:spPr>
          <a:xfrm>
            <a:off x="755640" y="1413000"/>
            <a:ext cx="385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Вышел Петя- пету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погулять: на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посмотреть и себя показать. Хвост свой расправил – 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все видят, какой он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него красивый. Только никто на Петю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смотрит. Хв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у петушка прос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не цветной. Пом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Пете-петушку, выл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его хвост разноцвет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бумажными шар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Пусть все полюб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и тебя похваля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1187280" y="476280"/>
            <a:ext cx="72010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Получился красивый пету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3" descr="Untitled-Scanned-01.jpg"/>
          <p:cNvPicPr/>
          <p:nvPr/>
        </p:nvPicPr>
        <p:blipFill>
          <a:blip r:embed="rId1"/>
          <a:stretch/>
        </p:blipFill>
        <p:spPr>
          <a:xfrm>
            <a:off x="1332000" y="1268280"/>
            <a:ext cx="6858000" cy="5100840"/>
          </a:xfrm>
          <a:prstGeom prst="rect">
            <a:avLst/>
          </a:prstGeom>
          <a:ln w="9360">
            <a:solidFill>
              <a:srgbClr val="93cddd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763640" y="1125360"/>
            <a:ext cx="575172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           </a:t>
            </a: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 Black"/>
              </a:rPr>
              <a:t>Вы настоящие масте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619280" y="620640"/>
            <a:ext cx="648180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Информационные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1332000" y="1557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И.Гризик  «Ловкие пальчики»  Москва «Просвещение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5"/>
          <p:cNvSpPr/>
          <p:nvPr/>
        </p:nvSpPr>
        <p:spPr>
          <a:xfrm>
            <a:off x="826920" y="2781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Untitled-Scanned-07.jpg"/>
          <p:cNvPicPr/>
          <p:nvPr/>
        </p:nvPicPr>
        <p:blipFill>
          <a:blip r:embed="rId1"/>
          <a:stretch/>
        </p:blipFill>
        <p:spPr>
          <a:xfrm>
            <a:off x="1187280" y="1268280"/>
            <a:ext cx="7056720" cy="496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33200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 Black"/>
              </a:rPr>
              <a:t>Аппликации из скрученных бумажных салф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Untitled-Scanned-07.jpg"/>
          <p:cNvPicPr/>
          <p:nvPr/>
        </p:nvPicPr>
        <p:blipFill>
          <a:blip r:embed="rId2"/>
          <a:stretch/>
        </p:blipFill>
        <p:spPr>
          <a:xfrm>
            <a:off x="1187280" y="1268280"/>
            <a:ext cx="7056720" cy="49690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94" name="Рисунок 1" descr="Untitled-Scanned-07.jpg"/>
          <p:cNvPicPr/>
          <p:nvPr/>
        </p:nvPicPr>
        <p:blipFill>
          <a:blip r:embed="rId3"/>
          <a:stretch/>
        </p:blipFill>
        <p:spPr>
          <a:xfrm>
            <a:off x="1187280" y="1268280"/>
            <a:ext cx="7056720" cy="49690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95" name="Рисунок 1" descr="Untitled-Scanned-07.jpg"/>
          <p:cNvPicPr/>
          <p:nvPr/>
        </p:nvPicPr>
        <p:blipFill>
          <a:blip r:embed="rId4"/>
          <a:stretch/>
        </p:blipFill>
        <p:spPr>
          <a:xfrm>
            <a:off x="1116000" y="1268280"/>
            <a:ext cx="7056360" cy="49690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96" name="Рисунок 1" descr="Untitled-Scanned-07.jpg"/>
          <p:cNvPicPr/>
          <p:nvPr/>
        </p:nvPicPr>
        <p:blipFill>
          <a:blip r:embed="rId5"/>
          <a:stretch/>
        </p:blipFill>
        <p:spPr>
          <a:xfrm>
            <a:off x="1116000" y="1268280"/>
            <a:ext cx="7056360" cy="49690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95640" y="476280"/>
            <a:ext cx="4680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  <a:ea typeface="David"/>
              </a:rPr>
              <a:t>Готовим рабоче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Box 2"/>
          <p:cNvGrpSpPr/>
          <p:nvPr/>
        </p:nvGrpSpPr>
        <p:grpSpPr>
          <a:xfrm>
            <a:off x="927000" y="1152360"/>
            <a:ext cx="2968560" cy="878040"/>
            <a:chOff x="927000" y="1152360"/>
            <a:chExt cx="2968560" cy="878040"/>
          </a:xfrm>
        </p:grpSpPr>
        <p:pic>
          <p:nvPicPr>
            <p:cNvPr id="99" name="TextBox 2" descr=""/>
            <p:cNvPicPr/>
            <p:nvPr/>
          </p:nvPicPr>
          <p:blipFill>
            <a:blip r:embed="rId1"/>
            <a:stretch/>
          </p:blipFill>
          <p:spPr>
            <a:xfrm>
              <a:off x="927000" y="1152360"/>
              <a:ext cx="2968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042920" y="1268280"/>
              <a:ext cx="273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6228"/>
                  </a:solidFill>
                  <a:latin typeface="Arial"/>
                </a:rPr>
                <a:t>1.Салфетки, разных цветов и  оттен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xtBox 3"/>
          <p:cNvGrpSpPr/>
          <p:nvPr/>
        </p:nvGrpSpPr>
        <p:grpSpPr>
          <a:xfrm>
            <a:off x="927000" y="3816360"/>
            <a:ext cx="3254400" cy="878040"/>
            <a:chOff x="927000" y="3816360"/>
            <a:chExt cx="3254400" cy="878040"/>
          </a:xfrm>
        </p:grpSpPr>
        <p:pic>
          <p:nvPicPr>
            <p:cNvPr id="102" name="TextBox 3" descr=""/>
            <p:cNvPicPr/>
            <p:nvPr/>
          </p:nvPicPr>
          <p:blipFill>
            <a:blip r:embed="rId2"/>
            <a:stretch/>
          </p:blipFill>
          <p:spPr>
            <a:xfrm>
              <a:off x="927000" y="3816360"/>
              <a:ext cx="3254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2920" y="393372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6228"/>
                  </a:solidFill>
                  <a:latin typeface="Arial"/>
                </a:rPr>
                <a:t>2.Клей ПВА с кисточкой или  клеящий каранда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4"/>
          <p:cNvGrpSpPr/>
          <p:nvPr/>
        </p:nvGrpSpPr>
        <p:grpSpPr>
          <a:xfrm>
            <a:off x="5681520" y="1152360"/>
            <a:ext cx="2608560" cy="878040"/>
            <a:chOff x="5681520" y="1152360"/>
            <a:chExt cx="2608560" cy="878040"/>
          </a:xfrm>
        </p:grpSpPr>
        <p:pic>
          <p:nvPicPr>
            <p:cNvPr id="105" name="TextBox 4" descr=""/>
            <p:cNvPicPr/>
            <p:nvPr/>
          </p:nvPicPr>
          <p:blipFill>
            <a:blip r:embed="rId3"/>
            <a:stretch/>
          </p:blipFill>
          <p:spPr>
            <a:xfrm>
              <a:off x="5681520" y="1152360"/>
              <a:ext cx="2608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796000" y="126828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6228"/>
                  </a:solidFill>
                  <a:latin typeface="Arial"/>
                </a:rPr>
                <a:t>3.Тряпочка,что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6228"/>
                  </a:solidFill>
                  <a:latin typeface="Arial"/>
                </a:rPr>
                <a:t>вытирать ру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TextBox 6"/>
          <p:cNvGrpSpPr/>
          <p:nvPr/>
        </p:nvGrpSpPr>
        <p:grpSpPr>
          <a:xfrm>
            <a:off x="5535720" y="3816360"/>
            <a:ext cx="2895480" cy="878040"/>
            <a:chOff x="5535720" y="3816360"/>
            <a:chExt cx="2895480" cy="878040"/>
          </a:xfrm>
        </p:grpSpPr>
        <p:pic>
          <p:nvPicPr>
            <p:cNvPr id="108" name="TextBox 6" descr=""/>
            <p:cNvPicPr/>
            <p:nvPr/>
          </p:nvPicPr>
          <p:blipFill>
            <a:blip r:embed="rId4"/>
            <a:stretch/>
          </p:blipFill>
          <p:spPr>
            <a:xfrm>
              <a:off x="5535720" y="3816360"/>
              <a:ext cx="2895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651640" y="393372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6228"/>
                  </a:solidFill>
                  <a:latin typeface="Arial"/>
                </a:rPr>
                <a:t>4.Готовые шарики в коробочк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Рисунок 9" descr="IMG_1779.JPG"/>
          <p:cNvPicPr/>
          <p:nvPr/>
        </p:nvPicPr>
        <p:blipFill>
          <a:blip r:embed="rId5"/>
          <a:stretch/>
        </p:blipFill>
        <p:spPr>
          <a:xfrm>
            <a:off x="1042920" y="4581360"/>
            <a:ext cx="2898720" cy="1800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11" name="Рисунок 7" descr="IMG_1776.JPG"/>
          <p:cNvPicPr/>
          <p:nvPr/>
        </p:nvPicPr>
        <p:blipFill>
          <a:blip r:embed="rId6"/>
          <a:stretch/>
        </p:blipFill>
        <p:spPr>
          <a:xfrm>
            <a:off x="1042920" y="1916280"/>
            <a:ext cx="2881440" cy="1944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12" name="Рисунок 8" descr="IMG_1780.JPG"/>
          <p:cNvPicPr/>
          <p:nvPr/>
        </p:nvPicPr>
        <p:blipFill>
          <a:blip r:embed="rId7"/>
          <a:stretch/>
        </p:blipFill>
        <p:spPr>
          <a:xfrm>
            <a:off x="5292720" y="4581360"/>
            <a:ext cx="3240000" cy="1800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13" name="Рисунок 10" descr="IMG_1781.JPG"/>
          <p:cNvPicPr/>
          <p:nvPr/>
        </p:nvPicPr>
        <p:blipFill>
          <a:blip r:embed="rId8"/>
          <a:stretch/>
        </p:blipFill>
        <p:spPr>
          <a:xfrm>
            <a:off x="5364000" y="1916280"/>
            <a:ext cx="3168720" cy="1944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TextBox 1"/>
          <p:cNvGrpSpPr/>
          <p:nvPr/>
        </p:nvGrpSpPr>
        <p:grpSpPr>
          <a:xfrm>
            <a:off x="1420920" y="328680"/>
            <a:ext cx="6918120" cy="1407960"/>
            <a:chOff x="1420920" y="328680"/>
            <a:chExt cx="6918120" cy="1407960"/>
          </a:xfrm>
        </p:grpSpPr>
        <p:pic>
          <p:nvPicPr>
            <p:cNvPr id="115" name="TextBox 1" descr=""/>
            <p:cNvPicPr/>
            <p:nvPr/>
          </p:nvPicPr>
          <p:blipFill>
            <a:blip r:embed="rId1"/>
            <a:stretch/>
          </p:blipFill>
          <p:spPr>
            <a:xfrm>
              <a:off x="1420920" y="328680"/>
              <a:ext cx="69181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619280" y="476280"/>
              <a:ext cx="65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    </a:t>
              </a: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Работа с салфетками проходи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в следующей последовательнос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"/>
          <p:cNvSpPr/>
          <p:nvPr/>
        </p:nvSpPr>
        <p:spPr>
          <a:xfrm>
            <a:off x="4716360" y="2276640"/>
            <a:ext cx="38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6228"/>
                </a:solidFill>
                <a:latin typeface="Arial Black"/>
              </a:rPr>
              <a:t>ОТРЫВАТЬ </a:t>
            </a:r>
            <a:r>
              <a:rPr b="0" i="1" lang="ru-RU" sz="2400" spc="-1" strike="noStrike">
                <a:solidFill>
                  <a:srgbClr val="4f6228"/>
                </a:solidFill>
                <a:latin typeface="Arial Black"/>
              </a:rPr>
              <a:t>полоски от </a:t>
            </a:r>
            <a:r>
              <a:rPr b="0" i="1" lang="ru-RU" sz="1800" spc="-1" strike="noStrike">
                <a:solidFill>
                  <a:srgbClr val="4f6228"/>
                </a:solidFill>
                <a:latin typeface="Arial Black"/>
              </a:rPr>
              <a:t>САЛФ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88000" y="3429000"/>
            <a:ext cx="38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ГОТОВЫЕ ПОЛ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СКАТЫВАТЬ В ША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4788000" y="472428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6228"/>
                </a:solidFill>
                <a:latin typeface="Arial Black"/>
              </a:rPr>
              <a:t>УЧИТЬ СКАТЫВАТЬ ШАРИК  ТРЕМЯ ПАЛЬ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IMG_1786.JPG"/>
          <p:cNvPicPr/>
          <p:nvPr/>
        </p:nvPicPr>
        <p:blipFill>
          <a:blip r:embed="rId2"/>
          <a:stretch/>
        </p:blipFill>
        <p:spPr>
          <a:xfrm>
            <a:off x="1403280" y="1844640"/>
            <a:ext cx="2865600" cy="2205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21" name="Рисунок 6" descr="IMG_1785.JPG"/>
          <p:cNvPicPr/>
          <p:nvPr/>
        </p:nvPicPr>
        <p:blipFill>
          <a:blip r:embed="rId3"/>
          <a:stretch/>
        </p:blipFill>
        <p:spPr>
          <a:xfrm>
            <a:off x="1460520" y="4292640"/>
            <a:ext cx="2800440" cy="201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2484360" y="2349360"/>
            <a:ext cx="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8028000" y="14842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IMG_1785.JPG"/>
          <p:cNvPicPr/>
          <p:nvPr/>
        </p:nvPicPr>
        <p:blipFill>
          <a:blip r:embed="rId4"/>
          <a:stretch/>
        </p:blipFill>
        <p:spPr>
          <a:xfrm>
            <a:off x="1476360" y="4292640"/>
            <a:ext cx="280044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IMG_1785.JPG"/>
          <p:cNvPicPr/>
          <p:nvPr/>
        </p:nvPicPr>
        <p:blipFill>
          <a:blip r:embed="rId5"/>
          <a:stretch/>
        </p:blipFill>
        <p:spPr>
          <a:xfrm>
            <a:off x="1476360" y="4292640"/>
            <a:ext cx="2800440" cy="2016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1267519056_zag-ovca.jpg"/>
          <p:cNvPicPr/>
          <p:nvPr/>
        </p:nvPicPr>
        <p:blipFill>
          <a:blip r:embed="rId1"/>
          <a:stretch/>
        </p:blipFill>
        <p:spPr>
          <a:xfrm>
            <a:off x="4500720" y="2421000"/>
            <a:ext cx="4182840" cy="3848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1116000" y="1197000"/>
            <a:ext cx="3816360" cy="137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По горам, по д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Ходит шуба, да кафтан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TextBox 3"/>
          <p:cNvGrpSpPr/>
          <p:nvPr/>
        </p:nvGrpSpPr>
        <p:grpSpPr>
          <a:xfrm>
            <a:off x="1809720" y="5370480"/>
            <a:ext cx="1317600" cy="854280"/>
            <a:chOff x="1809720" y="5370480"/>
            <a:chExt cx="1317600" cy="854280"/>
          </a:xfrm>
        </p:grpSpPr>
        <p:pic>
          <p:nvPicPr>
            <p:cNvPr id="129" name="TextBox 3" descr=""/>
            <p:cNvPicPr/>
            <p:nvPr/>
          </p:nvPicPr>
          <p:blipFill>
            <a:blip r:embed="rId2"/>
            <a:stretch/>
          </p:blipFill>
          <p:spPr>
            <a:xfrm>
              <a:off x="1809720" y="5370480"/>
              <a:ext cx="13176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979640" y="5516640"/>
              <a:ext cx="98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f6228"/>
                  </a:solidFill>
                  <a:latin typeface="Calibri"/>
                </a:rPr>
                <a:t>Ов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47640" y="476280"/>
            <a:ext cx="648036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Какого цвета потребу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салфетки на изготовление овечки</a:t>
            </a:r>
            <a:r>
              <a:rPr b="1" lang="ru-RU" sz="2800" spc="-1" strike="noStrike">
                <a:solidFill>
                  <a:srgbClr val="4f6228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IMG_0178.JPG"/>
          <p:cNvPicPr/>
          <p:nvPr/>
        </p:nvPicPr>
        <p:blipFill>
          <a:blip r:embed="rId1"/>
          <a:stretch/>
        </p:blipFill>
        <p:spPr>
          <a:xfrm>
            <a:off x="1908000" y="1989000"/>
            <a:ext cx="561672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TextBox 1"/>
          <p:cNvGrpSpPr/>
          <p:nvPr/>
        </p:nvGrpSpPr>
        <p:grpSpPr>
          <a:xfrm>
            <a:off x="2682720" y="328680"/>
            <a:ext cx="4284720" cy="976320"/>
            <a:chOff x="2682720" y="328680"/>
            <a:chExt cx="4284720" cy="976320"/>
          </a:xfrm>
        </p:grpSpPr>
        <p:pic>
          <p:nvPicPr>
            <p:cNvPr id="134" name="TextBox 1" descr=""/>
            <p:cNvPicPr/>
            <p:nvPr/>
          </p:nvPicPr>
          <p:blipFill>
            <a:blip r:embed="rId1"/>
            <a:stretch/>
          </p:blipFill>
          <p:spPr>
            <a:xfrm>
              <a:off x="2682720" y="328680"/>
              <a:ext cx="42847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843280" y="47628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f6228"/>
                  </a:solidFill>
                  <a:latin typeface="Arial Black"/>
                </a:rPr>
                <a:t> </a:t>
              </a:r>
              <a:r>
                <a:rPr b="1" lang="ru-RU" sz="3200" spc="-1" strike="noStrike">
                  <a:solidFill>
                    <a:srgbClr val="4f6228"/>
                  </a:solidFill>
                  <a:latin typeface="Arial Black"/>
                </a:rPr>
                <a:t>Делаем овечк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900000" y="11970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Шерсть у овечки мягка – мягкая. Потрогай эту овечку. Она мягкая?  Нет. Помоги овечке. Выложи её белыми    бумажными шар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чание. </a:t>
            </a: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При выполнении данной работы можно использовать в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86728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Untitled-Scanned-11.jpg"/>
          <p:cNvPicPr/>
          <p:nvPr/>
        </p:nvPicPr>
        <p:blipFill>
          <a:blip r:embed="rId2"/>
          <a:stretch/>
        </p:blipFill>
        <p:spPr>
          <a:xfrm>
            <a:off x="2843280" y="2852640"/>
            <a:ext cx="5761080" cy="3529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Untitled-Scanned-11.jpg"/>
          <p:cNvPicPr/>
          <p:nvPr/>
        </p:nvPicPr>
        <p:blipFill>
          <a:blip r:embed="rId3"/>
          <a:stretch/>
        </p:blipFill>
        <p:spPr>
          <a:xfrm>
            <a:off x="2843280" y="2852640"/>
            <a:ext cx="5761080" cy="352908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TextBox 1"/>
          <p:cNvGrpSpPr/>
          <p:nvPr/>
        </p:nvGrpSpPr>
        <p:grpSpPr>
          <a:xfrm>
            <a:off x="1420920" y="328680"/>
            <a:ext cx="6626160" cy="914400"/>
            <a:chOff x="1420920" y="328680"/>
            <a:chExt cx="6626160" cy="914400"/>
          </a:xfrm>
        </p:grpSpPr>
        <p:pic>
          <p:nvPicPr>
            <p:cNvPr id="141" name="TextBox 1" descr=""/>
            <p:cNvPicPr/>
            <p:nvPr/>
          </p:nvPicPr>
          <p:blipFill>
            <a:blip r:embed="rId1"/>
            <a:stretch/>
          </p:blipFill>
          <p:spPr>
            <a:xfrm>
              <a:off x="1420920" y="328680"/>
              <a:ext cx="66261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619280" y="476280"/>
              <a:ext cx="62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Arial Black"/>
                </a:rPr>
                <a:t>Получилась такая ове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2" descr="Untitled-Scanned-09.jpg"/>
          <p:cNvPicPr/>
          <p:nvPr/>
        </p:nvPicPr>
        <p:blipFill>
          <a:blip r:embed="rId2"/>
          <a:stretch/>
        </p:blipFill>
        <p:spPr>
          <a:xfrm>
            <a:off x="1332000" y="1341360"/>
            <a:ext cx="6669000" cy="4896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extBox 1"/>
          <p:cNvGrpSpPr/>
          <p:nvPr/>
        </p:nvGrpSpPr>
        <p:grpSpPr>
          <a:xfrm>
            <a:off x="1060560" y="549360"/>
            <a:ext cx="4975200" cy="2388960"/>
            <a:chOff x="1060560" y="549360"/>
            <a:chExt cx="4975200" cy="2388960"/>
          </a:xfrm>
        </p:grpSpPr>
        <p:pic>
          <p:nvPicPr>
            <p:cNvPr id="145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549360"/>
              <a:ext cx="49752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258920" y="692280"/>
              <a:ext cx="4608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Я прихожу с подарками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Блещу огнями яркими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Нарядная, забавная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f6228"/>
                  </a:solidFill>
                  <a:latin typeface="Calibri"/>
                </a:rPr>
                <a:t>На новый год я глав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TextBox 2"/>
          <p:cNvGrpSpPr/>
          <p:nvPr/>
        </p:nvGrpSpPr>
        <p:grpSpPr>
          <a:xfrm>
            <a:off x="2712960" y="5297400"/>
            <a:ext cx="1451160" cy="914400"/>
            <a:chOff x="2712960" y="5297400"/>
            <a:chExt cx="1451160" cy="914400"/>
          </a:xfrm>
        </p:grpSpPr>
        <p:pic>
          <p:nvPicPr>
            <p:cNvPr id="148" name="TextBox 2" descr=""/>
            <p:cNvPicPr/>
            <p:nvPr/>
          </p:nvPicPr>
          <p:blipFill>
            <a:blip r:embed="rId2"/>
            <a:stretch/>
          </p:blipFill>
          <p:spPr>
            <a:xfrm>
              <a:off x="2712960" y="5297400"/>
              <a:ext cx="14511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16360" y="544500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4f6228"/>
                  </a:solidFill>
                  <a:latin typeface="Calibri"/>
                </a:rPr>
                <a:t>Ё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Рисунок 4" descr="m-00009109-a-00001802.jpg"/>
          <p:cNvPicPr/>
          <p:nvPr/>
        </p:nvPicPr>
        <p:blipFill>
          <a:blip r:embed="rId3"/>
          <a:stretch/>
        </p:blipFill>
        <p:spPr>
          <a:xfrm>
            <a:off x="4932360" y="1413000"/>
            <a:ext cx="3960720" cy="505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user</cp:lastModifiedBy>
  <dcterms:modified xsi:type="dcterms:W3CDTF">2017-12-31T10:26:33Z</dcterms:modified>
  <cp:revision>359</cp:revision>
  <dc:subject/>
  <dc:title>Слайд 1</dc:title>
</cp:coreProperties>
</file>