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B704-E562-4A7D-B20A-5EACBFE0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ED64-31C2-49A9-907F-FDFB2BBC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CFDD-DF56-45FC-BC6D-3C8BC780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8247-4A08-412E-B00A-F657696A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5922-174B-4762-9FFD-E88905FC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7F16-BA4E-4FBB-B6D5-276CD1A2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9284-C89D-4AB3-BDC9-B27844D1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423-079D-4912-AED3-459526C0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A0DF-0BC0-4B6C-993C-A23D57A1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4E8D-9FF3-44B0-A245-B9E42A20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8445-ABA6-4849-8289-EFA68FE2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6DCD-2E64-4B23-BBBB-6C8C546F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BD1F-590F-4943-8FAA-20827C5AF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Энциклопедия русской жизни».   В.Белинский  и Д.Писарев о романе»Евгений Онегин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97360"/>
            <a:ext cx="64008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ели: Раскрыть пушкинскую эпоху в  романе, закрепить знания о реализме, познакомить с критическими отзывами о романе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шибка Писар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шибка Писарева, как и других разбушевавшихся нигилистов, заключалась в том, что он вместо борьбы за Пушкина, за гениального народного писателя выступил против него, пародировал героев романа «Евгений Онегин»,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отрицал его художественные достоинства, игнорировал его роль в развитии общественного сознания Росси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и доказывал, что чтение подобных произведений — это пустая трата времени и что читателю полезнее обратиться к естественнонаучным сочин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ы сочи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.Почему не находит счастья Онег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Чем роман интересен современному читате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3.Как в образе автора отразилась личность Пушк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4.Какую роль играюткартины природы в композиции ром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Татяна- «милый идеал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вое время роман “Евгений Онегин” вызвал многочисленные отклики современников. Все эти отклики, в высшей степени противоречивые, отражали неустойчивость эстетического сознания эпохи.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Однако при всех разногласиях их объединяло одно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непонимание гениального новаторства, оригинальности и подлинного смысла пушкинского произведения.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итические статьи (8-я и 9-я) В. Г. Белинского, посвященные роману А. С. Пушкина “Евгений Онегин”, были последовательн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убликованы в 1844—1845 годах в журнале “Отечественные записки”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линский поставил себе цель: “Раскрыть по возможности отношение поэмы к обществу, которое она изображает”,— и весьма преуспел в э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итические статьи (8-я и 9-я) В. Г. Белинского, посвященные роману А. С. Пушкина “Евгений Онегин”, были последовательн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убликованы в 1844—1845 годах в журнале “Отечественные записки”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линский поставил себе цель: “Раскрыть по возможности отношение поэмы к обществу, которое она изобража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Двадцать лет спустя (1865год) в статье «Евгений Онегин» Д. И. Писарев вступил в спор с Белинским и отчасти с Чернышевским и Добролюбо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тать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«Прогулка по садам российской словесности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исарев дошел до крайности в полемике с журналистами, отрицавшими необходимость сиюминутной пользы от литерат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тивоположность взгля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елинский учел и вместе с тем решительно отверг все те мелкие и плоские толкования пушкинского романа, которыми грешила критика с момента появления его первой главы и вплоть до публикаций статей Белинск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нализ этих статей позволяет понять подлинный смысл и цену бессмертного, “истинно национального” произ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27640" y="1268280"/>
            <a:ext cx="446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задал, как ему казалось, неотразимый вопрос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«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Позволительно ли сокрушаться над любовными неудачами и над изменами в таких обществах, где сплошь и рядом свирепствуют над живыми людьми голод, холод, суеверие, невежество, самодурство и разные другие столь же ощутительные неудобства?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Какая-нибудь несчастная любовь кажется горем только тогда, когда вы изолируете ее от остального мира, когда вы вносите ее в оранжерею и ставите ее под стеклянный колпак. А попробуйте вынести ее из теплицы на открытый воздух, в суровую атмосферу действительности, трудовой жизни, где «стон раздается над великой русской рекой»,— ничего от нее и не останется. Плюнуть не на что будет, не только что сокрушаться и сочувствова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40384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Бел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шкин взял эту жизнь, как она есть, не отвлекая от нее только одних поэтических ее мгновений; взял ее со всем холодом, со всею ее прозою и пошлостию…“Онегин” есть поэтически верная действительности картина русского общества в известную эпоху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Онегина" можно назвать энциклопедией русской жизни и в высшей степени народным произведением. Тайна национальности каждого народа заключается не в его одежде и кухне, а в его, так сказать, манере понимать вещи”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исар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в роман, Пушкин ошибся, утверждал критик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романом, быть может, Писарев кое-как примирился бы, но не с героями. Пушкин будто бы не того героя поставил в центре действия. Онегин не имеет права считаться героем эпох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Исторической картины вы не увидите; вы увидите только коллекцию старинных костюмов и причесок, старинных прейскурантов и афиш, старинной мебели и старинных ужимок… но ведь этого мало; чтобы нарисовать историческую картину, надо быть не только внимательным наблюдателем, но еще, кроме того, замечательным мыслителе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ег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42447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Большая часть публики совершенно отрицала в Онегине душу и сердце, видела в нем человека холодного, сухого и эгоиста по натуре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ельзя ошибочнее и кривее понять человека!.. Светская жизнь не убила в Онегине чувства, а только охолодила к бесплодным страстям и мелочным развлечениям..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негин не любил расплываться в мечтах, больше чувствовал, нежели говорил, и не всякому открывался. Озлобленный ум есть тоже признак высшей натуры...”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егин — страдающий эгоист... Его можно назвать эгоистом поневоле,  в его эгоизме должно видеть то, что древние называли „fatum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негин— не что иное, как Митрофанушка Простаков, одетый и причесанный по столичной моде. С онегинским типом мы не связаны решительно ничем; мы ничем ему не обязаны; это тип бесплодный, не способный ни к развитию, ни к перерождению…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линский о Ленском и Ольг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ительность на него не имела влияния: его печали были созданием его фантазии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льга была очаровательна, как все "барышни", пока они еще не сделались "барынями"; а Ленский видел в ней фею, сельфиду, романтическую мечту, нимало не подозревая будущей барыни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48243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Белин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Татьяна -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ущество исключительное, натура глубокая, любящая, страстная. Любовь для нее могла быть или величайшим блаженством, или величайшим бедствием жизни, без всякой примирительной середины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и счастии взаимности любовь такой женщины — ровное, светлое пламя; в противном случае — упорное пламя, которому сила воли, может быть, не позволит прорваться наружу, но которое тем разрушительнее и жгучее, чем больше оно сдавлено внутри. Счастливая жена, Татьяна спокойно, но тем не менее страстно и глубоко любила бы своего мужа, вполне пожертвовала бы собою детям, но не по рассудку, а опять по страсти, и в этой жертве, в строгом выполнении своих обязанностей нашла бы свое величайшее наслаждение, свое верховное блаженство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«Весь внутренний мир Татьяны заключался в жажде любви, ничто другое не говорило ее душе, ум ее спал...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ть существа, у которых фантазия имеет гораздо более влияния на сердце... Татьяна была из таких существ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19280" y="404280"/>
            <a:ext cx="3467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Писар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Белинский совершенно забывает справиться о том, имелось ли в ее красивой голове достаточное количество мЬзга, и если имелось, то в каком положении находился этот мозг. Если бы Белинский задал себе эти вопросы, то он немедленно сообразил бы, что количество мозга было весьма незначительно, что это малое количество находилось в самом плачевном состоянии и что только это плачевное состояние мозга, а никак не присутствие сердца объясняет собой внезапный взрыв нежности, проявившейся в сочинении сумасбродного письм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4:24:09Z</dcterms:created>
  <dc:creator>I`m</dc:creator>
  <dc:description/>
  <dc:language>en-US</dc:language>
  <cp:lastModifiedBy>I`m</cp:lastModifiedBy>
  <dcterms:modified xsi:type="dcterms:W3CDTF">2014-01-23T14:37:33Z</dcterms:modified>
  <cp:revision>2</cp:revision>
  <dc:subject/>
  <dc:title>  «Энциклопедия русской жизни».   В.Белинский  и Д.Писарев о романе»Евгений Онегин» </dc:title>
</cp:coreProperties>
</file>