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1.png" ContentType="image/png"/>
  <Override PartName="/ppt/media/image12.jpeg" ContentType="image/jpeg"/>
  <Override PartName="/ppt/media/image5.wmf" ContentType="image/x-wmf"/>
  <Override PartName="/ppt/media/image6.jpeg" ContentType="image/jpeg"/>
  <Override PartName="/ppt/media/image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F6F-950C-44FF-B0AF-C6603BA2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BB1-9C8E-4221-9A50-E1E931D6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DD6-92D1-479E-BDBD-2F7B00AE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46E-96F3-4ED1-A5C8-3CD50E21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7270-DC1D-4E30-99E2-7D4EA09B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063E-C857-419D-B1A0-DBF052F7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370C-BB91-4594-92AC-190B18D3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340D-870E-48D7-8EF9-F79EC7B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7E54-5417-4DEF-A93D-1FE15C3D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8B7D-2C64-4418-B0A4-5BA42DE3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E850-1C94-4CAD-90ED-6D0E856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801-EBA2-4006-8ABA-11A0DF29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7765-56A1-44B8-96CB-97244E0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A85D-BDCE-445B-B57B-95316A5C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441E-70A2-490A-A506-3522D3BF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AC96-1DC8-4182-A3DA-B03628F0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D4EC-A81A-4258-BE54-16F319BE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3FA-EAE3-47A5-AC46-A12D62D1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440-2E2A-4BF1-939C-F2874BD3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697-4AA3-4569-BF2F-B0E985B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BCE-39F8-4FCB-8CC7-19DF0D0E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9CB-E30F-42A4-9650-D396E3C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7E4-7AAA-49D3-98EE-B7E7CBE7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D76-A5A0-472A-9353-73BCF88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3F3C-DF62-4CCE-86F8-42FB01280C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86B-E112-45F2-8BF5-C967499F079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345440" cy="74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9999"/>
                </a:solidFill>
                <a:latin typeface="Monotype Corsiva"/>
              </a:rPr>
              <a:t>Неразгаданный Печорин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4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4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4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4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«Читая в душе друг друга…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ечори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Деятелен, и только в деятельности ищет истину. Естественное нравственное чувство в нём не исчезл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Имеет большие интеллектуальные запросы, пытается проникнуть в тайны человеческого сердц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3280" y="2997000"/>
            <a:ext cx="4176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ерне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Эгоист принципиальный, сознательный. Ему уже не преодолеть выработанной позиции. Он не стремится к более высокой нравственности, т.к. не видит возможности для её осуществления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асто беседует с Печориным «об отвлечённых предметах», желает изучить механизм «всех живых струн» человеческого сердц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2" descr="016g"/>
          <p:cNvPicPr/>
          <p:nvPr/>
        </p:nvPicPr>
        <p:blipFill>
          <a:blip r:embed="rId1"/>
          <a:srcRect l="0" t="0" r="1945" b="0"/>
          <a:stretch/>
        </p:blipFill>
        <p:spPr>
          <a:xfrm>
            <a:off x="684360" y="3998880"/>
            <a:ext cx="3600360" cy="2335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011g"/>
          <p:cNvPicPr/>
          <p:nvPr/>
        </p:nvPicPr>
        <p:blipFill>
          <a:blip r:embed="rId2"/>
          <a:stretch/>
        </p:blipFill>
        <p:spPr>
          <a:xfrm>
            <a:off x="6227640" y="1197000"/>
            <a:ext cx="1384560" cy="18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юбовь или игр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4720" y="1773360"/>
            <a:ext cx="4402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азмышляя о своих отношениях с Мэри, Печорин спрашивает сам себя: «Из чего я хлопочу? … это не та беспокойная потребность любви, которая нас мучит в первые годы молодости», не «следствие того… чувства, которое заставляет нас уничтожать сладкие заблуждения ближнего» и не зависть к Грушницкому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астоящая причина в том, что «…есть необъяснимое наслаждение в обладании молодой, едва распустившейся души!»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1" descr="008g"/>
          <p:cNvPicPr/>
          <p:nvPr/>
        </p:nvPicPr>
        <p:blipFill>
          <a:blip r:embed="rId1"/>
          <a:stretch/>
        </p:blipFill>
        <p:spPr>
          <a:xfrm>
            <a:off x="669960" y="1700280"/>
            <a:ext cx="330192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юбовь и жертвен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любви Веры к Печорину есть та жертвенность, которой нет у княжны Мэр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ежность Веры не зависит от каких бы то ни было услови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уткость сердца позволила Вере понять до конца Печорина с его пороками и страстям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увство Печорина к Вере искренно, сильно. Это настоящая любовь в его жизн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Ужасная грусть», «давно забытый трепет» свидетельствуют об истинности чувства, а не об игре в любовь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И всё же Печорин ничем не жертвует для Веры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0" descr="4"/>
          <p:cNvPicPr/>
          <p:nvPr/>
        </p:nvPicPr>
        <p:blipFill>
          <a:blip r:embed="rId1"/>
          <a:stretch/>
        </p:blipFill>
        <p:spPr>
          <a:xfrm>
            <a:off x="5508720" y="1413000"/>
            <a:ext cx="29462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то читает Печорин перед дуэлью с Грушницким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68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чорин перед дуэлью с Грушницким с увлечением читает «Шотландских пуритан» В. Скотта, роман политический, повествующий об ожесточенной борьбе пуритан-вигов против короля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начала  Лермонтов хотел положить на стол Печорина другую книгу – «Приключения Нигеля», чисто авантюрный роман, но выбор остался за «Пуританами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чорин воображает себя главным героем произведения, который высказывает мысль о сопротивлении любой власти на свете, попирающей права свободного челове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ман увлекает Печорина и заставляет его забыть о дуэли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им образом, Лермонтов показал, что у его героя было действительно «высокое назначение»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то такое судьб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6048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тализм – это вера в предопределённую, неотвратимую судьбу. Фатализм отвергает личную волю, человеческие чувства и разу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182520" indent="-18252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облема судьбы, предопределения всегда волновала людей всех поколени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182520" indent="-18252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б этом упоминается в «Евгении Онегине»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182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И предрассудки вековые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182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И гроба тайны роковые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182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удьба и жизнь в свою чреду –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182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сё подвергалось их суду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182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облема судьбы поднимается в «Герое нашего времени» постоянно. Повесть «Фаталист», по мнению И.Виноградова, «своего рода «замковый камень», который держит весь свод и придаёт единство и полноту целому…»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182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лово «судьба» упоминается в романе до «Фаталиста» 10 раз, 9 раз – в «Журнале» Печорин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182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нимание Печорина к этой проблеме не случайно. Оно демонстрирует переход героя к философскому обобщению важнейших проблем бытия в их психологическом разрезе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0" descr="012g"/>
          <p:cNvPicPr/>
          <p:nvPr/>
        </p:nvPicPr>
        <p:blipFill>
          <a:blip r:embed="rId1"/>
          <a:stretch/>
        </p:blipFill>
        <p:spPr>
          <a:xfrm>
            <a:off x="5940360" y="1484280"/>
            <a:ext cx="2927520" cy="370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бязательные качества фаталис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рицание собственной вин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знание собственного безвол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ездейств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щущение безысходнос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Обессмысливание» борьбы в жиз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2530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к можно понять человек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тобы понять человека, необходимо чутко и внимательно исследовать каждое движение его души на протяжении длительного времен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.Ю. Лермонтов, как великий художник, использовал для раскрытия характера Печорина разнообразные художественные средств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амое главное из них – это композиция. Автор не случайно расположил повести романа не в хронологическом порядке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Логика повествования и расположения его частей – в детальном отображении психологии героя, являющегося не только одним из представителей своего времени, но и представителем человечества вообще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Именно поэтому понять Печорина, разгадать его характер очень сложно, ведь он впитал в себя многие качества незаурядной индивидуальност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днако разгадывание личности такого героя – занятие самое увлекательное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8"/>
          <p:cNvSpPr txBox="1"/>
          <p:nvPr/>
        </p:nvSpPr>
        <p:spPr>
          <a:xfrm>
            <a:off x="2556000" y="1628640"/>
            <a:ext cx="374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ксим Максимыч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79640" y="1483920"/>
            <a:ext cx="511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ксим Максимыч  - это человеческий тип, очень характерный для России второй половины прошлого века. Это особый тип «русского кавказца», сформировавшийся в условиях кавказской войны. Это были люди, ставящие превыше всего закон силы и власти, подобные Ермолову, и их подчинённые – зачастую законопослушные воины, добрые, искренние люди. Их воплощением и стал Максим Максимыч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рассказе Максима Максимыча Печорин предстаёт романтическим героем, встреча с которым явилась одним из ярчайших событий в его жизн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2" descr="1"/>
          <p:cNvPicPr/>
          <p:nvPr/>
        </p:nvPicPr>
        <p:blipFill>
          <a:blip r:embed="rId1"/>
          <a:stretch/>
        </p:blipFill>
        <p:spPr>
          <a:xfrm>
            <a:off x="395280" y="1773360"/>
            <a:ext cx="333360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«Мы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ff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8456"/>
                </a:solidFill>
                <a:latin typeface="Verdana"/>
              </a:rPr>
              <a:t>Максим Максимы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истории с Бэлой не понимает внутреннего состояния Печорина. У него нет точек соприкосновения с Печориным в этой истори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мотря на это, в момент спасения Бэлы они объединены общим делом, одинаково переживаю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ому Максим Максимыч впервые начинает употреблять местоимение «мы» по отношению к себе и Печорин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9440" y="1599840"/>
            <a:ext cx="3537000" cy="45306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Печорин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им образом, предстаёт перед читателем человеком, способным на самоотверженные поступки, способным испытывать чувства, свойственные Максиму Максимычу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амохарактеристика Печорин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2" name="Diagram 48"/>
          <p:cNvGrpSpPr/>
          <p:nvPr/>
        </p:nvGrpSpPr>
        <p:grpSpPr>
          <a:xfrm>
            <a:off x="1468440" y="1040760"/>
            <a:ext cx="6062760" cy="5250240"/>
            <a:chOff x="1468440" y="1040760"/>
            <a:chExt cx="6062760" cy="5250240"/>
          </a:xfrm>
        </p:grpSpPr>
        <p:sp>
          <p:nvSpPr>
            <p:cNvPr id="123" name="_s1028"/>
            <p:cNvSpPr/>
            <p:nvPr/>
          </p:nvSpPr>
          <p:spPr>
            <a:xfrm flipV="1">
              <a:off x="4162320" y="1040400"/>
              <a:ext cx="674640" cy="582840"/>
            </a:xfrm>
            <a:custGeom>
              <a:avLst/>
              <a:gdLst>
                <a:gd name="textAreaLeft" fmla="*/ 241920 w 674640"/>
                <a:gd name="textAreaRight" fmla="*/ 432720 w 674640"/>
                <a:gd name="textAreaTop" fmla="*/ 209160 h 582840"/>
                <a:gd name="textAreaBottom" fmla="*/ 373680 h 5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скука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_s1029"/>
            <p:cNvSpPr/>
            <p:nvPr/>
          </p:nvSpPr>
          <p:spPr>
            <a:xfrm flipV="1">
              <a:off x="3825720" y="1623240"/>
              <a:ext cx="1347840" cy="584280"/>
            </a:xfrm>
            <a:custGeom>
              <a:avLst/>
              <a:gdLst>
                <a:gd name="textAreaLeft" fmla="*/ 296280 w 1347840"/>
                <a:gd name="textAreaRight" fmla="*/ 1051560 w 1347840"/>
                <a:gd name="textAreaTop" fmla="*/ 128520 h 584280"/>
                <a:gd name="textAreaBottom" fmla="*/ 45576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a8456">
                <a:alpha val="50000"/>
              </a:srgbClr>
            </a:solidFill>
            <a:ln w="5724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самолюбие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_s1030"/>
            <p:cNvSpPr/>
            <p:nvPr/>
          </p:nvSpPr>
          <p:spPr>
            <a:xfrm flipV="1">
              <a:off x="3489120" y="2208240"/>
              <a:ext cx="2021040" cy="582480"/>
            </a:xfrm>
            <a:custGeom>
              <a:avLst/>
              <a:gdLst>
                <a:gd name="textAreaLeft" fmla="*/ 350640 w 2021040"/>
                <a:gd name="textAreaRight" fmla="*/ 1670400 w 2021040"/>
                <a:gd name="textAreaTop" fmla="*/ 101160 h 582480"/>
                <a:gd name="textAreaBottom" fmla="*/ 48132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ec85e">
                <a:alpha val="50000"/>
              </a:srgbClr>
            </a:solidFill>
            <a:ln w="5724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Потеря надежды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_s1031"/>
            <p:cNvSpPr/>
            <p:nvPr/>
          </p:nvSpPr>
          <p:spPr>
            <a:xfrm flipV="1">
              <a:off x="3152520" y="2789640"/>
              <a:ext cx="2694240" cy="584280"/>
            </a:xfrm>
            <a:custGeom>
              <a:avLst/>
              <a:gdLst>
                <a:gd name="textAreaLeft" fmla="*/ 405360 w 2694240"/>
                <a:gd name="textAreaRight" fmla="*/ 2288880 w 2694240"/>
                <a:gd name="textAreaTop" fmla="*/ 87840 h 584280"/>
                <a:gd name="textAreaBottom" fmla="*/ 49644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Несчастный характер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 flipV="1">
              <a:off x="2816280" y="3375000"/>
              <a:ext cx="3367080" cy="582480"/>
            </a:xfrm>
            <a:custGeom>
              <a:avLst/>
              <a:gdLst>
                <a:gd name="textAreaLeft" fmla="*/ 459720 w 3367080"/>
                <a:gd name="textAreaRight" fmla="*/ 2907360 w 3367080"/>
                <a:gd name="textAreaTop" fmla="*/ 79560 h 582480"/>
                <a:gd name="textAreaBottom" fmla="*/ 50292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5e855b">
                <a:alpha val="50000"/>
              </a:srgbClr>
            </a:solidFill>
            <a:ln w="57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«душа испорчена светом»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_s1033"/>
            <p:cNvSpPr/>
            <p:nvPr/>
          </p:nvSpPr>
          <p:spPr>
            <a:xfrm flipV="1">
              <a:off x="2477880" y="3956760"/>
              <a:ext cx="4042080" cy="584280"/>
            </a:xfrm>
            <a:custGeom>
              <a:avLst/>
              <a:gdLst>
                <a:gd name="textAreaLeft" fmla="*/ 514440 w 4042080"/>
                <a:gd name="textAreaRight" fmla="*/ 3527640 w 4042080"/>
                <a:gd name="textAreaTop" fmla="*/ 74160 h 584280"/>
                <a:gd name="textAreaBottom" fmla="*/ 51012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Беспокойное воображение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_s1034"/>
            <p:cNvSpPr/>
            <p:nvPr/>
          </p:nvSpPr>
          <p:spPr>
            <a:xfrm flipV="1">
              <a:off x="2141640" y="4541760"/>
              <a:ext cx="4716360" cy="582480"/>
            </a:xfrm>
            <a:custGeom>
              <a:avLst/>
              <a:gdLst>
                <a:gd name="textAreaLeft" fmla="*/ 569160 w 4716360"/>
                <a:gd name="textAreaRight" fmla="*/ 4147200 w 4716360"/>
                <a:gd name="textAreaTop" fmla="*/ 70200 h 582480"/>
                <a:gd name="textAreaBottom" fmla="*/ 51228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aa8456">
                <a:alpha val="50000"/>
              </a:srgbClr>
            </a:solidFill>
            <a:ln w="5724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«Глупец я или злодей, не знаю…»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0" name="_s1035"/>
            <p:cNvSpPr/>
            <p:nvPr/>
          </p:nvSpPr>
          <p:spPr>
            <a:xfrm flipV="1">
              <a:off x="1805040" y="5123160"/>
              <a:ext cx="5389560" cy="584280"/>
            </a:xfrm>
            <a:custGeom>
              <a:avLst/>
              <a:gdLst>
                <a:gd name="textAreaLeft" fmla="*/ 623520 w 5389560"/>
                <a:gd name="textAreaRight" fmla="*/ 4766040 w 5389560"/>
                <a:gd name="textAreaTop" fmla="*/ 67320 h 584280"/>
                <a:gd name="textAreaBottom" fmla="*/ 51696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eec85e">
                <a:alpha val="50000"/>
              </a:srgbClr>
            </a:solidFill>
            <a:ln w="5724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«сердце ненасытное; мне всё мало»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1" name="_s1036"/>
            <p:cNvSpPr/>
            <p:nvPr/>
          </p:nvSpPr>
          <p:spPr>
            <a:xfrm flipV="1">
              <a:off x="1468440" y="5708160"/>
              <a:ext cx="6062760" cy="582480"/>
            </a:xfrm>
            <a:custGeom>
              <a:avLst/>
              <a:gdLst>
                <a:gd name="textAreaLeft" fmla="*/ 678240 w 6062760"/>
                <a:gd name="textAreaRight" fmla="*/ 5384520 w 6062760"/>
                <a:gd name="textAreaTop" fmla="*/ 65160 h 582480"/>
                <a:gd name="textAreaBottom" fmla="*/ 51732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00" y="21600"/>
                  </a:lnTo>
                  <a:lnTo>
                    <a:pt x="1200" y="2160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Бешеное наслаждение удовольствиями жизни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41808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ртрет Печори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68000" y="1557360"/>
            <a:ext cx="66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Он был среднего роста; стройный, тонкий стан его и широкие плечи доказывали крепкое сложение.., не побеждённое ни развратом столичной жизни, ни бурями душевными…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…Ослепительно чистое бельё, изобличавшее привычки порядочного человека…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…Не размахивал руками, - верный признак некоторой скрытности характера…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…Положение всего его тела изобразило какую-то нервическую слабость…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С первого взгляда… ему более 23 лет, хотя после я готов был дать ему 30»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В его улыбке было что-то детское.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Его кожа имела какую-то женскую нежность; белокурые волосы.., благородный лоб со следами морщин…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Карие глаза «не смеялись, когда он смеялся», но холодно блестели; «взгляд его непродолжительный, но проницательный и тяжёлый», «равнодушно спокойный»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0" descr="img11_2"/>
          <p:cNvPicPr/>
          <p:nvPr/>
        </p:nvPicPr>
        <p:blipFill>
          <a:blip r:embed="rId1"/>
          <a:stretch/>
        </p:blipFill>
        <p:spPr>
          <a:xfrm>
            <a:off x="395280" y="1557360"/>
            <a:ext cx="180036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чорин-рассказч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48956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невник Печорина демонстрирует его умение рассказать об увиденном и прочувствованн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ечорин чувствует красоту природы, умеет видеть её краски, слышать её звуки, любоваться ею, замечать совершающиеся изменения. Он вслушивается в ропот волн, любуется жизнью мор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роме того, он рассказывает о природе языком художника, раскрываясь, таким образом, перед читателями как талантливый человек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лово Печорина точно, выразительно, лирично: «тяжёлые волны мерно и ровно катились одна за другой»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8" descr="j0090386"/>
          <p:cNvPicPr/>
          <p:nvPr/>
        </p:nvPicPr>
        <p:blipFill>
          <a:blip r:embed="rId1"/>
          <a:stretch/>
        </p:blipFill>
        <p:spPr>
          <a:xfrm>
            <a:off x="395280" y="1557360"/>
            <a:ext cx="344340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чорин и врем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чорин и прошло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ечорин не желает вспоминать прошлое. Одинокий, тоскующий, озлобленный несчастьями, он хочет только одного – чтобы его оставили в покое, не терзали воспоминаниями, надеждам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Конечно, он помнит всё и страдает от воспоминани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ечорин бежит не от Максима Максимыча, а от своих воспоминаний. Прошлое кажется ему недостойным внимания. И хотя он пишет, что его дневник будет для него «драгоценным воспоминанием», в настоящем он безразличен к участи своих записей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чорин и настояще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анера поведения Печорина рисует человека подавленного, ничего не ждущего от жизн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стреча с Максимом Максимычем подчёркивает пропасть между ними – между простым человеком и дворянино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Кроме того, скука, присущая Печорину, возможно, свидетельствует о некотором его равнодушии к настоящей своей жизн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изнь его не имеет цели, он не видит выхода ни в настоящем, ни в будуще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этом, как и во многом другом, Печорин типичен для своего времен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0" descr="38s"/>
          <p:cNvPicPr/>
          <p:nvPr/>
        </p:nvPicPr>
        <p:blipFill>
          <a:blip r:embed="rId1"/>
          <a:stretch/>
        </p:blipFill>
        <p:spPr>
          <a:xfrm>
            <a:off x="7451640" y="189000"/>
            <a:ext cx="970200" cy="132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ивность, направленная на себя, или активность для великой цел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Да и какое мне дело до радостей и бедствий человеческих?..»,- восклицает Печорин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йствительно, активность Печорина направлена только на себя, она не имеет высокой цели, ему просто любопыт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ерой ищет настоящего действия, но находит его подобие, игру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н досадует на себя за то, что, вторгаясь в жизнь людей, не приносит им радости, он чужой в этом мир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5111640" cy="58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«На узкой дороге…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3429000"/>
          <a:ext cx="7753320" cy="3076560"/>
        </p:xfrm>
        <a:graphic>
          <a:graphicData uri="http://schemas.openxmlformats.org/drawingml/2006/table">
            <a:tbl>
              <a:tblPr/>
              <a:tblGrid>
                <a:gridCol w="3622680"/>
                <a:gridCol w="4130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ечори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ушницки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Желает произвести эффект своими речам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оизносит готовые пышные фраз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пособен на искренност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е способен на «возвышенное, глубоко действующее на чувства и воображение слово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жный человек, характер которого остается неясным даже после прочтения романа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то обыкновенный юноша, которого нетрудно понять. В конце концов в нем побеждают злоба и ненависть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14" descr="4444"/>
          <p:cNvPicPr/>
          <p:nvPr/>
        </p:nvPicPr>
        <p:blipFill>
          <a:blip r:embed="rId1"/>
          <a:stretch/>
        </p:blipFill>
        <p:spPr>
          <a:xfrm>
            <a:off x="2124000" y="1052640"/>
            <a:ext cx="43927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16:19:45Z</dcterms:created>
  <dc:creator>sv</dc:creator>
  <dc:description/>
  <dc:language>en-US</dc:language>
  <cp:lastModifiedBy>I`m</cp:lastModifiedBy>
  <dcterms:modified xsi:type="dcterms:W3CDTF">2018-01-02T15:26:08Z</dcterms:modified>
  <cp:revision>161</cp:revision>
  <dc:subject/>
  <dc:title>Неразгаданный Печорин</dc:title>
</cp:coreProperties>
</file>