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D8F-BF40-4DAE-9FA0-27854A31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D14-A181-439F-98CC-56D58DB7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43E-8053-4D91-8233-8C7A0CCF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481-F8B5-4860-9B15-3CB23BB7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F37-B687-4361-9406-C54A1BAE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D98-786B-4AEE-AA1A-AFA4E4F4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2A3-1A01-49C1-8DAA-587E4600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311-5CA7-4412-AE8D-79238EC7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0B1-8268-47C1-B625-3B33C4A2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3FE-5FF3-416B-A877-1AABC1D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8CB-A171-4292-B33C-27DB4098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E64-2C2A-4418-943F-1A9F5B2F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43FD-A934-427D-A544-7C99E5080CED}" type="slidenum">
              <a:rPr b="0" lang="en-US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Arial"/>
              </a:rPr>
              <a:t>БУКВА </a:t>
            </a:r>
            <a:r>
              <a:rPr b="1" lang="en-US" sz="96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4653000"/>
            <a:ext cx="561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Составила Рытикова И.Н.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ЧУОО «СОШ»Виктория»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БРА</a:t>
            </a:r>
            <a:endParaRPr b="0" lang="en-US" sz="7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294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ТЮ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Л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НЬ</a:t>
            </a:r>
            <a:endParaRPr b="0" lang="en-US" sz="7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597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М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Д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ДЬ</a:t>
            </a:r>
            <a:endParaRPr b="0" lang="en-US" sz="7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1847880"/>
            <a:ext cx="66805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СВИРИС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Т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ЛЬ</a:t>
            </a:r>
            <a:endParaRPr b="0" lang="en-US" sz="7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119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ВОРО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Б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Л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Б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ДЬ</a:t>
            </a:r>
            <a:endParaRPr b="0" lang="en-US" sz="7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4041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СКВО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99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7582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2T14:28:50Z</dcterms:created>
  <dc:creator>Ира</dc:creator>
  <dc:description/>
  <dc:language>en-US</dc:language>
  <cp:lastModifiedBy>Ира</cp:lastModifiedBy>
  <dcterms:modified xsi:type="dcterms:W3CDTF">2016-10-12T19:10:22Z</dcterms:modified>
  <cp:revision>2</cp:revision>
  <dc:subject/>
  <dc:title>БУКВА Е</dc:title>
</cp:coreProperties>
</file>