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74DB-F7FD-4DE0-874D-158A84225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83DB-C9E2-4C05-AC35-6F4639911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6681-9F67-4C48-92AF-ADF0EFBEA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DB19-EDDF-4CE6-BAC4-A6564F095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8D98-A6E7-436B-9D45-7D74700BB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ADAB-98F4-4609-B9BD-AFF06D7DF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C8FA-52B8-4B26-B7AB-47E55FB7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A005-288B-40C6-9E9C-B0449FF3B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A06E-FFE7-4EFA-99D4-D92DDAB2C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5D60-7009-4B6E-8E06-A35F26C0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F6A9-33BE-49E7-96BB-0A1C6D97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23A0-23D4-4776-9CC8-3A9650E7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a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cc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cc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3BEB6-E70A-4C52-9CF4-DF9BEA8DFC83}" type="slidenum">
              <a:rPr b="0" lang="en-US" sz="14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a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427640" y="4723920"/>
            <a:ext cx="417672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Составила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Рытикова И.Н.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ЧУОО»СОШ»Виктория»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258920" y="836640"/>
            <a:ext cx="684216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уква Ё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a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258920" y="1197000"/>
            <a:ext cx="691344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ОЛОДЦЫ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a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7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cc0000"/>
                </a:solidFill>
                <a:latin typeface="Arial"/>
              </a:rPr>
              <a:t>котЁнок</a:t>
            </a:r>
            <a:endParaRPr b="0" lang="en-US" sz="6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124000" y="1413000"/>
            <a:ext cx="513864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a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c0000"/>
                </a:solidFill>
                <a:latin typeface="Arial"/>
              </a:rPr>
              <a:t>телЁнок</a:t>
            </a:r>
            <a:endParaRPr b="0" lang="en-US" sz="7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403280" y="1700280"/>
            <a:ext cx="6875640" cy="48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a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жеребЁнок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824364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a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c0000"/>
                </a:solidFill>
                <a:latin typeface="Arial"/>
              </a:rPr>
              <a:t>утЁнок</a:t>
            </a:r>
            <a:endParaRPr b="0" lang="en-US" sz="7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03280" y="1557360"/>
            <a:ext cx="6720120" cy="49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a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c0000"/>
                </a:solidFill>
                <a:latin typeface="Arial"/>
              </a:rPr>
              <a:t>совЁнок</a:t>
            </a:r>
            <a:endParaRPr b="0" lang="en-US" sz="7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7700760" cy="51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a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c0000"/>
                </a:solidFill>
                <a:latin typeface="Arial"/>
              </a:rPr>
              <a:t>бобрЁнок</a:t>
            </a:r>
            <a:endParaRPr b="0" lang="en-US" sz="7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8337600" cy="46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a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0000"/>
                </a:solidFill>
                <a:latin typeface="Arial"/>
              </a:rPr>
              <a:t>О  или Ё ?</a:t>
            </a:r>
            <a:endParaRPr b="0" lang="en-US" sz="7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79640" y="1989000"/>
            <a:ext cx="1655640" cy="1562400"/>
          </a:xfrm>
          <a:prstGeom prst="rect">
            <a:avLst/>
          </a:prstGeom>
          <a:solidFill>
            <a:srgbClr val="006699"/>
          </a:solidFill>
          <a:ln w="9360">
            <a:solidFill>
              <a:srgbClr val="00a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08000" y="4221000"/>
            <a:ext cx="1727280" cy="1513080"/>
          </a:xfrm>
          <a:prstGeom prst="rect">
            <a:avLst/>
          </a:prstGeom>
          <a:solidFill>
            <a:srgbClr val="00a800"/>
          </a:solidFill>
          <a:ln w="9360">
            <a:solidFill>
              <a:srgbClr val="00a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435640" y="2060640"/>
            <a:ext cx="2092320" cy="34970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908000" y="4221000"/>
            <a:ext cx="1727280" cy="1513080"/>
          </a:xfrm>
          <a:prstGeom prst="rect">
            <a:avLst/>
          </a:prstGeom>
          <a:solidFill>
            <a:srgbClr val="00a800"/>
          </a:solidFill>
          <a:ln w="9360">
            <a:solidFill>
              <a:srgbClr val="00a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a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564000" y="836640"/>
            <a:ext cx="2152440" cy="2232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227640" y="3716280"/>
            <a:ext cx="2387880" cy="23875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547640" y="1484280"/>
            <a:ext cx="1656000" cy="1562040"/>
          </a:xfrm>
          <a:prstGeom prst="rect">
            <a:avLst/>
          </a:prstGeom>
          <a:solidFill>
            <a:srgbClr val="006699"/>
          </a:solidFill>
          <a:ln w="9360">
            <a:solidFill>
              <a:srgbClr val="00a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84720" y="4221000"/>
            <a:ext cx="1655640" cy="1562400"/>
          </a:xfrm>
          <a:prstGeom prst="rect">
            <a:avLst/>
          </a:prstGeom>
          <a:solidFill>
            <a:srgbClr val="00a800"/>
          </a:solidFill>
          <a:ln w="9360">
            <a:solidFill>
              <a:srgbClr val="00a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03T17:33:37Z</dcterms:created>
  <dc:creator>Ира</dc:creator>
  <dc:description/>
  <dc:language>en-US</dc:language>
  <cp:lastModifiedBy>Ира</cp:lastModifiedBy>
  <dcterms:modified xsi:type="dcterms:W3CDTF">2016-10-03T19:07:43Z</dcterms:modified>
  <cp:revision>2</cp:revision>
  <dc:subject/>
  <dc:title>Буква Ё</dc:title>
</cp:coreProperties>
</file>