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gif" ContentType="image/gif"/>
  <Override PartName="/ppt/media/image8.png" ContentType="image/png"/>
  <Override PartName="/ppt/media/image11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216D-0EB5-4CA9-9865-99C4A071F9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BB4E-06DA-491C-9E4F-505EA11D5D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8F7-2436-4853-825E-3AEF883F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840-7973-48D1-848F-4786B236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B8D-8F98-4376-BD91-45A0F01D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A36-F616-4130-9E2C-59924962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F80F-3FF0-4464-A26A-E429E4EB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72D5-A582-4628-9711-60B0E024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32EB-0CA5-4E57-8579-D06756F2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313D-5CED-4896-8D4E-40CECE0D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B10D-330F-41BD-A36E-906E1071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DE5E-6C16-4B59-B488-112B10DA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7655-A5CA-4E77-8DFE-981BFDF1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36A-B8A4-4B74-9036-93BFC000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F9B4-7E83-4054-9F04-10DFB61D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541F-78FF-43FA-B44F-D0AED74A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49AE-8888-45A5-9520-11B62BB5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BFE0-0DD1-4B4C-8E36-D6AA0E92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773E-018C-446A-A829-E64F5360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82B8C-7376-4AFC-A5DD-EB5A0C04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ACE4C-B98E-4E07-B780-CE52FB96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DC981-B3CB-45BE-8735-4E681872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37037-15BB-4D80-A718-AD4F781C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2FA38-8801-45B4-BFA2-1246BE3F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760-87E0-42A5-9FB5-F1D1D1F3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892E6-2938-4073-B82A-43681CCC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F6E9E-27EB-4019-B6F3-B2B84130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5EEAC-E4E6-4546-BA91-0DA44C2B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CBFCD-364C-45BE-8ECE-88397357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8F961-DE21-4F16-B4B5-15459E9F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DB44-DF06-4D2E-977F-E732C8B3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304F3-98BD-422A-9E6A-66C07A8F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7D9CE-193A-4D13-9FA8-C5E7EFA0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017E2-C4A8-45E8-8A50-42258816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5CFF5-929F-4930-99C0-FBD279C8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012-96CA-4D1A-838B-56EF3323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99599-BB00-42D5-A5E3-0097A603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AA6CA-FB11-42AE-ACEC-4E14EE41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7BE65-4F14-419A-806B-91816C5E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31B28-E3E1-4177-90DB-9BBF11B5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6E4A4-3439-43B1-83B7-7C940A95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53272-44FC-4D68-829A-9457BB81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80DA-C83E-4E0F-A420-49844A88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DE367-7132-45F1-BC0E-E9825288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E05CC-42E4-4ED0-AA08-1807C0D9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D75-E336-4FCD-A623-B3506F0B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099-EB79-4F6E-9AF9-95B77978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6C7-AEFF-45F0-97FD-8239C323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934-33FE-428C-872B-E366C3ED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814-9291-4C42-817A-8CDAF39B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7CCA-C81D-4377-87DB-87032D65963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0C8E-E18E-4E26-AF4C-74EFB97A61F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2695-8FB2-4352-8E90-97813102455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8181-FD40-4A7B-956E-8079EBFA973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276360" y="3886200"/>
            <a:ext cx="5056200" cy="2279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полнил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ченик 6 «б» класс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ОБУ СОШ с. Наумовк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утурин Владимир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уководитель Звягинцева М.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WordArt 6" descr=""/>
          <p:cNvPicPr/>
          <p:nvPr/>
        </p:nvPicPr>
        <p:blipFill>
          <a:blip r:embed="rId1"/>
          <a:stretch/>
        </p:blipFill>
        <p:spPr>
          <a:xfrm>
            <a:off x="225360" y="1268280"/>
            <a:ext cx="7407360" cy="2090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piano"/>
          <p:cNvPicPr/>
          <p:nvPr/>
        </p:nvPicPr>
        <p:blipFill>
          <a:blip r:embed="rId2"/>
          <a:stretch/>
        </p:blipFill>
        <p:spPr>
          <a:xfrm>
            <a:off x="826920" y="4221000"/>
            <a:ext cx="2449800" cy="2041560"/>
          </a:xfrm>
          <a:prstGeom prst="rect">
            <a:avLst/>
          </a:prstGeom>
          <a:ln w="0">
            <a:noFill/>
          </a:ln>
        </p:spPr>
      </p:pic>
      <p:pic>
        <p:nvPicPr>
          <p:cNvPr id="205" name="003 Chaikovskii - Spyachaya krasavicha.mp3" descr=""/>
          <p:cNvPicPr/>
          <p:nvPr/>
        </p:nvPicPr>
        <p:blipFill>
          <a:blip r:embed="rId3"/>
          <a:stretch/>
        </p:blipFill>
        <p:spPr>
          <a:xfrm>
            <a:off x="802800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279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тановление П.И.Чайковского как  композитор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альше дела пошли лучше. «Опричник» был поставлен в Петербурге в 1874 году, но особого восторга у публики не вызвал, зато «Кузнец Вакула», позднее дополненный и переделанный в оперу «Черевички» - на сюжет Н.В.Гоголя «Ночь перед рождеством», был удостоен первой премии Русского музыкального общества. Далее последовали «Евгений Онегин», «Орлеанская дева», «Мазепа», «Чародейка», «Пиковая дама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тановление П.И.Чайковского как композитор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Чайковский писал не только оперы .Своей мировой славой русский балет  никому не обязан в большей степени, чем Чайковскому. Он стал первым композитором, который заставил зрителей не только смотреть, но и слушать балетный спектакль. Он  создал 3 балета: «Лебединое озеро», «Спящая красавица», «Щелкунчик». Балетная музыка, которую делали просто удобной для танца, у Чайковского поражает глубиной содержания и богатой эмоциональной окраск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лассификация жанров музык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 творчестве Чайковского представлены почти все музыкальные жанр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пер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Балет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Концерт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Симфон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Романс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Увертюр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Инструментальная музы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Камерная музы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Церковная музы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лассификация жанров музык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63160" y="1988640"/>
            <a:ext cx="71881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Constantia"/>
              </a:rPr>
              <a:t>Однако предпочтение он отдавал опере и симфонии, которую считал исповедью души, лиричнейшей из  всех музыкальных форм. Он написал 7 симфоний, среди них: «Зимние грезы», «Манфред», «Патетическая», увертюру-фантазию «Ромео и Джульетта», фантазию «Франческа да Римини», «Итальянское каприччио».Творческое наследие его огромно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Constantia"/>
              </a:rPr>
              <a:t>В 1878 году Чайковский  оставил консерваторию, чтобы свободно заниматься творчеством. Он был обеспечен пенсией, а произведения его издавались, ставились, исполнялись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6662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Музыкальный анализ произведен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63160" y="1196640"/>
            <a:ext cx="76215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3502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«Зимние грезы»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 - первая симфония П.И.Чайковского проникнута русскими песенно-танцевальными интонациями. Она стала исповедь души композитора. В ней он выразил все наболевшее и радовавшее ,смятение и искания, стремление к вечно прекрасному, возвышенному. В этой симфонии сложился ярко индивидуальный метод, характерный для всех последующих симфоний: образный строй, драматургическое мышление, музыкальная выразительность, способ лирического высказыва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В общении с представителями русского передового искусства и при постоянном живом интересе к народному творчеству сформировался реалистический музыкальный стил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Некоторые произведения содержат яркие зарисовки народного быта, живо передают народный юмор и весель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3502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«Времена года»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 - цикл фортепианных пьес  раскрывает поэтические образы родной природ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6658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Музыкальный анализ произведен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920" y="1052280"/>
            <a:ext cx="7548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Лебединое озеро»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 - новаторский балет. Его музыка прекрасна, даже слишком хороша для балета. Это лучший балет, мелодии одна другой пластичней, певучее и увлекательнее, льются, как из рога изобилия; ритм вальса, преобладающий между танцевальными номерами , воплощен в таких разнообразных, грациозных и подкупающих рисунках, что никогда мелодическое изображение даровитого и многостороннего композитора не выдерживало более блистательного испыта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«Щелкунчик» - 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яркий , праздничный балет, поражающий искрометной будоражащей душу мелодией по сказке Гофмана /в обработке Дюма/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«Спящая красавица» - 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балет по сказке Шарля Перро так поэтичен, так благороден по музыке. В этом фантастическом мире образов Чайковского привлекала прежде всего возможность снова воплотить в музыке вечную проблему реальной жизни: борьбу Добра со Злом, победу светлых идеалов Красоты, Радости, Любв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Chaikovskiy - Tanec malen'kix lebedey.mp3" descr=""/>
          <p:cNvPicPr/>
          <p:nvPr/>
        </p:nvPicPr>
        <p:blipFill>
          <a:blip r:embed="rId1"/>
          <a:stretch/>
        </p:blipFill>
        <p:spPr>
          <a:xfrm>
            <a:off x="8028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5378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senar"/>
          <p:cNvPicPr/>
          <p:nvPr/>
        </p:nvPicPr>
        <p:blipFill>
          <a:blip r:embed="rId1"/>
          <a:stretch/>
        </p:blipFill>
        <p:spPr>
          <a:xfrm>
            <a:off x="900000" y="765000"/>
            <a:ext cx="4897440" cy="5688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771516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Мое любимое произведени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63160" y="1844280"/>
            <a:ext cx="76215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 романе «Евгений Онегин» композитор видел реальные и правдивые образы, глубокую жизненную драму, происходящую в реальных условиях. Он глубоко проникся пушкинскими образами, чистой любовью героев, верностью и пониманием их чувства долга и чести, их возвышенной мечтой и стремлением к идеал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Музыкальная драматургия произведения создана на едином мелодическом дыхании, где один номер органически переходит в другой, где вокальная мелодия  монологов /арий или ариозо/ по своей певучести и выразительности не отличается от речетативов – музыкальных разговоров. Композитор словно распевает стихи Пушкина, подобно тому ,как поют романсы на стихи поэтов и сочиняет необычные широкие мелодии, покоряющие одухотворенность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793116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Мое любимое произведени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94920" y="1483920"/>
            <a:ext cx="77151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пера «Евгений Онегин» . Сцена на бал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4" descr="evgenij-onegin"/>
          <p:cNvPicPr/>
          <p:nvPr/>
        </p:nvPicPr>
        <p:blipFill>
          <a:blip r:embed="rId1"/>
          <a:stretch/>
        </p:blipFill>
        <p:spPr>
          <a:xfrm>
            <a:off x="755640" y="1989000"/>
            <a:ext cx="7812000" cy="472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ыводы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П.И.Чайковский выступал как дирижер, руководя исполнением своих произведений и в России и за рубежом, где он пользовался огромным успехом – ведь в его музыке новая русская школа, восходящая к Глинке органично слилась с западноевропейской школой. Одной из триумфальнейших была поездка в Прагу в 1888 г. В 1891 г. Успешно прошли концерты в Америке, куда композитор был приглашен для участия в фестивале по случаю открытия крупнейшего концертного зала Карнеги-Хол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В 1893 г. В Англии Кембриджский университет присвоил Чайковскому звание доктора права, как  гениальнейшему композитору мир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Этапы работ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8920" y="1844280"/>
            <a:ext cx="738684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огружение в проект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nstantia"/>
              </a:rPr>
              <a:t>1.Детские годы жизни П.И.Чайковского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nstantia"/>
              </a:rPr>
              <a:t>2.Становление его как композитора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Реализация проект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nstantia"/>
              </a:rPr>
              <a:t>1.Классификация жанров музыки композитора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nstantia"/>
              </a:rPr>
              <a:t>2.Музыкальный анализ произведений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nstantia"/>
              </a:rPr>
              <a:t>3.Мое любимое произведение  опера «Евгений Онегин»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ыводы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nstantia"/>
              </a:rPr>
              <a:t>1.П.И.Чайковский – гениальнейший композитор мира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nstantia"/>
              </a:rPr>
              <a:t>2.Основополагающие принципы творчества: ярко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nstantia"/>
              </a:rPr>
              <a:t>индивидуальный метод, образный строй, способ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лирического высказывания, драматургического мышление,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nstantia"/>
              </a:rPr>
              <a:t>музыкальная выразительность</a:t>
            </a:r>
            <a:r>
              <a:rPr b="0" lang="ru-RU" sz="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ru-RU" sz="1700" spc="-1" strike="noStrike">
                <a:solidFill>
                  <a:srgbClr val="000000"/>
                </a:solidFill>
                <a:latin typeface="Constantia"/>
              </a:rPr>
              <a:t>- способствуют высокому</a:t>
            </a:r>
            <a:r>
              <a:rPr b="0" lang="ru-RU" sz="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nstantia"/>
              </a:rPr>
              <a:t>уровню восприятия музыки.</a:t>
            </a:r>
            <a:r>
              <a:rPr b="0" lang="ru-RU" sz="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9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9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003 Chaikovskii - Spyachaya krasavicha.mp3" descr=""/>
          <p:cNvPicPr/>
          <p:nvPr/>
        </p:nvPicPr>
        <p:blipFill>
          <a:blip r:embed="rId1"/>
          <a:stretch/>
        </p:blipFill>
        <p:spPr>
          <a:xfrm>
            <a:off x="8028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7279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785988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ыводы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24000" y="907920"/>
            <a:ext cx="67788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П.И.Чайковский – гениальнейший композито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Весь мир исполняет его музык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4" descr="DSC09926"/>
          <p:cNvPicPr/>
          <p:nvPr/>
        </p:nvPicPr>
        <p:blipFill>
          <a:blip r:embed="rId1"/>
          <a:stretch/>
        </p:blipFill>
        <p:spPr>
          <a:xfrm>
            <a:off x="684360" y="1844640"/>
            <a:ext cx="7200720" cy="433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Выводы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П.И.Чайковский  создал свой мелодический язык, он мог передавать в музыке и тончайшие душевные переживания и масштабность идеи. Все выразительные средства его музыки – мелодия, гармония, оркестровка, форма произведения – обладают огромной силой воздействия на человека. Содержание музыки Чайковского универсально: оно охватывает жизнь и смерть, любовь и ненависть, природу и быт  и глубокие процессы духовной жизни – сомнение, отчаяние, переживание. Произведения композитора пронизаны  большой любовью к жизни, человеку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Произведения композитора легки для восприятия, благодаря мелодичности, распевности, широте мелод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95280" y="404280"/>
            <a:ext cx="8291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                            </a:t>
            </a: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Спасибо за внимание!!! </a:t>
            </a:r>
            <a:r>
              <a:rPr b="0" lang="ru-RU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етские годы жизни композитора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.И.Чайковский – русский композитор,   дирижер, педагог, музыкально-общественный деятель родился в г. Воткинске на Урале в семье горного инженера. Уже в раннем возрасте мальчик отличался тонким слухом и хорошей музыкальной памятью. Первым учителем музыки стала его мать. В 5 лет он уже мог по слуху подбирать мелодии Моцарта, Доницетти, Россини на фортепиано, механическом органе ,а в 7 лет к нему пригласили настоящую учительницу музы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етские годы жизни композитор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 конце 1848 года семья переехала вначале в Москву затем в Петербург. Мальчика отдали в пансион Шмерлинга, где он стал серьезно заниматься музыкой; его часто водили  в театр, на оперу или балет, и он на всю жизнь полюбил волнующую атмосферу ожидания, театральную сцену за роскошным занавесом, таинственное освещение и удивительную жизнь, разворачивавшуюся на фоне волшебных декорац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628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3141720"/>
            <a:ext cx="774072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5177"/>
          <p:cNvPicPr/>
          <p:nvPr/>
        </p:nvPicPr>
        <p:blipFill>
          <a:blip r:embed="rId1"/>
          <a:stretch/>
        </p:blipFill>
        <p:spPr>
          <a:xfrm>
            <a:off x="1258920" y="765000"/>
            <a:ext cx="6780240" cy="5950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тановление П.И.Чайковского как композитор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 1850 г. Чайковский поступил  в Училище правоведения в Петербурге, о музыке он не забывал, и продолжал брать уроки  фортепианной игры. Училище он закончил 9 лет спустя, определился в департамент Министерства юстиции, однако музыка притягивала его все  сильнее – и тем сильнее он чувствовал, сколь несовершенны его знания; поэтому в 1861 году Чайковский стал заниматься  в музыкальных классах Русского музыкального обще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тановление П.И.Чайковского как  композитор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Эти классы были преобразованы в Петербургскую консерваторию – и сам Рубинштейн преподавал там композици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Чайковский окончил консерваторию с серебренной медалью в 1865 году; к этому времени он уже распрощался со службой, и,  когда открылась консерватория в Москве и ему предложили профессуру, он согласился без колебаний. Чайковский преподавал свободное сочинение, теорию музыки, инструментовку и гармонию, причем для занятий составил учебник гармонии – первый русский учебник такого ро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тановление П.И.Чайковского как композитор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 Москве были сделаны первые шаги в сочинении музыки. Одобрения они не вызвали ни у критиков, ни у публики. Опера «Воевода», поставленная в 1869 году в Москве, успеха не имела; фантастическая опера « Мандрагора»  его самого разочаровала, и дальше «Хора насекомых» для нее он не продвинулся; оперу «Ундина» Чайковский закончил, но Дирекция императорских театров ее не одобрила, и композитор, крайне раздосадованный происходящим, уничтожил партитур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4248360" cy="5949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5:17:48Z</dcterms:created>
  <dc:creator>user</dc:creator>
  <dc:description/>
  <dc:language>en-US</dc:language>
  <cp:lastModifiedBy>ACER</cp:lastModifiedBy>
  <dcterms:modified xsi:type="dcterms:W3CDTF">2018-01-02T14:10:40Z</dcterms:modified>
  <cp:revision>28</cp:revision>
  <dc:subject/>
  <dc:title>Слайд 1</dc:title>
</cp:coreProperties>
</file>