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B0E4-6B73-4A88-81AD-CFB637248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C54-BC4A-417F-9612-CB6DE32635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290-560B-4F23-BFA1-567465BD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E09-C414-4064-8F25-2C2EED5B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B8C-CFBC-4AD1-8380-430D0D91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ED2-EC1F-4008-85AF-1FCDA893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E9C7-11C4-48B1-AE6B-A332ABFC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F9B2-B33B-452B-8DD3-82F8BF8C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8F2-AD47-45F6-B530-C2E1294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AD2F-36BA-422B-B19D-25F95E7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204E-D318-471D-8F3E-EA279A0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443-A435-45DC-B3A5-0AFF6449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DAA-EA85-4E4D-B41F-CCCD9F8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AE8-6F14-478F-959D-F219FA7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07B-27B1-4739-990E-D46E9297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7DA-72E0-4B35-BB15-B5A0C50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238-D0C4-44DD-B69E-A4A0A05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A40F-A10A-45B4-97F3-3FA958F0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5F2-00B0-4212-A5C5-66F5B9F8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B8E-C356-46AD-B2D0-A9CD3FA7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491-7A0E-46B3-9988-1D1407EE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264-B40C-45EB-B86C-75F15F6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244-D25B-4092-8EB2-3ACA5AC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FE8-B615-4EE4-9FDA-C968AB4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98B-7479-426D-B614-8861533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443-A429-4BAF-A5BF-2458934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8CAA-E9D0-4D12-8C9C-1EF0E25C38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3AE-7121-49B6-8516-8C46AFF57B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Эвакуация и рассредоточение населе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лайд-фильм учителя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ОУ г.Омска «Гимназия №26» Черепан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еннадия Тихонович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взрыв"/>
          <p:cNvPicPr/>
          <p:nvPr/>
        </p:nvPicPr>
        <p:blipFill>
          <a:blip r:embed="rId1"/>
          <a:stretch/>
        </p:blipFill>
        <p:spPr>
          <a:xfrm>
            <a:off x="468360" y="1628640"/>
            <a:ext cx="2879640" cy="302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эвакуация"/>
          <p:cNvPicPr/>
          <p:nvPr/>
        </p:nvPicPr>
        <p:blipFill>
          <a:blip r:embed="rId2"/>
          <a:stretch/>
        </p:blipFill>
        <p:spPr>
          <a:xfrm>
            <a:off x="4067280" y="2060640"/>
            <a:ext cx="457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бязанности граждан при рассредоточении и эвакуа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рослые члены семьи должны иметь при себе паспорт, военный билет, трудовую книжку, или пенсионное удостоверение, диплом (аттестат) об окончании учебного заведения, свидетельства о браке и рождении детей, иные важные для семьи докумен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images"/>
          <p:cNvPicPr/>
          <p:nvPr/>
        </p:nvPicPr>
        <p:blipFill>
          <a:blip r:embed="rId1"/>
          <a:stretch/>
        </p:blipFill>
        <p:spPr>
          <a:xfrm>
            <a:off x="5904000" y="5084640"/>
            <a:ext cx="3240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дежда, обувь, бельё, постельные принадлежност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мплекте одежды желательно иметь плащ и спортивный костюм; обувь предпочтительнее резиновая или на резиновой основе (но достаточно лёгкая и удобная). Обязательно следует взять тёплые (шерстяные) вещи, даже если эвакуация происходит ле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images"/>
          <p:cNvPicPr/>
          <p:nvPr/>
        </p:nvPicPr>
        <p:blipFill>
          <a:blip r:embed="rId1"/>
          <a:stretch/>
        </p:blipFill>
        <p:spPr>
          <a:xfrm>
            <a:off x="0" y="4653000"/>
            <a:ext cx="2879640" cy="220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6ebea0b76b052bd7dcb8c4663ff7a3a2"/>
          <p:cNvPicPr/>
          <p:nvPr/>
        </p:nvPicPr>
        <p:blipFill>
          <a:blip r:embed="rId2"/>
          <a:stretch/>
        </p:blipFill>
        <p:spPr>
          <a:xfrm>
            <a:off x="4427640" y="4819680"/>
            <a:ext cx="3313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одукты пит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учше брать непортящиеся продукты (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счёте на 2 – 3 суток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ерв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центра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але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хар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ду следуют хранить во фляге (термосе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меть кружку, чашку, ложку, перочинный нож, спички и карманный фонар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щий вес не должен превыш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0 к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images"/>
          <p:cNvPicPr/>
          <p:nvPr/>
        </p:nvPicPr>
        <p:blipFill>
          <a:blip r:embed="rId5"/>
          <a:stretch/>
        </p:blipFill>
        <p:spPr>
          <a:xfrm>
            <a:off x="5219640" y="2852640"/>
            <a:ext cx="1800360" cy="909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рыба"/>
          <p:cNvPicPr/>
          <p:nvPr/>
        </p:nvPicPr>
        <p:blipFill>
          <a:blip r:embed="rId6"/>
          <a:stretch/>
        </p:blipFill>
        <p:spPr>
          <a:xfrm>
            <a:off x="3203640" y="2637000"/>
            <a:ext cx="1952640" cy="1144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сухари"/>
          <p:cNvPicPr/>
          <p:nvPr/>
        </p:nvPicPr>
        <p:blipFill>
          <a:blip r:embed="rId7"/>
          <a:stretch/>
        </p:blipFill>
        <p:spPr>
          <a:xfrm>
            <a:off x="7451640" y="2535120"/>
            <a:ext cx="1441440" cy="1152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s"/>
          <p:cNvPicPr/>
          <p:nvPr/>
        </p:nvPicPr>
        <p:blipFill>
          <a:blip r:embed="rId8"/>
          <a:stretch/>
        </p:blipFill>
        <p:spPr>
          <a:xfrm>
            <a:off x="3924360" y="5734080"/>
            <a:ext cx="1800000" cy="1123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термос"/>
          <p:cNvPicPr/>
          <p:nvPr/>
        </p:nvPicPr>
        <p:blipFill>
          <a:blip r:embed="rId9"/>
          <a:stretch/>
        </p:blipFill>
        <p:spPr>
          <a:xfrm>
            <a:off x="7451640" y="5157720"/>
            <a:ext cx="1692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Бирка на чемодане, рюкзак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аждому чемодану, рюкзаку прикрепляется бирка, на которой пишут фамилию, имя, отчество владельца, его постоянный адрес жительства и конечный пункт эваку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4" descr="images"/>
          <p:cNvPicPr/>
          <p:nvPr/>
        </p:nvPicPr>
        <p:blipFill>
          <a:blip r:embed="rId1"/>
          <a:stretch/>
        </p:blipFill>
        <p:spPr>
          <a:xfrm>
            <a:off x="520560" y="4508640"/>
            <a:ext cx="3403800" cy="2349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чемодан"/>
          <p:cNvPicPr/>
          <p:nvPr/>
        </p:nvPicPr>
        <p:blipFill>
          <a:blip r:embed="rId2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Уходя из квартиры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ключить все осветительные нагревательные прибор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рыть краны водопроводной и газовой сети, окна и форточк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ть гардины и занавески с окон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брать в теневые места легковоспламеняющие вещ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Эвакуация населе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вакуация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рганизованный вывоз или вывод из городов и важных объектов при угрозе нападения противника или опасности радиационного, химического, бактериологического заражения местности нетрудоспособного и неработающего населения, детских учреждений и учебных заве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вакуация проводится по территориальному принципу (домоуправление, РЭУ, населённый пунк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Рассредоточение населе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ссредоточение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организованный вывоз людей, продолжающих работу в крупных городах, в загородную зону для проживания и отдых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средоточение рабочих и служащих и эвакуация населения производятся по решению Президента России или Начальника ГО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средоточение и эвакуация рабочих, служащих и членов их семей организуются и проводятся по производственному принципу, т.е. по линии объек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Способы рассредоточения и эвакуа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бинированный способ – организованный вывод основной части населения в безопасную зону пешим порядком в сочетании с вывозом всеми видами транспор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на авто"/>
          <p:cNvPicPr/>
          <p:nvPr/>
        </p:nvPicPr>
        <p:blipFill>
          <a:blip r:embed="rId1"/>
          <a:stretch/>
        </p:blipFill>
        <p:spPr>
          <a:xfrm>
            <a:off x="5435640" y="3860640"/>
            <a:ext cx="3708360" cy="299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0008-008-Evakuatsija-naselenija"/>
          <p:cNvPicPr/>
          <p:nvPr/>
        </p:nvPicPr>
        <p:blipFill>
          <a:blip r:embed="rId2"/>
          <a:stretch/>
        </p:blipFill>
        <p:spPr>
          <a:xfrm>
            <a:off x="324000" y="378936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Транспортный способ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анспортный способ – когда для перевозки населения в безопасную зону используется один вид транспор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4" descr="eva"/>
          <p:cNvPicPr/>
          <p:nvPr/>
        </p:nvPicPr>
        <p:blipFill>
          <a:blip r:embed="rId1"/>
          <a:stretch/>
        </p:blipFill>
        <p:spPr>
          <a:xfrm>
            <a:off x="1619280" y="3386160"/>
            <a:ext cx="64087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ешим порядко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шим порядком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вакуируются рабочие и служащие (с членами семей) предприятий, организаций, учреждений, учебных заведений, переносящих свою деятельность в загородную зону, а также прекращающих её в военное врем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2"/>
          <p:cNvPicPr/>
          <p:nvPr/>
        </p:nvPicPr>
        <p:blipFill>
          <a:blip r:embed="rId1"/>
          <a:stretch/>
        </p:blipFill>
        <p:spPr>
          <a:xfrm>
            <a:off x="2843280" y="4797360"/>
            <a:ext cx="3960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борный эвакуационный пункт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назначен для сбора, регистрации и организованной отправки насе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1348826081_sam_1428"/>
          <p:cNvPicPr/>
          <p:nvPr/>
        </p:nvPicPr>
        <p:blipFill>
          <a:blip r:embed="rId1"/>
          <a:stretch/>
        </p:blipFill>
        <p:spPr>
          <a:xfrm>
            <a:off x="250920" y="2708280"/>
            <a:ext cx="3889440" cy="381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SDC12932"/>
          <p:cNvPicPr/>
          <p:nvPr/>
        </p:nvPicPr>
        <p:blipFill>
          <a:blip r:embed="rId2"/>
          <a:stretch/>
        </p:blipFill>
        <p:spPr>
          <a:xfrm>
            <a:off x="4284720" y="2708280"/>
            <a:ext cx="45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Эвакуационные комисси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ются на предприятиях, в организациях и учреждениях. Ведут учёт количества рабочих, служащих и членов их семей, подлежащих эвакуац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регистрация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IMG_1035"/>
          <p:cNvPicPr/>
          <p:nvPr/>
        </p:nvPicPr>
        <p:blipFill>
          <a:blip r:embed="rId2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ёмные эвакуационные пункты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ются для встречи прибывающих в загородную зону людей, их учёта и размещения в конечных населённых пунк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IMG_1066"/>
          <p:cNvPicPr/>
          <p:nvPr/>
        </p:nvPicPr>
        <p:blipFill>
          <a:blip r:embed="rId1"/>
          <a:stretch/>
        </p:blipFill>
        <p:spPr>
          <a:xfrm>
            <a:off x="4211640" y="3306600"/>
            <a:ext cx="4537080" cy="3551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4-2(1)"/>
          <p:cNvPicPr/>
          <p:nvPr/>
        </p:nvPicPr>
        <p:blipFill>
          <a:blip r:embed="rId2"/>
          <a:stretch/>
        </p:blipFill>
        <p:spPr>
          <a:xfrm>
            <a:off x="231840" y="3284640"/>
            <a:ext cx="383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3:32:45Z</dcterms:created>
  <dc:creator>Геннадий</dc:creator>
  <dc:description/>
  <dc:language>en-US</dc:language>
  <cp:lastModifiedBy>123</cp:lastModifiedBy>
  <dcterms:modified xsi:type="dcterms:W3CDTF">2018-01-02T15:50:48Z</dcterms:modified>
  <cp:revision>19</cp:revision>
  <dc:subject/>
  <dc:title>Эвакуация и рассредоточение населения</dc:title>
</cp:coreProperties>
</file>