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5D5-F87E-45DA-BDAF-5200F288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0C9-B1F8-41D4-9364-6F9C0079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783-C13C-4937-909F-ABC61F2A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F85-2475-45C7-AD3D-3F0DC0AD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D5A-F89B-459C-82A6-52B897EE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4EE-4BF6-49B2-B578-F952B6B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3AA-2302-4605-A58E-2F719B9D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9BC-4D6E-4A3E-98A6-FBD29CEE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297-AC2B-4D1F-A434-79B0285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8F9-9C95-4898-8E14-A69DCB9D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019-4B6D-48CF-B470-1E010A5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CE5-A442-45C7-8AB6-8619208B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A6F1-966A-440C-BBB0-ED3F9E700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28800" y="1167480"/>
            <a:ext cx="7215120" cy="48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и быт Краснодарского кр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подготов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никова Дарья, 15 лет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яся 10 класса МБОУ СОШ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Апшеронск, Апшеронского рай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марева Елена Александровн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4 г. Апшерон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00120" y="3571920"/>
            <a:ext cx="2381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дебные обря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ину свадьбы длились не менее недели, на их проведение затрачивалось 250-300 рублей (конец ХIХ века), что для казачьих семей было обременительно, но к ним готовились много лет, с самого рождения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Картинка 89 из 410"/>
          <p:cNvPicPr/>
          <p:nvPr/>
        </p:nvPicPr>
        <p:blipFill>
          <a:blip r:embed="rId1"/>
          <a:stretch/>
        </p:blipFill>
        <p:spPr>
          <a:xfrm>
            <a:off x="6929280" y="4071960"/>
            <a:ext cx="181296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лариса\Desktop\Inkou-kaz.jpg"/>
          <p:cNvPicPr/>
          <p:nvPr/>
        </p:nvPicPr>
        <p:blipFill>
          <a:blip r:embed="rId1"/>
          <a:stretch/>
        </p:blipFill>
        <p:spPr>
          <a:xfrm>
            <a:off x="6500880" y="4357800"/>
            <a:ext cx="2462040" cy="2000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ы казака на служб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285840" y="1092240"/>
            <a:ext cx="621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убанских казаков особое место среди обрядов жизненного цикла занимал ритуал проводов на службу, который включал несколько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проводам – подготовка снаряжения, согласование регламента со станичной администрацией, материальное обеспечение прово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 проводы – вечерняя трапеза, в которой принимали участие родственники – в обязательном порядке крестные родители, иногда молодёжь. «Ужин» мог длиться до утра, сопровождался напутствиями отслуживших свой срок, уважаемых каза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им следовал завтрак, основные ритуалы которого – родительское благословение иконой и хлебом, перевязывание полотенцем крест-накрест и обряжение казака, как жениха: цветок, платочки, которые  прикалывали к его одежде девушки, и в первую очередь – неве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лариса\Desktop\1220165122_kuban_kosaks.jpg"/>
          <p:cNvPicPr/>
          <p:nvPr/>
        </p:nvPicPr>
        <p:blipFill>
          <a:blip r:embed="rId2"/>
          <a:stretch/>
        </p:blipFill>
        <p:spPr>
          <a:xfrm>
            <a:off x="-166680" y="0"/>
            <a:ext cx="9477360" cy="80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30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не уважает обычаи своего народ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ранит их в своем сердце, тот позор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свой народ, но, прежде всег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важает самого себя, свой род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х древних пред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frame117"/>
          <p:cNvPicPr/>
          <p:nvPr/>
        </p:nvPicPr>
        <p:blipFill>
          <a:blip r:embed="rId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55640" y="692280"/>
            <a:ext cx="74883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Цель исслед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выявить особенности и ценность семейной обрядовой культуры казаков, ее своеобразие; богатство обрядов и традиций каза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дача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ледить основные традиции казачьих сем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мотреть особенности соблюдения обычаев казаков, связанных с рождением  ребенка, свадьбы, проводов в арм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етоды исследования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нализ и синтез справочной литературы по быту и традициям каза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бань - моя малая Род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Ученик_2\Мои документы\Мои рисунки\Краснодарский край\43.jpg"/>
          <p:cNvPicPr/>
          <p:nvPr/>
        </p:nvPicPr>
        <p:blipFill>
          <a:blip r:embed="rId1"/>
          <a:stretch/>
        </p:blipFill>
        <p:spPr>
          <a:xfrm>
            <a:off x="5643720" y="4214880"/>
            <a:ext cx="2962080" cy="21574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71680" y="16430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ань… так называют наш край по имени реки, несущей бурные воды свои. Край широких степей, высоких гор, богатых лесов и садов, множества лиманов и рек, любимый уголок земли – наша малая Родина. Кубань – чудесный, благодатный край, которым нельзя не горди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14200" y="4143240"/>
            <a:ext cx="5472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, брат, что у казак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– обыча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ество – тради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еприимство – зак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285840" y="428760"/>
            <a:ext cx="77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к не может считать себя казаком, если не знает и не соблюдает традиции и обычаи каз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11111111"/>
          <p:cNvPicPr/>
          <p:nvPr/>
        </p:nvPicPr>
        <p:blipFill>
          <a:blip r:embed="rId1"/>
          <a:stretch/>
        </p:blipFill>
        <p:spPr>
          <a:xfrm>
            <a:off x="5500800" y="2357280"/>
            <a:ext cx="30589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зачьи традиции и обычаи имели под собой одну основу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ять заповедей Христ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50920" y="1981080"/>
            <a:ext cx="6321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уб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укра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прелюбодейству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удись по сов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завидуй ближнему своему и прощай обидчик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боться о детях своих и родител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рожи девичьим целомудрием и женской честь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могай бедным, не обижай сирот и вд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обижай сирот и вд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щищай от врагов свое Отечеств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История донского казачества XVIII - нач. XX вв."/>
          <p:cNvPicPr/>
          <p:nvPr/>
        </p:nvPicPr>
        <p:blipFill>
          <a:blip r:embed="rId1"/>
          <a:stretch/>
        </p:blipFill>
        <p:spPr>
          <a:xfrm>
            <a:off x="6143760" y="3643200"/>
            <a:ext cx="27241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зачьи законы: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1600200"/>
            <a:ext cx="546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ительное отношение к старш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мерное почитание гост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к женщине (матери, сестре, жене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лариса\Desktop\Inkou-kaz.jpg"/>
          <p:cNvPicPr/>
          <p:nvPr/>
        </p:nvPicPr>
        <p:blipFill>
          <a:blip r:embed="rId1"/>
          <a:stretch/>
        </p:blipFill>
        <p:spPr>
          <a:xfrm>
            <a:off x="5786280" y="3571920"/>
            <a:ext cx="2965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1800" y="50040"/>
            <a:ext cx="495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 ребен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1"/>
          <a:stretch/>
        </p:blipFill>
        <p:spPr>
          <a:xfrm>
            <a:off x="6559560" y="4286160"/>
            <a:ext cx="2347920" cy="19875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0" y="928800"/>
            <a:ext cx="6858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зак рождался воином, и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явлением  на свет млад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иналась его  военная шко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орождённому  все родны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зья отца  приносили в дар ружьё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троны, порох, пули, лук и  стре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подарки развешивались на стен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лежала родительница с младенц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истечению сорока  дней ребе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сили в церковь  для «получ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итвы». По возвращению из церк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ой,  отец надевал на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тупею от шашки, сажал на коня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ом  возвращал сына матер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дравлял её с каза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ждение реб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14200" y="1285920"/>
            <a:ext cx="705672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ки строго соблюдали старые обыча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дьмой день младенца крестили. Христианское крещения означало вход ребенка в ми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 крещении получали имя того святого, которого праздновали за седмицу до рож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5" descr=""/>
          <p:cNvPicPr/>
          <p:nvPr/>
        </p:nvPicPr>
        <p:blipFill>
          <a:blip r:embed="rId1"/>
          <a:stretch/>
        </p:blipFill>
        <p:spPr>
          <a:xfrm>
            <a:off x="6715080" y="3143160"/>
            <a:ext cx="2428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41920" y="360000"/>
            <a:ext cx="471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дебные обря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"/>
          <p:cNvPicPr/>
          <p:nvPr/>
        </p:nvPicPr>
        <p:blipFill>
          <a:blip r:embed="rId1"/>
          <a:stretch/>
        </p:blipFill>
        <p:spPr>
          <a:xfrm>
            <a:off x="3598920" y="4000680"/>
            <a:ext cx="4708440" cy="26604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57120" y="13572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глазах у понравившейся дивчины, казак-хлопец бросал шапку в окно или во двор, и если девушка тут же не выбрасывала папаху на улицу, вечером он мог придти с отцом или крёстным сват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1T10:58:24Z</dcterms:created>
  <dc:creator>Даниил</dc:creator>
  <dc:description/>
  <dc:language>en-US</dc:language>
  <cp:lastModifiedBy>555</cp:lastModifiedBy>
  <dcterms:modified xsi:type="dcterms:W3CDTF">2018-01-02T10:39:37Z</dcterms:modified>
  <cp:revision>37</cp:revision>
  <dc:subject/>
  <dc:title>Слайд 1</dc:title>
</cp:coreProperties>
</file>