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BBF-BA13-4FE8-B90D-E22ACE6A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275-9311-4AA4-94D6-9B92DC44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403-9597-4A7B-83DC-B79EF3CD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E6D-12E9-4826-B2D8-09395AC1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801-7D06-49D2-B5DB-F5875E53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AA7-FF03-4688-8256-A7FAFF10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6C9-FC31-4912-A290-68FBF192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E5F-57D9-49C4-9240-1D8AD855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2EC-F6C4-4334-BE82-370008D9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17D-FEE5-48C3-B806-CA429BEB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93B-4275-44D5-A564-01039007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1E0-6074-4ACB-BBA1-BBE8EE92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6BA3-F636-4A46-A5F8-4D8C54A53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14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рдимся нашими земляк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1928880" y="4397760"/>
            <a:ext cx="7215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у подгот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хамадиева Елизавета, 15 л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айся 10 класса МБОУСОШ №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Апшеронска, Апшеро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марева Елена Александро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СОШ № 4 г. Апшерон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Похожее изображение"/>
          <p:cNvPicPr/>
          <p:nvPr/>
        </p:nvPicPr>
        <p:blipFill>
          <a:blip r:embed="rId1"/>
          <a:stretch/>
        </p:blipFill>
        <p:spPr>
          <a:xfrm>
            <a:off x="285840" y="3697200"/>
            <a:ext cx="242892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4214880" y="12859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1919 году в Велиже Смоленской области в семье учителя. Участник Великой Отечественной войны, командир отделения боепитания 82-го гвардейского стрелкового полка (32-я гвардейская стрелковая дивизия, 18-я армия, Закавказский фронт), гвардии старший сержант. Осенью 1942 года 32-я гвардейская стрелковая дивизия держала оборону на туапсинском направлении. 10 октября 1942 года 82-й гвардейский полк вёл бой в районе высоты 501,1 у станицы Куринской. Закрыл своим телом амбразуру пулемёта. Герой Советского Союза, награжден орденом Ленина, медалью «За боевые заслуг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58800" y="50004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цкий Николай Михайл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Novicky NM.jpg"/>
          <p:cNvPicPr/>
          <p:nvPr/>
        </p:nvPicPr>
        <p:blipFill>
          <a:blip r:embed="rId2"/>
          <a:stretch/>
        </p:blipFill>
        <p:spPr>
          <a:xfrm>
            <a:off x="642960" y="1428840"/>
            <a:ext cx="2857320" cy="4190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572400" y="571680"/>
            <a:ext cx="65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ЕНКО НИКОЛАЙ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286160" y="1143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8 февраля 1921 года, в станице Тверской Апшеронского района Краснодарского края. В ноябре 1943 года сержант Николай Кривенко был пулемётчиком 386- го отдельного батальона морской пехоты военно-морской базы Черноморского флота.В ночь с 31 октября на 1 ноября 1943 года Н.А. Кривенко одним из первых высадился на Керченский полуостров в районе посёлка Эльтиген  и принял активное участие в отражении 19 немецких контратак, лично уничтожив вражеский танк и группу немецких солдат, прорвавшихся в тыл батальона. за захват плацдарма на Керченском полуострове и проявленные при этом отвагу и геройство 17 ноября 1943 года Указом Президиума Верховного Совета СССР звание Героев Советского Союза было присвоено еще 58 десантн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image002"/>
          <p:cNvPicPr/>
          <p:nvPr/>
        </p:nvPicPr>
        <p:blipFill>
          <a:blip r:embed="rId2"/>
          <a:stretch/>
        </p:blipFill>
        <p:spPr>
          <a:xfrm>
            <a:off x="714240" y="1714680"/>
            <a:ext cx="3214800" cy="4429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4572000" y="1500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1905 году в станице Апшеронской. При форсировании Вислы в районе поселка Дембно (Польша) батальон майора Славянского в ночном бою расширил плацдарм до трех километров по фронту и на полтора километра в глубину. Звание Героя Советского Союза присвоено 23 сентября 1944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362160" y="357120"/>
            <a:ext cx="60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СКИЙ ИВАН ПАВ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Иван Павлович Славянский.jpg"/>
          <p:cNvPicPr/>
          <p:nvPr/>
        </p:nvPicPr>
        <p:blipFill>
          <a:blip r:embed="rId2"/>
          <a:stretch/>
        </p:blipFill>
        <p:spPr>
          <a:xfrm>
            <a:off x="857160" y="1357200"/>
            <a:ext cx="3071880" cy="4154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437040" y="28584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ОРОВ СТЕП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4429080" y="1143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ле Лисенки Ивановской области. В составе истребительного отряда участвовал в боях в районе сёл Кубано-Армянское, Червяково, Маратуки Апшеронского района. Отряд нанёс противнику значительный урон в живой силе. Суворов погиб в бою 25 октября 1942 года. Звание Героя Советского Союза присвоено 31 марта 1943 года посмертно. Похоронен в селе Белая Глина. В районе села Кубано-Армянское, на месте гибели Героя, установлен обелиск, мемориальные доски — в посёлках Лух Ивановской области и Нефтегорск Апшеронского района Краснодар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Суворов Степан Васильевич"/>
          <p:cNvPicPr/>
          <p:nvPr/>
        </p:nvPicPr>
        <p:blipFill>
          <a:blip r:embed="rId2"/>
          <a:stretch/>
        </p:blipFill>
        <p:spPr>
          <a:xfrm>
            <a:off x="500040" y="1071720"/>
            <a:ext cx="3357720" cy="5027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710280" y="571680"/>
            <a:ext cx="642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ИСОВ МИХАИЛ  ИГНАТ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357800" y="13572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13 января 1914 года в селе Щелкин Свердловской области. Старший сержант Денисов отличился на правом берегу Днепра. В октябре 1943 года в ходе боёв за сёла Григоровка и Иваньково Каневского района Черкасской области манёвры Денисова способствовали успешному освобождению этих сёл. В бою за Иваньково он лично уничтожил около 10 немецких орудий с расчётами. 7 ноября 1943 года Денисов первым в своём подразделении ворвался в Фастов и уничтожил 6 артиллерийских орудий и 30 автомашин Звание героя Советского Союза присвоено 3 июня 1944 года. С 1960 по 1970 годы жил и работал в Хадыжен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Михаил Игнатьевич Денисов.jpg"/>
          <p:cNvPicPr/>
          <p:nvPr/>
        </p:nvPicPr>
        <p:blipFill>
          <a:blip r:embed="rId2"/>
          <a:stretch/>
        </p:blipFill>
        <p:spPr>
          <a:xfrm>
            <a:off x="714240" y="1357200"/>
            <a:ext cx="3143520" cy="4552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434160" y="357120"/>
            <a:ext cx="62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ЕНСКИЙ ВАСИ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4143240" y="15001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25 декабря 1906 года в Минеральных Водах. С 1929 года по 1934 год жил и работал в Хадыженске. Старший лейтенант Ровенский отличился при прорыве обороны противника юго-западнее г. Пулавы (Польша). Был ранен, но остался в строю. За штурм немецкой обороны на Пулавском плацдарме .После войны - работа в Азовской МТС, затем на советской и партийной работе в г.Азове Ростовской области. Последние годы он жил в г.Сочи Краснодарского края, где вел работу в Центральном штабе походов по местам боевой славы. Звание Героя Советского Союза присвоено 27 февраля 1945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Герой Советского Союза. Ровенский Василий Григорьевич "/>
          <p:cNvPicPr/>
          <p:nvPr/>
        </p:nvPicPr>
        <p:blipFill>
          <a:blip r:embed="rId2"/>
          <a:stretch/>
        </p:blipFill>
        <p:spPr>
          <a:xfrm>
            <a:off x="500040" y="1143000"/>
            <a:ext cx="3357720" cy="4921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699840" y="571680"/>
            <a:ext cx="53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В ВЛАДИМИР ГЕОРГИ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4071960" y="2357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1922 году в станице Курганной (ныне г. Курганинск). Жил и учился в Нефтегорске. В 53 воздушных боях лично сбил 20 и в группе 6 самолетов противника. На Карельском перешейке в районе города Выборга один вступил в бой с семью вражескими истребителями. Два из них сбил огнем, а третий протаранил. Звание Героя Советского Союза присвоено 2 августа 1944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Serov VG.jpg"/>
          <p:cNvPicPr/>
          <p:nvPr/>
        </p:nvPicPr>
        <p:blipFill>
          <a:blip r:embed="rId2"/>
          <a:stretch/>
        </p:blipFill>
        <p:spPr>
          <a:xfrm>
            <a:off x="571680" y="1500120"/>
            <a:ext cx="3071520" cy="41324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0" y="20001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уже более семидесяти лет идёт своим чередом мирная жизнь. Не одно поколение обязано русским солдатам, которые завоевали победу в нелёгкие суровые годы Великой Отечественной войны. Их имена увековечиваются в названиях улиц и присваиваются школам. Подвиги героев бессмертны. Они живут в памяти поколений, становятся символом мужества, горячей любви к Родине, готовности к её защит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1657440"/>
            <a:ext cx="7620120" cy="1152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Картинки по запросу вов"/>
          <p:cNvPicPr/>
          <p:nvPr/>
        </p:nvPicPr>
        <p:blipFill>
          <a:blip r:embed="rId2"/>
          <a:stretch/>
        </p:blipFill>
        <p:spPr>
          <a:xfrm>
            <a:off x="5138640" y="4280040"/>
            <a:ext cx="3670560" cy="22968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Антонов, В. В боях на Апшеронской земле / В.И. Антонов //Апшеронский рабочий. – 2008. – 15 янв. (№ 3). – С. 3, 17 янв. (№4), 22 янв. (№ 6). –С. 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Апшеронск в годы войны  // Школьная жизнь. – 2013. – №.1. – С.1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Великая Отечественная война // Апшеронск. 150 лет истории. – Апшеронск: Платонов, 2013 – С.64-9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Книга Памяти. Т.5. Абинский р-он, Апшеронский р-он, Белоглинский р-он, Кавказский р-он, Крыловской р-он / Российская Федерация. Краснодарский край. – Краснодар: кн. изд-во, 1994. – С.105-19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Книга Памяти. Т. 3: Не забывайте об этом, люди! / авт.-сост. Н.П. Овчинников. – Краснодар: Краснодар. известия,  2005. – 520 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http://www.apsmi.r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http://aprlib.r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 rot="21417600">
            <a:off x="457200" y="27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 Black"/>
              </a:rPr>
              <a:t>Великая Отечественная война в Апшеронском райо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, сколько тянется войн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 конец ей все же буд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уда живы будут люд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забудется о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2 августа 1942 года по 27 января 1943 год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ло-4051 человек…Пропало без вести 6380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571680" y="500040"/>
            <a:ext cx="83581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ним их 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льзя научиться любить жив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умеешь хранить память о мертв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К. Рокоссов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285840" y="917640"/>
            <a:ext cx="4572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3 Героев Советского Сою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ЕВИЧ ИВАН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ЩЕЕВА ВЕРА СЕРГЕ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ЕНКО НИКОЛАЙ АЛЕКС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Х БОРИС МИТРОФ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ЩЕНКО ИВАН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РУБОВ КОНСТАНТИН ИОСИФ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ЦКИЙ НИКОЛАЙ МИХАЙ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СКИЙ ИВАН ПАВ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ОРОВ СТЕПАН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ИСОВ МИХАИЛ  ИГНАТЬЕ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ЕНСКИЙ ВАСИЛИЙ ГРИГОРЬЕ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В ВЛАДИМИР ГЕОРГИЕ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Картинки по запросу вов апшеронск"/>
          <p:cNvPicPr/>
          <p:nvPr/>
        </p:nvPicPr>
        <p:blipFill>
          <a:blip r:embed="rId2"/>
          <a:stretch/>
        </p:blipFill>
        <p:spPr>
          <a:xfrm>
            <a:off x="5286240" y="3786120"/>
            <a:ext cx="3500640" cy="2589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apsmi.ru/image/1701/11018-09-1.jpg"/>
          <p:cNvPicPr/>
          <p:nvPr/>
        </p:nvPicPr>
        <p:blipFill>
          <a:blip r:embed="rId2"/>
          <a:stretch/>
        </p:blipFill>
        <p:spPr>
          <a:xfrm>
            <a:off x="198360" y="1000080"/>
            <a:ext cx="3611520" cy="48578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214200" y="28584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ЕВИЧ ИВА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857760" y="714240"/>
            <a:ext cx="5286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 Советского Союза. Волосевич Иван Иванович родился в рабочей семье 5 августа 1909 года в селе Тихны Гродненской губер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пшеронском районе семья обосновалась в 1917 году. Учился Иван в сельской школе, работал на нефтепромыслах. После окончания летной школы подался в морскую авиацию. Иван Иванович служил на Черноморском, а с 1938 года – на Балтийском флоте, войну с Финляндией встретил комиссаром эскадрильи. За 69 боевых вылетов и отличие в воздушных боях он был награжден орденом Красного Знамени, а в 1940 году – удостоен звания Героя Советского Союза с вручением ордена Ленина и медали «Золотая Звезда». В начале Великой Отечественной войны комиссар эскадрильи Волосевич защищал небо Одессы. 30 сентября 1941 он так и не вернулся с очередного боевого вылета. На фронте о бесстрашном летчике сложили «Песню о боевом комиссар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234360" y="214200"/>
            <a:ext cx="61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в Владимир Васил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143240" y="12859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22 сентября 1923 года в станице Островская Волгоградской области. До призыва в армию жил и работал в Хадыженске. Лейтенант Гусев отличился при форсировании Днепра, при отражении очередной контратаки противника был смертельно ранен. Звание Героя Советского Союза присвоено 30 октября 1943 года посмер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сть Гусева в Краснодаре названы улица и школа № 6, в городе Хадыженск установлен обелиск и школа №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Картинки по запросу гусев владимир васильевич апшеронск биография"/>
          <p:cNvPicPr/>
          <p:nvPr/>
        </p:nvPicPr>
        <p:blipFill>
          <a:blip r:embed="rId2"/>
          <a:stretch/>
        </p:blipFill>
        <p:spPr>
          <a:xfrm>
            <a:off x="357120" y="1214280"/>
            <a:ext cx="3629160" cy="484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4572000" y="121428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Мищенко родился в 1906 году в станице Апшеронская (ныне — город Апшеронск Краснодарского края). После окончания начальной школы работал сначала в сельхозартели, затем на кубанских нефтяных промыслах. В 1941 года Мищенко был призван на службу в Рабоче-крестьянскую Красную Армию. С июня того же года — на фронтах Великой Отечественной войны[1]. Иван Васильевич Мищенко воевал в городе Севастополе. Ведя непрерывный бой с фашистами, израсходовал все патроны, гранаты, затем вёл рукопашный бой. Ему присвоено звание Герой Советского Союза. Его именем названа школа №1 , в этой школе он учился и центральная улица, бюст в г. Апшерон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309600" y="428760"/>
            <a:ext cx="47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щенко Иван Васил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Иван Васильевич Мищенко.jpg"/>
          <p:cNvPicPr/>
          <p:nvPr/>
        </p:nvPicPr>
        <p:blipFill>
          <a:blip r:embed="rId2"/>
          <a:stretch/>
        </p:blipFill>
        <p:spPr>
          <a:xfrm>
            <a:off x="571680" y="1363680"/>
            <a:ext cx="3500280" cy="46101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594360" y="35712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щеева Вера Серге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071960" y="100008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ась 15 сентября 1922 года в селе Петровка Алтайского края. В числе первых переправилась через реку Днепр. Будучи раненой, оказывала медицинскую помощь. Во время войны спасла жизни многим солдатам и офицерам, вынося их с поля боя. Ей присвоено звание - Герой Советского Союза и она награждена Медалью Международного красного Кр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е Героя Советского Союза присвоено 22 февраля 1944 года. С 1973 года жила и работала в Апшеронске. Вера Сергеевна Кащеева трагически погибла в автомобильной катастрофе вместе с маленьким внуком 20 мая 1975 года. Похоронена в городе Апшерон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upload.wikimedia.org/wikipedia/commons/7/73/%D0%9A%D0%B0%D1%89%D0%B5%D0%B5%D0%B2%D0%B0_%D0%92%D0%B5%D1%80%D0%B0_%D0%A1%D0%B5%D1%80%D0%B3%D0%B5%D0%B5%D0%B2%D0%BD%D0%B0_2.jpg"/>
          <p:cNvPicPr/>
          <p:nvPr/>
        </p:nvPicPr>
        <p:blipFill>
          <a:blip r:embed="rId2"/>
          <a:stretch/>
        </p:blipFill>
        <p:spPr>
          <a:xfrm>
            <a:off x="500040" y="1000080"/>
            <a:ext cx="3214800" cy="4791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584640" y="64296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Х БОРИС МИТРОФ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071960" y="15717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1918 году в Туапсе. С декабря 1933 года жил в станице Апшеронской. Гвардии старший лейтенант Лях совершил свыше 130 боевых выходов на поиск и уничтожение подводных лодок врага. За мужество и героизм, проявленные в боях, Указом Президиума Верховного Совета СССР от 5 ноября 1944 года гвардии старшему лейтенанту Ляху Борису Митрофановичу присвоено звание Героя Советского Союза с вручением ордена Ленина и медали «Золотая Звез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Лях Борис Митрофанович"/>
          <p:cNvPicPr/>
          <p:nvPr/>
        </p:nvPicPr>
        <p:blipFill>
          <a:blip r:embed="rId2"/>
          <a:stretch/>
        </p:blipFill>
        <p:spPr>
          <a:xfrm>
            <a:off x="642960" y="1428840"/>
            <a:ext cx="2714760" cy="4065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Картинки по запросу вов апшеронск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586800" y="5000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РУБОВ КОНСТАНТИН ИОСИФ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Недорубов Константин Иосифович"/>
          <p:cNvPicPr/>
          <p:nvPr/>
        </p:nvPicPr>
        <p:blipFill>
          <a:blip r:embed="rId2"/>
          <a:stretch/>
        </p:blipFill>
        <p:spPr>
          <a:xfrm>
            <a:off x="642960" y="1182600"/>
            <a:ext cx="335772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4286160" y="9288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21 мая 1889 года. 2 августа 1942 года под станицей Кущёвская Кущевского района Краснодарского края, 5 сентября 1942 года в районе станицы Куринская Апшеронского района Краснодарского края и 16 октября 1942 года у села Маратуки, уничтожил большое число живой силы и техники противника. В частности, в тяжёлом бою под станицей Кущёвская было уничтожено свыше 200 солдат и офицеров противника. В бою под селом Маратуки эскадрон также уничтожил свыше 200 гитлеровцев, сам Недорубов лично уничтожил 70 солдат и офицеров противника. После освобождения района Николай Недорубов вернулся в строй. Звание Героя Советского Союза присвоено 26 октября 1943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9T07:06:35Z</dcterms:created>
  <dc:creator>555</dc:creator>
  <dc:description/>
  <dc:language>en-US</dc:language>
  <cp:lastModifiedBy>555</cp:lastModifiedBy>
  <dcterms:modified xsi:type="dcterms:W3CDTF">2018-01-02T10:51:02Z</dcterms:modified>
  <cp:revision>36</cp:revision>
  <dc:subject/>
  <dc:title>КРАЕВОЙ КОНКУРС «ЖИЗНЬ ВО СЛАВУ ОТЕЧЕСТВА» </dc:title>
</cp:coreProperties>
</file>