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DFD-3217-4905-95E0-AB62CAE1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77A-CA62-4E29-A212-13411A22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403-8F33-4DBD-8F46-95A3CBB3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82B-39D5-40B4-98FD-F24470EC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6754-F7C7-4C98-8909-DE1AC451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BF00-F90D-4AFB-A0A7-D77EDE93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6474-12ED-4186-8CA7-8CC18215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2112-F673-4690-80E0-41B7F5D6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F127-1A4A-4F75-81B8-6511EB9F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6D28-C4D4-42D9-9A98-226804E4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D199-2389-4234-AFA1-A6254E1E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A1D-085F-4ED5-8F7B-F8689760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CEBD-F78F-46DA-BDE6-C5EB10D6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A50D-B83B-4860-B4FE-4A7DEAE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8607-C98A-425C-AAA1-593BF378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8117-34BC-4FF8-9689-17AC488E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EACC-CA58-41E6-A16C-EAFCD0C4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6B9-7F17-4310-AFA8-9BDEB2E0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859-5E80-4FC3-AC6B-F4B177CD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6EB-950A-44DA-A7D2-9A86AA79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D6C-95CD-4CDD-8CA0-5F31F3EA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99E-CB80-4C1D-BC6C-4CFD44A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3EB-0060-479C-B68E-7750C9A2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534-B413-4E66-8A38-6CEF5D30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B413-192C-46A5-988C-014B99286B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D187-A9F9-47E5-A81A-2A47E84545D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2" descr="http://www.dou914.edusite.ru/images/5f8350820dd8.png"/>
          <p:cNvPicPr/>
          <p:nvPr/>
        </p:nvPicPr>
        <p:blipFill>
          <a:blip r:embed="rId1"/>
          <a:stretch/>
        </p:blipFill>
        <p:spPr>
          <a:xfrm>
            <a:off x="971640" y="333360"/>
            <a:ext cx="6696000" cy="30956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3428640"/>
            <a:ext cx="676404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Мой ребенок плохо говорит. Причины и способы их преодоления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374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Georgia"/>
              </a:rPr>
              <a:t>Рекомендации для родителе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1052640"/>
            <a:ext cx="75661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чаще рассказывайте, читайте первые детские сказки, стихи. Побуждайте досказывать слова по мере речево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зможност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изображайт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ихи» (пример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ишка косолапы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 лесу идет -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ебенок показывает мишку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11" descr="http://sch-23-vel-nov.ucoz.ru/animashki/kniga.gif"/>
          <p:cNvPicPr/>
          <p:nvPr/>
        </p:nvPicPr>
        <p:blipFill>
          <a:blip r:embed="rId2"/>
          <a:stretch/>
        </p:blipFill>
        <p:spPr>
          <a:xfrm>
            <a:off x="3924360" y="2637000"/>
            <a:ext cx="373860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2.bp.blogspot.com/-H_aspU6MH2c/TzYJBhaj4kI/AAAAAAAAGus/7v5B2kbeybQ/s1600/_.png"/>
          <p:cNvPicPr/>
          <p:nvPr/>
        </p:nvPicPr>
        <p:blipFill>
          <a:blip r:embed="rId1"/>
          <a:stretch/>
        </p:blipFill>
        <p:spPr>
          <a:xfrm>
            <a:off x="2916360" y="3446640"/>
            <a:ext cx="5111640" cy="3411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-360" y="333360"/>
            <a:ext cx="772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можно чаще рассматривайте сюжетные картинки, при этом взрослый задает постепенно усложняющиеся вопросы (делая паузы, поощряя ребенка к любому ответу) и сам на них отвечает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Покажи где мячик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Вот мячик!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У кого мячик?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У куклы, ля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lfaen"/>
              </a:rPr>
              <a:t>«Угадай-ка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Sylfaen"/>
              </a:rPr>
              <a:t>Учить узнавать игрушки по их описанию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Sylfaen"/>
              </a:rPr>
              <a:t>На столе машинка, собачка, петушок.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Например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 у него есть хвост, мягкая шерсть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маленькие ушки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у него есть крылья, клюв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две лапки, тело покрыто перьями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он красный, пластмассовы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ahoma"/>
              </a:rPr>
              <a:t>у него есть колеса.</a:t>
            </a:r>
            <a:br>
              <a:rPr sz="4400"/>
            </a:br>
            <a:r>
              <a:rPr b="0" lang="ru-RU" sz="4400" spc="-1" strike="noStrike">
                <a:solidFill>
                  <a:srgbClr val="0b5395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20" descr="http://s7v1.scene7.com/is/image/JohnLewis/230718448"/>
          <p:cNvPicPr/>
          <p:nvPr/>
        </p:nvPicPr>
        <p:blipFill>
          <a:blip r:embed="rId2"/>
          <a:stretch/>
        </p:blipFill>
        <p:spPr>
          <a:xfrm>
            <a:off x="5003640" y="508464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http://www.444emarket.com/pictures/20131019143544_73724365.jpg"/>
          <p:cNvPicPr/>
          <p:nvPr/>
        </p:nvPicPr>
        <p:blipFill>
          <a:blip r:embed="rId3"/>
          <a:stretch/>
        </p:blipFill>
        <p:spPr>
          <a:xfrm>
            <a:off x="3419640" y="5445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6" descr="http://madfanboy.com/sites/default/files/resize/remote/14b14ad3672d0fc508120c3f99df7317-396x468.jpg"/>
          <p:cNvPicPr/>
          <p:nvPr/>
        </p:nvPicPr>
        <p:blipFill>
          <a:blip r:embed="rId4"/>
          <a:stretch/>
        </p:blipFill>
        <p:spPr>
          <a:xfrm>
            <a:off x="6227640" y="4149720"/>
            <a:ext cx="1505160" cy="1778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«Угадай звук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  <a:ea typeface="Tahoma"/>
              </a:rPr>
              <a:t>Выбрать несколько предметных картинок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  <a:ea typeface="Tahoma"/>
              </a:rPr>
              <a:t>комар, жук, пар, змея, щет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ahoma"/>
              </a:rPr>
              <a:t>Объяснить ребенку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ahoma"/>
              </a:rPr>
              <a:t>комар звенит – зззз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ahoma"/>
              </a:rPr>
              <a:t>пар из чайника свистит – сссс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ahoma"/>
              </a:rPr>
              <a:t>жук жужжит – жжжж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ahoma"/>
              </a:rPr>
              <a:t>змея шипит – шшшш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ahoma"/>
              </a:rPr>
              <a:t>щетка чистит – щ…щ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ahoma"/>
              </a:rPr>
              <a:t>Потом прикрыть лицо листом бумаги 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ahoma"/>
              </a:rPr>
              <a:t>произносить звук, а ребенок долже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ahoma"/>
              </a:rPr>
              <a:t>отгадать, кто (что) е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ahoma"/>
              </a:rPr>
              <a:t>издает, показывает нужную картинк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7" descr="http://www.chitalnya.ru/upload2/310/107f48badad3d1cb5d0c7ddde044dc8e.jpg"/>
          <p:cNvPicPr/>
          <p:nvPr/>
        </p:nvPicPr>
        <p:blipFill>
          <a:blip r:embed="rId2"/>
          <a:stretch/>
        </p:blipFill>
        <p:spPr>
          <a:xfrm>
            <a:off x="5060880" y="1557360"/>
            <a:ext cx="23781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lfaen"/>
                <a:ea typeface="Tahoma"/>
              </a:rPr>
              <a:t>Развитие артикуляционной моторик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1557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lfaen"/>
              </a:rPr>
              <a:t>«Заборчик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28960" indent="-22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lfaen"/>
              </a:rPr>
              <a:t>Губы в улыбке. Зубы видны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28960" indent="-22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lfaen"/>
              </a:rPr>
              <a:t>и сомкнуты вместе             </a:t>
            </a:r>
            <a:r>
              <a:rPr b="1" lang="ru-RU" sz="3200" spc="-1" strike="noStrike">
                <a:solidFill>
                  <a:srgbClr val="000000"/>
                </a:solidFill>
                <a:latin typeface="Sylfaen"/>
              </a:rPr>
              <a:t>«Слоник»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28960" indent="-22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lfaen"/>
              </a:rPr>
              <a:t>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Sylfaen"/>
              </a:rPr>
              <a:t>(«Трубочка)                     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28960" indent="-22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lfaen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Sylfaen"/>
              </a:rPr>
              <a:t>Вытянуть губы впере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28960" indent="-22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Sylfaen"/>
              </a:rPr>
              <a:t>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28960" indent="-22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Sylfaen"/>
              </a:rPr>
              <a:t>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28960" indent="-22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Содержимое 3" descr="забор.JPG"/>
          <p:cNvPicPr/>
          <p:nvPr/>
        </p:nvPicPr>
        <p:blipFill>
          <a:blip r:embed="rId1"/>
          <a:stretch/>
        </p:blipFill>
        <p:spPr>
          <a:xfrm>
            <a:off x="250920" y="3645000"/>
            <a:ext cx="2952720" cy="1708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__38644"/>
          <p:cNvPicPr/>
          <p:nvPr/>
        </p:nvPicPr>
        <p:blipFill>
          <a:blip r:embed="rId2"/>
          <a:stretch/>
        </p:blipFill>
        <p:spPr>
          <a:xfrm>
            <a:off x="4140360" y="4508640"/>
            <a:ext cx="3168360" cy="2031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«Месим тесто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Picture 7" descr="__20549"/>
          <p:cNvPicPr/>
          <p:nvPr/>
        </p:nvPicPr>
        <p:blipFill>
          <a:blip r:embed="rId1"/>
          <a:stretch/>
        </p:blipFill>
        <p:spPr>
          <a:xfrm>
            <a:off x="2268360" y="2781360"/>
            <a:ext cx="5276880" cy="3713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4"/>
          <p:cNvSpPr/>
          <p:nvPr/>
        </p:nvSpPr>
        <p:spPr>
          <a:xfrm>
            <a:off x="4716360" y="148428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Улыбнуться, положить язык на губ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755640" y="170028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кусать язык зубками: «та-та-та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250920" y="4437000"/>
            <a:ext cx="252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шлепать по нему губам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я-пя-пя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«Блинчик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Picture 7" descr="__64059"/>
          <p:cNvPicPr/>
          <p:nvPr/>
        </p:nvPicPr>
        <p:blipFill>
          <a:blip r:embed="rId1"/>
          <a:stretch/>
        </p:blipFill>
        <p:spPr>
          <a:xfrm>
            <a:off x="1258920" y="2852640"/>
            <a:ext cx="6265800" cy="3640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324000" y="11970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ирокий язык положить на нижнюю губ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ерживать 5-7 секунд («печем блин»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ить 3-4 раз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«Качел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5" name="Picture 7" descr="__10048"/>
          <p:cNvPicPr/>
          <p:nvPr/>
        </p:nvPicPr>
        <p:blipFill>
          <a:blip r:embed="rId1"/>
          <a:stretch/>
        </p:blipFill>
        <p:spPr>
          <a:xfrm>
            <a:off x="2268360" y="2708280"/>
            <a:ext cx="5419800" cy="3505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539640" y="1268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ыбнуться, открыть рот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Тянуть широкий кончик языка то к носу, то 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ородк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395280" y="2997360"/>
            <a:ext cx="194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Ставить кончи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а то за верхние, то за нижние зуб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7386840" cy="60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Пойте ребенку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ред сном. Лучше не менять часто репертуа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водите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массаж пальчиков рук и ладошек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 игры типа «сорока-белобока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Важно не отпугнуть ребенка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стойчивым «Скажи», «Повтори». Лучше применять различные игрушки , «Делай как я», «Как киса говорит?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сякое проявление речи необходимо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поощрять, не обращая внимание на качество звукопроизношения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вивайте у малыша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ротовое внима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 приучая его смотреть на лицо говоряще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А у соседки ребёнок говорит лучше…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341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 сравнивайте своего ребёнка с другими. У каждого малыша свой темп развития и свой набор наруше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 забывайте хвалить за старания, даже  за небольшой (по вашему мнению) успе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ебёнок должен быть уверен, что вы его любите любым и поможете справиться с любой проблемой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2262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чь ребенка — один из важнейших инструментов познания мира, она тесно связана с мышлением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Овладев речью, ребенок воспринимает окружающее не только через органы чувств, но и с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мощью словесных объяснений, учится сравнивать, обобщать, делать выводы и рассуждат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Тогда взрослому становится возможным управлять поведением ребенка, обучать ег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Своевременно развивающая речь способствует гармоничному развитию личности ребенка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аньше, не значит лучше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1267920"/>
            <a:ext cx="7650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ебёнку, имеющему дефекты звукопроизношения, не стоит начинать заниматься  иностранными языками, пока эти нарушения не будут исправлены окончательно (доведены до автоматизма). Правильное произношение в чужом языке, может быть дефектом в родн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Зачем заниматься с логопедом?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одители не всегда замечают неправильное звукопроизношение ребён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 правильной и красивой речи в современном мире трудно достичь успеха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ечевые нарушения не проходят сами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исправленное звукопроизношение в дошкольном возрасте может привести к проблемам с русским языком в школе (дисграфия), т.е. ребёнок будет писать так, как говори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2.bp.blogspot.com/-xhP-2FJlXps/VWMz620oYQI/AAAAAAAADqw/kayl6GWMlNU/s1600/1.gif"/>
          <p:cNvPicPr/>
          <p:nvPr/>
        </p:nvPicPr>
        <p:blipFill>
          <a:blip r:embed="rId1"/>
          <a:stretch/>
        </p:blipFill>
        <p:spPr>
          <a:xfrm>
            <a:off x="4356000" y="3357720"/>
            <a:ext cx="2533680" cy="260964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6" descr=""/>
          <p:cNvPicPr/>
          <p:nvPr/>
        </p:nvPicPr>
        <p:blipFill>
          <a:blip r:embed="rId2"/>
          <a:stretch/>
        </p:blipFill>
        <p:spPr>
          <a:xfrm>
            <a:off x="42840" y="1352520"/>
            <a:ext cx="7851960" cy="2792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63520" y="476280"/>
            <a:ext cx="7386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mbria"/>
              </a:rPr>
              <a:t>Этапы развития речи дошкольни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39640" y="1125360"/>
          <a:ext cx="6840720" cy="5034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1944720"/>
                <a:gridCol w="1224000"/>
                <a:gridCol w="1800360"/>
              </a:tblGrid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6059"/>
                          </a:solidFill>
                          <a:latin typeface="Calibri"/>
                          <a:ea typeface="Calibri"/>
                        </a:rPr>
                        <a:t>Возраст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6059"/>
                          </a:solidFill>
                          <a:latin typeface="Calibri"/>
                          <a:ea typeface="Calibri"/>
                        </a:rPr>
                        <a:t>Словарный запас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6059"/>
                          </a:solidFill>
                          <a:latin typeface="Calibri"/>
                          <a:ea typeface="Calibri"/>
                        </a:rPr>
                        <a:t>Грамматический строй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6059"/>
                          </a:solidFill>
                          <a:latin typeface="Calibri"/>
                          <a:ea typeface="Calibri"/>
                        </a:rPr>
                        <a:t>Связная реч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6059"/>
                          </a:solidFill>
                          <a:latin typeface="Calibri"/>
                          <a:ea typeface="Calibri"/>
                        </a:rPr>
                        <a:t>Звукопроизноше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100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2 года 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200 – 300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пользуется прилагательными, местоимениями, предлогам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появляются предложения из трех слов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15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2. 5 – 3 года 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800 – 1000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изменяют существительные по падежам, числам, глагол – по родам и временам, числам и лицам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развернутые предложения, используют все части реч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могут быть трудности с свистящими, шипящими, сонорными звукам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4 года 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до 2000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группируют предметы по классам: одежда, посуда, животные и т.д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100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4 – 5 лет 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до 2500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короткие рассказы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Calibri"/>
                          <a:ea typeface="Calibri"/>
                        </a:rPr>
                        <a:t>почти все недостатки произношения исчезают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</a:tbl>
          </a:graphicData>
        </a:graphic>
      </p:graphicFrame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Cambria"/>
              </a:rPr>
              <a:t>Признаки задержки речевого развит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95280" y="1052640"/>
          <a:ext cx="7056360" cy="5184720"/>
        </p:xfrm>
        <a:graphic>
          <a:graphicData uri="http://schemas.openxmlformats.org/drawingml/2006/table">
            <a:tbl>
              <a:tblPr/>
              <a:tblGrid>
                <a:gridCol w="1512720"/>
                <a:gridCol w="554364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13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8 месяце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 понимает простых слов, своего имени, названий окружающих предметов, не выполняет простые просьбы типа «сядь», «иди ко мне»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 год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использует всего несколько простых слов, не пытается повторять слова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16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5 год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 называет окружающие предметы, части тела, не может по просьбе принести что-то находящееся вне поля зрения, не может составить фразу из двух слов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 год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 говорит простых предложений, не понимает рассказов о событиях в прошлом или будущем времен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</a:tbl>
          </a:graphicData>
        </a:graphic>
      </p:graphicFrame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Причины отставания речи у ребенка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Calibri"/>
              </a:rPr>
              <a:t>Болезни ушей и носоглотки, а также другие, тяжело протекающие заболевания, приводящие к физическому истощени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Calibri"/>
              </a:rPr>
              <a:t>Органические поражения мозга и центральной нервной системы, часто сопровождающиеся интеллектуальным недоразвитие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Calibri"/>
              </a:rPr>
              <a:t>Педагогическая запущенность, когда ребенок растет без необходимого ему внимания и среды для развит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патологии речи приводят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личны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благоприятные воздействия на плод во время беременност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енетические дефекты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иологическая репродуктивная незрелость матери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ействие вирусов, радиации, электромагнитных полей, интоксикации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ём лекарственных препаратов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оксикоз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ебенок часто слышит неправильную речь окружающих и подражает 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достаточно развит фонематический слух, когда малыш воспринимает свое неправильное произношение как правильное. Здесь помогут специальные упражн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собенности строения артикуляционного аппарата, в частности короткая подъязычная уздечка. Возможны два варианта решения проблемы: растягивание уздечки или ее подрезани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63160" y="404280"/>
            <a:ext cx="71881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Слабые мышцы языка и губ, расстройство координации движений этих органов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Попросите ребенка выполнить следующие движения: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надувать щеки,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вытягивать губы трубочкой,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высовывать широкий и узкий язычок,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облизывать губы им и т. д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Если выполнение этих действий затруднено, необходимо развивать артикуляционную моторику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77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"/>
              </a:rPr>
              <a:t>«Как я могу помочь своему ребёнку?»</a:t>
            </a: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4000" y="1052280"/>
            <a:ext cx="73864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Если ребёнок не начал говорить в 2 года, необходимо </a:t>
            </a:r>
            <a:r>
              <a:rPr b="0" lang="ru-RU" sz="3000" spc="-1" strike="noStrike" u="sng">
                <a:solidFill>
                  <a:srgbClr val="2f1311"/>
                </a:solidFill>
                <a:uFillTx/>
                <a:latin typeface="Arial"/>
              </a:rPr>
              <a:t>срочно</a:t>
            </a: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 обратиться к специалистам: неврологу, логопеду, детскому психологу.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Чем раньше родители начнут «бить тревогу», тем скорее специалисты смогут выявить причину и начать оказывать квалифицированную помощь.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Невролог может направить ребёнка на различные исследования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9:59:53Z</dcterms:created>
  <dc:creator>Елена</dc:creator>
  <dc:description/>
  <dc:language>en-US</dc:language>
  <cp:lastModifiedBy>Windows User</cp:lastModifiedBy>
  <dcterms:modified xsi:type="dcterms:W3CDTF">2018-01-02T06:23:20Z</dcterms:modified>
  <cp:revision>40</cp:revision>
  <dc:subject/>
  <dc:title>Рекомендации для родителей неговорящих и плохоговорящих детей.</dc:title>
</cp:coreProperties>
</file>