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34A2-6DFB-4A87-90D9-15D4CC3329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owerpointtemplatefree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0D95-BA91-45FD-BF43-5B0EBB9A3B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owerpointtemplatefree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2BE8-648E-4D23-A21A-1FDC14CF17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69A-C4DB-44D9-A26A-B18D52F9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46C-BCF7-4A54-8E97-C509D431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922-6D59-41D4-B9A4-EEC00083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86D-C6A6-480A-956E-2997D5DF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3946-9E2E-42A5-90C0-8BA84981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33A3-8067-4BE6-B5DB-010F5B7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2F8C-796D-4BE9-8C57-AD6844F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1711-0671-4E48-97FD-85DDF502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104B-3F5D-4037-8432-32B06BB6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4064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5ABB-8830-442C-AF75-F88B736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68A0-E010-4239-B385-1A3E46D4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2C7-2C06-43E6-B8F5-068DA463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F1DA-7A13-438F-AD8F-87501673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C5E0-5BB0-479E-8BFA-E6D81E31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08FE-0D90-4444-BF7E-2930DA11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DE7F-123D-4A6D-895B-75BDB696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C382-FE50-4029-ADF0-7D14CF87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35B-857C-4328-9BC7-04286D00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4064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E87-6F2E-4F83-860C-5AC477C7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C93-88F9-4CFF-80B5-A74040F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064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375-A60D-4887-ACB6-ED4F54A7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A93-1E5A-4626-9F4C-E0B69F65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12F-0D25-4E65-8A50-0DAB5FEC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CA5-77CD-4FAE-BDE3-48B21275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nordridesign.cn/index.php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810400"/>
            <a:ext cx="2133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10400"/>
            <a:ext cx="28958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810400"/>
            <a:ext cx="2133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4817-5D79-4027-AF7B-4734468AF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55120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55120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55120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6246-5AB3-490F-AE8A-60974D19B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13120" y="220356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029120" y="220356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5920" y="220356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543560" y="220356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57760" y="220356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037120" y="220356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264280" y="220356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478480" y="220356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078080" y="263196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logo"/>
          <p:cNvPicPr/>
          <p:nvPr/>
        </p:nvPicPr>
        <p:blipFill>
          <a:blip r:embed="rId3"/>
          <a:stretch/>
        </p:blipFill>
        <p:spPr>
          <a:xfrm>
            <a:off x="3116160" y="2192400"/>
            <a:ext cx="782640" cy="65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2"/>
          <p:cNvPicPr/>
          <p:nvPr/>
        </p:nvPicPr>
        <p:blipFill>
          <a:blip r:embed="rId4"/>
          <a:stretch/>
        </p:blipFill>
        <p:spPr>
          <a:xfrm>
            <a:off x="2563920" y="2035080"/>
            <a:ext cx="3828960" cy="1177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>
            <a:hlinkClick r:id="rId5"/>
          </p:cNvPr>
          <p:cNvSpPr/>
          <p:nvPr/>
        </p:nvSpPr>
        <p:spPr>
          <a:xfrm>
            <a:off x="2484360" y="1779480"/>
            <a:ext cx="39877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7600" y="4266720"/>
            <a:ext cx="4952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учитель-логопед Калюжк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71600" y="1867680"/>
            <a:ext cx="7238880" cy="22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Возрастные нормы и нарушения речевого развития детей дошкольного возрас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Как распознать, что у ребенка нарушено речевое развитие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67652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речь  ребенка на каком-либо этапе не  соответствует возрастным  нормам –  это серьезный повод для  беспоко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улярные консультации логопеда (не реже 2 раз в год) – залог раннего выявления речевого   нару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Что делать, если у ребенка выявлено нарушение развития речи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явлении речевого нарушения необходимо    незамедлительно обратиться за консультацией к учителю-логопеду, который определит структуру  дефекта, при необходимости порекомендует консультацию узких специалистов и изменение образовательного маршру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437920"/>
            <a:ext cx="754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</a:rPr>
              <a:t>Ясность - главное достоинство речи.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5943600" y="3505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80808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чь ребен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один из важнейших инструментов познания мира, она тесно связана с мышлени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Овладев речью, ребенок воспринимает окружающее не только через органы чувств, но и с 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мощью словесных объяснений, учится сравнивать, обобщать, делать выводы и рассужда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Тогда взрослому становится возможным управлять поведением ребенка,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учать ег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очему важно иметь нормальное речевое развити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43240" y="1294920"/>
            <a:ext cx="304812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ЦИП СНЕЖНОГО К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9"/>
          <p:cNvSpPr/>
          <p:nvPr/>
        </p:nvSpPr>
        <p:spPr>
          <a:xfrm>
            <a:off x="1219320" y="2286000"/>
            <a:ext cx="2017440" cy="18730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1676520" y="1676520"/>
            <a:ext cx="5324400" cy="1945800"/>
            <a:chOff x="1676520" y="1676520"/>
            <a:chExt cx="5324400" cy="1945800"/>
          </a:xfrm>
        </p:grpSpPr>
        <p:sp>
          <p:nvSpPr>
            <p:cNvPr id="146" name="Oval 35"/>
            <p:cNvSpPr/>
            <p:nvPr/>
          </p:nvSpPr>
          <p:spPr>
            <a:xfrm>
              <a:off x="1676520" y="2685960"/>
              <a:ext cx="1008000" cy="936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 flipV="1">
              <a:off x="2397240" y="1893960"/>
              <a:ext cx="1366560" cy="115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7"/>
            <p:cNvSpPr/>
            <p:nvPr/>
          </p:nvSpPr>
          <p:spPr>
            <a:xfrm>
              <a:off x="3581280" y="1676520"/>
              <a:ext cx="3419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Некомпенсированное </a:t>
              </a:r>
              <a:br>
                <a:rPr sz="1600"/>
              </a:b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     нарушение реч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Line 40"/>
          <p:cNvSpPr/>
          <p:nvPr/>
        </p:nvSpPr>
        <p:spPr>
          <a:xfrm flipV="1">
            <a:off x="2666880" y="2895120"/>
            <a:ext cx="129564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4038480" y="236232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ет вызвать вторичное нарушение – нарушение интеллекту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914400" y="4343400"/>
            <a:ext cx="74674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Вывод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: ребенку важно иметь нормальное речевое развитие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ы не допустить вторичного нарушения памяти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нимания, мышления, 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ечь ребенка в 2-3 года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(1я младшая групп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295280"/>
          <a:ext cx="8686800" cy="4651560"/>
        </p:xfrm>
        <a:graphic>
          <a:graphicData uri="http://schemas.openxmlformats.org/drawingml/2006/table">
            <a:tbl>
              <a:tblPr/>
              <a:tblGrid>
                <a:gridCol w="5486400"/>
                <a:gridCol w="3200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Признаки задерж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произносит до 200-300 с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говорит о себе, используя личное местоимение «я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правильно воспроизводит гласные и все простые согласные звуки ([б], [п], [м], [т], [н], [к], [г], [в], [ф]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строит простые распространенные или даже сложносочиненные предложения («Папа купил мне новую грузовую машину», «Мы не ходили утром гулять: на улице шел дождик»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легко запоминает и рассказывает небольшие стишк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понимает речь взрослых и отвечает на вопро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использует всего несколько простых слов, не пытается повторять сло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не называет окружающие предметы, части тела, не может по просьбе принести что-то находящееся вне поля зр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не может составить фразу из двух с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ечь ребенка в 3-4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(2я младшая групп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1371600"/>
          <a:ext cx="8686800" cy="4419720"/>
        </p:xfrm>
        <a:graphic>
          <a:graphicData uri="http://schemas.openxmlformats.org/drawingml/2006/table">
            <a:tbl>
              <a:tblPr/>
              <a:tblGrid>
                <a:gridCol w="5486400"/>
                <a:gridCol w="3200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Признаки задерж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правильно произносит свистящие звуки [с], [с'], [з], [з']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активно использует в речи сложноподчиненные предложения («Я не пойду гулять, потому что на улице дождь»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словарный запас 1500-1900 слов, состоящий в основном из существительных и глаголов, появляются прилагательные и наречия, слова, обозначающие временные и пространственные понят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слушает длинные сказки и рассказ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с удовольствием рассказывает о том, что видел на прогулке, по телевизору, что ему прочитал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не говорит простых предложе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не понимает рассказов о событиях в прошлом или будущем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Речь ребенка в 4-5 го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(средняя группа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1447920"/>
          <a:ext cx="8229600" cy="4470120"/>
        </p:xfrm>
        <a:graphic>
          <a:graphicData uri="http://schemas.openxmlformats.org/drawingml/2006/table">
            <a:tbl>
              <a:tblPr/>
              <a:tblGrid>
                <a:gridCol w="4876920"/>
                <a:gridCol w="3352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Признаки задерж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к пяти годам исчезают почти все возрастные неправильности произношения, искажёнными могут оставаться звуки [л] и [р]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активный словарь ребенка достигает 1900-2000 слов. Ребенок называет животных и их детенышей, профессии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речь становится более связной и последовательной. Дети учатся отвечать на вопросы, пересказывать хорошо известные сказки, рассказы (с помощью взросл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нарушено произношение звуко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[с], [з], [ш], [ж], [л], [р]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плохо ориентируется в лексических категориях (овощи, фрукты, животные и т.д.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связная речь отрывиста, затрудняется пересказать даже короткий расска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Речь ребенка в 5-6 го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(старшая группа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422360"/>
          <a:ext cx="8686800" cy="4203720"/>
        </p:xfrm>
        <a:graphic>
          <a:graphicData uri="http://schemas.openxmlformats.org/drawingml/2006/table">
            <a:tbl>
              <a:tblPr/>
              <a:tblGrid>
                <a:gridCol w="5790960"/>
                <a:gridCol w="2895840"/>
              </a:tblGrid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Н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Признаки задер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в норме ребенок к шести годам овладевает всеми звуками родного языка и правильно употребляет их в реч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пособен  замечать особенности произношения у других детей и некоторые недостатки в собственной реч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ребенок может дать несколько характеристик одного предмета (кошка полосатая, мягкая, пушистая, мурчащая). В активном словаре появляются обобщающие слова, дети правильно называют широкий круг предметов и явле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дети пересказывают рассказы, сказки, делятся собственными впечатлен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нарушено произношение разных групп звуко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([с], [з], [ш], [ж], [л], [р]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отвечает на вопросы простыми предложениям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затрудняется описать предмет, пересказать рассказ, сказ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ечь ребенка в 6-7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(подготовительная групп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1143000"/>
          <a:ext cx="8763120" cy="481644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黑体"/>
                        </a:rPr>
                        <a:t>В условиях правильного речевого восприятия и при отсутствии органических недостатк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ребенок к шести годам овладевает всеми звуками родного языка и правильно употребляет их в реч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правильно различает звуки на слух, придумывает слова на заданный звук, или с данным звуком, выделяет звуки из слов, из ряда слогов и звук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дети активно пользуются антонимами, синонимами; классифицируют предметы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правильно согласовывают в части речи (Например: У Маши и Саши нет двух спелых яблок. Дети съели их в обед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образовывают слова с помощью приставок и суффиксов (быстрый – быстро; длинный – длиннее – самый длинный; обошел, зашел, пришел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самостоятельно могут составлять описательные рассказы, развернутые и логичные по содержанию, пересказывать сказк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логично излагают свои мысли, используя сложные предложения с союзом«А».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очему важно иметь нормальное речевое развитие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8284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енку важно иметь нормальное речевое развитие,  чтобы не допустить в дальнейшем нарушений письменной речи и интеллекта в ц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а</dc:creator>
  <dc:description/>
  <dc:language>en-US</dc:language>
  <cp:lastModifiedBy>Windows User</cp:lastModifiedBy>
  <dcterms:modified xsi:type="dcterms:W3CDTF">2017-02-05T11:56:06Z</dcterms:modified>
  <cp:revision>21</cp:revision>
  <dc:subject/>
  <dc:title>весна шабл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