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6920" y="259920"/>
            <a:ext cx="838836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Пар беләзек - көмеш хатирә</a:t>
            </a:r>
            <a:br>
              <a:rPr sz="5900"/>
            </a:br>
            <a:endParaRPr b="0" lang="en-US" sz="4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561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 Мингазиева Гөлнар</a:t>
            </a:r>
            <a:endParaRPr b="0" lang="en-US" sz="33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Җитәкче: Мингазиева Ә.З.</a:t>
            </a:r>
            <a:endParaRPr b="0" lang="en-US" sz="33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78" name="Picture 2" descr="C:\Users\Амина\Desktop\проект реликвия\IMG-20170825-WA0036.jpg"/>
          <p:cNvPicPr/>
          <p:nvPr/>
        </p:nvPicPr>
        <p:blipFill>
          <a:blip r:embed="rId1"/>
          <a:stretch/>
        </p:blipFill>
        <p:spPr>
          <a:xfrm>
            <a:off x="1908000" y="1557360"/>
            <a:ext cx="5220000" cy="329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әмис абый белән беләзекләрне өйрәнәбез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00" name="Picture 2" descr="C:\Users\Амина\Desktop\проект реликвия\IMG-20171006-WA0046.jpg"/>
          <p:cNvPicPr/>
          <p:nvPr/>
        </p:nvPicPr>
        <p:blipFill>
          <a:blip r:embed="rId1"/>
          <a:stretch/>
        </p:blipFill>
        <p:spPr>
          <a:xfrm>
            <a:off x="1655640" y="1233360"/>
            <a:ext cx="6743880" cy="50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11556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свирлама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02" name="Picture 2" descr="C:\Users\Амина\Desktop\проект реликвия\3.10.jpeg"/>
          <p:cNvPicPr/>
          <p:nvPr/>
        </p:nvPicPr>
        <p:blipFill>
          <a:blip r:embed="rId1"/>
          <a:stretch/>
        </p:blipFill>
        <p:spPr>
          <a:xfrm>
            <a:off x="2592360" y="804960"/>
            <a:ext cx="4680000" cy="577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Әнием ягыннан нәсел шәҗәрәсе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04" name="Picture 2" descr="C:\Users\Амина\Desktop\проект реликвия\20171004_220047[1].jpg"/>
          <p:cNvPicPr/>
          <p:nvPr/>
        </p:nvPicPr>
        <p:blipFill>
          <a:blip r:embed="rId1"/>
          <a:stretch/>
        </p:blipFill>
        <p:spPr>
          <a:xfrm>
            <a:off x="1440000" y="1484280"/>
            <a:ext cx="69357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288936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6600"/>
                </a:solidFill>
                <a:latin typeface="Antikvar"/>
                <a:ea typeface="Arial Unicode MS"/>
              </a:rPr>
              <a:t>Дәвамы бар...</a:t>
            </a:r>
            <a:endParaRPr b="0" lang="en-US" sz="66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8920" y="152280"/>
            <a:ext cx="817380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сат: Гаиләм тарихындагы хатын – кызларның тормышында беләзекләрнең әһәмиятен ачыклау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4920" y="1593360"/>
            <a:ext cx="75596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Book Antiqua"/>
              </a:rPr>
              <a:t>Бурычлар: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Book Antiqua"/>
              </a:rPr>
              <a:t>Эзләнү темам буенча  әдәбият, тарихи чыганакларны өйрәнү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Book Antiqua"/>
              </a:rPr>
              <a:t>Хатын – кыз тармагы буенча беләзекнең буыннан – буынга тапшырылу тарихын ачыклау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Book Antiqua"/>
              </a:rPr>
              <a:t>Беләзеккә тарихи аңлатма булдыру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Book Antiqua"/>
              </a:rPr>
              <a:t>Гаиләбезнең мөмкин булганча тарихи шәҗәрәсен торгызу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23640" y="36828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әйтүнә апаның кулъязма дәфтәреннән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187280" y="2060640"/>
            <a:ext cx="75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"/>
          <p:cNvSpPr/>
          <p:nvPr/>
        </p:nvSpPr>
        <p:spPr>
          <a:xfrm>
            <a:off x="1368360" y="2816280"/>
            <a:ext cx="75596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35892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Амина\Desktop\проект реликвия\IMG-20171001-WA0005.jpg"/>
          <p:cNvPicPr/>
          <p:nvPr/>
        </p:nvPicPr>
        <p:blipFill>
          <a:blip r:embed="rId1"/>
          <a:stretch/>
        </p:blipFill>
        <p:spPr>
          <a:xfrm>
            <a:off x="2519280" y="1268280"/>
            <a:ext cx="4465800" cy="536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Әлфинур апа белән Фарук абый гаиләсендә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87" name="Picture 2" descr="C:\Users\Амина\Desktop\проект реликвия\IMG-20171001-WA0002.jpg"/>
          <p:cNvPicPr/>
          <p:nvPr/>
        </p:nvPicPr>
        <p:blipFill>
          <a:blip r:embed="rId1"/>
          <a:stretch/>
        </p:blipFill>
        <p:spPr>
          <a:xfrm>
            <a:off x="1763640" y="1268280"/>
            <a:ext cx="6559560" cy="532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өлфия апада кунакта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89" name="Picture 2" descr="C:\Users\Амина\Desktop\проект реликвия\IMG-20171001-WA0004.jpg"/>
          <p:cNvPicPr/>
          <p:nvPr/>
        </p:nvPicPr>
        <p:blipFill>
          <a:blip r:embed="rId1"/>
          <a:stretch/>
        </p:blipFill>
        <p:spPr>
          <a:xfrm>
            <a:off x="1547640" y="112536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0 яшьлек Кафия әби безгә беләзекләр тарихын бәян итә..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1" name="Picture 2" descr="C:\Users\Амина\Desktop\проект реликвия\IMG-20171001-WA0007.jpg"/>
          <p:cNvPicPr/>
          <p:nvPr/>
        </p:nvPicPr>
        <p:blipFill>
          <a:blip r:embed="rId1"/>
          <a:stretch/>
        </p:blipFill>
        <p:spPr>
          <a:xfrm>
            <a:off x="1584360" y="1341360"/>
            <a:ext cx="6719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ния апа белән тарихи альбом караганда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3" name="Picture 3" descr="C:\Users\Амина\Desktop\проект реликвия\IMG-20171004-WA0027.jpg"/>
          <p:cNvPicPr/>
          <p:nvPr/>
        </p:nvPicPr>
        <p:blipFill>
          <a:blip r:embed="rId1"/>
          <a:stretch/>
        </p:blipFill>
        <p:spPr>
          <a:xfrm>
            <a:off x="2232000" y="1004760"/>
            <a:ext cx="457200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арихи альбом үзе..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5" name="Picture 2" descr="C:\Users\Амина\Desktop\проект реликвия\20171003_185214.jpg"/>
          <p:cNvPicPr/>
          <p:nvPr/>
        </p:nvPicPr>
        <p:blipFill>
          <a:blip r:embed="rId1"/>
          <a:stretch/>
        </p:blipFill>
        <p:spPr>
          <a:xfrm>
            <a:off x="339840" y="1160640"/>
            <a:ext cx="5744880" cy="332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Амина\Desktop\проект реликвия\20171003_185234.jpg"/>
          <p:cNvPicPr/>
          <p:nvPr/>
        </p:nvPicPr>
        <p:blipFill>
          <a:blip r:embed="rId2"/>
          <a:stretch/>
        </p:blipFill>
        <p:spPr>
          <a:xfrm>
            <a:off x="3102120" y="3521160"/>
            <a:ext cx="5646600" cy="304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рих мең дә сигез йөздә..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8" name="Picture 2" descr="C:\Users\Амина\Desktop\проект реликвия\IMG-20171004-WA0031.jpg"/>
          <p:cNvPicPr/>
          <p:nvPr/>
        </p:nvPicPr>
        <p:blipFill>
          <a:blip r:embed="rId1"/>
          <a:stretch/>
        </p:blipFill>
        <p:spPr>
          <a:xfrm>
            <a:off x="1476360" y="1160640"/>
            <a:ext cx="734364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Амина</cp:lastModifiedBy>
  <dcterms:modified xsi:type="dcterms:W3CDTF">2017-10-30T19:29:19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lpwstr>школа №24</vt:lpwstr>
  </property>
</Properties>
</file>