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45D0-E0DF-427F-AAB0-A2F2E83A054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63E3-3A78-45A8-9E8F-F68C0BE2ED2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35A-322C-4815-9CC5-03E9871B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C38-A90B-479A-B9CF-A41C9B0A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BEA-CCE9-47DA-AF1A-FD1C873E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F84-FB8A-4078-8A99-00B20B52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EE1C-63E7-452B-A3BF-5EEF1016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97CB-5AA2-4448-8971-F1EB0610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8A95-F8D5-409C-B1AA-703985C6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E590-D3E1-4B44-8FDA-33D81E80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BF1A-2F97-4B77-91DA-912DFE88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4F8-9E5C-44F1-8711-5C14D039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B1F1-2065-4AE0-AEC6-38A329BA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B03-208B-4796-A1CC-4F48651D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0F2E-92D3-4464-8603-214EDCA9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0ADB-5CEB-4713-B55D-CE103AE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8462-67C8-49C0-A2C9-0B60084D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7865-124C-4E41-8808-53B87D92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74B5-A235-4BE4-A70B-90A7C858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468E-0A04-41F7-98F9-59D406FB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D004-C2B8-4156-AD37-85DAFEF2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30B2-2224-4F46-842D-8555E915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D5DC-1606-4470-996C-6DBC93B5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241E-6733-4BD7-9266-21F07AC0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BFA-48C3-4DE5-9A9D-8F2AB8F1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D944-1807-4684-BD9A-15884A16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B62D-C7E7-473E-BD15-BAAA1A8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9977-DF42-44AC-8E1D-7FAD4125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4033-1FB5-49A3-98FC-BF3FE59C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7380-411F-4AE0-A3E4-0C5BA4CA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BCFA-284F-4085-BD74-B9A03134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7A54-FBF0-4055-BD16-77E1BDB8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756A-E6B8-4AA2-BBA3-47C58D35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494C4-F799-4595-BDAD-1268B7B1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D165-CBBC-4A29-9118-ED90FEAB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962-1293-4523-969B-98F587A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92FA-12FB-4EBE-8348-0FFE2A16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157E-8F77-4ABA-BACC-05DDBE4E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E466-049B-45B5-B2B0-1C420DF3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AB0A-D850-4C99-A0E7-2FF13AA2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6614-1CC4-40B8-82E0-B26F515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0366-2970-4713-86B4-17066D4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2397-F54B-4C1D-8714-5E26A07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B2C4-E4D0-4A48-94B9-7919F46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3D7D3-6DD6-4738-84EF-09B580AD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290-3A66-4C45-9A22-50B9CDD6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25A-7DDA-414F-AF93-5B7C211B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BFA-03F5-458F-B3DD-080DAE95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E87-7A14-4860-A5BD-031D5C5F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5BD-2324-456F-A4D1-0BA766A8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57B8-396E-42C7-8128-42C7D0985E22}" type="slidenum">
              <a:rPr b="0" lang="ru-RU" sz="1200" spc="-1" strike="noStrike">
                <a:solidFill>
                  <a:srgbClr val="b5a788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3" name="Кольцо 8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Кольцо 8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6" name="Прямоугольник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8" name="Овал 11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9" name="Овал 11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1" name="Овал 1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53AA-F6B0-4002-9EF8-CDFACE04F804}" type="slidenum">
              <a:rPr b="0" lang="ru-RU" sz="1200" spc="-1" strike="noStrike">
                <a:solidFill>
                  <a:srgbClr val="b5a788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5" name="Овал 8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6" name="Овал 8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8" name="Овал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7009-6F8C-40E5-89E0-65BF2256FB25}" type="slidenum">
              <a:rPr b="0" lang="ru-RU" sz="1200" spc="-1" strike="noStrike">
                <a:solidFill>
                  <a:srgbClr val="b5a788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Прямоугольник 6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41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3" name="Блок-схема: процесс 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Блок-схема: процесс 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C6C1-D966-42C7-87BC-C99CF6E05BA7}" type="slidenum">
              <a:rPr b="0" lang="ru-RU" sz="1200" spc="-1" strike="noStrike">
                <a:solidFill>
                  <a:srgbClr val="b5a788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332000" y="1036800"/>
            <a:ext cx="6840360" cy="5128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524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О человеке, которому доверяете свои тайны, с которым делите радости и печали, скажете…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187280" y="3068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9" name="Picture 6" descr="XYRGZmbv-0w"/>
          <p:cNvPicPr/>
          <p:nvPr/>
        </p:nvPicPr>
        <p:blipFill>
          <a:blip r:embed="rId2"/>
          <a:stretch/>
        </p:blipFill>
        <p:spPr>
          <a:xfrm>
            <a:off x="1332000" y="3789360"/>
            <a:ext cx="3259080" cy="23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21" name="Picture 4" descr="wwall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Muzyka_dlya_relaksa_-_SAKSOFON_(iPlayer.fm).mp3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f271c"/>
                </a:solidFill>
                <a:latin typeface="Broadway"/>
              </a:rPr>
              <a:t>Притча о двух друзьях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26" name="Picture 5" descr="wallhaven-255597-1920x12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0" y="2349360"/>
            <a:ext cx="302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aramond"/>
              </a:rPr>
              <a:t>Сегодня мой самый лучший друг дал мне пощечину…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30" name="Picture 4" descr="oasis-palm-desert-randall-weidn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4995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Сегодня мой самый лучший друг спас мне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059280" y="2781360"/>
            <a:ext cx="302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Сегодня мой самый лучший друг спас мне жизн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4" name="Picture 11" descr="volny-skala-more-obryv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2"/>
          <p:cNvSpPr/>
          <p:nvPr/>
        </p:nvSpPr>
        <p:spPr>
          <a:xfrm rot="490200">
            <a:off x="5094360" y="2637000"/>
            <a:ext cx="40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Сегодня мой самый лучший друг спас мне жизнь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24248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Научитесь писать обиды на песке и гравировать радости на кам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0" name="Picture 4" descr="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4547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Цветок мудрых мыслей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Хорошие люди получают в награду хороших друз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стоящий друг с тобой, когда ты не пра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гда ты прав, каждый будет с тоб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рк Т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                         Кто всякому дру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го я другом не счи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ан Батист Мол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5330880" cy="5330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82692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43099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499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rbel"/>
              </a:rPr>
              <a:t>Цели и задачи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839484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4f271c"/>
                </a:solidFill>
                <a:latin typeface="Times New Roman"/>
              </a:rPr>
              <a:t>расширить представление о 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4f271c"/>
                </a:solidFill>
                <a:latin typeface="Times New Roman"/>
              </a:rPr>
              <a:t>Задачи:</a:t>
            </a:r>
            <a:r>
              <a:rPr b="0" i="1" lang="tt-RU" sz="2800" spc="-1" strike="noStrike">
                <a:solidFill>
                  <a:srgbClr val="4f271c"/>
                </a:solidFill>
                <a:latin typeface="Times New Roman"/>
              </a:rPr>
              <a:t> дать точное определение слов "дружба", "друг", “товарищ”, “приятел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4f271c"/>
                </a:solidFill>
                <a:latin typeface="Times New Roman"/>
              </a:rPr>
              <a:t>воспитывать умение по-настоящему дружить, дорожить дружбой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4f271c"/>
                </a:solidFill>
                <a:latin typeface="Times New Roman"/>
              </a:rPr>
              <a:t>выявлять те качества, которые помогают дружбе и те, которые ей меш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4f271c"/>
                </a:solidFill>
                <a:latin typeface="Times New Roman"/>
              </a:rPr>
              <a:t>воспитывать умение выражать свои мысли и эмо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72314"/>
                </a:solidFill>
                <a:latin typeface="Times New Roman"/>
              </a:rPr>
              <a:t>Дружба – главное чудо всегда, </a:t>
            </a:r>
            <a:br>
              <a:rPr sz="2800"/>
            </a:br>
            <a:r>
              <a:rPr b="0" i="1" lang="en-US" sz="2800" spc="-1" strike="noStrike">
                <a:solidFill>
                  <a:srgbClr val="572314"/>
                </a:solidFill>
                <a:latin typeface="Times New Roman"/>
              </a:rPr>
              <a:t>Сто открытий для всех нас таящее,</a:t>
            </a:r>
            <a:br>
              <a:rPr sz="2800"/>
            </a:br>
            <a:r>
              <a:rPr b="0" i="1" lang="en-US" sz="2800" spc="-1" strike="noStrike">
                <a:solidFill>
                  <a:srgbClr val="572314"/>
                </a:solidFill>
                <a:latin typeface="Times New Roman"/>
              </a:rPr>
              <a:t>И любая беда – не беда,</a:t>
            </a:r>
            <a:br>
              <a:rPr sz="2800"/>
            </a:br>
            <a:r>
              <a:rPr b="0" i="1" lang="en-US" sz="2800" spc="-1" strike="noStrike">
                <a:solidFill>
                  <a:srgbClr val="572314"/>
                </a:solidFill>
                <a:latin typeface="Times New Roman"/>
              </a:rPr>
              <a:t> Если рядом друзья настоящие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3141360"/>
            <a:ext cx="749952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4f271c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хема 5" descr=""/>
          <p:cNvPicPr/>
          <p:nvPr/>
        </p:nvPicPr>
        <p:blipFill>
          <a:blip r:embed="rId2"/>
          <a:stretch/>
        </p:blipFill>
        <p:spPr>
          <a:xfrm>
            <a:off x="1182600" y="2571840"/>
            <a:ext cx="7034400" cy="1536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62804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Corbel"/>
              </a:rPr>
              <a:t>Мастер-класс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Corbel"/>
              </a:rPr>
              <a:t>«Современный классный час – современным детям»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Учитель математики МБОУ гимназии №1 Расторгуева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499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rbel"/>
              </a:rPr>
              <a:t>Цели и задачи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839484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4f271c"/>
                </a:solidFill>
                <a:latin typeface="Times New Roman"/>
              </a:rPr>
              <a:t>расширить представление о 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4f271c"/>
                </a:solidFill>
                <a:latin typeface="Times New Roman"/>
              </a:rPr>
              <a:t>Задачи:</a:t>
            </a:r>
            <a:r>
              <a:rPr b="0" i="1" lang="tt-RU" sz="2800" spc="-1" strike="noStrike">
                <a:solidFill>
                  <a:srgbClr val="4f271c"/>
                </a:solidFill>
                <a:latin typeface="Times New Roman"/>
              </a:rPr>
              <a:t> дать точное определение слов "дружба", "друг", “товарищ”, “приятел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4f271c"/>
                </a:solidFill>
                <a:latin typeface="Times New Roman"/>
              </a:rPr>
              <a:t>воспитывать умение по-настоящему дружить, дорожить дружбой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4f271c"/>
                </a:solidFill>
                <a:latin typeface="Times New Roman"/>
              </a:rPr>
              <a:t>выявлять те качества, которые помогают дружбе и те, которые ей меш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4f271c"/>
                </a:solidFill>
                <a:latin typeface="Times New Roman"/>
              </a:rPr>
              <a:t>воспитывать умение выражать свои мысли и эмо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484280"/>
            <a:ext cx="788364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572314"/>
                </a:solidFill>
                <a:latin typeface="Arial"/>
              </a:rPr>
              <a:t>Никогда счастье не ставило человека на такую высоту, чтоб он не нуждался в друге</a:t>
            </a:r>
            <a:br>
              <a:rPr sz="5400"/>
            </a:br>
            <a:r>
              <a:rPr b="1" lang="en-US" sz="5400" spc="-1" strike="noStrike">
                <a:solidFill>
                  <a:srgbClr val="572314"/>
                </a:solidFill>
                <a:latin typeface="Arial"/>
              </a:rPr>
              <a:t>                                      </a:t>
            </a:r>
            <a:r>
              <a:rPr b="1" lang="en-US" sz="4000" spc="-1" strike="noStrike">
                <a:solidFill>
                  <a:srgbClr val="572314"/>
                </a:solidFill>
                <a:latin typeface="Arial"/>
              </a:rPr>
              <a:t>Сенека</a:t>
            </a:r>
            <a:br>
              <a:rPr sz="5400"/>
            </a:br>
            <a:endParaRPr b="0" lang="en-US" sz="40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8024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</a:rPr>
              <a:t>Что же такое дружба?</a:t>
            </a:r>
            <a:br>
              <a:rPr sz="3600"/>
            </a:br>
            <a:r>
              <a:rPr b="1" lang="en-US" sz="3600" spc="-1" strike="noStrike">
                <a:solidFill>
                  <a:srgbClr val="572314"/>
                </a:solidFill>
                <a:latin typeface="Times New Roman"/>
              </a:rPr>
              <a:t>Кто такой друг?</a:t>
            </a:r>
            <a:br>
              <a:rPr sz="3600"/>
            </a:br>
            <a:r>
              <a:rPr b="1" lang="en-US" sz="3600" spc="-1" strike="noStrike">
                <a:solidFill>
                  <a:srgbClr val="572314"/>
                </a:solidFill>
                <a:latin typeface="Times New Roman"/>
              </a:rPr>
              <a:t> Кто может быть другом?</a:t>
            </a: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202" name="Picture 5" descr="i (1)"/>
          <p:cNvPicPr/>
          <p:nvPr/>
        </p:nvPicPr>
        <p:blipFill>
          <a:blip r:embed="rId2"/>
          <a:stretch/>
        </p:blipFill>
        <p:spPr>
          <a:xfrm rot="21236400">
            <a:off x="1042560" y="3573360"/>
            <a:ext cx="3311640" cy="2225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i (1)"/>
          <p:cNvPicPr/>
          <p:nvPr/>
        </p:nvPicPr>
        <p:blipFill>
          <a:blip r:embed="rId3"/>
          <a:stretch/>
        </p:blipFill>
        <p:spPr>
          <a:xfrm rot="1156200">
            <a:off x="5435280" y="3789000"/>
            <a:ext cx="3240000" cy="2290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i (2)"/>
          <p:cNvPicPr/>
          <p:nvPr/>
        </p:nvPicPr>
        <p:blipFill>
          <a:blip r:embed="rId4"/>
          <a:stretch/>
        </p:blipFill>
        <p:spPr>
          <a:xfrm>
            <a:off x="0" y="0"/>
            <a:ext cx="2733840" cy="20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Дружба – это …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187280" y="1571760"/>
            <a:ext cx="759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чные бескорыстные взаимоотношения между людьми, основанные на любви, доверии, искренности, взаимных симпатиях, общих интересах и увлечениях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язательные признаки                               –               взаимность, доверие и терпени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Синонимы к слову «друг»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О человеке, с которым вы просто здороваетесь во дворе, вы можете сказ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411280" y="2637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Знакомый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0" name="Picture 5" descr="i (3)"/>
          <p:cNvPicPr/>
          <p:nvPr/>
        </p:nvPicPr>
        <p:blipFill>
          <a:blip r:embed="rId2"/>
          <a:stretch/>
        </p:blipFill>
        <p:spPr>
          <a:xfrm>
            <a:off x="1476360" y="3500280"/>
            <a:ext cx="3240000" cy="30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2439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Corbel"/>
              </a:rPr>
              <a:t>О человеке, с которым время от времени обсуждаете детали матча, фильм, какие-то события, вы скажете…</a:t>
            </a:r>
            <a:br>
              <a:rPr sz="3500"/>
            </a:b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692360" y="2852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Приятель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3" name="Picture 6" descr="i (4)"/>
          <p:cNvPicPr/>
          <p:nvPr/>
        </p:nvPicPr>
        <p:blipFill>
          <a:blip r:embed="rId2"/>
          <a:stretch/>
        </p:blipFill>
        <p:spPr>
          <a:xfrm>
            <a:off x="1403280" y="3716280"/>
            <a:ext cx="3083040" cy="31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952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Об однокласснике, с которым  съеден не один пуд соли, скажете…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215" name="Picture 5" descr="i (5)"/>
          <p:cNvPicPr/>
          <p:nvPr/>
        </p:nvPicPr>
        <p:blipFill>
          <a:blip r:embed="rId2"/>
          <a:stretch/>
        </p:blipFill>
        <p:spPr>
          <a:xfrm>
            <a:off x="1547640" y="3178080"/>
            <a:ext cx="3529080" cy="3241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1692360" y="2565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Товарищ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8:33:25Z</dcterms:created>
  <dc:creator>Галина</dc:creator>
  <dc:description/>
  <dc:language>en-US</dc:language>
  <cp:lastModifiedBy>Device</cp:lastModifiedBy>
  <dcterms:modified xsi:type="dcterms:W3CDTF">2018-01-02T17:25:25Z</dcterms:modified>
  <cp:revision>105</cp:revision>
  <dc:subject/>
  <dc:title>Слайд 1</dc:title>
</cp:coreProperties>
</file>