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gif" ContentType="image/gif"/>
  <Override PartName="/ppt/media/image4.jpeg" ContentType="image/jpeg"/>
  <Override PartName="/ppt/media/image13.gif" ContentType="image/gif"/>
  <Override PartName="/ppt/media/image28.wmf" ContentType="image/x-wmf"/>
  <Override PartName="/ppt/media/image30.png" ContentType="image/png"/>
  <Override PartName="/ppt/media/image8.png" ContentType="image/png"/>
  <Override PartName="/ppt/media/image7.gif" ContentType="image/gif"/>
  <Override PartName="/ppt/media/image9.png" ContentType="image/png"/>
  <Override PartName="/ppt/media/image10.gif" ContentType="image/gif"/>
  <Override PartName="/ppt/media/image12.jpeg" ContentType="image/jpeg"/>
  <Override PartName="/ppt/media/image3.png" ContentType="image/png"/>
  <Override PartName="/ppt/media/image26.png" ContentType="image/png"/>
  <Override PartName="/ppt/media/image5.gif" ContentType="image/gif"/>
  <Override PartName="/ppt/media/image31.wmf" ContentType="image/x-wmf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gif" ContentType="image/gif"/>
  <Override PartName="/ppt/media/image17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gif" ContentType="image/gif"/>
  <Override PartName="/ppt/media/image6.jpeg" ContentType="image/jpeg"/>
  <Override PartName="/ppt/media/image18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A75-836E-43AD-B80A-A437D4A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25A-037F-47E3-BAA7-9A7BAEF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8D0-5E3E-44F1-9D08-E79CAD9F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0B9-EB98-4AD3-B955-F070B29E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D24-6B02-4806-B5D7-EF8085B5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657-05B8-4C94-A989-B9810D98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378-1AC4-47F4-B845-167010D4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9BBB-9287-4F2F-82CC-B83973F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39E6-569A-4F9D-8D68-730FE49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F977-4F36-49CA-8485-35F91CD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EB7D-8309-48E1-90C7-31F5B06C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BCE-ABE8-4E47-9AA3-226D8DF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789-57E2-43D9-938B-50C3ED76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DF11-5AFB-4816-8D85-DB47E00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F339-9ECD-4978-8BC3-6EFF6D6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31B7-C197-4DEF-8024-EDA6CBCF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97AA-42A2-435B-90CF-BC16CAB2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DFFD-7F0A-4B4A-B27C-3B8AB0BB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D3F6-DD8C-4942-8B31-168518C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4DC7-7570-48C7-9D45-0331A21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10A1-7D92-44E9-9D41-5396107D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AEEE-7A0E-4FA9-9AA0-D28DE52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119-A3C4-41E3-B4B0-CBA4392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AB2D-9054-443A-923C-11E5514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D357-5E04-4910-816F-3575773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9163-E01E-4B16-BBE3-7EA33F45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D5DA-D422-4C40-A5DB-A63A35F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A294-0B9A-458C-824E-42EC8AC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3F78-DB42-493E-BAEE-570FA92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141C-C02F-49E2-B578-F6D56FB7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1B69-5F90-40B9-A6AC-54A0A12D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FB2F-C731-4C5C-B61E-53D0AB5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CB83-4775-4C4D-9378-70076F0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9AE-B04A-40E0-982B-3E451F3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9404-625A-4A5A-8A64-5A54F5C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7205-F844-421C-BCD6-B6DF3125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7C92-C937-4C9D-9BFD-374CA35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13B4-58E9-4B1B-A47B-4287D98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21DE-4410-481D-8681-01C37E7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1310-8D8E-4A4C-AEDE-3F47DF4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B0FD-6052-49AF-AAE3-31EEDEA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3C899-F429-4A5B-8398-76B8E084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AFBD-CF2A-46A8-B1DB-43600A03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A775-F4A3-4E42-B9CF-FBDDBFF4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3CC-0CFE-4B75-BA35-EDE0F24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258D-B2DC-4B1F-9F50-C16F2657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043D-B9F8-4EAD-826B-71555CF8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0151-F9CF-430F-8E59-B07651E0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14AE-4E16-4A48-997E-0FF0C42D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4340-86CA-473F-B31A-87AD4B76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91EA-47C0-4311-B6F3-D361968E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51B0-B3C5-44BE-AA81-A4D2D2E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CBA11-3014-415E-ACF4-A38BE8D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B859-4757-4F02-9273-62773BC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467E8-5FA6-4BAC-83DC-8C8CF87D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9B2-4735-4AB6-9A42-BB724A0F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62D5-FD2E-4727-9766-AF7B0D1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B1C22-FE89-4509-AE67-3A9CFB9F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DFC3-8DDA-4C89-8B97-9E17AC7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6253-E34E-4415-B199-533DE3D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9BD4-83AC-4496-9014-09C93BE8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3DEF-1B14-499E-ABD8-F0751A57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25378-4D2D-476C-A5C3-5AD66679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5DA63-D0A1-4005-8DA4-EE397F0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854D2-E520-46CD-A98B-C46704D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F23B-C4E3-4BDC-A381-4C4095C8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70A-0C29-4A8A-B5B5-9A3DCCA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288A-A21C-4E23-9747-6AA69117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E9CD-3715-4ADF-9985-7EB462C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B4D3-8962-487E-A9CD-45EB1299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78BD-5533-45AD-9715-085D5DF5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4512D-5855-46F1-82AC-DE530EC8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98481-C26A-4A1A-A1AB-DBDC165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C192-2003-4187-93A2-FD3306D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80F2-435D-4A05-A94A-D6D407E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0B01-CD2C-4A46-B2E0-CD6D7AF9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54BC-851E-4970-8EB0-0A321DB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E8D-8EC7-4E69-946D-6C398EB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E18A-0663-447A-9F53-6BA1372D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B6CF-A36D-447E-9CA2-C9FCAA0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05AE-E3ED-4B8F-816C-C78378B7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9C91-B454-4755-9B13-B5998309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F414-8036-4C27-A31E-1058E0D9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580E3-113E-4B1F-9FBE-9F59541A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7736E-B3F9-492E-B586-A9AC6F2E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E0B4-A822-4B35-AC51-D89A7803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A04A-2D9F-4570-94C9-2548565C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11D5-7F41-4977-86EF-967C0CF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153-0554-4E83-9D5D-1E5B605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39FB0-3AF9-4D8B-AD92-892EB70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CD496-A478-4C7C-8245-9E5AF30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B8A7-696A-4126-8D39-7C0E2AA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059A6-B25D-4FC1-BD8C-47E518E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8E5C6-0280-4403-9E49-98E18E9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8A3AD-DA74-4ACA-8DE6-E18A379F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E684-B5E4-4A4E-948B-95339442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DA2C-73C4-4EFF-AF77-A4E8F76F11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8E7-BFB6-404E-AEAE-4E7D450670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99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57E1-47CE-4E05-827E-005DF5B411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cc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1d7272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cc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2B5-871B-4778-9F24-2E3354955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206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00763b"/>
                  </a:buClr>
                  <a:buSzPct val="60000"/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4BB-66D0-4B92-B2C7-D37AE1D77A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5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A8D-9409-42A3-A952-B9243864F0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06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51E-8BB9-417C-AA5C-5C37BF233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cc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1d7272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cc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5EB-4EC0-483C-81BB-98098C8C47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120"/>
          <p:cNvSpPr/>
          <p:nvPr/>
        </p:nvSpPr>
        <p:spPr>
          <a:xfrm>
            <a:off x="-208080" y="1405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Line 119"/>
          <p:cNvSpPr/>
          <p:nvPr/>
        </p:nvSpPr>
        <p:spPr>
          <a:xfrm>
            <a:off x="709560" y="128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Line 93"/>
          <p:cNvSpPr/>
          <p:nvPr/>
        </p:nvSpPr>
        <p:spPr>
          <a:xfrm>
            <a:off x="4367160" y="4008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Line 92"/>
          <p:cNvSpPr/>
          <p:nvPr/>
        </p:nvSpPr>
        <p:spPr>
          <a:xfrm>
            <a:off x="4367160" y="389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Line 91"/>
          <p:cNvSpPr/>
          <p:nvPr/>
        </p:nvSpPr>
        <p:spPr>
          <a:xfrm>
            <a:off x="4367160" y="4008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132"/>
          <p:cNvSpPr/>
          <p:nvPr/>
        </p:nvSpPr>
        <p:spPr>
          <a:xfrm>
            <a:off x="-550800" y="-603360"/>
            <a:ext cx="914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Rectangle 133"/>
          <p:cNvSpPr/>
          <p:nvPr/>
        </p:nvSpPr>
        <p:spPr>
          <a:xfrm>
            <a:off x="-550800" y="-33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Rectangle 139"/>
          <p:cNvSpPr/>
          <p:nvPr/>
        </p:nvSpPr>
        <p:spPr>
          <a:xfrm>
            <a:off x="-577800" y="-489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i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Rectangle 141"/>
          <p:cNvSpPr/>
          <p:nvPr/>
        </p:nvSpPr>
        <p:spPr>
          <a:xfrm>
            <a:off x="-495360" y="119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157"/>
          <p:cNvSpPr/>
          <p:nvPr/>
        </p:nvSpPr>
        <p:spPr>
          <a:xfrm>
            <a:off x="1692360" y="333360"/>
            <a:ext cx="60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Rectangle 161"/>
          <p:cNvSpPr/>
          <p:nvPr/>
        </p:nvSpPr>
        <p:spPr>
          <a:xfrm>
            <a:off x="826920" y="189000"/>
            <a:ext cx="93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ctr">
              <a:lnSpc>
                <a:spcPct val="90000"/>
              </a:lnSpc>
              <a:spcBef>
                <a:spcPts val="300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Rectangle 165"/>
          <p:cNvSpPr/>
          <p:nvPr/>
        </p:nvSpPr>
        <p:spPr>
          <a:xfrm>
            <a:off x="5508720" y="5805360"/>
            <a:ext cx="201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WordArt 167"/>
          <p:cNvSpPr txBox="1"/>
          <p:nvPr/>
        </p:nvSpPr>
        <p:spPr>
          <a:xfrm>
            <a:off x="6286680" y="6000840"/>
            <a:ext cx="248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ffffaf"/>
                  </a:solidFill>
                  <a:miter/>
                </a:ln>
                <a:solidFill>
                  <a:srgbClr val="ffc1ff"/>
                </a:solidFill>
                <a:latin typeface="Arial"/>
              </a:rPr>
              <a:t>Адрес: Дзержинского 28а "</a:t>
            </a:r>
            <a:endParaRPr b="1" i="1" lang="en-US" sz="1200" spc="1" strike="noStrike">
              <a:ln w="9360">
                <a:solidFill>
                  <a:srgbClr val="ffffaf"/>
                </a:solidFill>
                <a:miter/>
              </a:ln>
              <a:solidFill>
                <a:srgbClr val="ffc1ff"/>
              </a:solidFill>
              <a:latin typeface="Arial"/>
              <a:ea typeface="Arial"/>
            </a:endParaRPr>
          </a:p>
        </p:txBody>
      </p:sp>
      <p:sp>
        <p:nvSpPr>
          <p:cNvPr id="424" name="Rectangle 168"/>
          <p:cNvSpPr/>
          <p:nvPr/>
        </p:nvSpPr>
        <p:spPr>
          <a:xfrm>
            <a:off x="522360" y="36072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униципальная средняя общеобразовательная школа №40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школьное отделение «Сорочата»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5" name="Picture 4" descr="IMG_2059"/>
          <p:cNvPicPr/>
          <p:nvPr/>
        </p:nvPicPr>
        <p:blipFill>
          <a:blip r:embed="rId1"/>
          <a:stretch/>
        </p:blipFill>
        <p:spPr>
          <a:xfrm>
            <a:off x="785880" y="1643040"/>
            <a:ext cx="7429320" cy="407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6" name="Picture 25" descr="15c016c04ae71fa5a55dabff8db60d04[1]"/>
          <p:cNvPicPr/>
          <p:nvPr/>
        </p:nvPicPr>
        <p:blipFill>
          <a:blip r:embed="rId2"/>
          <a:stretch/>
        </p:blipFill>
        <p:spPr>
          <a:xfrm>
            <a:off x="-142920" y="1143000"/>
            <a:ext cx="1560600" cy="928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5" descr="15c016c04ae71fa5a55dabff8db60d04[1]"/>
          <p:cNvPicPr/>
          <p:nvPr/>
        </p:nvPicPr>
        <p:blipFill>
          <a:blip r:embed="rId3"/>
          <a:stretch/>
        </p:blipFill>
        <p:spPr>
          <a:xfrm>
            <a:off x="7715160" y="5000760"/>
            <a:ext cx="15606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571680" y="857160"/>
          <a:ext cx="7900920" cy="5900760"/>
        </p:xfrm>
        <a:graphic>
          <a:graphicData uri="http://schemas.openxmlformats.org/drawingml/2006/table">
            <a:tbl>
              <a:tblPr/>
              <a:tblGrid>
                <a:gridCol w="2552400"/>
                <a:gridCol w="2675160"/>
                <a:gridCol w="2673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Comic Sans MS"/>
                        </a:rPr>
                        <a:t>Формы ВД</a:t>
                      </a:r>
                      <a:endParaRPr b="1" i="1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2000" spc="-1" strike="noStrike">
                          <a:solidFill>
                            <a:srgbClr val="99ffcc"/>
                          </a:solidFill>
                          <a:latin typeface="Comic Sans MS"/>
                        </a:rPr>
                        <a:t>действия</a:t>
                      </a:r>
                      <a:endParaRPr b="1" i="1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Comic Sans MS"/>
                        </a:rPr>
                        <a:t>Конечный результат</a:t>
                      </a:r>
                      <a:endParaRPr b="1" i="1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Совместные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физкультурные досуги,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праздники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Совместное составление плана развлечений и праздников;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Организация и проведение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 – участник, судья соревнований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Родительские собрания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Выступления на собраниях по актуальным вопросам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(запрос родителей)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 - слушатель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Индивидуальные консультации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Составление плана совместных действий по продвижению ребенка «-»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 - помощник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Система домашних заданий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Помощь в проведении тестирования(ловля мяча, ЧСС),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Выполнение Д\З, отметка о выполнении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 - контролер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Совместные физкультурные занятия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Выполнение совместных заданий с ребенком;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Оказание страховки, помощи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- участник, помощник 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«Переписка» через почту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Анкетирование интересов, потребностей ребенка,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Comic Sans MS"/>
                        </a:rPr>
                        <a:t>Подготовка к гор. соревнованиям</a:t>
                      </a:r>
                      <a:endParaRPr b="1" i="1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Р – тренер, консультант</a:t>
                      </a:r>
                      <a:endParaRPr b="1" i="1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Rectangle 53"/>
          <p:cNvSpPr/>
          <p:nvPr/>
        </p:nvSpPr>
        <p:spPr>
          <a:xfrm>
            <a:off x="285840" y="0"/>
            <a:ext cx="8858160" cy="687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Механизм вовлечения родителей в образовательный процесс</a:t>
            </a:r>
            <a:endParaRPr b="1" i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3" name="Рисунок 14" descr="C:\Documents and Settings\Admin\Local Settings\Temporary Internet Files\Content.IE5\JCK5T0CR\MC900434563[1].wmf"/>
          <p:cNvPicPr/>
          <p:nvPr/>
        </p:nvPicPr>
        <p:blipFill>
          <a:blip r:embed="rId1"/>
          <a:stretch/>
        </p:blipFill>
        <p:spPr>
          <a:xfrm rot="2824800">
            <a:off x="8562960" y="672840"/>
            <a:ext cx="485640" cy="47304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5" descr="C:\Documents and Settings\Admin\Local Settings\Temporary Internet Files\Content.IE5\JCK5T0CR\MC900434563[1].wmf"/>
          <p:cNvPicPr/>
          <p:nvPr/>
        </p:nvPicPr>
        <p:blipFill>
          <a:blip r:embed="rId2"/>
          <a:stretch/>
        </p:blipFill>
        <p:spPr>
          <a:xfrm rot="2824800">
            <a:off x="95040" y="815760"/>
            <a:ext cx="485640" cy="47304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6" descr="C:\Documents and Settings\Admin\Local Settings\Temporary Internet Files\Content.IE5\JCK5T0CR\MC900434563[1].wmf"/>
          <p:cNvPicPr/>
          <p:nvPr/>
        </p:nvPicPr>
        <p:blipFill>
          <a:blip r:embed="rId3"/>
          <a:stretch/>
        </p:blipFill>
        <p:spPr>
          <a:xfrm rot="2824800">
            <a:off x="8562600" y="6032160"/>
            <a:ext cx="486000" cy="473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7" descr="C:\Documents and Settings\Admin\Local Settings\Temporary Internet Files\Content.IE5\JCK5T0CR\MC900434563[1].wmf"/>
          <p:cNvPicPr/>
          <p:nvPr/>
        </p:nvPicPr>
        <p:blipFill>
          <a:blip r:embed="rId4"/>
          <a:stretch/>
        </p:blipFill>
        <p:spPr>
          <a:xfrm rot="2824800">
            <a:off x="309600" y="6103800"/>
            <a:ext cx="485640" cy="47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0"/>
          <p:cNvSpPr/>
          <p:nvPr/>
        </p:nvSpPr>
        <p:spPr>
          <a:xfrm>
            <a:off x="304920" y="142920"/>
            <a:ext cx="981000" cy="621504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ализации</a:t>
            </a:r>
            <a:endParaRPr b="1" i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.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.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AutoShape 12"/>
          <p:cNvSpPr/>
          <p:nvPr/>
        </p:nvSpPr>
        <p:spPr>
          <a:xfrm>
            <a:off x="1357200" y="714240"/>
            <a:ext cx="3071880" cy="1214640"/>
          </a:xfrm>
          <a:custGeom>
            <a:avLst/>
            <a:gdLst>
              <a:gd name="textAreaLeft" fmla="*/ 303480 w 3071880"/>
              <a:gd name="textAreaRight" fmla="*/ 2768400 w 307188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30" y="5400"/>
                </a:lnTo>
                <a:lnTo>
                  <a:pt x="17330" y="0"/>
                </a:lnTo>
                <a:lnTo>
                  <a:pt x="21600" y="10800"/>
                </a:lnTo>
                <a:lnTo>
                  <a:pt x="17330" y="21600"/>
                </a:lnTo>
                <a:lnTo>
                  <a:pt x="17330" y="16200"/>
                </a:lnTo>
                <a:lnTo>
                  <a:pt x="0" y="16200"/>
                </a:lnTo>
                <a:lnTo>
                  <a:pt x="213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ИТЕЛЬНЫ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AutoShape 13"/>
          <p:cNvSpPr/>
          <p:nvPr/>
        </p:nvSpPr>
        <p:spPr>
          <a:xfrm>
            <a:off x="1214280" y="2643120"/>
            <a:ext cx="3214800" cy="1143000"/>
          </a:xfrm>
          <a:custGeom>
            <a:avLst/>
            <a:gdLst>
              <a:gd name="textAreaLeft" fmla="*/ 280440 w 3214800"/>
              <a:gd name="textAreaRight" fmla="*/ 2934360 w 321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9" y="5400"/>
                </a:lnTo>
                <a:lnTo>
                  <a:pt x="17829" y="0"/>
                </a:lnTo>
                <a:lnTo>
                  <a:pt x="21600" y="10800"/>
                </a:lnTo>
                <a:lnTo>
                  <a:pt x="17829" y="21600"/>
                </a:lnTo>
                <a:lnTo>
                  <a:pt x="17829" y="16200"/>
                </a:lnTo>
                <a:lnTo>
                  <a:pt x="0" y="16200"/>
                </a:lnTo>
                <a:lnTo>
                  <a:pt x="18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НОВНО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1214280" y="4500720"/>
            <a:ext cx="3214800" cy="1214280"/>
          </a:xfrm>
          <a:custGeom>
            <a:avLst/>
            <a:gdLst>
              <a:gd name="textAreaLeft" fmla="*/ 287280 w 3214800"/>
              <a:gd name="textAreaRight" fmla="*/ 2927520 w 321480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39" y="5400"/>
                </a:lnTo>
                <a:lnTo>
                  <a:pt x="17739" y="0"/>
                </a:lnTo>
                <a:lnTo>
                  <a:pt x="21600" y="10800"/>
                </a:lnTo>
                <a:lnTo>
                  <a:pt x="17739" y="21600"/>
                </a:lnTo>
                <a:lnTo>
                  <a:pt x="17739" y="16200"/>
                </a:lnTo>
                <a:lnTo>
                  <a:pt x="0" y="16200"/>
                </a:lnTo>
                <a:lnTo>
                  <a:pt x="193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КЛЮЧИТЕЛЬНЫ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AutoShape 16"/>
          <p:cNvSpPr/>
          <p:nvPr/>
        </p:nvSpPr>
        <p:spPr>
          <a:xfrm>
            <a:off x="4643280" y="642960"/>
            <a:ext cx="5000760" cy="1285920"/>
          </a:xfrm>
          <a:prstGeom prst="flowChartOnlineStorage">
            <a:avLst/>
          </a:prstGeom>
          <a:solidFill>
            <a:srgbClr val="ff6a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Составление плана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физкультурно – оздоровительных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мероприяти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(родитель, воспитатель, инструктор,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ребенок)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4500720" y="2643120"/>
            <a:ext cx="4790880" cy="106704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рганизация и проведение 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мероприятий, рефлексия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4500720" y="4357800"/>
            <a:ext cx="4786200" cy="1357200"/>
          </a:xfrm>
          <a:prstGeom prst="flowChartOnlineStorag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Анализ результатов,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Выявление и награждение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спортивных  родителей, семей;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оформление  уголка «Благодарности»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73080"/>
            <a:ext cx="7229160" cy="6825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2"/>
          <p:cNvSpPr/>
          <p:nvPr/>
        </p:nvSpPr>
        <p:spPr>
          <a:xfrm>
            <a:off x="357120" y="857160"/>
            <a:ext cx="842976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Осознание взрослыми и детьми понятие «Здоровье» и влияние образа жизни на состояние здоровья, формирование у ребенка позиции признания ценности здоровья, чувство ответственности за сохранение и укрепление своего здоровья, расширение навыков и знаний по гигиенической культуре.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Обеспечение физического и психического саморазвития детей старшего дошкольного возраста 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вышение уровня ориентации к современным условиям жизни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Овладение навыками самооздоровления 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Снижение уровня заболеваемости 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6" name="Рисунок 3" descr="C:\Documents and Settings\Admin\Local Settings\Temporary Internet Files\Content.IE5\TG39GYVC\MC900343317[1].WMF"/>
          <p:cNvPicPr/>
          <p:nvPr/>
        </p:nvPicPr>
        <p:blipFill>
          <a:blip r:embed="rId2"/>
          <a:stretch/>
        </p:blipFill>
        <p:spPr>
          <a:xfrm>
            <a:off x="3279600" y="4303800"/>
            <a:ext cx="2505240" cy="290808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4" descr="C:\Documents and Settings\Admin\Local Settings\Temporary Internet Files\Content.IE5\TG39GYVC\MC900287484[1].wmf"/>
          <p:cNvPicPr/>
          <p:nvPr/>
        </p:nvPicPr>
        <p:blipFill>
          <a:blip r:embed="rId3"/>
          <a:stretch/>
        </p:blipFill>
        <p:spPr>
          <a:xfrm rot="19423200">
            <a:off x="1221840" y="473076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5" descr="C:\Documents and Settings\Admin\Local Settings\Temporary Internet Files\Content.IE5\TG39GYVC\MC900287484[1].wmf"/>
          <p:cNvPicPr/>
          <p:nvPr/>
        </p:nvPicPr>
        <p:blipFill>
          <a:blip r:embed="rId4"/>
          <a:stretch/>
        </p:blipFill>
        <p:spPr>
          <a:xfrm rot="2309400">
            <a:off x="6654600" y="487656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12"/>
          <p:cNvSpPr txBox="1"/>
          <p:nvPr/>
        </p:nvSpPr>
        <p:spPr>
          <a:xfrm>
            <a:off x="395280" y="1916280"/>
            <a:ext cx="84978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0" name="Picture 16" descr="Новости Sibmama - сайта о семье и детях"/>
          <p:cNvPicPr/>
          <p:nvPr/>
        </p:nvPicPr>
        <p:blipFill>
          <a:blip r:embed="rId1"/>
          <a:stretch/>
        </p:blipFill>
        <p:spPr>
          <a:xfrm>
            <a:off x="3780000" y="4005360"/>
            <a:ext cx="1728720" cy="1609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2"/>
          <p:cNvSpPr/>
          <p:nvPr/>
        </p:nvSpPr>
        <p:spPr>
          <a:xfrm>
            <a:off x="-208080" y="1405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709560" y="128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4367160" y="4008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4367160" y="389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Line 6"/>
          <p:cNvSpPr/>
          <p:nvPr/>
        </p:nvSpPr>
        <p:spPr>
          <a:xfrm>
            <a:off x="4367160" y="4008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-550800" y="-603360"/>
            <a:ext cx="914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-550800" y="-33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-577800" y="-489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i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-495360" y="119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1692360" y="333360"/>
            <a:ext cx="60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250920" y="2133720"/>
            <a:ext cx="8496360" cy="183420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тема: 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«Здоровьесберегающие технологии используемые в дошкольном образовательном учреждении»</a:t>
            </a:r>
            <a:endParaRPr b="1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5398920" y="4532760"/>
            <a:ext cx="37450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1400" spc="-1" strike="noStrike">
                <a:solidFill>
                  <a:srgbClr val="080808"/>
                </a:solidFill>
                <a:latin typeface="Times New Roman"/>
              </a:rPr>
              <a:t>Инструктор по физической культуре </a:t>
            </a:r>
            <a:endParaRPr b="1" i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80808"/>
                </a:solidFill>
                <a:latin typeface="Times New Roman"/>
              </a:rPr>
              <a:t>МСОШ №40 ДО «Сорочата»</a:t>
            </a:r>
            <a:endParaRPr b="1" i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80808"/>
                </a:solidFill>
                <a:latin typeface="Times New Roman"/>
              </a:rPr>
              <a:t>Панцерная Е.В.</a:t>
            </a:r>
            <a:endParaRPr b="1" i="1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3778920" y="617076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Нижневартовск - 2010</a:t>
            </a:r>
            <a:endParaRPr b="1" i="1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1" name="Picture 17" descr="Солнышко"/>
          <p:cNvPicPr/>
          <p:nvPr/>
        </p:nvPicPr>
        <p:blipFill>
          <a:blip r:embed="rId1"/>
          <a:stretch/>
        </p:blipFill>
        <p:spPr>
          <a:xfrm>
            <a:off x="3780000" y="260280"/>
            <a:ext cx="1457280" cy="1533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G:\АНИМ\бабочки1\B_Fly04.gif"/>
          <p:cNvPicPr/>
          <p:nvPr/>
        </p:nvPicPr>
        <p:blipFill>
          <a:blip r:embed="rId2"/>
          <a:stretch/>
        </p:blipFill>
        <p:spPr>
          <a:xfrm>
            <a:off x="214200" y="428760"/>
            <a:ext cx="1970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6"/>
          <p:cNvSpPr/>
          <p:nvPr/>
        </p:nvSpPr>
        <p:spPr>
          <a:xfrm>
            <a:off x="539640" y="0"/>
            <a:ext cx="7993080" cy="1197000"/>
          </a:xfrm>
          <a:prstGeom prst="horizontalScroll">
            <a:avLst>
              <a:gd name="adj" fmla="val 1762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одержание</a:t>
            </a:r>
            <a:endParaRPr b="1" i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179280" y="1628640"/>
            <a:ext cx="896472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0520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ведение……………………………………………..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20520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ая часть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временные здоровьесберегающие технологии используемые в дошкольном образовательном учреждении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изкультурно-развивающая работа позволяющая формированию у  дошкольников ответственности в собственном здоровь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практическая часть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нализ  оздоровительной работы в дошкольном образовательном учреждении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2. Результативность работы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ключение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5" name="Picture 10" descr="bs00554a"/>
          <p:cNvPicPr/>
          <p:nvPr/>
        </p:nvPicPr>
        <p:blipFill>
          <a:blip r:embed="rId2"/>
          <a:stretch/>
        </p:blipFill>
        <p:spPr>
          <a:xfrm>
            <a:off x="4140360" y="4797360"/>
            <a:ext cx="952200" cy="819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G:\АНИМ\животные1\Kopyta5.gif"/>
          <p:cNvPicPr/>
          <p:nvPr/>
        </p:nvPicPr>
        <p:blipFill>
          <a:blip r:embed="rId3"/>
          <a:stretch/>
        </p:blipFill>
        <p:spPr>
          <a:xfrm>
            <a:off x="5715000" y="421488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1214280"/>
            <a:ext cx="9144000" cy="238428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доровье дете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богатство нации, этот тезис не утратит актуальности во все времена, а сегодня он не просто актуален, а самый главный, учитывая экологическую ситуацию практически в любой точке планеты, где живут люди, и есть крупные промышленные предприятия. Коль здоровье – богатство, то его необходимо укреплять, воспроизводить, увеличивать, а не просто сохранить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следованиями отечественных и зарубежных ученых установлено, что здоровье человека лишь несколько процентов зависит от успехов медицины и здравоохранения и примерно на 50% от образа жизни. Дошкольный возраст является сензитивным для выработки правильных привычек и формирования навыков здорового образа жизни.     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й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539640" y="0"/>
            <a:ext cx="7993080" cy="1197000"/>
          </a:xfrm>
          <a:prstGeom prst="horizontalScroll">
            <a:avLst>
              <a:gd name="adj" fmla="val 1762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Актуальность </a:t>
            </a:r>
            <a:endParaRPr b="1" i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9" name="Рисунок 6" descr="Изображение 481.jpg"/>
          <p:cNvPicPr/>
          <p:nvPr/>
        </p:nvPicPr>
        <p:blipFill>
          <a:blip r:embed="rId2"/>
          <a:stretch/>
        </p:blipFill>
        <p:spPr>
          <a:xfrm>
            <a:off x="2643120" y="4000680"/>
            <a:ext cx="362916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0" y="333360"/>
            <a:ext cx="9144000" cy="36817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уальность темы подтверждает статистика показателей здоровья: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зиологически зрелыми рождаются не более 14% детей. Это означает, что ребенок, пробыв 40 недель внутриутробно,  не успел завершить все стадии своего развития и после рождения еще не готов к жизни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-35% детей, пришедших в первый класс школы, имеет физические недостатки и хронические заболевания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-92% выпускников  средних школ находятся в «третьем состоянии» они еще не знают, что больны, и считают себя здоровыми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лько 8-10% выпускников школ можно считать действительно здоровым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3-4 раза сокращается количество здоровых детей за время пребывания в школе. Среди отстающих детей 85-90% испытывает определенные затруднения в усвоении    программы не из-за лени или недоразвитости, а вследствие плохого состояния здоровья. До 95% взрослого населения страны относятся к «третьему состоянию», а 5% - хронические больные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1" name="Picture 2" descr="H:\защита по ФИЗО\Женя\DSCN5589.JPG"/>
          <p:cNvPicPr/>
          <p:nvPr/>
        </p:nvPicPr>
        <p:blipFill>
          <a:blip r:embed="rId1"/>
          <a:stretch/>
        </p:blipFill>
        <p:spPr>
          <a:xfrm>
            <a:off x="357120" y="385776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:\АНИМ\лисы\r2.gif"/>
          <p:cNvPicPr/>
          <p:nvPr/>
        </p:nvPicPr>
        <p:blipFill>
          <a:blip r:embed="rId2"/>
          <a:stretch/>
        </p:blipFill>
        <p:spPr>
          <a:xfrm>
            <a:off x="5286240" y="4429080"/>
            <a:ext cx="3200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1"/>
          <p:cNvSpPr/>
          <p:nvPr/>
        </p:nvSpPr>
        <p:spPr>
          <a:xfrm>
            <a:off x="285840" y="357120"/>
            <a:ext cx="8429400" cy="54169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им обусловлен выбор данной темы </a:t>
            </a:r>
            <a:r>
              <a:rPr b="1" lang="ru-RU" sz="1600" spc="-1" strike="noStrike">
                <a:solidFill>
                  <a:srgbClr val="9900cc"/>
                </a:solidFill>
                <a:latin typeface="Times New Roman"/>
              </a:rPr>
              <a:t>«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Здоровьесберегающие технологии используемые в дошкольном образовательном учреждении</a:t>
            </a: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»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ак как сохранение и укрепление здоровья детей является приоритетной задачей не только моей работы, но и всего детского сада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ывая выше сказанное основную цель моей работы можно сформулировать следующим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ом:</a:t>
            </a: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оздание системы работы позволяющей  эффективно решать одну из самых актуальнейших задач современного образования – Формирования у педагогов, родителей, воспитанников ответственности в деле сохранения и укрепления собственного здоровья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:.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е с темой я решила следующие </a:t>
            </a:r>
            <a:r>
              <a:rPr b="1" lang="ru-RU" sz="1600" spc="-1" strike="noStrike">
                <a:solidFill>
                  <a:srgbClr val="9900cc"/>
                </a:solidFill>
                <a:latin typeface="Times New Roman"/>
              </a:rPr>
              <a:t>задачи:</a:t>
            </a:r>
            <a:r>
              <a:rPr b="1" i="1" lang="en-US" sz="16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еспечить рациональную организацию двигательной деятельности дете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здать условия для оздоровительных режимов детей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здорового образа жизни у детей в постоянном взаимодействии с семьей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храна жизни и укрепление здоровья детей, улучшение их физического развития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у детей потребности в здоровом образе жизни, ответственного отношения к своему здоровью через формирования культуры движений, гигиеническое воспитания, систему знаний и представлений о том , как сохранить и укрепить свое здоровье.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4" name="Picture 3" descr="G:\АНИМ\бабочки1\B_Fly07.gif"/>
          <p:cNvPicPr/>
          <p:nvPr/>
        </p:nvPicPr>
        <p:blipFill>
          <a:blip r:embed="rId1"/>
          <a:stretch/>
        </p:blipFill>
        <p:spPr>
          <a:xfrm>
            <a:off x="2286000" y="5214960"/>
            <a:ext cx="27860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Скругленный прямоугольник 4"/>
          <p:cNvSpPr/>
          <p:nvPr/>
        </p:nvSpPr>
        <p:spPr>
          <a:xfrm>
            <a:off x="471492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AutoShape 109"/>
          <p:cNvSpPr/>
          <p:nvPr/>
        </p:nvSpPr>
        <p:spPr>
          <a:xfrm>
            <a:off x="1268280" y="152280"/>
            <a:ext cx="7375680" cy="1276560"/>
          </a:xfrm>
          <a:prstGeom prst="horizontalScroll">
            <a:avLst>
              <a:gd name="adj" fmla="val 1762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временные здоровьесберегающие технологии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7430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дошкольном образовательном учреждении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Овал 6"/>
          <p:cNvSpPr/>
          <p:nvPr/>
        </p:nvSpPr>
        <p:spPr>
          <a:xfrm>
            <a:off x="-357120" y="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Шестиугольник 7"/>
          <p:cNvSpPr/>
          <p:nvPr/>
        </p:nvSpPr>
        <p:spPr>
          <a:xfrm>
            <a:off x="3857760" y="3000240"/>
            <a:ext cx="1488960" cy="1143000"/>
          </a:xfrm>
          <a:prstGeom prst="hexagon">
            <a:avLst>
              <a:gd name="adj" fmla="val 24998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Блок-схема: альтернативный процесс 4"/>
          <p:cNvSpPr/>
          <p:nvPr/>
        </p:nvSpPr>
        <p:spPr>
          <a:xfrm>
            <a:off x="3714840" y="2857680"/>
            <a:ext cx="22492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60" name="Прямая со стрелкой 12"/>
          <p:cNvCxnSpPr/>
          <p:nvPr/>
        </p:nvCxnSpPr>
        <p:spPr>
          <a:xfrm flipH="1" flipV="1">
            <a:off x="2928240" y="2142360"/>
            <a:ext cx="1500840" cy="857880"/>
          </a:xfrm>
          <a:prstGeom prst="straightConnector1">
            <a:avLst/>
          </a:prstGeom>
          <a:ln w="0">
            <a:noFill/>
          </a:ln>
        </p:spPr>
      </p:cxnSp>
      <p:sp>
        <p:nvSpPr>
          <p:cNvPr id="461" name="Oval 117"/>
          <p:cNvSpPr/>
          <p:nvPr/>
        </p:nvSpPr>
        <p:spPr>
          <a:xfrm>
            <a:off x="3643200" y="2857680"/>
            <a:ext cx="2438640" cy="1295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Здоровьесберегающие 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технологии 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Line 2"/>
          <p:cNvSpPr/>
          <p:nvPr/>
        </p:nvSpPr>
        <p:spPr>
          <a:xfrm flipH="1">
            <a:off x="2786040" y="3714840"/>
            <a:ext cx="89856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714240" y="3429000"/>
            <a:ext cx="2135160" cy="107172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Times New Roman"/>
              </a:rPr>
              <a:t>Физические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Times New Roman"/>
              </a:rPr>
              <a:t>Упражнения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Line 2"/>
          <p:cNvSpPr/>
          <p:nvPr/>
        </p:nvSpPr>
        <p:spPr>
          <a:xfrm flipH="1">
            <a:off x="2785680" y="3857760"/>
            <a:ext cx="1050840" cy="71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AutoShape 9"/>
          <p:cNvSpPr/>
          <p:nvPr/>
        </p:nvSpPr>
        <p:spPr>
          <a:xfrm>
            <a:off x="1071720" y="4429080"/>
            <a:ext cx="1857240" cy="85716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Times New Roman"/>
              </a:rPr>
              <a:t>Ритмопластика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Line 2"/>
          <p:cNvSpPr/>
          <p:nvPr/>
        </p:nvSpPr>
        <p:spPr>
          <a:xfrm flipH="1">
            <a:off x="3214440" y="4000680"/>
            <a:ext cx="765000" cy="1285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5214960"/>
            <a:ext cx="2214720" cy="85716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</a:rPr>
              <a:t>Динамически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</a:rPr>
              <a:t>паузы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Line 2"/>
          <p:cNvSpPr/>
          <p:nvPr/>
        </p:nvSpPr>
        <p:spPr>
          <a:xfrm flipH="1">
            <a:off x="4071960" y="4071960"/>
            <a:ext cx="193680" cy="1500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3071880" y="5643720"/>
            <a:ext cx="221436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Times New Roman"/>
              </a:rPr>
              <a:t>Подвижные и спортивные игры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Line 2"/>
          <p:cNvSpPr/>
          <p:nvPr/>
        </p:nvSpPr>
        <p:spPr>
          <a:xfrm>
            <a:off x="5857920" y="4000680"/>
            <a:ext cx="13572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Line 2"/>
          <p:cNvSpPr/>
          <p:nvPr/>
        </p:nvSpPr>
        <p:spPr>
          <a:xfrm>
            <a:off x="5051520" y="4071960"/>
            <a:ext cx="46080" cy="571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4214880" y="4572000"/>
            <a:ext cx="1928880" cy="71424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елаксация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6000840" y="5143680"/>
            <a:ext cx="221436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Пальчиковая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Гимнастика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6072120" y="3714840"/>
            <a:ext cx="1071720" cy="642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AutoShape 9"/>
          <p:cNvSpPr/>
          <p:nvPr/>
        </p:nvSpPr>
        <p:spPr>
          <a:xfrm>
            <a:off x="6929280" y="4071960"/>
            <a:ext cx="221472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Times New Roman"/>
              </a:rPr>
              <a:t>Гимнастика для глаз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Line 2"/>
          <p:cNvSpPr/>
          <p:nvPr/>
        </p:nvSpPr>
        <p:spPr>
          <a:xfrm>
            <a:off x="6143760" y="3429000"/>
            <a:ext cx="78552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6929280" y="3000240"/>
            <a:ext cx="2214720" cy="100044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imes New Roman"/>
              </a:rPr>
              <a:t>Дыхательная гимнастика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Line 2"/>
          <p:cNvSpPr/>
          <p:nvPr/>
        </p:nvSpPr>
        <p:spPr>
          <a:xfrm flipV="1">
            <a:off x="5857920" y="2571480"/>
            <a:ext cx="1143000" cy="50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29280" y="1857240"/>
            <a:ext cx="2214720" cy="100044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Times New Roman"/>
              </a:rPr>
              <a:t>Точечный самомассаж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Line 2"/>
          <p:cNvSpPr/>
          <p:nvPr/>
        </p:nvSpPr>
        <p:spPr>
          <a:xfrm flipV="1">
            <a:off x="5572080" y="2286000"/>
            <a:ext cx="428760" cy="642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4929120" y="1357200"/>
            <a:ext cx="250056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Times New Roman"/>
              </a:rPr>
              <a:t>Гимнастика корригирующая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643120" y="1285920"/>
            <a:ext cx="221472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imes New Roman"/>
              </a:rPr>
              <a:t>Утреняя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imes New Roman"/>
              </a:rPr>
              <a:t>Гимнастика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Line 2"/>
          <p:cNvSpPr/>
          <p:nvPr/>
        </p:nvSpPr>
        <p:spPr>
          <a:xfrm flipH="1" flipV="1">
            <a:off x="4429080" y="2143080"/>
            <a:ext cx="285840" cy="642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Line 2"/>
          <p:cNvSpPr/>
          <p:nvPr/>
        </p:nvSpPr>
        <p:spPr>
          <a:xfrm flipH="1" flipV="1">
            <a:off x="2642760" y="2786040"/>
            <a:ext cx="1143000" cy="357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214200" y="2143080"/>
            <a:ext cx="2500560" cy="1000080"/>
          </a:xfrm>
          <a:prstGeom prst="cloudCallout">
            <a:avLst>
              <a:gd name="adj1" fmla="val -46074"/>
              <a:gd name="adj2" fmla="val 28259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600" spc="-1" strike="noStrike">
                <a:solidFill>
                  <a:srgbClr val="009973"/>
                </a:solidFill>
                <a:latin typeface="Times New Roman"/>
              </a:rPr>
              <a:t>Физкультурное заняти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6" name="Picture 2" descr="G:\АНИМ\бабочки1\B_Fly02.gif"/>
          <p:cNvPicPr/>
          <p:nvPr/>
        </p:nvPicPr>
        <p:blipFill>
          <a:blip r:embed="rId2"/>
          <a:stretch/>
        </p:blipFill>
        <p:spPr>
          <a:xfrm>
            <a:off x="214200" y="500040"/>
            <a:ext cx="1785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109" descr=""/>
          <p:cNvPicPr/>
          <p:nvPr/>
        </p:nvPicPr>
        <p:blipFill>
          <a:blip r:embed="rId1"/>
          <a:stretch/>
        </p:blipFill>
        <p:spPr>
          <a:xfrm>
            <a:off x="1090440" y="-23760"/>
            <a:ext cx="7394760" cy="1334880"/>
          </a:xfrm>
          <a:prstGeom prst="rect">
            <a:avLst/>
          </a:prstGeom>
          <a:ln w="0">
            <a:noFill/>
          </a:ln>
        </p:spPr>
      </p:pic>
      <p:pic>
        <p:nvPicPr>
          <p:cNvPr id="488" name="Группа 7" descr=""/>
          <p:cNvPicPr/>
          <p:nvPr/>
        </p:nvPicPr>
        <p:blipFill>
          <a:blip r:embed="rId2"/>
          <a:stretch/>
        </p:blipFill>
        <p:spPr>
          <a:xfrm>
            <a:off x="1255680" y="5340240"/>
            <a:ext cx="2736720" cy="1176480"/>
          </a:xfrm>
          <a:prstGeom prst="rect">
            <a:avLst/>
          </a:prstGeom>
          <a:ln w="0">
            <a:noFill/>
          </a:ln>
        </p:spPr>
      </p:pic>
      <p:pic>
        <p:nvPicPr>
          <p:cNvPr id="489" name="Группа 10" descr=""/>
          <p:cNvPicPr/>
          <p:nvPr/>
        </p:nvPicPr>
        <p:blipFill>
          <a:blip r:embed="rId3"/>
          <a:stretch/>
        </p:blipFill>
        <p:spPr>
          <a:xfrm>
            <a:off x="4011480" y="5321160"/>
            <a:ext cx="395280" cy="744840"/>
          </a:xfrm>
          <a:prstGeom prst="rect">
            <a:avLst/>
          </a:prstGeom>
          <a:ln w="0">
            <a:noFill/>
          </a:ln>
        </p:spPr>
      </p:pic>
      <p:grpSp>
        <p:nvGrpSpPr>
          <p:cNvPr id="490" name="Группа 13"/>
          <p:cNvGrpSpPr/>
          <p:nvPr/>
        </p:nvGrpSpPr>
        <p:grpSpPr>
          <a:xfrm>
            <a:off x="1571760" y="1500120"/>
            <a:ext cx="3112920" cy="1177920"/>
            <a:chOff x="1571760" y="1500120"/>
            <a:chExt cx="3112920" cy="1177920"/>
          </a:xfrm>
        </p:grpSpPr>
        <p:sp>
          <p:nvSpPr>
            <p:cNvPr id="491" name="Блок-схема: альтернативный процесс 14"/>
            <p:cNvSpPr/>
            <p:nvPr/>
          </p:nvSpPr>
          <p:spPr>
            <a:xfrm>
              <a:off x="1571760" y="1500120"/>
              <a:ext cx="3112920" cy="1177920"/>
            </a:xfrm>
            <a:prstGeom prst="flowChartAlternateProcess">
              <a:avLst/>
            </a:prstGeom>
            <a:solidFill>
              <a:srgbClr val="00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Блок-схема: альтернативный процесс 4"/>
            <p:cNvSpPr/>
            <p:nvPr/>
          </p:nvSpPr>
          <p:spPr>
            <a:xfrm>
              <a:off x="1676520" y="1591920"/>
              <a:ext cx="29034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2060"/>
                  </a:solidFill>
                  <a:latin typeface="Times New Roman"/>
                </a:rPr>
                <a:t>Ознакомление с теоретическими основами методики, технологии </a:t>
              </a:r>
              <a:endParaRPr b="1" i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493" name="Группа 16" descr=""/>
          <p:cNvPicPr/>
          <p:nvPr/>
        </p:nvPicPr>
        <p:blipFill>
          <a:blip r:embed="rId4"/>
          <a:stretch/>
        </p:blipFill>
        <p:spPr>
          <a:xfrm>
            <a:off x="4664160" y="1609560"/>
            <a:ext cx="468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494" name="Группа 19"/>
          <p:cNvGrpSpPr/>
          <p:nvPr/>
        </p:nvGrpSpPr>
        <p:grpSpPr>
          <a:xfrm>
            <a:off x="5062680" y="1180800"/>
            <a:ext cx="3405600" cy="1782000"/>
            <a:chOff x="5062680" y="1180800"/>
            <a:chExt cx="3405600" cy="1782000"/>
          </a:xfrm>
        </p:grpSpPr>
        <p:sp>
          <p:nvSpPr>
            <p:cNvPr id="495" name="Блок-схема: альтернативный процесс 20"/>
            <p:cNvSpPr/>
            <p:nvPr/>
          </p:nvSpPr>
          <p:spPr>
            <a:xfrm rot="545400">
              <a:off x="5143680" y="1428840"/>
              <a:ext cx="3243240" cy="1285920"/>
            </a:xfrm>
            <a:prstGeom prst="flowChartAlternateProcess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Блок-схема: альтернативный процесс 4"/>
            <p:cNvSpPr/>
            <p:nvPr/>
          </p:nvSpPr>
          <p:spPr>
            <a:xfrm rot="545400">
              <a:off x="5248080" y="1492200"/>
              <a:ext cx="303372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99ffcc"/>
                  </a:solidFill>
                  <a:latin typeface="Times New Roman"/>
                </a:rPr>
                <a:t>Изучение мнения родителей и получения семейной поддержки </a:t>
              </a:r>
              <a:endParaRPr b="1" i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497" name="Группа 22" descr=""/>
          <p:cNvPicPr/>
          <p:nvPr/>
        </p:nvPicPr>
        <p:blipFill>
          <a:blip r:embed="rId5"/>
          <a:stretch/>
        </p:blipFill>
        <p:spPr>
          <a:xfrm>
            <a:off x="7491240" y="2968560"/>
            <a:ext cx="702000" cy="487440"/>
          </a:xfrm>
          <a:prstGeom prst="rect">
            <a:avLst/>
          </a:prstGeom>
          <a:ln w="0">
            <a:noFill/>
          </a:ln>
        </p:spPr>
      </p:pic>
      <p:pic>
        <p:nvPicPr>
          <p:cNvPr id="498" name="Группа 28" descr=""/>
          <p:cNvPicPr/>
          <p:nvPr/>
        </p:nvPicPr>
        <p:blipFill>
          <a:blip r:embed="rId6"/>
          <a:stretch/>
        </p:blipFill>
        <p:spPr>
          <a:xfrm>
            <a:off x="6967440" y="4791240"/>
            <a:ext cx="585720" cy="566640"/>
          </a:xfrm>
          <a:prstGeom prst="rect">
            <a:avLst/>
          </a:prstGeom>
          <a:ln w="0">
            <a:noFill/>
          </a:ln>
        </p:spPr>
      </p:pic>
      <p:grpSp>
        <p:nvGrpSpPr>
          <p:cNvPr id="499" name="Группа 31"/>
          <p:cNvGrpSpPr/>
          <p:nvPr/>
        </p:nvGrpSpPr>
        <p:grpSpPr>
          <a:xfrm>
            <a:off x="4500720" y="5214960"/>
            <a:ext cx="2563560" cy="1233360"/>
            <a:chOff x="4500720" y="5214960"/>
            <a:chExt cx="2563560" cy="1233360"/>
          </a:xfrm>
        </p:grpSpPr>
        <p:sp>
          <p:nvSpPr>
            <p:cNvPr id="500" name="Блок-схема: альтернативный процесс 32"/>
            <p:cNvSpPr/>
            <p:nvPr/>
          </p:nvSpPr>
          <p:spPr>
            <a:xfrm>
              <a:off x="4500720" y="5214960"/>
              <a:ext cx="2563560" cy="1233360"/>
            </a:xfrm>
            <a:prstGeom prst="flowChartAlternateProcess">
              <a:avLst/>
            </a:prstGeom>
            <a:solidFill>
              <a:srgbClr val="8572f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Блок-схема: альтернативный процесс 4"/>
            <p:cNvSpPr/>
            <p:nvPr/>
          </p:nvSpPr>
          <p:spPr>
            <a:xfrm>
              <a:off x="4605480" y="5275080"/>
              <a:ext cx="23540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990033"/>
                  </a:solidFill>
                  <a:latin typeface="Times New Roman"/>
                </a:rPr>
                <a:t>Анализ результатов использования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1" i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02" name="Блок-схема: альтернативный процесс 34"/>
          <p:cNvSpPr/>
          <p:nvPr/>
        </p:nvSpPr>
        <p:spPr>
          <a:xfrm>
            <a:off x="214200" y="3357720"/>
            <a:ext cx="2590920" cy="1374480"/>
          </a:xfrm>
          <a:prstGeom prst="flowChartAlternateProcess">
            <a:avLst/>
          </a:prstGeom>
          <a:solidFill>
            <a:srgbClr val="00997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SzPct val="6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ffccff"/>
              </a:buClr>
              <a:buSzPct val="6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90bde8"/>
                </a:solidFill>
                <a:latin typeface="Arial"/>
              </a:rPr>
              <a:t>Показ результатов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3" name="Группа 35" descr=""/>
          <p:cNvPicPr/>
          <p:nvPr/>
        </p:nvPicPr>
        <p:blipFill>
          <a:blip r:embed="rId7"/>
          <a:stretch/>
        </p:blipFill>
        <p:spPr>
          <a:xfrm>
            <a:off x="1554120" y="4724280"/>
            <a:ext cx="744480" cy="549360"/>
          </a:xfrm>
          <a:prstGeom prst="rect">
            <a:avLst/>
          </a:prstGeom>
          <a:ln w="0">
            <a:noFill/>
          </a:ln>
        </p:spPr>
      </p:pic>
      <p:pic>
        <p:nvPicPr>
          <p:cNvPr id="504" name="Группа 38" descr=""/>
          <p:cNvPicPr/>
          <p:nvPr/>
        </p:nvPicPr>
        <p:blipFill>
          <a:blip r:embed="rId8"/>
          <a:stretch/>
        </p:blipFill>
        <p:spPr>
          <a:xfrm>
            <a:off x="950760" y="2724120"/>
            <a:ext cx="633600" cy="579600"/>
          </a:xfrm>
          <a:prstGeom prst="rect">
            <a:avLst/>
          </a:prstGeom>
          <a:ln w="0">
            <a:noFill/>
          </a:ln>
        </p:spPr>
      </p:pic>
      <p:grpSp>
        <p:nvGrpSpPr>
          <p:cNvPr id="505" name="Группа 44"/>
          <p:cNvGrpSpPr/>
          <p:nvPr/>
        </p:nvGrpSpPr>
        <p:grpSpPr>
          <a:xfrm>
            <a:off x="5559480" y="2857320"/>
            <a:ext cx="3584520" cy="2548080"/>
            <a:chOff x="5559480" y="2857320"/>
            <a:chExt cx="3584520" cy="2548080"/>
          </a:xfrm>
        </p:grpSpPr>
        <p:sp>
          <p:nvSpPr>
            <p:cNvPr id="506" name="Блок-схема: альтернативный процесс 45"/>
            <p:cNvSpPr/>
            <p:nvPr/>
          </p:nvSpPr>
          <p:spPr>
            <a:xfrm rot="1383000">
              <a:off x="5692680" y="3452400"/>
              <a:ext cx="3318120" cy="1357200"/>
            </a:xfrm>
            <a:prstGeom prst="flowChartAlternateProcess">
              <a:avLst/>
            </a:prstGeom>
            <a:solidFill>
              <a:srgbClr val="f96da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Блок-схема: альтернативный процесс 4"/>
            <p:cNvSpPr/>
            <p:nvPr/>
          </p:nvSpPr>
          <p:spPr>
            <a:xfrm rot="1383000">
              <a:off x="5793840" y="3519360"/>
              <a:ext cx="311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buClr>
                  <a:srgbClr val="00763b"/>
                </a:buClr>
                <a:buSzPct val="60000"/>
                <a:buFont typeface="Times New Roman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90bde8"/>
                  </a:solidFill>
                  <a:latin typeface="Times New Roman"/>
                </a:rPr>
                <a:t>Создание условий и формирования необходимого материала </a:t>
              </a:r>
              <a:endParaRPr b="1" i="1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508" name="Picture 20" descr="ншуш"/>
          <p:cNvPicPr/>
          <p:nvPr/>
        </p:nvPicPr>
        <p:blipFill>
          <a:blip r:embed="rId9"/>
          <a:stretch/>
        </p:blipFill>
        <p:spPr>
          <a:xfrm>
            <a:off x="3571920" y="314316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2"/>
          <p:cNvSpPr/>
          <p:nvPr/>
        </p:nvSpPr>
        <p:spPr>
          <a:xfrm>
            <a:off x="571680" y="35712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0" name="WordArt 4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3975120" cy="214020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115"/>
          <p:cNvSpPr/>
          <p:nvPr/>
        </p:nvSpPr>
        <p:spPr>
          <a:xfrm>
            <a:off x="1714680" y="3500280"/>
            <a:ext cx="6715080" cy="785880"/>
          </a:xfrm>
          <a:custGeom>
            <a:avLst/>
            <a:gdLst>
              <a:gd name="textAreaLeft" fmla="*/ 1678680 w 6715080"/>
              <a:gd name="textAreaRight" fmla="*/ 5036400 w 6715080"/>
              <a:gd name="textAreaTop" fmla="*/ 9828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Сотрудничество с родителями</a:t>
            </a:r>
            <a:endParaRPr b="1" i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Oval 120"/>
          <p:cNvSpPr/>
          <p:nvPr/>
        </p:nvSpPr>
        <p:spPr>
          <a:xfrm>
            <a:off x="214200" y="2071800"/>
            <a:ext cx="2500560" cy="121752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овместны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физкультурные досуги,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праздники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Oval 117"/>
          <p:cNvSpPr/>
          <p:nvPr/>
        </p:nvSpPr>
        <p:spPr>
          <a:xfrm>
            <a:off x="3500280" y="1928880"/>
            <a:ext cx="2214720" cy="107136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Родительски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обрания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Oval 121"/>
          <p:cNvSpPr/>
          <p:nvPr/>
        </p:nvSpPr>
        <p:spPr>
          <a:xfrm>
            <a:off x="6572160" y="2143080"/>
            <a:ext cx="2143080" cy="107172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Индивидуальны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консультации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Oval 116"/>
          <p:cNvSpPr/>
          <p:nvPr/>
        </p:nvSpPr>
        <p:spPr>
          <a:xfrm>
            <a:off x="142920" y="4429080"/>
            <a:ext cx="2286000" cy="11494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истема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домашних заданий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Oval 118"/>
          <p:cNvSpPr/>
          <p:nvPr/>
        </p:nvSpPr>
        <p:spPr>
          <a:xfrm>
            <a:off x="3286080" y="4929120"/>
            <a:ext cx="2428920" cy="1143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овместные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физкультурные 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занятия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Oval 119"/>
          <p:cNvSpPr/>
          <p:nvPr/>
        </p:nvSpPr>
        <p:spPr>
          <a:xfrm>
            <a:off x="6572160" y="4500720"/>
            <a:ext cx="2357640" cy="10839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Семейный клуб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«Здоровая семейка»</a:t>
            </a:r>
            <a:endParaRPr b="1" i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071960" y="0"/>
            <a:ext cx="5286240" cy="173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763b"/>
              </a:buClr>
              <a:buSzPct val="60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Times New Roman"/>
              </a:rPr>
              <a:t>Педагоги выстраивают партнерские отношения с родителями, чтобы обеспечить оптимальную поддержку для удовлетворения потребностей, возникающих у детей в процессе обучения и развития.</a:t>
            </a:r>
            <a:endParaRPr b="1" i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9" name="Picture 11" descr="flowers32"/>
          <p:cNvPicPr/>
          <p:nvPr/>
        </p:nvPicPr>
        <p:blipFill>
          <a:blip r:embed="rId2"/>
          <a:stretch/>
        </p:blipFill>
        <p:spPr>
          <a:xfrm>
            <a:off x="1928880" y="521496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flowers32"/>
          <p:cNvPicPr/>
          <p:nvPr/>
        </p:nvPicPr>
        <p:blipFill>
          <a:blip r:embed="rId3"/>
          <a:stretch/>
        </p:blipFill>
        <p:spPr>
          <a:xfrm>
            <a:off x="5786280" y="5286240"/>
            <a:ext cx="129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13:11Z</dcterms:created>
  <dc:creator>Татьяна</dc:creator>
  <dc:description/>
  <dc:language>en-US</dc:language>
  <cp:lastModifiedBy>Семен</cp:lastModifiedBy>
  <dcterms:modified xsi:type="dcterms:W3CDTF">2013-11-19T14:12:08Z</dcterms:modified>
  <cp:revision>151</cp:revision>
  <dc:subject/>
  <dc:title>Будущее за молодежью</dc:title>
</cp:coreProperties>
</file>