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9FC-3867-45C4-BCA5-E743043BB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A992-EEE6-40EF-9361-3CE2779289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5337-2643-49B3-9CB7-5542546497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CA2-C03E-4832-84A7-7412A7F8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896-15A5-4041-A1D7-49459589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91B-BBB1-47C2-B6FD-2FBC6063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5CD-F39E-4D4B-8F06-AB198EA9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D79-64C7-418E-A30B-D35E98B7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AE6-6E51-4766-84E2-F38A34A2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CE5E-3246-4E31-B147-91BDB954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0BB0-1322-43F0-91BC-4F79077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72DE-C12F-43EF-AC68-59BB9BD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EE0A-A3FE-4D7C-B4FA-E0280425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934C-207E-477F-9D3A-B26A119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0D7-FBA9-482F-B580-4AB2D55E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A7CC-FE1A-4CE4-A39D-83CC4C4D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818-1A7B-445D-8FAF-F685D10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898-57B5-45A0-A1F0-0EAC881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D57-CA32-4C05-9275-2A192BE4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C7C-9C33-4C97-9D68-A77F17E6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325-B61E-4BFA-8163-442C521B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D65-7C26-453D-B69D-32AA8FBE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42D-4756-495E-BA03-525C9FB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BDF-BA67-47B4-A6B9-17A7B6CB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04A-9B8F-476E-99A7-6D8638C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B1C-E8D6-430B-B269-108EEB5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3EF-2591-44F9-AA25-FE68C3B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5631-EDF9-473F-95AD-B043A38A25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8156-9284-4F59-936A-40BBC2AB393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moemesto.ru/detsad4/file/14630800/samn.jpg"/>
          <p:cNvPicPr/>
          <p:nvPr/>
        </p:nvPicPr>
        <p:blipFill>
          <a:blip r:embed="rId1"/>
          <a:stretch/>
        </p:blipFill>
        <p:spPr>
          <a:xfrm>
            <a:off x="-1428840" y="0"/>
            <a:ext cx="11808000" cy="7072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1428840" y="0"/>
            <a:ext cx="7500960" cy="916920"/>
          </a:xfrm>
          <a:prstGeom prst="rect">
            <a:avLst/>
          </a:prstGeom>
          <a:solidFill>
            <a:srgbClr val="f1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Основная общеобразовательная школа №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. Сосновоборска (дошкольные групп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357200" y="2571840"/>
            <a:ext cx="721548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4"/>
                </a:solidFill>
                <a:latin typeface="Georgia"/>
                <a:ea typeface="Calibri"/>
              </a:rPr>
              <a:t>Долгосрочный проек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4"/>
                </a:solidFill>
                <a:latin typeface="Georgia"/>
                <a:ea typeface="Calibri"/>
              </a:rPr>
              <a:t>Практико-ориентир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21214"/>
                </a:solidFill>
                <a:latin typeface="Georgia"/>
                <a:ea typeface="Calibri"/>
              </a:rPr>
              <a:t>«Формирование привычки  ведения здорового образа жиз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21214"/>
                </a:solidFill>
                <a:latin typeface="Georgia"/>
                <a:ea typeface="Calibri"/>
              </a:rPr>
              <a:t>у семей воспитанник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-1357200" y="550080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aac6"/>
                </a:solidFill>
                <a:latin typeface="Georgia"/>
                <a:ea typeface="Times New Roman"/>
              </a:rPr>
              <a:t>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1714680" y="600084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0"/>
                </a:solidFill>
                <a:latin typeface="Monotype Corsiva"/>
                <a:ea typeface="Aharoni"/>
              </a:rPr>
              <a:t>Средняя группа «Б »  «Корабл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0"/>
                </a:solidFill>
                <a:latin typeface="Monotype Corsiva"/>
                <a:ea typeface="Aharoni"/>
              </a:rPr>
              <a:t>Воспитатель: Любарец Елена Валери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https://im3-tub-ru.yandex.net/i?id=e98efc9990f1112d01bb1c0cca25ab0e&amp;n=21"/>
          <p:cNvPicPr/>
          <p:nvPr/>
        </p:nvPicPr>
        <p:blipFill>
          <a:blip r:embed="rId2"/>
          <a:stretch/>
        </p:blipFill>
        <p:spPr>
          <a:xfrm>
            <a:off x="3500280" y="928800"/>
            <a:ext cx="23529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Краткосрочные и долгосрочные результат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ое участие родителей в образовательном процессе дошк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http://fanread.ru/img/g/?src=8649321&amp;i=3&amp;ext=jpg"/>
          <p:cNvPicPr/>
          <p:nvPr/>
        </p:nvPicPr>
        <p:blipFill>
          <a:blip r:embed="rId1"/>
          <a:stretch/>
        </p:blipFill>
        <p:spPr>
          <a:xfrm>
            <a:off x="-857160" y="-285840"/>
            <a:ext cx="11691720" cy="7143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-214200" y="23572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Краткосрочные и долгосрочные результ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0" y="307188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Краткосроч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Семьи воспитанников получат информацию о пользе ведения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чнут принимать активное участие в проводимых детским садом мероприятиях по сохранению и укреплению здоров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Долгосрочны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1. Дети и их родители начнут самостоятельно и вне стен детского сада вести здоровый образ жизни, то есть у них сформируется привычка к ведению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Оценка эффективности реализации проект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2" descr="http://moemesto.ru/detsad4/file/14630800/samn.jpg"/>
          <p:cNvPicPr/>
          <p:nvPr/>
        </p:nvPicPr>
        <p:blipFill>
          <a:blip r:embed="rId1"/>
          <a:stretch/>
        </p:blipFill>
        <p:spPr>
          <a:xfrm>
            <a:off x="-1571760" y="-214200"/>
            <a:ext cx="11808000" cy="7072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571680" y="71424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Оценка эффективности реализации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1857240" y="2286000"/>
            <a:ext cx="6072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1.   Анкетирование родителей по вопросам здоровьесбере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2.   Викторина для семей воспитан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3.   Анализ посещаемости и заболеваемости в групп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4.   Анализ участия родителей в проводимых детским садом  физкультурно-оздоровительных мероприят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fanread.ru/img/g/?src=8649321&amp;i=3&amp;ext=jpg"/>
          <p:cNvPicPr/>
          <p:nvPr/>
        </p:nvPicPr>
        <p:blipFill>
          <a:blip r:embed="rId1"/>
          <a:stretch/>
        </p:blipFill>
        <p:spPr>
          <a:xfrm>
            <a:off x="-857160" y="-285840"/>
            <a:ext cx="11691720" cy="71438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214200" y="25002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Оценка рис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3429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1. Для формирования любых привычек, в том числе и привычки вести здоровый образ жизни, необходимо врем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2. Не все семьи готовы отказаться от вредных привычек и начать вести здоровый образ жизни, даже по истечению определенного промежутка вре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Дальнейшее развитие проект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http://moemesto.ru/detsad4/file/14630800/samn.jpg"/>
          <p:cNvPicPr/>
          <p:nvPr/>
        </p:nvPicPr>
        <p:blipFill>
          <a:blip r:embed="rId1"/>
          <a:stretch/>
        </p:blipFill>
        <p:spPr>
          <a:xfrm>
            <a:off x="-1571760" y="-214200"/>
            <a:ext cx="11808000" cy="70722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428760" y="1143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161616"/>
                </a:solidFill>
                <a:latin typeface="Arial"/>
              </a:rPr>
              <a:t>Дальнейшее развитие проек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1785960" y="185724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После окончания проекта наша работа по здоровьесбережению с семьями воспитанников будет продолжена в следующих направления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Ознакомление с основами рационального 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аливание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Выработка навыков личной гигие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Профилактика и устранение вредных привыч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нятие физической культурой, совместные физкультурные праздники и досу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Совместное изготовление наглядных пособий для «Уголка здоровь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5"/>
          <p:cNvSpPr/>
          <p:nvPr/>
        </p:nvSpPr>
        <p:spPr>
          <a:xfrm>
            <a:off x="2286000" y="1859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http://www.playcast.ru/uploads/2014/12/01/10883836.png"/>
          <p:cNvPicPr/>
          <p:nvPr/>
        </p:nvPicPr>
        <p:blipFill>
          <a:blip r:embed="rId1"/>
          <a:stretch/>
        </p:blipFill>
        <p:spPr>
          <a:xfrm>
            <a:off x="-1143000" y="0"/>
            <a:ext cx="10872720" cy="6643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500120" y="358524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Основы здоровья закладываются с самого раннего возраста, поэтому воспитателям и родителям необходимо приложить совместные усилия для закрепления у детей необходимых навыков и знаний. Для успешности формирования здорового образа жизни важно привлечение родителей к воспитательному процессу в детском саду, вести валеологическое просвещение родителей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857160" y="178596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Актуальность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643040" y="2786040"/>
            <a:ext cx="61293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4227"/>
                </a:solidFill>
                <a:latin typeface="Arial"/>
              </a:rPr>
              <a:t>Как показало анкетирование, у большинства семей воспитанников не сформирована привычка ведения здорового образа жизни, что в будущем может существенно отразиться на здоровье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5" descr="http://repository.dnu.dp.ua:1100/upload/e4fa21fcc5d95c4f80d7f7effd34c2f5image001.jpg"/>
          <p:cNvPicPr/>
          <p:nvPr/>
        </p:nvPicPr>
        <p:blipFill>
          <a:blip r:embed="rId1"/>
          <a:stretch/>
        </p:blipFill>
        <p:spPr>
          <a:xfrm>
            <a:off x="2786040" y="285840"/>
            <a:ext cx="38577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857680" y="1643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161616"/>
                </a:solidFill>
                <a:latin typeface="Arial"/>
              </a:rPr>
              <a:t>Пробл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http://www.playcast.ru/uploads/2014/12/01/10883836.png"/>
          <p:cNvPicPr/>
          <p:nvPr/>
        </p:nvPicPr>
        <p:blipFill>
          <a:blip r:embed="rId1"/>
          <a:stretch/>
        </p:blipFill>
        <p:spPr>
          <a:xfrm>
            <a:off x="-1357200" y="0"/>
            <a:ext cx="111441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357200" y="2357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714680" y="4572000"/>
            <a:ext cx="70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Сформировать у семей воспитанников привычку ведения здорового образа жизни через привлечение родителей к участию в образовательном процес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fanread.ru/img/g/?src=8649321&amp;i=3&amp;ext=jpg"/>
          <p:cNvPicPr/>
          <p:nvPr/>
        </p:nvPicPr>
        <p:blipFill>
          <a:blip r:embed="rId1"/>
          <a:stretch/>
        </p:blipFill>
        <p:spPr>
          <a:xfrm>
            <a:off x="-1357200" y="-285840"/>
            <a:ext cx="12191760" cy="71438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-1143000" y="2000160"/>
            <a:ext cx="5000760" cy="642600"/>
          </a:xfrm>
          <a:prstGeom prst="rect">
            <a:avLst/>
          </a:prstGeom>
          <a:solidFill>
            <a:srgbClr val="dfe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-1000080" y="2857680"/>
            <a:ext cx="11542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-285840" y="3071880"/>
            <a:ext cx="700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4a4a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Познакомить семьи воспитанников с основными нормами и правилами ведения здорового обра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4a4a6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Привлечь  родителей к участию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образовательном  процес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6e"/>
                </a:solidFill>
                <a:latin typeface="Arial"/>
              </a:rPr>
              <a:t>3.    Сформировать у детей и их родителей привычку ведения здорового образа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21219"/>
                </a:solidFill>
                <a:latin typeface="Arial"/>
              </a:rPr>
              <a:t>Участники проект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Содержимое 4" descr="http://lipetsk40.ucoz.ru/sport_detjam.jpg"/>
          <p:cNvPicPr/>
          <p:nvPr/>
        </p:nvPicPr>
        <p:blipFill>
          <a:blip r:embed="rId1"/>
          <a:stretch/>
        </p:blipFill>
        <p:spPr>
          <a:xfrm>
            <a:off x="571680" y="1357200"/>
            <a:ext cx="325728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357120" y="428616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Целевая аудитория – 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семьи воспитан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6" descr="http://ddu310.minsk.edu.by/sm_full.aspx?guid=2853"/>
          <p:cNvPicPr/>
          <p:nvPr/>
        </p:nvPicPr>
        <p:blipFill>
          <a:blip r:embed="rId2"/>
          <a:stretch/>
        </p:blipFill>
        <p:spPr>
          <a:xfrm>
            <a:off x="4714920" y="1357200"/>
            <a:ext cx="3929040" cy="2571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8"/>
          <p:cNvSpPr/>
          <p:nvPr/>
        </p:nvSpPr>
        <p:spPr>
          <a:xfrm>
            <a:off x="4643280" y="4286160"/>
            <a:ext cx="4500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Исполнители проекта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 – воспитатель, инструктор по физическому воспитанию, мед. сестра дошкольных групп, семьи воспитан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playcast.ru/uploads/2014/12/01/10883836.png"/>
          <p:cNvPicPr/>
          <p:nvPr/>
        </p:nvPicPr>
        <p:blipFill>
          <a:blip r:embed="rId1"/>
          <a:stretch/>
        </p:blipFill>
        <p:spPr>
          <a:xfrm>
            <a:off x="-1143000" y="0"/>
            <a:ext cx="10872720" cy="6643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1285920" y="14288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21219"/>
                </a:solidFill>
                <a:latin typeface="Arial"/>
              </a:rPr>
              <a:t>Ресурс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857160" y="2714760"/>
            <a:ext cx="8072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9"/>
                </a:solidFill>
                <a:latin typeface="Arial"/>
              </a:rPr>
              <a:t>1.   Информационно-метод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9"/>
                </a:solidFill>
                <a:latin typeface="Arial"/>
              </a:rPr>
              <a:t>(медико-педагогическая литература, сайт детского сада, сайты по вопросам валеологии, аудиозаписи для утренней гимнастики, уголок родительской информа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9"/>
                </a:solidFill>
                <a:latin typeface="Arial"/>
              </a:rPr>
              <a:t>Челове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9"/>
                </a:solidFill>
                <a:latin typeface="Arial"/>
              </a:rPr>
              <a:t>(консультации специалис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219"/>
                </a:solidFill>
                <a:latin typeface="Arial"/>
              </a:rPr>
              <a:t>3.   Времен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moemesto.ru/detsad4/file/14630800/samn.jpg"/>
          <p:cNvPicPr/>
          <p:nvPr/>
        </p:nvPicPr>
        <p:blipFill>
          <a:blip r:embed="rId1"/>
          <a:stretch/>
        </p:blipFill>
        <p:spPr>
          <a:xfrm>
            <a:off x="-1571760" y="-214200"/>
            <a:ext cx="11808000" cy="70722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714240" y="57168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Стратегия и механизмы достижения поставленных ц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42960" y="1785960"/>
            <a:ext cx="71438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Стратегия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– только совместная работа сотрудников детского сада и семей воспитанников может привести к положительному результа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Механизмы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- родительские собрания, памятки, стенды, «уголок здоровья», тематические утренники, совместные физкультурные праздники, открытые занятия, личный пример воспит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Рабочий план </a:t>
            </a:r>
            <a:br>
              <a:rPr sz="4000"/>
            </a:b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реализации проекта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http://fanread.ru/img/g/?src=8649321&amp;i=3&amp;ext=jpg"/>
          <p:cNvPicPr/>
          <p:nvPr/>
        </p:nvPicPr>
        <p:blipFill>
          <a:blip r:embed="rId1"/>
          <a:stretch/>
        </p:blipFill>
        <p:spPr>
          <a:xfrm>
            <a:off x="-642960" y="-285840"/>
            <a:ext cx="11692080" cy="7143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0" y="1357200"/>
            <a:ext cx="63579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21219"/>
                </a:solidFill>
                <a:latin typeface="Arial"/>
              </a:rPr>
              <a:t>План реализации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21219"/>
                </a:solidFill>
                <a:latin typeface="Arial"/>
              </a:rPr>
              <a:t>1 этап. Подготовительны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изучение медико-педагогической литерат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анкетирование родителей по данной пробле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уточнение данных о здоровье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разработка физкультурно-оздоровительных мероприят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21219"/>
                </a:solidFill>
                <a:latin typeface="Arial"/>
              </a:rPr>
              <a:t>2. этап. Основной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профилактические мероприятия (родительские собрания, памятки, стенды, уголок здоровь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оздоровительные мероприятия (утренняя гимнастика, НОД по фк, дыхательная, пальчиковая, зрительная гимнастика, тематические утренники, совместные физ. праздники, открытые занят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21219"/>
                </a:solidFill>
                <a:latin typeface="Arial"/>
              </a:rPr>
              <a:t>3 этап. Заключительны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физ.праздник с участием родителей «Здоровье – главное богатство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создание банка методических разработ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творческая выставка «Здоровая семья – счастливый ребенок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викторина для детей и родител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2121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21219"/>
                </a:solidFill>
                <a:latin typeface="Arial"/>
              </a:rPr>
              <a:t>анкетирование роди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7T13:30:39Z</dcterms:created>
  <dc:creator>User</dc:creator>
  <dc:description/>
  <dc:language>en-US</dc:language>
  <cp:lastModifiedBy>группа</cp:lastModifiedBy>
  <dcterms:modified xsi:type="dcterms:W3CDTF">2018-01-02T11:29:00Z</dcterms:modified>
  <cp:revision>111</cp:revision>
  <dc:subject/>
  <dc:title>Слайд 1</dc:title>
</cp:coreProperties>
</file>