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091D-5CED-4834-B719-96030B460D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685F-9A13-4113-AE06-146D6D61FD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CDF9-FB72-4582-8963-4D1B31F363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9CE5-6BD9-453B-8C0D-89069E61F1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85D3-7745-4E06-9D91-BD3C270FE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79D3-2A45-4DFC-B820-202E353A98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71BC-6FBC-418C-9304-30D7D9455D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8BE-0ED5-4137-BAE4-C6DEB152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0F2-20DC-4495-9797-89C4A4CA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5060-A44A-43D6-BF02-53A57324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823-24B8-48EA-915F-337FF24B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F1A-518F-4AB4-B559-B8A64C68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DFF-B952-4EBE-BDC7-DD45105B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B95-1812-4380-8002-BB7A6E97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08DB-53F6-4D52-B777-76475D37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55E-DFE3-41CF-9841-C960C0CE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6B2-8CFA-4154-8BF3-D41CA6E0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70B-4F4F-4A32-A25B-467E7F4F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97D-33BF-440A-A541-AF27E2EC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9E83-B4A4-47EB-9AFC-6CB2674A8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Внедрение ФГОС в начальных класс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предметны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а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учающихся относятся освоенный обучающимися в ходе изучения учебного предмета опыт специфической для данной предметной области  деятельности по получению нового знания, его преобразованию и применению, а также система основополагающих элементов научного знания, лежащая в основе современной научной картины ми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зисный учебный (образовательный) план образовательных учреждений Р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ное чт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остранный язы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кусство (музыка, ИЗ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(труд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зическая куль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уроч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занятий по направлениям раздела «Внеурочная деятельность»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отъемлемо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тью образовательного процесса в школе. Общеобразовательные учреждения предоставляют учащимся возможность выбора  широкого спектра занятий,   направленных на развитие школь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ы, отводимые на внеурочную деятельность, используются п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ланию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щихся и направлены на реализацию различных форм ее организации, отличных от урочной системы обучения (экскурсии, кружки, секции, круглые столы, КВНы,  научные общества, олимпиады, соревнования, поисковые и научные исследования и т.д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неурочная деяте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АВЛ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Спортивно-оздоровите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Художественно-эстетичес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Научно-познавате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Военно-патриотичес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Общественно-полезная деяте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Проектная деятельност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етентность учащихся в следующих областях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формационно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умение искать, анализировать, преобразовывать, применять информацию для решения проблем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ммуникативн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умение эффективно сотрудничать с другими людьми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мо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умение ставить цели, планировать, ответственно относиться к здоровью, полноценно использовать личностные ресурсы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мо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готовность конструировать и осуществлять собственную образовательную траекторию на протяжении всей жизни, обеспечивая успешность и конкурентоспособность)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ные результаты начального общего образ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универсальных и предметных способов действий, а также опорной системы знаний, обеспечивающих возможность продолжения обучения в основной школ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ние основ умения учиться – способности к самоорганизации с целью постановки и решения учебно-познавательных и учебно-практических задач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видуальный прогресс в основных сферах развития личности – мотивационно-смысловой, познавательной, эмоциональной, волевой, саморегуля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ртрет выпускника начальной шко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бознательный, активно и заинтересованно познающий ми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ладеющий основами умения учиться, способный к организации собственной деяте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бящий свой народ, свой край и свою Родин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важающий и принимающий ценности семьи и обще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ый самостоятельно действовать и отвечать за свои поступки перед семьей и обществ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рожелательный, умеющий слушать и слышать собеседника, обосновывать  свою позицию, высказывать свое мнени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яющий правила здорового и безопасного для себя и окружающих образа жиз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едеральный государственный образовательный стандарт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ачального общего образования и его реализация в УМ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5" descr="letters_sh_r copy.gif"/>
          <p:cNvPicPr/>
          <p:nvPr/>
        </p:nvPicPr>
        <p:blipFill>
          <a:blip r:embed="rId1"/>
          <a:stretch/>
        </p:blipFill>
        <p:spPr>
          <a:xfrm>
            <a:off x="541440" y="1916280"/>
            <a:ext cx="822960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0" name="Рисунок 4" descr="logo_sh_r copy.gif"/>
          <p:cNvPicPr/>
          <p:nvPr/>
        </p:nvPicPr>
        <p:blipFill>
          <a:blip r:embed="rId2"/>
          <a:stretch/>
        </p:blipFill>
        <p:spPr>
          <a:xfrm>
            <a:off x="2629080" y="2997360"/>
            <a:ext cx="3889080" cy="25635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logo_prosv_silv.gif"/>
          <p:cNvPicPr/>
          <p:nvPr/>
        </p:nvPicPr>
        <p:blipFill>
          <a:blip r:embed="rId3"/>
          <a:stretch/>
        </p:blipFill>
        <p:spPr>
          <a:xfrm>
            <a:off x="3352680" y="5626080"/>
            <a:ext cx="250524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928440" y="428760"/>
            <a:ext cx="8001000" cy="57355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зависимые международные исследования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IRL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показали, чт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МК «Школа России»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ет лучшие в России результаты, отражающие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  понимания текста над его воспроизведение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чинно-следственный,  аналитический подход в работе с текст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кцент  на  собственном  аргументированном  сужден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формальный,  занимательный  характер  вопрос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лноту  средств,  формирующих  сложные  умения  в работе с текст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актическое  совпадение  авторских  акцентов  с проверяемыми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RL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умени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856800" y="1341000"/>
            <a:ext cx="7386840" cy="52563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нцип  преемств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нцип  творч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нцип дифференциации и индивидуализации  об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нцип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нцип целостного представления о м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нцип психологической комфорт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нцип вариатив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755280" y="214200"/>
            <a:ext cx="7488360" cy="10000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Основополагающие дидактические принципы</a:t>
            </a:r>
            <a:r>
              <a:rPr b="1" lang="ru-RU" sz="2400" spc="-1" strike="noStrike">
                <a:solidFill>
                  <a:srgbClr val="c3dd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643040" y="357120"/>
            <a:ext cx="5357880" cy="1008360"/>
          </a:xfrm>
          <a:prstGeom prst="rect">
            <a:avLst/>
          </a:prstGeom>
          <a:solidFill>
            <a:srgbClr val="e6ed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ратегия 2020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Новые задач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714240" y="1714680"/>
            <a:ext cx="8001000" cy="4359960"/>
          </a:xfrm>
          <a:prstGeom prst="rect">
            <a:avLst/>
          </a:prstGeom>
          <a:solidFill>
            <a:srgbClr val="e6ed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политической культуры демократической России – подготовка поколения свободных, обеспеченных, критически мыслящих, уверенных в себе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стижение передовых позиций в глобальной экономической конкур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е социальной структуры общества в пользу среднего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репление национальной безопасности и реализацию конституционных прав гражд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Скругленный прямоугольник 7"/>
          <p:cNvSpPr/>
          <p:nvPr/>
        </p:nvSpPr>
        <p:spPr>
          <a:xfrm>
            <a:off x="857160" y="2643120"/>
            <a:ext cx="8143920" cy="3286080"/>
          </a:xfrm>
          <a:prstGeom prst="roundRect">
            <a:avLst>
              <a:gd name="adj" fmla="val 1029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1357200" y="142920"/>
            <a:ext cx="7429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ущая целевая у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МК «Школа России» и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8"/>
          <p:cNvSpPr/>
          <p:nvPr/>
        </p:nvSpPr>
        <p:spPr>
          <a:xfrm>
            <a:off x="985680" y="3214800"/>
            <a:ext cx="7872480" cy="2571480"/>
          </a:xfrm>
          <a:prstGeom prst="roundRect">
            <a:avLst>
              <a:gd name="adj" fmla="val 12963"/>
            </a:avLst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1071720" y="1285920"/>
            <a:ext cx="771516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спитание гуманного, творческого, социально активного человека – гражданина и патриота России, уважительно и бережно относящегося к среде своего обитания, к своей семье, к природному и культурному достоянию своей малой Родины, своей много-национальной страны и всего челове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временный национальный воспитательный иде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соконравственный, творческий, компетентный гражданин России, принимающий судьбу Отечества как свою личную, осознающий ответственность за  настоящее  и будущее своей страны, укорененный в духовных и культурных традициях многонационального народа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928800" y="834480"/>
            <a:ext cx="8072280" cy="57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Значитель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воспитательный  потенц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истемно выстроенный потенциал для вклю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младших школьников в учеб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Возможности для дифференцированного и личност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ориентированного образования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Преобладание проблемно-поискового методов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Практическая направленность содержания материала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опорой на социальный опыт уче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Творческие,  проектные  задания, учебные  диа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Возможности для моделирования  изучаемых 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и  явлений окружающего 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Возможности для разнообразия организационных ф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обучения, в т.ч. с использованием электронных ресур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1428840" y="14292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сновные средства реализации веду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целевой установк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УМК «Школа России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ЧЕБНО-МЕТОДИЧЕСКИЙ КОМПЛЕКС «ШКОЛА РОССИИ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95240" y="3230640"/>
            <a:ext cx="18432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Attachment"/>
          <p:cNvPicPr/>
          <p:nvPr/>
        </p:nvPicPr>
        <p:blipFill>
          <a:blip r:embed="rId1"/>
          <a:stretch/>
        </p:blipFill>
        <p:spPr>
          <a:xfrm>
            <a:off x="395280" y="1700280"/>
            <a:ext cx="783756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Attachment"/>
          <p:cNvPicPr/>
          <p:nvPr/>
        </p:nvPicPr>
        <p:blipFill>
          <a:blip r:embed="rId2"/>
          <a:stretch/>
        </p:blipFill>
        <p:spPr>
          <a:xfrm>
            <a:off x="250920" y="4437000"/>
            <a:ext cx="8497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ЧЕБНО-МЕТОДИЧЕСКИЙ КОМПЛЕКС «ШКОЛА РОСС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Attachment"/>
          <p:cNvPicPr/>
          <p:nvPr/>
        </p:nvPicPr>
        <p:blipFill>
          <a:blip r:embed="rId1"/>
          <a:stretch/>
        </p:blipFill>
        <p:spPr>
          <a:xfrm>
            <a:off x="539640" y="1989000"/>
            <a:ext cx="7993080" cy="194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Attachment"/>
          <p:cNvPicPr/>
          <p:nvPr/>
        </p:nvPicPr>
        <p:blipFill>
          <a:blip r:embed="rId2"/>
          <a:stretch/>
        </p:blipFill>
        <p:spPr>
          <a:xfrm>
            <a:off x="155520" y="4292640"/>
            <a:ext cx="83772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дзаголовок 4"/>
          <p:cNvSpPr/>
          <p:nvPr/>
        </p:nvSpPr>
        <p:spPr>
          <a:xfrm>
            <a:off x="928800" y="1357200"/>
            <a:ext cx="7858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зволяет  достичь высоких результа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ответствующих  задачам соврем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четает лучшие традиции россий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я и проверенные практ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ого процесса иннов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иболее востребованный в России и поня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857160" y="142920"/>
            <a:ext cx="80726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УМК «Школа России»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необходимо приобрести родителям первокласс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2013040409254648_big"/>
          <p:cNvPicPr/>
          <p:nvPr/>
        </p:nvPicPr>
        <p:blipFill>
          <a:blip r:embed="rId1"/>
          <a:stretch/>
        </p:blipFill>
        <p:spPr>
          <a:xfrm>
            <a:off x="755640" y="1628640"/>
            <a:ext cx="7632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н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   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 Ране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для младшего школьника в идеале должен отвечать следующим требования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ющийся, прочный, водонепроницаемый материа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большой вес (ребенок 6-7 лет может носить за спиной груз, не превышающий 10% его        собственного вес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 прочные, широкие, регулирующиеся лямки, желательно с дополнительной мягкой     обивк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ирина ранца не больше ширины плеч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ёрдая ортопедическая спинка (для хорошей осанк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няя часть ранца должна быть обита рельефной мягкой ткань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дёжные застёжки, крепкая руч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колько отделений и карман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тавки из ярких, отражающих свет материа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1" descr="http://www.sch948.edusite.ru/images/465511-6e9289457d2e3631.jpg"/>
          <p:cNvPicPr/>
          <p:nvPr/>
        </p:nvPicPr>
        <p:blipFill>
          <a:blip r:embed="rId1"/>
          <a:stretch/>
        </p:blipFill>
        <p:spPr>
          <a:xfrm>
            <a:off x="0" y="0"/>
            <a:ext cx="3132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229600" cy="59770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чки си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ветные ручки (красная, черная, зеленая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тые карандаш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ейка (деревянная) 20 с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сти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чилка закрыт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ветные карандаш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нал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традь в обычную клет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традь в узкую линей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ожки для тетрадей (плотны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ожки для учебников (плотны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пка для тетраде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нная обу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шок для сменной обу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Вещи все подписать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3" descr="http://www.school88.ru/Roditeljam/6.gif"/>
          <p:cNvPicPr/>
          <p:nvPr/>
        </p:nvPicPr>
        <p:blipFill>
          <a:blip r:embed="rId1"/>
          <a:stretch/>
        </p:blipFill>
        <p:spPr>
          <a:xfrm>
            <a:off x="6012000" y="4005360"/>
            <a:ext cx="2089080" cy="2087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" descr="http://www.school88.ru/Roditeljam/4.gif"/>
          <p:cNvPicPr/>
          <p:nvPr/>
        </p:nvPicPr>
        <p:blipFill>
          <a:blip r:embed="rId2"/>
          <a:stretch/>
        </p:blipFill>
        <p:spPr>
          <a:xfrm>
            <a:off x="6227640" y="26028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9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ля урока технолог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ная бумага (6-7 цветов)- А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ной картон (7-10 цветов)- А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стилин (6-8 цвет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щечка для пластил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ей-каранда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жницы с тупыми конц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еёнка на ст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стмассовый конструкт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4" descr="http://www.school88.ru/Roditeljam/7.gif"/>
          <p:cNvPicPr/>
          <p:nvPr/>
        </p:nvPicPr>
        <p:blipFill>
          <a:blip r:embed="rId1"/>
          <a:stretch/>
        </p:blipFill>
        <p:spPr>
          <a:xfrm>
            <a:off x="6516720" y="3357720"/>
            <a:ext cx="1871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ля урока изобразительного искусств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ски акварельные (12-14 цветов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сти беличьи -№1,№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ьбом  для рис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ночка –непроливашка для вод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   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5" descr="http://www.school88.ru/Roditeljam/8.gif"/>
          <p:cNvPicPr/>
          <p:nvPr/>
        </p:nvPicPr>
        <p:blipFill>
          <a:blip r:embed="rId1"/>
          <a:stretch/>
        </p:blipFill>
        <p:spPr>
          <a:xfrm>
            <a:off x="5796000" y="4437000"/>
            <a:ext cx="2663640" cy="2421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http://www.school88.ru/Roditeljam/9.gif"/>
          <p:cNvPicPr/>
          <p:nvPr/>
        </p:nvPicPr>
        <p:blipFill>
          <a:blip r:embed="rId2"/>
          <a:stretch/>
        </p:blipFill>
        <p:spPr>
          <a:xfrm>
            <a:off x="2987640" y="4581360"/>
            <a:ext cx="1368360" cy="1917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1220039-9a94ebba388ba11e"/>
          <p:cNvPicPr/>
          <p:nvPr/>
        </p:nvPicPr>
        <p:blipFill>
          <a:blip r:embed="rId3"/>
          <a:stretch/>
        </p:blipFill>
        <p:spPr>
          <a:xfrm>
            <a:off x="684360" y="4724280"/>
            <a:ext cx="2016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Г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едеральный государственный образовательный стандарт начального общего образования  представляет соб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окупность требований, обязательных при реализации основной образовательной программы начального общего образования образовательными учреждениями, имеющими государственную аккредит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ля урока физической культур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ртивные брюки (тёмного цвет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орты (тёмного цвет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ртивная обувь (легкая, с легко сгибаемой подошво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тбол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ы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i?id=34373225-32-72&amp;n=21"/>
          <p:cNvPicPr/>
          <p:nvPr/>
        </p:nvPicPr>
        <p:blipFill>
          <a:blip r:embed="rId1"/>
          <a:stretch/>
        </p:blipFill>
        <p:spPr>
          <a:xfrm>
            <a:off x="3564000" y="5013360"/>
            <a:ext cx="2066760" cy="1428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34373225-32-72&amp;n=21"/>
          <p:cNvPicPr/>
          <p:nvPr/>
        </p:nvPicPr>
        <p:blipFill>
          <a:blip r:embed="rId2"/>
          <a:stretch/>
        </p:blipFill>
        <p:spPr>
          <a:xfrm>
            <a:off x="5219640" y="5013360"/>
            <a:ext cx="163512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i?id=100863588-60-72&amp;n=21"/>
          <p:cNvPicPr/>
          <p:nvPr/>
        </p:nvPicPr>
        <p:blipFill>
          <a:blip r:embed="rId3"/>
          <a:stretch/>
        </p:blipFill>
        <p:spPr>
          <a:xfrm>
            <a:off x="7236000" y="2997360"/>
            <a:ext cx="1512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8bbb3ff4acf1"/>
          <p:cNvPicPr/>
          <p:nvPr/>
        </p:nvPicPr>
        <p:blipFill>
          <a:blip r:embed="rId1"/>
          <a:stretch/>
        </p:blipFill>
        <p:spPr>
          <a:xfrm>
            <a:off x="826920" y="2708280"/>
            <a:ext cx="7490160" cy="3745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?id=134974241-44-72&amp;n=21"/>
          <p:cNvPicPr/>
          <p:nvPr/>
        </p:nvPicPr>
        <p:blipFill>
          <a:blip r:embed="rId2"/>
          <a:stretch/>
        </p:blipFill>
        <p:spPr>
          <a:xfrm>
            <a:off x="1476360" y="0"/>
            <a:ext cx="53290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ГОС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)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рмативным правовым акт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разработанным и утвержденным в порядке, установленном Правительством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) включает в себ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ебовани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результатам освоения основной образовательной программы началь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структуре основной образовательной программы началь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условиям реализации основной образовательной  программы начального общего образования, в том числе кадровым, финансовым, материально-техническим и иным услови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)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ой объективной оценки уровня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учающихся на ступени начального общего образо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714240" y="857160"/>
            <a:ext cx="7929720" cy="4480920"/>
          </a:xfrm>
          <a:prstGeom prst="rect">
            <a:avLst/>
          </a:prstGeom>
          <a:solidFill>
            <a:srgbClr val="ecf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Стандарта лежи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но-деятельностный подход, концептуально базирующийся на обеспечении соответствия учебной  деятельности обучающихся их возрасту и индивидуальным особеннос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стемно-деятельностный      подх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итание и развитие качеств лич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ход к стратегии социального проектирования и конструир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ацию на результаты образова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знание роли содержания, способов деятельности и сотрудничества в достижении целей развития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индивидуальных возрастных, психологических и физиологических особенно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нообразие индивидуальных образовательных траектор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преемственности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1428840" y="928800"/>
            <a:ext cx="7358040" cy="4572000"/>
          </a:xfrm>
          <a:prstGeom prst="rect">
            <a:avLst/>
          </a:prstGeom>
          <a:solidFill>
            <a:srgbClr val="ecf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бования  задают ориентиры оцен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апредметны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ме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ов освоения основной образовательной программы начального общего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личностным результатам обучающихся, освоивших основную образовательную программу начального общего образования, относятс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товность и способность обучающихся к саморазвити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нность мотивации к обучению и познани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ностно-смысловые установки обучающихся, отражающие их индивидуально-личностные позиции, социальные компетенции, личностные ка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нность основ гражданской идентич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метапредметным результатам обучающихся относятся  освоенные ими универсальные учебные действия (познавательные, регулятивные и коммуникативные), обеспечивающие овладение ключевыми компетенциями, составляющими основу умения учиться, и межпредметными понят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1-02T18:09:21Z</dcterms:modified>
  <cp:revision>27</cp:revision>
  <dc:subject/>
  <dc:title>Родительское собрание</dc:title>
</cp:coreProperties>
</file>