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3D6-8FC1-4D57-AFA0-3FBB9289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8B3-A897-4A73-BAC1-5281380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C45-BAB6-4651-A8AF-8BDDE1F8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A56-DD15-482C-BB4F-EC4CBE66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102E-FCCA-4B02-9F71-3E78BFD1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6CEE-905F-4246-AEB1-380064AC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4BF7-5397-4505-AC67-351E131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592-A6C6-4F42-A5D0-CAB379A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5018-6F7A-44AB-9E88-BF13006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1B5-3D59-4911-8E4A-DF21033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B14-EA5E-4CBB-A47D-38D65FB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6DD-7E62-42CF-9960-6DAD2F7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A138-334A-4245-9323-B06F4AE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2B02-1D81-4BB8-99F3-E6A14B5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6F95-A8AC-418D-BFB1-8E78C64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5CD8-3E8B-4B7F-B584-CA386DBA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C1EB-B99B-4FEA-A7A9-841BD546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4E672-6D93-4CA8-8CF7-2743FD67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01B68-64A9-4A3F-8DF4-B97A1177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AD406-D157-4179-B717-12AF2F9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6937A-5AEC-4576-BE7F-8D29BCA5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21991-5E3D-4BDB-8446-14C50A5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DE9-2809-44A5-B384-C16B02F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896F9-EE30-41D8-AFDE-E78368C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77D87-33FE-4FAD-A18E-51B27E6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A3EBB-C11F-47BD-98AC-22F5866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55923-1DE5-44E1-986C-1F1121B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0F145-481C-4946-9734-DC3742E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4D678-4E12-40EE-8B34-98BC279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98FC2-41A5-472D-B635-9AAA1547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8ABE-4108-4339-A025-84880F25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595F-641C-4B20-B5BB-8CC7BEBF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6DF6-26E2-45AA-BCBA-6DF5CD8F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6B9-95EB-449A-B263-C1FE2DD0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FA7B-4147-4A19-8852-F7CE9CBB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23E5-7CE5-4E43-8EAB-209E579A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E72E-D15B-47E4-AF27-C5FC081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15A9-A672-4215-880C-7A888CC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A1EE-3114-43A3-B15B-FA8CC5EE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1E68-B405-47BC-9E8D-E67436A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CD37-BFCB-41B3-9117-377A3C2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B966-F57D-475F-90B9-FA089011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C7F8-D255-45BC-ABD9-7C3769E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A8CFC-ED4D-4950-94F9-526C4165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2A4-D03B-4743-AB5C-9B8B1826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27594-25CB-485B-B6F5-6333154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B47FC-F71A-4545-AA0F-89ED799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5DD43-23DA-4F1A-8F3B-DCCCCDD7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C0C36-4C27-4FE3-ADC6-9E366FC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81B42-49E6-403C-BEE2-2D65E03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9D1E9-538F-4935-BA7D-705B42A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B032A-B01F-426A-AB65-2C32E75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B5E1B-BC0F-4FE4-BC41-4CF382B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05F28-08B6-44A0-9873-99E7018A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96FBF-848E-486F-875A-F2BCE46E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300-335F-4717-BBC1-016FE29E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19DC3-1E9A-4AD8-82CD-53FA2D3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F59B8-FD2C-4C9E-86A4-6A4E19D7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DE026-9885-4B76-9690-D6B4440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5807B-E200-42B7-AB68-4A78E67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29F6C-92ED-42C0-AAA8-E9D11EF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7FA39-C7CB-44A2-BBDF-D42C3DC3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92970-DE95-4D4D-B2F2-719F26DC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71AC1-C94A-4989-994C-51F1FFD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D27D2-6866-45CF-AD86-D997DD3E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0E8C8-AD01-49EB-ACD3-FDC159A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72B-3D88-4BBD-8DE7-43E1C81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92D44-7B6D-453F-ACAF-82D9169F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A8537-382B-49AA-BF85-C5926620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0A7C2-B901-4808-A7AC-1B3F43D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B10C8-DD74-4913-A0D7-81D1CA85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A9F79-9B21-4A81-B1A2-459656BD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F9A58-DC50-4111-8FDA-0030CC0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EB6DD-8150-44C2-9519-42E7C09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21478-018D-4EC8-8DD0-BABE636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A9696-5B32-48DC-BC26-4FC43BD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AAA06-1E4A-44D1-91A9-DC3FB9E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442-AA48-424A-A855-F563743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9BEC1-7FCD-4173-ADB9-C4C78B2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5E82E-EF91-4FF1-8A71-A114193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281E7-B05E-46D8-96A2-F53105CD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B0BE6-EA50-4577-B37C-12C25026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05BFB-B819-4AE7-9249-FF1BBDEA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CCD-757B-41D4-927E-BEEE740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737-3F4B-4F1F-916A-D8484B57F7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805-5787-4191-9F8E-F9571CE6F6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F91C-3C1E-432B-B4B0-D9E75A9B55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102-CD20-4144-9012-37EF6E9243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1811-5A1C-4539-8031-CC47D644C2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1F0-CEDA-4FCA-B472-AB598E571E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58F-F5CB-4BD3-9FBF-F7BBF52C98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286000" y="2000160"/>
            <a:ext cx="6458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еминар для родителей и учащихся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52" name="Прямоугольник 4" descr=""/>
          <p:cNvPicPr/>
          <p:nvPr/>
        </p:nvPicPr>
        <p:blipFill>
          <a:blip r:embed="rId1"/>
          <a:stretch/>
        </p:blipFill>
        <p:spPr>
          <a:xfrm>
            <a:off x="1316160" y="2030400"/>
            <a:ext cx="7937280" cy="1114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F:\картинки-проект\-_1_~1.JPG"/>
          <p:cNvPicPr/>
          <p:nvPr/>
        </p:nvPicPr>
        <p:blipFill>
          <a:blip r:embed="rId2"/>
          <a:stretch/>
        </p:blipFill>
        <p:spPr>
          <a:xfrm>
            <a:off x="2000160" y="3500280"/>
            <a:ext cx="2208240" cy="270036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4929120" y="421488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Жданова Оксана Трофимовна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5» г.Усинска Республики Коми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-451944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-4519440" y="140508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684360" y="300780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юдей, с которыми следует побеседовать о предмете исследования, можно условно поделить на две группы: специалисты и неспециалисты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пециалистам мы отнесём всех, кто профессионально занимается тем, что ты исследуешь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пециалистами для нас будут все остальные люди, но их тоже надо расспросить. Вполне возможно, что кто-то из них знает нечто очень важное о том, что ты изучаешь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36" name="Содержимое 4" descr="9.jpg"/>
          <p:cNvPicPr/>
          <p:nvPr/>
        </p:nvPicPr>
        <p:blipFill>
          <a:blip r:embed="rId1"/>
          <a:stretch/>
        </p:blipFill>
        <p:spPr>
          <a:xfrm>
            <a:off x="395280" y="40464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Заголовок 1"/>
          <p:cNvSpPr/>
          <p:nvPr/>
        </p:nvSpPr>
        <p:spPr>
          <a:xfrm>
            <a:off x="2627280" y="54936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ПРОСИТЬ У ДРУГИХ ЛЮДЕЙ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-10429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-10429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468360" y="305388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льмы бывают научно-популярные, документальные, художественны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настоящий клад для исследовател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абудь об этом источнике знаний!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оветуйся со взрослыми, какие фильмы можно посмотреть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омни, какие известные тебе фильмы могут помочь в сборе информации по теме твоего исследова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41" name="Содержимое 4" descr="untitled.bmp"/>
          <p:cNvPicPr/>
          <p:nvPr/>
        </p:nvPicPr>
        <p:blipFill>
          <a:blip r:embed="rId1"/>
          <a:stretch/>
        </p:blipFill>
        <p:spPr>
          <a:xfrm>
            <a:off x="395280" y="1268280"/>
            <a:ext cx="1852560" cy="1944720"/>
          </a:xfrm>
          <a:prstGeom prst="rect">
            <a:avLst/>
          </a:prstGeom>
          <a:ln w="0">
            <a:noFill/>
          </a:ln>
        </p:spPr>
      </p:pic>
      <p:sp>
        <p:nvSpPr>
          <p:cNvPr id="442" name="Заголовок 1"/>
          <p:cNvSpPr/>
          <p:nvPr/>
        </p:nvSpPr>
        <p:spPr>
          <a:xfrm>
            <a:off x="1619280" y="40464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  <a:ea typeface="Arial"/>
              </a:rPr>
              <a:t>ПОЗНАКОМИТЬСЯ С КИНО- И  ТЕЛЕФИЛЬМАМИ ПО ТЕМЕ ИССЛЕДОВАНИЯ</a:t>
            </a:r>
            <a:endParaRPr b="0" lang="en-US" sz="27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8"/>
          <p:cNvSpPr/>
          <p:nvPr/>
        </p:nvSpPr>
        <p:spPr>
          <a:xfrm>
            <a:off x="-2879640" y="-10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-2879640" y="-102708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611280" y="2293200"/>
            <a:ext cx="78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 – верный помощник современного исследовател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сеть Интернет можно почерпнуть обширные сведения по многим  вопросам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компьютерных программ ты сможешь посетить виртуальные музеи и полистать страницы энциклопедических справоч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ме Интернета, звуковую, графическую и видеоинформацию можно найти на компакт-дисках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971640" y="5310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47" name="Содержимое 4" descr="computer-writer.jpg"/>
          <p:cNvPicPr/>
          <p:nvPr/>
        </p:nvPicPr>
        <p:blipFill>
          <a:blip r:embed="rId1"/>
          <a:stretch/>
        </p:blipFill>
        <p:spPr>
          <a:xfrm>
            <a:off x="324000" y="620640"/>
            <a:ext cx="2208240" cy="1656000"/>
          </a:xfrm>
          <a:prstGeom prst="rect">
            <a:avLst/>
          </a:prstGeom>
          <a:ln w="0">
            <a:noFill/>
          </a:ln>
        </p:spPr>
      </p:pic>
      <p:sp>
        <p:nvSpPr>
          <p:cNvPr id="448" name="Заголовок 1"/>
          <p:cNvSpPr/>
          <p:nvPr/>
        </p:nvSpPr>
        <p:spPr>
          <a:xfrm>
            <a:off x="2340000" y="333360"/>
            <a:ext cx="64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РАТИТЬСЯ К КОМПЬЮТЕРУ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9"/>
          <p:cNvSpPr/>
          <p:nvPr/>
        </p:nvSpPr>
        <p:spPr>
          <a:xfrm>
            <a:off x="-4338720" y="-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-4338720" y="-239544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971640" y="284256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– это доступный способ добычи новых знаний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ения человек создал множество приспособлений: простые лупы, бинокли, подзорные трубы, телескопы, микроскопы, перископы, приборы ночного видения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10880" y="512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53" name="Содержимое 4" descr="untitled1.bmp"/>
          <p:cNvPicPr/>
          <p:nvPr/>
        </p:nvPicPr>
        <p:blipFill>
          <a:blip r:embed="rId1"/>
          <a:stretch/>
        </p:blipFill>
        <p:spPr>
          <a:xfrm>
            <a:off x="684360" y="404640"/>
            <a:ext cx="2087280" cy="2818080"/>
          </a:xfrm>
          <a:prstGeom prst="rect">
            <a:avLst/>
          </a:prstGeom>
          <a:ln w="0">
            <a:noFill/>
          </a:ln>
        </p:spPr>
      </p:pic>
      <p:sp>
        <p:nvSpPr>
          <p:cNvPr id="454" name="Заголовок 1"/>
          <p:cNvSpPr/>
          <p:nvPr/>
        </p:nvSpPr>
        <p:spPr>
          <a:xfrm>
            <a:off x="3564000" y="40464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ОНАБЛЮДАТЬ 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-461952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-4619520" y="140004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1619280" y="2937600"/>
            <a:ext cx="66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й главный метод познания в большинстве наук – это эксперимент (от латинского сло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проба, опыт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сти эксперимент – значит выполнить какие-то действия с предметом исследования и определить, что изменилось в ходе эксперимента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58" name="Содержимое 5" descr="untitled2.bmp"/>
          <p:cNvPicPr/>
          <p:nvPr/>
        </p:nvPicPr>
        <p:blipFill>
          <a:blip r:embed="rId1"/>
          <a:stretch/>
        </p:blipFill>
        <p:spPr>
          <a:xfrm>
            <a:off x="539640" y="26028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459" name="Заголовок 1"/>
          <p:cNvSpPr/>
          <p:nvPr/>
        </p:nvSpPr>
        <p:spPr>
          <a:xfrm>
            <a:off x="3348000" y="47628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ОВЕСТИ ЭКСПЕРИМЕНТ 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0" y="189216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20" y="4691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68360" y="1790640"/>
            <a:ext cx="741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делить из текста основные понятия и дать им определе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цировать (разбить на группы) основные предметы, процессы, явления и событ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и обозначить все замеченные тобой парадоксы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троить по порядку (ранжировать) основные идеи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ожить примеры, сравнения и сопоставле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ы и умозаключе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казать возможные пути дальнейшего изуче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текст сообщения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ить рисунки, схемы, чертежи и макеты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иться к ответам на вопросы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ОДГОТОВКА К ЗАЩИТЕ ИССЛЕДОВАТЕЛЬСКОЙ РАБОТЫ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5" name="Picture 7" descr="F:\картинки-проект\3_D_4_62.png"/>
          <p:cNvPicPr/>
          <p:nvPr/>
        </p:nvPicPr>
        <p:blipFill>
          <a:blip r:embed="rId1"/>
          <a:stretch/>
        </p:blipFill>
        <p:spPr>
          <a:xfrm>
            <a:off x="6948360" y="4543560"/>
            <a:ext cx="15843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68360" y="55404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астоящий исследователь преодолеет любые преграды на своём пути. Самое главное – ты должен верить, что достигнешь намеченной цели. Стремись к ней, невзирая на трудности. Верь в себя, в то, что ты – настоящий исследователь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WordArt 5"/>
          <p:cNvSpPr txBox="1"/>
          <p:nvPr/>
        </p:nvSpPr>
        <p:spPr>
          <a:xfrm>
            <a:off x="684360" y="2492280"/>
            <a:ext cx="76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чи тебе, 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ный исследователь!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Picture 7" descr="F:\картинки-проект\3_D_4_62.png"/>
          <p:cNvPicPr/>
          <p:nvPr/>
        </p:nvPicPr>
        <p:blipFill>
          <a:blip r:embed="rId1"/>
          <a:stretch/>
        </p:blipFill>
        <p:spPr>
          <a:xfrm>
            <a:off x="6156360" y="4365720"/>
            <a:ext cx="1800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10"/>
          <p:cNvSpPr txBox="1"/>
          <p:nvPr/>
        </p:nvSpPr>
        <p:spPr>
          <a:xfrm>
            <a:off x="826920" y="115920"/>
            <a:ext cx="7632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бор темы исследования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0" y="-7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4376520" y="6865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1979640" y="1649160"/>
            <a:ext cx="689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тему не сложно, если знаешь, что тебя интересует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 можешь сразу определить тему, задай себе следующие вопросы: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1) Что мне интересно больше всего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2) Чем я чаще всего занимаюсь в свободное время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3) Что из изученного в школе хотелось бы узнать более глубоко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) Чем я хочу заниматься в первую очередь (музыкой, искусством, астрономией, поэзией или математикой)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5) Есть ли что-то, чем я особенно горжусь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-3967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0" y="42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61" name="Picture 11" descr="F:\картинки-проект\3_D_4_62.png"/>
          <p:cNvPicPr/>
          <p:nvPr/>
        </p:nvPicPr>
        <p:blipFill>
          <a:blip r:embed="rId1"/>
          <a:stretch/>
        </p:blipFill>
        <p:spPr>
          <a:xfrm>
            <a:off x="250920" y="2349360"/>
            <a:ext cx="17128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7"/>
          <p:cNvSpPr txBox="1"/>
          <p:nvPr/>
        </p:nvSpPr>
        <p:spPr>
          <a:xfrm>
            <a:off x="1908000" y="836640"/>
            <a:ext cx="54961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МЫ ИССЛЕДОВА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6"/>
          <p:cNvSpPr txBox="1"/>
          <p:nvPr/>
        </p:nvSpPr>
        <p:spPr>
          <a:xfrm>
            <a:off x="2195640" y="1268280"/>
            <a:ext cx="5181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ми они могут быть?</a:t>
            </a:r>
            <a:endParaRPr b="0" i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4" name="Picture 4" descr="00036097"/>
          <p:cNvPicPr/>
          <p:nvPr/>
        </p:nvPicPr>
        <p:blipFill>
          <a:blip r:embed="rId1"/>
          <a:stretch/>
        </p:blipFill>
        <p:spPr>
          <a:xfrm>
            <a:off x="395280" y="4869000"/>
            <a:ext cx="2664000" cy="18223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8"/>
          <p:cNvSpPr/>
          <p:nvPr/>
        </p:nvSpPr>
        <p:spPr>
          <a:xfrm>
            <a:off x="-2867040" y="15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-2867040" y="18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-2867040" y="22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250920" y="16322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Теорет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темы по изучению и обобщению сведений, фактов, материалов содержащихся в разных книгах, фильмах и других источниках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250920" y="2784960"/>
            <a:ext cx="806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Эксперимента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емы, предполагающие проведение собственных наблюдений, опытов и экспериментов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70" name="Picture 4" descr="catst"/>
          <p:cNvPicPr/>
          <p:nvPr/>
        </p:nvPicPr>
        <p:blipFill>
          <a:blip r:embed="rId2"/>
          <a:stretch/>
        </p:blipFill>
        <p:spPr>
          <a:xfrm>
            <a:off x="3276720" y="4869000"/>
            <a:ext cx="2447640" cy="1742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324000" y="364860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Фантаст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темы о несуществующих, фантастических объектах и явлениях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72" name="Picture 4" descr="00036042"/>
          <p:cNvPicPr/>
          <p:nvPr/>
        </p:nvPicPr>
        <p:blipFill>
          <a:blip r:embed="rId3"/>
          <a:stretch/>
        </p:blipFill>
        <p:spPr>
          <a:xfrm>
            <a:off x="5940360" y="4869000"/>
            <a:ext cx="23875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WordArt 4" descr=""/>
          <p:cNvPicPr/>
          <p:nvPr/>
        </p:nvPicPr>
        <p:blipFill>
          <a:blip r:embed="rId1"/>
          <a:stretch/>
        </p:blipFill>
        <p:spPr>
          <a:xfrm>
            <a:off x="231840" y="237960"/>
            <a:ext cx="3504960" cy="5540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-111600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154764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250920" y="104040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ь цель исследования – значит ответить себе и другим на вопрос о том, зачем ты его проводишь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77" name="Picture 9" descr="00041201"/>
          <p:cNvPicPr/>
          <p:nvPr/>
        </p:nvPicPr>
        <p:blipFill>
          <a:blip r:embed="rId2"/>
          <a:stretch/>
        </p:blipFill>
        <p:spPr>
          <a:xfrm>
            <a:off x="360360" y="2127240"/>
            <a:ext cx="2411280" cy="15382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10"/>
          <p:cNvSpPr txBox="1"/>
          <p:nvPr/>
        </p:nvSpPr>
        <p:spPr>
          <a:xfrm>
            <a:off x="395280" y="371628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ыяснить, почему 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оре синее?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379" name="WordArt 11"/>
          <p:cNvSpPr txBox="1"/>
          <p:nvPr/>
        </p:nvSpPr>
        <p:spPr>
          <a:xfrm>
            <a:off x="3132000" y="436572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знать, зачем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тусу колючки?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380" name="Picture 12" descr="00042727"/>
          <p:cNvPicPr/>
          <p:nvPr/>
        </p:nvPicPr>
        <p:blipFill>
          <a:blip r:embed="rId3"/>
          <a:stretch/>
        </p:blipFill>
        <p:spPr>
          <a:xfrm>
            <a:off x="3059280" y="2276640"/>
            <a:ext cx="2701800" cy="1800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00018734"/>
          <p:cNvPicPr/>
          <p:nvPr/>
        </p:nvPicPr>
        <p:blipFill>
          <a:blip r:embed="rId4"/>
          <a:stretch/>
        </p:blipFill>
        <p:spPr>
          <a:xfrm>
            <a:off x="6012000" y="2781360"/>
            <a:ext cx="2708280" cy="169704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4"/>
          <p:cNvSpPr txBox="1"/>
          <p:nvPr/>
        </p:nvSpPr>
        <p:spPr>
          <a:xfrm>
            <a:off x="6012000" y="4581360"/>
            <a:ext cx="27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сследовать, чт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лает в космос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смонавт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79280" y="595116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 исследования уточняют цель. Цель указывает общее направление движения, а задачи описывают основные шаги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84" name="Содержимое 5" descr="untitled2.bmp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WordArt 8" descr="Точечная сетка"/>
          <p:cNvPicPr/>
          <p:nvPr/>
        </p:nvPicPr>
        <p:blipFill>
          <a:blip r:embed="rId1"/>
          <a:stretch/>
        </p:blipFill>
        <p:spPr>
          <a:xfrm>
            <a:off x="1163520" y="165240"/>
            <a:ext cx="6774120" cy="82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9"/>
          <p:cNvSpPr/>
          <p:nvPr/>
        </p:nvSpPr>
        <p:spPr>
          <a:xfrm>
            <a:off x="-3146400" y="207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395280" y="93744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о «гипотеза» - происходит от древнегреческог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esi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уждение, догадка, ещё не доказанная и не подтверждённая опыт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гипотезы начинаются словами:                              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-3146400" y="441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-314640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3419640" y="2276640"/>
            <a:ext cx="3744360" cy="1125000"/>
            <a:chOff x="3419640" y="2276640"/>
            <a:chExt cx="3744360" cy="1125000"/>
          </a:xfrm>
        </p:grpSpPr>
        <p:sp>
          <p:nvSpPr>
            <p:cNvPr id="391" name="WordArt 7"/>
            <p:cNvSpPr txBox="1"/>
            <p:nvPr/>
          </p:nvSpPr>
          <p:spPr>
            <a:xfrm>
              <a:off x="3419640" y="2276640"/>
              <a:ext cx="3744360" cy="26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предположим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92" name="WordArt 6"/>
            <p:cNvSpPr txBox="1"/>
            <p:nvPr/>
          </p:nvSpPr>
          <p:spPr>
            <a:xfrm>
              <a:off x="3419640" y="2539080"/>
              <a:ext cx="2697840" cy="25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допустим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93" name="WordArt 5"/>
            <p:cNvSpPr txBox="1"/>
            <p:nvPr/>
          </p:nvSpPr>
          <p:spPr>
            <a:xfrm>
              <a:off x="3419640" y="2791080"/>
              <a:ext cx="2643480" cy="2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что, если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94" name="WordArt 4"/>
            <p:cNvSpPr txBox="1"/>
            <p:nvPr/>
          </p:nvSpPr>
          <p:spPr>
            <a:xfrm>
              <a:off x="3419640" y="3042360"/>
              <a:ext cx="2805480" cy="1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озможно...</a:t>
              </a:r>
              <a:endParaRPr b="0" i="1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95" name="Rectangle 14"/>
            <p:cNvSpPr/>
            <p:nvPr/>
          </p:nvSpPr>
          <p:spPr>
            <a:xfrm>
              <a:off x="3419640" y="3035520"/>
              <a:ext cx="18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29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396" name="Picture 16" descr="00019049"/>
          <p:cNvPicPr/>
          <p:nvPr/>
        </p:nvPicPr>
        <p:blipFill>
          <a:blip r:embed="rId2"/>
          <a:stretch/>
        </p:blipFill>
        <p:spPr>
          <a:xfrm>
            <a:off x="395280" y="2637000"/>
            <a:ext cx="2057400" cy="17240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8"/>
          <p:cNvSpPr/>
          <p:nvPr/>
        </p:nvSpPr>
        <p:spPr>
          <a:xfrm>
            <a:off x="2182680" y="4137120"/>
            <a:ext cx="66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Почему в ночном небе звёзды светятся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озможно, там поселилось множест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тлячков…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?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99" name="Picture 19" descr="00014196"/>
          <p:cNvPicPr/>
          <p:nvPr/>
        </p:nvPicPr>
        <p:blipFill>
          <a:blip r:embed="rId3"/>
          <a:stretch/>
        </p:blipFill>
        <p:spPr>
          <a:xfrm>
            <a:off x="6372360" y="486900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1"/>
          <p:cNvSpPr/>
          <p:nvPr/>
        </p:nvSpPr>
        <p:spPr>
          <a:xfrm>
            <a:off x="920520" y="5605920"/>
            <a:ext cx="49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Почему у тигра полоски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, если он загорал в тени деревьев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?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-1058760" y="2547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02" name="WordArt 4" descr=""/>
          <p:cNvPicPr/>
          <p:nvPr/>
        </p:nvPicPr>
        <p:blipFill>
          <a:blip r:embed="rId1"/>
          <a:stretch/>
        </p:blipFill>
        <p:spPr>
          <a:xfrm>
            <a:off x="3255840" y="669960"/>
            <a:ext cx="4718160" cy="609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539640" y="199728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Как мы можем узнать что–то новое о том, что исследуем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этого надо определить, какими методами мы можем пользоваться, а затем выстроить их по порядку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587160" y="474480"/>
            <a:ext cx="1608120" cy="866520"/>
            <a:chOff x="587160" y="474480"/>
            <a:chExt cx="1608120" cy="866520"/>
          </a:xfrm>
        </p:grpSpPr>
        <p:sp>
          <p:nvSpPr>
            <p:cNvPr id="405" name="AutoShape 7"/>
            <p:cNvSpPr/>
            <p:nvPr/>
          </p:nvSpPr>
          <p:spPr>
            <a:xfrm rot="10800000">
              <a:off x="587160" y="474120"/>
              <a:ext cx="1608120" cy="866520"/>
            </a:xfrm>
            <a:prstGeom prst="verticalScroll">
              <a:avLst>
                <a:gd name="adj" fmla="val 20763"/>
              </a:avLst>
            </a:prstGeom>
            <a:solidFill>
              <a:srgbClr val="00cc0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06" name="WordArt 8"/>
            <p:cNvSpPr txBox="1"/>
            <p:nvPr/>
          </p:nvSpPr>
          <p:spPr>
            <a:xfrm>
              <a:off x="785160" y="575280"/>
              <a:ext cx="1181520" cy="44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рганизация 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сследования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407" name="Содержимое 5" descr="how.jpg"/>
          <p:cNvPicPr/>
          <p:nvPr/>
        </p:nvPicPr>
        <p:blipFill>
          <a:blip r:embed="rId2"/>
          <a:stretch/>
        </p:blipFill>
        <p:spPr>
          <a:xfrm>
            <a:off x="4427640" y="429264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КАКИМИ МЕТОДАМИ МОЖНО ПОЛЬЗОВАТЬСЯ?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2128680" y="119700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умать самостоятельно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3286080" y="184464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мотреть книги о том, что исследуешь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Прямоугольник 6"/>
          <p:cNvSpPr/>
          <p:nvPr/>
        </p:nvSpPr>
        <p:spPr>
          <a:xfrm>
            <a:off x="5661360" y="256536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росить у других людей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183528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с кино- и телефильмами по теме своего исследования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Прямоугольник 8"/>
          <p:cNvSpPr/>
          <p:nvPr/>
        </p:nvSpPr>
        <p:spPr>
          <a:xfrm>
            <a:off x="3851280" y="429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титься к компьютеру, посмотреть в глобальной компьютерной сети Интернет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1979640" y="54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аблюдать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>
            <a:off x="5233680" y="5661000"/>
            <a:ext cx="26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эксперимент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если необходимо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16" name="Содержимое 5" descr="140227011707.jpg"/>
          <p:cNvPicPr/>
          <p:nvPr/>
        </p:nvPicPr>
        <p:blipFill>
          <a:blip r:embed="rId1"/>
          <a:stretch/>
        </p:blipFill>
        <p:spPr>
          <a:xfrm>
            <a:off x="1258920" y="907920"/>
            <a:ext cx="801720" cy="111456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5" descr="how.jpg"/>
          <p:cNvPicPr/>
          <p:nvPr/>
        </p:nvPicPr>
        <p:blipFill>
          <a:blip r:embed="rId2"/>
          <a:stretch/>
        </p:blipFill>
        <p:spPr>
          <a:xfrm>
            <a:off x="250920" y="115920"/>
            <a:ext cx="1235160" cy="92700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photo.png"/>
          <p:cNvPicPr/>
          <p:nvPr/>
        </p:nvPicPr>
        <p:blipFill>
          <a:blip r:embed="rId3"/>
          <a:stretch/>
        </p:blipFill>
        <p:spPr>
          <a:xfrm>
            <a:off x="2268360" y="184464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4" descr="9.jpg"/>
          <p:cNvPicPr/>
          <p:nvPr/>
        </p:nvPicPr>
        <p:blipFill>
          <a:blip r:embed="rId4"/>
          <a:stretch/>
        </p:blipFill>
        <p:spPr>
          <a:xfrm>
            <a:off x="4356000" y="2205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4" descr="untitled.bmp"/>
          <p:cNvPicPr/>
          <p:nvPr/>
        </p:nvPicPr>
        <p:blipFill>
          <a:blip r:embed="rId5"/>
          <a:stretch/>
        </p:blipFill>
        <p:spPr>
          <a:xfrm>
            <a:off x="611280" y="2997360"/>
            <a:ext cx="1062000" cy="11142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4" descr="computer-writer.jpg"/>
          <p:cNvPicPr/>
          <p:nvPr/>
        </p:nvPicPr>
        <p:blipFill>
          <a:blip r:embed="rId6"/>
          <a:stretch/>
        </p:blipFill>
        <p:spPr>
          <a:xfrm>
            <a:off x="2340000" y="3933720"/>
            <a:ext cx="1434960" cy="10764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untitled1.bmp"/>
          <p:cNvPicPr/>
          <p:nvPr/>
        </p:nvPicPr>
        <p:blipFill>
          <a:blip r:embed="rId7"/>
          <a:stretch/>
        </p:blipFill>
        <p:spPr>
          <a:xfrm>
            <a:off x="1116000" y="5157720"/>
            <a:ext cx="934920" cy="126216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5" descr="untitled2.bmp"/>
          <p:cNvPicPr/>
          <p:nvPr/>
        </p:nvPicPr>
        <p:blipFill>
          <a:blip r:embed="rId8"/>
          <a:stretch/>
        </p:blipFill>
        <p:spPr>
          <a:xfrm>
            <a:off x="4067280" y="5349960"/>
            <a:ext cx="10094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ОДУМАТЬ САМОСТОЯТЕЛЬНО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Содержимое 5" descr="140227011707.jpg"/>
          <p:cNvPicPr/>
          <p:nvPr/>
        </p:nvPicPr>
        <p:blipFill>
          <a:blip r:embed="rId1"/>
          <a:stretch/>
        </p:blipFill>
        <p:spPr>
          <a:xfrm>
            <a:off x="324000" y="333360"/>
            <a:ext cx="1871640" cy="259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2268000" y="155736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этого надо начинать любую исследовательскую работу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й себе вопрос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я знаю об это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суждения я могу высказать по этому поводу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я могу сделать выводы и умозаключения из того, что мне уже известно о предмете моего исследовани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Содержимое 5" descr="how.jpg"/>
          <p:cNvPicPr/>
          <p:nvPr/>
        </p:nvPicPr>
        <p:blipFill>
          <a:blip r:embed="rId2"/>
          <a:stretch/>
        </p:blipFill>
        <p:spPr>
          <a:xfrm>
            <a:off x="6948360" y="5157720"/>
            <a:ext cx="18828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8"/>
          <p:cNvSpPr/>
          <p:nvPr/>
        </p:nvSpPr>
        <p:spPr>
          <a:xfrm>
            <a:off x="-4284720" y="-8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-4284720" y="-812880"/>
            <a:ext cx="360" cy="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1403280" y="2225520"/>
            <a:ext cx="705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инать работу нужно с энциклопедий и справочников. Твоими первыми помощниками станут детские энциклопедии. Информация в них выстроена по принципу: кратко, точно, доступно обо всём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ь совсем не надо открывать то, что до тебя уже открыто и записано в книгах. Поэтому посети библиотеки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правочной литературы оказывается недостаточно, надо читать книги с подробным описанием.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Заголовок 1"/>
          <p:cNvSpPr/>
          <p:nvPr/>
        </p:nvSpPr>
        <p:spPr>
          <a:xfrm>
            <a:off x="2124000" y="40464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ОСМОТРЕТЬ КНИГИ О ТОМ, ЧТО ИССЛЕДУЕШЬ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32" name="Содержимое 4" descr="photo.png"/>
          <p:cNvPicPr/>
          <p:nvPr/>
        </p:nvPicPr>
        <p:blipFill>
          <a:blip r:embed="rId1"/>
          <a:stretch/>
        </p:blipFill>
        <p:spPr>
          <a:xfrm>
            <a:off x="108000" y="549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2:26:57Z</dcterms:created>
  <dc:creator>CRAMP</dc:creator>
  <dc:description/>
  <dc:language>en-US</dc:language>
  <cp:lastModifiedBy>Admin</cp:lastModifiedBy>
  <dcterms:modified xsi:type="dcterms:W3CDTF">2018-01-02T14:57:59Z</dcterms:modified>
  <cp:revision>39</cp:revision>
  <dc:subject/>
  <dc:title>Слайд 1</dc:title>
</cp:coreProperties>
</file>