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5352-EADB-401D-9850-9B3F8B440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й быстро и четко слоги в столбиках. Найди сл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D944-1577-474A-B039-305851F9F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й слова, в которых 1 слог (2 слога, 3 слога). Читай слова, которые начинаются на букву «М», «Н», «Р», «Л». Читай слова, обозначающие одушевленные предметы (неодушевленные предме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FE7C-45EA-41CE-90C3-B03258822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 слова. Что в них общего? Чем отличаются? Что ты знаешь о написании таких слов? Сколько имен мальчиков? Сколько имен дев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D4E5-D8EE-4CA2-B096-9BBDD70CE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 слова. Что в них общего? Чем отличаются? Что ты знаешь о написании таких слов? Сколько имен мальчиков? Сколько имен дев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E641-AE19-45C1-A817-C474788D7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й (выписывай) слова из одного слога, затем двух слогов, из трех слогов. Называй (подчеркивай) буквы, обозначающие гласные зв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D262-B9C1-4559-A642-7F661D16E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 слова. Что в них общего? Чем отличаются? Что ты знаешь о написании таких слов? Сколько имен мальчиков? Сколько имен дев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2DAC-30D5-4997-B15E-92DB4BC8C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 слова, объясняя их значение. А теперь читай, добавляя в конце каждого слова мягкий знак. Что изменило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A7F1-5DA6-409B-A372-46F7B0E60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 слова. А теперь вставляй в середину каждого слова мягкий знак. Что получилось? Объясни значения новых с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6EFB-2A00-42C5-8C66-A1AE782A8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 слова. А теперь измени каждое слово так, чтобы получилось в слове два, а затем три сл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33D4-CA12-4FED-96AA-283AA5ECA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 слова. Что их объединяет? Читай названия из одного слога, двух слогов, трех слогов. Читай слова с ударением на первый слог, на второй слог, на третий с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69D6-1366-4BAE-99B8-BD6279BF2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называет слова, а ученик показывает указкой, как должен быть обозначен последний звук в этом слов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ал, пень, кран, соль, комар, крот, сухарь, пыль, стол, стань, корт, лунь, король, спорт, сахар, рысь, лось, конь, кросс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52BA-2D50-49D5-9F33-E4DB8B4F8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11F-1097-4BBA-A9FA-E3C7C499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156D-010D-4133-B6DA-62A9AE9D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BAE9-DF94-45CE-A970-346164DC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1F6-3EAB-40B7-817F-4F6EB25E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40D-85DE-46BD-927B-59961A4D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A3A-B1A8-4D8B-B35C-39AF9181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D92-4E63-4C76-BC86-9A0996C2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38FE-62F3-4D92-9A11-20EB8134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1892-21C9-4679-AAD7-62DD354D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08D1-7BEA-46C0-8DF4-FB9384C1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EC0-862B-4F7A-8DB8-A0ECFE1A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B1F-8D24-410D-B730-5484443D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D980-C334-4E10-BC68-7444FCDE0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ляй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"/>
          <p:cNvPicPr/>
          <p:nvPr/>
        </p:nvPicPr>
        <p:blipFill>
          <a:blip r:embed="rId1"/>
          <a:stretch/>
        </p:blipFill>
        <p:spPr>
          <a:xfrm>
            <a:off x="133200" y="1359000"/>
            <a:ext cx="890136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ИТАЙ И НАЙДИ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362320" y="1676520"/>
          <a:ext cx="4190760" cy="457200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Ы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ЩЕП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ИТАЙ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685800" y="144792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ЗА,  ЛОЖКА,  МЫШИ,  НОС, ЛУК, МАЛИНА,  ЛЁД,  РАМА,  НОЧЬ,  МЕЛ, ЛИМОН,  РЕКА,  ЛЫЖИ,  МЕДВЕДЬ, РОГ,  НОРА,  РАК, МАК,  НЕБО, ЛИСА, ЛОШАДЬ,  РАКОВИНА,  НОТЫ,  РЫСЬ, МУЗЫКА,  МАШИНА,  НОГИ,  ЛОПАТА, НАРЯД,  РОМАШКА,  МАСЛО, НОЖ, ЛЯГУШКА,  МОЛОКО,  РУСАЛКА, НИТ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ИТАЙ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"/>
          <p:cNvPicPr/>
          <p:nvPr/>
        </p:nvPicPr>
        <p:blipFill>
          <a:blip r:embed="rId1"/>
          <a:stretch/>
        </p:blipFill>
        <p:spPr>
          <a:xfrm>
            <a:off x="1517760" y="1292400"/>
            <a:ext cx="5956200" cy="46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ИТА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3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825516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ИТА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825516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йди «секрет» чтения и прочитай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86" name="Круговая стрелка 4"/>
          <p:cNvSpPr/>
          <p:nvPr/>
        </p:nvSpPr>
        <p:spPr>
          <a:xfrm rot="3441600">
            <a:off x="4071600" y="2798640"/>
            <a:ext cx="1279440" cy="1320840"/>
          </a:xfrm>
          <a:custGeom>
            <a:avLst/>
            <a:gdLst>
              <a:gd name="textAreaLeft" fmla="*/ 246600 w 1279440"/>
              <a:gd name="textAreaRight" fmla="*/ 1032840 w 1279440"/>
              <a:gd name="textAreaTop" fmla="*/ 252720 h 1320840"/>
              <a:gd name="textAreaBottom" fmla="*/ 1068120 h 1320840"/>
            </a:gdLst>
            <a:ahLst/>
            <a:rect l="textAreaLeft" t="textAreaTop" r="textAreaRight" b="textAreaBottom"/>
            <a:pathLst>
              <a:path w="1279525" h="1320800">
                <a:moveTo>
                  <a:pt x="90037" y="575183"/>
                </a:moveTo>
                <a:lnTo>
                  <a:pt x="90037" y="575183"/>
                </a:lnTo>
                <a:arcTo wR="555832" hR="576470" stAng="-10271297" swAng="10144671"/>
                <a:lnTo>
                  <a:pt x="1267729" y="666129"/>
                </a:lnTo>
                <a:lnTo>
                  <a:pt x="1093133" y="824271"/>
                </a:lnTo>
                <a:lnTo>
                  <a:pt x="966896" y="557393"/>
                </a:lnTo>
                <a:lnTo>
                  <a:pt x="1036739" y="582637"/>
                </a:lnTo>
                <a:lnTo>
                  <a:pt x="1036739" y="582637"/>
                </a:lnTo>
                <a:arcTo wR="403812" hR="424449" stAng="-664984" swAng="-9606314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итай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371600"/>
          <a:ext cx="8381880" cy="457200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У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АП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ЫК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Ш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БЯ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ПУ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ЩУ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Ш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К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Ю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ЬЧ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К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ЫК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йди «секрет» чтения и прочитай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91" name="Круговая стрелка 4"/>
          <p:cNvSpPr/>
          <p:nvPr/>
        </p:nvSpPr>
        <p:spPr>
          <a:xfrm rot="3441600">
            <a:off x="4071600" y="2798640"/>
            <a:ext cx="1279440" cy="1320840"/>
          </a:xfrm>
          <a:custGeom>
            <a:avLst/>
            <a:gdLst>
              <a:gd name="textAreaLeft" fmla="*/ 246600 w 1279440"/>
              <a:gd name="textAreaRight" fmla="*/ 1032840 w 1279440"/>
              <a:gd name="textAreaTop" fmla="*/ 252720 h 1320840"/>
              <a:gd name="textAreaBottom" fmla="*/ 1068120 h 1320840"/>
            </a:gdLst>
            <a:ahLst/>
            <a:rect l="textAreaLeft" t="textAreaTop" r="textAreaRight" b="textAreaBottom"/>
            <a:pathLst>
              <a:path w="1279525" h="1320800">
                <a:moveTo>
                  <a:pt x="90037" y="575183"/>
                </a:moveTo>
                <a:lnTo>
                  <a:pt x="90037" y="575183"/>
                </a:lnTo>
                <a:arcTo wR="555832" hR="576470" stAng="-10271297" swAng="10144671"/>
                <a:lnTo>
                  <a:pt x="1267729" y="666129"/>
                </a:lnTo>
                <a:lnTo>
                  <a:pt x="1093133" y="824271"/>
                </a:lnTo>
                <a:lnTo>
                  <a:pt x="966896" y="557393"/>
                </a:lnTo>
                <a:lnTo>
                  <a:pt x="1036739" y="582637"/>
                </a:lnTo>
                <a:lnTo>
                  <a:pt x="1036739" y="582637"/>
                </a:lnTo>
                <a:arcTo wR="403812" hR="424449" stAng="-664984" swAng="-9606314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ИТА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"/>
          <p:cNvPicPr/>
          <p:nvPr/>
        </p:nvPicPr>
        <p:blipFill>
          <a:blip r:embed="rId1"/>
          <a:stretch/>
        </p:blipFill>
        <p:spPr>
          <a:xfrm>
            <a:off x="450720" y="1444680"/>
            <a:ext cx="824256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ляй и читай сл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3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8242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читай слоги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ставь названия животных (домашних и диких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880" y="2057400"/>
          <a:ext cx="8305920" cy="4038480"/>
        </p:xfrm>
        <a:graphic>
          <a:graphicData uri="http://schemas.openxmlformats.org/drawingml/2006/table">
            <a:tbl>
              <a:tblPr/>
              <a:tblGrid>
                <a:gridCol w="1660680"/>
                <a:gridCol w="1662120"/>
                <a:gridCol w="1660320"/>
                <a:gridCol w="1662120"/>
                <a:gridCol w="1660680"/>
              </a:tblGrid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Ы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Ы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ИТАЙ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5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ИТАЙ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4" descr=""/>
          <p:cNvPicPr/>
          <p:nvPr/>
        </p:nvPicPr>
        <p:blipFill>
          <a:blip r:embed="rId1"/>
          <a:stretch/>
        </p:blipFill>
        <p:spPr>
          <a:xfrm>
            <a:off x="390600" y="1457280"/>
            <a:ext cx="763092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ыстро составляй и читай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600200"/>
          <a:ext cx="4038480" cy="4572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14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тицы и зве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Н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А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В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ЁН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Р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648320" y="1600200"/>
          <a:ext cx="4038480" cy="4572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14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вощ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ДО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В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Г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ыстро составляй и читай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4038480" cy="4572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14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уд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А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О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648320" y="1600200"/>
          <a:ext cx="4038480" cy="4572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14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ук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ыстро составляй и читай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4038480" cy="4572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14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ВЕТ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Д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З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ВО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З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648320" y="1600200"/>
          <a:ext cx="4038480" cy="4572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14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Т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Н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Ы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Ы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итай, изменяя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52480" y="1523880"/>
          <a:ext cx="6019920" cy="480060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и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с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о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с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ус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ч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итай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8120" y="152388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О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ЮП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СТ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АСИЛЕ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ИО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ВОЗДИ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РЦИС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ЕОРГ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или 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Содержимое 2" descr=""/>
          <p:cNvPicPr/>
          <p:nvPr/>
        </p:nvPicPr>
        <p:blipFill>
          <a:blip r:embed="rId1"/>
          <a:stretch/>
        </p:blipFill>
        <p:spPr>
          <a:xfrm>
            <a:off x="450720" y="1487520"/>
            <a:ext cx="824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или 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одержимое 2" descr=""/>
          <p:cNvPicPr/>
          <p:nvPr/>
        </p:nvPicPr>
        <p:blipFill>
          <a:blip r:embed="rId1"/>
          <a:stretch/>
        </p:blipFill>
        <p:spPr>
          <a:xfrm>
            <a:off x="450720" y="1487520"/>
            <a:ext cx="82425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УЖИН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600200"/>
          <a:ext cx="8229600" cy="32004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19" name="Скругленная соединительная линия 5"/>
          <p:cNvCxnSpPr/>
          <p:nvPr/>
        </p:nvCxnSpPr>
        <p:spPr>
          <a:xfrm>
            <a:off x="990360" y="2057040"/>
            <a:ext cx="1143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cap="rnd" w="9360">
            <a:solidFill>
              <a:srgbClr val="4a7ebb"/>
            </a:solidFill>
            <a:miter/>
          </a:ln>
        </p:spPr>
      </p:cxnSp>
      <p:sp>
        <p:nvSpPr>
          <p:cNvPr id="120" name="Полилиния 13"/>
          <p:cNvSpPr/>
          <p:nvPr/>
        </p:nvSpPr>
        <p:spPr>
          <a:xfrm>
            <a:off x="4654440" y="2119320"/>
            <a:ext cx="1797120" cy="2535120"/>
          </a:xfrm>
          <a:custGeom>
            <a:avLst/>
            <a:gdLst/>
            <a:ahLst/>
            <a:rect l="l" t="t" r="r" b="b"/>
            <a:pathLst>
              <a:path w="1797076" h="2535382">
                <a:moveTo>
                  <a:pt x="1150193" y="0"/>
                </a:moveTo>
                <a:cubicBezTo>
                  <a:pt x="1271897" y="182558"/>
                  <a:pt x="1213933" y="119159"/>
                  <a:pt x="1302593" y="207819"/>
                </a:cubicBezTo>
                <a:cubicBezTo>
                  <a:pt x="1311829" y="230910"/>
                  <a:pt x="1319180" y="254847"/>
                  <a:pt x="1330302" y="277091"/>
                </a:cubicBezTo>
                <a:cubicBezTo>
                  <a:pt x="1337749" y="291984"/>
                  <a:pt x="1353226" y="302706"/>
                  <a:pt x="1358011" y="318655"/>
                </a:cubicBezTo>
                <a:cubicBezTo>
                  <a:pt x="1367394" y="349933"/>
                  <a:pt x="1367247" y="383310"/>
                  <a:pt x="1371865" y="415637"/>
                </a:cubicBezTo>
                <a:cubicBezTo>
                  <a:pt x="1355515" y="791690"/>
                  <a:pt x="1457056" y="687191"/>
                  <a:pt x="1288738" y="762000"/>
                </a:cubicBezTo>
                <a:cubicBezTo>
                  <a:pt x="1269865" y="770388"/>
                  <a:pt x="1251793" y="780473"/>
                  <a:pt x="1233320" y="789710"/>
                </a:cubicBezTo>
                <a:cubicBezTo>
                  <a:pt x="1212532" y="787111"/>
                  <a:pt x="1116802" y="782504"/>
                  <a:pt x="1080920" y="762000"/>
                </a:cubicBezTo>
                <a:cubicBezTo>
                  <a:pt x="1060872" y="750544"/>
                  <a:pt x="1043975" y="734291"/>
                  <a:pt x="1025502" y="720437"/>
                </a:cubicBezTo>
                <a:cubicBezTo>
                  <a:pt x="1016266" y="706582"/>
                  <a:pt x="999858" y="695396"/>
                  <a:pt x="997793" y="678873"/>
                </a:cubicBezTo>
                <a:cubicBezTo>
                  <a:pt x="994872" y="655507"/>
                  <a:pt x="1000211" y="630185"/>
                  <a:pt x="1011647" y="609600"/>
                </a:cubicBezTo>
                <a:cubicBezTo>
                  <a:pt x="1031460" y="573936"/>
                  <a:pt x="1092067" y="537965"/>
                  <a:pt x="1122483" y="512619"/>
                </a:cubicBezTo>
                <a:cubicBezTo>
                  <a:pt x="1132518" y="504257"/>
                  <a:pt x="1140956" y="494146"/>
                  <a:pt x="1150193" y="484910"/>
                </a:cubicBezTo>
                <a:cubicBezTo>
                  <a:pt x="1214847" y="489528"/>
                  <a:pt x="1279733" y="491606"/>
                  <a:pt x="1344156" y="498764"/>
                </a:cubicBezTo>
                <a:cubicBezTo>
                  <a:pt x="1363081" y="500867"/>
                  <a:pt x="1380840" y="509213"/>
                  <a:pt x="1399574" y="512619"/>
                </a:cubicBezTo>
                <a:cubicBezTo>
                  <a:pt x="1431703" y="518461"/>
                  <a:pt x="1464229" y="521855"/>
                  <a:pt x="1496556" y="526473"/>
                </a:cubicBezTo>
                <a:cubicBezTo>
                  <a:pt x="1532327" y="562244"/>
                  <a:pt x="1562872" y="598014"/>
                  <a:pt x="1607393" y="623455"/>
                </a:cubicBezTo>
                <a:cubicBezTo>
                  <a:pt x="1620073" y="630701"/>
                  <a:pt x="1635102" y="632692"/>
                  <a:pt x="1648956" y="637310"/>
                </a:cubicBezTo>
                <a:cubicBezTo>
                  <a:pt x="1662811" y="660401"/>
                  <a:pt x="1677848" y="682822"/>
                  <a:pt x="1690520" y="706582"/>
                </a:cubicBezTo>
                <a:cubicBezTo>
                  <a:pt x="1714818" y="752141"/>
                  <a:pt x="1759793" y="845128"/>
                  <a:pt x="1759793" y="845128"/>
                </a:cubicBezTo>
                <a:cubicBezTo>
                  <a:pt x="1796666" y="992624"/>
                  <a:pt x="1797076" y="972072"/>
                  <a:pt x="1759793" y="1233055"/>
                </a:cubicBezTo>
                <a:cubicBezTo>
                  <a:pt x="1737382" y="1389934"/>
                  <a:pt x="1728204" y="1352283"/>
                  <a:pt x="1662811" y="1427019"/>
                </a:cubicBezTo>
                <a:cubicBezTo>
                  <a:pt x="1643339" y="1449273"/>
                  <a:pt x="1630484" y="1477818"/>
                  <a:pt x="1607393" y="1496291"/>
                </a:cubicBezTo>
                <a:cubicBezTo>
                  <a:pt x="1541089" y="1549334"/>
                  <a:pt x="1513164" y="1529551"/>
                  <a:pt x="1441138" y="1565564"/>
                </a:cubicBezTo>
                <a:cubicBezTo>
                  <a:pt x="1402170" y="1585048"/>
                  <a:pt x="1369270" y="1615353"/>
                  <a:pt x="1330302" y="1634837"/>
                </a:cubicBezTo>
                <a:cubicBezTo>
                  <a:pt x="1304177" y="1647899"/>
                  <a:pt x="1276352" y="1661220"/>
                  <a:pt x="1247174" y="1662546"/>
                </a:cubicBezTo>
                <a:cubicBezTo>
                  <a:pt x="970331" y="1675130"/>
                  <a:pt x="692993" y="1671782"/>
                  <a:pt x="415902" y="1676400"/>
                </a:cubicBezTo>
                <a:cubicBezTo>
                  <a:pt x="369720" y="1699491"/>
                  <a:pt x="321141" y="1718307"/>
                  <a:pt x="277356" y="1745673"/>
                </a:cubicBezTo>
                <a:cubicBezTo>
                  <a:pt x="13373" y="1910663"/>
                  <a:pt x="320963" y="1751579"/>
                  <a:pt x="138811" y="1842655"/>
                </a:cubicBezTo>
                <a:cubicBezTo>
                  <a:pt x="125493" y="1864851"/>
                  <a:pt x="79476" y="1937531"/>
                  <a:pt x="69538" y="1967346"/>
                </a:cubicBezTo>
                <a:cubicBezTo>
                  <a:pt x="62091" y="1989686"/>
                  <a:pt x="61394" y="2013774"/>
                  <a:pt x="55683" y="2036619"/>
                </a:cubicBezTo>
                <a:cubicBezTo>
                  <a:pt x="47529" y="2069236"/>
                  <a:pt x="37210" y="2101273"/>
                  <a:pt x="27974" y="2133600"/>
                </a:cubicBezTo>
                <a:cubicBezTo>
                  <a:pt x="7174" y="2279204"/>
                  <a:pt x="0" y="2284142"/>
                  <a:pt x="27974" y="2479964"/>
                </a:cubicBezTo>
                <a:cubicBezTo>
                  <a:pt x="30329" y="2496448"/>
                  <a:pt x="40223" y="2515344"/>
                  <a:pt x="55683" y="2521528"/>
                </a:cubicBezTo>
                <a:cubicBezTo>
                  <a:pt x="90253" y="2535356"/>
                  <a:pt x="129574" y="2530764"/>
                  <a:pt x="166520" y="2535382"/>
                </a:cubicBezTo>
                <a:cubicBezTo>
                  <a:pt x="226556" y="2530764"/>
                  <a:pt x="287332" y="2531992"/>
                  <a:pt x="346629" y="2521528"/>
                </a:cubicBezTo>
                <a:cubicBezTo>
                  <a:pt x="366968" y="2517939"/>
                  <a:pt x="383064" y="2501955"/>
                  <a:pt x="402047" y="2493819"/>
                </a:cubicBezTo>
                <a:cubicBezTo>
                  <a:pt x="447765" y="2474225"/>
                  <a:pt x="491353" y="2445434"/>
                  <a:pt x="540593" y="2438400"/>
                </a:cubicBezTo>
                <a:cubicBezTo>
                  <a:pt x="660886" y="2421216"/>
                  <a:pt x="605553" y="2430950"/>
                  <a:pt x="706847" y="2410691"/>
                </a:cubicBezTo>
                <a:cubicBezTo>
                  <a:pt x="827930" y="2425827"/>
                  <a:pt x="784380" y="2407896"/>
                  <a:pt x="845393" y="2438400"/>
                </a:cubicBezTo>
              </a:path>
            </a:pathLst>
          </a:custGeom>
          <a:noFill/>
          <a:ln cap="rnd"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илиния 14"/>
          <p:cNvSpPr/>
          <p:nvPr/>
        </p:nvSpPr>
        <p:spPr>
          <a:xfrm>
            <a:off x="2465280" y="1606680"/>
            <a:ext cx="3343320" cy="1830240"/>
          </a:xfrm>
          <a:custGeom>
            <a:avLst/>
            <a:gdLst/>
            <a:ahLst/>
            <a:rect l="l" t="t" r="r" b="b"/>
            <a:pathLst>
              <a:path w="3343077" h="1829448">
                <a:moveTo>
                  <a:pt x="0" y="1524000"/>
                </a:moveTo>
                <a:cubicBezTo>
                  <a:pt x="18504" y="1579512"/>
                  <a:pt x="6366" y="1569384"/>
                  <a:pt x="69273" y="1607128"/>
                </a:cubicBezTo>
                <a:cubicBezTo>
                  <a:pt x="266986" y="1725755"/>
                  <a:pt x="225619" y="1705686"/>
                  <a:pt x="360218" y="1759528"/>
                </a:cubicBezTo>
                <a:cubicBezTo>
                  <a:pt x="788220" y="1736267"/>
                  <a:pt x="1349363" y="1829448"/>
                  <a:pt x="1787236" y="1634837"/>
                </a:cubicBezTo>
                <a:cubicBezTo>
                  <a:pt x="1821260" y="1619715"/>
                  <a:pt x="1854106" y="1601318"/>
                  <a:pt x="1884218" y="1579418"/>
                </a:cubicBezTo>
                <a:cubicBezTo>
                  <a:pt x="1915535" y="1556642"/>
                  <a:pt x="2032954" y="1417089"/>
                  <a:pt x="2036618" y="1413164"/>
                </a:cubicBezTo>
                <a:cubicBezTo>
                  <a:pt x="2067812" y="1379742"/>
                  <a:pt x="2101273" y="1348509"/>
                  <a:pt x="2133600" y="1316182"/>
                </a:cubicBezTo>
                <a:cubicBezTo>
                  <a:pt x="2161309" y="1209964"/>
                  <a:pt x="2221297" y="1107206"/>
                  <a:pt x="2216727" y="997528"/>
                </a:cubicBezTo>
                <a:cubicBezTo>
                  <a:pt x="2212109" y="886691"/>
                  <a:pt x="2217534" y="774978"/>
                  <a:pt x="2202873" y="665018"/>
                </a:cubicBezTo>
                <a:cubicBezTo>
                  <a:pt x="2198779" y="634310"/>
                  <a:pt x="2175996" y="609168"/>
                  <a:pt x="2161309" y="581891"/>
                </a:cubicBezTo>
                <a:cubicBezTo>
                  <a:pt x="2143657" y="549108"/>
                  <a:pt x="2131456" y="511978"/>
                  <a:pt x="2105891" y="484909"/>
                </a:cubicBezTo>
                <a:cubicBezTo>
                  <a:pt x="2051892" y="427733"/>
                  <a:pt x="1997649" y="364450"/>
                  <a:pt x="1925782" y="332509"/>
                </a:cubicBezTo>
                <a:cubicBezTo>
                  <a:pt x="1772782" y="264509"/>
                  <a:pt x="1841773" y="297432"/>
                  <a:pt x="1717964" y="235528"/>
                </a:cubicBezTo>
                <a:cubicBezTo>
                  <a:pt x="1616364" y="240146"/>
                  <a:pt x="1514591" y="241869"/>
                  <a:pt x="1413164" y="249382"/>
                </a:cubicBezTo>
                <a:cubicBezTo>
                  <a:pt x="1389680" y="251122"/>
                  <a:pt x="1366117" y="255458"/>
                  <a:pt x="1343891" y="263237"/>
                </a:cubicBezTo>
                <a:cubicBezTo>
                  <a:pt x="1234084" y="301670"/>
                  <a:pt x="1118486" y="342370"/>
                  <a:pt x="1025236" y="415637"/>
                </a:cubicBezTo>
                <a:cubicBezTo>
                  <a:pt x="995600" y="438922"/>
                  <a:pt x="924480" y="512298"/>
                  <a:pt x="900546" y="554182"/>
                </a:cubicBezTo>
                <a:cubicBezTo>
                  <a:pt x="874929" y="599012"/>
                  <a:pt x="831273" y="692728"/>
                  <a:pt x="831273" y="692728"/>
                </a:cubicBezTo>
                <a:cubicBezTo>
                  <a:pt x="826655" y="720437"/>
                  <a:pt x="822927" y="748309"/>
                  <a:pt x="817418" y="775855"/>
                </a:cubicBezTo>
                <a:cubicBezTo>
                  <a:pt x="813684" y="794526"/>
                  <a:pt x="802771" y="812248"/>
                  <a:pt x="803564" y="831273"/>
                </a:cubicBezTo>
                <a:cubicBezTo>
                  <a:pt x="807428" y="924017"/>
                  <a:pt x="816608" y="1016705"/>
                  <a:pt x="831273" y="1108364"/>
                </a:cubicBezTo>
                <a:cubicBezTo>
                  <a:pt x="835202" y="1132921"/>
                  <a:pt x="847860" y="1155393"/>
                  <a:pt x="858982" y="1177637"/>
                </a:cubicBezTo>
                <a:cubicBezTo>
                  <a:pt x="876890" y="1213454"/>
                  <a:pt x="906052" y="1264435"/>
                  <a:pt x="942109" y="1288473"/>
                </a:cubicBezTo>
                <a:cubicBezTo>
                  <a:pt x="967886" y="1305658"/>
                  <a:pt x="997108" y="1317055"/>
                  <a:pt x="1025236" y="1330037"/>
                </a:cubicBezTo>
                <a:cubicBezTo>
                  <a:pt x="1088486" y="1359229"/>
                  <a:pt x="1234058" y="1419244"/>
                  <a:pt x="1288473" y="1427018"/>
                </a:cubicBezTo>
                <a:cubicBezTo>
                  <a:pt x="1426854" y="1446787"/>
                  <a:pt x="1352999" y="1437267"/>
                  <a:pt x="1510146" y="1454728"/>
                </a:cubicBezTo>
                <a:cubicBezTo>
                  <a:pt x="1648691" y="1436255"/>
                  <a:pt x="1788725" y="1426720"/>
                  <a:pt x="1925782" y="1399309"/>
                </a:cubicBezTo>
                <a:cubicBezTo>
                  <a:pt x="1952187" y="1394028"/>
                  <a:pt x="1970969" y="1369789"/>
                  <a:pt x="1995055" y="1357746"/>
                </a:cubicBezTo>
                <a:cubicBezTo>
                  <a:pt x="2035737" y="1337405"/>
                  <a:pt x="2078182" y="1320801"/>
                  <a:pt x="2119746" y="1302328"/>
                </a:cubicBezTo>
                <a:lnTo>
                  <a:pt x="2230582" y="1191491"/>
                </a:lnTo>
                <a:cubicBezTo>
                  <a:pt x="2280408" y="1141665"/>
                  <a:pt x="2337975" y="1087541"/>
                  <a:pt x="2369127" y="1025237"/>
                </a:cubicBezTo>
                <a:cubicBezTo>
                  <a:pt x="2382982" y="997528"/>
                  <a:pt x="2395856" y="969306"/>
                  <a:pt x="2410691" y="942109"/>
                </a:cubicBezTo>
                <a:cubicBezTo>
                  <a:pt x="2423586" y="918469"/>
                  <a:pt x="2440971" y="897287"/>
                  <a:pt x="2452255" y="872837"/>
                </a:cubicBezTo>
                <a:cubicBezTo>
                  <a:pt x="2468790" y="837011"/>
                  <a:pt x="2479164" y="798636"/>
                  <a:pt x="2493818" y="762000"/>
                </a:cubicBezTo>
                <a:cubicBezTo>
                  <a:pt x="2516115" y="706258"/>
                  <a:pt x="2563091" y="595746"/>
                  <a:pt x="2563091" y="595746"/>
                </a:cubicBezTo>
                <a:cubicBezTo>
                  <a:pt x="2584349" y="468200"/>
                  <a:pt x="2563579" y="556307"/>
                  <a:pt x="2604655" y="443346"/>
                </a:cubicBezTo>
                <a:cubicBezTo>
                  <a:pt x="2614637" y="415896"/>
                  <a:pt x="2622382" y="387668"/>
                  <a:pt x="2632364" y="360218"/>
                </a:cubicBezTo>
                <a:cubicBezTo>
                  <a:pt x="2652693" y="304312"/>
                  <a:pt x="2679485" y="240771"/>
                  <a:pt x="2715491" y="193964"/>
                </a:cubicBezTo>
                <a:cubicBezTo>
                  <a:pt x="2739383" y="162904"/>
                  <a:pt x="2770909" y="138546"/>
                  <a:pt x="2798618" y="110837"/>
                </a:cubicBezTo>
                <a:lnTo>
                  <a:pt x="2854036" y="55418"/>
                </a:lnTo>
                <a:cubicBezTo>
                  <a:pt x="2863273" y="46181"/>
                  <a:pt x="2870877" y="34955"/>
                  <a:pt x="2881746" y="27709"/>
                </a:cubicBezTo>
                <a:lnTo>
                  <a:pt x="2923309" y="0"/>
                </a:lnTo>
                <a:cubicBezTo>
                  <a:pt x="2992582" y="4618"/>
                  <a:pt x="3062645" y="2441"/>
                  <a:pt x="3131127" y="13855"/>
                </a:cubicBezTo>
                <a:cubicBezTo>
                  <a:pt x="3147552" y="16592"/>
                  <a:pt x="3158234" y="33303"/>
                  <a:pt x="3172691" y="41564"/>
                </a:cubicBezTo>
                <a:cubicBezTo>
                  <a:pt x="3223712" y="70719"/>
                  <a:pt x="3266043" y="79500"/>
                  <a:pt x="3311236" y="124691"/>
                </a:cubicBezTo>
                <a:cubicBezTo>
                  <a:pt x="3320473" y="133927"/>
                  <a:pt x="3333104" y="140717"/>
                  <a:pt x="3338946" y="152400"/>
                </a:cubicBezTo>
                <a:cubicBezTo>
                  <a:pt x="3343077" y="160661"/>
                  <a:pt x="3338946" y="170873"/>
                  <a:pt x="3338946" y="180109"/>
                </a:cubicBezTo>
              </a:path>
            </a:pathLst>
          </a:custGeom>
          <a:noFill/>
          <a:ln cap="rnd"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олилиния 16"/>
          <p:cNvSpPr/>
          <p:nvPr/>
        </p:nvSpPr>
        <p:spPr>
          <a:xfrm>
            <a:off x="3235320" y="2604960"/>
            <a:ext cx="1528920" cy="2313000"/>
          </a:xfrm>
          <a:custGeom>
            <a:avLst/>
            <a:gdLst/>
            <a:ahLst/>
            <a:rect l="l" t="t" r="r" b="b"/>
            <a:pathLst>
              <a:path w="1528736" h="2313709">
                <a:moveTo>
                  <a:pt x="852308" y="0"/>
                </a:moveTo>
                <a:cubicBezTo>
                  <a:pt x="924482" y="24057"/>
                  <a:pt x="913474" y="16776"/>
                  <a:pt x="1004708" y="83127"/>
                </a:cubicBezTo>
                <a:cubicBezTo>
                  <a:pt x="1020554" y="94651"/>
                  <a:pt x="1030806" y="112661"/>
                  <a:pt x="1046272" y="124690"/>
                </a:cubicBezTo>
                <a:cubicBezTo>
                  <a:pt x="1072559" y="145136"/>
                  <a:pt x="1102466" y="160521"/>
                  <a:pt x="1129399" y="180109"/>
                </a:cubicBezTo>
                <a:cubicBezTo>
                  <a:pt x="1177514" y="215102"/>
                  <a:pt x="1229287" y="259700"/>
                  <a:pt x="1267944" y="304800"/>
                </a:cubicBezTo>
                <a:cubicBezTo>
                  <a:pt x="1302212" y="344779"/>
                  <a:pt x="1332033" y="388373"/>
                  <a:pt x="1364926" y="429490"/>
                </a:cubicBezTo>
                <a:cubicBezTo>
                  <a:pt x="1387458" y="457655"/>
                  <a:pt x="1434199" y="512618"/>
                  <a:pt x="1434199" y="512618"/>
                </a:cubicBezTo>
                <a:cubicBezTo>
                  <a:pt x="1438817" y="526472"/>
                  <a:pt x="1441522" y="541119"/>
                  <a:pt x="1448053" y="554181"/>
                </a:cubicBezTo>
                <a:cubicBezTo>
                  <a:pt x="1455500" y="569074"/>
                  <a:pt x="1469915" y="580154"/>
                  <a:pt x="1475762" y="595745"/>
                </a:cubicBezTo>
                <a:cubicBezTo>
                  <a:pt x="1484030" y="617794"/>
                  <a:pt x="1484508" y="642030"/>
                  <a:pt x="1489617" y="665018"/>
                </a:cubicBezTo>
                <a:cubicBezTo>
                  <a:pt x="1528736" y="841047"/>
                  <a:pt x="1475557" y="580857"/>
                  <a:pt x="1517326" y="789709"/>
                </a:cubicBezTo>
                <a:cubicBezTo>
                  <a:pt x="1512708" y="854363"/>
                  <a:pt x="1520527" y="921137"/>
                  <a:pt x="1503472" y="983672"/>
                </a:cubicBezTo>
                <a:cubicBezTo>
                  <a:pt x="1480756" y="1066965"/>
                  <a:pt x="1407721" y="1109165"/>
                  <a:pt x="1364926" y="1177636"/>
                </a:cubicBezTo>
                <a:cubicBezTo>
                  <a:pt x="1337561" y="1221420"/>
                  <a:pt x="1318744" y="1269999"/>
                  <a:pt x="1295653" y="1316181"/>
                </a:cubicBezTo>
                <a:cubicBezTo>
                  <a:pt x="1281798" y="1343890"/>
                  <a:pt x="1270509" y="1373038"/>
                  <a:pt x="1254090" y="1399309"/>
                </a:cubicBezTo>
                <a:cubicBezTo>
                  <a:pt x="1207908" y="1473200"/>
                  <a:pt x="1160850" y="1546550"/>
                  <a:pt x="1115544" y="1620981"/>
                </a:cubicBezTo>
                <a:cubicBezTo>
                  <a:pt x="1096185" y="1652785"/>
                  <a:pt x="1081767" y="1687665"/>
                  <a:pt x="1060126" y="1717963"/>
                </a:cubicBezTo>
                <a:cubicBezTo>
                  <a:pt x="1037035" y="1750290"/>
                  <a:pt x="1015075" y="1783456"/>
                  <a:pt x="990853" y="1814945"/>
                </a:cubicBezTo>
                <a:cubicBezTo>
                  <a:pt x="968861" y="1843534"/>
                  <a:pt x="942911" y="1868986"/>
                  <a:pt x="921581" y="1898072"/>
                </a:cubicBezTo>
                <a:cubicBezTo>
                  <a:pt x="841819" y="2006838"/>
                  <a:pt x="814181" y="2100460"/>
                  <a:pt x="672199" y="2161309"/>
                </a:cubicBezTo>
                <a:cubicBezTo>
                  <a:pt x="362270" y="2294136"/>
                  <a:pt x="475627" y="2238813"/>
                  <a:pt x="325835" y="2313709"/>
                </a:cubicBezTo>
                <a:cubicBezTo>
                  <a:pt x="247326" y="2299854"/>
                  <a:pt x="163159" y="2304523"/>
                  <a:pt x="90308" y="2272145"/>
                </a:cubicBezTo>
                <a:cubicBezTo>
                  <a:pt x="68789" y="2262581"/>
                  <a:pt x="83900" y="2225212"/>
                  <a:pt x="76453" y="2202872"/>
                </a:cubicBezTo>
                <a:cubicBezTo>
                  <a:pt x="60724" y="2155685"/>
                  <a:pt x="39508" y="2110509"/>
                  <a:pt x="21035" y="2064327"/>
                </a:cubicBezTo>
                <a:cubicBezTo>
                  <a:pt x="0" y="1938110"/>
                  <a:pt x="2451" y="1996055"/>
                  <a:pt x="21035" y="1828800"/>
                </a:cubicBezTo>
                <a:cubicBezTo>
                  <a:pt x="24641" y="1796344"/>
                  <a:pt x="25287" y="1763030"/>
                  <a:pt x="34890" y="1731818"/>
                </a:cubicBezTo>
                <a:cubicBezTo>
                  <a:pt x="43244" y="1704666"/>
                  <a:pt x="99847" y="1605664"/>
                  <a:pt x="118017" y="1579418"/>
                </a:cubicBezTo>
                <a:cubicBezTo>
                  <a:pt x="158476" y="1520977"/>
                  <a:pt x="224644" y="1430176"/>
                  <a:pt x="284272" y="1385454"/>
                </a:cubicBezTo>
                <a:cubicBezTo>
                  <a:pt x="302745" y="1371599"/>
                  <a:pt x="322158" y="1358917"/>
                  <a:pt x="339690" y="1343890"/>
                </a:cubicBezTo>
                <a:cubicBezTo>
                  <a:pt x="354566" y="1331139"/>
                  <a:pt x="365309" y="1313715"/>
                  <a:pt x="381253" y="1302327"/>
                </a:cubicBezTo>
                <a:cubicBezTo>
                  <a:pt x="398059" y="1290323"/>
                  <a:pt x="418740" y="1284865"/>
                  <a:pt x="436672" y="1274618"/>
                </a:cubicBezTo>
                <a:cubicBezTo>
                  <a:pt x="511876" y="1231645"/>
                  <a:pt x="443591" y="1258457"/>
                  <a:pt x="519799" y="1233054"/>
                </a:cubicBezTo>
                <a:cubicBezTo>
                  <a:pt x="612723" y="1264029"/>
                  <a:pt x="576802" y="1247700"/>
                  <a:pt x="630635" y="1274618"/>
                </a:cubicBezTo>
              </a:path>
            </a:pathLst>
          </a:custGeom>
          <a:noFill/>
          <a:ln cap="rnd"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олилиния 17"/>
          <p:cNvSpPr/>
          <p:nvPr/>
        </p:nvSpPr>
        <p:spPr>
          <a:xfrm>
            <a:off x="4129200" y="1233360"/>
            <a:ext cx="4390920" cy="4613400"/>
          </a:xfrm>
          <a:custGeom>
            <a:avLst/>
            <a:gdLst/>
            <a:ahLst/>
            <a:rect l="l" t="t" r="r" b="b"/>
            <a:pathLst>
              <a:path w="4391890" h="4613563">
                <a:moveTo>
                  <a:pt x="0" y="2632363"/>
                </a:moveTo>
                <a:cubicBezTo>
                  <a:pt x="114390" y="2718157"/>
                  <a:pt x="70127" y="2675352"/>
                  <a:pt x="193963" y="2881745"/>
                </a:cubicBezTo>
                <a:cubicBezTo>
                  <a:pt x="309567" y="3074418"/>
                  <a:pt x="168964" y="2831746"/>
                  <a:pt x="263236" y="3020290"/>
                </a:cubicBezTo>
                <a:cubicBezTo>
                  <a:pt x="270683" y="3035183"/>
                  <a:pt x="283498" y="3046961"/>
                  <a:pt x="290945" y="3061854"/>
                </a:cubicBezTo>
                <a:cubicBezTo>
                  <a:pt x="326381" y="3132725"/>
                  <a:pt x="350519" y="3208158"/>
                  <a:pt x="374072" y="3283527"/>
                </a:cubicBezTo>
                <a:cubicBezTo>
                  <a:pt x="384100" y="3315618"/>
                  <a:pt x="395490" y="3347482"/>
                  <a:pt x="401781" y="3380509"/>
                </a:cubicBezTo>
                <a:cubicBezTo>
                  <a:pt x="433479" y="3546923"/>
                  <a:pt x="423510" y="3553710"/>
                  <a:pt x="443345" y="3699163"/>
                </a:cubicBezTo>
                <a:cubicBezTo>
                  <a:pt x="451552" y="3759349"/>
                  <a:pt x="456322" y="3820343"/>
                  <a:pt x="471054" y="3879272"/>
                </a:cubicBezTo>
                <a:cubicBezTo>
                  <a:pt x="542853" y="4166469"/>
                  <a:pt x="498736" y="3939237"/>
                  <a:pt x="554181" y="4087090"/>
                </a:cubicBezTo>
                <a:cubicBezTo>
                  <a:pt x="560867" y="4104919"/>
                  <a:pt x="562014" y="4124445"/>
                  <a:pt x="568036" y="4142509"/>
                </a:cubicBezTo>
                <a:cubicBezTo>
                  <a:pt x="588765" y="4204695"/>
                  <a:pt x="607859" y="4241982"/>
                  <a:pt x="651163" y="4294909"/>
                </a:cubicBezTo>
                <a:cubicBezTo>
                  <a:pt x="692379" y="4345284"/>
                  <a:pt x="790218" y="4429006"/>
                  <a:pt x="845127" y="4447309"/>
                </a:cubicBezTo>
                <a:cubicBezTo>
                  <a:pt x="886691" y="4461163"/>
                  <a:pt x="929140" y="4472601"/>
                  <a:pt x="969818" y="4488872"/>
                </a:cubicBezTo>
                <a:cubicBezTo>
                  <a:pt x="1021629" y="4509596"/>
                  <a:pt x="1068834" y="4541898"/>
                  <a:pt x="1122218" y="4558145"/>
                </a:cubicBezTo>
                <a:cubicBezTo>
                  <a:pt x="1136058" y="4562357"/>
                  <a:pt x="1358071" y="4598514"/>
                  <a:pt x="1399309" y="4599709"/>
                </a:cubicBezTo>
                <a:cubicBezTo>
                  <a:pt x="1680938" y="4607872"/>
                  <a:pt x="1962727" y="4608945"/>
                  <a:pt x="2244436" y="4613563"/>
                </a:cubicBezTo>
                <a:cubicBezTo>
                  <a:pt x="2355272" y="4608945"/>
                  <a:pt x="2466563" y="4610747"/>
                  <a:pt x="2576945" y="4599709"/>
                </a:cubicBezTo>
                <a:cubicBezTo>
                  <a:pt x="2705278" y="4586876"/>
                  <a:pt x="2874680" y="4545639"/>
                  <a:pt x="2992581" y="4488872"/>
                </a:cubicBezTo>
                <a:cubicBezTo>
                  <a:pt x="3059645" y="4456582"/>
                  <a:pt x="3216121" y="4353018"/>
                  <a:pt x="3283527" y="4294909"/>
                </a:cubicBezTo>
                <a:cubicBezTo>
                  <a:pt x="3708929" y="3928183"/>
                  <a:pt x="3473976" y="4161154"/>
                  <a:pt x="3629890" y="3948545"/>
                </a:cubicBezTo>
                <a:cubicBezTo>
                  <a:pt x="3661029" y="3906083"/>
                  <a:pt x="3696506" y="3866872"/>
                  <a:pt x="3726872" y="3823854"/>
                </a:cubicBezTo>
                <a:cubicBezTo>
                  <a:pt x="3756413" y="3782004"/>
                  <a:pt x="3845849" y="3631813"/>
                  <a:pt x="3865418" y="3588327"/>
                </a:cubicBezTo>
                <a:cubicBezTo>
                  <a:pt x="3887600" y="3539034"/>
                  <a:pt x="3900441" y="3485986"/>
                  <a:pt x="3920836" y="3435927"/>
                </a:cubicBezTo>
                <a:cubicBezTo>
                  <a:pt x="3998919" y="3244269"/>
                  <a:pt x="4049020" y="3165865"/>
                  <a:pt x="4114800" y="2964872"/>
                </a:cubicBezTo>
                <a:cubicBezTo>
                  <a:pt x="4246938" y="2561118"/>
                  <a:pt x="4253130" y="2511349"/>
                  <a:pt x="4336472" y="2161309"/>
                </a:cubicBezTo>
                <a:cubicBezTo>
                  <a:pt x="4341090" y="2087418"/>
                  <a:pt x="4344344" y="2013429"/>
                  <a:pt x="4350327" y="1939636"/>
                </a:cubicBezTo>
                <a:cubicBezTo>
                  <a:pt x="4358200" y="1842534"/>
                  <a:pt x="4371556" y="1745895"/>
                  <a:pt x="4378036" y="1648690"/>
                </a:cubicBezTo>
                <a:cubicBezTo>
                  <a:pt x="4385415" y="1538003"/>
                  <a:pt x="4387272" y="1427017"/>
                  <a:pt x="4391890" y="1316181"/>
                </a:cubicBezTo>
                <a:cubicBezTo>
                  <a:pt x="4359563" y="1002145"/>
                  <a:pt x="4341174" y="686359"/>
                  <a:pt x="4294909" y="374072"/>
                </a:cubicBezTo>
                <a:cubicBezTo>
                  <a:pt x="4285482" y="310443"/>
                  <a:pt x="4275865" y="234146"/>
                  <a:pt x="4225636" y="193963"/>
                </a:cubicBezTo>
                <a:cubicBezTo>
                  <a:pt x="4183505" y="160258"/>
                  <a:pt x="4121115" y="107066"/>
                  <a:pt x="4073236" y="83127"/>
                </a:cubicBezTo>
                <a:cubicBezTo>
                  <a:pt x="3982698" y="37858"/>
                  <a:pt x="3928965" y="26073"/>
                  <a:pt x="3837709" y="0"/>
                </a:cubicBezTo>
                <a:cubicBezTo>
                  <a:pt x="3763818" y="9236"/>
                  <a:pt x="3689187" y="13776"/>
                  <a:pt x="3616036" y="27709"/>
                </a:cubicBezTo>
                <a:cubicBezTo>
                  <a:pt x="3591605" y="32362"/>
                  <a:pt x="3565646" y="39233"/>
                  <a:pt x="3546763" y="55418"/>
                </a:cubicBezTo>
                <a:cubicBezTo>
                  <a:pt x="3531082" y="68859"/>
                  <a:pt x="3529680" y="93126"/>
                  <a:pt x="3519054" y="110836"/>
                </a:cubicBezTo>
                <a:cubicBezTo>
                  <a:pt x="3501920" y="139392"/>
                  <a:pt x="3484082" y="167676"/>
                  <a:pt x="3463636" y="193963"/>
                </a:cubicBezTo>
                <a:cubicBezTo>
                  <a:pt x="3451607" y="209429"/>
                  <a:pt x="3434101" y="220061"/>
                  <a:pt x="3422072" y="235527"/>
                </a:cubicBezTo>
                <a:cubicBezTo>
                  <a:pt x="3381987" y="287064"/>
                  <a:pt x="3285331" y="453591"/>
                  <a:pt x="3269672" y="484909"/>
                </a:cubicBezTo>
                <a:cubicBezTo>
                  <a:pt x="3260436" y="503382"/>
                  <a:pt x="3248123" y="520614"/>
                  <a:pt x="3241963" y="540327"/>
                </a:cubicBezTo>
                <a:cubicBezTo>
                  <a:pt x="3224925" y="594850"/>
                  <a:pt x="3221616" y="653543"/>
                  <a:pt x="3200400" y="706581"/>
                </a:cubicBezTo>
                <a:cubicBezTo>
                  <a:pt x="3165019" y="795030"/>
                  <a:pt x="3183812" y="753610"/>
                  <a:pt x="3144981" y="831272"/>
                </a:cubicBezTo>
                <a:cubicBezTo>
                  <a:pt x="3155382" y="956077"/>
                  <a:pt x="3154593" y="985926"/>
                  <a:pt x="3172690" y="1094509"/>
                </a:cubicBezTo>
                <a:cubicBezTo>
                  <a:pt x="3176561" y="1117737"/>
                  <a:pt x="3186545" y="1163781"/>
                  <a:pt x="3186545" y="1163781"/>
                </a:cubicBezTo>
              </a:path>
            </a:pathLst>
          </a:custGeom>
          <a:noFill/>
          <a:ln cap="rnd"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олилиния 18"/>
          <p:cNvSpPr/>
          <p:nvPr/>
        </p:nvSpPr>
        <p:spPr>
          <a:xfrm>
            <a:off x="6762600" y="981000"/>
            <a:ext cx="2082960" cy="3541680"/>
          </a:xfrm>
          <a:custGeom>
            <a:avLst/>
            <a:gdLst/>
            <a:ahLst/>
            <a:rect l="l" t="t" r="r" b="b"/>
            <a:pathLst>
              <a:path w="2083169" h="3542726">
                <a:moveTo>
                  <a:pt x="635468" y="1776282"/>
                </a:moveTo>
                <a:cubicBezTo>
                  <a:pt x="644704" y="1808609"/>
                  <a:pt x="649265" y="1842656"/>
                  <a:pt x="663177" y="1873263"/>
                </a:cubicBezTo>
                <a:cubicBezTo>
                  <a:pt x="688191" y="1928293"/>
                  <a:pt x="730625" y="1945050"/>
                  <a:pt x="774014" y="1984100"/>
                </a:cubicBezTo>
                <a:cubicBezTo>
                  <a:pt x="798286" y="2005945"/>
                  <a:pt x="817162" y="2033779"/>
                  <a:pt x="843286" y="2053372"/>
                </a:cubicBezTo>
                <a:cubicBezTo>
                  <a:pt x="873072" y="2075712"/>
                  <a:pt x="907415" y="2091269"/>
                  <a:pt x="940268" y="2108791"/>
                </a:cubicBezTo>
                <a:cubicBezTo>
                  <a:pt x="976715" y="2128229"/>
                  <a:pt x="1011918" y="2151147"/>
                  <a:pt x="1051105" y="2164209"/>
                </a:cubicBezTo>
                <a:cubicBezTo>
                  <a:pt x="1064959" y="2168827"/>
                  <a:pt x="1079245" y="2172310"/>
                  <a:pt x="1092668" y="2178063"/>
                </a:cubicBezTo>
                <a:cubicBezTo>
                  <a:pt x="1194099" y="2221533"/>
                  <a:pt x="1101329" y="2194083"/>
                  <a:pt x="1203505" y="2219627"/>
                </a:cubicBezTo>
                <a:cubicBezTo>
                  <a:pt x="1332814" y="2215009"/>
                  <a:pt x="1462278" y="2213600"/>
                  <a:pt x="1591432" y="2205772"/>
                </a:cubicBezTo>
                <a:cubicBezTo>
                  <a:pt x="1644335" y="2202566"/>
                  <a:pt x="1671762" y="2189558"/>
                  <a:pt x="1716123" y="2164209"/>
                </a:cubicBezTo>
                <a:cubicBezTo>
                  <a:pt x="1730580" y="2155948"/>
                  <a:pt x="1743229" y="2144761"/>
                  <a:pt x="1757686" y="2136500"/>
                </a:cubicBezTo>
                <a:cubicBezTo>
                  <a:pt x="1775618" y="2126253"/>
                  <a:pt x="1795173" y="2119038"/>
                  <a:pt x="1813105" y="2108791"/>
                </a:cubicBezTo>
                <a:cubicBezTo>
                  <a:pt x="1888309" y="2065818"/>
                  <a:pt x="1820024" y="2092630"/>
                  <a:pt x="1896232" y="2067227"/>
                </a:cubicBezTo>
                <a:cubicBezTo>
                  <a:pt x="2012255" y="1951204"/>
                  <a:pt x="1969693" y="2009448"/>
                  <a:pt x="2034777" y="1900972"/>
                </a:cubicBezTo>
                <a:cubicBezTo>
                  <a:pt x="2044013" y="1845554"/>
                  <a:pt x="2057074" y="1790639"/>
                  <a:pt x="2062486" y="1734718"/>
                </a:cubicBezTo>
                <a:cubicBezTo>
                  <a:pt x="2083169" y="1520994"/>
                  <a:pt x="2081478" y="1190347"/>
                  <a:pt x="2062486" y="1000427"/>
                </a:cubicBezTo>
                <a:cubicBezTo>
                  <a:pt x="2059403" y="969601"/>
                  <a:pt x="2032429" y="946064"/>
                  <a:pt x="2020923" y="917300"/>
                </a:cubicBezTo>
                <a:cubicBezTo>
                  <a:pt x="2013851" y="899621"/>
                  <a:pt x="2013969" y="879629"/>
                  <a:pt x="2007068" y="861882"/>
                </a:cubicBezTo>
                <a:cubicBezTo>
                  <a:pt x="1979921" y="792075"/>
                  <a:pt x="1925370" y="663612"/>
                  <a:pt x="1882377" y="584791"/>
                </a:cubicBezTo>
                <a:cubicBezTo>
                  <a:pt x="1869482" y="561151"/>
                  <a:pt x="1853413" y="539317"/>
                  <a:pt x="1840814" y="515518"/>
                </a:cubicBezTo>
                <a:cubicBezTo>
                  <a:pt x="1836118" y="506648"/>
                  <a:pt x="1761783" y="332481"/>
                  <a:pt x="1716123" y="293845"/>
                </a:cubicBezTo>
                <a:cubicBezTo>
                  <a:pt x="1673089" y="257432"/>
                  <a:pt x="1620884" y="232951"/>
                  <a:pt x="1577577" y="196863"/>
                </a:cubicBezTo>
                <a:cubicBezTo>
                  <a:pt x="1549868" y="173772"/>
                  <a:pt x="1525980" y="145108"/>
                  <a:pt x="1494450" y="127591"/>
                </a:cubicBezTo>
                <a:cubicBezTo>
                  <a:pt x="1345595" y="44894"/>
                  <a:pt x="1355663" y="65209"/>
                  <a:pt x="1217359" y="44463"/>
                </a:cubicBezTo>
                <a:cubicBezTo>
                  <a:pt x="920944" y="0"/>
                  <a:pt x="1173125" y="30311"/>
                  <a:pt x="926414" y="2900"/>
                </a:cubicBezTo>
                <a:cubicBezTo>
                  <a:pt x="822510" y="12345"/>
                  <a:pt x="758979" y="10248"/>
                  <a:pt x="663177" y="44463"/>
                </a:cubicBezTo>
                <a:cubicBezTo>
                  <a:pt x="634002" y="54883"/>
                  <a:pt x="606948" y="70657"/>
                  <a:pt x="580050" y="86027"/>
                </a:cubicBezTo>
                <a:cubicBezTo>
                  <a:pt x="546164" y="105390"/>
                  <a:pt x="452907" y="162098"/>
                  <a:pt x="413796" y="196863"/>
                </a:cubicBezTo>
                <a:cubicBezTo>
                  <a:pt x="365556" y="239743"/>
                  <a:pt x="263437" y="353638"/>
                  <a:pt x="233686" y="390827"/>
                </a:cubicBezTo>
                <a:cubicBezTo>
                  <a:pt x="212882" y="416832"/>
                  <a:pt x="197365" y="446672"/>
                  <a:pt x="178268" y="473954"/>
                </a:cubicBezTo>
                <a:cubicBezTo>
                  <a:pt x="132443" y="539418"/>
                  <a:pt x="127811" y="528492"/>
                  <a:pt x="95141" y="612500"/>
                </a:cubicBezTo>
                <a:cubicBezTo>
                  <a:pt x="37238" y="761395"/>
                  <a:pt x="41176" y="771491"/>
                  <a:pt x="12014" y="917300"/>
                </a:cubicBezTo>
                <a:cubicBezTo>
                  <a:pt x="16632" y="1702391"/>
                  <a:pt x="0" y="2487894"/>
                  <a:pt x="25868" y="3272572"/>
                </a:cubicBezTo>
                <a:cubicBezTo>
                  <a:pt x="27846" y="3332576"/>
                  <a:pt x="69752" y="3384423"/>
                  <a:pt x="95141" y="3438827"/>
                </a:cubicBezTo>
                <a:cubicBezTo>
                  <a:pt x="102183" y="3453916"/>
                  <a:pt x="111076" y="3468617"/>
                  <a:pt x="122850" y="3480391"/>
                </a:cubicBezTo>
                <a:cubicBezTo>
                  <a:pt x="185185" y="3542726"/>
                  <a:pt x="299396" y="3521954"/>
                  <a:pt x="372232" y="3521954"/>
                </a:cubicBezTo>
              </a:path>
            </a:pathLst>
          </a:custGeom>
          <a:noFill/>
          <a:ln cap="rnd"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олилиния 20"/>
          <p:cNvSpPr/>
          <p:nvPr/>
        </p:nvSpPr>
        <p:spPr>
          <a:xfrm>
            <a:off x="887400" y="1496880"/>
            <a:ext cx="2978280" cy="3405240"/>
          </a:xfrm>
          <a:custGeom>
            <a:avLst/>
            <a:gdLst/>
            <a:ahLst/>
            <a:rect l="l" t="t" r="r" b="b"/>
            <a:pathLst>
              <a:path w="2978727" h="3405714">
                <a:moveTo>
                  <a:pt x="0" y="2576945"/>
                </a:moveTo>
                <a:cubicBezTo>
                  <a:pt x="13855" y="2586181"/>
                  <a:pt x="32328" y="2590799"/>
                  <a:pt x="41564" y="2604654"/>
                </a:cubicBezTo>
                <a:cubicBezTo>
                  <a:pt x="52126" y="2620498"/>
                  <a:pt x="49397" y="2642009"/>
                  <a:pt x="55418" y="2660073"/>
                </a:cubicBezTo>
                <a:cubicBezTo>
                  <a:pt x="63282" y="2683666"/>
                  <a:pt x="73027" y="2706619"/>
                  <a:pt x="83127" y="2729345"/>
                </a:cubicBezTo>
                <a:cubicBezTo>
                  <a:pt x="91515" y="2748218"/>
                  <a:pt x="100589" y="2766832"/>
                  <a:pt x="110836" y="2784764"/>
                </a:cubicBezTo>
                <a:cubicBezTo>
                  <a:pt x="119097" y="2799221"/>
                  <a:pt x="131098" y="2811434"/>
                  <a:pt x="138545" y="2826327"/>
                </a:cubicBezTo>
                <a:cubicBezTo>
                  <a:pt x="145076" y="2839389"/>
                  <a:pt x="146357" y="2854596"/>
                  <a:pt x="152400" y="2867891"/>
                </a:cubicBezTo>
                <a:cubicBezTo>
                  <a:pt x="169493" y="2905495"/>
                  <a:pt x="194756" y="2939541"/>
                  <a:pt x="207818" y="2978727"/>
                </a:cubicBezTo>
                <a:cubicBezTo>
                  <a:pt x="212436" y="2992582"/>
                  <a:pt x="214427" y="3007611"/>
                  <a:pt x="221673" y="3020291"/>
                </a:cubicBezTo>
                <a:cubicBezTo>
                  <a:pt x="233129" y="3040339"/>
                  <a:pt x="249994" y="3056792"/>
                  <a:pt x="263236" y="3075709"/>
                </a:cubicBezTo>
                <a:cubicBezTo>
                  <a:pt x="301299" y="3130085"/>
                  <a:pt x="304241" y="3161666"/>
                  <a:pt x="360218" y="3186545"/>
                </a:cubicBezTo>
                <a:cubicBezTo>
                  <a:pt x="386908" y="3198407"/>
                  <a:pt x="443345" y="3214254"/>
                  <a:pt x="443345" y="3214254"/>
                </a:cubicBezTo>
                <a:cubicBezTo>
                  <a:pt x="494145" y="3209636"/>
                  <a:pt x="545248" y="3207614"/>
                  <a:pt x="595745" y="3200400"/>
                </a:cubicBezTo>
                <a:cubicBezTo>
                  <a:pt x="630058" y="3195498"/>
                  <a:pt x="651435" y="3178434"/>
                  <a:pt x="678873" y="3158836"/>
                </a:cubicBezTo>
                <a:cubicBezTo>
                  <a:pt x="716650" y="3131853"/>
                  <a:pt x="746233" y="3111254"/>
                  <a:pt x="775854" y="3075709"/>
                </a:cubicBezTo>
                <a:cubicBezTo>
                  <a:pt x="786514" y="3062917"/>
                  <a:pt x="792501" y="3046590"/>
                  <a:pt x="803564" y="3034145"/>
                </a:cubicBezTo>
                <a:cubicBezTo>
                  <a:pt x="829598" y="3004857"/>
                  <a:pt x="886691" y="2951018"/>
                  <a:pt x="886691" y="2951018"/>
                </a:cubicBezTo>
                <a:cubicBezTo>
                  <a:pt x="891309" y="2909454"/>
                  <a:pt x="888247" y="2866297"/>
                  <a:pt x="900545" y="2826327"/>
                </a:cubicBezTo>
                <a:cubicBezTo>
                  <a:pt x="907336" y="2804257"/>
                  <a:pt x="928688" y="2789699"/>
                  <a:pt x="942109" y="2770909"/>
                </a:cubicBezTo>
                <a:cubicBezTo>
                  <a:pt x="951787" y="2757359"/>
                  <a:pt x="962371" y="2744238"/>
                  <a:pt x="969818" y="2729345"/>
                </a:cubicBezTo>
                <a:cubicBezTo>
                  <a:pt x="976349" y="2716283"/>
                  <a:pt x="974707" y="2699310"/>
                  <a:pt x="983673" y="2687782"/>
                </a:cubicBezTo>
                <a:cubicBezTo>
                  <a:pt x="1007731" y="2656850"/>
                  <a:pt x="1066800" y="2604654"/>
                  <a:pt x="1066800" y="2604654"/>
                </a:cubicBezTo>
                <a:cubicBezTo>
                  <a:pt x="1092771" y="2606385"/>
                  <a:pt x="1250072" y="2599309"/>
                  <a:pt x="1316182" y="2632364"/>
                </a:cubicBezTo>
                <a:cubicBezTo>
                  <a:pt x="1331075" y="2639811"/>
                  <a:pt x="1343891" y="2650837"/>
                  <a:pt x="1357745" y="2660073"/>
                </a:cubicBezTo>
                <a:cubicBezTo>
                  <a:pt x="1366981" y="2678546"/>
                  <a:pt x="1383909" y="2694896"/>
                  <a:pt x="1385454" y="2715491"/>
                </a:cubicBezTo>
                <a:cubicBezTo>
                  <a:pt x="1397893" y="2881344"/>
                  <a:pt x="1387172" y="3048379"/>
                  <a:pt x="1399309" y="3214254"/>
                </a:cubicBezTo>
                <a:cubicBezTo>
                  <a:pt x="1401124" y="3239057"/>
                  <a:pt x="1418286" y="3260241"/>
                  <a:pt x="1427018" y="3283527"/>
                </a:cubicBezTo>
                <a:cubicBezTo>
                  <a:pt x="1435703" y="3306686"/>
                  <a:pt x="1450890" y="3365766"/>
                  <a:pt x="1468582" y="3380509"/>
                </a:cubicBezTo>
                <a:cubicBezTo>
                  <a:pt x="1483210" y="3392699"/>
                  <a:pt x="1505527" y="3389746"/>
                  <a:pt x="1524000" y="3394364"/>
                </a:cubicBezTo>
                <a:cubicBezTo>
                  <a:pt x="1672403" y="3369629"/>
                  <a:pt x="1555214" y="3405714"/>
                  <a:pt x="1648691" y="3338945"/>
                </a:cubicBezTo>
                <a:cubicBezTo>
                  <a:pt x="1665497" y="3326941"/>
                  <a:pt x="1687303" y="3323240"/>
                  <a:pt x="1704109" y="3311236"/>
                </a:cubicBezTo>
                <a:cubicBezTo>
                  <a:pt x="1758184" y="3272611"/>
                  <a:pt x="1877079" y="3178152"/>
                  <a:pt x="1925782" y="3117273"/>
                </a:cubicBezTo>
                <a:cubicBezTo>
                  <a:pt x="1939378" y="3100278"/>
                  <a:pt x="1994204" y="3035845"/>
                  <a:pt x="2008909" y="3006436"/>
                </a:cubicBezTo>
                <a:cubicBezTo>
                  <a:pt x="2044808" y="2934638"/>
                  <a:pt x="2058886" y="2889659"/>
                  <a:pt x="2078182" y="2812473"/>
                </a:cubicBezTo>
                <a:cubicBezTo>
                  <a:pt x="2083893" y="2789628"/>
                  <a:pt x="2086928" y="2766188"/>
                  <a:pt x="2092036" y="2743200"/>
                </a:cubicBezTo>
                <a:cubicBezTo>
                  <a:pt x="2096167" y="2724612"/>
                  <a:pt x="2101273" y="2706255"/>
                  <a:pt x="2105891" y="2687782"/>
                </a:cubicBezTo>
                <a:cubicBezTo>
                  <a:pt x="2101273" y="2438400"/>
                  <a:pt x="2100346" y="2188922"/>
                  <a:pt x="2092036" y="1939636"/>
                </a:cubicBezTo>
                <a:cubicBezTo>
                  <a:pt x="2091646" y="1927923"/>
                  <a:pt x="2073747" y="1822623"/>
                  <a:pt x="2064327" y="1801091"/>
                </a:cubicBezTo>
                <a:cubicBezTo>
                  <a:pt x="2039492" y="1744326"/>
                  <a:pt x="2000793" y="1693616"/>
                  <a:pt x="1981200" y="1634836"/>
                </a:cubicBezTo>
                <a:cubicBezTo>
                  <a:pt x="1971964" y="1607127"/>
                  <a:pt x="1965577" y="1578299"/>
                  <a:pt x="1953491" y="1551709"/>
                </a:cubicBezTo>
                <a:cubicBezTo>
                  <a:pt x="1941856" y="1526112"/>
                  <a:pt x="1868662" y="1415513"/>
                  <a:pt x="1856509" y="1399309"/>
                </a:cubicBezTo>
                <a:cubicBezTo>
                  <a:pt x="1824637" y="1356814"/>
                  <a:pt x="1802574" y="1321954"/>
                  <a:pt x="1759527" y="1288473"/>
                </a:cubicBezTo>
                <a:cubicBezTo>
                  <a:pt x="1738271" y="1271940"/>
                  <a:pt x="1713345" y="1260764"/>
                  <a:pt x="1690254" y="1246909"/>
                </a:cubicBezTo>
                <a:cubicBezTo>
                  <a:pt x="1610970" y="1141196"/>
                  <a:pt x="1693488" y="1238412"/>
                  <a:pt x="1565564" y="1136073"/>
                </a:cubicBezTo>
                <a:cubicBezTo>
                  <a:pt x="1545164" y="1119753"/>
                  <a:pt x="1529980" y="1097656"/>
                  <a:pt x="1510145" y="1080654"/>
                </a:cubicBezTo>
                <a:cubicBezTo>
                  <a:pt x="1469576" y="1045881"/>
                  <a:pt x="1445017" y="1048779"/>
                  <a:pt x="1399309" y="1011382"/>
                </a:cubicBezTo>
                <a:cubicBezTo>
                  <a:pt x="1300257" y="930339"/>
                  <a:pt x="1339683" y="954970"/>
                  <a:pt x="1288473" y="886691"/>
                </a:cubicBezTo>
                <a:cubicBezTo>
                  <a:pt x="1270730" y="863034"/>
                  <a:pt x="1249807" y="841786"/>
                  <a:pt x="1233054" y="817418"/>
                </a:cubicBezTo>
                <a:cubicBezTo>
                  <a:pt x="1018210" y="504917"/>
                  <a:pt x="1212646" y="767114"/>
                  <a:pt x="1094509" y="609600"/>
                </a:cubicBezTo>
                <a:cubicBezTo>
                  <a:pt x="1085273" y="581891"/>
                  <a:pt x="1078034" y="553434"/>
                  <a:pt x="1066800" y="526473"/>
                </a:cubicBezTo>
                <a:cubicBezTo>
                  <a:pt x="1004202" y="376238"/>
                  <a:pt x="1040444" y="504178"/>
                  <a:pt x="1011382" y="387927"/>
                </a:cubicBezTo>
                <a:cubicBezTo>
                  <a:pt x="1021380" y="257954"/>
                  <a:pt x="991266" y="227934"/>
                  <a:pt x="1066800" y="152400"/>
                </a:cubicBezTo>
                <a:cubicBezTo>
                  <a:pt x="1078574" y="140626"/>
                  <a:pt x="1093245" y="131669"/>
                  <a:pt x="1108364" y="124691"/>
                </a:cubicBezTo>
                <a:cubicBezTo>
                  <a:pt x="1153525" y="103847"/>
                  <a:pt x="1246909" y="69273"/>
                  <a:pt x="1246909" y="69273"/>
                </a:cubicBezTo>
                <a:cubicBezTo>
                  <a:pt x="1260764" y="55418"/>
                  <a:pt x="1270568" y="35667"/>
                  <a:pt x="1288473" y="27709"/>
                </a:cubicBezTo>
                <a:cubicBezTo>
                  <a:pt x="1314143" y="16300"/>
                  <a:pt x="1343726" y="17338"/>
                  <a:pt x="1371600" y="13854"/>
                </a:cubicBezTo>
                <a:cubicBezTo>
                  <a:pt x="1417654" y="8097"/>
                  <a:pt x="1463963" y="4618"/>
                  <a:pt x="1510145" y="0"/>
                </a:cubicBezTo>
                <a:cubicBezTo>
                  <a:pt x="1630218" y="4618"/>
                  <a:pt x="1750410" y="6798"/>
                  <a:pt x="1870364" y="13854"/>
                </a:cubicBezTo>
                <a:cubicBezTo>
                  <a:pt x="1907533" y="16040"/>
                  <a:pt x="1944921" y="19337"/>
                  <a:pt x="1981200" y="27709"/>
                </a:cubicBezTo>
                <a:cubicBezTo>
                  <a:pt x="2005433" y="33301"/>
                  <a:pt x="2026652" y="48272"/>
                  <a:pt x="2050473" y="55418"/>
                </a:cubicBezTo>
                <a:cubicBezTo>
                  <a:pt x="2073028" y="62185"/>
                  <a:pt x="2096758" y="64165"/>
                  <a:pt x="2119745" y="69273"/>
                </a:cubicBezTo>
                <a:cubicBezTo>
                  <a:pt x="2176038" y="81782"/>
                  <a:pt x="2187855" y="85689"/>
                  <a:pt x="2244436" y="110836"/>
                </a:cubicBezTo>
                <a:cubicBezTo>
                  <a:pt x="2263309" y="119224"/>
                  <a:pt x="2280678" y="130875"/>
                  <a:pt x="2299854" y="138545"/>
                </a:cubicBezTo>
                <a:cubicBezTo>
                  <a:pt x="2326973" y="149393"/>
                  <a:pt x="2382982" y="166254"/>
                  <a:pt x="2382982" y="166254"/>
                </a:cubicBezTo>
                <a:cubicBezTo>
                  <a:pt x="2451270" y="211781"/>
                  <a:pt x="2465324" y="217227"/>
                  <a:pt x="2535382" y="304800"/>
                </a:cubicBezTo>
                <a:cubicBezTo>
                  <a:pt x="2553855" y="327891"/>
                  <a:pt x="2571154" y="351971"/>
                  <a:pt x="2590800" y="374073"/>
                </a:cubicBezTo>
                <a:cubicBezTo>
                  <a:pt x="2608156" y="393599"/>
                  <a:pt x="2631727" y="407754"/>
                  <a:pt x="2646218" y="429491"/>
                </a:cubicBezTo>
                <a:lnTo>
                  <a:pt x="2729345" y="595745"/>
                </a:lnTo>
                <a:cubicBezTo>
                  <a:pt x="2743200" y="623454"/>
                  <a:pt x="2754970" y="652308"/>
                  <a:pt x="2770909" y="678873"/>
                </a:cubicBezTo>
                <a:cubicBezTo>
                  <a:pt x="2784764" y="701964"/>
                  <a:pt x="2800430" y="724060"/>
                  <a:pt x="2812473" y="748145"/>
                </a:cubicBezTo>
                <a:cubicBezTo>
                  <a:pt x="2819004" y="761207"/>
                  <a:pt x="2819796" y="776647"/>
                  <a:pt x="2826327" y="789709"/>
                </a:cubicBezTo>
                <a:cubicBezTo>
                  <a:pt x="2833773" y="804602"/>
                  <a:pt x="2846589" y="816380"/>
                  <a:pt x="2854036" y="831273"/>
                </a:cubicBezTo>
                <a:cubicBezTo>
                  <a:pt x="2879301" y="881802"/>
                  <a:pt x="2857788" y="912284"/>
                  <a:pt x="2923309" y="955964"/>
                </a:cubicBezTo>
                <a:cubicBezTo>
                  <a:pt x="2968715" y="986235"/>
                  <a:pt x="2948222" y="983673"/>
                  <a:pt x="2978727" y="983673"/>
                </a:cubicBezTo>
              </a:path>
            </a:pathLst>
          </a:custGeom>
          <a:noFill/>
          <a:ln cap="rnd"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ЛЯЙ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1670040" y="1212840"/>
            <a:ext cx="6035760" cy="4840200"/>
          </a:xfrm>
          <a:prstGeom prst="rect">
            <a:avLst/>
          </a:prstGeom>
          <a:ln w="0">
            <a:noFill/>
          </a:ln>
        </p:spPr>
      </p:pic>
      <p:sp>
        <p:nvSpPr>
          <p:cNvPr id="54" name="Овал 4"/>
          <p:cNvSpPr/>
          <p:nvPr/>
        </p:nvSpPr>
        <p:spPr>
          <a:xfrm>
            <a:off x="3809880" y="2452680"/>
            <a:ext cx="685800" cy="68580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5"/>
          <p:cNvSpPr/>
          <p:nvPr/>
        </p:nvSpPr>
        <p:spPr>
          <a:xfrm>
            <a:off x="4876920" y="2438280"/>
            <a:ext cx="685800" cy="68580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6"/>
          <p:cNvSpPr/>
          <p:nvPr/>
        </p:nvSpPr>
        <p:spPr>
          <a:xfrm>
            <a:off x="5334120" y="3276720"/>
            <a:ext cx="685800" cy="68580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7"/>
          <p:cNvSpPr/>
          <p:nvPr/>
        </p:nvSpPr>
        <p:spPr>
          <a:xfrm>
            <a:off x="3429000" y="3276720"/>
            <a:ext cx="685800" cy="68580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8"/>
          <p:cNvSpPr/>
          <p:nvPr/>
        </p:nvSpPr>
        <p:spPr>
          <a:xfrm>
            <a:off x="3886200" y="4114800"/>
            <a:ext cx="685800" cy="68580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9"/>
          <p:cNvSpPr/>
          <p:nvPr/>
        </p:nvSpPr>
        <p:spPr>
          <a:xfrm>
            <a:off x="4800600" y="4114800"/>
            <a:ext cx="685800" cy="68580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0"/>
          <p:cNvSpPr/>
          <p:nvPr/>
        </p:nvSpPr>
        <p:spPr>
          <a:xfrm>
            <a:off x="3200400" y="2133720"/>
            <a:ext cx="2971800" cy="2971800"/>
          </a:xfrm>
          <a:prstGeom prst="ellipse">
            <a:avLst/>
          </a:prstGeom>
          <a:noFill/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1"/>
          <p:cNvSpPr/>
          <p:nvPr/>
        </p:nvSpPr>
        <p:spPr>
          <a:xfrm>
            <a:off x="4087800" y="3021120"/>
            <a:ext cx="1219320" cy="1218960"/>
          </a:xfrm>
          <a:prstGeom prst="ellipse">
            <a:avLst/>
          </a:prstGeom>
          <a:noFill/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УЖИН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32004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С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Ж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Полилиния 10"/>
          <p:cNvSpPr/>
          <p:nvPr/>
        </p:nvSpPr>
        <p:spPr>
          <a:xfrm>
            <a:off x="762120" y="1606680"/>
            <a:ext cx="7634160" cy="4225680"/>
          </a:xfrm>
          <a:custGeom>
            <a:avLst/>
            <a:gdLst/>
            <a:ahLst/>
            <a:rect l="l" t="t" r="r" b="b"/>
            <a:pathLst>
              <a:path w="7633855" h="4225637">
                <a:moveTo>
                  <a:pt x="1953491" y="221673"/>
                </a:moveTo>
                <a:cubicBezTo>
                  <a:pt x="1996288" y="157477"/>
                  <a:pt x="1979065" y="174783"/>
                  <a:pt x="2064327" y="110837"/>
                </a:cubicBezTo>
                <a:cubicBezTo>
                  <a:pt x="2110594" y="76137"/>
                  <a:pt x="2159514" y="42012"/>
                  <a:pt x="2216727" y="27709"/>
                </a:cubicBezTo>
                <a:cubicBezTo>
                  <a:pt x="2248408" y="19789"/>
                  <a:pt x="2281382" y="18473"/>
                  <a:pt x="2313709" y="13855"/>
                </a:cubicBezTo>
                <a:cubicBezTo>
                  <a:pt x="2316012" y="14184"/>
                  <a:pt x="2463754" y="33459"/>
                  <a:pt x="2479964" y="41564"/>
                </a:cubicBezTo>
                <a:cubicBezTo>
                  <a:pt x="2506631" y="54898"/>
                  <a:pt x="2533323" y="100822"/>
                  <a:pt x="2549236" y="124691"/>
                </a:cubicBezTo>
                <a:cubicBezTo>
                  <a:pt x="2547346" y="136033"/>
                  <a:pt x="2548683" y="227326"/>
                  <a:pt x="2507673" y="235528"/>
                </a:cubicBezTo>
                <a:cubicBezTo>
                  <a:pt x="2493352" y="238392"/>
                  <a:pt x="2479964" y="226291"/>
                  <a:pt x="2466109" y="221673"/>
                </a:cubicBezTo>
                <a:cubicBezTo>
                  <a:pt x="2485890" y="142550"/>
                  <a:pt x="2477926" y="121594"/>
                  <a:pt x="2521527" y="69273"/>
                </a:cubicBezTo>
                <a:cubicBezTo>
                  <a:pt x="2534070" y="54221"/>
                  <a:pt x="2546476" y="38093"/>
                  <a:pt x="2563091" y="27709"/>
                </a:cubicBezTo>
                <a:cubicBezTo>
                  <a:pt x="2584181" y="14528"/>
                  <a:pt x="2609273" y="9236"/>
                  <a:pt x="2632364" y="0"/>
                </a:cubicBezTo>
                <a:lnTo>
                  <a:pt x="2895600" y="27709"/>
                </a:lnTo>
                <a:cubicBezTo>
                  <a:pt x="2918966" y="30630"/>
                  <a:pt x="2941645" y="37693"/>
                  <a:pt x="2964873" y="41564"/>
                </a:cubicBezTo>
                <a:cubicBezTo>
                  <a:pt x="2997084" y="46933"/>
                  <a:pt x="3029528" y="50800"/>
                  <a:pt x="3061855" y="55418"/>
                </a:cubicBezTo>
                <a:cubicBezTo>
                  <a:pt x="3071091" y="64655"/>
                  <a:pt x="3078363" y="76407"/>
                  <a:pt x="3089564" y="83128"/>
                </a:cubicBezTo>
                <a:cubicBezTo>
                  <a:pt x="3102087" y="90642"/>
                  <a:pt x="3122004" y="85578"/>
                  <a:pt x="3131127" y="96982"/>
                </a:cubicBezTo>
                <a:cubicBezTo>
                  <a:pt x="3143022" y="111851"/>
                  <a:pt x="3136467" y="135369"/>
                  <a:pt x="3144982" y="152400"/>
                </a:cubicBezTo>
                <a:cubicBezTo>
                  <a:pt x="3155308" y="173053"/>
                  <a:pt x="3172691" y="189345"/>
                  <a:pt x="3186545" y="207818"/>
                </a:cubicBezTo>
                <a:cubicBezTo>
                  <a:pt x="3191163" y="221673"/>
                  <a:pt x="3193869" y="236320"/>
                  <a:pt x="3200400" y="249382"/>
                </a:cubicBezTo>
                <a:cubicBezTo>
                  <a:pt x="3207847" y="264275"/>
                  <a:pt x="3221550" y="275641"/>
                  <a:pt x="3228109" y="290946"/>
                </a:cubicBezTo>
                <a:cubicBezTo>
                  <a:pt x="3235610" y="308448"/>
                  <a:pt x="3236492" y="328126"/>
                  <a:pt x="3241964" y="346364"/>
                </a:cubicBezTo>
                <a:cubicBezTo>
                  <a:pt x="3250357" y="374340"/>
                  <a:pt x="3269673" y="429491"/>
                  <a:pt x="3269673" y="429491"/>
                </a:cubicBezTo>
                <a:cubicBezTo>
                  <a:pt x="3274291" y="581891"/>
                  <a:pt x="3275070" y="734456"/>
                  <a:pt x="3283527" y="886691"/>
                </a:cubicBezTo>
                <a:cubicBezTo>
                  <a:pt x="3284337" y="901273"/>
                  <a:pt x="3293370" y="914213"/>
                  <a:pt x="3297382" y="928255"/>
                </a:cubicBezTo>
                <a:cubicBezTo>
                  <a:pt x="3302613" y="946564"/>
                  <a:pt x="3306618" y="965200"/>
                  <a:pt x="3311236" y="983673"/>
                </a:cubicBezTo>
                <a:cubicBezTo>
                  <a:pt x="3261135" y="1133975"/>
                  <a:pt x="3275139" y="1057660"/>
                  <a:pt x="3297382" y="1302328"/>
                </a:cubicBezTo>
                <a:cubicBezTo>
                  <a:pt x="3297648" y="1305250"/>
                  <a:pt x="3313993" y="1399292"/>
                  <a:pt x="3325091" y="1413164"/>
                </a:cubicBezTo>
                <a:cubicBezTo>
                  <a:pt x="3335493" y="1426166"/>
                  <a:pt x="3352800" y="1431637"/>
                  <a:pt x="3366655" y="1440873"/>
                </a:cubicBezTo>
                <a:cubicBezTo>
                  <a:pt x="3380509" y="1459346"/>
                  <a:pt x="3390479" y="1481509"/>
                  <a:pt x="3408218" y="1496291"/>
                </a:cubicBezTo>
                <a:cubicBezTo>
                  <a:pt x="3419437" y="1505640"/>
                  <a:pt x="3435178" y="1510146"/>
                  <a:pt x="3449782" y="1510146"/>
                </a:cubicBezTo>
                <a:cubicBezTo>
                  <a:pt x="3519208" y="1510146"/>
                  <a:pt x="3588327" y="1500909"/>
                  <a:pt x="3657600" y="1496291"/>
                </a:cubicBezTo>
                <a:lnTo>
                  <a:pt x="3782291" y="1413164"/>
                </a:lnTo>
                <a:cubicBezTo>
                  <a:pt x="3810000" y="1394691"/>
                  <a:pt x="3841870" y="1381294"/>
                  <a:pt x="3865418" y="1357746"/>
                </a:cubicBezTo>
                <a:cubicBezTo>
                  <a:pt x="4080702" y="1142462"/>
                  <a:pt x="3863706" y="1352318"/>
                  <a:pt x="4031673" y="1205346"/>
                </a:cubicBezTo>
                <a:cubicBezTo>
                  <a:pt x="4068253" y="1173338"/>
                  <a:pt x="4085119" y="1155840"/>
                  <a:pt x="4100945" y="1108364"/>
                </a:cubicBezTo>
                <a:cubicBezTo>
                  <a:pt x="4112988" y="1072236"/>
                  <a:pt x="4128655" y="997528"/>
                  <a:pt x="4128655" y="997528"/>
                </a:cubicBezTo>
                <a:cubicBezTo>
                  <a:pt x="4124037" y="909782"/>
                  <a:pt x="4122097" y="821855"/>
                  <a:pt x="4114800" y="734291"/>
                </a:cubicBezTo>
                <a:cubicBezTo>
                  <a:pt x="4112844" y="710824"/>
                  <a:pt x="4107141" y="687737"/>
                  <a:pt x="4100945" y="665018"/>
                </a:cubicBezTo>
                <a:cubicBezTo>
                  <a:pt x="4093260" y="636839"/>
                  <a:pt x="4073236" y="581891"/>
                  <a:pt x="4073236" y="581891"/>
                </a:cubicBezTo>
                <a:cubicBezTo>
                  <a:pt x="4077854" y="480291"/>
                  <a:pt x="4078981" y="378472"/>
                  <a:pt x="4087091" y="277091"/>
                </a:cubicBezTo>
                <a:cubicBezTo>
                  <a:pt x="4090307" y="236894"/>
                  <a:pt x="4113205" y="219082"/>
                  <a:pt x="4142509" y="193964"/>
                </a:cubicBezTo>
                <a:cubicBezTo>
                  <a:pt x="4160041" y="178937"/>
                  <a:pt x="4181599" y="168728"/>
                  <a:pt x="4197927" y="152400"/>
                </a:cubicBezTo>
                <a:cubicBezTo>
                  <a:pt x="4209701" y="140626"/>
                  <a:pt x="4216400" y="124691"/>
                  <a:pt x="4225636" y="110837"/>
                </a:cubicBezTo>
                <a:cubicBezTo>
                  <a:pt x="4226118" y="110957"/>
                  <a:pt x="4315991" y="131919"/>
                  <a:pt x="4322618" y="138546"/>
                </a:cubicBezTo>
                <a:cubicBezTo>
                  <a:pt x="4337222" y="153150"/>
                  <a:pt x="4341091" y="175491"/>
                  <a:pt x="4350327" y="193964"/>
                </a:cubicBezTo>
                <a:cubicBezTo>
                  <a:pt x="4354945" y="290946"/>
                  <a:pt x="4353460" y="388411"/>
                  <a:pt x="4364182" y="484909"/>
                </a:cubicBezTo>
                <a:cubicBezTo>
                  <a:pt x="4367408" y="513939"/>
                  <a:pt x="4378146" y="542265"/>
                  <a:pt x="4391891" y="568037"/>
                </a:cubicBezTo>
                <a:cubicBezTo>
                  <a:pt x="4445684" y="668899"/>
                  <a:pt x="4493014" y="723395"/>
                  <a:pt x="4585855" y="789709"/>
                </a:cubicBezTo>
                <a:cubicBezTo>
                  <a:pt x="4611064" y="807716"/>
                  <a:pt x="4639592" y="821476"/>
                  <a:pt x="4668982" y="831273"/>
                </a:cubicBezTo>
                <a:cubicBezTo>
                  <a:pt x="4695632" y="840156"/>
                  <a:pt x="4724400" y="840510"/>
                  <a:pt x="4752109" y="845128"/>
                </a:cubicBezTo>
                <a:cubicBezTo>
                  <a:pt x="4895273" y="840510"/>
                  <a:pt x="5038609" y="839685"/>
                  <a:pt x="5181600" y="831273"/>
                </a:cubicBezTo>
                <a:cubicBezTo>
                  <a:pt x="5196179" y="830415"/>
                  <a:pt x="5209439" y="822409"/>
                  <a:pt x="5223164" y="817418"/>
                </a:cubicBezTo>
                <a:cubicBezTo>
                  <a:pt x="5250070" y="807634"/>
                  <a:pt x="5401899" y="752064"/>
                  <a:pt x="5430982" y="734291"/>
                </a:cubicBezTo>
                <a:cubicBezTo>
                  <a:pt x="5484580" y="701537"/>
                  <a:pt x="5527199" y="651546"/>
                  <a:pt x="5583382" y="623455"/>
                </a:cubicBezTo>
                <a:cubicBezTo>
                  <a:pt x="5620327" y="604982"/>
                  <a:pt x="5659039" y="589686"/>
                  <a:pt x="5694218" y="568037"/>
                </a:cubicBezTo>
                <a:cubicBezTo>
                  <a:pt x="5738192" y="540976"/>
                  <a:pt x="5769481" y="506628"/>
                  <a:pt x="5805055" y="471055"/>
                </a:cubicBezTo>
                <a:cubicBezTo>
                  <a:pt x="5814291" y="447964"/>
                  <a:pt x="5832764" y="426652"/>
                  <a:pt x="5832764" y="401782"/>
                </a:cubicBezTo>
                <a:cubicBezTo>
                  <a:pt x="5832764" y="338282"/>
                  <a:pt x="5812190" y="263570"/>
                  <a:pt x="5777345" y="207818"/>
                </a:cubicBezTo>
                <a:cubicBezTo>
                  <a:pt x="5765107" y="188237"/>
                  <a:pt x="5752110" y="168728"/>
                  <a:pt x="5735782" y="152400"/>
                </a:cubicBezTo>
                <a:cubicBezTo>
                  <a:pt x="5724008" y="140626"/>
                  <a:pt x="5707768" y="134369"/>
                  <a:pt x="5694218" y="124691"/>
                </a:cubicBezTo>
                <a:cubicBezTo>
                  <a:pt x="5675428" y="111270"/>
                  <a:pt x="5659453" y="93454"/>
                  <a:pt x="5638800" y="83128"/>
                </a:cubicBezTo>
                <a:cubicBezTo>
                  <a:pt x="5621769" y="74613"/>
                  <a:pt x="5601855" y="73891"/>
                  <a:pt x="5583382" y="69273"/>
                </a:cubicBezTo>
                <a:cubicBezTo>
                  <a:pt x="5449455" y="73891"/>
                  <a:pt x="5312416" y="54058"/>
                  <a:pt x="5181600" y="83128"/>
                </a:cubicBezTo>
                <a:cubicBezTo>
                  <a:pt x="5136971" y="93045"/>
                  <a:pt x="5084618" y="180109"/>
                  <a:pt x="5084618" y="180109"/>
                </a:cubicBezTo>
                <a:cubicBezTo>
                  <a:pt x="5064499" y="240468"/>
                  <a:pt x="5054908" y="249319"/>
                  <a:pt x="5084618" y="332509"/>
                </a:cubicBezTo>
                <a:cubicBezTo>
                  <a:pt x="5095819" y="363871"/>
                  <a:pt x="5140036" y="415637"/>
                  <a:pt x="5140036" y="415637"/>
                </a:cubicBezTo>
                <a:cubicBezTo>
                  <a:pt x="5144654" y="447964"/>
                  <a:pt x="5145971" y="480938"/>
                  <a:pt x="5153891" y="512618"/>
                </a:cubicBezTo>
                <a:cubicBezTo>
                  <a:pt x="5175335" y="598395"/>
                  <a:pt x="5186571" y="575493"/>
                  <a:pt x="5237018" y="651164"/>
                </a:cubicBezTo>
                <a:cubicBezTo>
                  <a:pt x="5248474" y="668348"/>
                  <a:pt x="5253781" y="689068"/>
                  <a:pt x="5264727" y="706582"/>
                </a:cubicBezTo>
                <a:cubicBezTo>
                  <a:pt x="5276965" y="726163"/>
                  <a:pt x="5292436" y="743527"/>
                  <a:pt x="5306291" y="762000"/>
                </a:cubicBezTo>
                <a:cubicBezTo>
                  <a:pt x="5310909" y="775855"/>
                  <a:pt x="5317281" y="789244"/>
                  <a:pt x="5320145" y="803564"/>
                </a:cubicBezTo>
                <a:cubicBezTo>
                  <a:pt x="5326549" y="835585"/>
                  <a:pt x="5325408" y="869041"/>
                  <a:pt x="5334000" y="900546"/>
                </a:cubicBezTo>
                <a:cubicBezTo>
                  <a:pt x="5345230" y="941723"/>
                  <a:pt x="5400839" y="1009772"/>
                  <a:pt x="5417127" y="1039091"/>
                </a:cubicBezTo>
                <a:cubicBezTo>
                  <a:pt x="5424219" y="1051857"/>
                  <a:pt x="5424451" y="1067593"/>
                  <a:pt x="5430982" y="1080655"/>
                </a:cubicBezTo>
                <a:cubicBezTo>
                  <a:pt x="5442241" y="1103173"/>
                  <a:pt x="5489276" y="1161952"/>
                  <a:pt x="5500255" y="1177637"/>
                </a:cubicBezTo>
                <a:cubicBezTo>
                  <a:pt x="5642538" y="1380899"/>
                  <a:pt x="5445834" y="1118819"/>
                  <a:pt x="5652655" y="1371600"/>
                </a:cubicBezTo>
                <a:cubicBezTo>
                  <a:pt x="5688057" y="1414869"/>
                  <a:pt x="5677467" y="1424122"/>
                  <a:pt x="5721927" y="1468582"/>
                </a:cubicBezTo>
                <a:cubicBezTo>
                  <a:pt x="5764533" y="1511189"/>
                  <a:pt x="5838723" y="1542289"/>
                  <a:pt x="5888182" y="1565564"/>
                </a:cubicBezTo>
                <a:cubicBezTo>
                  <a:pt x="5929337" y="1584931"/>
                  <a:pt x="5969982" y="1605844"/>
                  <a:pt x="6012873" y="1620982"/>
                </a:cubicBezTo>
                <a:cubicBezTo>
                  <a:pt x="6113272" y="1656417"/>
                  <a:pt x="6247592" y="1664176"/>
                  <a:pt x="6345382" y="1676400"/>
                </a:cubicBezTo>
                <a:cubicBezTo>
                  <a:pt x="6484081" y="1693738"/>
                  <a:pt x="6419500" y="1684136"/>
                  <a:pt x="6539345" y="1704109"/>
                </a:cubicBezTo>
                <a:cubicBezTo>
                  <a:pt x="6553200" y="1708727"/>
                  <a:pt x="6566527" y="1715426"/>
                  <a:pt x="6580909" y="1717964"/>
                </a:cubicBezTo>
                <a:cubicBezTo>
                  <a:pt x="6645226" y="1729314"/>
                  <a:pt x="6711512" y="1729832"/>
                  <a:pt x="6774873" y="1745673"/>
                </a:cubicBezTo>
                <a:cubicBezTo>
                  <a:pt x="6916446" y="1781068"/>
                  <a:pt x="6929925" y="1781634"/>
                  <a:pt x="7135091" y="1884218"/>
                </a:cubicBezTo>
                <a:cubicBezTo>
                  <a:pt x="7205263" y="1919305"/>
                  <a:pt x="7207409" y="1916082"/>
                  <a:pt x="7259782" y="1953491"/>
                </a:cubicBezTo>
                <a:cubicBezTo>
                  <a:pt x="7278572" y="1966912"/>
                  <a:pt x="7295987" y="1982246"/>
                  <a:pt x="7315200" y="1995055"/>
                </a:cubicBezTo>
                <a:cubicBezTo>
                  <a:pt x="7351487" y="2019246"/>
                  <a:pt x="7401657" y="2037551"/>
                  <a:pt x="7426036" y="2078182"/>
                </a:cubicBezTo>
                <a:cubicBezTo>
                  <a:pt x="7457914" y="2131312"/>
                  <a:pt x="7485573" y="2187144"/>
                  <a:pt x="7509164" y="2244437"/>
                </a:cubicBezTo>
                <a:cubicBezTo>
                  <a:pt x="7618946" y="2511053"/>
                  <a:pt x="7582819" y="2398327"/>
                  <a:pt x="7633855" y="2576946"/>
                </a:cubicBezTo>
                <a:cubicBezTo>
                  <a:pt x="7610764" y="2747819"/>
                  <a:pt x="7599136" y="2920636"/>
                  <a:pt x="7564582" y="3089564"/>
                </a:cubicBezTo>
                <a:cubicBezTo>
                  <a:pt x="7557121" y="3126042"/>
                  <a:pt x="7524767" y="3152740"/>
                  <a:pt x="7509164" y="3186546"/>
                </a:cubicBezTo>
                <a:cubicBezTo>
                  <a:pt x="7486354" y="3235968"/>
                  <a:pt x="7468143" y="3368873"/>
                  <a:pt x="7398327" y="3380509"/>
                </a:cubicBezTo>
                <a:cubicBezTo>
                  <a:pt x="7269420" y="3401994"/>
                  <a:pt x="7343152" y="3391569"/>
                  <a:pt x="7176655" y="3408218"/>
                </a:cubicBezTo>
                <a:cubicBezTo>
                  <a:pt x="7139709" y="3398982"/>
                  <a:pt x="7101682" y="3393317"/>
                  <a:pt x="7065818" y="3380509"/>
                </a:cubicBezTo>
                <a:cubicBezTo>
                  <a:pt x="6994865" y="3355169"/>
                  <a:pt x="6906404" y="3290368"/>
                  <a:pt x="6858000" y="3241964"/>
                </a:cubicBezTo>
                <a:lnTo>
                  <a:pt x="6774873" y="3158837"/>
                </a:lnTo>
                <a:cubicBezTo>
                  <a:pt x="6765637" y="3140364"/>
                  <a:pt x="6758620" y="3120603"/>
                  <a:pt x="6747164" y="3103418"/>
                </a:cubicBezTo>
                <a:cubicBezTo>
                  <a:pt x="6730761" y="3078814"/>
                  <a:pt x="6701096" y="3062199"/>
                  <a:pt x="6691745" y="3034146"/>
                </a:cubicBezTo>
                <a:cubicBezTo>
                  <a:pt x="6685724" y="3016082"/>
                  <a:pt x="6700982" y="2997201"/>
                  <a:pt x="6705600" y="2978728"/>
                </a:cubicBezTo>
                <a:cubicBezTo>
                  <a:pt x="6700982" y="2964873"/>
                  <a:pt x="6691745" y="2951768"/>
                  <a:pt x="6691745" y="2937164"/>
                </a:cubicBezTo>
                <a:cubicBezTo>
                  <a:pt x="6691745" y="2883450"/>
                  <a:pt x="6710773" y="2857545"/>
                  <a:pt x="6733309" y="2812473"/>
                </a:cubicBezTo>
                <a:cubicBezTo>
                  <a:pt x="6728691" y="2794000"/>
                  <a:pt x="6726956" y="2774557"/>
                  <a:pt x="6719455" y="2757055"/>
                </a:cubicBezTo>
                <a:cubicBezTo>
                  <a:pt x="6698044" y="2707097"/>
                  <a:pt x="6655641" y="2690442"/>
                  <a:pt x="6622473" y="2646218"/>
                </a:cubicBezTo>
                <a:cubicBezTo>
                  <a:pt x="6577171" y="2585816"/>
                  <a:pt x="6535615" y="2520283"/>
                  <a:pt x="6456218" y="2493818"/>
                </a:cubicBezTo>
                <a:cubicBezTo>
                  <a:pt x="6442364" y="2489200"/>
                  <a:pt x="6427717" y="2486495"/>
                  <a:pt x="6414655" y="2479964"/>
                </a:cubicBezTo>
                <a:cubicBezTo>
                  <a:pt x="6329072" y="2437173"/>
                  <a:pt x="6361453" y="2431947"/>
                  <a:pt x="6262255" y="2410691"/>
                </a:cubicBezTo>
                <a:cubicBezTo>
                  <a:pt x="6225848" y="2402890"/>
                  <a:pt x="6188364" y="2401455"/>
                  <a:pt x="6151418" y="2396837"/>
                </a:cubicBezTo>
                <a:cubicBezTo>
                  <a:pt x="6077527" y="2401455"/>
                  <a:pt x="6002874" y="2399144"/>
                  <a:pt x="5929745" y="2410691"/>
                </a:cubicBezTo>
                <a:cubicBezTo>
                  <a:pt x="5913298" y="2413288"/>
                  <a:pt x="5902800" y="2430427"/>
                  <a:pt x="5888182" y="2438400"/>
                </a:cubicBezTo>
                <a:cubicBezTo>
                  <a:pt x="5840364" y="2464482"/>
                  <a:pt x="5736892" y="2506563"/>
                  <a:pt x="5694218" y="2549237"/>
                </a:cubicBezTo>
                <a:cubicBezTo>
                  <a:pt x="5652654" y="2590801"/>
                  <a:pt x="5613763" y="2635221"/>
                  <a:pt x="5569527" y="2673928"/>
                </a:cubicBezTo>
                <a:cubicBezTo>
                  <a:pt x="5475199" y="2756464"/>
                  <a:pt x="5331196" y="2873501"/>
                  <a:pt x="5278582" y="2978728"/>
                </a:cubicBezTo>
                <a:cubicBezTo>
                  <a:pt x="5264727" y="3006437"/>
                  <a:pt x="5254784" y="3036476"/>
                  <a:pt x="5237018" y="3061855"/>
                </a:cubicBezTo>
                <a:cubicBezTo>
                  <a:pt x="5222037" y="3083257"/>
                  <a:pt x="5196091" y="3095536"/>
                  <a:pt x="5181600" y="3117273"/>
                </a:cubicBezTo>
                <a:cubicBezTo>
                  <a:pt x="5122157" y="3206438"/>
                  <a:pt x="5128568" y="3230508"/>
                  <a:pt x="5098473" y="3325091"/>
                </a:cubicBezTo>
                <a:cubicBezTo>
                  <a:pt x="5032145" y="3533549"/>
                  <a:pt x="5059175" y="3472959"/>
                  <a:pt x="5001491" y="3588328"/>
                </a:cubicBezTo>
                <a:cubicBezTo>
                  <a:pt x="4961781" y="3786867"/>
                  <a:pt x="5017290" y="3540925"/>
                  <a:pt x="4959927" y="3713018"/>
                </a:cubicBezTo>
                <a:cubicBezTo>
                  <a:pt x="4949800" y="3743401"/>
                  <a:pt x="4935355" y="3857316"/>
                  <a:pt x="4932218" y="3879273"/>
                </a:cubicBezTo>
                <a:cubicBezTo>
                  <a:pt x="4937055" y="3927645"/>
                  <a:pt x="4912838" y="4123130"/>
                  <a:pt x="4987636" y="4197928"/>
                </a:cubicBezTo>
                <a:cubicBezTo>
                  <a:pt x="4999410" y="4209702"/>
                  <a:pt x="5015345" y="4216401"/>
                  <a:pt x="5029200" y="4225637"/>
                </a:cubicBezTo>
                <a:cubicBezTo>
                  <a:pt x="5103091" y="4221019"/>
                  <a:pt x="5177744" y="4223329"/>
                  <a:pt x="5250873" y="4211782"/>
                </a:cubicBezTo>
                <a:cubicBezTo>
                  <a:pt x="5267320" y="4209185"/>
                  <a:pt x="5279343" y="4194360"/>
                  <a:pt x="5292436" y="4184073"/>
                </a:cubicBezTo>
                <a:cubicBezTo>
                  <a:pt x="5304595" y="4174519"/>
                  <a:pt x="5444814" y="4067720"/>
                  <a:pt x="5486400" y="4017818"/>
                </a:cubicBezTo>
                <a:cubicBezTo>
                  <a:pt x="5497060" y="4005026"/>
                  <a:pt x="5504873" y="3990109"/>
                  <a:pt x="5514109" y="3976255"/>
                </a:cubicBezTo>
                <a:cubicBezTo>
                  <a:pt x="5527320" y="3896991"/>
                  <a:pt x="5541818" y="3822724"/>
                  <a:pt x="5541818" y="3740728"/>
                </a:cubicBezTo>
                <a:cubicBezTo>
                  <a:pt x="5541818" y="3689719"/>
                  <a:pt x="5537968" y="3638347"/>
                  <a:pt x="5527964" y="3588328"/>
                </a:cubicBezTo>
                <a:cubicBezTo>
                  <a:pt x="5514696" y="3521986"/>
                  <a:pt x="5499794" y="3541164"/>
                  <a:pt x="5458691" y="3505200"/>
                </a:cubicBezTo>
                <a:cubicBezTo>
                  <a:pt x="5434115" y="3483696"/>
                  <a:pt x="5413994" y="3457432"/>
                  <a:pt x="5389418" y="3435928"/>
                </a:cubicBezTo>
                <a:cubicBezTo>
                  <a:pt x="5370704" y="3419553"/>
                  <a:pt x="5313093" y="3387394"/>
                  <a:pt x="5292436" y="3380509"/>
                </a:cubicBezTo>
                <a:cubicBezTo>
                  <a:pt x="5273077" y="3374056"/>
                  <a:pt x="5153987" y="3355125"/>
                  <a:pt x="5140036" y="3352800"/>
                </a:cubicBezTo>
                <a:cubicBezTo>
                  <a:pt x="5033048" y="3361716"/>
                  <a:pt x="4882789" y="3370961"/>
                  <a:pt x="4779818" y="3394364"/>
                </a:cubicBezTo>
                <a:cubicBezTo>
                  <a:pt x="4741342" y="3403109"/>
                  <a:pt x="4705927" y="3422073"/>
                  <a:pt x="4668982" y="3435928"/>
                </a:cubicBezTo>
                <a:cubicBezTo>
                  <a:pt x="4655127" y="3449782"/>
                  <a:pt x="4642470" y="3464948"/>
                  <a:pt x="4627418" y="3477491"/>
                </a:cubicBezTo>
                <a:cubicBezTo>
                  <a:pt x="4551763" y="3540536"/>
                  <a:pt x="4617013" y="3460722"/>
                  <a:pt x="4530436" y="3560618"/>
                </a:cubicBezTo>
                <a:cubicBezTo>
                  <a:pt x="4487448" y="3610219"/>
                  <a:pt x="4449654" y="3664231"/>
                  <a:pt x="4405745" y="3713018"/>
                </a:cubicBezTo>
                <a:cubicBezTo>
                  <a:pt x="4366424" y="3756709"/>
                  <a:pt x="4320924" y="3794517"/>
                  <a:pt x="4281055" y="3837709"/>
                </a:cubicBezTo>
                <a:cubicBezTo>
                  <a:pt x="4233794" y="3888909"/>
                  <a:pt x="4197777" y="3980924"/>
                  <a:pt x="4128655" y="4003964"/>
                </a:cubicBezTo>
                <a:cubicBezTo>
                  <a:pt x="4114800" y="4008582"/>
                  <a:pt x="4100514" y="4012065"/>
                  <a:pt x="4087091" y="4017818"/>
                </a:cubicBezTo>
                <a:cubicBezTo>
                  <a:pt x="4068108" y="4025954"/>
                  <a:pt x="4051011" y="4038276"/>
                  <a:pt x="4031673" y="4045528"/>
                </a:cubicBezTo>
                <a:cubicBezTo>
                  <a:pt x="4009319" y="4053911"/>
                  <a:pt x="3925784" y="4069477"/>
                  <a:pt x="3906982" y="4073237"/>
                </a:cubicBezTo>
                <a:cubicBezTo>
                  <a:pt x="3662218" y="4050146"/>
                  <a:pt x="3416643" y="4034458"/>
                  <a:pt x="3172691" y="4003964"/>
                </a:cubicBezTo>
                <a:cubicBezTo>
                  <a:pt x="3073019" y="3991505"/>
                  <a:pt x="2882023" y="3945872"/>
                  <a:pt x="2770909" y="3906982"/>
                </a:cubicBezTo>
                <a:cubicBezTo>
                  <a:pt x="2723962" y="3890551"/>
                  <a:pt x="2680101" y="3865536"/>
                  <a:pt x="2632364" y="3851564"/>
                </a:cubicBezTo>
                <a:cubicBezTo>
                  <a:pt x="2284449" y="3749735"/>
                  <a:pt x="2250969" y="3773151"/>
                  <a:pt x="1967345" y="3657600"/>
                </a:cubicBezTo>
                <a:cubicBezTo>
                  <a:pt x="1777185" y="3580128"/>
                  <a:pt x="1840778" y="3571197"/>
                  <a:pt x="1620982" y="3463637"/>
                </a:cubicBezTo>
                <a:cubicBezTo>
                  <a:pt x="1466359" y="3387970"/>
                  <a:pt x="1262322" y="3348198"/>
                  <a:pt x="1122218" y="3228109"/>
                </a:cubicBezTo>
                <a:cubicBezTo>
                  <a:pt x="1092413" y="3202562"/>
                  <a:pt x="1043590" y="3146115"/>
                  <a:pt x="1025236" y="3117273"/>
                </a:cubicBezTo>
                <a:cubicBezTo>
                  <a:pt x="1008604" y="3091137"/>
                  <a:pt x="999909" y="3060530"/>
                  <a:pt x="983673" y="3034146"/>
                </a:cubicBezTo>
                <a:cubicBezTo>
                  <a:pt x="962852" y="3000312"/>
                  <a:pt x="935221" y="2970998"/>
                  <a:pt x="914400" y="2937164"/>
                </a:cubicBezTo>
                <a:cubicBezTo>
                  <a:pt x="824531" y="2791128"/>
                  <a:pt x="930266" y="2911467"/>
                  <a:pt x="803564" y="2784764"/>
                </a:cubicBezTo>
                <a:cubicBezTo>
                  <a:pt x="798946" y="2770909"/>
                  <a:pt x="796240" y="2756262"/>
                  <a:pt x="789709" y="2743200"/>
                </a:cubicBezTo>
                <a:cubicBezTo>
                  <a:pt x="756164" y="2676111"/>
                  <a:pt x="669891" y="2564972"/>
                  <a:pt x="637309" y="2521528"/>
                </a:cubicBezTo>
                <a:cubicBezTo>
                  <a:pt x="609777" y="2484818"/>
                  <a:pt x="576214" y="2441451"/>
                  <a:pt x="540327" y="2410691"/>
                </a:cubicBezTo>
                <a:cubicBezTo>
                  <a:pt x="522795" y="2395664"/>
                  <a:pt x="502072" y="2384575"/>
                  <a:pt x="484909" y="2369128"/>
                </a:cubicBezTo>
                <a:cubicBezTo>
                  <a:pt x="455782" y="2342913"/>
                  <a:pt x="429491" y="2313709"/>
                  <a:pt x="401782" y="2286000"/>
                </a:cubicBezTo>
                <a:cubicBezTo>
                  <a:pt x="387927" y="2272145"/>
                  <a:pt x="377743" y="2253199"/>
                  <a:pt x="360218" y="2244437"/>
                </a:cubicBezTo>
                <a:cubicBezTo>
                  <a:pt x="236320" y="2182487"/>
                  <a:pt x="288569" y="2202080"/>
                  <a:pt x="207818" y="2175164"/>
                </a:cubicBezTo>
                <a:cubicBezTo>
                  <a:pt x="152400" y="2184400"/>
                  <a:pt x="94863" y="2220640"/>
                  <a:pt x="41564" y="2202873"/>
                </a:cubicBezTo>
                <a:lnTo>
                  <a:pt x="0" y="2189018"/>
                </a:lnTo>
              </a:path>
            </a:pathLst>
          </a:custGeom>
          <a:noFill/>
          <a:ln cap="rnd"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олилиния 11"/>
          <p:cNvSpPr/>
          <p:nvPr/>
        </p:nvSpPr>
        <p:spPr>
          <a:xfrm>
            <a:off x="1192320" y="1403280"/>
            <a:ext cx="7591320" cy="3335400"/>
          </a:xfrm>
          <a:custGeom>
            <a:avLst/>
            <a:gdLst/>
            <a:ahLst/>
            <a:rect l="l" t="t" r="r" b="b"/>
            <a:pathLst>
              <a:path w="7592291" h="3335290">
                <a:moveTo>
                  <a:pt x="0" y="1173980"/>
                </a:moveTo>
                <a:cubicBezTo>
                  <a:pt x="9236" y="1377180"/>
                  <a:pt x="4393" y="1581511"/>
                  <a:pt x="27709" y="1783580"/>
                </a:cubicBezTo>
                <a:cubicBezTo>
                  <a:pt x="34521" y="1842616"/>
                  <a:pt x="82809" y="1886933"/>
                  <a:pt x="110836" y="1935980"/>
                </a:cubicBezTo>
                <a:cubicBezTo>
                  <a:pt x="190096" y="2074686"/>
                  <a:pt x="85802" y="1924802"/>
                  <a:pt x="180109" y="2019108"/>
                </a:cubicBezTo>
                <a:cubicBezTo>
                  <a:pt x="201019" y="2040017"/>
                  <a:pt x="213426" y="2068734"/>
                  <a:pt x="235527" y="2088380"/>
                </a:cubicBezTo>
                <a:cubicBezTo>
                  <a:pt x="255654" y="2106270"/>
                  <a:pt x="282394" y="2115007"/>
                  <a:pt x="304800" y="2129944"/>
                </a:cubicBezTo>
                <a:cubicBezTo>
                  <a:pt x="388676" y="2185862"/>
                  <a:pt x="327702" y="2160670"/>
                  <a:pt x="401782" y="2185362"/>
                </a:cubicBezTo>
                <a:cubicBezTo>
                  <a:pt x="423360" y="2184093"/>
                  <a:pt x="631293" y="2182750"/>
                  <a:pt x="706582" y="2157653"/>
                </a:cubicBezTo>
                <a:cubicBezTo>
                  <a:pt x="726175" y="2151122"/>
                  <a:pt x="743017" y="2138080"/>
                  <a:pt x="762000" y="2129944"/>
                </a:cubicBezTo>
                <a:cubicBezTo>
                  <a:pt x="775423" y="2124191"/>
                  <a:pt x="789709" y="2120708"/>
                  <a:pt x="803564" y="2116090"/>
                </a:cubicBezTo>
                <a:lnTo>
                  <a:pt x="928254" y="1991399"/>
                </a:lnTo>
                <a:cubicBezTo>
                  <a:pt x="942109" y="1977544"/>
                  <a:pt x="958062" y="1965510"/>
                  <a:pt x="969818" y="1949835"/>
                </a:cubicBezTo>
                <a:lnTo>
                  <a:pt x="1011382" y="1894417"/>
                </a:lnTo>
                <a:cubicBezTo>
                  <a:pt x="1055847" y="1761022"/>
                  <a:pt x="1067995" y="1758600"/>
                  <a:pt x="1025236" y="1561908"/>
                </a:cubicBezTo>
                <a:cubicBezTo>
                  <a:pt x="1018954" y="1533012"/>
                  <a:pt x="989290" y="1514889"/>
                  <a:pt x="969818" y="1492635"/>
                </a:cubicBezTo>
                <a:cubicBezTo>
                  <a:pt x="956916" y="1477889"/>
                  <a:pt x="940797" y="1466123"/>
                  <a:pt x="928254" y="1451071"/>
                </a:cubicBezTo>
                <a:cubicBezTo>
                  <a:pt x="917594" y="1438279"/>
                  <a:pt x="912319" y="1421282"/>
                  <a:pt x="900545" y="1409508"/>
                </a:cubicBezTo>
                <a:cubicBezTo>
                  <a:pt x="884217" y="1393180"/>
                  <a:pt x="861455" y="1384272"/>
                  <a:pt x="845127" y="1367944"/>
                </a:cubicBezTo>
                <a:cubicBezTo>
                  <a:pt x="782461" y="1305277"/>
                  <a:pt x="856769" y="1339497"/>
                  <a:pt x="775854" y="1312526"/>
                </a:cubicBezTo>
                <a:cubicBezTo>
                  <a:pt x="706581" y="1317144"/>
                  <a:pt x="635973" y="1312077"/>
                  <a:pt x="568036" y="1326380"/>
                </a:cubicBezTo>
                <a:cubicBezTo>
                  <a:pt x="507273" y="1339172"/>
                  <a:pt x="512947" y="1384109"/>
                  <a:pt x="484909" y="1423362"/>
                </a:cubicBezTo>
                <a:cubicBezTo>
                  <a:pt x="473521" y="1439306"/>
                  <a:pt x="457200" y="1451071"/>
                  <a:pt x="443345" y="1464926"/>
                </a:cubicBezTo>
                <a:cubicBezTo>
                  <a:pt x="410859" y="1562388"/>
                  <a:pt x="453135" y="1442085"/>
                  <a:pt x="401782" y="1561908"/>
                </a:cubicBezTo>
                <a:cubicBezTo>
                  <a:pt x="389854" y="1589741"/>
                  <a:pt x="381105" y="1630759"/>
                  <a:pt x="374073" y="1658890"/>
                </a:cubicBezTo>
                <a:cubicBezTo>
                  <a:pt x="378691" y="1778963"/>
                  <a:pt x="368794" y="1900480"/>
                  <a:pt x="387927" y="2019108"/>
                </a:cubicBezTo>
                <a:cubicBezTo>
                  <a:pt x="392636" y="2048301"/>
                  <a:pt x="422435" y="2067470"/>
                  <a:pt x="443345" y="2088380"/>
                </a:cubicBezTo>
                <a:cubicBezTo>
                  <a:pt x="455119" y="2100154"/>
                  <a:pt x="472117" y="2105430"/>
                  <a:pt x="484909" y="2116090"/>
                </a:cubicBezTo>
                <a:cubicBezTo>
                  <a:pt x="569158" y="2186297"/>
                  <a:pt x="479348" y="2134091"/>
                  <a:pt x="581891" y="2185362"/>
                </a:cubicBezTo>
                <a:cubicBezTo>
                  <a:pt x="595745" y="2199217"/>
                  <a:pt x="607151" y="2216058"/>
                  <a:pt x="623454" y="2226926"/>
                </a:cubicBezTo>
                <a:cubicBezTo>
                  <a:pt x="635605" y="2235027"/>
                  <a:pt x="651344" y="2235652"/>
                  <a:pt x="665018" y="2240780"/>
                </a:cubicBezTo>
                <a:cubicBezTo>
                  <a:pt x="688304" y="2249512"/>
                  <a:pt x="711565" y="2258389"/>
                  <a:pt x="734291" y="2268490"/>
                </a:cubicBezTo>
                <a:cubicBezTo>
                  <a:pt x="753164" y="2276878"/>
                  <a:pt x="770192" y="2289443"/>
                  <a:pt x="789709" y="2296199"/>
                </a:cubicBezTo>
                <a:cubicBezTo>
                  <a:pt x="1069602" y="2393084"/>
                  <a:pt x="1002956" y="2377921"/>
                  <a:pt x="1177636" y="2407035"/>
                </a:cubicBezTo>
                <a:cubicBezTo>
                  <a:pt x="1357686" y="2385853"/>
                  <a:pt x="1362312" y="2412343"/>
                  <a:pt x="1468582" y="2351617"/>
                </a:cubicBezTo>
                <a:cubicBezTo>
                  <a:pt x="1483039" y="2343356"/>
                  <a:pt x="1496947" y="2334060"/>
                  <a:pt x="1510145" y="2323908"/>
                </a:cubicBezTo>
                <a:cubicBezTo>
                  <a:pt x="1557022" y="2287848"/>
                  <a:pt x="1595793" y="2239520"/>
                  <a:pt x="1648691" y="2213071"/>
                </a:cubicBezTo>
                <a:cubicBezTo>
                  <a:pt x="1667164" y="2203835"/>
                  <a:pt x="1687982" y="2198264"/>
                  <a:pt x="1704109" y="2185362"/>
                </a:cubicBezTo>
                <a:cubicBezTo>
                  <a:pt x="1837615" y="2078557"/>
                  <a:pt x="1735134" y="2119603"/>
                  <a:pt x="1828800" y="2088380"/>
                </a:cubicBezTo>
                <a:cubicBezTo>
                  <a:pt x="1847273" y="2074526"/>
                  <a:pt x="1866686" y="2061844"/>
                  <a:pt x="1884218" y="2046817"/>
                </a:cubicBezTo>
                <a:cubicBezTo>
                  <a:pt x="1899094" y="2034066"/>
                  <a:pt x="1909838" y="2016641"/>
                  <a:pt x="1925782" y="2005253"/>
                </a:cubicBezTo>
                <a:cubicBezTo>
                  <a:pt x="1971737" y="1972428"/>
                  <a:pt x="1977535" y="1983074"/>
                  <a:pt x="2022764" y="1963690"/>
                </a:cubicBezTo>
                <a:cubicBezTo>
                  <a:pt x="2041747" y="1955554"/>
                  <a:pt x="2058844" y="1943232"/>
                  <a:pt x="2078182" y="1935980"/>
                </a:cubicBezTo>
                <a:cubicBezTo>
                  <a:pt x="2096011" y="1929294"/>
                  <a:pt x="2115291" y="1927357"/>
                  <a:pt x="2133600" y="1922126"/>
                </a:cubicBezTo>
                <a:cubicBezTo>
                  <a:pt x="2147642" y="1918114"/>
                  <a:pt x="2161122" y="1912283"/>
                  <a:pt x="2175164" y="1908271"/>
                </a:cubicBezTo>
                <a:cubicBezTo>
                  <a:pt x="2220807" y="1895230"/>
                  <a:pt x="2252252" y="1890083"/>
                  <a:pt x="2299854" y="1880562"/>
                </a:cubicBezTo>
                <a:cubicBezTo>
                  <a:pt x="2359891" y="1885180"/>
                  <a:pt x="2420781" y="1883320"/>
                  <a:pt x="2479964" y="1894417"/>
                </a:cubicBezTo>
                <a:cubicBezTo>
                  <a:pt x="2520102" y="1901943"/>
                  <a:pt x="2527570" y="1937692"/>
                  <a:pt x="2549236" y="1963690"/>
                </a:cubicBezTo>
                <a:cubicBezTo>
                  <a:pt x="2561779" y="1978742"/>
                  <a:pt x="2576945" y="1991399"/>
                  <a:pt x="2590800" y="2005253"/>
                </a:cubicBezTo>
                <a:cubicBezTo>
                  <a:pt x="2607596" y="2038845"/>
                  <a:pt x="2637373" y="2094563"/>
                  <a:pt x="2646218" y="2129944"/>
                </a:cubicBezTo>
                <a:cubicBezTo>
                  <a:pt x="2654138" y="2161625"/>
                  <a:pt x="2655455" y="2194599"/>
                  <a:pt x="2660073" y="2226926"/>
                </a:cubicBezTo>
                <a:cubicBezTo>
                  <a:pt x="2664691" y="2310053"/>
                  <a:pt x="2666034" y="2393428"/>
                  <a:pt x="2673927" y="2476308"/>
                </a:cubicBezTo>
                <a:cubicBezTo>
                  <a:pt x="2675312" y="2490846"/>
                  <a:pt x="2683770" y="2503829"/>
                  <a:pt x="2687782" y="2517871"/>
                </a:cubicBezTo>
                <a:cubicBezTo>
                  <a:pt x="2693013" y="2536180"/>
                  <a:pt x="2697018" y="2554817"/>
                  <a:pt x="2701636" y="2573290"/>
                </a:cubicBezTo>
                <a:cubicBezTo>
                  <a:pt x="2706254" y="2776490"/>
                  <a:pt x="2694433" y="2980731"/>
                  <a:pt x="2715491" y="3182890"/>
                </a:cubicBezTo>
                <a:cubicBezTo>
                  <a:pt x="2718198" y="3208874"/>
                  <a:pt x="2755724" y="3217050"/>
                  <a:pt x="2770909" y="3238308"/>
                </a:cubicBezTo>
                <a:cubicBezTo>
                  <a:pt x="2779397" y="3250192"/>
                  <a:pt x="2774438" y="3269545"/>
                  <a:pt x="2784764" y="3279871"/>
                </a:cubicBezTo>
                <a:cubicBezTo>
                  <a:pt x="2795090" y="3290197"/>
                  <a:pt x="2811893" y="3291505"/>
                  <a:pt x="2826327" y="3293726"/>
                </a:cubicBezTo>
                <a:cubicBezTo>
                  <a:pt x="2872200" y="3300783"/>
                  <a:pt x="2918691" y="3302962"/>
                  <a:pt x="2964873" y="3307580"/>
                </a:cubicBezTo>
                <a:cubicBezTo>
                  <a:pt x="3013377" y="3319706"/>
                  <a:pt x="3067630" y="3335290"/>
                  <a:pt x="3117273" y="3335290"/>
                </a:cubicBezTo>
                <a:cubicBezTo>
                  <a:pt x="3228206" y="3335290"/>
                  <a:pt x="3338946" y="3326053"/>
                  <a:pt x="3449782" y="3321435"/>
                </a:cubicBezTo>
                <a:cubicBezTo>
                  <a:pt x="3481254" y="3305699"/>
                  <a:pt x="3550117" y="3273039"/>
                  <a:pt x="3574473" y="3252162"/>
                </a:cubicBezTo>
                <a:cubicBezTo>
                  <a:pt x="3587115" y="3241326"/>
                  <a:pt x="3589651" y="3221564"/>
                  <a:pt x="3602182" y="3210599"/>
                </a:cubicBezTo>
                <a:cubicBezTo>
                  <a:pt x="3681499" y="3141196"/>
                  <a:pt x="3681801" y="3178330"/>
                  <a:pt x="3740727" y="3099762"/>
                </a:cubicBezTo>
                <a:cubicBezTo>
                  <a:pt x="3761271" y="3072371"/>
                  <a:pt x="3771590" y="3034882"/>
                  <a:pt x="3782291" y="3002780"/>
                </a:cubicBezTo>
                <a:cubicBezTo>
                  <a:pt x="3777673" y="2951980"/>
                  <a:pt x="3782449" y="2899427"/>
                  <a:pt x="3768436" y="2850380"/>
                </a:cubicBezTo>
                <a:cubicBezTo>
                  <a:pt x="3760371" y="2822153"/>
                  <a:pt x="3704701" y="2798345"/>
                  <a:pt x="3685309" y="2781108"/>
                </a:cubicBezTo>
                <a:cubicBezTo>
                  <a:pt x="3656021" y="2755074"/>
                  <a:pt x="3637232" y="2715505"/>
                  <a:pt x="3602182" y="2697980"/>
                </a:cubicBezTo>
                <a:cubicBezTo>
                  <a:pt x="3583709" y="2688744"/>
                  <a:pt x="3563287" y="2682663"/>
                  <a:pt x="3546764" y="2670271"/>
                </a:cubicBezTo>
                <a:cubicBezTo>
                  <a:pt x="3525864" y="2654596"/>
                  <a:pt x="3513082" y="2629344"/>
                  <a:pt x="3491345" y="2614853"/>
                </a:cubicBezTo>
                <a:cubicBezTo>
                  <a:pt x="3456976" y="2591941"/>
                  <a:pt x="3380509" y="2559435"/>
                  <a:pt x="3380509" y="2559435"/>
                </a:cubicBezTo>
                <a:cubicBezTo>
                  <a:pt x="3366654" y="2540962"/>
                  <a:pt x="3353972" y="2521549"/>
                  <a:pt x="3338945" y="2504017"/>
                </a:cubicBezTo>
                <a:cubicBezTo>
                  <a:pt x="3326194" y="2489141"/>
                  <a:pt x="3301225" y="2481666"/>
                  <a:pt x="3297382" y="2462453"/>
                </a:cubicBezTo>
                <a:cubicBezTo>
                  <a:pt x="3284482" y="2397951"/>
                  <a:pt x="3305860" y="2357436"/>
                  <a:pt x="3352800" y="2323908"/>
                </a:cubicBezTo>
                <a:cubicBezTo>
                  <a:pt x="3369606" y="2311904"/>
                  <a:pt x="3389745" y="2305435"/>
                  <a:pt x="3408218" y="2296199"/>
                </a:cubicBezTo>
                <a:lnTo>
                  <a:pt x="3671454" y="2310053"/>
                </a:lnTo>
                <a:cubicBezTo>
                  <a:pt x="3713167" y="2313033"/>
                  <a:pt x="3756472" y="2310684"/>
                  <a:pt x="3796145" y="2323908"/>
                </a:cubicBezTo>
                <a:cubicBezTo>
                  <a:pt x="3865576" y="2347051"/>
                  <a:pt x="3940370" y="2410442"/>
                  <a:pt x="4003964" y="2448599"/>
                </a:cubicBezTo>
                <a:cubicBezTo>
                  <a:pt x="4021674" y="2459225"/>
                  <a:pt x="4041542" y="2465902"/>
                  <a:pt x="4059382" y="2476308"/>
                </a:cubicBezTo>
                <a:cubicBezTo>
                  <a:pt x="4152423" y="2530582"/>
                  <a:pt x="4234287" y="2608500"/>
                  <a:pt x="4336473" y="2642562"/>
                </a:cubicBezTo>
                <a:lnTo>
                  <a:pt x="4419600" y="2670271"/>
                </a:lnTo>
                <a:cubicBezTo>
                  <a:pt x="4479636" y="2665653"/>
                  <a:pt x="4540527" y="2667514"/>
                  <a:pt x="4599709" y="2656417"/>
                </a:cubicBezTo>
                <a:cubicBezTo>
                  <a:pt x="4616075" y="2653348"/>
                  <a:pt x="4628828" y="2639770"/>
                  <a:pt x="4641273" y="2628708"/>
                </a:cubicBezTo>
                <a:cubicBezTo>
                  <a:pt x="4670561" y="2602674"/>
                  <a:pt x="4696691" y="2573289"/>
                  <a:pt x="4724400" y="2545580"/>
                </a:cubicBezTo>
                <a:cubicBezTo>
                  <a:pt x="4738255" y="2531725"/>
                  <a:pt x="4754208" y="2519692"/>
                  <a:pt x="4765964" y="2504017"/>
                </a:cubicBezTo>
                <a:lnTo>
                  <a:pt x="4807527" y="2448599"/>
                </a:lnTo>
                <a:cubicBezTo>
                  <a:pt x="4811415" y="2425270"/>
                  <a:pt x="4835236" y="2286323"/>
                  <a:pt x="4835236" y="2268490"/>
                </a:cubicBezTo>
                <a:cubicBezTo>
                  <a:pt x="4835236" y="2083705"/>
                  <a:pt x="4834243" y="1898645"/>
                  <a:pt x="4821382" y="1714308"/>
                </a:cubicBezTo>
                <a:cubicBezTo>
                  <a:pt x="4820223" y="1697697"/>
                  <a:pt x="4803351" y="1686294"/>
                  <a:pt x="4793673" y="1672744"/>
                </a:cubicBezTo>
                <a:cubicBezTo>
                  <a:pt x="4780252" y="1653954"/>
                  <a:pt x="4768437" y="1633654"/>
                  <a:pt x="4752109" y="1617326"/>
                </a:cubicBezTo>
                <a:cubicBezTo>
                  <a:pt x="4731199" y="1596416"/>
                  <a:pt x="4704717" y="1581800"/>
                  <a:pt x="4682836" y="1561908"/>
                </a:cubicBezTo>
                <a:cubicBezTo>
                  <a:pt x="4653840" y="1535548"/>
                  <a:pt x="4627418" y="1506489"/>
                  <a:pt x="4599709" y="1478780"/>
                </a:cubicBezTo>
                <a:cubicBezTo>
                  <a:pt x="4581236" y="1460307"/>
                  <a:pt x="4558782" y="1445099"/>
                  <a:pt x="4544291" y="1423362"/>
                </a:cubicBezTo>
                <a:cubicBezTo>
                  <a:pt x="4483050" y="1331502"/>
                  <a:pt x="4555024" y="1433575"/>
                  <a:pt x="4475018" y="1340235"/>
                </a:cubicBezTo>
                <a:cubicBezTo>
                  <a:pt x="4459991" y="1322703"/>
                  <a:pt x="4449782" y="1301145"/>
                  <a:pt x="4433454" y="1284817"/>
                </a:cubicBezTo>
                <a:cubicBezTo>
                  <a:pt x="4421680" y="1273043"/>
                  <a:pt x="4404267" y="1268247"/>
                  <a:pt x="4391891" y="1257108"/>
                </a:cubicBezTo>
                <a:cubicBezTo>
                  <a:pt x="4357909" y="1226524"/>
                  <a:pt x="4327236" y="1192453"/>
                  <a:pt x="4294909" y="1160126"/>
                </a:cubicBezTo>
                <a:cubicBezTo>
                  <a:pt x="4281054" y="1146271"/>
                  <a:pt x="4270870" y="1127324"/>
                  <a:pt x="4253345" y="1118562"/>
                </a:cubicBezTo>
                <a:cubicBezTo>
                  <a:pt x="4085187" y="1034483"/>
                  <a:pt x="4348870" y="1169188"/>
                  <a:pt x="4114800" y="1035435"/>
                </a:cubicBezTo>
                <a:cubicBezTo>
                  <a:pt x="4082473" y="1016962"/>
                  <a:pt x="4050505" y="997846"/>
                  <a:pt x="4017818" y="980017"/>
                </a:cubicBezTo>
                <a:cubicBezTo>
                  <a:pt x="3999687" y="970127"/>
                  <a:pt x="3979914" y="963254"/>
                  <a:pt x="3962400" y="952308"/>
                </a:cubicBezTo>
                <a:cubicBezTo>
                  <a:pt x="3835569" y="873038"/>
                  <a:pt x="3980459" y="951997"/>
                  <a:pt x="3851564" y="855326"/>
                </a:cubicBezTo>
                <a:cubicBezTo>
                  <a:pt x="3816710" y="829185"/>
                  <a:pt x="3776978" y="810220"/>
                  <a:pt x="3740727" y="786053"/>
                </a:cubicBezTo>
                <a:cubicBezTo>
                  <a:pt x="3681979" y="746887"/>
                  <a:pt x="3714057" y="765790"/>
                  <a:pt x="3643745" y="730635"/>
                </a:cubicBezTo>
                <a:cubicBezTo>
                  <a:pt x="3625272" y="712162"/>
                  <a:pt x="3607987" y="692420"/>
                  <a:pt x="3588327" y="675217"/>
                </a:cubicBezTo>
                <a:cubicBezTo>
                  <a:pt x="3570949" y="660011"/>
                  <a:pt x="3549237" y="649981"/>
                  <a:pt x="3532909" y="633653"/>
                </a:cubicBezTo>
                <a:cubicBezTo>
                  <a:pt x="3511999" y="612743"/>
                  <a:pt x="3495964" y="587471"/>
                  <a:pt x="3477491" y="564380"/>
                </a:cubicBezTo>
                <a:cubicBezTo>
                  <a:pt x="3458006" y="505927"/>
                  <a:pt x="3449782" y="490314"/>
                  <a:pt x="3449782" y="411980"/>
                </a:cubicBezTo>
                <a:cubicBezTo>
                  <a:pt x="3449782" y="383889"/>
                  <a:pt x="3451073" y="353979"/>
                  <a:pt x="3463636" y="328853"/>
                </a:cubicBezTo>
                <a:cubicBezTo>
                  <a:pt x="3485472" y="285180"/>
                  <a:pt x="3570145" y="242935"/>
                  <a:pt x="3602182" y="218017"/>
                </a:cubicBezTo>
                <a:cubicBezTo>
                  <a:pt x="3617648" y="205988"/>
                  <a:pt x="3627801" y="187841"/>
                  <a:pt x="3643745" y="176453"/>
                </a:cubicBezTo>
                <a:cubicBezTo>
                  <a:pt x="3682756" y="148588"/>
                  <a:pt x="3709956" y="146046"/>
                  <a:pt x="3754582" y="134890"/>
                </a:cubicBezTo>
                <a:cubicBezTo>
                  <a:pt x="3791114" y="116623"/>
                  <a:pt x="3840351" y="90086"/>
                  <a:pt x="3879273" y="79471"/>
                </a:cubicBezTo>
                <a:cubicBezTo>
                  <a:pt x="3906374" y="72080"/>
                  <a:pt x="3934691" y="70235"/>
                  <a:pt x="3962400" y="65617"/>
                </a:cubicBezTo>
                <a:cubicBezTo>
                  <a:pt x="3985491" y="56381"/>
                  <a:pt x="4006803" y="37908"/>
                  <a:pt x="4031673" y="37908"/>
                </a:cubicBezTo>
                <a:cubicBezTo>
                  <a:pt x="5831285" y="37908"/>
                  <a:pt x="5412099" y="0"/>
                  <a:pt x="6206836" y="79471"/>
                </a:cubicBezTo>
                <a:cubicBezTo>
                  <a:pt x="6590309" y="194513"/>
                  <a:pt x="6186569" y="68914"/>
                  <a:pt x="6414654" y="148744"/>
                </a:cubicBezTo>
                <a:cubicBezTo>
                  <a:pt x="6543171" y="193725"/>
                  <a:pt x="6720716" y="245601"/>
                  <a:pt x="6844145" y="301144"/>
                </a:cubicBezTo>
                <a:cubicBezTo>
                  <a:pt x="6865202" y="310620"/>
                  <a:pt x="6879983" y="330470"/>
                  <a:pt x="6899564" y="342708"/>
                </a:cubicBezTo>
                <a:cubicBezTo>
                  <a:pt x="6953970" y="376712"/>
                  <a:pt x="7020451" y="394324"/>
                  <a:pt x="7065818" y="439690"/>
                </a:cubicBezTo>
                <a:cubicBezTo>
                  <a:pt x="7151419" y="525290"/>
                  <a:pt x="7108967" y="489369"/>
                  <a:pt x="7190509" y="550526"/>
                </a:cubicBezTo>
                <a:cubicBezTo>
                  <a:pt x="7204364" y="573617"/>
                  <a:pt x="7217136" y="597393"/>
                  <a:pt x="7232073" y="619799"/>
                </a:cubicBezTo>
                <a:cubicBezTo>
                  <a:pt x="7244881" y="639012"/>
                  <a:pt x="7263310" y="654564"/>
                  <a:pt x="7273636" y="675217"/>
                </a:cubicBezTo>
                <a:cubicBezTo>
                  <a:pt x="7282151" y="692248"/>
                  <a:pt x="7282873" y="712162"/>
                  <a:pt x="7287491" y="730635"/>
                </a:cubicBezTo>
                <a:cubicBezTo>
                  <a:pt x="7278255" y="1076999"/>
                  <a:pt x="7281395" y="1423914"/>
                  <a:pt x="7259782" y="1769726"/>
                </a:cubicBezTo>
                <a:cubicBezTo>
                  <a:pt x="7258102" y="1796602"/>
                  <a:pt x="7235743" y="1818553"/>
                  <a:pt x="7218218" y="1838999"/>
                </a:cubicBezTo>
                <a:cubicBezTo>
                  <a:pt x="7207382" y="1851641"/>
                  <a:pt x="7189446" y="1856048"/>
                  <a:pt x="7176654" y="1866708"/>
                </a:cubicBezTo>
                <a:cubicBezTo>
                  <a:pt x="7069978" y="1955604"/>
                  <a:pt x="7196723" y="1867183"/>
                  <a:pt x="7093527" y="1935980"/>
                </a:cubicBezTo>
                <a:cubicBezTo>
                  <a:pt x="7079673" y="1922126"/>
                  <a:pt x="7062832" y="1910719"/>
                  <a:pt x="7051964" y="1894417"/>
                </a:cubicBezTo>
                <a:cubicBezTo>
                  <a:pt x="7044014" y="1882491"/>
                  <a:pt x="7026102" y="1804826"/>
                  <a:pt x="7024254" y="1797435"/>
                </a:cubicBezTo>
                <a:cubicBezTo>
                  <a:pt x="7033305" y="1679778"/>
                  <a:pt x="6997584" y="1633225"/>
                  <a:pt x="7079673" y="1575762"/>
                </a:cubicBezTo>
                <a:cubicBezTo>
                  <a:pt x="7122808" y="1545567"/>
                  <a:pt x="7192474" y="1509082"/>
                  <a:pt x="7245927" y="1492635"/>
                </a:cubicBezTo>
                <a:cubicBezTo>
                  <a:pt x="7282326" y="1481436"/>
                  <a:pt x="7356764" y="1464926"/>
                  <a:pt x="7356764" y="1464926"/>
                </a:cubicBezTo>
                <a:cubicBezTo>
                  <a:pt x="7385652" y="1469741"/>
                  <a:pt x="7521851" y="1469068"/>
                  <a:pt x="7564582" y="1520344"/>
                </a:cubicBezTo>
                <a:cubicBezTo>
                  <a:pt x="7577804" y="1536210"/>
                  <a:pt x="7583055" y="1557289"/>
                  <a:pt x="7592291" y="1575762"/>
                </a:cubicBezTo>
                <a:cubicBezTo>
                  <a:pt x="7587673" y="1672744"/>
                  <a:pt x="7589158" y="1770210"/>
                  <a:pt x="7578436" y="1866708"/>
                </a:cubicBezTo>
                <a:cubicBezTo>
                  <a:pt x="7572802" y="1917415"/>
                  <a:pt x="7529752" y="1998519"/>
                  <a:pt x="7495309" y="2032962"/>
                </a:cubicBezTo>
                <a:cubicBezTo>
                  <a:pt x="7458052" y="2070219"/>
                  <a:pt x="7427928" y="2097283"/>
                  <a:pt x="7398327" y="2143799"/>
                </a:cubicBezTo>
                <a:cubicBezTo>
                  <a:pt x="7381695" y="2169935"/>
                  <a:pt x="7374629" y="2201617"/>
                  <a:pt x="7356764" y="2226926"/>
                </a:cubicBezTo>
                <a:cubicBezTo>
                  <a:pt x="7318912" y="2280549"/>
                  <a:pt x="7268482" y="2324713"/>
                  <a:pt x="7232073" y="2379326"/>
                </a:cubicBezTo>
                <a:cubicBezTo>
                  <a:pt x="7213600" y="2407035"/>
                  <a:pt x="7198584" y="2437391"/>
                  <a:pt x="7176654" y="2462453"/>
                </a:cubicBezTo>
                <a:cubicBezTo>
                  <a:pt x="7165689" y="2474984"/>
                  <a:pt x="7148640" y="2480484"/>
                  <a:pt x="7135091" y="2490162"/>
                </a:cubicBezTo>
                <a:cubicBezTo>
                  <a:pt x="7116301" y="2503583"/>
                  <a:pt x="7098886" y="2518917"/>
                  <a:pt x="7079673" y="2531726"/>
                </a:cubicBezTo>
                <a:cubicBezTo>
                  <a:pt x="7029572" y="2565127"/>
                  <a:pt x="6986882" y="2620193"/>
                  <a:pt x="6927273" y="2628708"/>
                </a:cubicBezTo>
                <a:lnTo>
                  <a:pt x="6830291" y="2642562"/>
                </a:lnTo>
                <a:cubicBezTo>
                  <a:pt x="6779491" y="2633326"/>
                  <a:pt x="6727537" y="2629038"/>
                  <a:pt x="6677891" y="2614853"/>
                </a:cubicBezTo>
                <a:cubicBezTo>
                  <a:pt x="6647267" y="2606103"/>
                  <a:pt x="6616045" y="2563820"/>
                  <a:pt x="6594764" y="2545580"/>
                </a:cubicBezTo>
                <a:cubicBezTo>
                  <a:pt x="6544409" y="2502419"/>
                  <a:pt x="6540691" y="2504690"/>
                  <a:pt x="6483927" y="2476308"/>
                </a:cubicBezTo>
                <a:cubicBezTo>
                  <a:pt x="6400193" y="2308841"/>
                  <a:pt x="6506839" y="2516405"/>
                  <a:pt x="6428509" y="2379326"/>
                </a:cubicBezTo>
                <a:cubicBezTo>
                  <a:pt x="6400556" y="2330408"/>
                  <a:pt x="6382565" y="2278250"/>
                  <a:pt x="6359236" y="2226926"/>
                </a:cubicBezTo>
                <a:cubicBezTo>
                  <a:pt x="6350690" y="2208124"/>
                  <a:pt x="6339805" y="2190429"/>
                  <a:pt x="6331527" y="2171508"/>
                </a:cubicBezTo>
                <a:cubicBezTo>
                  <a:pt x="6307463" y="2116505"/>
                  <a:pt x="6262254" y="2005253"/>
                  <a:pt x="6262254" y="2005253"/>
                </a:cubicBezTo>
                <a:cubicBezTo>
                  <a:pt x="6257636" y="1982162"/>
                  <a:pt x="6252612" y="1959148"/>
                  <a:pt x="6248400" y="1935980"/>
                </a:cubicBezTo>
                <a:cubicBezTo>
                  <a:pt x="6243375" y="1908342"/>
                  <a:pt x="6242806" y="1879702"/>
                  <a:pt x="6234545" y="1852853"/>
                </a:cubicBezTo>
                <a:cubicBezTo>
                  <a:pt x="6224202" y="1819237"/>
                  <a:pt x="6204811" y="1788993"/>
                  <a:pt x="6192982" y="1755871"/>
                </a:cubicBezTo>
                <a:cubicBezTo>
                  <a:pt x="6154415" y="1647883"/>
                  <a:pt x="6174941" y="1683708"/>
                  <a:pt x="6151418" y="1589617"/>
                </a:cubicBezTo>
                <a:cubicBezTo>
                  <a:pt x="6147876" y="1575449"/>
                  <a:pt x="6141106" y="1562221"/>
                  <a:pt x="6137564" y="1548053"/>
                </a:cubicBezTo>
                <a:cubicBezTo>
                  <a:pt x="6131853" y="1525208"/>
                  <a:pt x="6128818" y="1501768"/>
                  <a:pt x="6123709" y="1478780"/>
                </a:cubicBezTo>
                <a:cubicBezTo>
                  <a:pt x="6119578" y="1460192"/>
                  <a:pt x="6115085" y="1441671"/>
                  <a:pt x="6109854" y="1423362"/>
                </a:cubicBezTo>
                <a:cubicBezTo>
                  <a:pt x="6105842" y="1409320"/>
                  <a:pt x="6099168" y="1396055"/>
                  <a:pt x="6096000" y="1381799"/>
                </a:cubicBezTo>
                <a:cubicBezTo>
                  <a:pt x="6074674" y="1285832"/>
                  <a:pt x="6103496" y="1320022"/>
                  <a:pt x="6068291" y="1284817"/>
                </a:cubicBezTo>
              </a:path>
            </a:pathLst>
          </a:custGeom>
          <a:noFill/>
          <a:ln cap="rnd"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УЖИН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32004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Ё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Полилиния 10"/>
          <p:cNvSpPr/>
          <p:nvPr/>
        </p:nvSpPr>
        <p:spPr>
          <a:xfrm>
            <a:off x="996840" y="1112760"/>
            <a:ext cx="7496280" cy="3071880"/>
          </a:xfrm>
          <a:custGeom>
            <a:avLst/>
            <a:gdLst/>
            <a:ahLst/>
            <a:rect l="l" t="t" r="r" b="b"/>
            <a:pathLst>
              <a:path w="7495777" h="3070824">
                <a:moveTo>
                  <a:pt x="0" y="1463696"/>
                </a:moveTo>
                <a:cubicBezTo>
                  <a:pt x="120073" y="1449842"/>
                  <a:pt x="241696" y="1445837"/>
                  <a:pt x="360218" y="1422133"/>
                </a:cubicBezTo>
                <a:cubicBezTo>
                  <a:pt x="382861" y="1417604"/>
                  <a:pt x="395452" y="1391783"/>
                  <a:pt x="415637" y="1380569"/>
                </a:cubicBezTo>
                <a:cubicBezTo>
                  <a:pt x="437377" y="1368491"/>
                  <a:pt x="463169" y="1364938"/>
                  <a:pt x="484909" y="1352860"/>
                </a:cubicBezTo>
                <a:cubicBezTo>
                  <a:pt x="505094" y="1341646"/>
                  <a:pt x="520847" y="1323693"/>
                  <a:pt x="540328" y="1311296"/>
                </a:cubicBezTo>
                <a:cubicBezTo>
                  <a:pt x="571740" y="1291307"/>
                  <a:pt x="607198" y="1277777"/>
                  <a:pt x="637309" y="1255878"/>
                </a:cubicBezTo>
                <a:cubicBezTo>
                  <a:pt x="658437" y="1240512"/>
                  <a:pt x="672893" y="1217462"/>
                  <a:pt x="692728" y="1200460"/>
                </a:cubicBezTo>
                <a:cubicBezTo>
                  <a:pt x="737632" y="1161971"/>
                  <a:pt x="789454" y="1131444"/>
                  <a:pt x="831273" y="1089624"/>
                </a:cubicBezTo>
                <a:lnTo>
                  <a:pt x="914400" y="1006496"/>
                </a:lnTo>
                <a:cubicBezTo>
                  <a:pt x="955071" y="965825"/>
                  <a:pt x="1019364" y="897618"/>
                  <a:pt x="1066800" y="881806"/>
                </a:cubicBezTo>
                <a:lnTo>
                  <a:pt x="1108364" y="867951"/>
                </a:lnTo>
                <a:cubicBezTo>
                  <a:pt x="1122219" y="849478"/>
                  <a:pt x="1133600" y="828861"/>
                  <a:pt x="1149928" y="812533"/>
                </a:cubicBezTo>
                <a:cubicBezTo>
                  <a:pt x="1161702" y="800759"/>
                  <a:pt x="1176830" y="792718"/>
                  <a:pt x="1191491" y="784824"/>
                </a:cubicBezTo>
                <a:cubicBezTo>
                  <a:pt x="1236952" y="760345"/>
                  <a:pt x="1281054" y="731879"/>
                  <a:pt x="1330037" y="715551"/>
                </a:cubicBezTo>
                <a:cubicBezTo>
                  <a:pt x="1460352" y="672113"/>
                  <a:pt x="1386043" y="698690"/>
                  <a:pt x="1551709" y="632424"/>
                </a:cubicBezTo>
                <a:cubicBezTo>
                  <a:pt x="1574800" y="623188"/>
                  <a:pt x="1598738" y="615837"/>
                  <a:pt x="1620982" y="604715"/>
                </a:cubicBezTo>
                <a:cubicBezTo>
                  <a:pt x="1748597" y="540907"/>
                  <a:pt x="1675345" y="574656"/>
                  <a:pt x="1842655" y="507733"/>
                </a:cubicBezTo>
                <a:lnTo>
                  <a:pt x="1911928" y="480024"/>
                </a:lnTo>
                <a:cubicBezTo>
                  <a:pt x="1935019" y="470788"/>
                  <a:pt x="1956581" y="455832"/>
                  <a:pt x="1981200" y="452315"/>
                </a:cubicBezTo>
                <a:cubicBezTo>
                  <a:pt x="2013527" y="447697"/>
                  <a:pt x="2046251" y="445302"/>
                  <a:pt x="2078182" y="438460"/>
                </a:cubicBezTo>
                <a:cubicBezTo>
                  <a:pt x="2111057" y="431415"/>
                  <a:pt x="2142040" y="416512"/>
                  <a:pt x="2175164" y="410751"/>
                </a:cubicBezTo>
                <a:cubicBezTo>
                  <a:pt x="2248529" y="397992"/>
                  <a:pt x="2396837" y="383042"/>
                  <a:pt x="2396837" y="383042"/>
                </a:cubicBezTo>
                <a:lnTo>
                  <a:pt x="4308764" y="396896"/>
                </a:lnTo>
                <a:cubicBezTo>
                  <a:pt x="4411272" y="399459"/>
                  <a:pt x="4511687" y="426817"/>
                  <a:pt x="4613564" y="438460"/>
                </a:cubicBezTo>
                <a:cubicBezTo>
                  <a:pt x="4673388" y="445297"/>
                  <a:pt x="4733637" y="447697"/>
                  <a:pt x="4793673" y="452315"/>
                </a:cubicBezTo>
                <a:cubicBezTo>
                  <a:pt x="4863396" y="466259"/>
                  <a:pt x="4892140" y="467060"/>
                  <a:pt x="4959928" y="507733"/>
                </a:cubicBezTo>
                <a:cubicBezTo>
                  <a:pt x="4999528" y="531493"/>
                  <a:pt x="5032339" y="565243"/>
                  <a:pt x="5070764" y="590860"/>
                </a:cubicBezTo>
                <a:cubicBezTo>
                  <a:pt x="5087948" y="602316"/>
                  <a:pt x="5107199" y="610433"/>
                  <a:pt x="5126182" y="618569"/>
                </a:cubicBezTo>
                <a:cubicBezTo>
                  <a:pt x="5165621" y="635471"/>
                  <a:pt x="5176028" y="626852"/>
                  <a:pt x="5209309" y="660133"/>
                </a:cubicBezTo>
                <a:cubicBezTo>
                  <a:pt x="5225637" y="676461"/>
                  <a:pt x="5237452" y="696761"/>
                  <a:pt x="5250873" y="715551"/>
                </a:cubicBezTo>
                <a:cubicBezTo>
                  <a:pt x="5260551" y="729101"/>
                  <a:pt x="5271135" y="742222"/>
                  <a:pt x="5278582" y="757115"/>
                </a:cubicBezTo>
                <a:cubicBezTo>
                  <a:pt x="5313964" y="827879"/>
                  <a:pt x="5323713" y="864798"/>
                  <a:pt x="5347855" y="937224"/>
                </a:cubicBezTo>
                <a:cubicBezTo>
                  <a:pt x="5376961" y="1170081"/>
                  <a:pt x="5375564" y="1130711"/>
                  <a:pt x="5375564" y="1505260"/>
                </a:cubicBezTo>
                <a:cubicBezTo>
                  <a:pt x="5375564" y="1796242"/>
                  <a:pt x="5387284" y="2088240"/>
                  <a:pt x="5361709" y="2378096"/>
                </a:cubicBezTo>
                <a:cubicBezTo>
                  <a:pt x="5358839" y="2410625"/>
                  <a:pt x="5314132" y="2422962"/>
                  <a:pt x="5292437" y="2447369"/>
                </a:cubicBezTo>
                <a:cubicBezTo>
                  <a:pt x="5277096" y="2464627"/>
                  <a:pt x="5268131" y="2487446"/>
                  <a:pt x="5250873" y="2502787"/>
                </a:cubicBezTo>
                <a:cubicBezTo>
                  <a:pt x="5193703" y="2553605"/>
                  <a:pt x="5182628" y="2553246"/>
                  <a:pt x="5126182" y="2572060"/>
                </a:cubicBezTo>
                <a:cubicBezTo>
                  <a:pt x="5043055" y="2567442"/>
                  <a:pt x="4958585" y="2573784"/>
                  <a:pt x="4876800" y="2558206"/>
                </a:cubicBezTo>
                <a:cubicBezTo>
                  <a:pt x="4857553" y="2554540"/>
                  <a:pt x="4851181" y="2528030"/>
                  <a:pt x="4835237" y="2516642"/>
                </a:cubicBezTo>
                <a:cubicBezTo>
                  <a:pt x="4818431" y="2504637"/>
                  <a:pt x="4798291" y="2498169"/>
                  <a:pt x="4779818" y="2488933"/>
                </a:cubicBezTo>
                <a:cubicBezTo>
                  <a:pt x="4747491" y="2456606"/>
                  <a:pt x="4708196" y="2429990"/>
                  <a:pt x="4682837" y="2391951"/>
                </a:cubicBezTo>
                <a:cubicBezTo>
                  <a:pt x="4673601" y="2378096"/>
                  <a:pt x="4666190" y="2362832"/>
                  <a:pt x="4655128" y="2350387"/>
                </a:cubicBezTo>
                <a:cubicBezTo>
                  <a:pt x="4528592" y="2208035"/>
                  <a:pt x="4607178" y="2320028"/>
                  <a:pt x="4544291" y="2225696"/>
                </a:cubicBezTo>
                <a:cubicBezTo>
                  <a:pt x="4548909" y="2137951"/>
                  <a:pt x="4551139" y="2050047"/>
                  <a:pt x="4558146" y="1962460"/>
                </a:cubicBezTo>
                <a:cubicBezTo>
                  <a:pt x="4560386" y="1934458"/>
                  <a:pt x="4561567" y="1905415"/>
                  <a:pt x="4572000" y="1879333"/>
                </a:cubicBezTo>
                <a:cubicBezTo>
                  <a:pt x="4580576" y="1857894"/>
                  <a:pt x="4599709" y="1842388"/>
                  <a:pt x="4613564" y="1823915"/>
                </a:cubicBezTo>
                <a:cubicBezTo>
                  <a:pt x="4646504" y="1725091"/>
                  <a:pt x="4599797" y="1844562"/>
                  <a:pt x="4668982" y="1740787"/>
                </a:cubicBezTo>
                <a:cubicBezTo>
                  <a:pt x="4677083" y="1728636"/>
                  <a:pt x="4675745" y="1711990"/>
                  <a:pt x="4682837" y="1699224"/>
                </a:cubicBezTo>
                <a:cubicBezTo>
                  <a:pt x="4699010" y="1670113"/>
                  <a:pt x="4721121" y="1644653"/>
                  <a:pt x="4738255" y="1616096"/>
                </a:cubicBezTo>
                <a:cubicBezTo>
                  <a:pt x="4748881" y="1598386"/>
                  <a:pt x="4753572" y="1577200"/>
                  <a:pt x="4765964" y="1560678"/>
                </a:cubicBezTo>
                <a:cubicBezTo>
                  <a:pt x="4781639" y="1539779"/>
                  <a:pt x="4804381" y="1525095"/>
                  <a:pt x="4821382" y="1505260"/>
                </a:cubicBezTo>
                <a:cubicBezTo>
                  <a:pt x="4919479" y="1390813"/>
                  <a:pt x="4789197" y="1532757"/>
                  <a:pt x="4862946" y="1422133"/>
                </a:cubicBezTo>
                <a:cubicBezTo>
                  <a:pt x="4873814" y="1405830"/>
                  <a:pt x="4891402" y="1395133"/>
                  <a:pt x="4904509" y="1380569"/>
                </a:cubicBezTo>
                <a:cubicBezTo>
                  <a:pt x="5105386" y="1157372"/>
                  <a:pt x="4865271" y="1405184"/>
                  <a:pt x="5084618" y="1200460"/>
                </a:cubicBezTo>
                <a:cubicBezTo>
                  <a:pt x="5122815" y="1164810"/>
                  <a:pt x="5156940" y="1124930"/>
                  <a:pt x="5195455" y="1089624"/>
                </a:cubicBezTo>
                <a:cubicBezTo>
                  <a:pt x="5212477" y="1074021"/>
                  <a:pt x="5233495" y="1063266"/>
                  <a:pt x="5250873" y="1048060"/>
                </a:cubicBezTo>
                <a:cubicBezTo>
                  <a:pt x="5270533" y="1030857"/>
                  <a:pt x="5285670" y="1008681"/>
                  <a:pt x="5306291" y="992642"/>
                </a:cubicBezTo>
                <a:cubicBezTo>
                  <a:pt x="5327547" y="976109"/>
                  <a:pt x="5354021" y="967235"/>
                  <a:pt x="5375564" y="951078"/>
                </a:cubicBezTo>
                <a:cubicBezTo>
                  <a:pt x="5391239" y="939322"/>
                  <a:pt x="5401184" y="920903"/>
                  <a:pt x="5417128" y="909515"/>
                </a:cubicBezTo>
                <a:cubicBezTo>
                  <a:pt x="5469470" y="872128"/>
                  <a:pt x="5464364" y="890562"/>
                  <a:pt x="5514109" y="867951"/>
                </a:cubicBezTo>
                <a:cubicBezTo>
                  <a:pt x="5551713" y="850858"/>
                  <a:pt x="5590577" y="835446"/>
                  <a:pt x="5624946" y="812533"/>
                </a:cubicBezTo>
                <a:cubicBezTo>
                  <a:pt x="5721848" y="747931"/>
                  <a:pt x="5597581" y="826229"/>
                  <a:pt x="5777346" y="743260"/>
                </a:cubicBezTo>
                <a:cubicBezTo>
                  <a:pt x="5918973" y="677893"/>
                  <a:pt x="5780876" y="718131"/>
                  <a:pt x="5902037" y="687842"/>
                </a:cubicBezTo>
                <a:cubicBezTo>
                  <a:pt x="6093953" y="591883"/>
                  <a:pt x="5853441" y="703027"/>
                  <a:pt x="6123709" y="618569"/>
                </a:cubicBezTo>
                <a:cubicBezTo>
                  <a:pt x="6187568" y="598613"/>
                  <a:pt x="6211399" y="562238"/>
                  <a:pt x="6276109" y="549296"/>
                </a:cubicBezTo>
                <a:cubicBezTo>
                  <a:pt x="6321620" y="540194"/>
                  <a:pt x="6368473" y="540060"/>
                  <a:pt x="6414655" y="535442"/>
                </a:cubicBezTo>
                <a:cubicBezTo>
                  <a:pt x="6451600" y="526206"/>
                  <a:pt x="6487448" y="509462"/>
                  <a:pt x="6525491" y="507733"/>
                </a:cubicBezTo>
                <a:cubicBezTo>
                  <a:pt x="6548559" y="506684"/>
                  <a:pt x="6849064" y="532388"/>
                  <a:pt x="6885709" y="535442"/>
                </a:cubicBezTo>
                <a:cubicBezTo>
                  <a:pt x="6904182" y="540060"/>
                  <a:pt x="6924363" y="540268"/>
                  <a:pt x="6941128" y="549296"/>
                </a:cubicBezTo>
                <a:cubicBezTo>
                  <a:pt x="6985110" y="572979"/>
                  <a:pt x="7021138" y="610085"/>
                  <a:pt x="7065818" y="632424"/>
                </a:cubicBezTo>
                <a:lnTo>
                  <a:pt x="7121237" y="660133"/>
                </a:lnTo>
                <a:cubicBezTo>
                  <a:pt x="7139710" y="687842"/>
                  <a:pt x="7155851" y="717255"/>
                  <a:pt x="7176655" y="743260"/>
                </a:cubicBezTo>
                <a:cubicBezTo>
                  <a:pt x="7192975" y="763660"/>
                  <a:pt x="7216398" y="777779"/>
                  <a:pt x="7232073" y="798678"/>
                </a:cubicBezTo>
                <a:cubicBezTo>
                  <a:pt x="7327673" y="926144"/>
                  <a:pt x="7175711" y="769556"/>
                  <a:pt x="7287491" y="937224"/>
                </a:cubicBezTo>
                <a:cubicBezTo>
                  <a:pt x="7316389" y="980570"/>
                  <a:pt x="7327845" y="991570"/>
                  <a:pt x="7342909" y="1048060"/>
                </a:cubicBezTo>
                <a:cubicBezTo>
                  <a:pt x="7355044" y="1093566"/>
                  <a:pt x="7353126" y="1142878"/>
                  <a:pt x="7370618" y="1186606"/>
                </a:cubicBezTo>
                <a:cubicBezTo>
                  <a:pt x="7410815" y="1287094"/>
                  <a:pt x="7391496" y="1231965"/>
                  <a:pt x="7426037" y="1352860"/>
                </a:cubicBezTo>
                <a:cubicBezTo>
                  <a:pt x="7495777" y="1841062"/>
                  <a:pt x="7460548" y="1556609"/>
                  <a:pt x="7412182" y="2669042"/>
                </a:cubicBezTo>
                <a:cubicBezTo>
                  <a:pt x="7411285" y="2689676"/>
                  <a:pt x="7394720" y="2706528"/>
                  <a:pt x="7384473" y="2724460"/>
                </a:cubicBezTo>
                <a:cubicBezTo>
                  <a:pt x="7358754" y="2769469"/>
                  <a:pt x="7353408" y="2769380"/>
                  <a:pt x="7315200" y="2807587"/>
                </a:cubicBezTo>
                <a:cubicBezTo>
                  <a:pt x="7272247" y="2914971"/>
                  <a:pt x="7308094" y="2844771"/>
                  <a:pt x="7232073" y="2946133"/>
                </a:cubicBezTo>
                <a:cubicBezTo>
                  <a:pt x="7222082" y="2959454"/>
                  <a:pt x="7214766" y="2974694"/>
                  <a:pt x="7204364" y="2987696"/>
                </a:cubicBezTo>
                <a:cubicBezTo>
                  <a:pt x="7188126" y="3007994"/>
                  <a:pt x="7137966" y="3049534"/>
                  <a:pt x="7121237" y="3056969"/>
                </a:cubicBezTo>
                <a:cubicBezTo>
                  <a:pt x="7099718" y="3066533"/>
                  <a:pt x="7075055" y="3066206"/>
                  <a:pt x="7051964" y="3070824"/>
                </a:cubicBezTo>
                <a:cubicBezTo>
                  <a:pt x="6950364" y="3066206"/>
                  <a:pt x="6848199" y="3068627"/>
                  <a:pt x="6747164" y="3056969"/>
                </a:cubicBezTo>
                <a:cubicBezTo>
                  <a:pt x="6726647" y="3054602"/>
                  <a:pt x="6709800" y="3039290"/>
                  <a:pt x="6691746" y="3029260"/>
                </a:cubicBezTo>
                <a:cubicBezTo>
                  <a:pt x="6641619" y="3001412"/>
                  <a:pt x="6624211" y="2988855"/>
                  <a:pt x="6580909" y="2959987"/>
                </a:cubicBezTo>
                <a:cubicBezTo>
                  <a:pt x="6567055" y="2941514"/>
                  <a:pt x="6556604" y="2919910"/>
                  <a:pt x="6539346" y="2904569"/>
                </a:cubicBezTo>
                <a:cubicBezTo>
                  <a:pt x="6474801" y="2847196"/>
                  <a:pt x="6468842" y="2852307"/>
                  <a:pt x="6400800" y="2835296"/>
                </a:cubicBezTo>
                <a:cubicBezTo>
                  <a:pt x="6373091" y="2807587"/>
                  <a:pt x="6339410" y="2784774"/>
                  <a:pt x="6317673" y="2752169"/>
                </a:cubicBezTo>
                <a:cubicBezTo>
                  <a:pt x="6280727" y="2696751"/>
                  <a:pt x="6303818" y="2719842"/>
                  <a:pt x="6248400" y="2682896"/>
                </a:cubicBezTo>
                <a:cubicBezTo>
                  <a:pt x="6179608" y="2579710"/>
                  <a:pt x="6268018" y="2706436"/>
                  <a:pt x="6179128" y="2599769"/>
                </a:cubicBezTo>
                <a:cubicBezTo>
                  <a:pt x="6168468" y="2586977"/>
                  <a:pt x="6162078" y="2570998"/>
                  <a:pt x="6151418" y="2558206"/>
                </a:cubicBezTo>
                <a:cubicBezTo>
                  <a:pt x="6138875" y="2543154"/>
                  <a:pt x="6121884" y="2532108"/>
                  <a:pt x="6109855" y="2516642"/>
                </a:cubicBezTo>
                <a:cubicBezTo>
                  <a:pt x="5949545" y="2310527"/>
                  <a:pt x="6127277" y="2528918"/>
                  <a:pt x="6026728" y="2378096"/>
                </a:cubicBezTo>
                <a:cubicBezTo>
                  <a:pt x="6019482" y="2367227"/>
                  <a:pt x="6008255" y="2359623"/>
                  <a:pt x="5999018" y="2350387"/>
                </a:cubicBezTo>
                <a:cubicBezTo>
                  <a:pt x="5989782" y="2331914"/>
                  <a:pt x="5982765" y="2312153"/>
                  <a:pt x="5971309" y="2294969"/>
                </a:cubicBezTo>
                <a:cubicBezTo>
                  <a:pt x="5950923" y="2264390"/>
                  <a:pt x="5906711" y="2221191"/>
                  <a:pt x="5888182" y="2184133"/>
                </a:cubicBezTo>
                <a:cubicBezTo>
                  <a:pt x="5877060" y="2161889"/>
                  <a:pt x="5871165" y="2137314"/>
                  <a:pt x="5860473" y="2114860"/>
                </a:cubicBezTo>
                <a:cubicBezTo>
                  <a:pt x="5824955" y="2040272"/>
                  <a:pt x="5778645" y="1970539"/>
                  <a:pt x="5749637" y="1893187"/>
                </a:cubicBezTo>
                <a:cubicBezTo>
                  <a:pt x="5735782" y="1856242"/>
                  <a:pt x="5721344" y="1819510"/>
                  <a:pt x="5708073" y="1782351"/>
                </a:cubicBezTo>
                <a:cubicBezTo>
                  <a:pt x="5698249" y="1754845"/>
                  <a:pt x="5691212" y="1726343"/>
                  <a:pt x="5680364" y="1699224"/>
                </a:cubicBezTo>
                <a:cubicBezTo>
                  <a:pt x="5657397" y="1641807"/>
                  <a:pt x="5620047" y="1595710"/>
                  <a:pt x="5583382" y="1546824"/>
                </a:cubicBezTo>
                <a:cubicBezTo>
                  <a:pt x="5527940" y="1352778"/>
                  <a:pt x="5590839" y="1550370"/>
                  <a:pt x="5500255" y="1339006"/>
                </a:cubicBezTo>
                <a:cubicBezTo>
                  <a:pt x="5488749" y="1312159"/>
                  <a:pt x="5482528" y="1283328"/>
                  <a:pt x="5472546" y="1255878"/>
                </a:cubicBezTo>
                <a:cubicBezTo>
                  <a:pt x="5448961" y="1191020"/>
                  <a:pt x="5446163" y="1189259"/>
                  <a:pt x="5417128" y="1131187"/>
                </a:cubicBezTo>
                <a:cubicBezTo>
                  <a:pt x="5389143" y="963281"/>
                  <a:pt x="5424535" y="1125378"/>
                  <a:pt x="5320146" y="881806"/>
                </a:cubicBezTo>
                <a:cubicBezTo>
                  <a:pt x="5306291" y="849479"/>
                  <a:pt x="5295133" y="815857"/>
                  <a:pt x="5278582" y="784824"/>
                </a:cubicBezTo>
                <a:cubicBezTo>
                  <a:pt x="5258079" y="746382"/>
                  <a:pt x="5229965" y="712347"/>
                  <a:pt x="5209309" y="673987"/>
                </a:cubicBezTo>
                <a:cubicBezTo>
                  <a:pt x="5197518" y="652090"/>
                  <a:pt x="5192722" y="626959"/>
                  <a:pt x="5181600" y="604715"/>
                </a:cubicBezTo>
                <a:cubicBezTo>
                  <a:pt x="5141345" y="524204"/>
                  <a:pt x="5144886" y="549643"/>
                  <a:pt x="5098473" y="480024"/>
                </a:cubicBezTo>
                <a:cubicBezTo>
                  <a:pt x="5083536" y="457618"/>
                  <a:pt x="5071846" y="433157"/>
                  <a:pt x="5056909" y="410751"/>
                </a:cubicBezTo>
                <a:cubicBezTo>
                  <a:pt x="5009998" y="340385"/>
                  <a:pt x="4959987" y="248506"/>
                  <a:pt x="4890655" y="189078"/>
                </a:cubicBezTo>
                <a:cubicBezTo>
                  <a:pt x="4845532" y="150401"/>
                  <a:pt x="4790655" y="118296"/>
                  <a:pt x="4738255" y="92096"/>
                </a:cubicBezTo>
                <a:cubicBezTo>
                  <a:pt x="4706797" y="76367"/>
                  <a:pt x="4673600" y="64387"/>
                  <a:pt x="4641273" y="50533"/>
                </a:cubicBezTo>
                <a:cubicBezTo>
                  <a:pt x="4548909" y="55151"/>
                  <a:pt x="4456313" y="56376"/>
                  <a:pt x="4364182" y="64387"/>
                </a:cubicBezTo>
                <a:cubicBezTo>
                  <a:pt x="4349633" y="65652"/>
                  <a:pt x="4334022" y="69119"/>
                  <a:pt x="4322618" y="78242"/>
                </a:cubicBezTo>
                <a:cubicBezTo>
                  <a:pt x="4309616" y="88644"/>
                  <a:pt x="4306683" y="108032"/>
                  <a:pt x="4294909" y="119806"/>
                </a:cubicBezTo>
                <a:cubicBezTo>
                  <a:pt x="4131194" y="283521"/>
                  <a:pt x="4372029" y="0"/>
                  <a:pt x="4170218" y="230642"/>
                </a:cubicBezTo>
                <a:cubicBezTo>
                  <a:pt x="4125931" y="281256"/>
                  <a:pt x="4115798" y="353338"/>
                  <a:pt x="4087091" y="410751"/>
                </a:cubicBezTo>
                <a:cubicBezTo>
                  <a:pt x="4062950" y="459033"/>
                  <a:pt x="4049363" y="482372"/>
                  <a:pt x="4031673" y="535442"/>
                </a:cubicBezTo>
                <a:cubicBezTo>
                  <a:pt x="4021041" y="567338"/>
                  <a:pt x="4012627" y="599938"/>
                  <a:pt x="4003964" y="632424"/>
                </a:cubicBezTo>
                <a:cubicBezTo>
                  <a:pt x="3994152" y="669221"/>
                  <a:pt x="3983273" y="705830"/>
                  <a:pt x="3976255" y="743260"/>
                </a:cubicBezTo>
                <a:cubicBezTo>
                  <a:pt x="3969393" y="779855"/>
                  <a:pt x="3969262" y="817501"/>
                  <a:pt x="3962400" y="854096"/>
                </a:cubicBezTo>
                <a:cubicBezTo>
                  <a:pt x="3955382" y="891526"/>
                  <a:pt x="3942952" y="927757"/>
                  <a:pt x="3934691" y="964933"/>
                </a:cubicBezTo>
                <a:cubicBezTo>
                  <a:pt x="3915239" y="1052466"/>
                  <a:pt x="3901021" y="1141177"/>
                  <a:pt x="3879273" y="1228169"/>
                </a:cubicBezTo>
                <a:cubicBezTo>
                  <a:pt x="3870037" y="1265115"/>
                  <a:pt x="3864936" y="1303348"/>
                  <a:pt x="3851564" y="1339006"/>
                </a:cubicBezTo>
                <a:cubicBezTo>
                  <a:pt x="3823245" y="1414524"/>
                  <a:pt x="3786353" y="1486546"/>
                  <a:pt x="3754582" y="1560678"/>
                </a:cubicBezTo>
                <a:cubicBezTo>
                  <a:pt x="3629753" y="1851944"/>
                  <a:pt x="3748559" y="1604771"/>
                  <a:pt x="3588328" y="1893187"/>
                </a:cubicBezTo>
                <a:cubicBezTo>
                  <a:pt x="3544323" y="1972397"/>
                  <a:pt x="3555825" y="1981109"/>
                  <a:pt x="3491346" y="2045587"/>
                </a:cubicBezTo>
                <a:cubicBezTo>
                  <a:pt x="3479572" y="2057361"/>
                  <a:pt x="3464675" y="2065849"/>
                  <a:pt x="3449782" y="2073296"/>
                </a:cubicBezTo>
                <a:cubicBezTo>
                  <a:pt x="3416642" y="2089866"/>
                  <a:pt x="3374923" y="2102868"/>
                  <a:pt x="3338946" y="2114860"/>
                </a:cubicBezTo>
                <a:cubicBezTo>
                  <a:pt x="3325091" y="2110242"/>
                  <a:pt x="3308786" y="2110129"/>
                  <a:pt x="3297382" y="2101006"/>
                </a:cubicBezTo>
                <a:cubicBezTo>
                  <a:pt x="3202880" y="2025405"/>
                  <a:pt x="3184455" y="1980107"/>
                  <a:pt x="3117273" y="1879333"/>
                </a:cubicBezTo>
                <a:cubicBezTo>
                  <a:pt x="3089446" y="1837592"/>
                  <a:pt x="3082948" y="1831568"/>
                  <a:pt x="3061855" y="1782351"/>
                </a:cubicBezTo>
                <a:cubicBezTo>
                  <a:pt x="3028410" y="1704312"/>
                  <a:pt x="2964873" y="1546824"/>
                  <a:pt x="2964873" y="1546824"/>
                </a:cubicBezTo>
                <a:cubicBezTo>
                  <a:pt x="2895460" y="1199759"/>
                  <a:pt x="2966495" y="1562677"/>
                  <a:pt x="2923309" y="1325151"/>
                </a:cubicBezTo>
                <a:cubicBezTo>
                  <a:pt x="2919097" y="1301983"/>
                  <a:pt x="2910214" y="1279414"/>
                  <a:pt x="2909455" y="1255878"/>
                </a:cubicBezTo>
                <a:cubicBezTo>
                  <a:pt x="2905584" y="1135868"/>
                  <a:pt x="2909455" y="1015733"/>
                  <a:pt x="2909455" y="895660"/>
                </a:cubicBezTo>
              </a:path>
            </a:pathLst>
          </a:custGeom>
          <a:noFill/>
          <a:ln cap="rnd"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11"/>
          <p:cNvSpPr/>
          <p:nvPr/>
        </p:nvSpPr>
        <p:spPr>
          <a:xfrm>
            <a:off x="896760" y="2573280"/>
            <a:ext cx="7471080" cy="3584520"/>
          </a:xfrm>
          <a:custGeom>
            <a:avLst/>
            <a:gdLst/>
            <a:ahLst/>
            <a:rect l="l" t="t" r="r" b="b"/>
            <a:pathLst>
              <a:path w="7471597" h="3585344">
                <a:moveTo>
                  <a:pt x="2012907" y="2054357"/>
                </a:moveTo>
                <a:lnTo>
                  <a:pt x="2109888" y="2082066"/>
                </a:lnTo>
                <a:cubicBezTo>
                  <a:pt x="2123876" y="2086263"/>
                  <a:pt x="2138390" y="2089390"/>
                  <a:pt x="2151452" y="2095921"/>
                </a:cubicBezTo>
                <a:cubicBezTo>
                  <a:pt x="2188221" y="2114306"/>
                  <a:pt x="2222867" y="2149220"/>
                  <a:pt x="2248434" y="2179048"/>
                </a:cubicBezTo>
                <a:cubicBezTo>
                  <a:pt x="2259270" y="2191691"/>
                  <a:pt x="2266907" y="2206757"/>
                  <a:pt x="2276143" y="2220612"/>
                </a:cubicBezTo>
                <a:cubicBezTo>
                  <a:pt x="2310966" y="2325084"/>
                  <a:pt x="2263991" y="2196307"/>
                  <a:pt x="2317707" y="2303739"/>
                </a:cubicBezTo>
                <a:cubicBezTo>
                  <a:pt x="2375069" y="2418463"/>
                  <a:pt x="2279857" y="2267749"/>
                  <a:pt x="2359270" y="2386866"/>
                </a:cubicBezTo>
                <a:cubicBezTo>
                  <a:pt x="2372499" y="2439781"/>
                  <a:pt x="2374749" y="2459387"/>
                  <a:pt x="2400834" y="2511557"/>
                </a:cubicBezTo>
                <a:cubicBezTo>
                  <a:pt x="2408281" y="2526450"/>
                  <a:pt x="2419307" y="2539266"/>
                  <a:pt x="2428543" y="2553121"/>
                </a:cubicBezTo>
                <a:cubicBezTo>
                  <a:pt x="2446805" y="2607909"/>
                  <a:pt x="2438210" y="2596727"/>
                  <a:pt x="2483961" y="2650103"/>
                </a:cubicBezTo>
                <a:cubicBezTo>
                  <a:pt x="2496712" y="2664979"/>
                  <a:pt x="2508995" y="2681147"/>
                  <a:pt x="2525525" y="2691666"/>
                </a:cubicBezTo>
                <a:cubicBezTo>
                  <a:pt x="2560373" y="2713842"/>
                  <a:pt x="2598518" y="2730528"/>
                  <a:pt x="2636361" y="2747084"/>
                </a:cubicBezTo>
                <a:cubicBezTo>
                  <a:pt x="2707316" y="2778127"/>
                  <a:pt x="2884515" y="2835973"/>
                  <a:pt x="2941161" y="2844066"/>
                </a:cubicBezTo>
                <a:lnTo>
                  <a:pt x="3038143" y="2857921"/>
                </a:lnTo>
                <a:cubicBezTo>
                  <a:pt x="3084325" y="2871775"/>
                  <a:pt x="3129672" y="2888798"/>
                  <a:pt x="3176688" y="2899484"/>
                </a:cubicBezTo>
                <a:cubicBezTo>
                  <a:pt x="3421295" y="2955077"/>
                  <a:pt x="3729569" y="2944768"/>
                  <a:pt x="3952543" y="2954903"/>
                </a:cubicBezTo>
                <a:cubicBezTo>
                  <a:pt x="4270266" y="2990204"/>
                  <a:pt x="3835042" y="2937629"/>
                  <a:pt x="4271197" y="3010321"/>
                </a:cubicBezTo>
                <a:cubicBezTo>
                  <a:pt x="4372342" y="3027178"/>
                  <a:pt x="4474397" y="3038030"/>
                  <a:pt x="4575997" y="3051884"/>
                </a:cubicBezTo>
                <a:cubicBezTo>
                  <a:pt x="4853088" y="3047266"/>
                  <a:pt x="5130454" y="3051211"/>
                  <a:pt x="5407270" y="3038030"/>
                </a:cubicBezTo>
                <a:cubicBezTo>
                  <a:pt x="5423902" y="3037238"/>
                  <a:pt x="5435368" y="3020115"/>
                  <a:pt x="5448834" y="3010321"/>
                </a:cubicBezTo>
                <a:cubicBezTo>
                  <a:pt x="5486183" y="2983158"/>
                  <a:pt x="5521245" y="2952811"/>
                  <a:pt x="5559670" y="2927194"/>
                </a:cubicBezTo>
                <a:cubicBezTo>
                  <a:pt x="5573525" y="2917957"/>
                  <a:pt x="5588442" y="2910144"/>
                  <a:pt x="5601234" y="2899484"/>
                </a:cubicBezTo>
                <a:cubicBezTo>
                  <a:pt x="5616286" y="2886941"/>
                  <a:pt x="5631409" y="2873864"/>
                  <a:pt x="5642797" y="2857921"/>
                </a:cubicBezTo>
                <a:cubicBezTo>
                  <a:pt x="5654802" y="2841115"/>
                  <a:pt x="5661270" y="2820976"/>
                  <a:pt x="5670507" y="2802503"/>
                </a:cubicBezTo>
                <a:cubicBezTo>
                  <a:pt x="5675125" y="2303739"/>
                  <a:pt x="5671466" y="1804830"/>
                  <a:pt x="5684361" y="1306212"/>
                </a:cubicBezTo>
                <a:cubicBezTo>
                  <a:pt x="5685346" y="1268142"/>
                  <a:pt x="5704601" y="1232718"/>
                  <a:pt x="5712070" y="1195375"/>
                </a:cubicBezTo>
                <a:cubicBezTo>
                  <a:pt x="5718474" y="1163354"/>
                  <a:pt x="5718582" y="1130213"/>
                  <a:pt x="5725925" y="1098394"/>
                </a:cubicBezTo>
                <a:cubicBezTo>
                  <a:pt x="5746561" y="1008972"/>
                  <a:pt x="5781616" y="972749"/>
                  <a:pt x="5809052" y="876721"/>
                </a:cubicBezTo>
                <a:cubicBezTo>
                  <a:pt x="5818288" y="844394"/>
                  <a:pt x="5828607" y="812356"/>
                  <a:pt x="5836761" y="779739"/>
                </a:cubicBezTo>
                <a:cubicBezTo>
                  <a:pt x="5842472" y="756894"/>
                  <a:pt x="5844420" y="733185"/>
                  <a:pt x="5850616" y="710466"/>
                </a:cubicBezTo>
                <a:cubicBezTo>
                  <a:pt x="5858301" y="682287"/>
                  <a:pt x="5871241" y="655675"/>
                  <a:pt x="5878325" y="627339"/>
                </a:cubicBezTo>
                <a:cubicBezTo>
                  <a:pt x="5887561" y="590394"/>
                  <a:pt x="5893991" y="552631"/>
                  <a:pt x="5906034" y="516503"/>
                </a:cubicBezTo>
                <a:cubicBezTo>
                  <a:pt x="5912565" y="496909"/>
                  <a:pt x="5923496" y="479016"/>
                  <a:pt x="5933743" y="461084"/>
                </a:cubicBezTo>
                <a:cubicBezTo>
                  <a:pt x="5960463" y="414323"/>
                  <a:pt x="5986996" y="367350"/>
                  <a:pt x="6016870" y="322539"/>
                </a:cubicBezTo>
                <a:cubicBezTo>
                  <a:pt x="6035343" y="294830"/>
                  <a:pt x="6040695" y="249943"/>
                  <a:pt x="6072288" y="239412"/>
                </a:cubicBezTo>
                <a:cubicBezTo>
                  <a:pt x="6113943" y="225527"/>
                  <a:pt x="6119607" y="227689"/>
                  <a:pt x="6155416" y="197848"/>
                </a:cubicBezTo>
                <a:cubicBezTo>
                  <a:pt x="6209021" y="153177"/>
                  <a:pt x="6186355" y="152459"/>
                  <a:pt x="6252397" y="114721"/>
                </a:cubicBezTo>
                <a:cubicBezTo>
                  <a:pt x="6453160" y="0"/>
                  <a:pt x="6118306" y="217968"/>
                  <a:pt x="6335525" y="73157"/>
                </a:cubicBezTo>
                <a:cubicBezTo>
                  <a:pt x="6381707" y="77775"/>
                  <a:pt x="6428198" y="79955"/>
                  <a:pt x="6474070" y="87012"/>
                </a:cubicBezTo>
                <a:cubicBezTo>
                  <a:pt x="6488504" y="89233"/>
                  <a:pt x="6507146" y="88982"/>
                  <a:pt x="6515634" y="100866"/>
                </a:cubicBezTo>
                <a:cubicBezTo>
                  <a:pt x="6532611" y="124634"/>
                  <a:pt x="6543343" y="183994"/>
                  <a:pt x="6543343" y="183994"/>
                </a:cubicBezTo>
                <a:cubicBezTo>
                  <a:pt x="6538725" y="225557"/>
                  <a:pt x="6536363" y="267434"/>
                  <a:pt x="6529488" y="308684"/>
                </a:cubicBezTo>
                <a:cubicBezTo>
                  <a:pt x="6524916" y="336116"/>
                  <a:pt x="6499803" y="384880"/>
                  <a:pt x="6487925" y="405666"/>
                </a:cubicBezTo>
                <a:cubicBezTo>
                  <a:pt x="6479664" y="420123"/>
                  <a:pt x="6467663" y="432337"/>
                  <a:pt x="6460216" y="447230"/>
                </a:cubicBezTo>
                <a:cubicBezTo>
                  <a:pt x="6453685" y="460292"/>
                  <a:pt x="6453453" y="476028"/>
                  <a:pt x="6446361" y="488794"/>
                </a:cubicBezTo>
                <a:cubicBezTo>
                  <a:pt x="6430188" y="517905"/>
                  <a:pt x="6409416" y="544212"/>
                  <a:pt x="6390943" y="571921"/>
                </a:cubicBezTo>
                <a:lnTo>
                  <a:pt x="6363234" y="613484"/>
                </a:lnTo>
                <a:cubicBezTo>
                  <a:pt x="6367852" y="636575"/>
                  <a:pt x="6368820" y="660708"/>
                  <a:pt x="6377088" y="682757"/>
                </a:cubicBezTo>
                <a:cubicBezTo>
                  <a:pt x="6384714" y="703095"/>
                  <a:pt x="6420261" y="750166"/>
                  <a:pt x="6446361" y="752030"/>
                </a:cubicBezTo>
                <a:cubicBezTo>
                  <a:pt x="6626071" y="764866"/>
                  <a:pt x="6806579" y="761266"/>
                  <a:pt x="6986688" y="765884"/>
                </a:cubicBezTo>
                <a:cubicBezTo>
                  <a:pt x="7057256" y="779998"/>
                  <a:pt x="7051525" y="772533"/>
                  <a:pt x="7111379" y="807448"/>
                </a:cubicBezTo>
                <a:cubicBezTo>
                  <a:pt x="7149012" y="829401"/>
                  <a:pt x="7222216" y="876721"/>
                  <a:pt x="7222216" y="876721"/>
                </a:cubicBezTo>
                <a:cubicBezTo>
                  <a:pt x="7231452" y="890575"/>
                  <a:pt x="7239265" y="905492"/>
                  <a:pt x="7249925" y="918284"/>
                </a:cubicBezTo>
                <a:cubicBezTo>
                  <a:pt x="7262468" y="933336"/>
                  <a:pt x="7283380" y="942011"/>
                  <a:pt x="7291488" y="959848"/>
                </a:cubicBezTo>
                <a:cubicBezTo>
                  <a:pt x="7307246" y="994517"/>
                  <a:pt x="7305526" y="1035140"/>
                  <a:pt x="7319197" y="1070684"/>
                </a:cubicBezTo>
                <a:cubicBezTo>
                  <a:pt x="7351853" y="1155588"/>
                  <a:pt x="7407972" y="1231814"/>
                  <a:pt x="7430034" y="1320066"/>
                </a:cubicBezTo>
                <a:cubicBezTo>
                  <a:pt x="7434652" y="1338539"/>
                  <a:pt x="7439757" y="1356896"/>
                  <a:pt x="7443888" y="1375484"/>
                </a:cubicBezTo>
                <a:cubicBezTo>
                  <a:pt x="7456800" y="1433590"/>
                  <a:pt x="7461568" y="1467710"/>
                  <a:pt x="7471597" y="1527884"/>
                </a:cubicBezTo>
                <a:cubicBezTo>
                  <a:pt x="7457743" y="1768030"/>
                  <a:pt x="7450694" y="2008665"/>
                  <a:pt x="7430034" y="2248321"/>
                </a:cubicBezTo>
                <a:cubicBezTo>
                  <a:pt x="7427525" y="2277421"/>
                  <a:pt x="7412581" y="2304100"/>
                  <a:pt x="7402325" y="2331448"/>
                </a:cubicBezTo>
                <a:cubicBezTo>
                  <a:pt x="7384860" y="2378021"/>
                  <a:pt x="7382078" y="2434823"/>
                  <a:pt x="7346907" y="2469994"/>
                </a:cubicBezTo>
                <a:cubicBezTo>
                  <a:pt x="7328434" y="2488467"/>
                  <a:pt x="7307808" y="2505012"/>
                  <a:pt x="7291488" y="2525412"/>
                </a:cubicBezTo>
                <a:cubicBezTo>
                  <a:pt x="7221874" y="2612429"/>
                  <a:pt x="7257013" y="2592522"/>
                  <a:pt x="7194507" y="2663957"/>
                </a:cubicBezTo>
                <a:cubicBezTo>
                  <a:pt x="7177304" y="2683618"/>
                  <a:pt x="7156090" y="2699540"/>
                  <a:pt x="7139088" y="2719375"/>
                </a:cubicBezTo>
                <a:cubicBezTo>
                  <a:pt x="7128252" y="2732017"/>
                  <a:pt x="7122039" y="2748147"/>
                  <a:pt x="7111379" y="2760939"/>
                </a:cubicBezTo>
                <a:cubicBezTo>
                  <a:pt x="7098836" y="2775991"/>
                  <a:pt x="7082718" y="2787758"/>
                  <a:pt x="7069816" y="2802503"/>
                </a:cubicBezTo>
                <a:cubicBezTo>
                  <a:pt x="7050343" y="2824757"/>
                  <a:pt x="7035307" y="2850865"/>
                  <a:pt x="7014397" y="2871775"/>
                </a:cubicBezTo>
                <a:cubicBezTo>
                  <a:pt x="6993487" y="2892685"/>
                  <a:pt x="6966035" y="2906284"/>
                  <a:pt x="6945125" y="2927194"/>
                </a:cubicBezTo>
                <a:cubicBezTo>
                  <a:pt x="6919620" y="2952699"/>
                  <a:pt x="6901357" y="2984816"/>
                  <a:pt x="6875852" y="3010321"/>
                </a:cubicBezTo>
                <a:cubicBezTo>
                  <a:pt x="6856237" y="3029935"/>
                  <a:pt x="6749586" y="3099548"/>
                  <a:pt x="6737307" y="3107303"/>
                </a:cubicBezTo>
                <a:cubicBezTo>
                  <a:pt x="6677705" y="3144946"/>
                  <a:pt x="6622649" y="3191958"/>
                  <a:pt x="6557197" y="3218139"/>
                </a:cubicBezTo>
                <a:cubicBezTo>
                  <a:pt x="6388672" y="3285549"/>
                  <a:pt x="6597977" y="3199603"/>
                  <a:pt x="6404797" y="3287412"/>
                </a:cubicBezTo>
                <a:cubicBezTo>
                  <a:pt x="6316945" y="3327345"/>
                  <a:pt x="6349089" y="3305641"/>
                  <a:pt x="6252397" y="3342830"/>
                </a:cubicBezTo>
                <a:cubicBezTo>
                  <a:pt x="6148888" y="3382641"/>
                  <a:pt x="6165933" y="3389068"/>
                  <a:pt x="6058434" y="3412103"/>
                </a:cubicBezTo>
                <a:cubicBezTo>
                  <a:pt x="6003349" y="3423907"/>
                  <a:pt x="5869098" y="3434950"/>
                  <a:pt x="5822907" y="3439812"/>
                </a:cubicBezTo>
                <a:cubicBezTo>
                  <a:pt x="5781317" y="3444190"/>
                  <a:pt x="5739936" y="3450789"/>
                  <a:pt x="5698216" y="3453666"/>
                </a:cubicBezTo>
                <a:cubicBezTo>
                  <a:pt x="5550756" y="3463836"/>
                  <a:pt x="5401935" y="3463727"/>
                  <a:pt x="5254870" y="3481375"/>
                </a:cubicBezTo>
                <a:cubicBezTo>
                  <a:pt x="5194560" y="3488612"/>
                  <a:pt x="5134797" y="3499848"/>
                  <a:pt x="5074761" y="3509084"/>
                </a:cubicBezTo>
                <a:lnTo>
                  <a:pt x="2151452" y="3467521"/>
                </a:lnTo>
                <a:cubicBezTo>
                  <a:pt x="2096055" y="3466500"/>
                  <a:pt x="2022456" y="3439408"/>
                  <a:pt x="1971343" y="3425957"/>
                </a:cubicBezTo>
                <a:cubicBezTo>
                  <a:pt x="1916100" y="3411420"/>
                  <a:pt x="1859858" y="3400622"/>
                  <a:pt x="1805088" y="3384394"/>
                </a:cubicBezTo>
                <a:cubicBezTo>
                  <a:pt x="582670" y="3022197"/>
                  <a:pt x="2543049" y="3585344"/>
                  <a:pt x="1403307" y="3259703"/>
                </a:cubicBezTo>
                <a:cubicBezTo>
                  <a:pt x="1380216" y="3245848"/>
                  <a:pt x="1358934" y="3228392"/>
                  <a:pt x="1334034" y="3218139"/>
                </a:cubicBezTo>
                <a:cubicBezTo>
                  <a:pt x="1091834" y="3118410"/>
                  <a:pt x="1245723" y="3202556"/>
                  <a:pt x="1001525" y="3121157"/>
                </a:cubicBezTo>
                <a:cubicBezTo>
                  <a:pt x="933426" y="3098458"/>
                  <a:pt x="928090" y="3082638"/>
                  <a:pt x="876834" y="3051884"/>
                </a:cubicBezTo>
                <a:cubicBezTo>
                  <a:pt x="429344" y="2783389"/>
                  <a:pt x="633645" y="2917468"/>
                  <a:pt x="419634" y="2774794"/>
                </a:cubicBezTo>
                <a:cubicBezTo>
                  <a:pt x="405779" y="2756321"/>
                  <a:pt x="390308" y="2738956"/>
                  <a:pt x="378070" y="2719375"/>
                </a:cubicBezTo>
                <a:cubicBezTo>
                  <a:pt x="222901" y="2471106"/>
                  <a:pt x="336337" y="2626787"/>
                  <a:pt x="239525" y="2497703"/>
                </a:cubicBezTo>
                <a:cubicBezTo>
                  <a:pt x="213969" y="2408255"/>
                  <a:pt x="208373" y="2378832"/>
                  <a:pt x="170252" y="2289884"/>
                </a:cubicBezTo>
                <a:cubicBezTo>
                  <a:pt x="158048" y="2261409"/>
                  <a:pt x="139566" y="2235764"/>
                  <a:pt x="128688" y="2206757"/>
                </a:cubicBezTo>
                <a:cubicBezTo>
                  <a:pt x="111759" y="2161612"/>
                  <a:pt x="102372" y="2113953"/>
                  <a:pt x="87125" y="2068212"/>
                </a:cubicBezTo>
                <a:cubicBezTo>
                  <a:pt x="74647" y="2030779"/>
                  <a:pt x="59416" y="1994321"/>
                  <a:pt x="45561" y="1957375"/>
                </a:cubicBezTo>
                <a:cubicBezTo>
                  <a:pt x="40943" y="1929666"/>
                  <a:pt x="38024" y="1901620"/>
                  <a:pt x="31707" y="1874248"/>
                </a:cubicBezTo>
                <a:cubicBezTo>
                  <a:pt x="24147" y="1841488"/>
                  <a:pt x="4643" y="1810881"/>
                  <a:pt x="3997" y="1777266"/>
                </a:cubicBezTo>
                <a:cubicBezTo>
                  <a:pt x="0" y="1569435"/>
                  <a:pt x="6732" y="1361384"/>
                  <a:pt x="17852" y="1153812"/>
                </a:cubicBezTo>
                <a:cubicBezTo>
                  <a:pt x="20614" y="1102253"/>
                  <a:pt x="37073" y="1052342"/>
                  <a:pt x="45561" y="1001412"/>
                </a:cubicBezTo>
                <a:cubicBezTo>
                  <a:pt x="50930" y="969201"/>
                  <a:pt x="47693" y="934909"/>
                  <a:pt x="59416" y="904430"/>
                </a:cubicBezTo>
                <a:cubicBezTo>
                  <a:pt x="62243" y="897079"/>
                  <a:pt x="140200" y="782081"/>
                  <a:pt x="156397" y="765884"/>
                </a:cubicBezTo>
                <a:cubicBezTo>
                  <a:pt x="177307" y="744974"/>
                  <a:pt x="204760" y="731376"/>
                  <a:pt x="225670" y="710466"/>
                </a:cubicBezTo>
                <a:cubicBezTo>
                  <a:pt x="246580" y="689557"/>
                  <a:pt x="258987" y="660840"/>
                  <a:pt x="281088" y="641194"/>
                </a:cubicBezTo>
                <a:cubicBezTo>
                  <a:pt x="301215" y="623304"/>
                  <a:pt x="327955" y="614567"/>
                  <a:pt x="350361" y="599630"/>
                </a:cubicBezTo>
                <a:cubicBezTo>
                  <a:pt x="369574" y="586821"/>
                  <a:pt x="385979" y="569946"/>
                  <a:pt x="405779" y="558066"/>
                </a:cubicBezTo>
                <a:cubicBezTo>
                  <a:pt x="432344" y="542127"/>
                  <a:pt x="461710" y="531338"/>
                  <a:pt x="488907" y="516503"/>
                </a:cubicBezTo>
                <a:cubicBezTo>
                  <a:pt x="512547" y="503608"/>
                  <a:pt x="534094" y="486982"/>
                  <a:pt x="558179" y="474939"/>
                </a:cubicBezTo>
                <a:cubicBezTo>
                  <a:pt x="578058" y="465000"/>
                  <a:pt x="637401" y="451670"/>
                  <a:pt x="655161" y="447230"/>
                </a:cubicBezTo>
                <a:cubicBezTo>
                  <a:pt x="793706" y="451848"/>
                  <a:pt x="932654" y="449572"/>
                  <a:pt x="1070797" y="461084"/>
                </a:cubicBezTo>
                <a:cubicBezTo>
                  <a:pt x="1099904" y="463510"/>
                  <a:pt x="1125589" y="481710"/>
                  <a:pt x="1153925" y="488794"/>
                </a:cubicBezTo>
                <a:cubicBezTo>
                  <a:pt x="1172398" y="493412"/>
                  <a:pt x="1190672" y="498914"/>
                  <a:pt x="1209343" y="502648"/>
                </a:cubicBezTo>
                <a:cubicBezTo>
                  <a:pt x="1236889" y="508157"/>
                  <a:pt x="1265218" y="509690"/>
                  <a:pt x="1292470" y="516503"/>
                </a:cubicBezTo>
                <a:cubicBezTo>
                  <a:pt x="1320806" y="523587"/>
                  <a:pt x="1375597" y="544212"/>
                  <a:pt x="1375597" y="544212"/>
                </a:cubicBezTo>
                <a:cubicBezTo>
                  <a:pt x="1386865" y="578015"/>
                  <a:pt x="1390305" y="600483"/>
                  <a:pt x="1417161" y="627339"/>
                </a:cubicBezTo>
                <a:cubicBezTo>
                  <a:pt x="1428935" y="639113"/>
                  <a:pt x="1444870" y="645812"/>
                  <a:pt x="1458725" y="655048"/>
                </a:cubicBezTo>
                <a:cubicBezTo>
                  <a:pt x="1472579" y="645812"/>
                  <a:pt x="1491463" y="641459"/>
                  <a:pt x="1500288" y="627339"/>
                </a:cubicBezTo>
                <a:cubicBezTo>
                  <a:pt x="1583672" y="493924"/>
                  <a:pt x="1474152" y="586131"/>
                  <a:pt x="1569561" y="502648"/>
                </a:cubicBezTo>
                <a:cubicBezTo>
                  <a:pt x="1591815" y="483176"/>
                  <a:pt x="1613291" y="462130"/>
                  <a:pt x="1638834" y="447230"/>
                </a:cubicBezTo>
                <a:cubicBezTo>
                  <a:pt x="1646402" y="442815"/>
                  <a:pt x="1745150" y="398974"/>
                  <a:pt x="1777379" y="391812"/>
                </a:cubicBezTo>
                <a:cubicBezTo>
                  <a:pt x="1804802" y="385718"/>
                  <a:pt x="1832961" y="383466"/>
                  <a:pt x="1860507" y="377957"/>
                </a:cubicBezTo>
                <a:cubicBezTo>
                  <a:pt x="1879178" y="374223"/>
                  <a:pt x="1897452" y="368721"/>
                  <a:pt x="1915925" y="364103"/>
                </a:cubicBezTo>
                <a:lnTo>
                  <a:pt x="2331561" y="377957"/>
                </a:lnTo>
                <a:cubicBezTo>
                  <a:pt x="2396314" y="380900"/>
                  <a:pt x="2461964" y="379100"/>
                  <a:pt x="2525525" y="391812"/>
                </a:cubicBezTo>
                <a:cubicBezTo>
                  <a:pt x="2555903" y="397888"/>
                  <a:pt x="2579262" y="423578"/>
                  <a:pt x="2608652" y="433375"/>
                </a:cubicBezTo>
                <a:cubicBezTo>
                  <a:pt x="2635302" y="442258"/>
                  <a:pt x="2664233" y="441721"/>
                  <a:pt x="2691779" y="447230"/>
                </a:cubicBezTo>
                <a:cubicBezTo>
                  <a:pt x="2710450" y="450964"/>
                  <a:pt x="2728724" y="456466"/>
                  <a:pt x="2747197" y="461084"/>
                </a:cubicBezTo>
                <a:cubicBezTo>
                  <a:pt x="2756434" y="470321"/>
                  <a:pt x="2764989" y="480293"/>
                  <a:pt x="2774907" y="488794"/>
                </a:cubicBezTo>
                <a:cubicBezTo>
                  <a:pt x="2832501" y="538160"/>
                  <a:pt x="2833472" y="537074"/>
                  <a:pt x="2885743" y="571921"/>
                </a:cubicBezTo>
                <a:cubicBezTo>
                  <a:pt x="2904216" y="608866"/>
                  <a:pt x="2919909" y="647337"/>
                  <a:pt x="2941161" y="682757"/>
                </a:cubicBezTo>
                <a:cubicBezTo>
                  <a:pt x="2955016" y="705848"/>
                  <a:pt x="2970682" y="727944"/>
                  <a:pt x="2982725" y="752030"/>
                </a:cubicBezTo>
                <a:cubicBezTo>
                  <a:pt x="3003458" y="793496"/>
                  <a:pt x="2994629" y="815452"/>
                  <a:pt x="3010434" y="862866"/>
                </a:cubicBezTo>
                <a:cubicBezTo>
                  <a:pt x="3021556" y="896232"/>
                  <a:pt x="3038143" y="927521"/>
                  <a:pt x="3051997" y="959848"/>
                </a:cubicBezTo>
                <a:cubicBezTo>
                  <a:pt x="3056615" y="992175"/>
                  <a:pt x="3060483" y="1024619"/>
                  <a:pt x="3065852" y="1056830"/>
                </a:cubicBezTo>
                <a:cubicBezTo>
                  <a:pt x="3069723" y="1080058"/>
                  <a:pt x="3078654" y="1102578"/>
                  <a:pt x="3079707" y="1126103"/>
                </a:cubicBezTo>
                <a:cubicBezTo>
                  <a:pt x="3092522" y="1412292"/>
                  <a:pt x="3094408" y="1698904"/>
                  <a:pt x="3107416" y="1985084"/>
                </a:cubicBezTo>
                <a:cubicBezTo>
                  <a:pt x="3108281" y="2004106"/>
                  <a:pt x="3112754" y="2023472"/>
                  <a:pt x="3121270" y="2040503"/>
                </a:cubicBezTo>
                <a:cubicBezTo>
                  <a:pt x="3141654" y="2081272"/>
                  <a:pt x="3204168" y="2137255"/>
                  <a:pt x="3232107" y="2165194"/>
                </a:cubicBezTo>
                <a:cubicBezTo>
                  <a:pt x="3278289" y="2155957"/>
                  <a:pt x="3327504" y="2156361"/>
                  <a:pt x="3370652" y="2137484"/>
                </a:cubicBezTo>
                <a:cubicBezTo>
                  <a:pt x="3403697" y="2123027"/>
                  <a:pt x="3424312" y="2089012"/>
                  <a:pt x="3453779" y="2068212"/>
                </a:cubicBezTo>
                <a:cubicBezTo>
                  <a:pt x="3502972" y="2033488"/>
                  <a:pt x="3559378" y="2009116"/>
                  <a:pt x="3606179" y="1971230"/>
                </a:cubicBezTo>
                <a:cubicBezTo>
                  <a:pt x="3734825" y="1867088"/>
                  <a:pt x="3723266" y="1875603"/>
                  <a:pt x="3772434" y="1777266"/>
                </a:cubicBezTo>
                <a:cubicBezTo>
                  <a:pt x="3763198" y="1721848"/>
                  <a:pt x="3755743" y="1666103"/>
                  <a:pt x="3744725" y="1611012"/>
                </a:cubicBezTo>
                <a:cubicBezTo>
                  <a:pt x="3741861" y="1596691"/>
                  <a:pt x="3739993" y="1580852"/>
                  <a:pt x="3730870" y="1569448"/>
                </a:cubicBezTo>
                <a:cubicBezTo>
                  <a:pt x="3642401" y="1458862"/>
                  <a:pt x="3664336" y="1492460"/>
                  <a:pt x="3578470" y="1444757"/>
                </a:cubicBezTo>
                <a:cubicBezTo>
                  <a:pt x="3554930" y="1431680"/>
                  <a:pt x="3533712" y="1414337"/>
                  <a:pt x="3509197" y="1403194"/>
                </a:cubicBezTo>
                <a:cubicBezTo>
                  <a:pt x="3431903" y="1368060"/>
                  <a:pt x="3349610" y="1344183"/>
                  <a:pt x="3273670" y="1306212"/>
                </a:cubicBezTo>
                <a:lnTo>
                  <a:pt x="3190543" y="1264648"/>
                </a:lnTo>
                <a:cubicBezTo>
                  <a:pt x="3056616" y="1269266"/>
                  <a:pt x="2921794" y="1262378"/>
                  <a:pt x="2788761" y="1278503"/>
                </a:cubicBezTo>
                <a:cubicBezTo>
                  <a:pt x="2750016" y="1283199"/>
                  <a:pt x="2712052" y="1352315"/>
                  <a:pt x="2691779" y="1375484"/>
                </a:cubicBezTo>
                <a:cubicBezTo>
                  <a:pt x="2652013" y="1420931"/>
                  <a:pt x="2633372" y="1423026"/>
                  <a:pt x="2608652" y="1472466"/>
                </a:cubicBezTo>
                <a:cubicBezTo>
                  <a:pt x="2602121" y="1485528"/>
                  <a:pt x="2599415" y="1500175"/>
                  <a:pt x="2594797" y="1514030"/>
                </a:cubicBezTo>
                <a:cubicBezTo>
                  <a:pt x="2590179" y="1541739"/>
                  <a:pt x="2580943" y="1569066"/>
                  <a:pt x="2580943" y="1597157"/>
                </a:cubicBezTo>
                <a:cubicBezTo>
                  <a:pt x="2580943" y="1717318"/>
                  <a:pt x="2582840" y="1837810"/>
                  <a:pt x="2594797" y="1957375"/>
                </a:cubicBezTo>
                <a:cubicBezTo>
                  <a:pt x="2596852" y="1977926"/>
                  <a:pt x="2615449" y="1993384"/>
                  <a:pt x="2622507" y="2012794"/>
                </a:cubicBezTo>
                <a:cubicBezTo>
                  <a:pt x="2633997" y="2044390"/>
                  <a:pt x="2639584" y="2077880"/>
                  <a:pt x="2650216" y="2109775"/>
                </a:cubicBezTo>
                <a:cubicBezTo>
                  <a:pt x="2672705" y="2177242"/>
                  <a:pt x="2702537" y="2260174"/>
                  <a:pt x="2747197" y="2317594"/>
                </a:cubicBezTo>
                <a:cubicBezTo>
                  <a:pt x="2757420" y="2330738"/>
                  <a:pt x="2774906" y="2336067"/>
                  <a:pt x="2788761" y="2345303"/>
                </a:cubicBezTo>
                <a:cubicBezTo>
                  <a:pt x="2797997" y="2359157"/>
                  <a:pt x="2804696" y="2375092"/>
                  <a:pt x="2816470" y="2386866"/>
                </a:cubicBezTo>
                <a:cubicBezTo>
                  <a:pt x="2832798" y="2403194"/>
                  <a:pt x="2851839" y="2416974"/>
                  <a:pt x="2871888" y="2428430"/>
                </a:cubicBezTo>
                <a:cubicBezTo>
                  <a:pt x="2952594" y="2474548"/>
                  <a:pt x="3018031" y="2508386"/>
                  <a:pt x="3107416" y="2525412"/>
                </a:cubicBezTo>
                <a:cubicBezTo>
                  <a:pt x="3171573" y="2537632"/>
                  <a:pt x="3236725" y="2543885"/>
                  <a:pt x="3301379" y="2553121"/>
                </a:cubicBezTo>
                <a:cubicBezTo>
                  <a:pt x="3430688" y="2539266"/>
                  <a:pt x="3560817" y="2531634"/>
                  <a:pt x="3689307" y="2511557"/>
                </a:cubicBezTo>
                <a:cubicBezTo>
                  <a:pt x="3709712" y="2508369"/>
                  <a:pt x="3725852" y="2492236"/>
                  <a:pt x="3744725" y="2483848"/>
                </a:cubicBezTo>
                <a:cubicBezTo>
                  <a:pt x="3767451" y="2473748"/>
                  <a:pt x="3791753" y="2467261"/>
                  <a:pt x="3813997" y="2456139"/>
                </a:cubicBezTo>
                <a:cubicBezTo>
                  <a:pt x="3856017" y="2435129"/>
                  <a:pt x="3906791" y="2381240"/>
                  <a:pt x="3938688" y="2359157"/>
                </a:cubicBezTo>
                <a:cubicBezTo>
                  <a:pt x="4009906" y="2309852"/>
                  <a:pt x="4046186" y="2302515"/>
                  <a:pt x="4118797" y="2262175"/>
                </a:cubicBezTo>
                <a:cubicBezTo>
                  <a:pt x="4133353" y="2254088"/>
                  <a:pt x="4146811" y="2244144"/>
                  <a:pt x="4160361" y="2234466"/>
                </a:cubicBezTo>
                <a:cubicBezTo>
                  <a:pt x="4179151" y="2221045"/>
                  <a:pt x="4195594" y="2204117"/>
                  <a:pt x="4215779" y="2192903"/>
                </a:cubicBezTo>
                <a:cubicBezTo>
                  <a:pt x="4237519" y="2180825"/>
                  <a:pt x="4261961" y="2174430"/>
                  <a:pt x="4285052" y="2165194"/>
                </a:cubicBezTo>
                <a:cubicBezTo>
                  <a:pt x="4308143" y="2146721"/>
                  <a:pt x="4330668" y="2127518"/>
                  <a:pt x="4354325" y="2109775"/>
                </a:cubicBezTo>
                <a:cubicBezTo>
                  <a:pt x="4367646" y="2099784"/>
                  <a:pt x="4382567" y="2092057"/>
                  <a:pt x="4395888" y="2082066"/>
                </a:cubicBezTo>
                <a:cubicBezTo>
                  <a:pt x="4419545" y="2064324"/>
                  <a:pt x="4440557" y="2043051"/>
                  <a:pt x="4465161" y="2026648"/>
                </a:cubicBezTo>
                <a:cubicBezTo>
                  <a:pt x="4531012" y="1982747"/>
                  <a:pt x="4515483" y="2017888"/>
                  <a:pt x="4575997" y="1957375"/>
                </a:cubicBezTo>
                <a:cubicBezTo>
                  <a:pt x="4619098" y="1914274"/>
                  <a:pt x="4583698" y="1912732"/>
                  <a:pt x="4645270" y="1888103"/>
                </a:cubicBezTo>
                <a:cubicBezTo>
                  <a:pt x="4653846" y="1884673"/>
                  <a:pt x="4663743" y="1888103"/>
                  <a:pt x="4672979" y="1888103"/>
                </a:cubicBezTo>
              </a:path>
            </a:pathLst>
          </a:custGeom>
          <a:noFill/>
          <a:ln cap="rnd"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УЖИН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32004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Полилиния 11"/>
          <p:cNvSpPr/>
          <p:nvPr/>
        </p:nvSpPr>
        <p:spPr>
          <a:xfrm>
            <a:off x="831960" y="1662120"/>
            <a:ext cx="7138800" cy="4392720"/>
          </a:xfrm>
          <a:custGeom>
            <a:avLst/>
            <a:gdLst/>
            <a:ahLst/>
            <a:rect l="l" t="t" r="r" b="b"/>
            <a:pathLst>
              <a:path w="7139220" h="4391891">
                <a:moveTo>
                  <a:pt x="0" y="1011382"/>
                </a:moveTo>
                <a:cubicBezTo>
                  <a:pt x="13854" y="1006764"/>
                  <a:pt x="27933" y="1002770"/>
                  <a:pt x="41563" y="997528"/>
                </a:cubicBezTo>
                <a:cubicBezTo>
                  <a:pt x="87987" y="979673"/>
                  <a:pt x="132467" y="956403"/>
                  <a:pt x="180109" y="942110"/>
                </a:cubicBezTo>
                <a:cubicBezTo>
                  <a:pt x="225219" y="928577"/>
                  <a:pt x="272764" y="924990"/>
                  <a:pt x="318654" y="914400"/>
                </a:cubicBezTo>
                <a:cubicBezTo>
                  <a:pt x="392869" y="897273"/>
                  <a:pt x="467208" y="880308"/>
                  <a:pt x="540327" y="858982"/>
                </a:cubicBezTo>
                <a:cubicBezTo>
                  <a:pt x="820266" y="777334"/>
                  <a:pt x="454323" y="853208"/>
                  <a:pt x="803563" y="789710"/>
                </a:cubicBezTo>
                <a:cubicBezTo>
                  <a:pt x="1071418" y="798946"/>
                  <a:pt x="1339619" y="800957"/>
                  <a:pt x="1607127" y="817419"/>
                </a:cubicBezTo>
                <a:cubicBezTo>
                  <a:pt x="1640684" y="819484"/>
                  <a:pt x="1671492" y="836974"/>
                  <a:pt x="1704109" y="845128"/>
                </a:cubicBezTo>
                <a:cubicBezTo>
                  <a:pt x="1756162" y="858141"/>
                  <a:pt x="1770602" y="853833"/>
                  <a:pt x="1814945" y="872837"/>
                </a:cubicBezTo>
                <a:cubicBezTo>
                  <a:pt x="1916368" y="916305"/>
                  <a:pt x="1823614" y="888859"/>
                  <a:pt x="1925782" y="914400"/>
                </a:cubicBezTo>
                <a:lnTo>
                  <a:pt x="2008909" y="997528"/>
                </a:lnTo>
                <a:lnTo>
                  <a:pt x="2050472" y="1039091"/>
                </a:lnTo>
                <a:lnTo>
                  <a:pt x="2092036" y="1163782"/>
                </a:lnTo>
                <a:lnTo>
                  <a:pt x="2119745" y="1246910"/>
                </a:lnTo>
                <a:cubicBezTo>
                  <a:pt x="2133219" y="1570272"/>
                  <a:pt x="2147137" y="1717368"/>
                  <a:pt x="2119745" y="2064328"/>
                </a:cubicBezTo>
                <a:cubicBezTo>
                  <a:pt x="2118435" y="2080927"/>
                  <a:pt x="2099483" y="2090998"/>
                  <a:pt x="2092036" y="2105891"/>
                </a:cubicBezTo>
                <a:cubicBezTo>
                  <a:pt x="2080914" y="2128135"/>
                  <a:pt x="2076405" y="2153424"/>
                  <a:pt x="2064327" y="2175164"/>
                </a:cubicBezTo>
                <a:cubicBezTo>
                  <a:pt x="2044948" y="2210046"/>
                  <a:pt x="2018774" y="2242188"/>
                  <a:pt x="1981200" y="2258291"/>
                </a:cubicBezTo>
                <a:cubicBezTo>
                  <a:pt x="1963698" y="2265792"/>
                  <a:pt x="1944255" y="2267528"/>
                  <a:pt x="1925782" y="2272146"/>
                </a:cubicBezTo>
                <a:cubicBezTo>
                  <a:pt x="1824182" y="2267528"/>
                  <a:pt x="1722363" y="2266401"/>
                  <a:pt x="1620982" y="2258291"/>
                </a:cubicBezTo>
                <a:cubicBezTo>
                  <a:pt x="1606424" y="2257126"/>
                  <a:pt x="1593507" y="2248280"/>
                  <a:pt x="1579418" y="2244437"/>
                </a:cubicBezTo>
                <a:cubicBezTo>
                  <a:pt x="1542677" y="2234417"/>
                  <a:pt x="1506012" y="2223746"/>
                  <a:pt x="1468582" y="2216728"/>
                </a:cubicBezTo>
                <a:cubicBezTo>
                  <a:pt x="1431987" y="2209866"/>
                  <a:pt x="1394691" y="2207491"/>
                  <a:pt x="1357745" y="2202873"/>
                </a:cubicBezTo>
                <a:cubicBezTo>
                  <a:pt x="1302327" y="2184400"/>
                  <a:pt x="1245729" y="2169150"/>
                  <a:pt x="1191491" y="2147455"/>
                </a:cubicBezTo>
                <a:cubicBezTo>
                  <a:pt x="1108658" y="2114322"/>
                  <a:pt x="1145811" y="2127611"/>
                  <a:pt x="1080654" y="2105891"/>
                </a:cubicBezTo>
                <a:cubicBezTo>
                  <a:pt x="992909" y="2045855"/>
                  <a:pt x="901689" y="1990605"/>
                  <a:pt x="817418" y="1925782"/>
                </a:cubicBezTo>
                <a:lnTo>
                  <a:pt x="637309" y="1787237"/>
                </a:lnTo>
                <a:cubicBezTo>
                  <a:pt x="618836" y="1759528"/>
                  <a:pt x="598064" y="1733221"/>
                  <a:pt x="581891" y="1704110"/>
                </a:cubicBezTo>
                <a:cubicBezTo>
                  <a:pt x="574799" y="1691344"/>
                  <a:pt x="573164" y="1676220"/>
                  <a:pt x="568036" y="1662546"/>
                </a:cubicBezTo>
                <a:cubicBezTo>
                  <a:pt x="559304" y="1639260"/>
                  <a:pt x="549059" y="1616559"/>
                  <a:pt x="540327" y="1593273"/>
                </a:cubicBezTo>
                <a:cubicBezTo>
                  <a:pt x="525417" y="1553513"/>
                  <a:pt x="523538" y="1539973"/>
                  <a:pt x="512618" y="1496291"/>
                </a:cubicBezTo>
                <a:cubicBezTo>
                  <a:pt x="517236" y="1463964"/>
                  <a:pt x="515604" y="1430104"/>
                  <a:pt x="526472" y="1399310"/>
                </a:cubicBezTo>
                <a:cubicBezTo>
                  <a:pt x="550052" y="1332499"/>
                  <a:pt x="589817" y="1260753"/>
                  <a:pt x="637309" y="1205346"/>
                </a:cubicBezTo>
                <a:cubicBezTo>
                  <a:pt x="650060" y="1190470"/>
                  <a:pt x="663197" y="1175538"/>
                  <a:pt x="678872" y="1163782"/>
                </a:cubicBezTo>
                <a:cubicBezTo>
                  <a:pt x="700415" y="1147625"/>
                  <a:pt x="725310" y="1136491"/>
                  <a:pt x="748145" y="1122219"/>
                </a:cubicBezTo>
                <a:cubicBezTo>
                  <a:pt x="762265" y="1113394"/>
                  <a:pt x="774493" y="1101273"/>
                  <a:pt x="789709" y="1094510"/>
                </a:cubicBezTo>
                <a:cubicBezTo>
                  <a:pt x="816400" y="1082647"/>
                  <a:pt x="845127" y="1076037"/>
                  <a:pt x="872836" y="1066800"/>
                </a:cubicBezTo>
                <a:cubicBezTo>
                  <a:pt x="886691" y="1052946"/>
                  <a:pt x="898456" y="1036625"/>
                  <a:pt x="914400" y="1025237"/>
                </a:cubicBezTo>
                <a:cubicBezTo>
                  <a:pt x="967672" y="987186"/>
                  <a:pt x="986539" y="997903"/>
                  <a:pt x="1052945" y="983673"/>
                </a:cubicBezTo>
                <a:cubicBezTo>
                  <a:pt x="1266198" y="937976"/>
                  <a:pt x="1056242" y="964236"/>
                  <a:pt x="1343891" y="942110"/>
                </a:cubicBezTo>
                <a:cubicBezTo>
                  <a:pt x="1473200" y="946728"/>
                  <a:pt x="1602789" y="946287"/>
                  <a:pt x="1731818" y="955964"/>
                </a:cubicBezTo>
                <a:cubicBezTo>
                  <a:pt x="1820303" y="962600"/>
                  <a:pt x="2028391" y="1013756"/>
                  <a:pt x="2105891" y="1025237"/>
                </a:cubicBezTo>
                <a:cubicBezTo>
                  <a:pt x="2160901" y="1033387"/>
                  <a:pt x="2216851" y="1033167"/>
                  <a:pt x="2272145" y="1039091"/>
                </a:cubicBezTo>
                <a:cubicBezTo>
                  <a:pt x="2346187" y="1047024"/>
                  <a:pt x="2419927" y="1057564"/>
                  <a:pt x="2493818" y="1066800"/>
                </a:cubicBezTo>
                <a:cubicBezTo>
                  <a:pt x="2590800" y="1094509"/>
                  <a:pt x="2689076" y="1118032"/>
                  <a:pt x="2784763" y="1149928"/>
                </a:cubicBezTo>
                <a:cubicBezTo>
                  <a:pt x="2881745" y="1182255"/>
                  <a:pt x="2975915" y="1224734"/>
                  <a:pt x="3075709" y="1246910"/>
                </a:cubicBezTo>
                <a:cubicBezTo>
                  <a:pt x="3445013" y="1328977"/>
                  <a:pt x="3011764" y="1228212"/>
                  <a:pt x="3283527" y="1302328"/>
                </a:cubicBezTo>
                <a:cubicBezTo>
                  <a:pt x="3404426" y="1335300"/>
                  <a:pt x="3306856" y="1291631"/>
                  <a:pt x="3463636" y="1343891"/>
                </a:cubicBezTo>
                <a:cubicBezTo>
                  <a:pt x="3497002" y="1355013"/>
                  <a:pt x="3526800" y="1375793"/>
                  <a:pt x="3560618" y="1385455"/>
                </a:cubicBezTo>
                <a:cubicBezTo>
                  <a:pt x="3592017" y="1394426"/>
                  <a:pt x="3625669" y="1392468"/>
                  <a:pt x="3657600" y="1399310"/>
                </a:cubicBezTo>
                <a:cubicBezTo>
                  <a:pt x="3889763" y="1449059"/>
                  <a:pt x="3603038" y="1410181"/>
                  <a:pt x="3879272" y="1440873"/>
                </a:cubicBezTo>
                <a:cubicBezTo>
                  <a:pt x="4026229" y="1529048"/>
                  <a:pt x="3870055" y="1431137"/>
                  <a:pt x="4017818" y="1537855"/>
                </a:cubicBezTo>
                <a:cubicBezTo>
                  <a:pt x="4077014" y="1580607"/>
                  <a:pt x="4139511" y="1618734"/>
                  <a:pt x="4197927" y="1662546"/>
                </a:cubicBezTo>
                <a:cubicBezTo>
                  <a:pt x="4250184" y="1701739"/>
                  <a:pt x="4338751" y="1764083"/>
                  <a:pt x="4364182" y="1814946"/>
                </a:cubicBezTo>
                <a:cubicBezTo>
                  <a:pt x="4373418" y="1833419"/>
                  <a:pt x="4383503" y="1851491"/>
                  <a:pt x="4391891" y="1870364"/>
                </a:cubicBezTo>
                <a:cubicBezTo>
                  <a:pt x="4475003" y="2057367"/>
                  <a:pt x="4339068" y="1778832"/>
                  <a:pt x="4475018" y="2064328"/>
                </a:cubicBezTo>
                <a:cubicBezTo>
                  <a:pt x="4501656" y="2120269"/>
                  <a:pt x="4514333" y="2186770"/>
                  <a:pt x="4558145" y="2230582"/>
                </a:cubicBezTo>
                <a:cubicBezTo>
                  <a:pt x="4593326" y="2265763"/>
                  <a:pt x="4604271" y="2271273"/>
                  <a:pt x="4627418" y="2313710"/>
                </a:cubicBezTo>
                <a:cubicBezTo>
                  <a:pt x="4647197" y="2349973"/>
                  <a:pt x="4682836" y="2424546"/>
                  <a:pt x="4682836" y="2424546"/>
                </a:cubicBezTo>
                <a:cubicBezTo>
                  <a:pt x="4687454" y="2516910"/>
                  <a:pt x="4692759" y="2609242"/>
                  <a:pt x="4696691" y="2701637"/>
                </a:cubicBezTo>
                <a:cubicBezTo>
                  <a:pt x="4701996" y="2826301"/>
                  <a:pt x="4698129" y="2951553"/>
                  <a:pt x="4710545" y="3075710"/>
                </a:cubicBezTo>
                <a:cubicBezTo>
                  <a:pt x="4712202" y="3092278"/>
                  <a:pt x="4725462" y="3106613"/>
                  <a:pt x="4738254" y="3117273"/>
                </a:cubicBezTo>
                <a:cubicBezTo>
                  <a:pt x="4781497" y="3153308"/>
                  <a:pt x="4791925" y="3137181"/>
                  <a:pt x="4835236" y="3158837"/>
                </a:cubicBezTo>
                <a:cubicBezTo>
                  <a:pt x="4850129" y="3166284"/>
                  <a:pt x="4862244" y="3178459"/>
                  <a:pt x="4876800" y="3186546"/>
                </a:cubicBezTo>
                <a:cubicBezTo>
                  <a:pt x="5096631" y="3308675"/>
                  <a:pt x="4839277" y="3160858"/>
                  <a:pt x="5029200" y="3255819"/>
                </a:cubicBezTo>
                <a:cubicBezTo>
                  <a:pt x="5160933" y="3321685"/>
                  <a:pt x="4939426" y="3239749"/>
                  <a:pt x="5153891" y="3311237"/>
                </a:cubicBezTo>
                <a:cubicBezTo>
                  <a:pt x="5256810" y="3379850"/>
                  <a:pt x="5218412" y="3366259"/>
                  <a:pt x="5444836" y="3325091"/>
                </a:cubicBezTo>
                <a:cubicBezTo>
                  <a:pt x="5467554" y="3320960"/>
                  <a:pt x="5481337" y="3296770"/>
                  <a:pt x="5500254" y="3283528"/>
                </a:cubicBezTo>
                <a:cubicBezTo>
                  <a:pt x="5571597" y="3233588"/>
                  <a:pt x="5628233" y="3209324"/>
                  <a:pt x="5680363" y="3131128"/>
                </a:cubicBezTo>
                <a:cubicBezTo>
                  <a:pt x="5689599" y="3117273"/>
                  <a:pt x="5700178" y="3104225"/>
                  <a:pt x="5708072" y="3089564"/>
                </a:cubicBezTo>
                <a:cubicBezTo>
                  <a:pt x="5732551" y="3044103"/>
                  <a:pt x="5777345" y="2951019"/>
                  <a:pt x="5777345" y="2951019"/>
                </a:cubicBezTo>
                <a:cubicBezTo>
                  <a:pt x="5772727" y="2858655"/>
                  <a:pt x="5771171" y="2766088"/>
                  <a:pt x="5763491" y="2673928"/>
                </a:cubicBezTo>
                <a:cubicBezTo>
                  <a:pt x="5761910" y="2654953"/>
                  <a:pt x="5757369" y="2635910"/>
                  <a:pt x="5749636" y="2618510"/>
                </a:cubicBezTo>
                <a:cubicBezTo>
                  <a:pt x="5738699" y="2593902"/>
                  <a:pt x="5720967" y="2572877"/>
                  <a:pt x="5708072" y="2549237"/>
                </a:cubicBezTo>
                <a:cubicBezTo>
                  <a:pt x="5684384" y="2505809"/>
                  <a:pt x="5664076" y="2445909"/>
                  <a:pt x="5624945" y="2410691"/>
                </a:cubicBezTo>
                <a:cubicBezTo>
                  <a:pt x="5595416" y="2384115"/>
                  <a:pt x="5558290" y="2367080"/>
                  <a:pt x="5527963" y="2341419"/>
                </a:cubicBezTo>
                <a:cubicBezTo>
                  <a:pt x="5498048" y="2316107"/>
                  <a:pt x="5478438" y="2278452"/>
                  <a:pt x="5444836" y="2258291"/>
                </a:cubicBezTo>
                <a:cubicBezTo>
                  <a:pt x="5421745" y="2244437"/>
                  <a:pt x="5399899" y="2228256"/>
                  <a:pt x="5375563" y="2216728"/>
                </a:cubicBezTo>
                <a:cubicBezTo>
                  <a:pt x="5225719" y="2145749"/>
                  <a:pt x="5218865" y="2146022"/>
                  <a:pt x="5098472" y="2105891"/>
                </a:cubicBezTo>
                <a:cubicBezTo>
                  <a:pt x="4881418" y="2119746"/>
                  <a:pt x="4663372" y="2122524"/>
                  <a:pt x="4447309" y="2147455"/>
                </a:cubicBezTo>
                <a:cubicBezTo>
                  <a:pt x="4420558" y="2150542"/>
                  <a:pt x="4399751" y="2173094"/>
                  <a:pt x="4378036" y="2189019"/>
                </a:cubicBezTo>
                <a:cubicBezTo>
                  <a:pt x="4330344" y="2223993"/>
                  <a:pt x="4281310" y="2258036"/>
                  <a:pt x="4239491" y="2299855"/>
                </a:cubicBezTo>
                <a:lnTo>
                  <a:pt x="4128654" y="2410691"/>
                </a:lnTo>
                <a:cubicBezTo>
                  <a:pt x="3994270" y="2679460"/>
                  <a:pt x="4039555" y="2552662"/>
                  <a:pt x="3976254" y="2784764"/>
                </a:cubicBezTo>
                <a:cubicBezTo>
                  <a:pt x="3967018" y="2863273"/>
                  <a:pt x="3958993" y="2941934"/>
                  <a:pt x="3948545" y="3020291"/>
                </a:cubicBezTo>
                <a:cubicBezTo>
                  <a:pt x="3927477" y="3178302"/>
                  <a:pt x="3905761" y="3176229"/>
                  <a:pt x="3934691" y="3311237"/>
                </a:cubicBezTo>
                <a:cubicBezTo>
                  <a:pt x="3951498" y="3389670"/>
                  <a:pt x="3970636" y="3411435"/>
                  <a:pt x="4017818" y="3477491"/>
                </a:cubicBezTo>
                <a:cubicBezTo>
                  <a:pt x="4094744" y="3585188"/>
                  <a:pt x="4101583" y="3594988"/>
                  <a:pt x="4197927" y="3685310"/>
                </a:cubicBezTo>
                <a:cubicBezTo>
                  <a:pt x="4238497" y="3723344"/>
                  <a:pt x="4277719" y="3763335"/>
                  <a:pt x="4322618" y="3796146"/>
                </a:cubicBezTo>
                <a:cubicBezTo>
                  <a:pt x="4398118" y="3851319"/>
                  <a:pt x="4474937" y="3905875"/>
                  <a:pt x="4558145" y="3948546"/>
                </a:cubicBezTo>
                <a:cubicBezTo>
                  <a:pt x="4787499" y="4066163"/>
                  <a:pt x="4883765" y="4070653"/>
                  <a:pt x="5112327" y="4156364"/>
                </a:cubicBezTo>
                <a:cubicBezTo>
                  <a:pt x="5215111" y="4194908"/>
                  <a:pt x="5313226" y="4245634"/>
                  <a:pt x="5417127" y="4281055"/>
                </a:cubicBezTo>
                <a:cubicBezTo>
                  <a:pt x="5619762" y="4350135"/>
                  <a:pt x="5692828" y="4358891"/>
                  <a:pt x="5874327" y="4391891"/>
                </a:cubicBezTo>
                <a:cubicBezTo>
                  <a:pt x="5962072" y="4368800"/>
                  <a:pt x="6057228" y="4364795"/>
                  <a:pt x="6137563" y="4322619"/>
                </a:cubicBezTo>
                <a:cubicBezTo>
                  <a:pt x="6232363" y="4272849"/>
                  <a:pt x="6459400" y="4087110"/>
                  <a:pt x="6553200" y="3976255"/>
                </a:cubicBezTo>
                <a:cubicBezTo>
                  <a:pt x="6617041" y="3900807"/>
                  <a:pt x="6689110" y="3829127"/>
                  <a:pt x="6733309" y="3740728"/>
                </a:cubicBezTo>
                <a:cubicBezTo>
                  <a:pt x="6751782" y="3703782"/>
                  <a:pt x="6773386" y="3668243"/>
                  <a:pt x="6788727" y="3629891"/>
                </a:cubicBezTo>
                <a:cubicBezTo>
                  <a:pt x="6801213" y="3598675"/>
                  <a:pt x="6802347" y="3563436"/>
                  <a:pt x="6816436" y="3532910"/>
                </a:cubicBezTo>
                <a:cubicBezTo>
                  <a:pt x="6857989" y="3442880"/>
                  <a:pt x="6915922" y="3360813"/>
                  <a:pt x="6954982" y="3269673"/>
                </a:cubicBezTo>
                <a:lnTo>
                  <a:pt x="7079672" y="2978728"/>
                </a:lnTo>
                <a:cubicBezTo>
                  <a:pt x="7093527" y="2890982"/>
                  <a:pt x="7108218" y="2803365"/>
                  <a:pt x="7121236" y="2715491"/>
                </a:cubicBezTo>
                <a:cubicBezTo>
                  <a:pt x="7126693" y="2678660"/>
                  <a:pt x="7135091" y="2641888"/>
                  <a:pt x="7135091" y="2604655"/>
                </a:cubicBezTo>
                <a:cubicBezTo>
                  <a:pt x="7135091" y="2249025"/>
                  <a:pt x="7139220" y="1893030"/>
                  <a:pt x="7121236" y="1537855"/>
                </a:cubicBezTo>
                <a:cubicBezTo>
                  <a:pt x="7120394" y="1521225"/>
                  <a:pt x="7093527" y="1519382"/>
                  <a:pt x="7079672" y="1510146"/>
                </a:cubicBezTo>
                <a:cubicBezTo>
                  <a:pt x="7053319" y="1515416"/>
                  <a:pt x="6997240" y="1523653"/>
                  <a:pt x="6968836" y="1537855"/>
                </a:cubicBezTo>
                <a:cubicBezTo>
                  <a:pt x="6953943" y="1545302"/>
                  <a:pt x="6941127" y="1556328"/>
                  <a:pt x="6927272" y="1565564"/>
                </a:cubicBezTo>
                <a:cubicBezTo>
                  <a:pt x="6922654" y="1551709"/>
                  <a:pt x="6921519" y="1536151"/>
                  <a:pt x="6913418" y="1524000"/>
                </a:cubicBezTo>
                <a:cubicBezTo>
                  <a:pt x="6902550" y="1507697"/>
                  <a:pt x="6873515" y="1501960"/>
                  <a:pt x="6871854" y="1482437"/>
                </a:cubicBezTo>
                <a:cubicBezTo>
                  <a:pt x="6854618" y="1279917"/>
                  <a:pt x="6866641" y="1075906"/>
                  <a:pt x="6858000" y="872837"/>
                </a:cubicBezTo>
                <a:cubicBezTo>
                  <a:pt x="6856938" y="847885"/>
                  <a:pt x="6823348" y="793134"/>
                  <a:pt x="6816436" y="775855"/>
                </a:cubicBezTo>
                <a:cubicBezTo>
                  <a:pt x="6805588" y="748736"/>
                  <a:pt x="6804928" y="717030"/>
                  <a:pt x="6788727" y="692728"/>
                </a:cubicBezTo>
                <a:cubicBezTo>
                  <a:pt x="6722441" y="593297"/>
                  <a:pt x="6756858" y="633148"/>
                  <a:pt x="6691745" y="568037"/>
                </a:cubicBezTo>
                <a:cubicBezTo>
                  <a:pt x="6687127" y="549564"/>
                  <a:pt x="6687138" y="529264"/>
                  <a:pt x="6677891" y="512619"/>
                </a:cubicBezTo>
                <a:cubicBezTo>
                  <a:pt x="6651650" y="465385"/>
                  <a:pt x="6554118" y="374992"/>
                  <a:pt x="6525491" y="346364"/>
                </a:cubicBezTo>
                <a:lnTo>
                  <a:pt x="6442363" y="263237"/>
                </a:lnTo>
                <a:cubicBezTo>
                  <a:pt x="6428508" y="249382"/>
                  <a:pt x="6419808" y="226425"/>
                  <a:pt x="6400800" y="221673"/>
                </a:cubicBezTo>
                <a:lnTo>
                  <a:pt x="6345382" y="207819"/>
                </a:lnTo>
                <a:cubicBezTo>
                  <a:pt x="6306414" y="168853"/>
                  <a:pt x="6297205" y="156021"/>
                  <a:pt x="6234545" y="124691"/>
                </a:cubicBezTo>
                <a:cubicBezTo>
                  <a:pt x="6208421" y="111629"/>
                  <a:pt x="6178379" y="108216"/>
                  <a:pt x="6151418" y="96982"/>
                </a:cubicBezTo>
                <a:cubicBezTo>
                  <a:pt x="6122821" y="85067"/>
                  <a:pt x="6097206" y="66540"/>
                  <a:pt x="6068291" y="55419"/>
                </a:cubicBezTo>
                <a:cubicBezTo>
                  <a:pt x="5994370" y="26988"/>
                  <a:pt x="5962636" y="27393"/>
                  <a:pt x="5888182" y="13855"/>
                </a:cubicBezTo>
                <a:cubicBezTo>
                  <a:pt x="5865014" y="9642"/>
                  <a:pt x="5842000" y="4618"/>
                  <a:pt x="5818909" y="0"/>
                </a:cubicBezTo>
                <a:cubicBezTo>
                  <a:pt x="5731163" y="4618"/>
                  <a:pt x="5643209" y="6243"/>
                  <a:pt x="5555672" y="13855"/>
                </a:cubicBezTo>
                <a:cubicBezTo>
                  <a:pt x="5495054" y="19126"/>
                  <a:pt x="5476847" y="45385"/>
                  <a:pt x="5417127" y="69273"/>
                </a:cubicBezTo>
                <a:cubicBezTo>
                  <a:pt x="5399448" y="76345"/>
                  <a:pt x="5380182" y="78510"/>
                  <a:pt x="5361709" y="83128"/>
                </a:cubicBezTo>
                <a:cubicBezTo>
                  <a:pt x="5343236" y="101601"/>
                  <a:pt x="5325817" y="121190"/>
                  <a:pt x="5306291" y="138546"/>
                </a:cubicBezTo>
                <a:cubicBezTo>
                  <a:pt x="5284189" y="158192"/>
                  <a:pt x="5257928" y="173054"/>
                  <a:pt x="5237018" y="193964"/>
                </a:cubicBezTo>
                <a:cubicBezTo>
                  <a:pt x="5215068" y="215914"/>
                  <a:pt x="5165618" y="293734"/>
                  <a:pt x="5153891" y="318655"/>
                </a:cubicBezTo>
                <a:cubicBezTo>
                  <a:pt x="5128328" y="372977"/>
                  <a:pt x="5084618" y="484910"/>
                  <a:pt x="5084618" y="484910"/>
                </a:cubicBezTo>
                <a:cubicBezTo>
                  <a:pt x="5046338" y="714582"/>
                  <a:pt x="5101306" y="373604"/>
                  <a:pt x="5056909" y="706582"/>
                </a:cubicBezTo>
                <a:cubicBezTo>
                  <a:pt x="5036714" y="858046"/>
                  <a:pt x="5043054" y="682992"/>
                  <a:pt x="5043054" y="872837"/>
                </a:cubicBezTo>
              </a:path>
            </a:pathLst>
          </a:custGeom>
          <a:noFill/>
          <a:ln cap="rnd"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лилиния 12"/>
          <p:cNvSpPr/>
          <p:nvPr/>
        </p:nvSpPr>
        <p:spPr>
          <a:xfrm>
            <a:off x="774720" y="1523880"/>
            <a:ext cx="4462560" cy="4349880"/>
          </a:xfrm>
          <a:custGeom>
            <a:avLst/>
            <a:gdLst/>
            <a:ahLst/>
            <a:rect l="l" t="t" r="r" b="b"/>
            <a:pathLst>
              <a:path w="4462409" h="4350327">
                <a:moveTo>
                  <a:pt x="222918" y="3117273"/>
                </a:moveTo>
                <a:cubicBezTo>
                  <a:pt x="232154" y="3131127"/>
                  <a:pt x="248970" y="3142268"/>
                  <a:pt x="250627" y="3158836"/>
                </a:cubicBezTo>
                <a:cubicBezTo>
                  <a:pt x="251188" y="3164451"/>
                  <a:pt x="239729" y="3272165"/>
                  <a:pt x="222918" y="3297382"/>
                </a:cubicBezTo>
                <a:cubicBezTo>
                  <a:pt x="212050" y="3313684"/>
                  <a:pt x="193111" y="3323271"/>
                  <a:pt x="181355" y="3338945"/>
                </a:cubicBezTo>
                <a:cubicBezTo>
                  <a:pt x="106159" y="3439206"/>
                  <a:pt x="177696" y="3382949"/>
                  <a:pt x="98227" y="3435927"/>
                </a:cubicBezTo>
                <a:cubicBezTo>
                  <a:pt x="79198" y="3464471"/>
                  <a:pt x="40892" y="3520503"/>
                  <a:pt x="28955" y="3546764"/>
                </a:cubicBezTo>
                <a:cubicBezTo>
                  <a:pt x="16869" y="3573354"/>
                  <a:pt x="10482" y="3602182"/>
                  <a:pt x="1246" y="3629891"/>
                </a:cubicBezTo>
                <a:cubicBezTo>
                  <a:pt x="5864" y="3703782"/>
                  <a:pt x="0" y="3779085"/>
                  <a:pt x="15100" y="3851564"/>
                </a:cubicBezTo>
                <a:cubicBezTo>
                  <a:pt x="28297" y="3914910"/>
                  <a:pt x="65494" y="3964032"/>
                  <a:pt x="112082" y="4003964"/>
                </a:cubicBezTo>
                <a:cubicBezTo>
                  <a:pt x="129614" y="4018991"/>
                  <a:pt x="146399" y="4036149"/>
                  <a:pt x="167500" y="4045527"/>
                </a:cubicBezTo>
                <a:cubicBezTo>
                  <a:pt x="189019" y="4055091"/>
                  <a:pt x="213682" y="4054764"/>
                  <a:pt x="236773" y="4059382"/>
                </a:cubicBezTo>
                <a:cubicBezTo>
                  <a:pt x="264482" y="4073236"/>
                  <a:pt x="290985" y="4089824"/>
                  <a:pt x="319900" y="4100945"/>
                </a:cubicBezTo>
                <a:cubicBezTo>
                  <a:pt x="402103" y="4132562"/>
                  <a:pt x="439533" y="4131486"/>
                  <a:pt x="527718" y="4142509"/>
                </a:cubicBezTo>
                <a:cubicBezTo>
                  <a:pt x="647791" y="4119418"/>
                  <a:pt x="781773" y="4133900"/>
                  <a:pt x="887936" y="4073236"/>
                </a:cubicBezTo>
                <a:cubicBezTo>
                  <a:pt x="920263" y="4054763"/>
                  <a:pt x="951616" y="4034469"/>
                  <a:pt x="984918" y="4017818"/>
                </a:cubicBezTo>
                <a:cubicBezTo>
                  <a:pt x="1016376" y="4002089"/>
                  <a:pt x="1051363" y="3993705"/>
                  <a:pt x="1081900" y="3976255"/>
                </a:cubicBezTo>
                <a:cubicBezTo>
                  <a:pt x="1116393" y="3956545"/>
                  <a:pt x="1147324" y="3931114"/>
                  <a:pt x="1178882" y="3906982"/>
                </a:cubicBezTo>
                <a:cubicBezTo>
                  <a:pt x="1206334" y="3885989"/>
                  <a:pt x="1333691" y="3791068"/>
                  <a:pt x="1372846" y="3740727"/>
                </a:cubicBezTo>
                <a:cubicBezTo>
                  <a:pt x="1399679" y="3706228"/>
                  <a:pt x="1437650" y="3624973"/>
                  <a:pt x="1455973" y="3588327"/>
                </a:cubicBezTo>
                <a:cubicBezTo>
                  <a:pt x="1474697" y="3438529"/>
                  <a:pt x="1490301" y="3365052"/>
                  <a:pt x="1455973" y="3186545"/>
                </a:cubicBezTo>
                <a:cubicBezTo>
                  <a:pt x="1450389" y="3157507"/>
                  <a:pt x="1420201" y="3139374"/>
                  <a:pt x="1400555" y="3117273"/>
                </a:cubicBezTo>
                <a:cubicBezTo>
                  <a:pt x="1372864" y="3086121"/>
                  <a:pt x="1327096" y="3041650"/>
                  <a:pt x="1289718" y="3020291"/>
                </a:cubicBezTo>
                <a:cubicBezTo>
                  <a:pt x="1274255" y="3011455"/>
                  <a:pt x="1204739" y="2995582"/>
                  <a:pt x="1192736" y="2992582"/>
                </a:cubicBezTo>
                <a:cubicBezTo>
                  <a:pt x="1165027" y="2997200"/>
                  <a:pt x="1136752" y="2999198"/>
                  <a:pt x="1109609" y="3006436"/>
                </a:cubicBezTo>
                <a:cubicBezTo>
                  <a:pt x="1067276" y="3017725"/>
                  <a:pt x="984918" y="3048000"/>
                  <a:pt x="984918" y="3048000"/>
                </a:cubicBezTo>
                <a:cubicBezTo>
                  <a:pt x="914261" y="3153986"/>
                  <a:pt x="1011162" y="3023527"/>
                  <a:pt x="901791" y="3117273"/>
                </a:cubicBezTo>
                <a:cubicBezTo>
                  <a:pt x="884259" y="3132300"/>
                  <a:pt x="874082" y="3154218"/>
                  <a:pt x="860227" y="3172691"/>
                </a:cubicBezTo>
                <a:cubicBezTo>
                  <a:pt x="825987" y="3275411"/>
                  <a:pt x="845580" y="3229694"/>
                  <a:pt x="804809" y="3311236"/>
                </a:cubicBezTo>
                <a:cubicBezTo>
                  <a:pt x="800191" y="3343563"/>
                  <a:pt x="797359" y="3376197"/>
                  <a:pt x="790955" y="3408218"/>
                </a:cubicBezTo>
                <a:cubicBezTo>
                  <a:pt x="788091" y="3422539"/>
                  <a:pt x="777100" y="3435178"/>
                  <a:pt x="777100" y="3449782"/>
                </a:cubicBezTo>
                <a:cubicBezTo>
                  <a:pt x="777100" y="3523817"/>
                  <a:pt x="783588" y="3597787"/>
                  <a:pt x="790955" y="3671455"/>
                </a:cubicBezTo>
                <a:cubicBezTo>
                  <a:pt x="794262" y="3704529"/>
                  <a:pt x="819390" y="3769888"/>
                  <a:pt x="832518" y="3796145"/>
                </a:cubicBezTo>
                <a:cubicBezTo>
                  <a:pt x="839965" y="3811038"/>
                  <a:pt x="852780" y="3822816"/>
                  <a:pt x="860227" y="3837709"/>
                </a:cubicBezTo>
                <a:cubicBezTo>
                  <a:pt x="891930" y="3901116"/>
                  <a:pt x="848645" y="3867690"/>
                  <a:pt x="915646" y="3934691"/>
                </a:cubicBezTo>
                <a:cubicBezTo>
                  <a:pt x="927420" y="3946465"/>
                  <a:pt x="943660" y="3952722"/>
                  <a:pt x="957209" y="3962400"/>
                </a:cubicBezTo>
                <a:cubicBezTo>
                  <a:pt x="975999" y="3975821"/>
                  <a:pt x="992682" y="3992329"/>
                  <a:pt x="1012627" y="4003964"/>
                </a:cubicBezTo>
                <a:cubicBezTo>
                  <a:pt x="1048307" y="4024777"/>
                  <a:pt x="1089095" y="4036469"/>
                  <a:pt x="1123464" y="4059382"/>
                </a:cubicBezTo>
                <a:cubicBezTo>
                  <a:pt x="1137318" y="4068618"/>
                  <a:pt x="1149436" y="4081245"/>
                  <a:pt x="1165027" y="4087091"/>
                </a:cubicBezTo>
                <a:cubicBezTo>
                  <a:pt x="1187076" y="4095359"/>
                  <a:pt x="1211312" y="4095837"/>
                  <a:pt x="1234300" y="4100945"/>
                </a:cubicBezTo>
                <a:cubicBezTo>
                  <a:pt x="1286485" y="4112542"/>
                  <a:pt x="1285000" y="4113227"/>
                  <a:pt x="1331282" y="4128655"/>
                </a:cubicBezTo>
                <a:cubicBezTo>
                  <a:pt x="1423646" y="4124037"/>
                  <a:pt x="1517055" y="4129411"/>
                  <a:pt x="1608373" y="4114800"/>
                </a:cubicBezTo>
                <a:cubicBezTo>
                  <a:pt x="1634963" y="4110545"/>
                  <a:pt x="1653038" y="4084173"/>
                  <a:pt x="1677646" y="4073236"/>
                </a:cubicBezTo>
                <a:cubicBezTo>
                  <a:pt x="1695046" y="4065503"/>
                  <a:pt x="1714591" y="4064000"/>
                  <a:pt x="1733064" y="4059382"/>
                </a:cubicBezTo>
                <a:cubicBezTo>
                  <a:pt x="1742300" y="4045527"/>
                  <a:pt x="1748999" y="4029592"/>
                  <a:pt x="1760773" y="4017818"/>
                </a:cubicBezTo>
                <a:cubicBezTo>
                  <a:pt x="1780357" y="3998234"/>
                  <a:pt x="1836021" y="3973267"/>
                  <a:pt x="1857755" y="3962400"/>
                </a:cubicBezTo>
                <a:cubicBezTo>
                  <a:pt x="1871609" y="3948545"/>
                  <a:pt x="1883852" y="3932865"/>
                  <a:pt x="1899318" y="3920836"/>
                </a:cubicBezTo>
                <a:cubicBezTo>
                  <a:pt x="1925605" y="3900390"/>
                  <a:pt x="1958898" y="3888966"/>
                  <a:pt x="1982446" y="3865418"/>
                </a:cubicBezTo>
                <a:cubicBezTo>
                  <a:pt x="2014773" y="3833091"/>
                  <a:pt x="2050867" y="3804135"/>
                  <a:pt x="2079427" y="3768436"/>
                </a:cubicBezTo>
                <a:cubicBezTo>
                  <a:pt x="2145248" y="3686162"/>
                  <a:pt x="2118443" y="3723768"/>
                  <a:pt x="2162555" y="3657600"/>
                </a:cubicBezTo>
                <a:lnTo>
                  <a:pt x="2190264" y="3546764"/>
                </a:lnTo>
                <a:cubicBezTo>
                  <a:pt x="2194882" y="3528291"/>
                  <a:pt x="2198097" y="3509409"/>
                  <a:pt x="2204118" y="3491345"/>
                </a:cubicBezTo>
                <a:cubicBezTo>
                  <a:pt x="2213354" y="3463636"/>
                  <a:pt x="2224142" y="3436397"/>
                  <a:pt x="2231827" y="3408218"/>
                </a:cubicBezTo>
                <a:cubicBezTo>
                  <a:pt x="2238023" y="3385499"/>
                  <a:pt x="2239971" y="3361790"/>
                  <a:pt x="2245682" y="3338945"/>
                </a:cubicBezTo>
                <a:cubicBezTo>
                  <a:pt x="2253836" y="3306328"/>
                  <a:pt x="2264155" y="3274291"/>
                  <a:pt x="2273391" y="3241964"/>
                </a:cubicBezTo>
                <a:cubicBezTo>
                  <a:pt x="2264155" y="3001818"/>
                  <a:pt x="2261155" y="2761352"/>
                  <a:pt x="2245682" y="2521527"/>
                </a:cubicBezTo>
                <a:cubicBezTo>
                  <a:pt x="2241894" y="2462810"/>
                  <a:pt x="2214479" y="2360392"/>
                  <a:pt x="2190264" y="2299855"/>
                </a:cubicBezTo>
                <a:cubicBezTo>
                  <a:pt x="2181028" y="2276764"/>
                  <a:pt x="2174633" y="2252322"/>
                  <a:pt x="2162555" y="2230582"/>
                </a:cubicBezTo>
                <a:cubicBezTo>
                  <a:pt x="2151341" y="2210397"/>
                  <a:pt x="2132205" y="2195349"/>
                  <a:pt x="2120991" y="2175164"/>
                </a:cubicBezTo>
                <a:cubicBezTo>
                  <a:pt x="2108913" y="2153424"/>
                  <a:pt x="2103383" y="2128617"/>
                  <a:pt x="2093282" y="2105891"/>
                </a:cubicBezTo>
                <a:cubicBezTo>
                  <a:pt x="2084894" y="2087018"/>
                  <a:pt x="2072825" y="2069811"/>
                  <a:pt x="2065573" y="2050473"/>
                </a:cubicBezTo>
                <a:cubicBezTo>
                  <a:pt x="2058887" y="2032644"/>
                  <a:pt x="2059219" y="2012557"/>
                  <a:pt x="2051718" y="1995055"/>
                </a:cubicBezTo>
                <a:cubicBezTo>
                  <a:pt x="2044965" y="1979298"/>
                  <a:pt x="1987178" y="1904382"/>
                  <a:pt x="1982446" y="1898073"/>
                </a:cubicBezTo>
                <a:cubicBezTo>
                  <a:pt x="1958097" y="1825029"/>
                  <a:pt x="1984683" y="1884132"/>
                  <a:pt x="1927027" y="1814945"/>
                </a:cubicBezTo>
                <a:cubicBezTo>
                  <a:pt x="1869300" y="1745673"/>
                  <a:pt x="1933954" y="1796473"/>
                  <a:pt x="1857755" y="1745673"/>
                </a:cubicBezTo>
                <a:cubicBezTo>
                  <a:pt x="1848519" y="1731818"/>
                  <a:pt x="1840448" y="1717111"/>
                  <a:pt x="1830046" y="1704109"/>
                </a:cubicBezTo>
                <a:cubicBezTo>
                  <a:pt x="1821886" y="1693909"/>
                  <a:pt x="1809057" y="1687601"/>
                  <a:pt x="1802336" y="1676400"/>
                </a:cubicBezTo>
                <a:cubicBezTo>
                  <a:pt x="1794822" y="1663877"/>
                  <a:pt x="1794235" y="1648259"/>
                  <a:pt x="1788482" y="1634836"/>
                </a:cubicBezTo>
                <a:cubicBezTo>
                  <a:pt x="1780346" y="1615853"/>
                  <a:pt x="1771020" y="1597350"/>
                  <a:pt x="1760773" y="1579418"/>
                </a:cubicBezTo>
                <a:cubicBezTo>
                  <a:pt x="1748243" y="1557491"/>
                  <a:pt x="1704241" y="1497301"/>
                  <a:pt x="1691500" y="1482436"/>
                </a:cubicBezTo>
                <a:cubicBezTo>
                  <a:pt x="1678749" y="1467560"/>
                  <a:pt x="1662479" y="1455925"/>
                  <a:pt x="1649936" y="1440873"/>
                </a:cubicBezTo>
                <a:cubicBezTo>
                  <a:pt x="1593395" y="1373024"/>
                  <a:pt x="1518230" y="1256087"/>
                  <a:pt x="1442118" y="1205345"/>
                </a:cubicBezTo>
                <a:cubicBezTo>
                  <a:pt x="1357055" y="1148636"/>
                  <a:pt x="1444332" y="1210745"/>
                  <a:pt x="1358991" y="1136073"/>
                </a:cubicBezTo>
                <a:cubicBezTo>
                  <a:pt x="1336737" y="1116601"/>
                  <a:pt x="1312170" y="1099900"/>
                  <a:pt x="1289718" y="1080655"/>
                </a:cubicBezTo>
                <a:cubicBezTo>
                  <a:pt x="1279800" y="1072154"/>
                  <a:pt x="1272877" y="1060191"/>
                  <a:pt x="1262009" y="1052945"/>
                </a:cubicBezTo>
                <a:cubicBezTo>
                  <a:pt x="1203041" y="1013632"/>
                  <a:pt x="1214630" y="1040044"/>
                  <a:pt x="1165027" y="997527"/>
                </a:cubicBezTo>
                <a:cubicBezTo>
                  <a:pt x="1145192" y="980526"/>
                  <a:pt x="1129027" y="959585"/>
                  <a:pt x="1109609" y="942109"/>
                </a:cubicBezTo>
                <a:cubicBezTo>
                  <a:pt x="1082799" y="917980"/>
                  <a:pt x="1053440" y="896799"/>
                  <a:pt x="1026482" y="872836"/>
                </a:cubicBezTo>
                <a:cubicBezTo>
                  <a:pt x="1011838" y="859819"/>
                  <a:pt x="1000593" y="843029"/>
                  <a:pt x="984918" y="831273"/>
                </a:cubicBezTo>
                <a:cubicBezTo>
                  <a:pt x="963375" y="815116"/>
                  <a:pt x="938737" y="803564"/>
                  <a:pt x="915646" y="789709"/>
                </a:cubicBezTo>
                <a:cubicBezTo>
                  <a:pt x="897173" y="766618"/>
                  <a:pt x="876630" y="745041"/>
                  <a:pt x="860227" y="720436"/>
                </a:cubicBezTo>
                <a:cubicBezTo>
                  <a:pt x="841926" y="692984"/>
                  <a:pt x="797848" y="582806"/>
                  <a:pt x="790955" y="568036"/>
                </a:cubicBezTo>
                <a:cubicBezTo>
                  <a:pt x="704734" y="383277"/>
                  <a:pt x="758190" y="532714"/>
                  <a:pt x="693973" y="318655"/>
                </a:cubicBezTo>
                <a:cubicBezTo>
                  <a:pt x="689355" y="281709"/>
                  <a:pt x="686778" y="244451"/>
                  <a:pt x="680118" y="207818"/>
                </a:cubicBezTo>
                <a:cubicBezTo>
                  <a:pt x="677506" y="193450"/>
                  <a:pt x="666264" y="180859"/>
                  <a:pt x="666264" y="166255"/>
                </a:cubicBezTo>
                <a:cubicBezTo>
                  <a:pt x="666264" y="119151"/>
                  <a:pt x="685798" y="96185"/>
                  <a:pt x="721682" y="69273"/>
                </a:cubicBezTo>
                <a:cubicBezTo>
                  <a:pt x="743225" y="53116"/>
                  <a:pt x="765952" y="37710"/>
                  <a:pt x="790955" y="27709"/>
                </a:cubicBezTo>
                <a:cubicBezTo>
                  <a:pt x="812819" y="18964"/>
                  <a:pt x="837240" y="18963"/>
                  <a:pt x="860227" y="13855"/>
                </a:cubicBezTo>
                <a:cubicBezTo>
                  <a:pt x="878815" y="9724"/>
                  <a:pt x="897173" y="4618"/>
                  <a:pt x="915646" y="0"/>
                </a:cubicBezTo>
                <a:cubicBezTo>
                  <a:pt x="1063428" y="13855"/>
                  <a:pt x="1211830" y="22201"/>
                  <a:pt x="1358991" y="41564"/>
                </a:cubicBezTo>
                <a:cubicBezTo>
                  <a:pt x="1387949" y="45374"/>
                  <a:pt x="1414711" y="59176"/>
                  <a:pt x="1442118" y="69273"/>
                </a:cubicBezTo>
                <a:cubicBezTo>
                  <a:pt x="1502476" y="91510"/>
                  <a:pt x="1559824" y="122944"/>
                  <a:pt x="1622227" y="138545"/>
                </a:cubicBezTo>
                <a:cubicBezTo>
                  <a:pt x="1701773" y="158432"/>
                  <a:pt x="1659966" y="145328"/>
                  <a:pt x="1746918" y="180109"/>
                </a:cubicBezTo>
                <a:cubicBezTo>
                  <a:pt x="1794449" y="227640"/>
                  <a:pt x="1795734" y="231985"/>
                  <a:pt x="1857755" y="277091"/>
                </a:cubicBezTo>
                <a:cubicBezTo>
                  <a:pt x="1884688" y="296678"/>
                  <a:pt x="1913173" y="314036"/>
                  <a:pt x="1940882" y="332509"/>
                </a:cubicBezTo>
                <a:cubicBezTo>
                  <a:pt x="1968591" y="350982"/>
                  <a:pt x="1998004" y="367123"/>
                  <a:pt x="2024009" y="387927"/>
                </a:cubicBezTo>
                <a:cubicBezTo>
                  <a:pt x="2047100" y="406400"/>
                  <a:pt x="2071028" y="423873"/>
                  <a:pt x="2093282" y="443345"/>
                </a:cubicBezTo>
                <a:cubicBezTo>
                  <a:pt x="2159711" y="501470"/>
                  <a:pt x="2152617" y="528432"/>
                  <a:pt x="2259536" y="581891"/>
                </a:cubicBezTo>
                <a:cubicBezTo>
                  <a:pt x="2278009" y="591127"/>
                  <a:pt x="2297023" y="599353"/>
                  <a:pt x="2314955" y="609600"/>
                </a:cubicBezTo>
                <a:cubicBezTo>
                  <a:pt x="2329412" y="617861"/>
                  <a:pt x="2341429" y="630268"/>
                  <a:pt x="2356518" y="637309"/>
                </a:cubicBezTo>
                <a:cubicBezTo>
                  <a:pt x="2468856" y="689734"/>
                  <a:pt x="2482211" y="693062"/>
                  <a:pt x="2564336" y="720436"/>
                </a:cubicBezTo>
                <a:cubicBezTo>
                  <a:pt x="2702882" y="715818"/>
                  <a:pt x="2841604" y="714968"/>
                  <a:pt x="2979973" y="706582"/>
                </a:cubicBezTo>
                <a:cubicBezTo>
                  <a:pt x="3027234" y="703718"/>
                  <a:pt x="3028503" y="679995"/>
                  <a:pt x="3063100" y="651164"/>
                </a:cubicBezTo>
                <a:cubicBezTo>
                  <a:pt x="3075892" y="640504"/>
                  <a:pt x="3091872" y="634115"/>
                  <a:pt x="3104664" y="623455"/>
                </a:cubicBezTo>
                <a:cubicBezTo>
                  <a:pt x="3144666" y="590120"/>
                  <a:pt x="3146692" y="581194"/>
                  <a:pt x="3173936" y="540327"/>
                </a:cubicBezTo>
                <a:cubicBezTo>
                  <a:pt x="3321712" y="761990"/>
                  <a:pt x="3127762" y="494158"/>
                  <a:pt x="3312482" y="678873"/>
                </a:cubicBezTo>
                <a:cubicBezTo>
                  <a:pt x="3326337" y="692727"/>
                  <a:pt x="3335458" y="714240"/>
                  <a:pt x="3354046" y="720436"/>
                </a:cubicBezTo>
                <a:cubicBezTo>
                  <a:pt x="3393719" y="733660"/>
                  <a:pt x="3437173" y="729673"/>
                  <a:pt x="3478736" y="734291"/>
                </a:cubicBezTo>
                <a:cubicBezTo>
                  <a:pt x="3571100" y="729673"/>
                  <a:pt x="3663696" y="728447"/>
                  <a:pt x="3755827" y="720436"/>
                </a:cubicBezTo>
                <a:cubicBezTo>
                  <a:pt x="3770376" y="719171"/>
                  <a:pt x="3783717" y="711710"/>
                  <a:pt x="3797391" y="706582"/>
                </a:cubicBezTo>
                <a:cubicBezTo>
                  <a:pt x="3820677" y="697850"/>
                  <a:pt x="3843292" y="687372"/>
                  <a:pt x="3866664" y="678873"/>
                </a:cubicBezTo>
                <a:cubicBezTo>
                  <a:pt x="3959099" y="645260"/>
                  <a:pt x="3960437" y="652539"/>
                  <a:pt x="4060627" y="609600"/>
                </a:cubicBezTo>
                <a:cubicBezTo>
                  <a:pt x="4089102" y="597396"/>
                  <a:pt x="4115372" y="580453"/>
                  <a:pt x="4143755" y="568036"/>
                </a:cubicBezTo>
                <a:cubicBezTo>
                  <a:pt x="4189324" y="548100"/>
                  <a:pt x="4239649" y="538208"/>
                  <a:pt x="4282300" y="512618"/>
                </a:cubicBezTo>
                <a:lnTo>
                  <a:pt x="4420846" y="429491"/>
                </a:lnTo>
                <a:cubicBezTo>
                  <a:pt x="4430082" y="411018"/>
                  <a:pt x="4448555" y="394726"/>
                  <a:pt x="4448555" y="374073"/>
                </a:cubicBezTo>
                <a:cubicBezTo>
                  <a:pt x="4448555" y="335965"/>
                  <a:pt x="4421330" y="299646"/>
                  <a:pt x="4393136" y="277091"/>
                </a:cubicBezTo>
                <a:cubicBezTo>
                  <a:pt x="4380134" y="266689"/>
                  <a:pt x="4366466" y="256829"/>
                  <a:pt x="4351573" y="249382"/>
                </a:cubicBezTo>
                <a:cubicBezTo>
                  <a:pt x="4338511" y="242851"/>
                  <a:pt x="4323864" y="240145"/>
                  <a:pt x="4310009" y="235527"/>
                </a:cubicBezTo>
                <a:cubicBezTo>
                  <a:pt x="4254591" y="244763"/>
                  <a:pt x="4198846" y="252218"/>
                  <a:pt x="4143755" y="263236"/>
                </a:cubicBezTo>
                <a:cubicBezTo>
                  <a:pt x="4129434" y="266100"/>
                  <a:pt x="4114512" y="269250"/>
                  <a:pt x="4102191" y="277091"/>
                </a:cubicBezTo>
                <a:cubicBezTo>
                  <a:pt x="4063229" y="301885"/>
                  <a:pt x="3991355" y="360218"/>
                  <a:pt x="3991355" y="360218"/>
                </a:cubicBezTo>
                <a:cubicBezTo>
                  <a:pt x="3977500" y="383309"/>
                  <a:pt x="3964728" y="407085"/>
                  <a:pt x="3949791" y="429491"/>
                </a:cubicBezTo>
                <a:cubicBezTo>
                  <a:pt x="3936982" y="448704"/>
                  <a:pt x="3919683" y="464860"/>
                  <a:pt x="3908227" y="484909"/>
                </a:cubicBezTo>
                <a:cubicBezTo>
                  <a:pt x="3900981" y="497589"/>
                  <a:pt x="3900126" y="513050"/>
                  <a:pt x="3894373" y="526473"/>
                </a:cubicBezTo>
                <a:cubicBezTo>
                  <a:pt x="3843008" y="646327"/>
                  <a:pt x="3885305" y="525971"/>
                  <a:pt x="3852809" y="623455"/>
                </a:cubicBezTo>
                <a:cubicBezTo>
                  <a:pt x="3857427" y="711200"/>
                  <a:pt x="3858709" y="799185"/>
                  <a:pt x="3866664" y="886691"/>
                </a:cubicBezTo>
                <a:cubicBezTo>
                  <a:pt x="3869102" y="913507"/>
                  <a:pt x="3891437" y="950929"/>
                  <a:pt x="3908227" y="969818"/>
                </a:cubicBezTo>
                <a:cubicBezTo>
                  <a:pt x="4001247" y="1074465"/>
                  <a:pt x="3958789" y="1031775"/>
                  <a:pt x="4046773" y="1080655"/>
                </a:cubicBezTo>
                <a:cubicBezTo>
                  <a:pt x="4070313" y="1093733"/>
                  <a:pt x="4092406" y="1109323"/>
                  <a:pt x="4116046" y="1122218"/>
                </a:cubicBezTo>
                <a:cubicBezTo>
                  <a:pt x="4191627" y="1163444"/>
                  <a:pt x="4179497" y="1157224"/>
                  <a:pt x="4240736" y="1177636"/>
                </a:cubicBezTo>
                <a:cubicBezTo>
                  <a:pt x="4286918" y="1214582"/>
                  <a:pt x="4337462" y="1246654"/>
                  <a:pt x="4379282" y="1288473"/>
                </a:cubicBezTo>
                <a:cubicBezTo>
                  <a:pt x="4393137" y="1302327"/>
                  <a:pt x="4409090" y="1314361"/>
                  <a:pt x="4420846" y="1330036"/>
                </a:cubicBezTo>
                <a:cubicBezTo>
                  <a:pt x="4437003" y="1351579"/>
                  <a:pt x="4448555" y="1376218"/>
                  <a:pt x="4462409" y="1399309"/>
                </a:cubicBezTo>
                <a:cubicBezTo>
                  <a:pt x="4457791" y="1468582"/>
                  <a:pt x="4453684" y="1537890"/>
                  <a:pt x="4448555" y="1607127"/>
                </a:cubicBezTo>
                <a:cubicBezTo>
                  <a:pt x="4444447" y="1662585"/>
                  <a:pt x="4442050" y="1718259"/>
                  <a:pt x="4434700" y="1773382"/>
                </a:cubicBezTo>
                <a:cubicBezTo>
                  <a:pt x="4432770" y="1787858"/>
                  <a:pt x="4428947" y="1802794"/>
                  <a:pt x="4420846" y="1814945"/>
                </a:cubicBezTo>
                <a:cubicBezTo>
                  <a:pt x="4409978" y="1831248"/>
                  <a:pt x="4393137" y="1842654"/>
                  <a:pt x="4379282" y="1856509"/>
                </a:cubicBezTo>
                <a:cubicBezTo>
                  <a:pt x="4306755" y="2037828"/>
                  <a:pt x="4398735" y="1834255"/>
                  <a:pt x="4310009" y="1967345"/>
                </a:cubicBezTo>
                <a:cubicBezTo>
                  <a:pt x="4292825" y="1993122"/>
                  <a:pt x="4283690" y="2023503"/>
                  <a:pt x="4268446" y="2050473"/>
                </a:cubicBezTo>
                <a:cubicBezTo>
                  <a:pt x="4223627" y="2129768"/>
                  <a:pt x="4184551" y="2213132"/>
                  <a:pt x="4129900" y="2286000"/>
                </a:cubicBezTo>
                <a:cubicBezTo>
                  <a:pt x="4102191" y="2322945"/>
                  <a:pt x="4072936" y="2358780"/>
                  <a:pt x="4046773" y="2396836"/>
                </a:cubicBezTo>
                <a:cubicBezTo>
                  <a:pt x="3956802" y="2527704"/>
                  <a:pt x="4002498" y="2484674"/>
                  <a:pt x="3908227" y="2604655"/>
                </a:cubicBezTo>
                <a:cubicBezTo>
                  <a:pt x="3881922" y="2638134"/>
                  <a:pt x="3851341" y="2668106"/>
                  <a:pt x="3825100" y="2701636"/>
                </a:cubicBezTo>
                <a:cubicBezTo>
                  <a:pt x="3768176" y="2774373"/>
                  <a:pt x="3714734" y="2849773"/>
                  <a:pt x="3658846" y="2923309"/>
                </a:cubicBezTo>
                <a:cubicBezTo>
                  <a:pt x="3626985" y="2965231"/>
                  <a:pt x="3583249" y="2999883"/>
                  <a:pt x="3561864" y="3048000"/>
                </a:cubicBezTo>
                <a:cubicBezTo>
                  <a:pt x="3514352" y="3154902"/>
                  <a:pt x="3490377" y="3194688"/>
                  <a:pt x="3464882" y="3311236"/>
                </a:cubicBezTo>
                <a:cubicBezTo>
                  <a:pt x="3442814" y="3412116"/>
                  <a:pt x="3409464" y="3616036"/>
                  <a:pt x="3409464" y="3616036"/>
                </a:cubicBezTo>
                <a:cubicBezTo>
                  <a:pt x="3414082" y="3699163"/>
                  <a:pt x="3410658" y="3783131"/>
                  <a:pt x="3423318" y="3865418"/>
                </a:cubicBezTo>
                <a:cubicBezTo>
                  <a:pt x="3435298" y="3943286"/>
                  <a:pt x="3471223" y="3982127"/>
                  <a:pt x="3506446" y="4045527"/>
                </a:cubicBezTo>
                <a:cubicBezTo>
                  <a:pt x="3516476" y="4063581"/>
                  <a:pt x="3524125" y="4082891"/>
                  <a:pt x="3534155" y="4100945"/>
                </a:cubicBezTo>
                <a:cubicBezTo>
                  <a:pt x="3556938" y="4141955"/>
                  <a:pt x="3596225" y="4208071"/>
                  <a:pt x="3631136" y="4239491"/>
                </a:cubicBezTo>
                <a:cubicBezTo>
                  <a:pt x="3690077" y="4292537"/>
                  <a:pt x="3710135" y="4288591"/>
                  <a:pt x="3769682" y="4322618"/>
                </a:cubicBezTo>
                <a:cubicBezTo>
                  <a:pt x="3784139" y="4330879"/>
                  <a:pt x="3797391" y="4341091"/>
                  <a:pt x="3811246" y="4350327"/>
                </a:cubicBezTo>
                <a:cubicBezTo>
                  <a:pt x="3885137" y="4345709"/>
                  <a:pt x="3960191" y="4350326"/>
                  <a:pt x="4032918" y="4336473"/>
                </a:cubicBezTo>
                <a:cubicBezTo>
                  <a:pt x="4059371" y="4331434"/>
                  <a:pt x="4079785" y="4309846"/>
                  <a:pt x="4102191" y="4294909"/>
                </a:cubicBezTo>
                <a:cubicBezTo>
                  <a:pt x="4144323" y="4266821"/>
                  <a:pt x="4205696" y="4213273"/>
                  <a:pt x="4240736" y="4184073"/>
                </a:cubicBezTo>
                <a:cubicBezTo>
                  <a:pt x="4254591" y="4119418"/>
                  <a:pt x="4270471" y="4055165"/>
                  <a:pt x="4282300" y="3990109"/>
                </a:cubicBezTo>
                <a:cubicBezTo>
                  <a:pt x="4288961" y="3953477"/>
                  <a:pt x="4290890" y="3916132"/>
                  <a:pt x="4296155" y="3879273"/>
                </a:cubicBezTo>
                <a:cubicBezTo>
                  <a:pt x="4300128" y="3851464"/>
                  <a:pt x="4305391" y="3823854"/>
                  <a:pt x="4310009" y="3796145"/>
                </a:cubicBezTo>
                <a:cubicBezTo>
                  <a:pt x="4300773" y="3768436"/>
                  <a:pt x="4297780" y="3737786"/>
                  <a:pt x="4282300" y="3713018"/>
                </a:cubicBezTo>
                <a:cubicBezTo>
                  <a:pt x="4273475" y="3698898"/>
                  <a:pt x="4253181" y="3696371"/>
                  <a:pt x="4240736" y="3685309"/>
                </a:cubicBezTo>
                <a:cubicBezTo>
                  <a:pt x="4211448" y="3659275"/>
                  <a:pt x="4193993" y="3616735"/>
                  <a:pt x="4157609" y="3602182"/>
                </a:cubicBezTo>
                <a:cubicBezTo>
                  <a:pt x="4057416" y="3562105"/>
                  <a:pt x="4109029" y="3588268"/>
                  <a:pt x="4005209" y="3519055"/>
                </a:cubicBezTo>
                <a:cubicBezTo>
                  <a:pt x="3963436" y="3456394"/>
                  <a:pt x="3982539" y="3473503"/>
                  <a:pt x="3894373" y="3422073"/>
                </a:cubicBezTo>
                <a:cubicBezTo>
                  <a:pt x="3860079" y="3402068"/>
                  <a:pt x="3748566" y="3350379"/>
                  <a:pt x="3714264" y="3338945"/>
                </a:cubicBezTo>
                <a:cubicBezTo>
                  <a:pt x="3650473" y="3317681"/>
                  <a:pt x="3584091" y="3304791"/>
                  <a:pt x="3520300" y="3283527"/>
                </a:cubicBezTo>
                <a:cubicBezTo>
                  <a:pt x="3486934" y="3272405"/>
                  <a:pt x="3456440" y="3253793"/>
                  <a:pt x="3423318" y="3241964"/>
                </a:cubicBezTo>
                <a:cubicBezTo>
                  <a:pt x="3391656" y="3230656"/>
                  <a:pt x="3357322" y="3227302"/>
                  <a:pt x="3326336" y="3214255"/>
                </a:cubicBezTo>
                <a:cubicBezTo>
                  <a:pt x="3240005" y="3177905"/>
                  <a:pt x="3119291" y="3118043"/>
                  <a:pt x="3049246" y="3048000"/>
                </a:cubicBezTo>
                <a:lnTo>
                  <a:pt x="3021536" y="3020291"/>
                </a:lnTo>
                <a:cubicBezTo>
                  <a:pt x="3012300" y="3001818"/>
                  <a:pt x="3004074" y="2982805"/>
                  <a:pt x="2993827" y="2964873"/>
                </a:cubicBezTo>
                <a:cubicBezTo>
                  <a:pt x="2985566" y="2950416"/>
                  <a:pt x="2972881" y="2938525"/>
                  <a:pt x="2966118" y="2923309"/>
                </a:cubicBezTo>
                <a:cubicBezTo>
                  <a:pt x="2954256" y="2896619"/>
                  <a:pt x="2947645" y="2867891"/>
                  <a:pt x="2938409" y="2840182"/>
                </a:cubicBezTo>
                <a:cubicBezTo>
                  <a:pt x="2943027" y="2752436"/>
                  <a:pt x="2940392" y="2664006"/>
                  <a:pt x="2952264" y="2576945"/>
                </a:cubicBezTo>
                <a:cubicBezTo>
                  <a:pt x="2957353" y="2539624"/>
                  <a:pt x="2997975" y="2526522"/>
                  <a:pt x="3021536" y="2507673"/>
                </a:cubicBezTo>
                <a:cubicBezTo>
                  <a:pt x="3120244" y="2428707"/>
                  <a:pt x="2962884" y="2537539"/>
                  <a:pt x="3090809" y="2452255"/>
                </a:cubicBezTo>
                <a:lnTo>
                  <a:pt x="3118518" y="2410691"/>
                </a:lnTo>
              </a:path>
            </a:pathLst>
          </a:custGeom>
          <a:noFill/>
          <a:ln cap="rnd"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УЖИН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32004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Полилиния 10"/>
          <p:cNvSpPr/>
          <p:nvPr/>
        </p:nvSpPr>
        <p:spPr>
          <a:xfrm>
            <a:off x="1081080" y="1662120"/>
            <a:ext cx="4876920" cy="4367160"/>
          </a:xfrm>
          <a:custGeom>
            <a:avLst/>
            <a:gdLst/>
            <a:ahLst/>
            <a:rect l="l" t="t" r="r" b="b"/>
            <a:pathLst>
              <a:path w="4876800" h="4366531">
                <a:moveTo>
                  <a:pt x="0" y="2840182"/>
                </a:moveTo>
                <a:cubicBezTo>
                  <a:pt x="49822" y="2790360"/>
                  <a:pt x="107400" y="2736219"/>
                  <a:pt x="138545" y="2673928"/>
                </a:cubicBezTo>
                <a:cubicBezTo>
                  <a:pt x="157018" y="2636982"/>
                  <a:pt x="173903" y="2599199"/>
                  <a:pt x="193963" y="2563091"/>
                </a:cubicBezTo>
                <a:cubicBezTo>
                  <a:pt x="220118" y="2516012"/>
                  <a:pt x="255875" y="2474048"/>
                  <a:pt x="277090" y="2424546"/>
                </a:cubicBezTo>
                <a:cubicBezTo>
                  <a:pt x="290945" y="2392219"/>
                  <a:pt x="307532" y="2360930"/>
                  <a:pt x="318654" y="2327564"/>
                </a:cubicBezTo>
                <a:cubicBezTo>
                  <a:pt x="330697" y="2291436"/>
                  <a:pt x="329332" y="2250790"/>
                  <a:pt x="346363" y="2216728"/>
                </a:cubicBezTo>
                <a:cubicBezTo>
                  <a:pt x="396758" y="2115937"/>
                  <a:pt x="410738" y="2097775"/>
                  <a:pt x="443345" y="1967346"/>
                </a:cubicBezTo>
                <a:cubicBezTo>
                  <a:pt x="461818" y="1893455"/>
                  <a:pt x="487991" y="1821073"/>
                  <a:pt x="498763" y="1745673"/>
                </a:cubicBezTo>
                <a:cubicBezTo>
                  <a:pt x="517884" y="1611832"/>
                  <a:pt x="508568" y="1681094"/>
                  <a:pt x="526472" y="1537855"/>
                </a:cubicBezTo>
                <a:cubicBezTo>
                  <a:pt x="535708" y="1339273"/>
                  <a:pt x="566581" y="1140519"/>
                  <a:pt x="554181" y="942110"/>
                </a:cubicBezTo>
                <a:cubicBezTo>
                  <a:pt x="539039" y="699824"/>
                  <a:pt x="606546" y="753547"/>
                  <a:pt x="484909" y="692728"/>
                </a:cubicBezTo>
                <a:cubicBezTo>
                  <a:pt x="447963" y="697346"/>
                  <a:pt x="409394" y="694808"/>
                  <a:pt x="374072" y="706582"/>
                </a:cubicBezTo>
                <a:cubicBezTo>
                  <a:pt x="332380" y="720479"/>
                  <a:pt x="311959" y="756088"/>
                  <a:pt x="290945" y="789710"/>
                </a:cubicBezTo>
                <a:cubicBezTo>
                  <a:pt x="276673" y="812545"/>
                  <a:pt x="263236" y="835891"/>
                  <a:pt x="249381" y="858982"/>
                </a:cubicBezTo>
                <a:cubicBezTo>
                  <a:pt x="237731" y="905586"/>
                  <a:pt x="220858" y="964999"/>
                  <a:pt x="221672" y="1011382"/>
                </a:cubicBezTo>
                <a:cubicBezTo>
                  <a:pt x="233928" y="1710002"/>
                  <a:pt x="58260" y="1576697"/>
                  <a:pt x="290945" y="1731819"/>
                </a:cubicBezTo>
                <a:cubicBezTo>
                  <a:pt x="337842" y="1725957"/>
                  <a:pt x="439353" y="1720626"/>
                  <a:pt x="484909" y="1690255"/>
                </a:cubicBezTo>
                <a:cubicBezTo>
                  <a:pt x="519363" y="1667285"/>
                  <a:pt x="541711" y="1649904"/>
                  <a:pt x="581890" y="1634837"/>
                </a:cubicBezTo>
                <a:cubicBezTo>
                  <a:pt x="599719" y="1628151"/>
                  <a:pt x="619480" y="1627668"/>
                  <a:pt x="637309" y="1620982"/>
                </a:cubicBezTo>
                <a:cubicBezTo>
                  <a:pt x="683715" y="1603580"/>
                  <a:pt x="727372" y="1572483"/>
                  <a:pt x="762000" y="1537855"/>
                </a:cubicBezTo>
                <a:cubicBezTo>
                  <a:pt x="778328" y="1521527"/>
                  <a:pt x="788358" y="1499815"/>
                  <a:pt x="803563" y="1482437"/>
                </a:cubicBezTo>
                <a:cubicBezTo>
                  <a:pt x="820766" y="1462776"/>
                  <a:pt x="841778" y="1446680"/>
                  <a:pt x="858981" y="1427019"/>
                </a:cubicBezTo>
                <a:cubicBezTo>
                  <a:pt x="931157" y="1344531"/>
                  <a:pt x="866461" y="1394322"/>
                  <a:pt x="942109" y="1343891"/>
                </a:cubicBezTo>
                <a:cubicBezTo>
                  <a:pt x="962577" y="1302955"/>
                  <a:pt x="984260" y="1263425"/>
                  <a:pt x="997527" y="1219200"/>
                </a:cubicBezTo>
                <a:cubicBezTo>
                  <a:pt x="1004293" y="1196645"/>
                  <a:pt x="1006086" y="1172873"/>
                  <a:pt x="1011381" y="1149928"/>
                </a:cubicBezTo>
                <a:cubicBezTo>
                  <a:pt x="1023113" y="1099091"/>
                  <a:pt x="1045032" y="1025208"/>
                  <a:pt x="1052945" y="969819"/>
                </a:cubicBezTo>
                <a:cubicBezTo>
                  <a:pt x="1058859" y="928420"/>
                  <a:pt x="1060278" y="886436"/>
                  <a:pt x="1066800" y="845128"/>
                </a:cubicBezTo>
                <a:cubicBezTo>
                  <a:pt x="1074145" y="798608"/>
                  <a:pt x="1082523" y="752128"/>
                  <a:pt x="1094509" y="706582"/>
                </a:cubicBezTo>
                <a:cubicBezTo>
                  <a:pt x="1105659" y="664213"/>
                  <a:pt x="1136072" y="581891"/>
                  <a:pt x="1136072" y="581891"/>
                </a:cubicBezTo>
                <a:cubicBezTo>
                  <a:pt x="1140690" y="531091"/>
                  <a:pt x="1142713" y="479988"/>
                  <a:pt x="1149927" y="429491"/>
                </a:cubicBezTo>
                <a:cubicBezTo>
                  <a:pt x="1151992" y="415034"/>
                  <a:pt x="1160613" y="402184"/>
                  <a:pt x="1163781" y="387928"/>
                </a:cubicBezTo>
                <a:cubicBezTo>
                  <a:pt x="1169875" y="360505"/>
                  <a:pt x="1155462" y="322047"/>
                  <a:pt x="1177636" y="304800"/>
                </a:cubicBezTo>
                <a:cubicBezTo>
                  <a:pt x="1207026" y="281941"/>
                  <a:pt x="1251566" y="295867"/>
                  <a:pt x="1288472" y="290946"/>
                </a:cubicBezTo>
                <a:lnTo>
                  <a:pt x="1385454" y="277091"/>
                </a:lnTo>
                <a:cubicBezTo>
                  <a:pt x="1567876" y="155476"/>
                  <a:pt x="1396204" y="277773"/>
                  <a:pt x="1510145" y="180110"/>
                </a:cubicBezTo>
                <a:cubicBezTo>
                  <a:pt x="1527677" y="165083"/>
                  <a:pt x="1548185" y="153752"/>
                  <a:pt x="1565563" y="138546"/>
                </a:cubicBezTo>
                <a:cubicBezTo>
                  <a:pt x="1705967" y="15692"/>
                  <a:pt x="1554461" y="123315"/>
                  <a:pt x="1662545" y="69273"/>
                </a:cubicBezTo>
                <a:cubicBezTo>
                  <a:pt x="1677438" y="61826"/>
                  <a:pt x="1688460" y="47254"/>
                  <a:pt x="1704109" y="41564"/>
                </a:cubicBezTo>
                <a:cubicBezTo>
                  <a:pt x="1739899" y="28550"/>
                  <a:pt x="1778000" y="23091"/>
                  <a:pt x="1814945" y="13855"/>
                </a:cubicBezTo>
                <a:lnTo>
                  <a:pt x="1870363" y="0"/>
                </a:lnTo>
                <a:cubicBezTo>
                  <a:pt x="1935018" y="4618"/>
                  <a:pt x="1999952" y="6281"/>
                  <a:pt x="2064327" y="13855"/>
                </a:cubicBezTo>
                <a:cubicBezTo>
                  <a:pt x="2078831" y="15561"/>
                  <a:pt x="2093367" y="20196"/>
                  <a:pt x="2105890" y="27710"/>
                </a:cubicBezTo>
                <a:cubicBezTo>
                  <a:pt x="2117091" y="34431"/>
                  <a:pt x="2125099" y="45501"/>
                  <a:pt x="2133600" y="55419"/>
                </a:cubicBezTo>
                <a:cubicBezTo>
                  <a:pt x="2152844" y="77870"/>
                  <a:pt x="2171276" y="101035"/>
                  <a:pt x="2189018" y="124691"/>
                </a:cubicBezTo>
                <a:cubicBezTo>
                  <a:pt x="2199009" y="138012"/>
                  <a:pt x="2207491" y="152400"/>
                  <a:pt x="2216727" y="166255"/>
                </a:cubicBezTo>
                <a:cubicBezTo>
                  <a:pt x="2214838" y="207803"/>
                  <a:pt x="2219799" y="437724"/>
                  <a:pt x="2189018" y="540328"/>
                </a:cubicBezTo>
                <a:cubicBezTo>
                  <a:pt x="2181872" y="564149"/>
                  <a:pt x="2170041" y="586314"/>
                  <a:pt x="2161309" y="609600"/>
                </a:cubicBezTo>
                <a:cubicBezTo>
                  <a:pt x="2156181" y="623274"/>
                  <a:pt x="2153985" y="638102"/>
                  <a:pt x="2147454" y="651164"/>
                </a:cubicBezTo>
                <a:cubicBezTo>
                  <a:pt x="2140007" y="666057"/>
                  <a:pt x="2128981" y="678873"/>
                  <a:pt x="2119745" y="692728"/>
                </a:cubicBezTo>
                <a:cubicBezTo>
                  <a:pt x="2110509" y="734292"/>
                  <a:pt x="2099435" y="775489"/>
                  <a:pt x="2092036" y="817419"/>
                </a:cubicBezTo>
                <a:cubicBezTo>
                  <a:pt x="2085565" y="854085"/>
                  <a:pt x="2084302" y="891529"/>
                  <a:pt x="2078181" y="928255"/>
                </a:cubicBezTo>
                <a:cubicBezTo>
                  <a:pt x="2072381" y="963054"/>
                  <a:pt x="2061454" y="992290"/>
                  <a:pt x="2050472" y="1025237"/>
                </a:cubicBezTo>
                <a:cubicBezTo>
                  <a:pt x="2090972" y="2078249"/>
                  <a:pt x="2037302" y="1473027"/>
                  <a:pt x="2092036" y="1828800"/>
                </a:cubicBezTo>
                <a:cubicBezTo>
                  <a:pt x="2097001" y="1861076"/>
                  <a:pt x="2097970" y="1894101"/>
                  <a:pt x="2105890" y="1925782"/>
                </a:cubicBezTo>
                <a:cubicBezTo>
                  <a:pt x="2116516" y="1968286"/>
                  <a:pt x="2137306" y="2007852"/>
                  <a:pt x="2147454" y="2050473"/>
                </a:cubicBezTo>
                <a:cubicBezTo>
                  <a:pt x="2198742" y="2265881"/>
                  <a:pt x="2133322" y="2160941"/>
                  <a:pt x="2216727" y="2272146"/>
                </a:cubicBezTo>
                <a:cubicBezTo>
                  <a:pt x="2221345" y="2286001"/>
                  <a:pt x="2226569" y="2299668"/>
                  <a:pt x="2230581" y="2313710"/>
                </a:cubicBezTo>
                <a:cubicBezTo>
                  <a:pt x="2235812" y="2332019"/>
                  <a:pt x="2237750" y="2351299"/>
                  <a:pt x="2244436" y="2369128"/>
                </a:cubicBezTo>
                <a:cubicBezTo>
                  <a:pt x="2251688" y="2388466"/>
                  <a:pt x="2261199" y="2407032"/>
                  <a:pt x="2272145" y="2424546"/>
                </a:cubicBezTo>
                <a:cubicBezTo>
                  <a:pt x="2284383" y="2444127"/>
                  <a:pt x="2295970" y="2465181"/>
                  <a:pt x="2313709" y="2479964"/>
                </a:cubicBezTo>
                <a:cubicBezTo>
                  <a:pt x="2324928" y="2489313"/>
                  <a:pt x="2341418" y="2489201"/>
                  <a:pt x="2355272" y="2493819"/>
                </a:cubicBezTo>
                <a:cubicBezTo>
                  <a:pt x="2447636" y="2489201"/>
                  <a:pt x="2540203" y="2487644"/>
                  <a:pt x="2632363" y="2479964"/>
                </a:cubicBezTo>
                <a:cubicBezTo>
                  <a:pt x="2651338" y="2478383"/>
                  <a:pt x="2669193" y="2470241"/>
                  <a:pt x="2687781" y="2466110"/>
                </a:cubicBezTo>
                <a:cubicBezTo>
                  <a:pt x="2710769" y="2461002"/>
                  <a:pt x="2733963" y="2456873"/>
                  <a:pt x="2757054" y="2452255"/>
                </a:cubicBezTo>
                <a:cubicBezTo>
                  <a:pt x="2793999" y="2456873"/>
                  <a:pt x="2832568" y="2454336"/>
                  <a:pt x="2867890" y="2466110"/>
                </a:cubicBezTo>
                <a:cubicBezTo>
                  <a:pt x="2889796" y="2473412"/>
                  <a:pt x="2905777" y="2492646"/>
                  <a:pt x="2923309" y="2507673"/>
                </a:cubicBezTo>
                <a:cubicBezTo>
                  <a:pt x="2957747" y="2537191"/>
                  <a:pt x="3033028" y="2625963"/>
                  <a:pt x="3048000" y="2646219"/>
                </a:cubicBezTo>
                <a:cubicBezTo>
                  <a:pt x="3101298" y="2718328"/>
                  <a:pt x="3200400" y="2867891"/>
                  <a:pt x="3200400" y="2867891"/>
                </a:cubicBezTo>
                <a:cubicBezTo>
                  <a:pt x="3245934" y="3095571"/>
                  <a:pt x="3160309" y="2675693"/>
                  <a:pt x="3255818" y="3089564"/>
                </a:cubicBezTo>
                <a:cubicBezTo>
                  <a:pt x="3271703" y="3158399"/>
                  <a:pt x="3283527" y="3228109"/>
                  <a:pt x="3297381" y="3297382"/>
                </a:cubicBezTo>
                <a:cubicBezTo>
                  <a:pt x="3288145" y="3440546"/>
                  <a:pt x="3287915" y="3584576"/>
                  <a:pt x="3269672" y="3726873"/>
                </a:cubicBezTo>
                <a:cubicBezTo>
                  <a:pt x="3264654" y="3766011"/>
                  <a:pt x="3244644" y="3801884"/>
                  <a:pt x="3228109" y="3837710"/>
                </a:cubicBezTo>
                <a:cubicBezTo>
                  <a:pt x="3216825" y="3862160"/>
                  <a:pt x="3201987" y="3884922"/>
                  <a:pt x="3186545" y="3906982"/>
                </a:cubicBezTo>
                <a:cubicBezTo>
                  <a:pt x="3144487" y="3967065"/>
                  <a:pt x="3096046" y="4018115"/>
                  <a:pt x="3034145" y="4059382"/>
                </a:cubicBezTo>
                <a:cubicBezTo>
                  <a:pt x="2681472" y="4294498"/>
                  <a:pt x="2843912" y="4138781"/>
                  <a:pt x="2715490" y="4267200"/>
                </a:cubicBezTo>
                <a:cubicBezTo>
                  <a:pt x="2710872" y="4281055"/>
                  <a:pt x="2710759" y="4297360"/>
                  <a:pt x="2701636" y="4308764"/>
                </a:cubicBezTo>
                <a:cubicBezTo>
                  <a:pt x="2655423" y="4366531"/>
                  <a:pt x="2623385" y="4320750"/>
                  <a:pt x="2563090" y="4294910"/>
                </a:cubicBezTo>
                <a:cubicBezTo>
                  <a:pt x="2549236" y="4281055"/>
                  <a:pt x="2533283" y="4269021"/>
                  <a:pt x="2521527" y="4253346"/>
                </a:cubicBezTo>
                <a:cubicBezTo>
                  <a:pt x="2505370" y="4231803"/>
                  <a:pt x="2497853" y="4204200"/>
                  <a:pt x="2479963" y="4184073"/>
                </a:cubicBezTo>
                <a:cubicBezTo>
                  <a:pt x="2426361" y="4123771"/>
                  <a:pt x="2402628" y="4132998"/>
                  <a:pt x="2341418" y="4087091"/>
                </a:cubicBezTo>
                <a:cubicBezTo>
                  <a:pt x="2325743" y="4075335"/>
                  <a:pt x="2313709" y="4059382"/>
                  <a:pt x="2299854" y="4045528"/>
                </a:cubicBezTo>
                <a:cubicBezTo>
                  <a:pt x="2271270" y="3802558"/>
                  <a:pt x="2254393" y="3768589"/>
                  <a:pt x="2286000" y="3505200"/>
                </a:cubicBezTo>
                <a:cubicBezTo>
                  <a:pt x="2287984" y="3488668"/>
                  <a:pt x="2304884" y="3477757"/>
                  <a:pt x="2313709" y="3463637"/>
                </a:cubicBezTo>
                <a:cubicBezTo>
                  <a:pt x="2420111" y="3293392"/>
                  <a:pt x="2268664" y="3521158"/>
                  <a:pt x="2438400" y="3283528"/>
                </a:cubicBezTo>
                <a:cubicBezTo>
                  <a:pt x="2457757" y="3256429"/>
                  <a:pt x="2470270" y="3223948"/>
                  <a:pt x="2493818" y="3200400"/>
                </a:cubicBezTo>
                <a:cubicBezTo>
                  <a:pt x="2517366" y="3176852"/>
                  <a:pt x="2549846" y="3164338"/>
                  <a:pt x="2576945" y="3144982"/>
                </a:cubicBezTo>
                <a:cubicBezTo>
                  <a:pt x="2614525" y="3118139"/>
                  <a:pt x="2650201" y="3088697"/>
                  <a:pt x="2687781" y="3061855"/>
                </a:cubicBezTo>
                <a:cubicBezTo>
                  <a:pt x="2714880" y="3042498"/>
                  <a:pt x="2743627" y="3025535"/>
                  <a:pt x="2770909" y="3006437"/>
                </a:cubicBezTo>
                <a:cubicBezTo>
                  <a:pt x="2789826" y="2993195"/>
                  <a:pt x="2807114" y="2977682"/>
                  <a:pt x="2826327" y="2964873"/>
                </a:cubicBezTo>
                <a:cubicBezTo>
                  <a:pt x="2862577" y="2940706"/>
                  <a:pt x="2901206" y="2920202"/>
                  <a:pt x="2937163" y="2895600"/>
                </a:cubicBezTo>
                <a:cubicBezTo>
                  <a:pt x="2989004" y="2860130"/>
                  <a:pt x="3037299" y="2819607"/>
                  <a:pt x="3089563" y="2784764"/>
                </a:cubicBezTo>
                <a:cubicBezTo>
                  <a:pt x="3134375" y="2754890"/>
                  <a:pt x="3182672" y="2730551"/>
                  <a:pt x="3228109" y="2701637"/>
                </a:cubicBezTo>
                <a:cubicBezTo>
                  <a:pt x="3284300" y="2665879"/>
                  <a:pt x="3336140" y="2623146"/>
                  <a:pt x="3394363" y="2590800"/>
                </a:cubicBezTo>
                <a:cubicBezTo>
                  <a:pt x="3461187" y="2553675"/>
                  <a:pt x="3534407" y="2529179"/>
                  <a:pt x="3602181" y="2493819"/>
                </a:cubicBezTo>
                <a:cubicBezTo>
                  <a:pt x="3640808" y="2473666"/>
                  <a:pt x="3674843" y="2445542"/>
                  <a:pt x="3713018" y="2424546"/>
                </a:cubicBezTo>
                <a:cubicBezTo>
                  <a:pt x="3767308" y="2394687"/>
                  <a:pt x="3824443" y="2370276"/>
                  <a:pt x="3879272" y="2341419"/>
                </a:cubicBezTo>
                <a:cubicBezTo>
                  <a:pt x="3912220" y="2324078"/>
                  <a:pt x="3942622" y="2301975"/>
                  <a:pt x="3976254" y="2286000"/>
                </a:cubicBezTo>
                <a:cubicBezTo>
                  <a:pt x="4127467" y="2214174"/>
                  <a:pt x="4281457" y="2148334"/>
                  <a:pt x="4433454" y="2078182"/>
                </a:cubicBezTo>
                <a:cubicBezTo>
                  <a:pt x="4461582" y="2065200"/>
                  <a:pt x="4486526" y="2044133"/>
                  <a:pt x="4516581" y="2036619"/>
                </a:cubicBezTo>
                <a:cubicBezTo>
                  <a:pt x="4572740" y="2022579"/>
                  <a:pt x="4602662" y="2019356"/>
                  <a:pt x="4655127" y="1981200"/>
                </a:cubicBezTo>
                <a:cubicBezTo>
                  <a:pt x="4681537" y="1961993"/>
                  <a:pt x="4697229" y="1930042"/>
                  <a:pt x="4724400" y="1911928"/>
                </a:cubicBezTo>
                <a:cubicBezTo>
                  <a:pt x="4748000" y="1896194"/>
                  <a:pt x="4804196" y="1859840"/>
                  <a:pt x="4821381" y="1842655"/>
                </a:cubicBezTo>
                <a:cubicBezTo>
                  <a:pt x="4833155" y="1830881"/>
                  <a:pt x="4838688" y="1814093"/>
                  <a:pt x="4849090" y="1801091"/>
                </a:cubicBezTo>
                <a:cubicBezTo>
                  <a:pt x="4857250" y="1790891"/>
                  <a:pt x="4867563" y="1782618"/>
                  <a:pt x="4876800" y="1773382"/>
                </a:cubicBezTo>
                <a:cubicBezTo>
                  <a:pt x="4872182" y="1754909"/>
                  <a:pt x="4874840" y="1732833"/>
                  <a:pt x="4862945" y="1717964"/>
                </a:cubicBezTo>
                <a:cubicBezTo>
                  <a:pt x="4853822" y="1706560"/>
                  <a:pt x="4831708" y="1714437"/>
                  <a:pt x="4821381" y="1704110"/>
                </a:cubicBezTo>
                <a:cubicBezTo>
                  <a:pt x="4811054" y="1693783"/>
                  <a:pt x="4812145" y="1676401"/>
                  <a:pt x="4807527" y="1662546"/>
                </a:cubicBezTo>
                <a:cubicBezTo>
                  <a:pt x="4802909" y="1602510"/>
                  <a:pt x="4801141" y="1542186"/>
                  <a:pt x="4793672" y="1482437"/>
                </a:cubicBezTo>
                <a:cubicBezTo>
                  <a:pt x="4787268" y="1431203"/>
                  <a:pt x="4769777" y="1381529"/>
                  <a:pt x="4765963" y="1330037"/>
                </a:cubicBezTo>
                <a:cubicBezTo>
                  <a:pt x="4751278" y="1131783"/>
                  <a:pt x="4755112" y="932372"/>
                  <a:pt x="4738254" y="734291"/>
                </a:cubicBezTo>
                <a:cubicBezTo>
                  <a:pt x="4735738" y="704729"/>
                  <a:pt x="4683225" y="643396"/>
                  <a:pt x="4668981" y="623455"/>
                </a:cubicBezTo>
                <a:cubicBezTo>
                  <a:pt x="4659303" y="609905"/>
                  <a:pt x="4652334" y="594336"/>
                  <a:pt x="4641272" y="581891"/>
                </a:cubicBezTo>
                <a:cubicBezTo>
                  <a:pt x="4625385" y="564018"/>
                  <a:pt x="4502727" y="455902"/>
                  <a:pt x="4502727" y="415637"/>
                </a:cubicBezTo>
                <a:lnTo>
                  <a:pt x="4502727" y="346364"/>
                </a:lnTo>
              </a:path>
            </a:pathLst>
          </a:custGeom>
          <a:noFill/>
          <a:ln cap="rnd"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олилиния 11"/>
          <p:cNvSpPr/>
          <p:nvPr/>
        </p:nvSpPr>
        <p:spPr>
          <a:xfrm>
            <a:off x="733320" y="1606680"/>
            <a:ext cx="7707240" cy="4309920"/>
          </a:xfrm>
          <a:custGeom>
            <a:avLst/>
            <a:gdLst/>
            <a:ahLst/>
            <a:rect l="l" t="t" r="r" b="b"/>
            <a:pathLst>
              <a:path w="7707296" h="4310116">
                <a:moveTo>
                  <a:pt x="97624" y="969818"/>
                </a:moveTo>
                <a:cubicBezTo>
                  <a:pt x="75001" y="1003754"/>
                  <a:pt x="56060" y="1022069"/>
                  <a:pt x="56060" y="1066800"/>
                </a:cubicBezTo>
                <a:cubicBezTo>
                  <a:pt x="56060" y="1449695"/>
                  <a:pt x="0" y="1349857"/>
                  <a:pt x="97624" y="1496291"/>
                </a:cubicBezTo>
                <a:cubicBezTo>
                  <a:pt x="102242" y="1510146"/>
                  <a:pt x="105725" y="1524432"/>
                  <a:pt x="111478" y="1537855"/>
                </a:cubicBezTo>
                <a:cubicBezTo>
                  <a:pt x="138795" y="1601596"/>
                  <a:pt x="159666" y="1620375"/>
                  <a:pt x="194606" y="1690255"/>
                </a:cubicBezTo>
                <a:cubicBezTo>
                  <a:pt x="205728" y="1712499"/>
                  <a:pt x="210612" y="1737584"/>
                  <a:pt x="222315" y="1759528"/>
                </a:cubicBezTo>
                <a:cubicBezTo>
                  <a:pt x="247659" y="1807049"/>
                  <a:pt x="281356" y="1849902"/>
                  <a:pt x="305442" y="1898073"/>
                </a:cubicBezTo>
                <a:cubicBezTo>
                  <a:pt x="328533" y="1944255"/>
                  <a:pt x="358388" y="1987635"/>
                  <a:pt x="374715" y="2036618"/>
                </a:cubicBezTo>
                <a:cubicBezTo>
                  <a:pt x="397750" y="2105726"/>
                  <a:pt x="407303" y="2140920"/>
                  <a:pt x="457842" y="2216728"/>
                </a:cubicBezTo>
                <a:cubicBezTo>
                  <a:pt x="476315" y="2244437"/>
                  <a:pt x="496126" y="2271299"/>
                  <a:pt x="513260" y="2299855"/>
                </a:cubicBezTo>
                <a:cubicBezTo>
                  <a:pt x="527115" y="2322946"/>
                  <a:pt x="538667" y="2347585"/>
                  <a:pt x="554824" y="2369128"/>
                </a:cubicBezTo>
                <a:cubicBezTo>
                  <a:pt x="594206" y="2421637"/>
                  <a:pt x="638216" y="2470512"/>
                  <a:pt x="679515" y="2521528"/>
                </a:cubicBezTo>
                <a:cubicBezTo>
                  <a:pt x="716727" y="2567495"/>
                  <a:pt x="748532" y="2618254"/>
                  <a:pt x="790351" y="2660073"/>
                </a:cubicBezTo>
                <a:cubicBezTo>
                  <a:pt x="827296" y="2697018"/>
                  <a:pt x="869109" y="2729666"/>
                  <a:pt x="901187" y="2770909"/>
                </a:cubicBezTo>
                <a:cubicBezTo>
                  <a:pt x="933514" y="2812473"/>
                  <a:pt x="970262" y="2850948"/>
                  <a:pt x="998169" y="2895600"/>
                </a:cubicBezTo>
                <a:cubicBezTo>
                  <a:pt x="1086279" y="3036576"/>
                  <a:pt x="1087976" y="3033653"/>
                  <a:pt x="1178278" y="3214255"/>
                </a:cubicBezTo>
                <a:cubicBezTo>
                  <a:pt x="1192133" y="3241964"/>
                  <a:pt x="1207927" y="3268785"/>
                  <a:pt x="1219842" y="3297382"/>
                </a:cubicBezTo>
                <a:cubicBezTo>
                  <a:pt x="1246884" y="3362283"/>
                  <a:pt x="1248364" y="3384574"/>
                  <a:pt x="1261406" y="3449782"/>
                </a:cubicBezTo>
                <a:cubicBezTo>
                  <a:pt x="1256788" y="3616037"/>
                  <a:pt x="1263701" y="3783013"/>
                  <a:pt x="1247551" y="3948546"/>
                </a:cubicBezTo>
                <a:cubicBezTo>
                  <a:pt x="1244936" y="3975347"/>
                  <a:pt x="1219065" y="3994278"/>
                  <a:pt x="1205987" y="4017818"/>
                </a:cubicBezTo>
                <a:cubicBezTo>
                  <a:pt x="1195957" y="4035872"/>
                  <a:pt x="1189224" y="4055723"/>
                  <a:pt x="1178278" y="4073237"/>
                </a:cubicBezTo>
                <a:cubicBezTo>
                  <a:pt x="1166040" y="4092818"/>
                  <a:pt x="1150136" y="4109865"/>
                  <a:pt x="1136715" y="4128655"/>
                </a:cubicBezTo>
                <a:cubicBezTo>
                  <a:pt x="1094416" y="4187874"/>
                  <a:pt x="1091210" y="4214410"/>
                  <a:pt x="1012024" y="4267200"/>
                </a:cubicBezTo>
                <a:cubicBezTo>
                  <a:pt x="998169" y="4276436"/>
                  <a:pt x="985765" y="4288350"/>
                  <a:pt x="970460" y="4294909"/>
                </a:cubicBezTo>
                <a:cubicBezTo>
                  <a:pt x="952958" y="4302410"/>
                  <a:pt x="933515" y="4304146"/>
                  <a:pt x="915042" y="4308764"/>
                </a:cubicBezTo>
                <a:cubicBezTo>
                  <a:pt x="762398" y="4276054"/>
                  <a:pt x="749913" y="4310116"/>
                  <a:pt x="679515" y="4225637"/>
                </a:cubicBezTo>
                <a:cubicBezTo>
                  <a:pt x="668855" y="4212845"/>
                  <a:pt x="661042" y="4197928"/>
                  <a:pt x="651806" y="4184073"/>
                </a:cubicBezTo>
                <a:cubicBezTo>
                  <a:pt x="654350" y="4161175"/>
                  <a:pt x="656948" y="4058438"/>
                  <a:pt x="679515" y="4017818"/>
                </a:cubicBezTo>
                <a:cubicBezTo>
                  <a:pt x="695688" y="3988707"/>
                  <a:pt x="707224" y="3953164"/>
                  <a:pt x="734933" y="3934691"/>
                </a:cubicBezTo>
                <a:cubicBezTo>
                  <a:pt x="765791" y="3914119"/>
                  <a:pt x="781646" y="3907473"/>
                  <a:pt x="804206" y="3879273"/>
                </a:cubicBezTo>
                <a:cubicBezTo>
                  <a:pt x="814608" y="3866271"/>
                  <a:pt x="820776" y="3850086"/>
                  <a:pt x="831915" y="3837709"/>
                </a:cubicBezTo>
                <a:cubicBezTo>
                  <a:pt x="897107" y="3765273"/>
                  <a:pt x="916625" y="3747514"/>
                  <a:pt x="984315" y="3699164"/>
                </a:cubicBezTo>
                <a:cubicBezTo>
                  <a:pt x="997864" y="3689486"/>
                  <a:pt x="1010985" y="3678902"/>
                  <a:pt x="1025878" y="3671455"/>
                </a:cubicBezTo>
                <a:cubicBezTo>
                  <a:pt x="1038940" y="3664924"/>
                  <a:pt x="1054380" y="3664131"/>
                  <a:pt x="1067442" y="3657600"/>
                </a:cubicBezTo>
                <a:cubicBezTo>
                  <a:pt x="1082335" y="3650153"/>
                  <a:pt x="1093701" y="3636450"/>
                  <a:pt x="1109006" y="3629891"/>
                </a:cubicBezTo>
                <a:cubicBezTo>
                  <a:pt x="1134248" y="3619073"/>
                  <a:pt x="1230366" y="3604637"/>
                  <a:pt x="1247551" y="3602182"/>
                </a:cubicBezTo>
                <a:cubicBezTo>
                  <a:pt x="1401420" y="3580201"/>
                  <a:pt x="1409715" y="3585476"/>
                  <a:pt x="1607769" y="3574473"/>
                </a:cubicBezTo>
                <a:lnTo>
                  <a:pt x="1718606" y="3519055"/>
                </a:lnTo>
                <a:cubicBezTo>
                  <a:pt x="1737079" y="3509819"/>
                  <a:pt x="1756840" y="3502802"/>
                  <a:pt x="1774024" y="3491346"/>
                </a:cubicBezTo>
                <a:cubicBezTo>
                  <a:pt x="1787878" y="3482110"/>
                  <a:pt x="1800694" y="3471084"/>
                  <a:pt x="1815587" y="3463637"/>
                </a:cubicBezTo>
                <a:cubicBezTo>
                  <a:pt x="1828649" y="3457106"/>
                  <a:pt x="1843728" y="3455535"/>
                  <a:pt x="1857151" y="3449782"/>
                </a:cubicBezTo>
                <a:cubicBezTo>
                  <a:pt x="1876134" y="3441646"/>
                  <a:pt x="1893586" y="3430209"/>
                  <a:pt x="1912569" y="3422073"/>
                </a:cubicBezTo>
                <a:cubicBezTo>
                  <a:pt x="1957794" y="3402691"/>
                  <a:pt x="1963602" y="3413329"/>
                  <a:pt x="2009551" y="3380509"/>
                </a:cubicBezTo>
                <a:cubicBezTo>
                  <a:pt x="2025495" y="3369121"/>
                  <a:pt x="2034812" y="3349814"/>
                  <a:pt x="2051115" y="3338946"/>
                </a:cubicBezTo>
                <a:cubicBezTo>
                  <a:pt x="2076892" y="3321762"/>
                  <a:pt x="2107858" y="3313618"/>
                  <a:pt x="2134242" y="3297382"/>
                </a:cubicBezTo>
                <a:cubicBezTo>
                  <a:pt x="2168076" y="3276561"/>
                  <a:pt x="2197708" y="3249438"/>
                  <a:pt x="2231224" y="3228109"/>
                </a:cubicBezTo>
                <a:cubicBezTo>
                  <a:pt x="2248648" y="3217021"/>
                  <a:pt x="2269836" y="3212404"/>
                  <a:pt x="2286642" y="3200400"/>
                </a:cubicBezTo>
                <a:cubicBezTo>
                  <a:pt x="2302586" y="3189012"/>
                  <a:pt x="2312531" y="3170593"/>
                  <a:pt x="2328206" y="3158837"/>
                </a:cubicBezTo>
                <a:cubicBezTo>
                  <a:pt x="2349749" y="3142680"/>
                  <a:pt x="2375418" y="3132715"/>
                  <a:pt x="2397478" y="3117273"/>
                </a:cubicBezTo>
                <a:cubicBezTo>
                  <a:pt x="2421703" y="3100315"/>
                  <a:pt x="2443094" y="3079597"/>
                  <a:pt x="2466751" y="3061855"/>
                </a:cubicBezTo>
                <a:cubicBezTo>
                  <a:pt x="2480072" y="3051864"/>
                  <a:pt x="2495523" y="3044806"/>
                  <a:pt x="2508315" y="3034146"/>
                </a:cubicBezTo>
                <a:cubicBezTo>
                  <a:pt x="2541417" y="3006561"/>
                  <a:pt x="2593414" y="2945101"/>
                  <a:pt x="2605296" y="2909455"/>
                </a:cubicBezTo>
                <a:lnTo>
                  <a:pt x="2619151" y="2867891"/>
                </a:lnTo>
                <a:cubicBezTo>
                  <a:pt x="2564707" y="2541224"/>
                  <a:pt x="2615534" y="2792890"/>
                  <a:pt x="2577587" y="2660073"/>
                </a:cubicBezTo>
                <a:cubicBezTo>
                  <a:pt x="2572356" y="2641764"/>
                  <a:pt x="2571612" y="2621989"/>
                  <a:pt x="2563733" y="2604655"/>
                </a:cubicBezTo>
                <a:cubicBezTo>
                  <a:pt x="2532850" y="2536712"/>
                  <a:pt x="2505673" y="2514921"/>
                  <a:pt x="2480606" y="2452255"/>
                </a:cubicBezTo>
                <a:cubicBezTo>
                  <a:pt x="2469758" y="2425136"/>
                  <a:pt x="2467081" y="2394660"/>
                  <a:pt x="2452896" y="2369128"/>
                </a:cubicBezTo>
                <a:cubicBezTo>
                  <a:pt x="2443381" y="2352000"/>
                  <a:pt x="2423089" y="2343239"/>
                  <a:pt x="2411333" y="2327564"/>
                </a:cubicBezTo>
                <a:cubicBezTo>
                  <a:pt x="2395176" y="2306021"/>
                  <a:pt x="2381297" y="2282627"/>
                  <a:pt x="2369769" y="2258291"/>
                </a:cubicBezTo>
                <a:cubicBezTo>
                  <a:pt x="2339657" y="2194720"/>
                  <a:pt x="2325660" y="2122856"/>
                  <a:pt x="2286642" y="2064328"/>
                </a:cubicBezTo>
                <a:cubicBezTo>
                  <a:pt x="2277406" y="2050473"/>
                  <a:pt x="2267758" y="2036884"/>
                  <a:pt x="2258933" y="2022764"/>
                </a:cubicBezTo>
                <a:cubicBezTo>
                  <a:pt x="2244661" y="1999929"/>
                  <a:pt x="2232306" y="1975897"/>
                  <a:pt x="2217369" y="1953491"/>
                </a:cubicBezTo>
                <a:cubicBezTo>
                  <a:pt x="2118666" y="1805436"/>
                  <a:pt x="2247389" y="2031239"/>
                  <a:pt x="2092678" y="1773382"/>
                </a:cubicBezTo>
                <a:cubicBezTo>
                  <a:pt x="2061671" y="1721703"/>
                  <a:pt x="2048033" y="1693586"/>
                  <a:pt x="2009551" y="1648691"/>
                </a:cubicBezTo>
                <a:cubicBezTo>
                  <a:pt x="1996800" y="1633815"/>
                  <a:pt x="1981842" y="1620982"/>
                  <a:pt x="1967987" y="1607128"/>
                </a:cubicBezTo>
                <a:cubicBezTo>
                  <a:pt x="1949514" y="1570182"/>
                  <a:pt x="1927540" y="1534789"/>
                  <a:pt x="1912569" y="1496291"/>
                </a:cubicBezTo>
                <a:cubicBezTo>
                  <a:pt x="1870959" y="1389294"/>
                  <a:pt x="1877180" y="1378601"/>
                  <a:pt x="1857151" y="1288473"/>
                </a:cubicBezTo>
                <a:cubicBezTo>
                  <a:pt x="1853020" y="1269885"/>
                  <a:pt x="1847914" y="1251528"/>
                  <a:pt x="1843296" y="1233055"/>
                </a:cubicBezTo>
                <a:cubicBezTo>
                  <a:pt x="1847914" y="1186873"/>
                  <a:pt x="1837701" y="1136649"/>
                  <a:pt x="1857151" y="1094509"/>
                </a:cubicBezTo>
                <a:cubicBezTo>
                  <a:pt x="1868436" y="1070059"/>
                  <a:pt x="1905978" y="1070471"/>
                  <a:pt x="1926424" y="1052946"/>
                </a:cubicBezTo>
                <a:cubicBezTo>
                  <a:pt x="1939067" y="1042110"/>
                  <a:pt x="1941898" y="1022676"/>
                  <a:pt x="1954133" y="1011382"/>
                </a:cubicBezTo>
                <a:cubicBezTo>
                  <a:pt x="2088718" y="887149"/>
                  <a:pt x="2050743" y="905287"/>
                  <a:pt x="2148096" y="872837"/>
                </a:cubicBezTo>
                <a:cubicBezTo>
                  <a:pt x="2157333" y="863601"/>
                  <a:pt x="2164605" y="851849"/>
                  <a:pt x="2175806" y="845128"/>
                </a:cubicBezTo>
                <a:cubicBezTo>
                  <a:pt x="2188329" y="837614"/>
                  <a:pt x="2203113" y="834441"/>
                  <a:pt x="2217369" y="831273"/>
                </a:cubicBezTo>
                <a:cubicBezTo>
                  <a:pt x="2251981" y="823581"/>
                  <a:pt x="2366529" y="807985"/>
                  <a:pt x="2397478" y="803564"/>
                </a:cubicBezTo>
                <a:cubicBezTo>
                  <a:pt x="2577456" y="810230"/>
                  <a:pt x="2707366" y="801969"/>
                  <a:pt x="2868533" y="831273"/>
                </a:cubicBezTo>
                <a:cubicBezTo>
                  <a:pt x="2887267" y="834679"/>
                  <a:pt x="2906374" y="837804"/>
                  <a:pt x="2923951" y="845128"/>
                </a:cubicBezTo>
                <a:cubicBezTo>
                  <a:pt x="3007770" y="880053"/>
                  <a:pt x="3017313" y="888897"/>
                  <a:pt x="3076351" y="928255"/>
                </a:cubicBezTo>
                <a:cubicBezTo>
                  <a:pt x="3080969" y="942109"/>
                  <a:pt x="3082692" y="957295"/>
                  <a:pt x="3090206" y="969818"/>
                </a:cubicBezTo>
                <a:cubicBezTo>
                  <a:pt x="3096927" y="981019"/>
                  <a:pt x="3112073" y="985845"/>
                  <a:pt x="3117915" y="997528"/>
                </a:cubicBezTo>
                <a:cubicBezTo>
                  <a:pt x="3135294" y="1032288"/>
                  <a:pt x="3121655" y="1069294"/>
                  <a:pt x="3159478" y="1094509"/>
                </a:cubicBezTo>
                <a:cubicBezTo>
                  <a:pt x="3175321" y="1105071"/>
                  <a:pt x="3196587" y="1103133"/>
                  <a:pt x="3214896" y="1108364"/>
                </a:cubicBezTo>
                <a:cubicBezTo>
                  <a:pt x="3228938" y="1112376"/>
                  <a:pt x="3242605" y="1117600"/>
                  <a:pt x="3256460" y="1122218"/>
                </a:cubicBezTo>
                <a:cubicBezTo>
                  <a:pt x="3313540" y="1179300"/>
                  <a:pt x="3266620" y="1121295"/>
                  <a:pt x="3298024" y="1246909"/>
                </a:cubicBezTo>
                <a:cubicBezTo>
                  <a:pt x="3314736" y="1313755"/>
                  <a:pt x="3375153" y="1405201"/>
                  <a:pt x="3422715" y="1440873"/>
                </a:cubicBezTo>
                <a:cubicBezTo>
                  <a:pt x="3441188" y="1454728"/>
                  <a:pt x="3461805" y="1466109"/>
                  <a:pt x="3478133" y="1482437"/>
                </a:cubicBezTo>
                <a:cubicBezTo>
                  <a:pt x="3494461" y="1498765"/>
                  <a:pt x="3498731" y="1528179"/>
                  <a:pt x="3519696" y="1537855"/>
                </a:cubicBezTo>
                <a:cubicBezTo>
                  <a:pt x="3562458" y="1557591"/>
                  <a:pt x="3658242" y="1565564"/>
                  <a:pt x="3658242" y="1565564"/>
                </a:cubicBezTo>
                <a:cubicBezTo>
                  <a:pt x="3778315" y="1560946"/>
                  <a:pt x="3899353" y="1567590"/>
                  <a:pt x="4018460" y="1551709"/>
                </a:cubicBezTo>
                <a:cubicBezTo>
                  <a:pt x="4041348" y="1548657"/>
                  <a:pt x="4055088" y="1523567"/>
                  <a:pt x="4073878" y="1510146"/>
                </a:cubicBezTo>
                <a:cubicBezTo>
                  <a:pt x="4087428" y="1500468"/>
                  <a:pt x="4101976" y="1492231"/>
                  <a:pt x="4115442" y="1482437"/>
                </a:cubicBezTo>
                <a:cubicBezTo>
                  <a:pt x="4152791" y="1455274"/>
                  <a:pt x="4189333" y="1427018"/>
                  <a:pt x="4226278" y="1399309"/>
                </a:cubicBezTo>
                <a:cubicBezTo>
                  <a:pt x="4266163" y="1369395"/>
                  <a:pt x="4344932" y="1314403"/>
                  <a:pt x="4364824" y="1274618"/>
                </a:cubicBezTo>
                <a:cubicBezTo>
                  <a:pt x="4410300" y="1183667"/>
                  <a:pt x="4380529" y="1236006"/>
                  <a:pt x="4461806" y="1122218"/>
                </a:cubicBezTo>
                <a:cubicBezTo>
                  <a:pt x="4466424" y="1103745"/>
                  <a:pt x="4470429" y="1085109"/>
                  <a:pt x="4475660" y="1066800"/>
                </a:cubicBezTo>
                <a:cubicBezTo>
                  <a:pt x="4479672" y="1052758"/>
                  <a:pt x="4489515" y="1039841"/>
                  <a:pt x="4489515" y="1025237"/>
                </a:cubicBezTo>
                <a:cubicBezTo>
                  <a:pt x="4489515" y="905075"/>
                  <a:pt x="4487235" y="784621"/>
                  <a:pt x="4475660" y="665018"/>
                </a:cubicBezTo>
                <a:cubicBezTo>
                  <a:pt x="4470948" y="616328"/>
                  <a:pt x="4367628" y="464210"/>
                  <a:pt x="4364824" y="457200"/>
                </a:cubicBezTo>
                <a:cubicBezTo>
                  <a:pt x="4355588" y="434109"/>
                  <a:pt x="4348906" y="409825"/>
                  <a:pt x="4337115" y="387928"/>
                </a:cubicBezTo>
                <a:cubicBezTo>
                  <a:pt x="4269240" y="261874"/>
                  <a:pt x="4263764" y="273012"/>
                  <a:pt x="4157006" y="166255"/>
                </a:cubicBezTo>
                <a:cubicBezTo>
                  <a:pt x="4147769" y="157019"/>
                  <a:pt x="4140497" y="145267"/>
                  <a:pt x="4129296" y="138546"/>
                </a:cubicBezTo>
                <a:cubicBezTo>
                  <a:pt x="4106205" y="124691"/>
                  <a:pt x="4082430" y="111919"/>
                  <a:pt x="4060024" y="96982"/>
                </a:cubicBezTo>
                <a:cubicBezTo>
                  <a:pt x="4040811" y="84173"/>
                  <a:pt x="4024791" y="66632"/>
                  <a:pt x="4004606" y="55418"/>
                </a:cubicBezTo>
                <a:cubicBezTo>
                  <a:pt x="3982866" y="43340"/>
                  <a:pt x="3958619" y="36441"/>
                  <a:pt x="3935333" y="27709"/>
                </a:cubicBezTo>
                <a:cubicBezTo>
                  <a:pt x="3886648" y="9453"/>
                  <a:pt x="3883549" y="11811"/>
                  <a:pt x="3824496" y="0"/>
                </a:cubicBezTo>
                <a:lnTo>
                  <a:pt x="3533551" y="13855"/>
                </a:lnTo>
                <a:cubicBezTo>
                  <a:pt x="3474761" y="17774"/>
                  <a:pt x="3399580" y="26566"/>
                  <a:pt x="3339587" y="41564"/>
                </a:cubicBezTo>
                <a:cubicBezTo>
                  <a:pt x="3272251" y="58398"/>
                  <a:pt x="3263990" y="79890"/>
                  <a:pt x="3187187" y="124691"/>
                </a:cubicBezTo>
                <a:cubicBezTo>
                  <a:pt x="3169347" y="135097"/>
                  <a:pt x="3149701" y="142153"/>
                  <a:pt x="3131769" y="152400"/>
                </a:cubicBezTo>
                <a:cubicBezTo>
                  <a:pt x="3098022" y="171684"/>
                  <a:pt x="3055612" y="204290"/>
                  <a:pt x="3034787" y="235528"/>
                </a:cubicBezTo>
                <a:cubicBezTo>
                  <a:pt x="3007078" y="277091"/>
                  <a:pt x="2986982" y="324896"/>
                  <a:pt x="2951660" y="360218"/>
                </a:cubicBezTo>
                <a:cubicBezTo>
                  <a:pt x="2937805" y="374073"/>
                  <a:pt x="2922639" y="386730"/>
                  <a:pt x="2910096" y="401782"/>
                </a:cubicBezTo>
                <a:cubicBezTo>
                  <a:pt x="2899436" y="414574"/>
                  <a:pt x="2891212" y="429226"/>
                  <a:pt x="2882387" y="443346"/>
                </a:cubicBezTo>
                <a:cubicBezTo>
                  <a:pt x="2845354" y="502599"/>
                  <a:pt x="2829317" y="530622"/>
                  <a:pt x="2799260" y="595746"/>
                </a:cubicBezTo>
                <a:cubicBezTo>
                  <a:pt x="2772794" y="653088"/>
                  <a:pt x="2735669" y="744955"/>
                  <a:pt x="2716133" y="803564"/>
                </a:cubicBezTo>
                <a:cubicBezTo>
                  <a:pt x="2705501" y="835460"/>
                  <a:pt x="2695469" y="867671"/>
                  <a:pt x="2688424" y="900546"/>
                </a:cubicBezTo>
                <a:cubicBezTo>
                  <a:pt x="2681582" y="932477"/>
                  <a:pt x="2679938" y="965317"/>
                  <a:pt x="2674569" y="997528"/>
                </a:cubicBezTo>
                <a:cubicBezTo>
                  <a:pt x="2663423" y="1064406"/>
                  <a:pt x="2664706" y="1054827"/>
                  <a:pt x="2646860" y="1108364"/>
                </a:cubicBezTo>
                <a:cubicBezTo>
                  <a:pt x="2642242" y="1145309"/>
                  <a:pt x="2639868" y="1182605"/>
                  <a:pt x="2633006" y="1219200"/>
                </a:cubicBezTo>
                <a:cubicBezTo>
                  <a:pt x="2625988" y="1256630"/>
                  <a:pt x="2613859" y="1292929"/>
                  <a:pt x="2605296" y="1330037"/>
                </a:cubicBezTo>
                <a:cubicBezTo>
                  <a:pt x="2600001" y="1352982"/>
                  <a:pt x="2595654" y="1376141"/>
                  <a:pt x="2591442" y="1399309"/>
                </a:cubicBezTo>
                <a:cubicBezTo>
                  <a:pt x="2586417" y="1426947"/>
                  <a:pt x="2583681" y="1455014"/>
                  <a:pt x="2577587" y="1482437"/>
                </a:cubicBezTo>
                <a:cubicBezTo>
                  <a:pt x="2540118" y="1651046"/>
                  <a:pt x="2511524" y="1712569"/>
                  <a:pt x="2480606" y="1898073"/>
                </a:cubicBezTo>
                <a:cubicBezTo>
                  <a:pt x="2470748" y="1957219"/>
                  <a:pt x="2466485" y="2009441"/>
                  <a:pt x="2439042" y="2064328"/>
                </a:cubicBezTo>
                <a:cubicBezTo>
                  <a:pt x="2429502" y="2083407"/>
                  <a:pt x="2362913" y="2178545"/>
                  <a:pt x="2342060" y="2202873"/>
                </a:cubicBezTo>
                <a:cubicBezTo>
                  <a:pt x="2329309" y="2217749"/>
                  <a:pt x="2313039" y="2229385"/>
                  <a:pt x="2300496" y="2244437"/>
                </a:cubicBezTo>
                <a:cubicBezTo>
                  <a:pt x="2253954" y="2300286"/>
                  <a:pt x="2291372" y="2285915"/>
                  <a:pt x="2217369" y="2341418"/>
                </a:cubicBezTo>
                <a:cubicBezTo>
                  <a:pt x="2200846" y="2353810"/>
                  <a:pt x="2178757" y="2357124"/>
                  <a:pt x="2161951" y="2369128"/>
                </a:cubicBezTo>
                <a:cubicBezTo>
                  <a:pt x="2073062" y="2432621"/>
                  <a:pt x="2172302" y="2397712"/>
                  <a:pt x="2064969" y="2424546"/>
                </a:cubicBezTo>
                <a:cubicBezTo>
                  <a:pt x="2046496" y="2419928"/>
                  <a:pt x="2028222" y="2414425"/>
                  <a:pt x="2009551" y="2410691"/>
                </a:cubicBezTo>
                <a:cubicBezTo>
                  <a:pt x="1982005" y="2405182"/>
                  <a:pt x="1953074" y="2405720"/>
                  <a:pt x="1926424" y="2396837"/>
                </a:cubicBezTo>
                <a:cubicBezTo>
                  <a:pt x="1910627" y="2391572"/>
                  <a:pt x="1898715" y="2378364"/>
                  <a:pt x="1884860" y="2369128"/>
                </a:cubicBezTo>
                <a:cubicBezTo>
                  <a:pt x="1880242" y="2355273"/>
                  <a:pt x="1869393" y="2342079"/>
                  <a:pt x="1871006" y="2327564"/>
                </a:cubicBezTo>
                <a:cubicBezTo>
                  <a:pt x="1874232" y="2298535"/>
                  <a:pt x="1898715" y="2244437"/>
                  <a:pt x="1898715" y="2244437"/>
                </a:cubicBezTo>
                <a:cubicBezTo>
                  <a:pt x="1881504" y="2003485"/>
                  <a:pt x="1924362" y="2110862"/>
                  <a:pt x="1843296" y="1995055"/>
                </a:cubicBezTo>
                <a:cubicBezTo>
                  <a:pt x="1824198" y="1967773"/>
                  <a:pt x="1815587" y="1930401"/>
                  <a:pt x="1787878" y="1911928"/>
                </a:cubicBezTo>
                <a:lnTo>
                  <a:pt x="1704751" y="1856509"/>
                </a:lnTo>
                <a:cubicBezTo>
                  <a:pt x="1626242" y="1861127"/>
                  <a:pt x="1546341" y="1854940"/>
                  <a:pt x="1469224" y="1870364"/>
                </a:cubicBezTo>
                <a:cubicBezTo>
                  <a:pt x="1428720" y="1878465"/>
                  <a:pt x="1358387" y="1925782"/>
                  <a:pt x="1358387" y="1925782"/>
                </a:cubicBezTo>
                <a:cubicBezTo>
                  <a:pt x="1283152" y="2001019"/>
                  <a:pt x="1333581" y="1944359"/>
                  <a:pt x="1247551" y="2078182"/>
                </a:cubicBezTo>
                <a:cubicBezTo>
                  <a:pt x="1229543" y="2106195"/>
                  <a:pt x="1202664" y="2129716"/>
                  <a:pt x="1192133" y="2161309"/>
                </a:cubicBezTo>
                <a:cubicBezTo>
                  <a:pt x="1157144" y="2266273"/>
                  <a:pt x="1208858" y="2117665"/>
                  <a:pt x="1136715" y="2286000"/>
                </a:cubicBezTo>
                <a:cubicBezTo>
                  <a:pt x="1121172" y="2322268"/>
                  <a:pt x="1106755" y="2359124"/>
                  <a:pt x="1095151" y="2396837"/>
                </a:cubicBezTo>
                <a:cubicBezTo>
                  <a:pt x="1079806" y="2446707"/>
                  <a:pt x="1071977" y="2549986"/>
                  <a:pt x="1067442" y="2590800"/>
                </a:cubicBezTo>
                <a:cubicBezTo>
                  <a:pt x="1072060" y="2623127"/>
                  <a:pt x="1061247" y="2662005"/>
                  <a:pt x="1081296" y="2687782"/>
                </a:cubicBezTo>
                <a:cubicBezTo>
                  <a:pt x="1099228" y="2710838"/>
                  <a:pt x="1135239" y="2714339"/>
                  <a:pt x="1164424" y="2715491"/>
                </a:cubicBezTo>
                <a:cubicBezTo>
                  <a:pt x="1487478" y="2728243"/>
                  <a:pt x="1810969" y="2724728"/>
                  <a:pt x="2134242" y="2729346"/>
                </a:cubicBezTo>
                <a:lnTo>
                  <a:pt x="2577587" y="2743200"/>
                </a:lnTo>
                <a:cubicBezTo>
                  <a:pt x="2656167" y="2746407"/>
                  <a:pt x="2735633" y="2743580"/>
                  <a:pt x="2813115" y="2757055"/>
                </a:cubicBezTo>
                <a:cubicBezTo>
                  <a:pt x="2843636" y="2762363"/>
                  <a:pt x="2868039" y="2785799"/>
                  <a:pt x="2896242" y="2798618"/>
                </a:cubicBezTo>
                <a:cubicBezTo>
                  <a:pt x="2918883" y="2808909"/>
                  <a:pt x="2943271" y="2815206"/>
                  <a:pt x="2965515" y="2826328"/>
                </a:cubicBezTo>
                <a:cubicBezTo>
                  <a:pt x="2998817" y="2842979"/>
                  <a:pt x="3028690" y="2866143"/>
                  <a:pt x="3062496" y="2881746"/>
                </a:cubicBezTo>
                <a:cubicBezTo>
                  <a:pt x="3131876" y="2913767"/>
                  <a:pt x="3182318" y="2912450"/>
                  <a:pt x="3256460" y="2937164"/>
                </a:cubicBezTo>
                <a:cubicBezTo>
                  <a:pt x="3289826" y="2948286"/>
                  <a:pt x="3319903" y="2968137"/>
                  <a:pt x="3353442" y="2978728"/>
                </a:cubicBezTo>
                <a:cubicBezTo>
                  <a:pt x="3483986" y="3019952"/>
                  <a:pt x="3494313" y="3014417"/>
                  <a:pt x="3602824" y="3034146"/>
                </a:cubicBezTo>
                <a:cubicBezTo>
                  <a:pt x="3625992" y="3038358"/>
                  <a:pt x="3648665" y="3045657"/>
                  <a:pt x="3672096" y="3048000"/>
                </a:cubicBezTo>
                <a:cubicBezTo>
                  <a:pt x="3859911" y="3066781"/>
                  <a:pt x="4188554" y="3071207"/>
                  <a:pt x="4337115" y="3075709"/>
                </a:cubicBezTo>
                <a:cubicBezTo>
                  <a:pt x="4484860" y="3089141"/>
                  <a:pt x="4539058" y="3102088"/>
                  <a:pt x="4697333" y="3075709"/>
                </a:cubicBezTo>
                <a:cubicBezTo>
                  <a:pt x="4726390" y="3070866"/>
                  <a:pt x="4745459" y="3036151"/>
                  <a:pt x="4766606" y="3020291"/>
                </a:cubicBezTo>
                <a:cubicBezTo>
                  <a:pt x="4793248" y="3000310"/>
                  <a:pt x="4826185" y="2988421"/>
                  <a:pt x="4849733" y="2964873"/>
                </a:cubicBezTo>
                <a:cubicBezTo>
                  <a:pt x="4863587" y="2951018"/>
                  <a:pt x="4878753" y="2938361"/>
                  <a:pt x="4891296" y="2923309"/>
                </a:cubicBezTo>
                <a:cubicBezTo>
                  <a:pt x="4901956" y="2910517"/>
                  <a:pt x="4907232" y="2893520"/>
                  <a:pt x="4919006" y="2881746"/>
                </a:cubicBezTo>
                <a:cubicBezTo>
                  <a:pt x="4930780" y="2869972"/>
                  <a:pt x="4946112" y="2862298"/>
                  <a:pt x="4960569" y="2854037"/>
                </a:cubicBezTo>
                <a:cubicBezTo>
                  <a:pt x="5008504" y="2826645"/>
                  <a:pt x="5010922" y="2828016"/>
                  <a:pt x="5057551" y="2812473"/>
                </a:cubicBezTo>
                <a:cubicBezTo>
                  <a:pt x="5168647" y="2729150"/>
                  <a:pt x="5057216" y="2801523"/>
                  <a:pt x="5168387" y="2757055"/>
                </a:cubicBezTo>
                <a:cubicBezTo>
                  <a:pt x="5324410" y="2694646"/>
                  <a:pt x="5174797" y="2726450"/>
                  <a:pt x="5348496" y="2701637"/>
                </a:cubicBezTo>
                <a:cubicBezTo>
                  <a:pt x="6055483" y="2712513"/>
                  <a:pt x="6054860" y="2567564"/>
                  <a:pt x="6443006" y="2826328"/>
                </a:cubicBezTo>
                <a:cubicBezTo>
                  <a:pt x="6612522" y="2939339"/>
                  <a:pt x="6586330" y="2909695"/>
                  <a:pt x="6650824" y="3006437"/>
                </a:cubicBezTo>
                <a:cubicBezTo>
                  <a:pt x="6686231" y="3183477"/>
                  <a:pt x="6630701" y="2933782"/>
                  <a:pt x="6747806" y="3255818"/>
                </a:cubicBezTo>
                <a:cubicBezTo>
                  <a:pt x="6762357" y="3295832"/>
                  <a:pt x="6766279" y="3338945"/>
                  <a:pt x="6775515" y="3380509"/>
                </a:cubicBezTo>
                <a:cubicBezTo>
                  <a:pt x="6770897" y="3463636"/>
                  <a:pt x="6772909" y="3547399"/>
                  <a:pt x="6761660" y="3629891"/>
                </a:cubicBezTo>
                <a:cubicBezTo>
                  <a:pt x="6758869" y="3650355"/>
                  <a:pt x="6742339" y="3666436"/>
                  <a:pt x="6733951" y="3685309"/>
                </a:cubicBezTo>
                <a:cubicBezTo>
                  <a:pt x="6723850" y="3708035"/>
                  <a:pt x="6721164" y="3734686"/>
                  <a:pt x="6706242" y="3754582"/>
                </a:cubicBezTo>
                <a:cubicBezTo>
                  <a:pt x="6629283" y="3857194"/>
                  <a:pt x="6616744" y="3848356"/>
                  <a:pt x="6512278" y="3893128"/>
                </a:cubicBezTo>
                <a:cubicBezTo>
                  <a:pt x="6392205" y="3879273"/>
                  <a:pt x="6270118" y="3877479"/>
                  <a:pt x="6152060" y="3851564"/>
                </a:cubicBezTo>
                <a:cubicBezTo>
                  <a:pt x="6079186" y="3835567"/>
                  <a:pt x="6011431" y="3800873"/>
                  <a:pt x="5944242" y="3768437"/>
                </a:cubicBezTo>
                <a:cubicBezTo>
                  <a:pt x="5886325" y="3740477"/>
                  <a:pt x="5744206" y="3665382"/>
                  <a:pt x="5681006" y="3602182"/>
                </a:cubicBezTo>
                <a:cubicBezTo>
                  <a:pt x="5653335" y="3574511"/>
                  <a:pt x="5638818" y="3524424"/>
                  <a:pt x="5625587" y="3491346"/>
                </a:cubicBezTo>
                <a:cubicBezTo>
                  <a:pt x="5634823" y="3389746"/>
                  <a:pt x="5626166" y="3284891"/>
                  <a:pt x="5653296" y="3186546"/>
                </a:cubicBezTo>
                <a:cubicBezTo>
                  <a:pt x="5664619" y="3145501"/>
                  <a:pt x="5714286" y="3125934"/>
                  <a:pt x="5736424" y="3089564"/>
                </a:cubicBezTo>
                <a:cubicBezTo>
                  <a:pt x="5779378" y="3018996"/>
                  <a:pt x="5799242" y="2935116"/>
                  <a:pt x="5847260" y="2867891"/>
                </a:cubicBezTo>
                <a:cubicBezTo>
                  <a:pt x="5928853" y="2753661"/>
                  <a:pt x="6047897" y="2581563"/>
                  <a:pt x="6138206" y="2507673"/>
                </a:cubicBezTo>
                <a:cubicBezTo>
                  <a:pt x="6189006" y="2466109"/>
                  <a:pt x="6237863" y="2422051"/>
                  <a:pt x="6290606" y="2382982"/>
                </a:cubicBezTo>
                <a:cubicBezTo>
                  <a:pt x="6362660" y="2329609"/>
                  <a:pt x="6425287" y="2252330"/>
                  <a:pt x="6512278" y="2230582"/>
                </a:cubicBezTo>
                <a:cubicBezTo>
                  <a:pt x="6750358" y="2171062"/>
                  <a:pt x="6621520" y="2192581"/>
                  <a:pt x="6900206" y="2175164"/>
                </a:cubicBezTo>
                <a:cubicBezTo>
                  <a:pt x="6983333" y="2184400"/>
                  <a:pt x="7066715" y="2191572"/>
                  <a:pt x="7149587" y="2202873"/>
                </a:cubicBezTo>
                <a:cubicBezTo>
                  <a:pt x="7168454" y="2205446"/>
                  <a:pt x="7189407" y="2205808"/>
                  <a:pt x="7205006" y="2216728"/>
                </a:cubicBezTo>
                <a:cubicBezTo>
                  <a:pt x="7237109" y="2239200"/>
                  <a:pt x="7260424" y="2272146"/>
                  <a:pt x="7288133" y="2299855"/>
                </a:cubicBezTo>
                <a:cubicBezTo>
                  <a:pt x="7316965" y="2415186"/>
                  <a:pt x="7281859" y="2301163"/>
                  <a:pt x="7329696" y="2396837"/>
                </a:cubicBezTo>
                <a:cubicBezTo>
                  <a:pt x="7345425" y="2428295"/>
                  <a:pt x="7357405" y="2461491"/>
                  <a:pt x="7371260" y="2493818"/>
                </a:cubicBezTo>
                <a:cubicBezTo>
                  <a:pt x="7346413" y="2618055"/>
                  <a:pt x="7382653" y="2799029"/>
                  <a:pt x="7218860" y="2826328"/>
                </a:cubicBezTo>
                <a:cubicBezTo>
                  <a:pt x="7168545" y="2834714"/>
                  <a:pt x="7117260" y="2817091"/>
                  <a:pt x="7066460" y="2812473"/>
                </a:cubicBezTo>
                <a:cubicBezTo>
                  <a:pt x="7029515" y="2784764"/>
                  <a:pt x="6981241" y="2767772"/>
                  <a:pt x="6955624" y="2729346"/>
                </a:cubicBezTo>
                <a:cubicBezTo>
                  <a:pt x="6913424" y="2666045"/>
                  <a:pt x="6939689" y="2699556"/>
                  <a:pt x="6872496" y="2632364"/>
                </a:cubicBezTo>
                <a:cubicBezTo>
                  <a:pt x="6842045" y="2571462"/>
                  <a:pt x="6823565" y="2539336"/>
                  <a:pt x="6803224" y="2466109"/>
                </a:cubicBezTo>
                <a:cubicBezTo>
                  <a:pt x="6789385" y="2416287"/>
                  <a:pt x="6771699" y="2304669"/>
                  <a:pt x="6761660" y="2244437"/>
                </a:cubicBezTo>
                <a:cubicBezTo>
                  <a:pt x="6766278" y="2189019"/>
                  <a:pt x="6755552" y="2130086"/>
                  <a:pt x="6775515" y="2078182"/>
                </a:cubicBezTo>
                <a:cubicBezTo>
                  <a:pt x="6818167" y="1967287"/>
                  <a:pt x="6898486" y="1879411"/>
                  <a:pt x="6983333" y="1801091"/>
                </a:cubicBezTo>
                <a:cubicBezTo>
                  <a:pt x="7014619" y="1772212"/>
                  <a:pt x="7050208" y="1748071"/>
                  <a:pt x="7080315" y="1717964"/>
                </a:cubicBezTo>
                <a:cubicBezTo>
                  <a:pt x="7110422" y="1687857"/>
                  <a:pt x="7131937" y="1649623"/>
                  <a:pt x="7163442" y="1620982"/>
                </a:cubicBezTo>
                <a:cubicBezTo>
                  <a:pt x="7183367" y="1602868"/>
                  <a:pt x="7211459" y="1595951"/>
                  <a:pt x="7232715" y="1579418"/>
                </a:cubicBezTo>
                <a:cubicBezTo>
                  <a:pt x="7370544" y="1472217"/>
                  <a:pt x="7221374" y="1563992"/>
                  <a:pt x="7329696" y="1496291"/>
                </a:cubicBezTo>
                <a:cubicBezTo>
                  <a:pt x="7352531" y="1482019"/>
                  <a:pt x="7379928" y="1473769"/>
                  <a:pt x="7398969" y="1454728"/>
                </a:cubicBezTo>
                <a:cubicBezTo>
                  <a:pt x="7547409" y="1306288"/>
                  <a:pt x="7574967" y="1273477"/>
                  <a:pt x="7648351" y="1108364"/>
                </a:cubicBezTo>
                <a:cubicBezTo>
                  <a:pt x="7664376" y="1072307"/>
                  <a:pt x="7676060" y="1034473"/>
                  <a:pt x="7689915" y="997528"/>
                </a:cubicBezTo>
                <a:cubicBezTo>
                  <a:pt x="7694533" y="923637"/>
                  <a:pt x="7706012" y="849856"/>
                  <a:pt x="7703769" y="775855"/>
                </a:cubicBezTo>
                <a:cubicBezTo>
                  <a:pt x="7700612" y="671688"/>
                  <a:pt x="7707296" y="554255"/>
                  <a:pt x="7634496" y="471055"/>
                </a:cubicBezTo>
                <a:cubicBezTo>
                  <a:pt x="7613207" y="446725"/>
                  <a:pt x="7554427" y="413320"/>
                  <a:pt x="7523660" y="401782"/>
                </a:cubicBezTo>
                <a:cubicBezTo>
                  <a:pt x="7505831" y="395096"/>
                  <a:pt x="7486715" y="392546"/>
                  <a:pt x="7468242" y="387928"/>
                </a:cubicBezTo>
                <a:cubicBezTo>
                  <a:pt x="7343551" y="397164"/>
                  <a:pt x="7218105" y="399112"/>
                  <a:pt x="7094169" y="415637"/>
                </a:cubicBezTo>
                <a:cubicBezTo>
                  <a:pt x="7077664" y="417838"/>
                  <a:pt x="7066155" y="433668"/>
                  <a:pt x="7052606" y="443346"/>
                </a:cubicBezTo>
                <a:cubicBezTo>
                  <a:pt x="7010964" y="473090"/>
                  <a:pt x="6974282" y="499687"/>
                  <a:pt x="6941769" y="540328"/>
                </a:cubicBezTo>
                <a:cubicBezTo>
                  <a:pt x="6897186" y="596058"/>
                  <a:pt x="6887420" y="621317"/>
                  <a:pt x="6858642" y="678873"/>
                </a:cubicBezTo>
                <a:cubicBezTo>
                  <a:pt x="6854024" y="720437"/>
                  <a:pt x="6854930" y="762993"/>
                  <a:pt x="6844787" y="803564"/>
                </a:cubicBezTo>
                <a:cubicBezTo>
                  <a:pt x="6840748" y="819718"/>
                  <a:pt x="6825645" y="830850"/>
                  <a:pt x="6817078" y="845128"/>
                </a:cubicBezTo>
                <a:cubicBezTo>
                  <a:pt x="6811765" y="853983"/>
                  <a:pt x="6807842" y="863601"/>
                  <a:pt x="6803224" y="872837"/>
                </a:cubicBezTo>
              </a:path>
            </a:pathLst>
          </a:custGeom>
          <a:noFill/>
          <a:ln cap="rnd"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УЖИН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600200"/>
          <a:ext cx="8229600" cy="32004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Полилиния 10"/>
          <p:cNvSpPr/>
          <p:nvPr/>
        </p:nvSpPr>
        <p:spPr>
          <a:xfrm>
            <a:off x="1093680" y="1192320"/>
            <a:ext cx="7454880" cy="4833720"/>
          </a:xfrm>
          <a:custGeom>
            <a:avLst/>
            <a:gdLst/>
            <a:ahLst/>
            <a:rect l="l" t="t" r="r" b="b"/>
            <a:pathLst>
              <a:path w="7454098" h="4835236">
                <a:moveTo>
                  <a:pt x="0" y="2064327"/>
                </a:moveTo>
                <a:cubicBezTo>
                  <a:pt x="331662" y="2174884"/>
                  <a:pt x="8031" y="2071650"/>
                  <a:pt x="955964" y="2092036"/>
                </a:cubicBezTo>
                <a:cubicBezTo>
                  <a:pt x="1080711" y="2094719"/>
                  <a:pt x="1205345" y="2101273"/>
                  <a:pt x="1330036" y="2105891"/>
                </a:cubicBezTo>
                <a:cubicBezTo>
                  <a:pt x="1371600" y="2110509"/>
                  <a:pt x="1414156" y="2109602"/>
                  <a:pt x="1454727" y="2119745"/>
                </a:cubicBezTo>
                <a:cubicBezTo>
                  <a:pt x="1470881" y="2123783"/>
                  <a:pt x="1481132" y="2140564"/>
                  <a:pt x="1496291" y="2147454"/>
                </a:cubicBezTo>
                <a:cubicBezTo>
                  <a:pt x="1532212" y="2163782"/>
                  <a:pt x="1571301" y="2172483"/>
                  <a:pt x="1607127" y="2189018"/>
                </a:cubicBezTo>
                <a:cubicBezTo>
                  <a:pt x="1666801" y="2216560"/>
                  <a:pt x="1701180" y="2254175"/>
                  <a:pt x="1759527" y="2286000"/>
                </a:cubicBezTo>
                <a:cubicBezTo>
                  <a:pt x="1781360" y="2297909"/>
                  <a:pt x="1807060" y="2301631"/>
                  <a:pt x="1828800" y="2313709"/>
                </a:cubicBezTo>
                <a:cubicBezTo>
                  <a:pt x="1904140" y="2355565"/>
                  <a:pt x="1887283" y="2378352"/>
                  <a:pt x="1967346" y="2438400"/>
                </a:cubicBezTo>
                <a:cubicBezTo>
                  <a:pt x="1985819" y="2452255"/>
                  <a:pt x="2006436" y="2463636"/>
                  <a:pt x="2022764" y="2479964"/>
                </a:cubicBezTo>
                <a:cubicBezTo>
                  <a:pt x="2039092" y="2496292"/>
                  <a:pt x="2048572" y="2518501"/>
                  <a:pt x="2064327" y="2535382"/>
                </a:cubicBezTo>
                <a:cubicBezTo>
                  <a:pt x="2113346" y="2587903"/>
                  <a:pt x="2184598" y="2623525"/>
                  <a:pt x="2216727" y="2687782"/>
                </a:cubicBezTo>
                <a:cubicBezTo>
                  <a:pt x="2284939" y="2824205"/>
                  <a:pt x="2201386" y="2653266"/>
                  <a:pt x="2272146" y="2812473"/>
                </a:cubicBezTo>
                <a:cubicBezTo>
                  <a:pt x="2280534" y="2831346"/>
                  <a:pt x="2292185" y="2848715"/>
                  <a:pt x="2299855" y="2867891"/>
                </a:cubicBezTo>
                <a:cubicBezTo>
                  <a:pt x="2310703" y="2895010"/>
                  <a:pt x="2317740" y="2923512"/>
                  <a:pt x="2327564" y="2951018"/>
                </a:cubicBezTo>
                <a:cubicBezTo>
                  <a:pt x="2413922" y="3192823"/>
                  <a:pt x="2331082" y="2947717"/>
                  <a:pt x="2396836" y="3144982"/>
                </a:cubicBezTo>
                <a:cubicBezTo>
                  <a:pt x="2392218" y="3426691"/>
                  <a:pt x="2391782" y="3708500"/>
                  <a:pt x="2382982" y="3990109"/>
                </a:cubicBezTo>
                <a:cubicBezTo>
                  <a:pt x="2382526" y="4004706"/>
                  <a:pt x="2375658" y="4018611"/>
                  <a:pt x="2369127" y="4031673"/>
                </a:cubicBezTo>
                <a:cubicBezTo>
                  <a:pt x="2361680" y="4046566"/>
                  <a:pt x="2350654" y="4059382"/>
                  <a:pt x="2341418" y="4073236"/>
                </a:cubicBezTo>
                <a:cubicBezTo>
                  <a:pt x="2336800" y="4087091"/>
                  <a:pt x="2334810" y="4102120"/>
                  <a:pt x="2327564" y="4114800"/>
                </a:cubicBezTo>
                <a:cubicBezTo>
                  <a:pt x="2307127" y="4150565"/>
                  <a:pt x="2269491" y="4194489"/>
                  <a:pt x="2230582" y="4211782"/>
                </a:cubicBezTo>
                <a:cubicBezTo>
                  <a:pt x="2209063" y="4221346"/>
                  <a:pt x="2184154" y="4219925"/>
                  <a:pt x="2161309" y="4225636"/>
                </a:cubicBezTo>
                <a:cubicBezTo>
                  <a:pt x="2147141" y="4229178"/>
                  <a:pt x="2133600" y="4234873"/>
                  <a:pt x="2119746" y="4239491"/>
                </a:cubicBezTo>
                <a:cubicBezTo>
                  <a:pt x="2106219" y="4239144"/>
                  <a:pt x="1197199" y="4287859"/>
                  <a:pt x="858982" y="4170218"/>
                </a:cubicBezTo>
                <a:cubicBezTo>
                  <a:pt x="277257" y="3967878"/>
                  <a:pt x="1039075" y="4191985"/>
                  <a:pt x="623455" y="4073236"/>
                </a:cubicBezTo>
                <a:cubicBezTo>
                  <a:pt x="542704" y="4019402"/>
                  <a:pt x="340570" y="3887332"/>
                  <a:pt x="290946" y="3837709"/>
                </a:cubicBezTo>
                <a:lnTo>
                  <a:pt x="207818" y="3754582"/>
                </a:lnTo>
                <a:cubicBezTo>
                  <a:pt x="155980" y="3599065"/>
                  <a:pt x="163505" y="3664158"/>
                  <a:pt x="221673" y="3408218"/>
                </a:cubicBezTo>
                <a:cubicBezTo>
                  <a:pt x="225363" y="3391981"/>
                  <a:pt x="241121" y="3381111"/>
                  <a:pt x="249382" y="3366654"/>
                </a:cubicBezTo>
                <a:cubicBezTo>
                  <a:pt x="259629" y="3348722"/>
                  <a:pt x="261809" y="3325129"/>
                  <a:pt x="277091" y="3311236"/>
                </a:cubicBezTo>
                <a:cubicBezTo>
                  <a:pt x="314053" y="3277634"/>
                  <a:pt x="366460" y="3263431"/>
                  <a:pt x="401782" y="3228109"/>
                </a:cubicBezTo>
                <a:cubicBezTo>
                  <a:pt x="474713" y="3155178"/>
                  <a:pt x="407662" y="3211314"/>
                  <a:pt x="512618" y="3158836"/>
                </a:cubicBezTo>
                <a:cubicBezTo>
                  <a:pt x="527511" y="3151389"/>
                  <a:pt x="539904" y="3139694"/>
                  <a:pt x="554182" y="3131127"/>
                </a:cubicBezTo>
                <a:cubicBezTo>
                  <a:pt x="586109" y="3111971"/>
                  <a:pt x="617424" y="3091454"/>
                  <a:pt x="651164" y="3075709"/>
                </a:cubicBezTo>
                <a:cubicBezTo>
                  <a:pt x="686920" y="3059023"/>
                  <a:pt x="725851" y="3049960"/>
                  <a:pt x="762000" y="3034145"/>
                </a:cubicBezTo>
                <a:cubicBezTo>
                  <a:pt x="872962" y="2985599"/>
                  <a:pt x="912572" y="2945602"/>
                  <a:pt x="1039091" y="2909454"/>
                </a:cubicBezTo>
                <a:cubicBezTo>
                  <a:pt x="1071418" y="2900218"/>
                  <a:pt x="1104411" y="2893053"/>
                  <a:pt x="1136073" y="2881745"/>
                </a:cubicBezTo>
                <a:cubicBezTo>
                  <a:pt x="1169195" y="2869916"/>
                  <a:pt x="1199313" y="2850106"/>
                  <a:pt x="1233055" y="2840182"/>
                </a:cubicBezTo>
                <a:cubicBezTo>
                  <a:pt x="1339920" y="2808751"/>
                  <a:pt x="1426462" y="2807901"/>
                  <a:pt x="1537855" y="2798618"/>
                </a:cubicBezTo>
                <a:cubicBezTo>
                  <a:pt x="1824182" y="2803236"/>
                  <a:pt x="2110713" y="2800714"/>
                  <a:pt x="2396836" y="2812473"/>
                </a:cubicBezTo>
                <a:cubicBezTo>
                  <a:pt x="2499001" y="2816672"/>
                  <a:pt x="2585727" y="2847090"/>
                  <a:pt x="2673927" y="2895600"/>
                </a:cubicBezTo>
                <a:cubicBezTo>
                  <a:pt x="2818982" y="2975380"/>
                  <a:pt x="2986357" y="3027924"/>
                  <a:pt x="3103418" y="3144982"/>
                </a:cubicBezTo>
                <a:cubicBezTo>
                  <a:pt x="3164024" y="3205586"/>
                  <a:pt x="3128181" y="3176464"/>
                  <a:pt x="3214255" y="3228109"/>
                </a:cubicBezTo>
                <a:cubicBezTo>
                  <a:pt x="3278909" y="3329709"/>
                  <a:pt x="3354361" y="3425196"/>
                  <a:pt x="3408218" y="3532909"/>
                </a:cubicBezTo>
                <a:cubicBezTo>
                  <a:pt x="3422073" y="3560618"/>
                  <a:pt x="3434412" y="3589138"/>
                  <a:pt x="3449782" y="3616036"/>
                </a:cubicBezTo>
                <a:cubicBezTo>
                  <a:pt x="3471398" y="3653864"/>
                  <a:pt x="3498304" y="3688564"/>
                  <a:pt x="3519055" y="3726873"/>
                </a:cubicBezTo>
                <a:cubicBezTo>
                  <a:pt x="3717471" y="4093180"/>
                  <a:pt x="3535715" y="3808448"/>
                  <a:pt x="3754582" y="4142509"/>
                </a:cubicBezTo>
                <a:cubicBezTo>
                  <a:pt x="3857602" y="4299750"/>
                  <a:pt x="3936577" y="4436762"/>
                  <a:pt x="4087091" y="4558145"/>
                </a:cubicBezTo>
                <a:cubicBezTo>
                  <a:pt x="4177979" y="4631442"/>
                  <a:pt x="4441435" y="4762960"/>
                  <a:pt x="4558146" y="4793673"/>
                </a:cubicBezTo>
                <a:cubicBezTo>
                  <a:pt x="4652887" y="4818605"/>
                  <a:pt x="4752109" y="4821382"/>
                  <a:pt x="4849091" y="4835236"/>
                </a:cubicBezTo>
                <a:cubicBezTo>
                  <a:pt x="5149273" y="4816763"/>
                  <a:pt x="5452134" y="4823892"/>
                  <a:pt x="5749636" y="4779818"/>
                </a:cubicBezTo>
                <a:cubicBezTo>
                  <a:pt x="5831357" y="4767711"/>
                  <a:pt x="5899390" y="4709632"/>
                  <a:pt x="5971309" y="4668982"/>
                </a:cubicBezTo>
                <a:cubicBezTo>
                  <a:pt x="6005894" y="4649434"/>
                  <a:pt x="6036509" y="4623545"/>
                  <a:pt x="6068291" y="4599709"/>
                </a:cubicBezTo>
                <a:cubicBezTo>
                  <a:pt x="6165830" y="4526555"/>
                  <a:pt x="6261697" y="4451190"/>
                  <a:pt x="6359236" y="4378036"/>
                </a:cubicBezTo>
                <a:cubicBezTo>
                  <a:pt x="6753228" y="4082542"/>
                  <a:pt x="6301411" y="4439653"/>
                  <a:pt x="6622473" y="4156364"/>
                </a:cubicBezTo>
                <a:cubicBezTo>
                  <a:pt x="6661956" y="4121526"/>
                  <a:pt x="6708750" y="4095395"/>
                  <a:pt x="6747164" y="4059382"/>
                </a:cubicBezTo>
                <a:cubicBezTo>
                  <a:pt x="6790007" y="4019216"/>
                  <a:pt x="6909265" y="3868992"/>
                  <a:pt x="6941127" y="3823854"/>
                </a:cubicBezTo>
                <a:cubicBezTo>
                  <a:pt x="7000920" y="3739147"/>
                  <a:pt x="7051098" y="3640107"/>
                  <a:pt x="7093527" y="3546764"/>
                </a:cubicBezTo>
                <a:cubicBezTo>
                  <a:pt x="7114109" y="3501483"/>
                  <a:pt x="7130473" y="3454400"/>
                  <a:pt x="7148946" y="3408218"/>
                </a:cubicBezTo>
                <a:cubicBezTo>
                  <a:pt x="7153564" y="3371273"/>
                  <a:pt x="7162800" y="3334615"/>
                  <a:pt x="7162800" y="3297382"/>
                </a:cubicBezTo>
                <a:cubicBezTo>
                  <a:pt x="7162800" y="3131063"/>
                  <a:pt x="7161083" y="2964493"/>
                  <a:pt x="7148946" y="2798618"/>
                </a:cubicBezTo>
                <a:cubicBezTo>
                  <a:pt x="7147131" y="2773814"/>
                  <a:pt x="7131527" y="2751986"/>
                  <a:pt x="7121236" y="2729345"/>
                </a:cubicBezTo>
                <a:cubicBezTo>
                  <a:pt x="7108417" y="2701142"/>
                  <a:pt x="7092492" y="2674421"/>
                  <a:pt x="7079673" y="2646218"/>
                </a:cubicBezTo>
                <a:cubicBezTo>
                  <a:pt x="7046299" y="2572794"/>
                  <a:pt x="7024187" y="2493704"/>
                  <a:pt x="6982691" y="2424545"/>
                </a:cubicBezTo>
                <a:cubicBezTo>
                  <a:pt x="6950712" y="2371249"/>
                  <a:pt x="6937829" y="2337083"/>
                  <a:pt x="6885709" y="2299854"/>
                </a:cubicBezTo>
                <a:cubicBezTo>
                  <a:pt x="6873826" y="2291366"/>
                  <a:pt x="6858000" y="2290618"/>
                  <a:pt x="6844146" y="2286000"/>
                </a:cubicBezTo>
                <a:cubicBezTo>
                  <a:pt x="6811819" y="2295236"/>
                  <a:pt x="6778380" y="2301223"/>
                  <a:pt x="6747164" y="2313709"/>
                </a:cubicBezTo>
                <a:cubicBezTo>
                  <a:pt x="6731704" y="2319893"/>
                  <a:pt x="6720057" y="2333157"/>
                  <a:pt x="6705600" y="2341418"/>
                </a:cubicBezTo>
                <a:cubicBezTo>
                  <a:pt x="6687668" y="2351665"/>
                  <a:pt x="6667696" y="2358181"/>
                  <a:pt x="6650182" y="2369127"/>
                </a:cubicBezTo>
                <a:cubicBezTo>
                  <a:pt x="6630601" y="2381365"/>
                  <a:pt x="6613554" y="2397270"/>
                  <a:pt x="6594764" y="2410691"/>
                </a:cubicBezTo>
                <a:cubicBezTo>
                  <a:pt x="6581214" y="2420369"/>
                  <a:pt x="6567055" y="2429164"/>
                  <a:pt x="6553200" y="2438400"/>
                </a:cubicBezTo>
                <a:cubicBezTo>
                  <a:pt x="6545370" y="2451449"/>
                  <a:pt x="6497782" y="2519408"/>
                  <a:pt x="6497782" y="2549236"/>
                </a:cubicBezTo>
                <a:cubicBezTo>
                  <a:pt x="6497782" y="2591055"/>
                  <a:pt x="6507018" y="2632363"/>
                  <a:pt x="6511636" y="2673927"/>
                </a:cubicBezTo>
                <a:cubicBezTo>
                  <a:pt x="6507018" y="2710873"/>
                  <a:pt x="6510506" y="2749773"/>
                  <a:pt x="6497782" y="2784764"/>
                </a:cubicBezTo>
                <a:cubicBezTo>
                  <a:pt x="6491086" y="2803178"/>
                  <a:pt x="6467086" y="2810024"/>
                  <a:pt x="6456218" y="2826327"/>
                </a:cubicBezTo>
                <a:cubicBezTo>
                  <a:pt x="6448117" y="2838478"/>
                  <a:pt x="6448895" y="2854829"/>
                  <a:pt x="6442364" y="2867891"/>
                </a:cubicBezTo>
                <a:cubicBezTo>
                  <a:pt x="6413941" y="2924738"/>
                  <a:pt x="6421305" y="2894216"/>
                  <a:pt x="6386946" y="2937164"/>
                </a:cubicBezTo>
                <a:cubicBezTo>
                  <a:pt x="6376544" y="2950166"/>
                  <a:pt x="6369896" y="2965935"/>
                  <a:pt x="6359236" y="2978727"/>
                </a:cubicBezTo>
                <a:cubicBezTo>
                  <a:pt x="6339427" y="3002497"/>
                  <a:pt x="6288468" y="3048747"/>
                  <a:pt x="6262255" y="3061854"/>
                </a:cubicBezTo>
                <a:cubicBezTo>
                  <a:pt x="6236130" y="3074916"/>
                  <a:pt x="6207463" y="3082480"/>
                  <a:pt x="6179127" y="3089564"/>
                </a:cubicBezTo>
                <a:cubicBezTo>
                  <a:pt x="6083138" y="3113560"/>
                  <a:pt x="6142634" y="3101315"/>
                  <a:pt x="5999018" y="3117273"/>
                </a:cubicBezTo>
                <a:cubicBezTo>
                  <a:pt x="5897418" y="3112655"/>
                  <a:pt x="5795599" y="3111528"/>
                  <a:pt x="5694218" y="3103418"/>
                </a:cubicBezTo>
                <a:cubicBezTo>
                  <a:pt x="5679661" y="3102253"/>
                  <a:pt x="5665717" y="3096095"/>
                  <a:pt x="5652655" y="3089564"/>
                </a:cubicBezTo>
                <a:cubicBezTo>
                  <a:pt x="5590189" y="3058331"/>
                  <a:pt x="5582110" y="3045112"/>
                  <a:pt x="5527964" y="3006436"/>
                </a:cubicBezTo>
                <a:cubicBezTo>
                  <a:pt x="5514414" y="2996758"/>
                  <a:pt x="5500255" y="2987963"/>
                  <a:pt x="5486400" y="2978727"/>
                </a:cubicBezTo>
                <a:cubicBezTo>
                  <a:pt x="5477164" y="2964873"/>
                  <a:pt x="5470465" y="2948938"/>
                  <a:pt x="5458691" y="2937164"/>
                </a:cubicBezTo>
                <a:cubicBezTo>
                  <a:pt x="5359359" y="2837832"/>
                  <a:pt x="5477693" y="2992715"/>
                  <a:pt x="5375564" y="2867891"/>
                </a:cubicBezTo>
                <a:cubicBezTo>
                  <a:pt x="5346320" y="2832148"/>
                  <a:pt x="5319746" y="2794295"/>
                  <a:pt x="5292436" y="2757054"/>
                </a:cubicBezTo>
                <a:cubicBezTo>
                  <a:pt x="5268943" y="2725018"/>
                  <a:pt x="5237113" y="2697270"/>
                  <a:pt x="5223164" y="2660073"/>
                </a:cubicBezTo>
                <a:lnTo>
                  <a:pt x="5140036" y="2438400"/>
                </a:lnTo>
                <a:cubicBezTo>
                  <a:pt x="5144654" y="2350655"/>
                  <a:pt x="5142992" y="2262352"/>
                  <a:pt x="5153891" y="2175164"/>
                </a:cubicBezTo>
                <a:cubicBezTo>
                  <a:pt x="5159238" y="2132386"/>
                  <a:pt x="5223441" y="2036062"/>
                  <a:pt x="5237018" y="2008909"/>
                </a:cubicBezTo>
                <a:cubicBezTo>
                  <a:pt x="5248140" y="1986665"/>
                  <a:pt x="5251546" y="1960725"/>
                  <a:pt x="5264727" y="1939636"/>
                </a:cubicBezTo>
                <a:cubicBezTo>
                  <a:pt x="5275111" y="1923021"/>
                  <a:pt x="5293389" y="1912818"/>
                  <a:pt x="5306291" y="1898073"/>
                </a:cubicBezTo>
                <a:cubicBezTo>
                  <a:pt x="5325764" y="1875819"/>
                  <a:pt x="5338367" y="1846955"/>
                  <a:pt x="5361709" y="1828800"/>
                </a:cubicBezTo>
                <a:cubicBezTo>
                  <a:pt x="5381340" y="1813531"/>
                  <a:pt x="5408256" y="1811192"/>
                  <a:pt x="5430982" y="1801091"/>
                </a:cubicBezTo>
                <a:cubicBezTo>
                  <a:pt x="5449855" y="1792703"/>
                  <a:pt x="5465814" y="1775042"/>
                  <a:pt x="5486400" y="1773382"/>
                </a:cubicBezTo>
                <a:cubicBezTo>
                  <a:pt x="5753745" y="1751822"/>
                  <a:pt x="6022109" y="1745673"/>
                  <a:pt x="6289964" y="1731818"/>
                </a:cubicBezTo>
                <a:cubicBezTo>
                  <a:pt x="6605787" y="1641583"/>
                  <a:pt x="6224997" y="1762868"/>
                  <a:pt x="6442364" y="1662545"/>
                </a:cubicBezTo>
                <a:cubicBezTo>
                  <a:pt x="6482143" y="1644185"/>
                  <a:pt x="6527868" y="1640575"/>
                  <a:pt x="6567055" y="1620982"/>
                </a:cubicBezTo>
                <a:cubicBezTo>
                  <a:pt x="6654123" y="1577448"/>
                  <a:pt x="6785612" y="1477933"/>
                  <a:pt x="6858000" y="1413164"/>
                </a:cubicBezTo>
                <a:cubicBezTo>
                  <a:pt x="6901805" y="1373970"/>
                  <a:pt x="6939957" y="1328833"/>
                  <a:pt x="6982691" y="1288473"/>
                </a:cubicBezTo>
                <a:cubicBezTo>
                  <a:pt x="7376511" y="916531"/>
                  <a:pt x="6969432" y="1324172"/>
                  <a:pt x="7148946" y="1122218"/>
                </a:cubicBezTo>
                <a:cubicBezTo>
                  <a:pt x="7170641" y="1097811"/>
                  <a:pt x="7197818" y="1078445"/>
                  <a:pt x="7218218" y="1052945"/>
                </a:cubicBezTo>
                <a:cubicBezTo>
                  <a:pt x="7319652" y="926152"/>
                  <a:pt x="7345174" y="858199"/>
                  <a:pt x="7426036" y="706582"/>
                </a:cubicBezTo>
                <a:cubicBezTo>
                  <a:pt x="7433353" y="618783"/>
                  <a:pt x="7454098" y="491581"/>
                  <a:pt x="7426036" y="401782"/>
                </a:cubicBezTo>
                <a:cubicBezTo>
                  <a:pt x="7416103" y="369996"/>
                  <a:pt x="7394166" y="342202"/>
                  <a:pt x="7370618" y="318654"/>
                </a:cubicBezTo>
                <a:cubicBezTo>
                  <a:pt x="7281448" y="229484"/>
                  <a:pt x="7167753" y="211743"/>
                  <a:pt x="7051964" y="166254"/>
                </a:cubicBezTo>
                <a:cubicBezTo>
                  <a:pt x="6996085" y="144302"/>
                  <a:pt x="6942413" y="116705"/>
                  <a:pt x="6885709" y="96982"/>
                </a:cubicBezTo>
                <a:cubicBezTo>
                  <a:pt x="6835976" y="79684"/>
                  <a:pt x="6783486" y="71383"/>
                  <a:pt x="6733309" y="55418"/>
                </a:cubicBezTo>
                <a:cubicBezTo>
                  <a:pt x="6681799" y="39028"/>
                  <a:pt x="6631709" y="18473"/>
                  <a:pt x="6580909" y="0"/>
                </a:cubicBezTo>
                <a:lnTo>
                  <a:pt x="5763491" y="13854"/>
                </a:lnTo>
                <a:cubicBezTo>
                  <a:pt x="5693470" y="20568"/>
                  <a:pt x="5631461" y="63633"/>
                  <a:pt x="5569527" y="96982"/>
                </a:cubicBezTo>
                <a:cubicBezTo>
                  <a:pt x="5494427" y="137420"/>
                  <a:pt x="5388823" y="214137"/>
                  <a:pt x="5320146" y="277091"/>
                </a:cubicBezTo>
                <a:cubicBezTo>
                  <a:pt x="5291259" y="303570"/>
                  <a:pt x="5261832" y="329889"/>
                  <a:pt x="5237018" y="360218"/>
                </a:cubicBezTo>
                <a:cubicBezTo>
                  <a:pt x="5219966" y="381059"/>
                  <a:pt x="5210392" y="407085"/>
                  <a:pt x="5195455" y="429491"/>
                </a:cubicBezTo>
                <a:cubicBezTo>
                  <a:pt x="5182646" y="448704"/>
                  <a:pt x="5165771" y="465109"/>
                  <a:pt x="5153891" y="484909"/>
                </a:cubicBezTo>
                <a:cubicBezTo>
                  <a:pt x="4984494" y="767233"/>
                  <a:pt x="5250918" y="360147"/>
                  <a:pt x="5056909" y="651164"/>
                </a:cubicBezTo>
                <a:cubicBezTo>
                  <a:pt x="5027302" y="828810"/>
                  <a:pt x="5043462" y="695376"/>
                  <a:pt x="5056909" y="1011382"/>
                </a:cubicBezTo>
                <a:cubicBezTo>
                  <a:pt x="5062214" y="1136045"/>
                  <a:pt x="5062464" y="1260954"/>
                  <a:pt x="5070764" y="1385454"/>
                </a:cubicBezTo>
                <a:cubicBezTo>
                  <a:pt x="5071735" y="1400026"/>
                  <a:pt x="5075269" y="1415799"/>
                  <a:pt x="5084618" y="1427018"/>
                </a:cubicBezTo>
                <a:cubicBezTo>
                  <a:pt x="5139165" y="1492475"/>
                  <a:pt x="5131057" y="1445748"/>
                  <a:pt x="5181600" y="1496291"/>
                </a:cubicBezTo>
                <a:cubicBezTo>
                  <a:pt x="5202510" y="1517201"/>
                  <a:pt x="5220615" y="1540960"/>
                  <a:pt x="5237018" y="1565564"/>
                </a:cubicBezTo>
                <a:cubicBezTo>
                  <a:pt x="5259755" y="1599670"/>
                  <a:pt x="5276436" y="1654254"/>
                  <a:pt x="5292436" y="1690254"/>
                </a:cubicBezTo>
                <a:cubicBezTo>
                  <a:pt x="5315873" y="1742987"/>
                  <a:pt x="5318138" y="1742660"/>
                  <a:pt x="5347855" y="1787236"/>
                </a:cubicBezTo>
                <a:cubicBezTo>
                  <a:pt x="5360536" y="1837963"/>
                  <a:pt x="5372946" y="1890221"/>
                  <a:pt x="5389418" y="1939636"/>
                </a:cubicBezTo>
                <a:cubicBezTo>
                  <a:pt x="5453749" y="2132629"/>
                  <a:pt x="5413652" y="1981151"/>
                  <a:pt x="5444836" y="2105891"/>
                </a:cubicBezTo>
                <a:cubicBezTo>
                  <a:pt x="5433441" y="2231236"/>
                  <a:pt x="5484712" y="2473677"/>
                  <a:pt x="5375564" y="2604654"/>
                </a:cubicBezTo>
                <a:cubicBezTo>
                  <a:pt x="5363021" y="2619706"/>
                  <a:pt x="5350303" y="2635349"/>
                  <a:pt x="5334000" y="2646218"/>
                </a:cubicBezTo>
                <a:cubicBezTo>
                  <a:pt x="5285902" y="2678284"/>
                  <a:pt x="5257592" y="2685542"/>
                  <a:pt x="5209309" y="2701636"/>
                </a:cubicBezTo>
                <a:cubicBezTo>
                  <a:pt x="4738255" y="2687782"/>
                  <a:pt x="4266502" y="2689210"/>
                  <a:pt x="3796146" y="2660073"/>
                </a:cubicBezTo>
                <a:cubicBezTo>
                  <a:pt x="3742195" y="2656731"/>
                  <a:pt x="3695638" y="2619789"/>
                  <a:pt x="3643746" y="2604654"/>
                </a:cubicBezTo>
                <a:cubicBezTo>
                  <a:pt x="3130323" y="2454906"/>
                  <a:pt x="3666602" y="2630746"/>
                  <a:pt x="3380509" y="2535382"/>
                </a:cubicBezTo>
                <a:cubicBezTo>
                  <a:pt x="3362036" y="2516909"/>
                  <a:pt x="3345034" y="2496839"/>
                  <a:pt x="3325091" y="2479964"/>
                </a:cubicBezTo>
                <a:cubicBezTo>
                  <a:pt x="3115196" y="2302360"/>
                  <a:pt x="3269675" y="2452257"/>
                  <a:pt x="3144982" y="2327564"/>
                </a:cubicBezTo>
                <a:cubicBezTo>
                  <a:pt x="3126509" y="2286000"/>
                  <a:pt x="3108798" y="2244090"/>
                  <a:pt x="3089564" y="2202873"/>
                </a:cubicBezTo>
                <a:cubicBezTo>
                  <a:pt x="3076463" y="2174799"/>
                  <a:pt x="3059915" y="2148342"/>
                  <a:pt x="3048000" y="2119745"/>
                </a:cubicBezTo>
                <a:cubicBezTo>
                  <a:pt x="3036766" y="2092784"/>
                  <a:pt x="3031139" y="2063737"/>
                  <a:pt x="3020291" y="2036618"/>
                </a:cubicBezTo>
                <a:cubicBezTo>
                  <a:pt x="2951806" y="1865405"/>
                  <a:pt x="3023329" y="2073437"/>
                  <a:pt x="2978727" y="1939636"/>
                </a:cubicBezTo>
                <a:cubicBezTo>
                  <a:pt x="2983345" y="1773382"/>
                  <a:pt x="2984064" y="1606973"/>
                  <a:pt x="2992582" y="1440873"/>
                </a:cubicBezTo>
                <a:cubicBezTo>
                  <a:pt x="2995687" y="1380332"/>
                  <a:pt x="3007949" y="1399813"/>
                  <a:pt x="3048000" y="1413164"/>
                </a:cubicBezTo>
                <a:cubicBezTo>
                  <a:pt x="3043382" y="1445491"/>
                  <a:pt x="3034146" y="1477490"/>
                  <a:pt x="3034146" y="1510145"/>
                </a:cubicBezTo>
                <a:cubicBezTo>
                  <a:pt x="3034146" y="1547378"/>
                  <a:pt x="3035276" y="1585991"/>
                  <a:pt x="3048000" y="1620982"/>
                </a:cubicBezTo>
                <a:cubicBezTo>
                  <a:pt x="3054696" y="1639396"/>
                  <a:pt x="3073620" y="1651157"/>
                  <a:pt x="3089564" y="1662545"/>
                </a:cubicBezTo>
                <a:cubicBezTo>
                  <a:pt x="3106370" y="1674549"/>
                  <a:pt x="3125572" y="1683196"/>
                  <a:pt x="3144982" y="1690254"/>
                </a:cubicBezTo>
                <a:cubicBezTo>
                  <a:pt x="3207649" y="1713042"/>
                  <a:pt x="3248888" y="1719349"/>
                  <a:pt x="3311236" y="1731818"/>
                </a:cubicBezTo>
                <a:cubicBezTo>
                  <a:pt x="3389745" y="1727200"/>
                  <a:pt x="3468473" y="1725420"/>
                  <a:pt x="3546764" y="1717964"/>
                </a:cubicBezTo>
                <a:cubicBezTo>
                  <a:pt x="3565719" y="1716159"/>
                  <a:pt x="3585965" y="1714089"/>
                  <a:pt x="3602182" y="1704109"/>
                </a:cubicBezTo>
                <a:cubicBezTo>
                  <a:pt x="3647026" y="1676512"/>
                  <a:pt x="3683061" y="1636335"/>
                  <a:pt x="3726873" y="1607127"/>
                </a:cubicBezTo>
                <a:cubicBezTo>
                  <a:pt x="3740727" y="1597891"/>
                  <a:pt x="3753543" y="1586865"/>
                  <a:pt x="3768436" y="1579418"/>
                </a:cubicBezTo>
                <a:cubicBezTo>
                  <a:pt x="3887204" y="1520034"/>
                  <a:pt x="3790286" y="1582766"/>
                  <a:pt x="3893127" y="1524000"/>
                </a:cubicBezTo>
                <a:cubicBezTo>
                  <a:pt x="3907584" y="1515739"/>
                  <a:pt x="3919042" y="1501981"/>
                  <a:pt x="3934691" y="1496291"/>
                </a:cubicBezTo>
                <a:cubicBezTo>
                  <a:pt x="3970481" y="1483277"/>
                  <a:pt x="4045527" y="1468582"/>
                  <a:pt x="4045527" y="1468582"/>
                </a:cubicBezTo>
                <a:cubicBezTo>
                  <a:pt x="4147127" y="1473200"/>
                  <a:pt x="4249347" y="1470319"/>
                  <a:pt x="4350327" y="1482436"/>
                </a:cubicBezTo>
                <a:cubicBezTo>
                  <a:pt x="4366860" y="1484420"/>
                  <a:pt x="4381489" y="1497143"/>
                  <a:pt x="4391891" y="1510145"/>
                </a:cubicBezTo>
                <a:cubicBezTo>
                  <a:pt x="4401014" y="1521549"/>
                  <a:pt x="4401128" y="1537854"/>
                  <a:pt x="4405746" y="1551709"/>
                </a:cubicBezTo>
                <a:cubicBezTo>
                  <a:pt x="4410364" y="1717964"/>
                  <a:pt x="4402631" y="1885022"/>
                  <a:pt x="4419600" y="2050473"/>
                </a:cubicBezTo>
                <a:cubicBezTo>
                  <a:pt x="4421599" y="2069964"/>
                  <a:pt x="4455781" y="2073197"/>
                  <a:pt x="4461164" y="2092036"/>
                </a:cubicBezTo>
                <a:cubicBezTo>
                  <a:pt x="4476505" y="2145728"/>
                  <a:pt x="4397119" y="2191282"/>
                  <a:pt x="4378036" y="2216727"/>
                </a:cubicBezTo>
                <a:cubicBezTo>
                  <a:pt x="4347457" y="2257499"/>
                  <a:pt x="4333504" y="2281546"/>
                  <a:pt x="4294909" y="2313709"/>
                </a:cubicBezTo>
                <a:cubicBezTo>
                  <a:pt x="4204524" y="2389030"/>
                  <a:pt x="4307728" y="2283163"/>
                  <a:pt x="4197927" y="2382982"/>
                </a:cubicBezTo>
                <a:cubicBezTo>
                  <a:pt x="4130913" y="2443904"/>
                  <a:pt x="4100003" y="2498026"/>
                  <a:pt x="4017818" y="2535382"/>
                </a:cubicBezTo>
                <a:cubicBezTo>
                  <a:pt x="3996381" y="2545126"/>
                  <a:pt x="3971637" y="2544618"/>
                  <a:pt x="3948546" y="2549236"/>
                </a:cubicBezTo>
                <a:cubicBezTo>
                  <a:pt x="3930073" y="2567709"/>
                  <a:pt x="3914385" y="2589469"/>
                  <a:pt x="3893127" y="2604654"/>
                </a:cubicBezTo>
                <a:cubicBezTo>
                  <a:pt x="3754736" y="2703505"/>
                  <a:pt x="3710283" y="2678032"/>
                  <a:pt x="3602182" y="2840182"/>
                </a:cubicBezTo>
                <a:cubicBezTo>
                  <a:pt x="3592946" y="2854036"/>
                  <a:pt x="3584464" y="2868424"/>
                  <a:pt x="3574473" y="2881745"/>
                </a:cubicBezTo>
                <a:cubicBezTo>
                  <a:pt x="3556731" y="2905402"/>
                  <a:pt x="3535458" y="2926414"/>
                  <a:pt x="3519055" y="2951018"/>
                </a:cubicBezTo>
                <a:cubicBezTo>
                  <a:pt x="3489180" y="2995830"/>
                  <a:pt x="3461126" y="3041966"/>
                  <a:pt x="3435927" y="3089564"/>
                </a:cubicBezTo>
                <a:cubicBezTo>
                  <a:pt x="3304193" y="3338394"/>
                  <a:pt x="3458266" y="3077064"/>
                  <a:pt x="3366655" y="3241964"/>
                </a:cubicBezTo>
                <a:cubicBezTo>
                  <a:pt x="3316141" y="3332889"/>
                  <a:pt x="3323754" y="3297594"/>
                  <a:pt x="3283527" y="3408218"/>
                </a:cubicBezTo>
                <a:cubicBezTo>
                  <a:pt x="3178846" y="3696092"/>
                  <a:pt x="3245723" y="3523651"/>
                  <a:pt x="3186546" y="3713018"/>
                </a:cubicBezTo>
                <a:cubicBezTo>
                  <a:pt x="3173478" y="3754836"/>
                  <a:pt x="3158837" y="3796145"/>
                  <a:pt x="3144982" y="3837709"/>
                </a:cubicBezTo>
                <a:cubicBezTo>
                  <a:pt x="3154218" y="3879273"/>
                  <a:pt x="3159227" y="3922007"/>
                  <a:pt x="3172691" y="3962400"/>
                </a:cubicBezTo>
                <a:cubicBezTo>
                  <a:pt x="3177957" y="3978197"/>
                  <a:pt x="3187256" y="3993741"/>
                  <a:pt x="3200400" y="4003964"/>
                </a:cubicBezTo>
                <a:cubicBezTo>
                  <a:pt x="3279743" y="4065676"/>
                  <a:pt x="3399608" y="4172875"/>
                  <a:pt x="3519055" y="4184073"/>
                </a:cubicBezTo>
                <a:cubicBezTo>
                  <a:pt x="3634097" y="4194858"/>
                  <a:pt x="3749964" y="4193309"/>
                  <a:pt x="3865418" y="4197927"/>
                </a:cubicBezTo>
                <a:cubicBezTo>
                  <a:pt x="3934691" y="4207163"/>
                  <a:pt x="4003398" y="4228222"/>
                  <a:pt x="4073236" y="4225636"/>
                </a:cubicBezTo>
                <a:cubicBezTo>
                  <a:pt x="4149334" y="4222818"/>
                  <a:pt x="4320743" y="4154527"/>
                  <a:pt x="4391891" y="4128654"/>
                </a:cubicBezTo>
                <a:cubicBezTo>
                  <a:pt x="4722949" y="3880363"/>
                  <a:pt x="4433670" y="4109567"/>
                  <a:pt x="4641273" y="3920836"/>
                </a:cubicBezTo>
                <a:cubicBezTo>
                  <a:pt x="4738739" y="3832231"/>
                  <a:pt x="4685590" y="3902853"/>
                  <a:pt x="4738255" y="3823854"/>
                </a:cubicBezTo>
                <a:cubicBezTo>
                  <a:pt x="4769326" y="3730639"/>
                  <a:pt x="4752464" y="3811056"/>
                  <a:pt x="4696691" y="3643745"/>
                </a:cubicBezTo>
                <a:cubicBezTo>
                  <a:pt x="4692073" y="3629891"/>
                  <a:pt x="4690082" y="3614862"/>
                  <a:pt x="4682836" y="3602182"/>
                </a:cubicBezTo>
                <a:cubicBezTo>
                  <a:pt x="4635682" y="3519663"/>
                  <a:pt x="4656329" y="3572511"/>
                  <a:pt x="4613564" y="3519054"/>
                </a:cubicBezTo>
                <a:cubicBezTo>
                  <a:pt x="4603162" y="3506052"/>
                  <a:pt x="4596515" y="3490283"/>
                  <a:pt x="4585855" y="3477491"/>
                </a:cubicBezTo>
                <a:cubicBezTo>
                  <a:pt x="4524772" y="3404192"/>
                  <a:pt x="4559493" y="3466329"/>
                  <a:pt x="4530436" y="3408218"/>
                </a:cubicBezTo>
              </a:path>
            </a:pathLst>
          </a:custGeom>
          <a:noFill/>
          <a:ln cap="rnd"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олилиния 12"/>
          <p:cNvSpPr/>
          <p:nvPr/>
        </p:nvSpPr>
        <p:spPr>
          <a:xfrm>
            <a:off x="984240" y="1290600"/>
            <a:ext cx="7799400" cy="4943520"/>
          </a:xfrm>
          <a:custGeom>
            <a:avLst/>
            <a:gdLst/>
            <a:ahLst/>
            <a:rect l="l" t="t" r="r" b="b"/>
            <a:pathLst>
              <a:path w="7799613" h="4943996">
                <a:moveTo>
                  <a:pt x="1468086" y="635233"/>
                </a:moveTo>
                <a:cubicBezTo>
                  <a:pt x="1494647" y="555546"/>
                  <a:pt x="1487314" y="601308"/>
                  <a:pt x="1454231" y="468978"/>
                </a:cubicBezTo>
                <a:cubicBezTo>
                  <a:pt x="1445858" y="435488"/>
                  <a:pt x="1436222" y="412350"/>
                  <a:pt x="1412667" y="385851"/>
                </a:cubicBezTo>
                <a:cubicBezTo>
                  <a:pt x="1386633" y="356563"/>
                  <a:pt x="1363563" y="322166"/>
                  <a:pt x="1329540" y="302724"/>
                </a:cubicBezTo>
                <a:cubicBezTo>
                  <a:pt x="1264885" y="265778"/>
                  <a:pt x="1204021" y="221220"/>
                  <a:pt x="1135576" y="191887"/>
                </a:cubicBezTo>
                <a:cubicBezTo>
                  <a:pt x="1103249" y="178033"/>
                  <a:pt x="1070053" y="166053"/>
                  <a:pt x="1038595" y="150324"/>
                </a:cubicBezTo>
                <a:cubicBezTo>
                  <a:pt x="894710" y="78382"/>
                  <a:pt x="1052375" y="132489"/>
                  <a:pt x="872340" y="81051"/>
                </a:cubicBezTo>
                <a:cubicBezTo>
                  <a:pt x="224920" y="114252"/>
                  <a:pt x="487048" y="0"/>
                  <a:pt x="276595" y="150324"/>
                </a:cubicBezTo>
                <a:cubicBezTo>
                  <a:pt x="263045" y="160002"/>
                  <a:pt x="248886" y="168797"/>
                  <a:pt x="235031" y="178033"/>
                </a:cubicBezTo>
                <a:cubicBezTo>
                  <a:pt x="225795" y="191887"/>
                  <a:pt x="214769" y="204703"/>
                  <a:pt x="207322" y="219596"/>
                </a:cubicBezTo>
                <a:cubicBezTo>
                  <a:pt x="193120" y="248000"/>
                  <a:pt x="184883" y="304081"/>
                  <a:pt x="179613" y="330433"/>
                </a:cubicBezTo>
                <a:cubicBezTo>
                  <a:pt x="213115" y="598456"/>
                  <a:pt x="175586" y="320123"/>
                  <a:pt x="207322" y="510542"/>
                </a:cubicBezTo>
                <a:cubicBezTo>
                  <a:pt x="212691" y="542753"/>
                  <a:pt x="208087" y="577606"/>
                  <a:pt x="221176" y="607524"/>
                </a:cubicBezTo>
                <a:cubicBezTo>
                  <a:pt x="241198" y="653289"/>
                  <a:pt x="278603" y="689380"/>
                  <a:pt x="304304" y="732215"/>
                </a:cubicBezTo>
                <a:cubicBezTo>
                  <a:pt x="318158" y="755306"/>
                  <a:pt x="328135" y="781222"/>
                  <a:pt x="345867" y="801487"/>
                </a:cubicBezTo>
                <a:cubicBezTo>
                  <a:pt x="361073" y="818865"/>
                  <a:pt x="384958" y="826723"/>
                  <a:pt x="401286" y="843051"/>
                </a:cubicBezTo>
                <a:cubicBezTo>
                  <a:pt x="417614" y="859379"/>
                  <a:pt x="426521" y="882141"/>
                  <a:pt x="442849" y="898469"/>
                </a:cubicBezTo>
                <a:cubicBezTo>
                  <a:pt x="476307" y="931927"/>
                  <a:pt x="548043" y="948683"/>
                  <a:pt x="581395" y="967742"/>
                </a:cubicBezTo>
                <a:cubicBezTo>
                  <a:pt x="648130" y="1005876"/>
                  <a:pt x="710372" y="1051389"/>
                  <a:pt x="775358" y="1092433"/>
                </a:cubicBezTo>
                <a:cubicBezTo>
                  <a:pt x="798126" y="1106813"/>
                  <a:pt x="820546" y="1121953"/>
                  <a:pt x="844631" y="1133996"/>
                </a:cubicBezTo>
                <a:cubicBezTo>
                  <a:pt x="872340" y="1147851"/>
                  <a:pt x="898368" y="1165763"/>
                  <a:pt x="927758" y="1175560"/>
                </a:cubicBezTo>
                <a:cubicBezTo>
                  <a:pt x="954408" y="1184443"/>
                  <a:pt x="983248" y="1184390"/>
                  <a:pt x="1010886" y="1189415"/>
                </a:cubicBezTo>
                <a:cubicBezTo>
                  <a:pt x="1063101" y="1198909"/>
                  <a:pt x="1128940" y="1212439"/>
                  <a:pt x="1177140" y="1230978"/>
                </a:cubicBezTo>
                <a:cubicBezTo>
                  <a:pt x="1206055" y="1242099"/>
                  <a:pt x="1231957" y="1259960"/>
                  <a:pt x="1260267" y="1272542"/>
                </a:cubicBezTo>
                <a:cubicBezTo>
                  <a:pt x="1295119" y="1288032"/>
                  <a:pt x="1334355" y="1292901"/>
                  <a:pt x="1371104" y="1300251"/>
                </a:cubicBezTo>
                <a:cubicBezTo>
                  <a:pt x="1398813" y="1323342"/>
                  <a:pt x="1425061" y="1348309"/>
                  <a:pt x="1454231" y="1369524"/>
                </a:cubicBezTo>
                <a:cubicBezTo>
                  <a:pt x="1476009" y="1385362"/>
                  <a:pt x="1508062" y="1389026"/>
                  <a:pt x="1523504" y="1411087"/>
                </a:cubicBezTo>
                <a:cubicBezTo>
                  <a:pt x="1542784" y="1438630"/>
                  <a:pt x="1541977" y="1475742"/>
                  <a:pt x="1551213" y="1508069"/>
                </a:cubicBezTo>
                <a:cubicBezTo>
                  <a:pt x="1555831" y="1545015"/>
                  <a:pt x="1565067" y="1581673"/>
                  <a:pt x="1565067" y="1618906"/>
                </a:cubicBezTo>
                <a:cubicBezTo>
                  <a:pt x="1565067" y="1674516"/>
                  <a:pt x="1562669" y="1730743"/>
                  <a:pt x="1551213" y="1785160"/>
                </a:cubicBezTo>
                <a:cubicBezTo>
                  <a:pt x="1543967" y="1819577"/>
                  <a:pt x="1524203" y="1850123"/>
                  <a:pt x="1509649" y="1882142"/>
                </a:cubicBezTo>
                <a:cubicBezTo>
                  <a:pt x="1501103" y="1900944"/>
                  <a:pt x="1494332" y="1921038"/>
                  <a:pt x="1481940" y="1937560"/>
                </a:cubicBezTo>
                <a:cubicBezTo>
                  <a:pt x="1407133" y="2037302"/>
                  <a:pt x="1359451" y="2067340"/>
                  <a:pt x="1274122" y="2159233"/>
                </a:cubicBezTo>
                <a:cubicBezTo>
                  <a:pt x="1249579" y="2185664"/>
                  <a:pt x="1229112" y="2215671"/>
                  <a:pt x="1204849" y="2242360"/>
                </a:cubicBezTo>
                <a:cubicBezTo>
                  <a:pt x="1182882" y="2266523"/>
                  <a:pt x="1157642" y="2287561"/>
                  <a:pt x="1135576" y="2311633"/>
                </a:cubicBezTo>
                <a:cubicBezTo>
                  <a:pt x="1106805" y="2343019"/>
                  <a:pt x="1085402" y="2381653"/>
                  <a:pt x="1052449" y="2408615"/>
                </a:cubicBezTo>
                <a:cubicBezTo>
                  <a:pt x="818248" y="2600234"/>
                  <a:pt x="895029" y="2510955"/>
                  <a:pt x="706086" y="2630287"/>
                </a:cubicBezTo>
                <a:cubicBezTo>
                  <a:pt x="415947" y="2813532"/>
                  <a:pt x="703804" y="2662933"/>
                  <a:pt x="456704" y="2768833"/>
                </a:cubicBezTo>
                <a:cubicBezTo>
                  <a:pt x="428229" y="2781036"/>
                  <a:pt x="400773" y="2795561"/>
                  <a:pt x="373576" y="2810396"/>
                </a:cubicBezTo>
                <a:cubicBezTo>
                  <a:pt x="349936" y="2823291"/>
                  <a:pt x="328911" y="2841023"/>
                  <a:pt x="304304" y="2851960"/>
                </a:cubicBezTo>
                <a:cubicBezTo>
                  <a:pt x="286904" y="2859694"/>
                  <a:pt x="267359" y="2861197"/>
                  <a:pt x="248886" y="2865815"/>
                </a:cubicBezTo>
                <a:cubicBezTo>
                  <a:pt x="218305" y="2906589"/>
                  <a:pt x="204355" y="2930631"/>
                  <a:pt x="165758" y="2962796"/>
                </a:cubicBezTo>
                <a:cubicBezTo>
                  <a:pt x="152966" y="2973456"/>
                  <a:pt x="138049" y="2981269"/>
                  <a:pt x="124195" y="2990506"/>
                </a:cubicBezTo>
                <a:cubicBezTo>
                  <a:pt x="44786" y="3109618"/>
                  <a:pt x="139991" y="2958914"/>
                  <a:pt x="82631" y="3073633"/>
                </a:cubicBezTo>
                <a:cubicBezTo>
                  <a:pt x="28915" y="3181063"/>
                  <a:pt x="75892" y="3052287"/>
                  <a:pt x="41067" y="3156760"/>
                </a:cubicBezTo>
                <a:cubicBezTo>
                  <a:pt x="31947" y="3530698"/>
                  <a:pt x="0" y="3727280"/>
                  <a:pt x="68776" y="4071160"/>
                </a:cubicBezTo>
                <a:cubicBezTo>
                  <a:pt x="78531" y="4119934"/>
                  <a:pt x="89024" y="4174535"/>
                  <a:pt x="124195" y="4209706"/>
                </a:cubicBezTo>
                <a:cubicBezTo>
                  <a:pt x="161977" y="4247488"/>
                  <a:pt x="177701" y="4259294"/>
                  <a:pt x="207322" y="4306687"/>
                </a:cubicBezTo>
                <a:cubicBezTo>
                  <a:pt x="218268" y="4324201"/>
                  <a:pt x="220427" y="4347502"/>
                  <a:pt x="235031" y="4362106"/>
                </a:cubicBezTo>
                <a:cubicBezTo>
                  <a:pt x="237787" y="4364862"/>
                  <a:pt x="366259" y="4473495"/>
                  <a:pt x="415140" y="4500651"/>
                </a:cubicBezTo>
                <a:cubicBezTo>
                  <a:pt x="496477" y="4545838"/>
                  <a:pt x="634528" y="4602341"/>
                  <a:pt x="706086" y="4625342"/>
                </a:cubicBezTo>
                <a:cubicBezTo>
                  <a:pt x="764745" y="4644196"/>
                  <a:pt x="826420" y="4651962"/>
                  <a:pt x="886195" y="4666906"/>
                </a:cubicBezTo>
                <a:cubicBezTo>
                  <a:pt x="918812" y="4675060"/>
                  <a:pt x="949606" y="4692776"/>
                  <a:pt x="983176" y="4694615"/>
                </a:cubicBezTo>
                <a:cubicBezTo>
                  <a:pt x="1287659" y="4711299"/>
                  <a:pt x="1897576" y="4722324"/>
                  <a:pt x="1897576" y="4722324"/>
                </a:cubicBezTo>
                <a:lnTo>
                  <a:pt x="2022267" y="4736178"/>
                </a:lnTo>
                <a:lnTo>
                  <a:pt x="2645722" y="4791596"/>
                </a:lnTo>
                <a:cubicBezTo>
                  <a:pt x="2956185" y="4853690"/>
                  <a:pt x="2633675" y="4793443"/>
                  <a:pt x="3435431" y="4819306"/>
                </a:cubicBezTo>
                <a:cubicBezTo>
                  <a:pt x="3624903" y="4825418"/>
                  <a:pt x="3814061" y="4839123"/>
                  <a:pt x="4003467" y="4847015"/>
                </a:cubicBezTo>
                <a:lnTo>
                  <a:pt x="4765467" y="4874724"/>
                </a:lnTo>
                <a:cubicBezTo>
                  <a:pt x="5258861" y="4942778"/>
                  <a:pt x="5032222" y="4923391"/>
                  <a:pt x="5444340" y="4943996"/>
                </a:cubicBezTo>
                <a:lnTo>
                  <a:pt x="6178631" y="4930142"/>
                </a:lnTo>
                <a:cubicBezTo>
                  <a:pt x="6248027" y="4928101"/>
                  <a:pt x="6317142" y="4920364"/>
                  <a:pt x="6386449" y="4916287"/>
                </a:cubicBezTo>
                <a:lnTo>
                  <a:pt x="6649686" y="4902433"/>
                </a:lnTo>
                <a:cubicBezTo>
                  <a:pt x="6833087" y="4841299"/>
                  <a:pt x="6628802" y="4920613"/>
                  <a:pt x="6815940" y="4805451"/>
                </a:cubicBezTo>
                <a:cubicBezTo>
                  <a:pt x="6955070" y="4719832"/>
                  <a:pt x="6880491" y="4815841"/>
                  <a:pt x="7023758" y="4694615"/>
                </a:cubicBezTo>
                <a:cubicBezTo>
                  <a:pt x="7051293" y="4671316"/>
                  <a:pt x="7067526" y="4636992"/>
                  <a:pt x="7093031" y="4611487"/>
                </a:cubicBezTo>
                <a:cubicBezTo>
                  <a:pt x="7123138" y="4581380"/>
                  <a:pt x="7156114" y="4554123"/>
                  <a:pt x="7190013" y="4528360"/>
                </a:cubicBezTo>
                <a:cubicBezTo>
                  <a:pt x="7271652" y="4466315"/>
                  <a:pt x="7373751" y="4427025"/>
                  <a:pt x="7439395" y="4348251"/>
                </a:cubicBezTo>
                <a:cubicBezTo>
                  <a:pt x="7462486" y="4320542"/>
                  <a:pt x="7487983" y="4294673"/>
                  <a:pt x="7508667" y="4265124"/>
                </a:cubicBezTo>
                <a:cubicBezTo>
                  <a:pt x="7545410" y="4212634"/>
                  <a:pt x="7528075" y="4217992"/>
                  <a:pt x="7550231" y="4168142"/>
                </a:cubicBezTo>
                <a:cubicBezTo>
                  <a:pt x="7562813" y="4139832"/>
                  <a:pt x="7579213" y="4113325"/>
                  <a:pt x="7591795" y="4085015"/>
                </a:cubicBezTo>
                <a:cubicBezTo>
                  <a:pt x="7645834" y="3963427"/>
                  <a:pt x="7659972" y="3921680"/>
                  <a:pt x="7702631" y="3807924"/>
                </a:cubicBezTo>
                <a:cubicBezTo>
                  <a:pt x="7711867" y="3729415"/>
                  <a:pt x="7716444" y="3650216"/>
                  <a:pt x="7730340" y="3572396"/>
                </a:cubicBezTo>
                <a:cubicBezTo>
                  <a:pt x="7739596" y="3520561"/>
                  <a:pt x="7766089" y="3472329"/>
                  <a:pt x="7771904" y="3419996"/>
                </a:cubicBezTo>
                <a:cubicBezTo>
                  <a:pt x="7784664" y="3305156"/>
                  <a:pt x="7779349" y="3189002"/>
                  <a:pt x="7785758" y="3073633"/>
                </a:cubicBezTo>
                <a:cubicBezTo>
                  <a:pt x="7788587" y="3022702"/>
                  <a:pt x="7794995" y="2972033"/>
                  <a:pt x="7799613" y="2921233"/>
                </a:cubicBezTo>
                <a:cubicBezTo>
                  <a:pt x="7790377" y="2630287"/>
                  <a:pt x="7784022" y="2339236"/>
                  <a:pt x="7771904" y="2048396"/>
                </a:cubicBezTo>
                <a:cubicBezTo>
                  <a:pt x="7765435" y="1893134"/>
                  <a:pt x="7752431" y="1936652"/>
                  <a:pt x="7716486" y="1771306"/>
                </a:cubicBezTo>
                <a:cubicBezTo>
                  <a:pt x="7704551" y="1716405"/>
                  <a:pt x="7698826" y="1660328"/>
                  <a:pt x="7688776" y="1605051"/>
                </a:cubicBezTo>
                <a:cubicBezTo>
                  <a:pt x="7680351" y="1558714"/>
                  <a:pt x="7669492" y="1512843"/>
                  <a:pt x="7661067" y="1466506"/>
                </a:cubicBezTo>
                <a:cubicBezTo>
                  <a:pt x="7651017" y="1411229"/>
                  <a:pt x="7647834" y="1354537"/>
                  <a:pt x="7633358" y="1300251"/>
                </a:cubicBezTo>
                <a:cubicBezTo>
                  <a:pt x="7610781" y="1215586"/>
                  <a:pt x="7577940" y="1133996"/>
                  <a:pt x="7550231" y="1050869"/>
                </a:cubicBezTo>
                <a:lnTo>
                  <a:pt x="7508667" y="926178"/>
                </a:lnTo>
                <a:cubicBezTo>
                  <a:pt x="7499431" y="898469"/>
                  <a:pt x="7501611" y="863704"/>
                  <a:pt x="7480958" y="843051"/>
                </a:cubicBezTo>
                <a:cubicBezTo>
                  <a:pt x="7467104" y="829196"/>
                  <a:pt x="7451938" y="816539"/>
                  <a:pt x="7439395" y="801487"/>
                </a:cubicBezTo>
                <a:cubicBezTo>
                  <a:pt x="7382400" y="733093"/>
                  <a:pt x="7424059" y="710333"/>
                  <a:pt x="7273140" y="676796"/>
                </a:cubicBezTo>
                <a:lnTo>
                  <a:pt x="7148449" y="649087"/>
                </a:lnTo>
                <a:cubicBezTo>
                  <a:pt x="7037613" y="653705"/>
                  <a:pt x="6926591" y="655038"/>
                  <a:pt x="6815940" y="662942"/>
                </a:cubicBezTo>
                <a:cubicBezTo>
                  <a:pt x="6796947" y="664299"/>
                  <a:pt x="6776365" y="666234"/>
                  <a:pt x="6760522" y="676796"/>
                </a:cubicBezTo>
                <a:cubicBezTo>
                  <a:pt x="6733351" y="694910"/>
                  <a:pt x="6714340" y="722978"/>
                  <a:pt x="6691249" y="746069"/>
                </a:cubicBezTo>
                <a:lnTo>
                  <a:pt x="6649686" y="787633"/>
                </a:lnTo>
                <a:cubicBezTo>
                  <a:pt x="6640449" y="796870"/>
                  <a:pt x="6632845" y="808096"/>
                  <a:pt x="6621976" y="815342"/>
                </a:cubicBezTo>
                <a:cubicBezTo>
                  <a:pt x="6608122" y="824578"/>
                  <a:pt x="6593205" y="832391"/>
                  <a:pt x="6580413" y="843051"/>
                </a:cubicBezTo>
                <a:cubicBezTo>
                  <a:pt x="6565361" y="855594"/>
                  <a:pt x="6553901" y="872072"/>
                  <a:pt x="6538849" y="884615"/>
                </a:cubicBezTo>
                <a:cubicBezTo>
                  <a:pt x="6507167" y="911017"/>
                  <a:pt x="6493758" y="915311"/>
                  <a:pt x="6455722" y="926178"/>
                </a:cubicBezTo>
                <a:cubicBezTo>
                  <a:pt x="6437413" y="931409"/>
                  <a:pt x="6418133" y="933347"/>
                  <a:pt x="6400304" y="940033"/>
                </a:cubicBezTo>
                <a:cubicBezTo>
                  <a:pt x="6303148" y="976467"/>
                  <a:pt x="6383714" y="955255"/>
                  <a:pt x="6303322" y="995451"/>
                </a:cubicBezTo>
                <a:cubicBezTo>
                  <a:pt x="6268106" y="1013059"/>
                  <a:pt x="6212692" y="1016774"/>
                  <a:pt x="6178631" y="1023160"/>
                </a:cubicBezTo>
                <a:cubicBezTo>
                  <a:pt x="6132341" y="1031839"/>
                  <a:pt x="6040086" y="1050869"/>
                  <a:pt x="6040086" y="1050869"/>
                </a:cubicBezTo>
                <a:cubicBezTo>
                  <a:pt x="5803354" y="1145561"/>
                  <a:pt x="5896735" y="1118746"/>
                  <a:pt x="5388922" y="1064724"/>
                </a:cubicBezTo>
                <a:cubicBezTo>
                  <a:pt x="5359517" y="1061596"/>
                  <a:pt x="5341447" y="1029288"/>
                  <a:pt x="5319649" y="1009306"/>
                </a:cubicBezTo>
                <a:cubicBezTo>
                  <a:pt x="5285948" y="978413"/>
                  <a:pt x="5254994" y="944651"/>
                  <a:pt x="5222667" y="912324"/>
                </a:cubicBezTo>
                <a:lnTo>
                  <a:pt x="5111831" y="801487"/>
                </a:lnTo>
                <a:cubicBezTo>
                  <a:pt x="5088740" y="778396"/>
                  <a:pt x="5068682" y="751808"/>
                  <a:pt x="5042558" y="732215"/>
                </a:cubicBezTo>
                <a:cubicBezTo>
                  <a:pt x="4976721" y="682837"/>
                  <a:pt x="4882714" y="610729"/>
                  <a:pt x="4820886" y="579815"/>
                </a:cubicBezTo>
                <a:cubicBezTo>
                  <a:pt x="4783940" y="561342"/>
                  <a:pt x="4746157" y="544456"/>
                  <a:pt x="4710049" y="524396"/>
                </a:cubicBezTo>
                <a:cubicBezTo>
                  <a:pt x="4662970" y="498241"/>
                  <a:pt x="4619102" y="466468"/>
                  <a:pt x="4571504" y="441269"/>
                </a:cubicBezTo>
                <a:cubicBezTo>
                  <a:pt x="4498589" y="402667"/>
                  <a:pt x="4427745" y="385641"/>
                  <a:pt x="4349831" y="358142"/>
                </a:cubicBezTo>
                <a:cubicBezTo>
                  <a:pt x="4312623" y="345010"/>
                  <a:pt x="4275631" y="331232"/>
                  <a:pt x="4238995" y="316578"/>
                </a:cubicBezTo>
                <a:cubicBezTo>
                  <a:pt x="4043891" y="238537"/>
                  <a:pt x="4117670" y="256707"/>
                  <a:pt x="3934195" y="205742"/>
                </a:cubicBezTo>
                <a:cubicBezTo>
                  <a:pt x="3897502" y="195549"/>
                  <a:pt x="3861019" y="183682"/>
                  <a:pt x="3823358" y="178033"/>
                </a:cubicBezTo>
                <a:cubicBezTo>
                  <a:pt x="3768363" y="169784"/>
                  <a:pt x="3712438" y="169711"/>
                  <a:pt x="3657104" y="164178"/>
                </a:cubicBezTo>
                <a:cubicBezTo>
                  <a:pt x="3597391" y="158207"/>
                  <a:pt x="3509869" y="145124"/>
                  <a:pt x="3449286" y="136469"/>
                </a:cubicBezTo>
                <a:cubicBezTo>
                  <a:pt x="3310740" y="141087"/>
                  <a:pt x="3171510" y="135812"/>
                  <a:pt x="3033649" y="150324"/>
                </a:cubicBezTo>
                <a:cubicBezTo>
                  <a:pt x="2980177" y="155953"/>
                  <a:pt x="2776928" y="264830"/>
                  <a:pt x="2756558" y="275015"/>
                </a:cubicBezTo>
                <a:cubicBezTo>
                  <a:pt x="2629010" y="338789"/>
                  <a:pt x="2462149" y="417024"/>
                  <a:pt x="2368631" y="510542"/>
                </a:cubicBezTo>
                <a:cubicBezTo>
                  <a:pt x="2255397" y="623776"/>
                  <a:pt x="2311006" y="563917"/>
                  <a:pt x="2202376" y="690651"/>
                </a:cubicBezTo>
                <a:cubicBezTo>
                  <a:pt x="2183903" y="736833"/>
                  <a:pt x="2163512" y="782292"/>
                  <a:pt x="2146958" y="829196"/>
                </a:cubicBezTo>
                <a:cubicBezTo>
                  <a:pt x="2135768" y="860900"/>
                  <a:pt x="2129881" y="894282"/>
                  <a:pt x="2119249" y="926178"/>
                </a:cubicBezTo>
                <a:cubicBezTo>
                  <a:pt x="2106771" y="963611"/>
                  <a:pt x="2091540" y="1000069"/>
                  <a:pt x="2077686" y="1037015"/>
                </a:cubicBezTo>
                <a:cubicBezTo>
                  <a:pt x="2068449" y="1087815"/>
                  <a:pt x="2057635" y="1138353"/>
                  <a:pt x="2049976" y="1189415"/>
                </a:cubicBezTo>
                <a:cubicBezTo>
                  <a:pt x="2029966" y="1322817"/>
                  <a:pt x="2023534" y="1476147"/>
                  <a:pt x="2049976" y="1605051"/>
                </a:cubicBezTo>
                <a:cubicBezTo>
                  <a:pt x="2083151" y="1766778"/>
                  <a:pt x="2156883" y="1876248"/>
                  <a:pt x="2243940" y="2006833"/>
                </a:cubicBezTo>
                <a:cubicBezTo>
                  <a:pt x="2364690" y="2187958"/>
                  <a:pt x="2321048" y="2139359"/>
                  <a:pt x="2410195" y="2228506"/>
                </a:cubicBezTo>
                <a:cubicBezTo>
                  <a:pt x="2414813" y="2246979"/>
                  <a:pt x="2415534" y="2266893"/>
                  <a:pt x="2424049" y="2283924"/>
                </a:cubicBezTo>
                <a:cubicBezTo>
                  <a:pt x="2438942" y="2313710"/>
                  <a:pt x="2460369" y="2339769"/>
                  <a:pt x="2479467" y="2367051"/>
                </a:cubicBezTo>
                <a:cubicBezTo>
                  <a:pt x="2599743" y="2538873"/>
                  <a:pt x="2458667" y="2328921"/>
                  <a:pt x="2548740" y="2464033"/>
                </a:cubicBezTo>
                <a:cubicBezTo>
                  <a:pt x="2573617" y="2613287"/>
                  <a:pt x="2577767" y="2601714"/>
                  <a:pt x="2548740" y="2824251"/>
                </a:cubicBezTo>
                <a:cubicBezTo>
                  <a:pt x="2546586" y="2840762"/>
                  <a:pt x="2530709" y="2852265"/>
                  <a:pt x="2521031" y="2865815"/>
                </a:cubicBezTo>
                <a:cubicBezTo>
                  <a:pt x="2466803" y="2941734"/>
                  <a:pt x="2477385" y="2923315"/>
                  <a:pt x="2396340" y="3004360"/>
                </a:cubicBezTo>
                <a:cubicBezTo>
                  <a:pt x="2361069" y="3039631"/>
                  <a:pt x="2343793" y="3060826"/>
                  <a:pt x="2299358" y="3087487"/>
                </a:cubicBezTo>
                <a:cubicBezTo>
                  <a:pt x="2272793" y="3103426"/>
                  <a:pt x="2243428" y="3114216"/>
                  <a:pt x="2216231" y="3129051"/>
                </a:cubicBezTo>
                <a:cubicBezTo>
                  <a:pt x="2192591" y="3141946"/>
                  <a:pt x="2170598" y="3157720"/>
                  <a:pt x="2146958" y="3170615"/>
                </a:cubicBezTo>
                <a:cubicBezTo>
                  <a:pt x="2110853" y="3190308"/>
                  <a:pt x="2036989" y="3227158"/>
                  <a:pt x="1994558" y="3239887"/>
                </a:cubicBezTo>
                <a:cubicBezTo>
                  <a:pt x="1972003" y="3246654"/>
                  <a:pt x="1948377" y="3249124"/>
                  <a:pt x="1925286" y="3253742"/>
                </a:cubicBezTo>
                <a:cubicBezTo>
                  <a:pt x="1319216" y="3239647"/>
                  <a:pt x="1507206" y="3328717"/>
                  <a:pt x="1301831" y="3226033"/>
                </a:cubicBezTo>
              </a:path>
            </a:pathLst>
          </a:custGeom>
          <a:noFill/>
          <a:ln cap="rnd"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УЖИН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600200"/>
          <a:ext cx="8229600" cy="32004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Полилиния 10"/>
          <p:cNvSpPr/>
          <p:nvPr/>
        </p:nvSpPr>
        <p:spPr>
          <a:xfrm>
            <a:off x="866880" y="2050920"/>
            <a:ext cx="7138800" cy="4075200"/>
          </a:xfrm>
          <a:custGeom>
            <a:avLst/>
            <a:gdLst/>
            <a:ahLst/>
            <a:rect l="l" t="t" r="r" b="b"/>
            <a:pathLst>
              <a:path w="7138811" h="4076128">
                <a:moveTo>
                  <a:pt x="1516072" y="0"/>
                </a:moveTo>
                <a:cubicBezTo>
                  <a:pt x="1520690" y="175491"/>
                  <a:pt x="1518249" y="351309"/>
                  <a:pt x="1529926" y="526472"/>
                </a:cubicBezTo>
                <a:cubicBezTo>
                  <a:pt x="1532032" y="558069"/>
                  <a:pt x="1569141" y="658293"/>
                  <a:pt x="1585345" y="692727"/>
                </a:cubicBezTo>
                <a:cubicBezTo>
                  <a:pt x="1697684" y="931447"/>
                  <a:pt x="1616961" y="792372"/>
                  <a:pt x="1737745" y="928254"/>
                </a:cubicBezTo>
                <a:cubicBezTo>
                  <a:pt x="1753086" y="945512"/>
                  <a:pt x="1761569" y="968890"/>
                  <a:pt x="1779308" y="983672"/>
                </a:cubicBezTo>
                <a:cubicBezTo>
                  <a:pt x="1787826" y="990771"/>
                  <a:pt x="1873342" y="1010645"/>
                  <a:pt x="1876290" y="1011382"/>
                </a:cubicBezTo>
                <a:cubicBezTo>
                  <a:pt x="2014835" y="997527"/>
                  <a:pt x="2155117" y="995701"/>
                  <a:pt x="2291926" y="969818"/>
                </a:cubicBezTo>
                <a:cubicBezTo>
                  <a:pt x="2328510" y="962897"/>
                  <a:pt x="2357928" y="935053"/>
                  <a:pt x="2388908" y="914400"/>
                </a:cubicBezTo>
                <a:cubicBezTo>
                  <a:pt x="2546903" y="809070"/>
                  <a:pt x="2510692" y="841832"/>
                  <a:pt x="2596726" y="734291"/>
                </a:cubicBezTo>
                <a:cubicBezTo>
                  <a:pt x="2601344" y="720436"/>
                  <a:pt x="2611621" y="707294"/>
                  <a:pt x="2610581" y="692727"/>
                </a:cubicBezTo>
                <a:cubicBezTo>
                  <a:pt x="2604801" y="611806"/>
                  <a:pt x="2595713" y="549789"/>
                  <a:pt x="2555163" y="484909"/>
                </a:cubicBezTo>
                <a:cubicBezTo>
                  <a:pt x="2542925" y="465328"/>
                  <a:pt x="2530977" y="444696"/>
                  <a:pt x="2513599" y="429491"/>
                </a:cubicBezTo>
                <a:cubicBezTo>
                  <a:pt x="2502672" y="419930"/>
                  <a:pt x="2410080" y="367275"/>
                  <a:pt x="2388908" y="360218"/>
                </a:cubicBezTo>
                <a:cubicBezTo>
                  <a:pt x="2350822" y="347523"/>
                  <a:pt x="2235964" y="335905"/>
                  <a:pt x="2208799" y="332509"/>
                </a:cubicBezTo>
                <a:cubicBezTo>
                  <a:pt x="2121054" y="341745"/>
                  <a:pt x="2032206" y="343556"/>
                  <a:pt x="1945563" y="360218"/>
                </a:cubicBezTo>
                <a:cubicBezTo>
                  <a:pt x="1911025" y="366860"/>
                  <a:pt x="1881408" y="389156"/>
                  <a:pt x="1848581" y="401782"/>
                </a:cubicBezTo>
                <a:cubicBezTo>
                  <a:pt x="1821320" y="412267"/>
                  <a:pt x="1793163" y="420255"/>
                  <a:pt x="1765454" y="429491"/>
                </a:cubicBezTo>
                <a:cubicBezTo>
                  <a:pt x="1702601" y="479773"/>
                  <a:pt x="1613091" y="547198"/>
                  <a:pt x="1571490" y="609600"/>
                </a:cubicBezTo>
                <a:cubicBezTo>
                  <a:pt x="1553017" y="637309"/>
                  <a:pt x="1530965" y="662941"/>
                  <a:pt x="1516072" y="692727"/>
                </a:cubicBezTo>
                <a:cubicBezTo>
                  <a:pt x="1498426" y="728019"/>
                  <a:pt x="1489162" y="766927"/>
                  <a:pt x="1474508" y="803563"/>
                </a:cubicBezTo>
                <a:cubicBezTo>
                  <a:pt x="1452211" y="859305"/>
                  <a:pt x="1405235" y="969818"/>
                  <a:pt x="1405235" y="969818"/>
                </a:cubicBezTo>
                <a:cubicBezTo>
                  <a:pt x="1377986" y="1215067"/>
                  <a:pt x="1372936" y="1207973"/>
                  <a:pt x="1405235" y="1579418"/>
                </a:cubicBezTo>
                <a:cubicBezTo>
                  <a:pt x="1409797" y="1631875"/>
                  <a:pt x="1431192" y="1681529"/>
                  <a:pt x="1446799" y="1731818"/>
                </a:cubicBezTo>
                <a:cubicBezTo>
                  <a:pt x="1472771" y="1815504"/>
                  <a:pt x="1497383" y="1899843"/>
                  <a:pt x="1529926" y="1981200"/>
                </a:cubicBezTo>
                <a:cubicBezTo>
                  <a:pt x="1539162" y="2004291"/>
                  <a:pt x="1544283" y="2029491"/>
                  <a:pt x="1557635" y="2050472"/>
                </a:cubicBezTo>
                <a:cubicBezTo>
                  <a:pt x="1577000" y="2080902"/>
                  <a:pt x="1602535" y="2107011"/>
                  <a:pt x="1626908" y="2133600"/>
                </a:cubicBezTo>
                <a:cubicBezTo>
                  <a:pt x="1701473" y="2214944"/>
                  <a:pt x="1686071" y="2200751"/>
                  <a:pt x="1751599" y="2244436"/>
                </a:cubicBezTo>
                <a:cubicBezTo>
                  <a:pt x="2533289" y="2223866"/>
                  <a:pt x="2066834" y="2279928"/>
                  <a:pt x="2375054" y="2202872"/>
                </a:cubicBezTo>
                <a:cubicBezTo>
                  <a:pt x="2404917" y="2195406"/>
                  <a:pt x="2468447" y="2186544"/>
                  <a:pt x="2499745" y="2175163"/>
                </a:cubicBezTo>
                <a:cubicBezTo>
                  <a:pt x="2547874" y="2157662"/>
                  <a:pt x="2633381" y="2117385"/>
                  <a:pt x="2679854" y="2092036"/>
                </a:cubicBezTo>
                <a:cubicBezTo>
                  <a:pt x="2703494" y="2079141"/>
                  <a:pt x="2725586" y="2063550"/>
                  <a:pt x="2749126" y="2050472"/>
                </a:cubicBezTo>
                <a:cubicBezTo>
                  <a:pt x="2789785" y="2027884"/>
                  <a:pt x="2811267" y="2024088"/>
                  <a:pt x="2846108" y="1995054"/>
                </a:cubicBezTo>
                <a:cubicBezTo>
                  <a:pt x="2861160" y="1982511"/>
                  <a:pt x="2871997" y="1965247"/>
                  <a:pt x="2887672" y="1953491"/>
                </a:cubicBezTo>
                <a:cubicBezTo>
                  <a:pt x="2997148" y="1871384"/>
                  <a:pt x="2972973" y="1883493"/>
                  <a:pt x="3053926" y="1856509"/>
                </a:cubicBezTo>
                <a:cubicBezTo>
                  <a:pt x="3067781" y="1847273"/>
                  <a:pt x="3089306" y="1844260"/>
                  <a:pt x="3095490" y="1828800"/>
                </a:cubicBezTo>
                <a:cubicBezTo>
                  <a:pt x="3100914" y="1815240"/>
                  <a:pt x="3081635" y="1801840"/>
                  <a:pt x="3081635" y="1787236"/>
                </a:cubicBezTo>
                <a:cubicBezTo>
                  <a:pt x="3081635" y="1772632"/>
                  <a:pt x="3090872" y="1759527"/>
                  <a:pt x="3095490" y="1745672"/>
                </a:cubicBezTo>
                <a:cubicBezTo>
                  <a:pt x="3100155" y="1713015"/>
                  <a:pt x="3084593" y="1608113"/>
                  <a:pt x="3164763" y="1634836"/>
                </a:cubicBezTo>
                <a:cubicBezTo>
                  <a:pt x="3180560" y="1640102"/>
                  <a:pt x="3183236" y="1662545"/>
                  <a:pt x="3192472" y="1676400"/>
                </a:cubicBezTo>
                <a:cubicBezTo>
                  <a:pt x="3229417" y="1671782"/>
                  <a:pt x="3266582" y="1668666"/>
                  <a:pt x="3303308" y="1662545"/>
                </a:cubicBezTo>
                <a:cubicBezTo>
                  <a:pt x="3322090" y="1659415"/>
                  <a:pt x="3339906" y="1651586"/>
                  <a:pt x="3358726" y="1648691"/>
                </a:cubicBezTo>
                <a:cubicBezTo>
                  <a:pt x="3400059" y="1642332"/>
                  <a:pt x="3441853" y="1639454"/>
                  <a:pt x="3483417" y="1634836"/>
                </a:cubicBezTo>
                <a:cubicBezTo>
                  <a:pt x="3552690" y="1639454"/>
                  <a:pt x="3622233" y="1641024"/>
                  <a:pt x="3691235" y="1648691"/>
                </a:cubicBezTo>
                <a:cubicBezTo>
                  <a:pt x="3705750" y="1650304"/>
                  <a:pt x="3724311" y="1650661"/>
                  <a:pt x="3732799" y="1662545"/>
                </a:cubicBezTo>
                <a:cubicBezTo>
                  <a:pt x="3749776" y="1686312"/>
                  <a:pt x="3760508" y="1745672"/>
                  <a:pt x="3760508" y="1745672"/>
                </a:cubicBezTo>
                <a:cubicBezTo>
                  <a:pt x="3755890" y="1921163"/>
                  <a:pt x="3758872" y="2097019"/>
                  <a:pt x="3746654" y="2272145"/>
                </a:cubicBezTo>
                <a:cubicBezTo>
                  <a:pt x="3744923" y="2296954"/>
                  <a:pt x="3726810" y="2317825"/>
                  <a:pt x="3718945" y="2341418"/>
                </a:cubicBezTo>
                <a:cubicBezTo>
                  <a:pt x="3675276" y="2472425"/>
                  <a:pt x="3731262" y="2331664"/>
                  <a:pt x="3691235" y="2438400"/>
                </a:cubicBezTo>
                <a:cubicBezTo>
                  <a:pt x="3641953" y="2569816"/>
                  <a:pt x="3686193" y="2449744"/>
                  <a:pt x="3635817" y="2563091"/>
                </a:cubicBezTo>
                <a:cubicBezTo>
                  <a:pt x="3625717" y="2585817"/>
                  <a:pt x="3618208" y="2609637"/>
                  <a:pt x="3608108" y="2632363"/>
                </a:cubicBezTo>
                <a:cubicBezTo>
                  <a:pt x="3599720" y="2651236"/>
                  <a:pt x="3588263" y="2668684"/>
                  <a:pt x="3580399" y="2687782"/>
                </a:cubicBezTo>
                <a:cubicBezTo>
                  <a:pt x="3555908" y="2747261"/>
                  <a:pt x="3534440" y="2807941"/>
                  <a:pt x="3511126" y="2867891"/>
                </a:cubicBezTo>
                <a:cubicBezTo>
                  <a:pt x="3502112" y="2891069"/>
                  <a:pt x="3496212" y="2915838"/>
                  <a:pt x="3483417" y="2937163"/>
                </a:cubicBezTo>
                <a:cubicBezTo>
                  <a:pt x="3443392" y="3003873"/>
                  <a:pt x="3433791" y="3015861"/>
                  <a:pt x="3400290" y="3089563"/>
                </a:cubicBezTo>
                <a:cubicBezTo>
                  <a:pt x="3389999" y="3112204"/>
                  <a:pt x="3382378" y="3135977"/>
                  <a:pt x="3372581" y="3158836"/>
                </a:cubicBezTo>
                <a:cubicBezTo>
                  <a:pt x="3213095" y="3530972"/>
                  <a:pt x="3395702" y="3112595"/>
                  <a:pt x="3275599" y="3352800"/>
                </a:cubicBezTo>
                <a:cubicBezTo>
                  <a:pt x="3264477" y="3375044"/>
                  <a:pt x="3259968" y="3400332"/>
                  <a:pt x="3247890" y="3422072"/>
                </a:cubicBezTo>
                <a:cubicBezTo>
                  <a:pt x="3236676" y="3442257"/>
                  <a:pt x="3219748" y="3458701"/>
                  <a:pt x="3206326" y="3477491"/>
                </a:cubicBezTo>
                <a:cubicBezTo>
                  <a:pt x="3196648" y="3491040"/>
                  <a:pt x="3188295" y="3505505"/>
                  <a:pt x="3178617" y="3519054"/>
                </a:cubicBezTo>
                <a:cubicBezTo>
                  <a:pt x="3165196" y="3537844"/>
                  <a:pt x="3150475" y="3555682"/>
                  <a:pt x="3137054" y="3574472"/>
                </a:cubicBezTo>
                <a:cubicBezTo>
                  <a:pt x="3127376" y="3588022"/>
                  <a:pt x="3122895" y="3606358"/>
                  <a:pt x="3109345" y="3616036"/>
                </a:cubicBezTo>
                <a:cubicBezTo>
                  <a:pt x="3081254" y="3636101"/>
                  <a:pt x="3019132" y="3648980"/>
                  <a:pt x="2984654" y="3657600"/>
                </a:cubicBezTo>
                <a:cubicBezTo>
                  <a:pt x="2915381" y="3652982"/>
                  <a:pt x="2845837" y="3651412"/>
                  <a:pt x="2776835" y="3643745"/>
                </a:cubicBezTo>
                <a:cubicBezTo>
                  <a:pt x="2762321" y="3642132"/>
                  <a:pt x="2748695" y="3635644"/>
                  <a:pt x="2735272" y="3629891"/>
                </a:cubicBezTo>
                <a:cubicBezTo>
                  <a:pt x="2704568" y="3616732"/>
                  <a:pt x="2633936" y="3578135"/>
                  <a:pt x="2610581" y="3560618"/>
                </a:cubicBezTo>
                <a:cubicBezTo>
                  <a:pt x="2594906" y="3548862"/>
                  <a:pt x="2583893" y="3531805"/>
                  <a:pt x="2569017" y="3519054"/>
                </a:cubicBezTo>
                <a:cubicBezTo>
                  <a:pt x="2551485" y="3504027"/>
                  <a:pt x="2532389" y="3490912"/>
                  <a:pt x="2513599" y="3477491"/>
                </a:cubicBezTo>
                <a:cubicBezTo>
                  <a:pt x="2484232" y="3456515"/>
                  <a:pt x="2465715" y="3450591"/>
                  <a:pt x="2444326" y="3422072"/>
                </a:cubicBezTo>
                <a:cubicBezTo>
                  <a:pt x="2424345" y="3395430"/>
                  <a:pt x="2388908" y="3338945"/>
                  <a:pt x="2388908" y="3338945"/>
                </a:cubicBezTo>
                <a:cubicBezTo>
                  <a:pt x="2372783" y="3242190"/>
                  <a:pt x="2356550" y="3185727"/>
                  <a:pt x="2388908" y="3075709"/>
                </a:cubicBezTo>
                <a:cubicBezTo>
                  <a:pt x="2396279" y="3050646"/>
                  <a:pt x="2424491" y="3037292"/>
                  <a:pt x="2444326" y="3020291"/>
                </a:cubicBezTo>
                <a:cubicBezTo>
                  <a:pt x="2488010" y="2982848"/>
                  <a:pt x="2527920" y="2978494"/>
                  <a:pt x="2582872" y="2951018"/>
                </a:cubicBezTo>
                <a:cubicBezTo>
                  <a:pt x="2606958" y="2938975"/>
                  <a:pt x="2627743" y="2920842"/>
                  <a:pt x="2652145" y="2909454"/>
                </a:cubicBezTo>
                <a:cubicBezTo>
                  <a:pt x="2652155" y="2909449"/>
                  <a:pt x="2825322" y="2840183"/>
                  <a:pt x="2859963" y="2826327"/>
                </a:cubicBezTo>
                <a:cubicBezTo>
                  <a:pt x="2883054" y="2817091"/>
                  <a:pt x="2904468" y="2800870"/>
                  <a:pt x="2929235" y="2798618"/>
                </a:cubicBezTo>
                <a:lnTo>
                  <a:pt x="3081635" y="2784763"/>
                </a:lnTo>
                <a:cubicBezTo>
                  <a:pt x="3192472" y="2789381"/>
                  <a:pt x="3303494" y="2790714"/>
                  <a:pt x="3414145" y="2798618"/>
                </a:cubicBezTo>
                <a:cubicBezTo>
                  <a:pt x="3433138" y="2799975"/>
                  <a:pt x="3451791" y="2805637"/>
                  <a:pt x="3469563" y="2812472"/>
                </a:cubicBezTo>
                <a:cubicBezTo>
                  <a:pt x="3675248" y="2891582"/>
                  <a:pt x="3532329" y="2836464"/>
                  <a:pt x="3635817" y="2895600"/>
                </a:cubicBezTo>
                <a:cubicBezTo>
                  <a:pt x="3720918" y="2944229"/>
                  <a:pt x="3665096" y="2897171"/>
                  <a:pt x="3732799" y="2964872"/>
                </a:cubicBezTo>
                <a:cubicBezTo>
                  <a:pt x="3777794" y="3234841"/>
                  <a:pt x="3786035" y="3218219"/>
                  <a:pt x="3746654" y="3602182"/>
                </a:cubicBezTo>
                <a:cubicBezTo>
                  <a:pt x="3743907" y="3628970"/>
                  <a:pt x="3717133" y="3647369"/>
                  <a:pt x="3705090" y="3671454"/>
                </a:cubicBezTo>
                <a:cubicBezTo>
                  <a:pt x="3631330" y="3818974"/>
                  <a:pt x="3733149" y="3666427"/>
                  <a:pt x="3621963" y="3796145"/>
                </a:cubicBezTo>
                <a:cubicBezTo>
                  <a:pt x="3611127" y="3808788"/>
                  <a:pt x="3606897" y="3826873"/>
                  <a:pt x="3594254" y="3837709"/>
                </a:cubicBezTo>
                <a:cubicBezTo>
                  <a:pt x="3573808" y="3855234"/>
                  <a:pt x="3547387" y="3864335"/>
                  <a:pt x="3524981" y="3879272"/>
                </a:cubicBezTo>
                <a:cubicBezTo>
                  <a:pt x="3505768" y="3892081"/>
                  <a:pt x="3489894" y="3909889"/>
                  <a:pt x="3469563" y="3920836"/>
                </a:cubicBezTo>
                <a:cubicBezTo>
                  <a:pt x="3401167" y="3957665"/>
                  <a:pt x="3324283" y="3987593"/>
                  <a:pt x="3247890" y="4003963"/>
                </a:cubicBezTo>
                <a:cubicBezTo>
                  <a:pt x="3215959" y="4010805"/>
                  <a:pt x="3183004" y="4011800"/>
                  <a:pt x="3150908" y="4017818"/>
                </a:cubicBezTo>
                <a:cubicBezTo>
                  <a:pt x="2913702" y="4062295"/>
                  <a:pt x="3143761" y="4034841"/>
                  <a:pt x="2873817" y="4059382"/>
                </a:cubicBezTo>
                <a:cubicBezTo>
                  <a:pt x="2522835" y="4050145"/>
                  <a:pt x="2170504" y="4063781"/>
                  <a:pt x="1820872" y="4031672"/>
                </a:cubicBezTo>
                <a:cubicBezTo>
                  <a:pt x="1714700" y="4021921"/>
                  <a:pt x="1619350" y="3961172"/>
                  <a:pt x="1516072" y="3934691"/>
                </a:cubicBezTo>
                <a:cubicBezTo>
                  <a:pt x="712894" y="3728749"/>
                  <a:pt x="1879722" y="4076128"/>
                  <a:pt x="1031163" y="3823854"/>
                </a:cubicBezTo>
                <a:cubicBezTo>
                  <a:pt x="942962" y="3797632"/>
                  <a:pt x="850228" y="3781878"/>
                  <a:pt x="767926" y="3740727"/>
                </a:cubicBezTo>
                <a:cubicBezTo>
                  <a:pt x="684799" y="3699163"/>
                  <a:pt x="595875" y="3667589"/>
                  <a:pt x="518545" y="3616036"/>
                </a:cubicBezTo>
                <a:cubicBezTo>
                  <a:pt x="490836" y="3597563"/>
                  <a:pt x="462350" y="3580205"/>
                  <a:pt x="435417" y="3560618"/>
                </a:cubicBezTo>
                <a:cubicBezTo>
                  <a:pt x="132781" y="3340520"/>
                  <a:pt x="485634" y="3595250"/>
                  <a:pt x="338435" y="3477491"/>
                </a:cubicBezTo>
                <a:cubicBezTo>
                  <a:pt x="325433" y="3467089"/>
                  <a:pt x="310726" y="3459018"/>
                  <a:pt x="296872" y="3449782"/>
                </a:cubicBezTo>
                <a:cubicBezTo>
                  <a:pt x="287636" y="3435927"/>
                  <a:pt x="279823" y="3421010"/>
                  <a:pt x="269163" y="3408218"/>
                </a:cubicBezTo>
                <a:cubicBezTo>
                  <a:pt x="256620" y="3393166"/>
                  <a:pt x="237984" y="3383269"/>
                  <a:pt x="227599" y="3366654"/>
                </a:cubicBezTo>
                <a:cubicBezTo>
                  <a:pt x="140134" y="3226711"/>
                  <a:pt x="258821" y="3356313"/>
                  <a:pt x="158326" y="3255818"/>
                </a:cubicBezTo>
                <a:cubicBezTo>
                  <a:pt x="153708" y="3241963"/>
                  <a:pt x="150225" y="3227677"/>
                  <a:pt x="144472" y="3214254"/>
                </a:cubicBezTo>
                <a:cubicBezTo>
                  <a:pt x="136336" y="3195271"/>
                  <a:pt x="123294" y="3178429"/>
                  <a:pt x="116763" y="3158836"/>
                </a:cubicBezTo>
                <a:cubicBezTo>
                  <a:pt x="63048" y="2997692"/>
                  <a:pt x="144846" y="3173439"/>
                  <a:pt x="75199" y="3034145"/>
                </a:cubicBezTo>
                <a:cubicBezTo>
                  <a:pt x="70581" y="3015672"/>
                  <a:pt x="66576" y="2997036"/>
                  <a:pt x="61345" y="2978727"/>
                </a:cubicBezTo>
                <a:cubicBezTo>
                  <a:pt x="57333" y="2964685"/>
                  <a:pt x="51032" y="2951331"/>
                  <a:pt x="47490" y="2937163"/>
                </a:cubicBezTo>
                <a:cubicBezTo>
                  <a:pt x="41779" y="2914318"/>
                  <a:pt x="38743" y="2890878"/>
                  <a:pt x="33635" y="2867891"/>
                </a:cubicBezTo>
                <a:cubicBezTo>
                  <a:pt x="22035" y="2815690"/>
                  <a:pt x="21358" y="2817202"/>
                  <a:pt x="5926" y="2770909"/>
                </a:cubicBezTo>
                <a:cubicBezTo>
                  <a:pt x="7795" y="2739139"/>
                  <a:pt x="0" y="2523488"/>
                  <a:pt x="47490" y="2452254"/>
                </a:cubicBezTo>
                <a:cubicBezTo>
                  <a:pt x="56726" y="2438400"/>
                  <a:pt x="67752" y="2425584"/>
                  <a:pt x="75199" y="2410691"/>
                </a:cubicBezTo>
                <a:cubicBezTo>
                  <a:pt x="81730" y="2397629"/>
                  <a:pt x="80953" y="2381278"/>
                  <a:pt x="89054" y="2369127"/>
                </a:cubicBezTo>
                <a:cubicBezTo>
                  <a:pt x="128056" y="2310623"/>
                  <a:pt x="158691" y="2327199"/>
                  <a:pt x="213745" y="2272145"/>
                </a:cubicBezTo>
                <a:cubicBezTo>
                  <a:pt x="227599" y="2258291"/>
                  <a:pt x="239842" y="2242611"/>
                  <a:pt x="255308" y="2230582"/>
                </a:cubicBezTo>
                <a:cubicBezTo>
                  <a:pt x="380052" y="2133558"/>
                  <a:pt x="296845" y="2209820"/>
                  <a:pt x="379999" y="2147454"/>
                </a:cubicBezTo>
                <a:cubicBezTo>
                  <a:pt x="385845" y="2143070"/>
                  <a:pt x="495068" y="2057950"/>
                  <a:pt x="532399" y="2036618"/>
                </a:cubicBezTo>
                <a:cubicBezTo>
                  <a:pt x="550331" y="2026371"/>
                  <a:pt x="571295" y="2021301"/>
                  <a:pt x="587817" y="2008909"/>
                </a:cubicBezTo>
                <a:cubicBezTo>
                  <a:pt x="608716" y="1993234"/>
                  <a:pt x="621977" y="1968675"/>
                  <a:pt x="643235" y="1953491"/>
                </a:cubicBezTo>
                <a:cubicBezTo>
                  <a:pt x="655119" y="1945003"/>
                  <a:pt x="671737" y="1946167"/>
                  <a:pt x="684799" y="1939636"/>
                </a:cubicBezTo>
                <a:cubicBezTo>
                  <a:pt x="786617" y="1888727"/>
                  <a:pt x="651816" y="1932158"/>
                  <a:pt x="795635" y="1884218"/>
                </a:cubicBezTo>
                <a:cubicBezTo>
                  <a:pt x="813699" y="1878196"/>
                  <a:pt x="832745" y="1875594"/>
                  <a:pt x="851054" y="1870363"/>
                </a:cubicBezTo>
                <a:cubicBezTo>
                  <a:pt x="865096" y="1866351"/>
                  <a:pt x="878361" y="1859677"/>
                  <a:pt x="892617" y="1856509"/>
                </a:cubicBezTo>
                <a:cubicBezTo>
                  <a:pt x="920040" y="1850415"/>
                  <a:pt x="948199" y="1848163"/>
                  <a:pt x="975745" y="1842654"/>
                </a:cubicBezTo>
                <a:cubicBezTo>
                  <a:pt x="1045997" y="1828604"/>
                  <a:pt x="1150456" y="1790834"/>
                  <a:pt x="1197417" y="1759527"/>
                </a:cubicBezTo>
                <a:cubicBezTo>
                  <a:pt x="1225126" y="1741054"/>
                  <a:pt x="1248952" y="1714640"/>
                  <a:pt x="1280545" y="1704109"/>
                </a:cubicBezTo>
                <a:lnTo>
                  <a:pt x="1363672" y="1676400"/>
                </a:lnTo>
                <a:cubicBezTo>
                  <a:pt x="1425619" y="1655751"/>
                  <a:pt x="1482964" y="1637536"/>
                  <a:pt x="1543781" y="1607127"/>
                </a:cubicBezTo>
                <a:cubicBezTo>
                  <a:pt x="1562254" y="1597891"/>
                  <a:pt x="1580326" y="1587806"/>
                  <a:pt x="1599199" y="1579418"/>
                </a:cubicBezTo>
                <a:cubicBezTo>
                  <a:pt x="1621925" y="1569317"/>
                  <a:pt x="1646228" y="1562831"/>
                  <a:pt x="1668472" y="1551709"/>
                </a:cubicBezTo>
                <a:cubicBezTo>
                  <a:pt x="1686013" y="1542938"/>
                  <a:pt x="1756671" y="1489964"/>
                  <a:pt x="1765454" y="1482436"/>
                </a:cubicBezTo>
                <a:cubicBezTo>
                  <a:pt x="1780330" y="1469685"/>
                  <a:pt x="1789492" y="1449634"/>
                  <a:pt x="1807017" y="1440872"/>
                </a:cubicBezTo>
                <a:cubicBezTo>
                  <a:pt x="1828079" y="1430341"/>
                  <a:pt x="1853199" y="1431636"/>
                  <a:pt x="1876290" y="1427018"/>
                </a:cubicBezTo>
                <a:cubicBezTo>
                  <a:pt x="1899381" y="1417782"/>
                  <a:pt x="1922982" y="1409731"/>
                  <a:pt x="1945563" y="1399309"/>
                </a:cubicBezTo>
                <a:cubicBezTo>
                  <a:pt x="1983067" y="1381999"/>
                  <a:pt x="2018047" y="1359232"/>
                  <a:pt x="2056399" y="1343891"/>
                </a:cubicBezTo>
                <a:cubicBezTo>
                  <a:pt x="2079490" y="1334655"/>
                  <a:pt x="2102946" y="1326283"/>
                  <a:pt x="2125672" y="1316182"/>
                </a:cubicBezTo>
                <a:cubicBezTo>
                  <a:pt x="2144545" y="1307794"/>
                  <a:pt x="2162168" y="1296750"/>
                  <a:pt x="2181090" y="1288472"/>
                </a:cubicBezTo>
                <a:cubicBezTo>
                  <a:pt x="2236093" y="1264408"/>
                  <a:pt x="2299316" y="1255222"/>
                  <a:pt x="2347345" y="1219200"/>
                </a:cubicBezTo>
                <a:cubicBezTo>
                  <a:pt x="2365818" y="1205345"/>
                  <a:pt x="2381797" y="1187313"/>
                  <a:pt x="2402763" y="1177636"/>
                </a:cubicBezTo>
                <a:cubicBezTo>
                  <a:pt x="2442542" y="1159276"/>
                  <a:pt x="2489885" y="1158613"/>
                  <a:pt x="2527454" y="1136072"/>
                </a:cubicBezTo>
                <a:cubicBezTo>
                  <a:pt x="2550545" y="1122218"/>
                  <a:pt x="2572324" y="1105896"/>
                  <a:pt x="2596726" y="1094509"/>
                </a:cubicBezTo>
                <a:cubicBezTo>
                  <a:pt x="2596737" y="1094504"/>
                  <a:pt x="2769903" y="1025239"/>
                  <a:pt x="2804545" y="1011382"/>
                </a:cubicBezTo>
                <a:cubicBezTo>
                  <a:pt x="2827636" y="1002146"/>
                  <a:pt x="2851573" y="994794"/>
                  <a:pt x="2873817" y="983672"/>
                </a:cubicBezTo>
                <a:cubicBezTo>
                  <a:pt x="2901526" y="969818"/>
                  <a:pt x="2927555" y="951906"/>
                  <a:pt x="2956945" y="942109"/>
                </a:cubicBezTo>
                <a:cubicBezTo>
                  <a:pt x="2983595" y="933226"/>
                  <a:pt x="3012363" y="932872"/>
                  <a:pt x="3040072" y="928254"/>
                </a:cubicBezTo>
                <a:cubicBezTo>
                  <a:pt x="3063163" y="914400"/>
                  <a:pt x="3085260" y="898734"/>
                  <a:pt x="3109345" y="886691"/>
                </a:cubicBezTo>
                <a:cubicBezTo>
                  <a:pt x="3122407" y="880160"/>
                  <a:pt x="3136920" y="877032"/>
                  <a:pt x="3150908" y="872836"/>
                </a:cubicBezTo>
                <a:cubicBezTo>
                  <a:pt x="3291102" y="830777"/>
                  <a:pt x="3242110" y="846016"/>
                  <a:pt x="3427999" y="817418"/>
                </a:cubicBezTo>
                <a:lnTo>
                  <a:pt x="3760508" y="831272"/>
                </a:lnTo>
                <a:cubicBezTo>
                  <a:pt x="3848153" y="836010"/>
                  <a:pt x="4002066" y="850713"/>
                  <a:pt x="4093017" y="858982"/>
                </a:cubicBezTo>
                <a:cubicBezTo>
                  <a:pt x="4217155" y="900359"/>
                  <a:pt x="4016905" y="830273"/>
                  <a:pt x="4203854" y="914400"/>
                </a:cubicBezTo>
                <a:cubicBezTo>
                  <a:pt x="4417262" y="1010434"/>
                  <a:pt x="4354562" y="963579"/>
                  <a:pt x="4494799" y="1039091"/>
                </a:cubicBezTo>
                <a:cubicBezTo>
                  <a:pt x="4821125" y="1214805"/>
                  <a:pt x="4400951" y="987361"/>
                  <a:pt x="4661054" y="1149927"/>
                </a:cubicBezTo>
                <a:cubicBezTo>
                  <a:pt x="4673438" y="1157667"/>
                  <a:pt x="4689272" y="1157851"/>
                  <a:pt x="4702617" y="1163782"/>
                </a:cubicBezTo>
                <a:cubicBezTo>
                  <a:pt x="4730927" y="1176364"/>
                  <a:pt x="4759361" y="1189109"/>
                  <a:pt x="4785745" y="1205345"/>
                </a:cubicBezTo>
                <a:cubicBezTo>
                  <a:pt x="4819579" y="1226166"/>
                  <a:pt x="4849671" y="1252581"/>
                  <a:pt x="4882726" y="1274618"/>
                </a:cubicBezTo>
                <a:cubicBezTo>
                  <a:pt x="4905132" y="1289555"/>
                  <a:pt x="4930221" y="1300343"/>
                  <a:pt x="4951999" y="1316182"/>
                </a:cubicBezTo>
                <a:cubicBezTo>
                  <a:pt x="4981169" y="1337397"/>
                  <a:pt x="5005358" y="1365086"/>
                  <a:pt x="5035126" y="1385454"/>
                </a:cubicBezTo>
                <a:cubicBezTo>
                  <a:pt x="5093305" y="1425261"/>
                  <a:pt x="5160189" y="1452254"/>
                  <a:pt x="5215235" y="1496291"/>
                </a:cubicBezTo>
                <a:cubicBezTo>
                  <a:pt x="5284508" y="1551709"/>
                  <a:pt x="5360325" y="1599816"/>
                  <a:pt x="5423054" y="1662545"/>
                </a:cubicBezTo>
                <a:cubicBezTo>
                  <a:pt x="5459999" y="1699491"/>
                  <a:pt x="5494712" y="1738813"/>
                  <a:pt x="5533890" y="1773382"/>
                </a:cubicBezTo>
                <a:cubicBezTo>
                  <a:pt x="5573373" y="1808220"/>
                  <a:pt x="5622315" y="1832188"/>
                  <a:pt x="5658581" y="1870363"/>
                </a:cubicBezTo>
                <a:cubicBezTo>
                  <a:pt x="5710749" y="1925277"/>
                  <a:pt x="5747088" y="1993610"/>
                  <a:pt x="5797126" y="2050472"/>
                </a:cubicBezTo>
                <a:cubicBezTo>
                  <a:pt x="5870339" y="2133669"/>
                  <a:pt x="6052719" y="2305251"/>
                  <a:pt x="6143490" y="2369127"/>
                </a:cubicBezTo>
                <a:cubicBezTo>
                  <a:pt x="6253013" y="2446199"/>
                  <a:pt x="6406465" y="2515490"/>
                  <a:pt x="6531417" y="2563091"/>
                </a:cubicBezTo>
                <a:cubicBezTo>
                  <a:pt x="6562835" y="2575060"/>
                  <a:pt x="6596072" y="2581564"/>
                  <a:pt x="6628399" y="2590800"/>
                </a:cubicBezTo>
                <a:cubicBezTo>
                  <a:pt x="6681268" y="2575695"/>
                  <a:pt x="6763404" y="2558671"/>
                  <a:pt x="6808508" y="2521527"/>
                </a:cubicBezTo>
                <a:cubicBezTo>
                  <a:pt x="6863965" y="2475856"/>
                  <a:pt x="6928779" y="2433384"/>
                  <a:pt x="6960908" y="2369127"/>
                </a:cubicBezTo>
                <a:cubicBezTo>
                  <a:pt x="7049665" y="2191614"/>
                  <a:pt x="7002816" y="2274367"/>
                  <a:pt x="7099454" y="2119745"/>
                </a:cubicBezTo>
                <a:cubicBezTo>
                  <a:pt x="7138811" y="1962310"/>
                  <a:pt x="7138192" y="1989614"/>
                  <a:pt x="7085599" y="1704109"/>
                </a:cubicBezTo>
                <a:cubicBezTo>
                  <a:pt x="7074723" y="1645066"/>
                  <a:pt x="7049628" y="1587807"/>
                  <a:pt x="7016326" y="1537854"/>
                </a:cubicBezTo>
                <a:cubicBezTo>
                  <a:pt x="6888944" y="1346782"/>
                  <a:pt x="7021906" y="1542894"/>
                  <a:pt x="6919345" y="1399309"/>
                </a:cubicBezTo>
                <a:cubicBezTo>
                  <a:pt x="6888024" y="1355459"/>
                  <a:pt x="6888871" y="1347593"/>
                  <a:pt x="6850072" y="1302327"/>
                </a:cubicBezTo>
                <a:lnTo>
                  <a:pt x="6794654" y="1246909"/>
                </a:lnTo>
              </a:path>
            </a:pathLst>
          </a:custGeom>
          <a:noFill/>
          <a:ln cap="rnd"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олилиния 11"/>
          <p:cNvSpPr/>
          <p:nvPr/>
        </p:nvSpPr>
        <p:spPr>
          <a:xfrm>
            <a:off x="984240" y="1317600"/>
            <a:ext cx="5856120" cy="4737240"/>
          </a:xfrm>
          <a:custGeom>
            <a:avLst/>
            <a:gdLst/>
            <a:ahLst/>
            <a:rect l="l" t="t" r="r" b="b"/>
            <a:pathLst>
              <a:path w="5856140" h="4736715">
                <a:moveTo>
                  <a:pt x="0" y="1896534"/>
                </a:moveTo>
                <a:cubicBezTo>
                  <a:pt x="9236" y="1868825"/>
                  <a:pt x="20625" y="1841742"/>
                  <a:pt x="27709" y="1813406"/>
                </a:cubicBezTo>
                <a:cubicBezTo>
                  <a:pt x="45105" y="1743820"/>
                  <a:pt x="35542" y="1776052"/>
                  <a:pt x="55418" y="1716424"/>
                </a:cubicBezTo>
                <a:cubicBezTo>
                  <a:pt x="60036" y="1688715"/>
                  <a:pt x="66477" y="1661249"/>
                  <a:pt x="69272" y="1633297"/>
                </a:cubicBezTo>
                <a:cubicBezTo>
                  <a:pt x="75722" y="1568800"/>
                  <a:pt x="74743" y="1503609"/>
                  <a:pt x="83127" y="1439334"/>
                </a:cubicBezTo>
                <a:cubicBezTo>
                  <a:pt x="98194" y="1323821"/>
                  <a:pt x="115534" y="1310307"/>
                  <a:pt x="152400" y="1203806"/>
                </a:cubicBezTo>
                <a:cubicBezTo>
                  <a:pt x="181063" y="1121003"/>
                  <a:pt x="201010" y="1034963"/>
                  <a:pt x="235527" y="954424"/>
                </a:cubicBezTo>
                <a:cubicBezTo>
                  <a:pt x="255406" y="908041"/>
                  <a:pt x="310737" y="754806"/>
                  <a:pt x="360218" y="691188"/>
                </a:cubicBezTo>
                <a:cubicBezTo>
                  <a:pt x="545673" y="452746"/>
                  <a:pt x="449900" y="576244"/>
                  <a:pt x="609600" y="427952"/>
                </a:cubicBezTo>
                <a:cubicBezTo>
                  <a:pt x="643102" y="396843"/>
                  <a:pt x="669380" y="357543"/>
                  <a:pt x="706582" y="330970"/>
                </a:cubicBezTo>
                <a:cubicBezTo>
                  <a:pt x="735202" y="310527"/>
                  <a:pt x="772479" y="305862"/>
                  <a:pt x="803563" y="289406"/>
                </a:cubicBezTo>
                <a:cubicBezTo>
                  <a:pt x="1003789" y="183404"/>
                  <a:pt x="868099" y="215531"/>
                  <a:pt x="1052945" y="192424"/>
                </a:cubicBezTo>
                <a:cubicBezTo>
                  <a:pt x="1501943" y="0"/>
                  <a:pt x="1214028" y="107494"/>
                  <a:pt x="2327563" y="178570"/>
                </a:cubicBezTo>
                <a:cubicBezTo>
                  <a:pt x="2372954" y="181467"/>
                  <a:pt x="2410334" y="216338"/>
                  <a:pt x="2452254" y="233988"/>
                </a:cubicBezTo>
                <a:cubicBezTo>
                  <a:pt x="2528001" y="265881"/>
                  <a:pt x="2596414" y="293861"/>
                  <a:pt x="2673927" y="317115"/>
                </a:cubicBezTo>
                <a:cubicBezTo>
                  <a:pt x="2692165" y="322587"/>
                  <a:pt x="2710872" y="326352"/>
                  <a:pt x="2729345" y="330970"/>
                </a:cubicBezTo>
                <a:cubicBezTo>
                  <a:pt x="2766835" y="355963"/>
                  <a:pt x="2782383" y="368811"/>
                  <a:pt x="2826327" y="386388"/>
                </a:cubicBezTo>
                <a:cubicBezTo>
                  <a:pt x="2853446" y="397236"/>
                  <a:pt x="2883330" y="401035"/>
                  <a:pt x="2909454" y="414097"/>
                </a:cubicBezTo>
                <a:cubicBezTo>
                  <a:pt x="2946400" y="432570"/>
                  <a:pt x="2981104" y="456452"/>
                  <a:pt x="3020291" y="469515"/>
                </a:cubicBezTo>
                <a:cubicBezTo>
                  <a:pt x="3034145" y="474133"/>
                  <a:pt x="3048792" y="476839"/>
                  <a:pt x="3061854" y="483370"/>
                </a:cubicBezTo>
                <a:cubicBezTo>
                  <a:pt x="3085940" y="495413"/>
                  <a:pt x="3108036" y="511079"/>
                  <a:pt x="3131127" y="524934"/>
                </a:cubicBezTo>
                <a:cubicBezTo>
                  <a:pt x="3140363" y="538788"/>
                  <a:pt x="3149158" y="552948"/>
                  <a:pt x="3158836" y="566497"/>
                </a:cubicBezTo>
                <a:cubicBezTo>
                  <a:pt x="3172257" y="585287"/>
                  <a:pt x="3190073" y="601262"/>
                  <a:pt x="3200400" y="621915"/>
                </a:cubicBezTo>
                <a:cubicBezTo>
                  <a:pt x="3208916" y="638946"/>
                  <a:pt x="3210123" y="658746"/>
                  <a:pt x="3214254" y="677334"/>
                </a:cubicBezTo>
                <a:cubicBezTo>
                  <a:pt x="3249429" y="835622"/>
                  <a:pt x="3208178" y="666879"/>
                  <a:pt x="3241963" y="802024"/>
                </a:cubicBezTo>
                <a:cubicBezTo>
                  <a:pt x="3230996" y="919012"/>
                  <a:pt x="3233536" y="1184157"/>
                  <a:pt x="3172691" y="1342352"/>
                </a:cubicBezTo>
                <a:cubicBezTo>
                  <a:pt x="3154173" y="1390499"/>
                  <a:pt x="3065130" y="1543468"/>
                  <a:pt x="3048000" y="1564024"/>
                </a:cubicBezTo>
                <a:cubicBezTo>
                  <a:pt x="3024909" y="1591733"/>
                  <a:pt x="3000369" y="1618296"/>
                  <a:pt x="2978727" y="1647152"/>
                </a:cubicBezTo>
                <a:cubicBezTo>
                  <a:pt x="2958746" y="1673794"/>
                  <a:pt x="2944397" y="1704505"/>
                  <a:pt x="2923309" y="1730279"/>
                </a:cubicBezTo>
                <a:cubicBezTo>
                  <a:pt x="2902630" y="1755553"/>
                  <a:pt x="2874085" y="1773775"/>
                  <a:pt x="2854036" y="1799552"/>
                </a:cubicBezTo>
                <a:cubicBezTo>
                  <a:pt x="2809206" y="1857190"/>
                  <a:pt x="2771787" y="1920242"/>
                  <a:pt x="2729345" y="1979661"/>
                </a:cubicBezTo>
                <a:cubicBezTo>
                  <a:pt x="2702502" y="2017241"/>
                  <a:pt x="2669978" y="2050897"/>
                  <a:pt x="2646218" y="2090497"/>
                </a:cubicBezTo>
                <a:cubicBezTo>
                  <a:pt x="2632363" y="2113588"/>
                  <a:pt x="2619982" y="2137630"/>
                  <a:pt x="2604654" y="2159770"/>
                </a:cubicBezTo>
                <a:cubicBezTo>
                  <a:pt x="2578367" y="2197740"/>
                  <a:pt x="2548369" y="2233026"/>
                  <a:pt x="2521527" y="2270606"/>
                </a:cubicBezTo>
                <a:cubicBezTo>
                  <a:pt x="2468789" y="2344440"/>
                  <a:pt x="2436137" y="2411414"/>
                  <a:pt x="2369127" y="2478424"/>
                </a:cubicBezTo>
                <a:lnTo>
                  <a:pt x="2189018" y="2658534"/>
                </a:lnTo>
                <a:cubicBezTo>
                  <a:pt x="2133717" y="2713835"/>
                  <a:pt x="2108558" y="2733892"/>
                  <a:pt x="2064327" y="2797079"/>
                </a:cubicBezTo>
                <a:cubicBezTo>
                  <a:pt x="2039016" y="2833238"/>
                  <a:pt x="1977277" y="2947391"/>
                  <a:pt x="1967345" y="2977188"/>
                </a:cubicBezTo>
                <a:cubicBezTo>
                  <a:pt x="1948226" y="3034549"/>
                  <a:pt x="1961592" y="3006601"/>
                  <a:pt x="1925782" y="3060315"/>
                </a:cubicBezTo>
                <a:cubicBezTo>
                  <a:pt x="1921164" y="3078788"/>
                  <a:pt x="1916058" y="3097146"/>
                  <a:pt x="1911927" y="3115734"/>
                </a:cubicBezTo>
                <a:cubicBezTo>
                  <a:pt x="1906819" y="3138721"/>
                  <a:pt x="1903783" y="3162161"/>
                  <a:pt x="1898072" y="3185006"/>
                </a:cubicBezTo>
                <a:cubicBezTo>
                  <a:pt x="1894530" y="3199174"/>
                  <a:pt x="1888230" y="3212528"/>
                  <a:pt x="1884218" y="3226570"/>
                </a:cubicBezTo>
                <a:cubicBezTo>
                  <a:pt x="1878987" y="3244879"/>
                  <a:pt x="1875835" y="3263750"/>
                  <a:pt x="1870363" y="3281988"/>
                </a:cubicBezTo>
                <a:cubicBezTo>
                  <a:pt x="1861970" y="3309964"/>
                  <a:pt x="1849738" y="3336779"/>
                  <a:pt x="1842654" y="3365115"/>
                </a:cubicBezTo>
                <a:cubicBezTo>
                  <a:pt x="1831231" y="3410805"/>
                  <a:pt x="1826367" y="3457971"/>
                  <a:pt x="1814945" y="3503661"/>
                </a:cubicBezTo>
                <a:lnTo>
                  <a:pt x="1801091" y="3559079"/>
                </a:lnTo>
                <a:cubicBezTo>
                  <a:pt x="1805709" y="3693006"/>
                  <a:pt x="1806586" y="3827115"/>
                  <a:pt x="1814945" y="3960861"/>
                </a:cubicBezTo>
                <a:cubicBezTo>
                  <a:pt x="1815856" y="3975436"/>
                  <a:pt x="1823047" y="3989001"/>
                  <a:pt x="1828800" y="4002424"/>
                </a:cubicBezTo>
                <a:cubicBezTo>
                  <a:pt x="1836936" y="4021407"/>
                  <a:pt x="1846262" y="4039911"/>
                  <a:pt x="1856509" y="4057843"/>
                </a:cubicBezTo>
                <a:cubicBezTo>
                  <a:pt x="1875166" y="4090492"/>
                  <a:pt x="1904544" y="4125090"/>
                  <a:pt x="1925782" y="4154824"/>
                </a:cubicBezTo>
                <a:cubicBezTo>
                  <a:pt x="1935460" y="4168374"/>
                  <a:pt x="1940849" y="4185551"/>
                  <a:pt x="1953491" y="4196388"/>
                </a:cubicBezTo>
                <a:cubicBezTo>
                  <a:pt x="1973936" y="4213913"/>
                  <a:pt x="1999672" y="4224097"/>
                  <a:pt x="2022763" y="4237952"/>
                </a:cubicBezTo>
                <a:cubicBezTo>
                  <a:pt x="2036618" y="4256425"/>
                  <a:pt x="2047999" y="4277042"/>
                  <a:pt x="2064327" y="4293370"/>
                </a:cubicBezTo>
                <a:cubicBezTo>
                  <a:pt x="2076101" y="4305144"/>
                  <a:pt x="2091335" y="4312992"/>
                  <a:pt x="2105891" y="4321079"/>
                </a:cubicBezTo>
                <a:cubicBezTo>
                  <a:pt x="2150941" y="4346107"/>
                  <a:pt x="2183735" y="4363721"/>
                  <a:pt x="2230582" y="4376497"/>
                </a:cubicBezTo>
                <a:cubicBezTo>
                  <a:pt x="2267323" y="4386517"/>
                  <a:pt x="2306415" y="4389205"/>
                  <a:pt x="2341418" y="4404206"/>
                </a:cubicBezTo>
                <a:cubicBezTo>
                  <a:pt x="2373745" y="4418061"/>
                  <a:pt x="2406529" y="4430897"/>
                  <a:pt x="2438400" y="4445770"/>
                </a:cubicBezTo>
                <a:cubicBezTo>
                  <a:pt x="2475831" y="4463238"/>
                  <a:pt x="2510683" y="4486360"/>
                  <a:pt x="2549236" y="4501188"/>
                </a:cubicBezTo>
                <a:cubicBezTo>
                  <a:pt x="2571215" y="4509641"/>
                  <a:pt x="2595418" y="4510425"/>
                  <a:pt x="2618509" y="4515043"/>
                </a:cubicBezTo>
                <a:cubicBezTo>
                  <a:pt x="2813465" y="4612520"/>
                  <a:pt x="2569514" y="4495444"/>
                  <a:pt x="2826327" y="4598170"/>
                </a:cubicBezTo>
                <a:cubicBezTo>
                  <a:pt x="2980972" y="4660029"/>
                  <a:pt x="2836828" y="4627630"/>
                  <a:pt x="2992582" y="4653588"/>
                </a:cubicBezTo>
                <a:cubicBezTo>
                  <a:pt x="3029527" y="4667443"/>
                  <a:pt x="3064727" y="4687414"/>
                  <a:pt x="3103418" y="4695152"/>
                </a:cubicBezTo>
                <a:cubicBezTo>
                  <a:pt x="3157948" y="4706058"/>
                  <a:pt x="3214402" y="4702865"/>
                  <a:pt x="3269672" y="4709006"/>
                </a:cubicBezTo>
                <a:cubicBezTo>
                  <a:pt x="3297592" y="4712108"/>
                  <a:pt x="3324955" y="4719148"/>
                  <a:pt x="3352800" y="4722861"/>
                </a:cubicBezTo>
                <a:cubicBezTo>
                  <a:pt x="3394253" y="4728388"/>
                  <a:pt x="3435927" y="4732097"/>
                  <a:pt x="3477491" y="4736715"/>
                </a:cubicBezTo>
                <a:cubicBezTo>
                  <a:pt x="3611418" y="4732097"/>
                  <a:pt x="3745889" y="4735769"/>
                  <a:pt x="3879272" y="4722861"/>
                </a:cubicBezTo>
                <a:cubicBezTo>
                  <a:pt x="3892274" y="4721603"/>
                  <a:pt x="3896353" y="4702744"/>
                  <a:pt x="3906982" y="4695152"/>
                </a:cubicBezTo>
                <a:cubicBezTo>
                  <a:pt x="4062474" y="4584086"/>
                  <a:pt x="3897757" y="4719155"/>
                  <a:pt x="4031672" y="4612024"/>
                </a:cubicBezTo>
                <a:cubicBezTo>
                  <a:pt x="4059837" y="4589492"/>
                  <a:pt x="4086329" y="4564896"/>
                  <a:pt x="4114800" y="4542752"/>
                </a:cubicBezTo>
                <a:cubicBezTo>
                  <a:pt x="4127943" y="4532529"/>
                  <a:pt x="4145224" y="4527420"/>
                  <a:pt x="4156363" y="4515043"/>
                </a:cubicBezTo>
                <a:cubicBezTo>
                  <a:pt x="4187257" y="4480716"/>
                  <a:pt x="4211782" y="4441152"/>
                  <a:pt x="4239491" y="4404206"/>
                </a:cubicBezTo>
                <a:cubicBezTo>
                  <a:pt x="4253345" y="4385733"/>
                  <a:pt x="4268246" y="4368001"/>
                  <a:pt x="4281054" y="4348788"/>
                </a:cubicBezTo>
                <a:cubicBezTo>
                  <a:pt x="4290290" y="4334933"/>
                  <a:pt x="4298772" y="4320545"/>
                  <a:pt x="4308763" y="4307224"/>
                </a:cubicBezTo>
                <a:cubicBezTo>
                  <a:pt x="4340752" y="4264573"/>
                  <a:pt x="4366830" y="4240245"/>
                  <a:pt x="4391891" y="4196388"/>
                </a:cubicBezTo>
                <a:cubicBezTo>
                  <a:pt x="4402138" y="4178456"/>
                  <a:pt x="4408654" y="4158484"/>
                  <a:pt x="4419600" y="4140970"/>
                </a:cubicBezTo>
                <a:cubicBezTo>
                  <a:pt x="4431838" y="4121389"/>
                  <a:pt x="4449949" y="4105737"/>
                  <a:pt x="4461163" y="4085552"/>
                </a:cubicBezTo>
                <a:cubicBezTo>
                  <a:pt x="4473241" y="4063812"/>
                  <a:pt x="4478771" y="4039005"/>
                  <a:pt x="4488872" y="4016279"/>
                </a:cubicBezTo>
                <a:cubicBezTo>
                  <a:pt x="4497260" y="3997406"/>
                  <a:pt x="4507345" y="3979334"/>
                  <a:pt x="4516582" y="3960861"/>
                </a:cubicBezTo>
                <a:cubicBezTo>
                  <a:pt x="4521200" y="3923915"/>
                  <a:pt x="4520639" y="3885945"/>
                  <a:pt x="4530436" y="3850024"/>
                </a:cubicBezTo>
                <a:cubicBezTo>
                  <a:pt x="4534817" y="3833960"/>
                  <a:pt x="4556080" y="3824983"/>
                  <a:pt x="4558145" y="3808461"/>
                </a:cubicBezTo>
                <a:cubicBezTo>
                  <a:pt x="4570188" y="3712119"/>
                  <a:pt x="4566614" y="3614457"/>
                  <a:pt x="4572000" y="3517515"/>
                </a:cubicBezTo>
                <a:cubicBezTo>
                  <a:pt x="4575851" y="3448195"/>
                  <a:pt x="4576036" y="3378426"/>
                  <a:pt x="4585854" y="3309697"/>
                </a:cubicBezTo>
                <a:cubicBezTo>
                  <a:pt x="4585855" y="3309691"/>
                  <a:pt x="4620490" y="3205790"/>
                  <a:pt x="4627418" y="3185006"/>
                </a:cubicBezTo>
                <a:lnTo>
                  <a:pt x="4641272" y="3143443"/>
                </a:lnTo>
                <a:cubicBezTo>
                  <a:pt x="4648176" y="3074400"/>
                  <a:pt x="4646653" y="2986899"/>
                  <a:pt x="4682836" y="2921770"/>
                </a:cubicBezTo>
                <a:cubicBezTo>
                  <a:pt x="4692351" y="2904642"/>
                  <a:pt x="4712644" y="2895881"/>
                  <a:pt x="4724400" y="2880206"/>
                </a:cubicBezTo>
                <a:cubicBezTo>
                  <a:pt x="4740557" y="2858664"/>
                  <a:pt x="4749141" y="2831961"/>
                  <a:pt x="4765963" y="2810934"/>
                </a:cubicBezTo>
                <a:cubicBezTo>
                  <a:pt x="4786363" y="2785434"/>
                  <a:pt x="4812145" y="2764752"/>
                  <a:pt x="4835236" y="2741661"/>
                </a:cubicBezTo>
                <a:lnTo>
                  <a:pt x="5001491" y="2575406"/>
                </a:lnTo>
                <a:lnTo>
                  <a:pt x="5140036" y="2436861"/>
                </a:lnTo>
                <a:cubicBezTo>
                  <a:pt x="5158509" y="2418388"/>
                  <a:pt x="5179779" y="2402342"/>
                  <a:pt x="5195454" y="2381443"/>
                </a:cubicBezTo>
                <a:lnTo>
                  <a:pt x="5278582" y="2270606"/>
                </a:lnTo>
                <a:cubicBezTo>
                  <a:pt x="5312885" y="2099093"/>
                  <a:pt x="5293353" y="2177345"/>
                  <a:pt x="5334000" y="2035079"/>
                </a:cubicBezTo>
                <a:cubicBezTo>
                  <a:pt x="5324764" y="1970424"/>
                  <a:pt x="5322131" y="1904476"/>
                  <a:pt x="5306291" y="1841115"/>
                </a:cubicBezTo>
                <a:cubicBezTo>
                  <a:pt x="5298777" y="1811060"/>
                  <a:pt x="5283747" y="1782442"/>
                  <a:pt x="5264727" y="1757988"/>
                </a:cubicBezTo>
                <a:cubicBezTo>
                  <a:pt x="5249959" y="1739000"/>
                  <a:pt x="5156582" y="1683134"/>
                  <a:pt x="5140036" y="1674861"/>
                </a:cubicBezTo>
                <a:cubicBezTo>
                  <a:pt x="5099354" y="1654520"/>
                  <a:pt x="5058495" y="1633826"/>
                  <a:pt x="5015345" y="1619443"/>
                </a:cubicBezTo>
                <a:cubicBezTo>
                  <a:pt x="4964645" y="1602543"/>
                  <a:pt x="4865743" y="1587582"/>
                  <a:pt x="4807527" y="1577879"/>
                </a:cubicBezTo>
                <a:cubicBezTo>
                  <a:pt x="4710545" y="1591734"/>
                  <a:pt x="4611413" y="1594857"/>
                  <a:pt x="4516582" y="1619443"/>
                </a:cubicBezTo>
                <a:cubicBezTo>
                  <a:pt x="4481922" y="1628429"/>
                  <a:pt x="4382832" y="1714605"/>
                  <a:pt x="4364182" y="1744134"/>
                </a:cubicBezTo>
                <a:cubicBezTo>
                  <a:pt x="4347533" y="1770494"/>
                  <a:pt x="4248935" y="1968510"/>
                  <a:pt x="4225636" y="2035079"/>
                </a:cubicBezTo>
                <a:cubicBezTo>
                  <a:pt x="4204885" y="2094367"/>
                  <a:pt x="4188691" y="2155152"/>
                  <a:pt x="4170218" y="2215188"/>
                </a:cubicBezTo>
                <a:cubicBezTo>
                  <a:pt x="4174836" y="2289079"/>
                  <a:pt x="4162516" y="2366033"/>
                  <a:pt x="4184072" y="2436861"/>
                </a:cubicBezTo>
                <a:cubicBezTo>
                  <a:pt x="4186199" y="2443850"/>
                  <a:pt x="4297224" y="2571123"/>
                  <a:pt x="4322618" y="2589261"/>
                </a:cubicBezTo>
                <a:cubicBezTo>
                  <a:pt x="4334502" y="2597749"/>
                  <a:pt x="4350327" y="2598497"/>
                  <a:pt x="4364182" y="2603115"/>
                </a:cubicBezTo>
                <a:lnTo>
                  <a:pt x="5306291" y="2589261"/>
                </a:lnTo>
                <a:cubicBezTo>
                  <a:pt x="5334372" y="2588502"/>
                  <a:pt x="5362768" y="2584289"/>
                  <a:pt x="5389418" y="2575406"/>
                </a:cubicBezTo>
                <a:cubicBezTo>
                  <a:pt x="5405215" y="2570140"/>
                  <a:pt x="5416525" y="2555958"/>
                  <a:pt x="5430982" y="2547697"/>
                </a:cubicBezTo>
                <a:cubicBezTo>
                  <a:pt x="5620414" y="2439451"/>
                  <a:pt x="5343136" y="2610878"/>
                  <a:pt x="5541818" y="2478424"/>
                </a:cubicBezTo>
                <a:cubicBezTo>
                  <a:pt x="5564224" y="2463487"/>
                  <a:pt x="5590250" y="2453913"/>
                  <a:pt x="5611091" y="2436861"/>
                </a:cubicBezTo>
                <a:cubicBezTo>
                  <a:pt x="5671924" y="2387089"/>
                  <a:pt x="5722522" y="2323327"/>
                  <a:pt x="5763491" y="2256752"/>
                </a:cubicBezTo>
                <a:cubicBezTo>
                  <a:pt x="5779727" y="2230368"/>
                  <a:pt x="5793933" y="2202539"/>
                  <a:pt x="5805054" y="2173624"/>
                </a:cubicBezTo>
                <a:cubicBezTo>
                  <a:pt x="5831103" y="2105896"/>
                  <a:pt x="5835071" y="2062795"/>
                  <a:pt x="5846618" y="1993515"/>
                </a:cubicBezTo>
                <a:cubicBezTo>
                  <a:pt x="5797585" y="1380598"/>
                  <a:pt x="5856140" y="1826165"/>
                  <a:pt x="5791200" y="1550170"/>
                </a:cubicBezTo>
                <a:cubicBezTo>
                  <a:pt x="5780413" y="1504325"/>
                  <a:pt x="5776780" y="1456807"/>
                  <a:pt x="5763491" y="1411624"/>
                </a:cubicBezTo>
                <a:cubicBezTo>
                  <a:pt x="5753567" y="1377882"/>
                  <a:pt x="5734989" y="1347298"/>
                  <a:pt x="5721927" y="1314643"/>
                </a:cubicBezTo>
                <a:cubicBezTo>
                  <a:pt x="5707273" y="1278007"/>
                  <a:pt x="5697049" y="1239562"/>
                  <a:pt x="5680363" y="1203806"/>
                </a:cubicBezTo>
                <a:cubicBezTo>
                  <a:pt x="5664618" y="1170066"/>
                  <a:pt x="5640548" y="1140630"/>
                  <a:pt x="5624945" y="1106824"/>
                </a:cubicBezTo>
                <a:cubicBezTo>
                  <a:pt x="5573154" y="994609"/>
                  <a:pt x="5623206" y="971738"/>
                  <a:pt x="5472545" y="871297"/>
                </a:cubicBezTo>
                <a:lnTo>
                  <a:pt x="5389418" y="815879"/>
                </a:lnTo>
                <a:cubicBezTo>
                  <a:pt x="5375563" y="806643"/>
                  <a:pt x="5364109" y="791782"/>
                  <a:pt x="5347854" y="788170"/>
                </a:cubicBezTo>
                <a:cubicBezTo>
                  <a:pt x="5306290" y="778934"/>
                  <a:pt x="5264469" y="770788"/>
                  <a:pt x="5223163" y="760461"/>
                </a:cubicBezTo>
                <a:cubicBezTo>
                  <a:pt x="5208995" y="756919"/>
                  <a:pt x="5194662" y="753137"/>
                  <a:pt x="5181600" y="746606"/>
                </a:cubicBezTo>
                <a:cubicBezTo>
                  <a:pt x="5166707" y="739159"/>
                  <a:pt x="5154314" y="727464"/>
                  <a:pt x="5140036" y="718897"/>
                </a:cubicBezTo>
                <a:cubicBezTo>
                  <a:pt x="5131181" y="713584"/>
                  <a:pt x="5121563" y="709661"/>
                  <a:pt x="5112327" y="705043"/>
                </a:cubicBezTo>
              </a:path>
            </a:pathLst>
          </a:custGeom>
          <a:noFill/>
          <a:ln cap="rnd"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ЛЯЙ И ЧИТАЙ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Содержимое 3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2425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ЛЯЙ И ЧИТАЙ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Содержимое 3" descr=""/>
          <p:cNvPicPr/>
          <p:nvPr/>
        </p:nvPicPr>
        <p:blipFill>
          <a:blip r:embed="rId1"/>
          <a:stretch/>
        </p:blipFill>
        <p:spPr>
          <a:xfrm>
            <a:off x="450720" y="1468440"/>
            <a:ext cx="82425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ЛЯЙ И ЧИТАЙ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Содержимое 3" descr=""/>
          <p:cNvPicPr/>
          <p:nvPr/>
        </p:nvPicPr>
        <p:blipFill>
          <a:blip r:embed="rId1"/>
          <a:stretch/>
        </p:blipFill>
        <p:spPr>
          <a:xfrm>
            <a:off x="450720" y="1468440"/>
            <a:ext cx="82425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ждой согласной свое мес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600200"/>
          <a:ext cx="2362320" cy="3657600"/>
        </p:xfrm>
        <a:graphic>
          <a:graphicData uri="http://schemas.openxmlformats.org/drawingml/2006/table">
            <a:tbl>
              <a:tblPr/>
              <a:tblGrid>
                <a:gridCol w="590400"/>
                <a:gridCol w="590760"/>
                <a:gridCol w="590400"/>
                <a:gridCol w="590760"/>
              </a:tblGrid>
              <a:tr h="731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          Б        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352680" y="1600200"/>
          <a:ext cx="2514600" cy="3657600"/>
        </p:xfrm>
        <a:graphic>
          <a:graphicData uri="http://schemas.openxmlformats.org/drawingml/2006/table">
            <a:tbl>
              <a:tblPr/>
              <a:tblGrid>
                <a:gridCol w="628920"/>
                <a:gridCol w="628560"/>
                <a:gridCol w="628560"/>
                <a:gridCol w="628560"/>
              </a:tblGrid>
              <a:tr h="731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    Т    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172200" y="1600200"/>
          <a:ext cx="2514600" cy="36576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28560"/>
                <a:gridCol w="628560"/>
              </a:tblGrid>
              <a:tr h="731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     П     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ЛЯЙ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"/>
          <p:cNvPicPr/>
          <p:nvPr/>
        </p:nvPicPr>
        <p:blipFill>
          <a:blip r:embed="rId1"/>
          <a:stretch/>
        </p:blipFill>
        <p:spPr>
          <a:xfrm>
            <a:off x="1670040" y="1212840"/>
            <a:ext cx="60357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гадай сл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7672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 * Л * К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* П * Г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* Р * 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 * Ш * 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 * Д *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 * Р * 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 * Р * 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квенный дожд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Выноска-облако 3"/>
          <p:cNvGrpSpPr/>
          <p:nvPr/>
        </p:nvGrpSpPr>
        <p:grpSpPr>
          <a:xfrm>
            <a:off x="2382840" y="1096920"/>
            <a:ext cx="4767120" cy="2468520"/>
            <a:chOff x="2382840" y="1096920"/>
            <a:chExt cx="4767120" cy="2468520"/>
          </a:xfrm>
        </p:grpSpPr>
        <p:pic>
          <p:nvPicPr>
            <p:cNvPr id="164" name="Выноска-облако 3" descr=""/>
            <p:cNvPicPr/>
            <p:nvPr/>
          </p:nvPicPr>
          <p:blipFill>
            <a:blip r:embed="rId1"/>
            <a:stretch/>
          </p:blipFill>
          <p:spPr>
            <a:xfrm>
              <a:off x="2382840" y="1096920"/>
              <a:ext cx="47671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124080" y="1552680"/>
              <a:ext cx="288612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Капля 4"/>
          <p:cNvSpPr/>
          <p:nvPr/>
        </p:nvSpPr>
        <p:spPr>
          <a:xfrm>
            <a:off x="1752480" y="2895480"/>
            <a:ext cx="457200" cy="60984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Капля 5"/>
          <p:cNvSpPr/>
          <p:nvPr/>
        </p:nvSpPr>
        <p:spPr>
          <a:xfrm rot="19861800">
            <a:off x="2362320" y="365724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66548" y="0"/>
                </a:lnTo>
                <a:lnTo>
                  <a:pt x="504497" y="-63063"/>
                </a:lnTo>
                <a:lnTo>
                  <a:pt x="457200" y="212834"/>
                </a:lnTo>
                <a:arcTo wR="0" hR="91966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Капля 6"/>
          <p:cNvSpPr/>
          <p:nvPr/>
        </p:nvSpPr>
        <p:spPr>
          <a:xfrm rot="19929000">
            <a:off x="3123720" y="419112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Капля 7"/>
          <p:cNvSpPr/>
          <p:nvPr/>
        </p:nvSpPr>
        <p:spPr>
          <a:xfrm rot="20892000">
            <a:off x="3885840" y="373392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Капля 8"/>
          <p:cNvSpPr/>
          <p:nvPr/>
        </p:nvSpPr>
        <p:spPr>
          <a:xfrm rot="19165800">
            <a:off x="4952520" y="457164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Капля 9"/>
          <p:cNvSpPr/>
          <p:nvPr/>
        </p:nvSpPr>
        <p:spPr>
          <a:xfrm rot="16824600">
            <a:off x="6781680" y="297180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Капля 10"/>
          <p:cNvSpPr/>
          <p:nvPr/>
        </p:nvSpPr>
        <p:spPr>
          <a:xfrm rot="17712000">
            <a:off x="5790960" y="342900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2"/>
          <p:cNvSpPr/>
          <p:nvPr/>
        </p:nvSpPr>
        <p:spPr>
          <a:xfrm>
            <a:off x="1752480" y="29718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3"/>
          <p:cNvSpPr/>
          <p:nvPr/>
        </p:nvSpPr>
        <p:spPr>
          <a:xfrm>
            <a:off x="24382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4"/>
          <p:cNvSpPr/>
          <p:nvPr/>
        </p:nvSpPr>
        <p:spPr>
          <a:xfrm>
            <a:off x="3124080" y="4191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6"/>
          <p:cNvSpPr/>
          <p:nvPr/>
        </p:nvSpPr>
        <p:spPr>
          <a:xfrm>
            <a:off x="3886200" y="3809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5791320" y="34290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8"/>
          <p:cNvSpPr/>
          <p:nvPr/>
        </p:nvSpPr>
        <p:spPr>
          <a:xfrm>
            <a:off x="6858000" y="2971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9"/>
          <p:cNvSpPr/>
          <p:nvPr/>
        </p:nvSpPr>
        <p:spPr>
          <a:xfrm>
            <a:off x="4952880" y="4572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Капля 20"/>
          <p:cNvSpPr/>
          <p:nvPr/>
        </p:nvSpPr>
        <p:spPr>
          <a:xfrm rot="17628000">
            <a:off x="6619680" y="403740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2"/>
          <p:cNvSpPr/>
          <p:nvPr/>
        </p:nvSpPr>
        <p:spPr>
          <a:xfrm>
            <a:off x="6629400" y="4114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25" descr="Цветок + бабочка.gif"/>
          <p:cNvPicPr/>
          <p:nvPr/>
        </p:nvPicPr>
        <p:blipFill>
          <a:blip r:embed="rId2"/>
          <a:stretch/>
        </p:blipFill>
        <p:spPr>
          <a:xfrm>
            <a:off x="1981080" y="53341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26" descr="Цветок + бабочка.gif"/>
          <p:cNvPicPr/>
          <p:nvPr/>
        </p:nvPicPr>
        <p:blipFill>
          <a:blip r:embed="rId3"/>
          <a:stretch/>
        </p:blipFill>
        <p:spPr>
          <a:xfrm>
            <a:off x="4952880" y="54100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27"/>
          <p:cNvSpPr/>
          <p:nvPr/>
        </p:nvSpPr>
        <p:spPr>
          <a:xfrm>
            <a:off x="4952880" y="5867280"/>
            <a:ext cx="609840" cy="533520"/>
          </a:xfrm>
          <a:prstGeom prst="rect">
            <a:avLst/>
          </a:prstGeom>
          <a:solidFill>
            <a:srgbClr val="ffffff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квенный дожд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Выноска-облако 3"/>
          <p:cNvGrpSpPr/>
          <p:nvPr/>
        </p:nvGrpSpPr>
        <p:grpSpPr>
          <a:xfrm>
            <a:off x="2382840" y="1096920"/>
            <a:ext cx="4767120" cy="2468520"/>
            <a:chOff x="2382840" y="1096920"/>
            <a:chExt cx="4767120" cy="2468520"/>
          </a:xfrm>
        </p:grpSpPr>
        <p:pic>
          <p:nvPicPr>
            <p:cNvPr id="187" name="Выноска-облако 3" descr=""/>
            <p:cNvPicPr/>
            <p:nvPr/>
          </p:nvPicPr>
          <p:blipFill>
            <a:blip r:embed="rId1"/>
            <a:stretch/>
          </p:blipFill>
          <p:spPr>
            <a:xfrm>
              <a:off x="2382840" y="1096920"/>
              <a:ext cx="47671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124080" y="1552680"/>
              <a:ext cx="288612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Капля 4"/>
          <p:cNvSpPr/>
          <p:nvPr/>
        </p:nvSpPr>
        <p:spPr>
          <a:xfrm>
            <a:off x="1752480" y="2895480"/>
            <a:ext cx="457200" cy="60984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Капля 5"/>
          <p:cNvSpPr/>
          <p:nvPr/>
        </p:nvSpPr>
        <p:spPr>
          <a:xfrm rot="19861800">
            <a:off x="2362320" y="365724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66548" y="0"/>
                </a:lnTo>
                <a:lnTo>
                  <a:pt x="504497" y="-63063"/>
                </a:lnTo>
                <a:lnTo>
                  <a:pt x="457200" y="212834"/>
                </a:lnTo>
                <a:arcTo wR="0" hR="91966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Капля 6"/>
          <p:cNvSpPr/>
          <p:nvPr/>
        </p:nvSpPr>
        <p:spPr>
          <a:xfrm rot="19929000">
            <a:off x="3123720" y="419112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Капля 7"/>
          <p:cNvSpPr/>
          <p:nvPr/>
        </p:nvSpPr>
        <p:spPr>
          <a:xfrm rot="20892000">
            <a:off x="3885840" y="373392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Капля 8"/>
          <p:cNvSpPr/>
          <p:nvPr/>
        </p:nvSpPr>
        <p:spPr>
          <a:xfrm rot="19165800">
            <a:off x="4952520" y="457164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Капля 9"/>
          <p:cNvSpPr/>
          <p:nvPr/>
        </p:nvSpPr>
        <p:spPr>
          <a:xfrm rot="16824600">
            <a:off x="6781680" y="297180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Капля 10"/>
          <p:cNvSpPr/>
          <p:nvPr/>
        </p:nvSpPr>
        <p:spPr>
          <a:xfrm rot="17712000">
            <a:off x="5790960" y="342900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1752480" y="29718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2438280" y="3733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4"/>
          <p:cNvSpPr/>
          <p:nvPr/>
        </p:nvSpPr>
        <p:spPr>
          <a:xfrm>
            <a:off x="3124080" y="4191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6"/>
          <p:cNvSpPr/>
          <p:nvPr/>
        </p:nvSpPr>
        <p:spPr>
          <a:xfrm>
            <a:off x="3886200" y="3809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7"/>
          <p:cNvSpPr/>
          <p:nvPr/>
        </p:nvSpPr>
        <p:spPr>
          <a:xfrm>
            <a:off x="5791320" y="34290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8"/>
          <p:cNvSpPr/>
          <p:nvPr/>
        </p:nvSpPr>
        <p:spPr>
          <a:xfrm>
            <a:off x="6858000" y="2971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9"/>
          <p:cNvSpPr/>
          <p:nvPr/>
        </p:nvSpPr>
        <p:spPr>
          <a:xfrm>
            <a:off x="4952880" y="4572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Капля 20"/>
          <p:cNvSpPr/>
          <p:nvPr/>
        </p:nvSpPr>
        <p:spPr>
          <a:xfrm rot="17628000">
            <a:off x="6619680" y="403740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6629400" y="4114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25" descr="Цветок + бабочка.gif"/>
          <p:cNvPicPr/>
          <p:nvPr/>
        </p:nvPicPr>
        <p:blipFill>
          <a:blip r:embed="rId2"/>
          <a:stretch/>
        </p:blipFill>
        <p:spPr>
          <a:xfrm>
            <a:off x="1981080" y="53341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26" descr="Цветок + бабочка.gif"/>
          <p:cNvPicPr/>
          <p:nvPr/>
        </p:nvPicPr>
        <p:blipFill>
          <a:blip r:embed="rId3"/>
          <a:stretch/>
        </p:blipFill>
        <p:spPr>
          <a:xfrm>
            <a:off x="4952880" y="54100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27"/>
          <p:cNvSpPr/>
          <p:nvPr/>
        </p:nvSpPr>
        <p:spPr>
          <a:xfrm>
            <a:off x="4952880" y="5867280"/>
            <a:ext cx="609840" cy="533520"/>
          </a:xfrm>
          <a:prstGeom prst="rect">
            <a:avLst/>
          </a:prstGeom>
          <a:solidFill>
            <a:srgbClr val="ffffff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квенный дожд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Выноска-облако 3"/>
          <p:cNvGrpSpPr/>
          <p:nvPr/>
        </p:nvGrpSpPr>
        <p:grpSpPr>
          <a:xfrm>
            <a:off x="2382840" y="1096920"/>
            <a:ext cx="4767120" cy="2468520"/>
            <a:chOff x="2382840" y="1096920"/>
            <a:chExt cx="4767120" cy="2468520"/>
          </a:xfrm>
        </p:grpSpPr>
        <p:pic>
          <p:nvPicPr>
            <p:cNvPr id="210" name="Выноска-облако 3" descr=""/>
            <p:cNvPicPr/>
            <p:nvPr/>
          </p:nvPicPr>
          <p:blipFill>
            <a:blip r:embed="rId1"/>
            <a:stretch/>
          </p:blipFill>
          <p:spPr>
            <a:xfrm>
              <a:off x="2382840" y="1096920"/>
              <a:ext cx="47671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124080" y="1552680"/>
              <a:ext cx="288612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Капля 4"/>
          <p:cNvSpPr/>
          <p:nvPr/>
        </p:nvSpPr>
        <p:spPr>
          <a:xfrm>
            <a:off x="1752480" y="2895480"/>
            <a:ext cx="457200" cy="60984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Капля 5"/>
          <p:cNvSpPr/>
          <p:nvPr/>
        </p:nvSpPr>
        <p:spPr>
          <a:xfrm rot="19861800">
            <a:off x="2633400" y="3425760"/>
            <a:ext cx="457200" cy="60984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66548" y="0"/>
                </a:lnTo>
                <a:lnTo>
                  <a:pt x="504497" y="-63063"/>
                </a:lnTo>
                <a:lnTo>
                  <a:pt x="457200" y="212834"/>
                </a:lnTo>
                <a:arcTo wR="0" hR="91966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Капля 6"/>
          <p:cNvSpPr/>
          <p:nvPr/>
        </p:nvSpPr>
        <p:spPr>
          <a:xfrm rot="19929000">
            <a:off x="3123720" y="419112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Капля 7"/>
          <p:cNvSpPr/>
          <p:nvPr/>
        </p:nvSpPr>
        <p:spPr>
          <a:xfrm rot="20892000">
            <a:off x="4171680" y="377352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Капля 8"/>
          <p:cNvSpPr/>
          <p:nvPr/>
        </p:nvSpPr>
        <p:spPr>
          <a:xfrm rot="19165800">
            <a:off x="4952520" y="457164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Капля 9"/>
          <p:cNvSpPr/>
          <p:nvPr/>
        </p:nvSpPr>
        <p:spPr>
          <a:xfrm rot="16824600">
            <a:off x="6811560" y="2979720"/>
            <a:ext cx="433440" cy="576000"/>
          </a:xfrm>
          <a:custGeom>
            <a:avLst/>
            <a:gdLst>
              <a:gd name="textAreaLeft" fmla="*/ 63360 w 433440"/>
              <a:gd name="textAreaRight" fmla="*/ 370080 w 433440"/>
              <a:gd name="textAreaTop" fmla="*/ 84240 h 576000"/>
              <a:gd name="textAreaBottom" fmla="*/ 491760 h 576000"/>
            </a:gdLst>
            <a:ahLst/>
            <a:rect l="textAreaLeft" t="textAreaTop" r="textAreaRight" b="textAreaBottom"/>
            <a:pathLst>
              <a:path w="433388" h="576263">
                <a:moveTo>
                  <a:pt x="0" y="288132"/>
                </a:moveTo>
                <a:lnTo>
                  <a:pt x="0" y="288132"/>
                </a:lnTo>
                <a:arcTo wR="216694" hR="288132" stAng="10800000" swAng="5400012"/>
                <a:lnTo>
                  <a:pt x="325041" y="0"/>
                </a:lnTo>
                <a:lnTo>
                  <a:pt x="433388" y="0"/>
                </a:lnTo>
                <a:lnTo>
                  <a:pt x="433388" y="216099"/>
                </a:lnTo>
                <a:arcTo wR="0" hR="72033" stAng="0" swAng="0"/>
                <a:lnTo>
                  <a:pt x="401654" y="534068"/>
                </a:lnTo>
                <a:arcTo wR="-108347" hR="144066" stAng="3183267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Капля 10"/>
          <p:cNvSpPr/>
          <p:nvPr/>
        </p:nvSpPr>
        <p:spPr>
          <a:xfrm rot="17712000">
            <a:off x="5790960" y="342900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1752480" y="29718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26668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"/>
          <p:cNvSpPr/>
          <p:nvPr/>
        </p:nvSpPr>
        <p:spPr>
          <a:xfrm>
            <a:off x="3124080" y="4191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6"/>
          <p:cNvSpPr/>
          <p:nvPr/>
        </p:nvSpPr>
        <p:spPr>
          <a:xfrm>
            <a:off x="4191120" y="3809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7"/>
          <p:cNvSpPr/>
          <p:nvPr/>
        </p:nvSpPr>
        <p:spPr>
          <a:xfrm>
            <a:off x="5791320" y="34290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6858000" y="2971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4952880" y="4572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Капля 20"/>
          <p:cNvSpPr/>
          <p:nvPr/>
        </p:nvSpPr>
        <p:spPr>
          <a:xfrm rot="17628000">
            <a:off x="6619680" y="403740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2"/>
          <p:cNvSpPr/>
          <p:nvPr/>
        </p:nvSpPr>
        <p:spPr>
          <a:xfrm>
            <a:off x="6629400" y="4114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25" descr="Цветок + бабочка.gif"/>
          <p:cNvPicPr/>
          <p:nvPr/>
        </p:nvPicPr>
        <p:blipFill>
          <a:blip r:embed="rId2"/>
          <a:stretch/>
        </p:blipFill>
        <p:spPr>
          <a:xfrm>
            <a:off x="1981080" y="53341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6" descr="Цветок + бабочка.gif"/>
          <p:cNvPicPr/>
          <p:nvPr/>
        </p:nvPicPr>
        <p:blipFill>
          <a:blip r:embed="rId3"/>
          <a:stretch/>
        </p:blipFill>
        <p:spPr>
          <a:xfrm>
            <a:off x="4952880" y="54100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27"/>
          <p:cNvSpPr/>
          <p:nvPr/>
        </p:nvSpPr>
        <p:spPr>
          <a:xfrm>
            <a:off x="4952880" y="5867280"/>
            <a:ext cx="609840" cy="533520"/>
          </a:xfrm>
          <a:prstGeom prst="rect">
            <a:avLst/>
          </a:prstGeom>
          <a:solidFill>
            <a:srgbClr val="ffffff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Капля 24"/>
          <p:cNvSpPr/>
          <p:nvPr/>
        </p:nvSpPr>
        <p:spPr>
          <a:xfrm rot="19861800">
            <a:off x="1947600" y="3882960"/>
            <a:ext cx="457200" cy="60984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66548" y="0"/>
                </a:lnTo>
                <a:lnTo>
                  <a:pt x="504497" y="-63063"/>
                </a:lnTo>
                <a:lnTo>
                  <a:pt x="457200" y="212834"/>
                </a:lnTo>
                <a:arcTo wR="0" hR="91966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3"/>
          <p:cNvSpPr/>
          <p:nvPr/>
        </p:nvSpPr>
        <p:spPr>
          <a:xfrm>
            <a:off x="198108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квенный дожд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Выноска-облако 3"/>
          <p:cNvGrpSpPr/>
          <p:nvPr/>
        </p:nvGrpSpPr>
        <p:grpSpPr>
          <a:xfrm>
            <a:off x="2382840" y="1096920"/>
            <a:ext cx="4767120" cy="2468520"/>
            <a:chOff x="2382840" y="1096920"/>
            <a:chExt cx="4767120" cy="2468520"/>
          </a:xfrm>
        </p:grpSpPr>
        <p:pic>
          <p:nvPicPr>
            <p:cNvPr id="235" name="Выноска-облако 3" descr=""/>
            <p:cNvPicPr/>
            <p:nvPr/>
          </p:nvPicPr>
          <p:blipFill>
            <a:blip r:embed="rId1"/>
            <a:stretch/>
          </p:blipFill>
          <p:spPr>
            <a:xfrm>
              <a:off x="2382840" y="1096920"/>
              <a:ext cx="47671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124080" y="1552680"/>
              <a:ext cx="288612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Капля 4"/>
          <p:cNvSpPr/>
          <p:nvPr/>
        </p:nvSpPr>
        <p:spPr>
          <a:xfrm>
            <a:off x="1752480" y="2895480"/>
            <a:ext cx="457200" cy="60984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Капля 5"/>
          <p:cNvSpPr/>
          <p:nvPr/>
        </p:nvSpPr>
        <p:spPr>
          <a:xfrm rot="19861800">
            <a:off x="2362320" y="365724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66548" y="0"/>
                </a:lnTo>
                <a:lnTo>
                  <a:pt x="504497" y="-63063"/>
                </a:lnTo>
                <a:lnTo>
                  <a:pt x="457200" y="212834"/>
                </a:lnTo>
                <a:arcTo wR="0" hR="91966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Капля 6"/>
          <p:cNvSpPr/>
          <p:nvPr/>
        </p:nvSpPr>
        <p:spPr>
          <a:xfrm rot="19929000">
            <a:off x="3123720" y="419112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Капля 7"/>
          <p:cNvSpPr/>
          <p:nvPr/>
        </p:nvSpPr>
        <p:spPr>
          <a:xfrm rot="20892000">
            <a:off x="3885840" y="373392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Капля 8"/>
          <p:cNvSpPr/>
          <p:nvPr/>
        </p:nvSpPr>
        <p:spPr>
          <a:xfrm rot="19165800">
            <a:off x="4952520" y="457164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Капля 9"/>
          <p:cNvSpPr/>
          <p:nvPr/>
        </p:nvSpPr>
        <p:spPr>
          <a:xfrm rot="16824600">
            <a:off x="6781680" y="297180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Капля 10"/>
          <p:cNvSpPr/>
          <p:nvPr/>
        </p:nvSpPr>
        <p:spPr>
          <a:xfrm rot="17712000">
            <a:off x="5790960" y="342900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1752480" y="29718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3"/>
          <p:cNvSpPr/>
          <p:nvPr/>
        </p:nvSpPr>
        <p:spPr>
          <a:xfrm>
            <a:off x="2438280" y="3733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3159000" y="42670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6"/>
          <p:cNvSpPr/>
          <p:nvPr/>
        </p:nvSpPr>
        <p:spPr>
          <a:xfrm>
            <a:off x="3965400" y="3809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7"/>
          <p:cNvSpPr/>
          <p:nvPr/>
        </p:nvSpPr>
        <p:spPr>
          <a:xfrm>
            <a:off x="5791320" y="34290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8"/>
          <p:cNvSpPr/>
          <p:nvPr/>
        </p:nvSpPr>
        <p:spPr>
          <a:xfrm>
            <a:off x="6858000" y="2971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9"/>
          <p:cNvSpPr/>
          <p:nvPr/>
        </p:nvSpPr>
        <p:spPr>
          <a:xfrm>
            <a:off x="4952880" y="4572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Капля 20"/>
          <p:cNvSpPr/>
          <p:nvPr/>
        </p:nvSpPr>
        <p:spPr>
          <a:xfrm rot="17628000">
            <a:off x="6619680" y="403740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2"/>
          <p:cNvSpPr/>
          <p:nvPr/>
        </p:nvSpPr>
        <p:spPr>
          <a:xfrm>
            <a:off x="6629400" y="4114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25" descr="Цветок + бабочка.gif"/>
          <p:cNvPicPr/>
          <p:nvPr/>
        </p:nvPicPr>
        <p:blipFill>
          <a:blip r:embed="rId2"/>
          <a:stretch/>
        </p:blipFill>
        <p:spPr>
          <a:xfrm>
            <a:off x="1981080" y="53341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26" descr="Цветок + бабочка.gif"/>
          <p:cNvPicPr/>
          <p:nvPr/>
        </p:nvPicPr>
        <p:blipFill>
          <a:blip r:embed="rId3"/>
          <a:stretch/>
        </p:blipFill>
        <p:spPr>
          <a:xfrm>
            <a:off x="4952880" y="54100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27"/>
          <p:cNvSpPr/>
          <p:nvPr/>
        </p:nvSpPr>
        <p:spPr>
          <a:xfrm>
            <a:off x="4952880" y="5867280"/>
            <a:ext cx="609840" cy="533520"/>
          </a:xfrm>
          <a:prstGeom prst="rect">
            <a:avLst/>
          </a:prstGeom>
          <a:solidFill>
            <a:srgbClr val="ffffff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квенный дожд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Выноска-облако 3"/>
          <p:cNvGrpSpPr/>
          <p:nvPr/>
        </p:nvGrpSpPr>
        <p:grpSpPr>
          <a:xfrm>
            <a:off x="2382840" y="1096920"/>
            <a:ext cx="4767120" cy="2468520"/>
            <a:chOff x="2382840" y="1096920"/>
            <a:chExt cx="4767120" cy="2468520"/>
          </a:xfrm>
        </p:grpSpPr>
        <p:pic>
          <p:nvPicPr>
            <p:cNvPr id="258" name="Выноска-облако 3" descr=""/>
            <p:cNvPicPr/>
            <p:nvPr/>
          </p:nvPicPr>
          <p:blipFill>
            <a:blip r:embed="rId1"/>
            <a:stretch/>
          </p:blipFill>
          <p:spPr>
            <a:xfrm>
              <a:off x="2382840" y="1096920"/>
              <a:ext cx="47671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124080" y="1552680"/>
              <a:ext cx="288612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Капля 4"/>
          <p:cNvSpPr/>
          <p:nvPr/>
        </p:nvSpPr>
        <p:spPr>
          <a:xfrm rot="19359000">
            <a:off x="2271600" y="533412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Капля 5"/>
          <p:cNvSpPr/>
          <p:nvPr/>
        </p:nvSpPr>
        <p:spPr>
          <a:xfrm rot="19861800">
            <a:off x="2252160" y="2968560"/>
            <a:ext cx="457200" cy="60984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66548" y="0"/>
                </a:lnTo>
                <a:lnTo>
                  <a:pt x="504497" y="-63063"/>
                </a:lnTo>
                <a:lnTo>
                  <a:pt x="457200" y="212834"/>
                </a:lnTo>
                <a:arcTo wR="0" hR="91966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Капля 6"/>
          <p:cNvSpPr/>
          <p:nvPr/>
        </p:nvSpPr>
        <p:spPr>
          <a:xfrm rot="19929000">
            <a:off x="2249280" y="380520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Капля 7"/>
          <p:cNvSpPr/>
          <p:nvPr/>
        </p:nvSpPr>
        <p:spPr>
          <a:xfrm rot="20892000">
            <a:off x="4247640" y="354492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Капля 8"/>
          <p:cNvSpPr/>
          <p:nvPr/>
        </p:nvSpPr>
        <p:spPr>
          <a:xfrm rot="19165800">
            <a:off x="2276280" y="457020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Капля 9"/>
          <p:cNvSpPr/>
          <p:nvPr/>
        </p:nvSpPr>
        <p:spPr>
          <a:xfrm rot="16824600">
            <a:off x="6811560" y="2979720"/>
            <a:ext cx="433440" cy="576000"/>
          </a:xfrm>
          <a:custGeom>
            <a:avLst/>
            <a:gdLst>
              <a:gd name="textAreaLeft" fmla="*/ 63360 w 433440"/>
              <a:gd name="textAreaRight" fmla="*/ 370080 w 433440"/>
              <a:gd name="textAreaTop" fmla="*/ 84240 h 576000"/>
              <a:gd name="textAreaBottom" fmla="*/ 491760 h 576000"/>
            </a:gdLst>
            <a:ahLst/>
            <a:rect l="textAreaLeft" t="textAreaTop" r="textAreaRight" b="textAreaBottom"/>
            <a:pathLst>
              <a:path w="433388" h="576263">
                <a:moveTo>
                  <a:pt x="0" y="288132"/>
                </a:moveTo>
                <a:lnTo>
                  <a:pt x="0" y="288132"/>
                </a:lnTo>
                <a:arcTo wR="216694" hR="288132" stAng="10800000" swAng="5400012"/>
                <a:lnTo>
                  <a:pt x="325041" y="0"/>
                </a:lnTo>
                <a:lnTo>
                  <a:pt x="433388" y="0"/>
                </a:lnTo>
                <a:lnTo>
                  <a:pt x="433388" y="216099"/>
                </a:lnTo>
                <a:arcTo wR="0" hR="72033" stAng="0" swAng="0"/>
                <a:lnTo>
                  <a:pt x="401654" y="534068"/>
                </a:lnTo>
                <a:arcTo wR="-108347" hR="144066" stAng="3183267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Капля 10"/>
          <p:cNvSpPr/>
          <p:nvPr/>
        </p:nvSpPr>
        <p:spPr>
          <a:xfrm rot="19852800">
            <a:off x="5681160" y="3196800"/>
            <a:ext cx="457200" cy="60984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22860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4"/>
          <p:cNvSpPr/>
          <p:nvPr/>
        </p:nvSpPr>
        <p:spPr>
          <a:xfrm>
            <a:off x="4191120" y="3581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Капля 20"/>
          <p:cNvSpPr/>
          <p:nvPr/>
        </p:nvSpPr>
        <p:spPr>
          <a:xfrm rot="19768200">
            <a:off x="5686560" y="3960720"/>
            <a:ext cx="457200" cy="60984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Рисунок 25" descr="Цветок + бабочка.gif"/>
          <p:cNvPicPr/>
          <p:nvPr/>
        </p:nvPicPr>
        <p:blipFill>
          <a:blip r:embed="rId2"/>
          <a:stretch/>
        </p:blipFill>
        <p:spPr>
          <a:xfrm>
            <a:off x="304920" y="53341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26" descr="Цветок + бабочка.gif"/>
          <p:cNvPicPr/>
          <p:nvPr/>
        </p:nvPicPr>
        <p:blipFill>
          <a:blip r:embed="rId3"/>
          <a:stretch/>
        </p:blipFill>
        <p:spPr>
          <a:xfrm>
            <a:off x="7467480" y="54100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27"/>
          <p:cNvSpPr/>
          <p:nvPr/>
        </p:nvSpPr>
        <p:spPr>
          <a:xfrm>
            <a:off x="4952880" y="5867280"/>
            <a:ext cx="609840" cy="533520"/>
          </a:xfrm>
          <a:prstGeom prst="rect">
            <a:avLst/>
          </a:prstGeom>
          <a:solidFill>
            <a:srgbClr val="ffffff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Капля 24"/>
          <p:cNvSpPr/>
          <p:nvPr/>
        </p:nvSpPr>
        <p:spPr>
          <a:xfrm rot="19861800">
            <a:off x="2328840" y="617508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66548" y="0"/>
                </a:lnTo>
                <a:lnTo>
                  <a:pt x="504497" y="-63063"/>
                </a:lnTo>
                <a:lnTo>
                  <a:pt x="457200" y="212834"/>
                </a:lnTo>
                <a:arcTo wR="0" hR="91966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Капля 28"/>
          <p:cNvSpPr/>
          <p:nvPr/>
        </p:nvSpPr>
        <p:spPr>
          <a:xfrm rot="17628000">
            <a:off x="6619680" y="360864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апля 29"/>
          <p:cNvSpPr/>
          <p:nvPr/>
        </p:nvSpPr>
        <p:spPr>
          <a:xfrm rot="19371600">
            <a:off x="5624640" y="464796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Капля 30"/>
          <p:cNvSpPr/>
          <p:nvPr/>
        </p:nvSpPr>
        <p:spPr>
          <a:xfrm rot="20031000">
            <a:off x="5597640" y="540360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Капля 31"/>
          <p:cNvSpPr/>
          <p:nvPr/>
        </p:nvSpPr>
        <p:spPr>
          <a:xfrm rot="19345800">
            <a:off x="5624640" y="617220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Капля 32"/>
          <p:cNvSpPr/>
          <p:nvPr/>
        </p:nvSpPr>
        <p:spPr>
          <a:xfrm rot="20892000">
            <a:off x="3333240" y="339264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Капля 33"/>
          <p:cNvSpPr/>
          <p:nvPr/>
        </p:nvSpPr>
        <p:spPr>
          <a:xfrm rot="20892000">
            <a:off x="4019040" y="590724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Капля 34"/>
          <p:cNvSpPr/>
          <p:nvPr/>
        </p:nvSpPr>
        <p:spPr>
          <a:xfrm rot="20832000">
            <a:off x="4100040" y="507204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Капля 35"/>
          <p:cNvSpPr/>
          <p:nvPr/>
        </p:nvSpPr>
        <p:spPr>
          <a:xfrm rot="20892000">
            <a:off x="4095360" y="4307040"/>
            <a:ext cx="457200" cy="609480"/>
          </a:xfrm>
          <a:custGeom>
            <a:avLst/>
            <a:gdLst>
              <a:gd name="textAreaLeft" fmla="*/ 66960 w 457200"/>
              <a:gd name="textAreaRight" fmla="*/ 390240 w 4572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457200" h="609600">
                <a:moveTo>
                  <a:pt x="0" y="304800"/>
                </a:moveTo>
                <a:lnTo>
                  <a:pt x="0" y="304800"/>
                </a:lnTo>
                <a:arcTo wR="228600" hR="304800" stAng="10800000" swAng="5400011"/>
                <a:lnTo>
                  <a:pt x="342900" y="0"/>
                </a:lnTo>
                <a:lnTo>
                  <a:pt x="457200" y="0"/>
                </a:lnTo>
                <a:lnTo>
                  <a:pt x="457200" y="228600"/>
                </a:lnTo>
                <a:arcTo wR="0" hR="76200" stAng="0" swAng="0"/>
                <a:lnTo>
                  <a:pt x="423722" y="564963"/>
                </a:lnTo>
                <a:arcTo wR="-114300" hR="152400" stAng="3187806" swAng="10800000"/>
                <a:close/>
              </a:path>
            </a:pathLst>
          </a:custGeom>
          <a:solidFill>
            <a:srgbClr val="dbeef4"/>
          </a:solidFill>
          <a:ln cap="rnd"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6"/>
          <p:cNvSpPr/>
          <p:nvPr/>
        </p:nvSpPr>
        <p:spPr>
          <a:xfrm>
            <a:off x="228600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7"/>
          <p:cNvSpPr/>
          <p:nvPr/>
        </p:nvSpPr>
        <p:spPr>
          <a:xfrm>
            <a:off x="2209680" y="5410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8"/>
          <p:cNvSpPr/>
          <p:nvPr/>
        </p:nvSpPr>
        <p:spPr>
          <a:xfrm>
            <a:off x="2238480" y="4572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3"/>
          <p:cNvSpPr/>
          <p:nvPr/>
        </p:nvSpPr>
        <p:spPr>
          <a:xfrm>
            <a:off x="4038480" y="4343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9"/>
          <p:cNvSpPr/>
          <p:nvPr/>
        </p:nvSpPr>
        <p:spPr>
          <a:xfrm>
            <a:off x="4035600" y="51055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39"/>
          <p:cNvSpPr/>
          <p:nvPr/>
        </p:nvSpPr>
        <p:spPr>
          <a:xfrm>
            <a:off x="397512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2"/>
          <p:cNvSpPr/>
          <p:nvPr/>
        </p:nvSpPr>
        <p:spPr>
          <a:xfrm>
            <a:off x="2298600" y="6191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0"/>
          <p:cNvSpPr/>
          <p:nvPr/>
        </p:nvSpPr>
        <p:spPr>
          <a:xfrm>
            <a:off x="5607000" y="32004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1"/>
          <p:cNvSpPr/>
          <p:nvPr/>
        </p:nvSpPr>
        <p:spPr>
          <a:xfrm>
            <a:off x="5635800" y="3962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2"/>
          <p:cNvSpPr/>
          <p:nvPr/>
        </p:nvSpPr>
        <p:spPr>
          <a:xfrm>
            <a:off x="5562720" y="5391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3"/>
          <p:cNvSpPr/>
          <p:nvPr/>
        </p:nvSpPr>
        <p:spPr>
          <a:xfrm>
            <a:off x="5562720" y="61452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7"/>
          <p:cNvSpPr/>
          <p:nvPr/>
        </p:nvSpPr>
        <p:spPr>
          <a:xfrm>
            <a:off x="5562720" y="4648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шибка худож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Содержимое 7" descr="из урока.bmp"/>
          <p:cNvPicPr/>
          <p:nvPr/>
        </p:nvPicPr>
        <p:blipFill>
          <a:blip r:embed="rId1"/>
          <a:stretch/>
        </p:blipFill>
        <p:spPr>
          <a:xfrm>
            <a:off x="5486400" y="1974960"/>
            <a:ext cx="1581120" cy="15350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1"/>
          <p:cNvSpPr/>
          <p:nvPr/>
        </p:nvSpPr>
        <p:spPr>
          <a:xfrm>
            <a:off x="1295280" y="1371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2"/>
          <p:cNvSpPr/>
          <p:nvPr/>
        </p:nvSpPr>
        <p:spPr>
          <a:xfrm>
            <a:off x="3276720" y="3809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у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4724280" y="1523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5"/>
          <p:cNvSpPr/>
          <p:nvPr/>
        </p:nvSpPr>
        <p:spPr>
          <a:xfrm>
            <a:off x="3049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ы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Рисунок 16" descr="кот.jpg"/>
          <p:cNvPicPr/>
          <p:nvPr/>
        </p:nvPicPr>
        <p:blipFill>
          <a:blip r:embed="rId2"/>
          <a:stretch/>
        </p:blipFill>
        <p:spPr>
          <a:xfrm>
            <a:off x="1447920" y="1981080"/>
            <a:ext cx="1066680" cy="125748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18" descr="шишка.jpg"/>
          <p:cNvPicPr/>
          <p:nvPr/>
        </p:nvPicPr>
        <p:blipFill>
          <a:blip r:embed="rId3"/>
          <a:stretch/>
        </p:blipFill>
        <p:spPr>
          <a:xfrm>
            <a:off x="685800" y="4648320"/>
            <a:ext cx="1133640" cy="134280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19" descr="лыжи.jpg"/>
          <p:cNvPicPr/>
          <p:nvPr/>
        </p:nvPicPr>
        <p:blipFill>
          <a:blip r:embed="rId4"/>
          <a:stretch/>
        </p:blipFill>
        <p:spPr>
          <a:xfrm>
            <a:off x="3124080" y="4419720"/>
            <a:ext cx="1893960" cy="138096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20" descr="белка 3.jpg"/>
          <p:cNvPicPr/>
          <p:nvPr/>
        </p:nvPicPr>
        <p:blipFill>
          <a:blip r:embed="rId5"/>
          <a:stretch/>
        </p:blipFill>
        <p:spPr>
          <a:xfrm>
            <a:off x="6553080" y="4495680"/>
            <a:ext cx="1247760" cy="1177920"/>
          </a:xfrm>
          <a:prstGeom prst="rect">
            <a:avLst/>
          </a:prstGeom>
          <a:ln w="0">
            <a:noFill/>
          </a:ln>
        </p:spPr>
      </p:pic>
      <p:sp>
        <p:nvSpPr>
          <p:cNvPr id="304" name="TextBox 21"/>
          <p:cNvSpPr/>
          <p:nvPr/>
        </p:nvSpPr>
        <p:spPr>
          <a:xfrm>
            <a:off x="6248520" y="3886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у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и последний соглас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038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БАВЛЯЙ ПАРНЫЕ СОГЛАС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895480" y="1523880"/>
          <a:ext cx="3048120" cy="41911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*ал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*ал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у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у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*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*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аз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аз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*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*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бавь впереди сло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2" descr=""/>
          <p:cNvPicPr/>
          <p:nvPr/>
        </p:nvPicPr>
        <p:blipFill>
          <a:blip r:embed="rId1"/>
          <a:stretch/>
        </p:blipFill>
        <p:spPr>
          <a:xfrm>
            <a:off x="450720" y="1487520"/>
            <a:ext cx="82425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ИТАЙ И НАЙДИ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362320" y="1676520"/>
          <a:ext cx="4190760" cy="457200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А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А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У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У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ИТАЙ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"/>
          <p:cNvPicPr/>
          <p:nvPr/>
        </p:nvPicPr>
        <p:blipFill>
          <a:blip r:embed="rId1"/>
          <a:stretch/>
        </p:blipFill>
        <p:spPr>
          <a:xfrm>
            <a:off x="1378080" y="1292400"/>
            <a:ext cx="60958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</dc:creator>
  <dc:description/>
  <dc:language>en-US</dc:language>
  <cp:lastModifiedBy>Светлана</cp:lastModifiedBy>
  <dcterms:modified xsi:type="dcterms:W3CDTF">2018-01-02T11:45:47Z</dcterms:modified>
  <cp:revision>66</cp:revision>
  <dc:subject/>
  <dc:title>УПРАЖНЕНИЯ ДЛЯ РАЗВИТИЯ ТЕХНИКИ ЧТЕНИЯ</dc:title>
</cp:coreProperties>
</file>