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E3D-D1E0-496A-A601-0F0FB0AD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E78-0484-43D9-9A2A-5A92532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54D-6282-4622-9ACE-5305CB7B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61D-0471-4217-BEFF-C7F08F8B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0A15-A6C9-4A45-BF45-C0318C17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953-14ED-423D-A2DA-04CA4E0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22D9-8656-48A5-9A72-9CF18EB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E2C5-D471-4677-8D65-5B5CEB7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15FB-9B45-4987-9394-6FFCE81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CED3-2584-4249-9EF1-A6822A3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35F-B445-4EC1-892B-1DF3BA5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9A1-F033-4DCD-A38D-4E5C66BB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53B-B2A2-437C-B23B-9C0ACCB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43E9-D50F-4034-B4E8-930C182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4E9-EFE6-4262-B552-0386289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CA35-B567-4757-A535-C669594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61F7-FD4E-489D-92A2-26C14201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3FD-3011-44A5-8F3C-59978D3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F73-5B4B-41BA-8175-31A2167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25A-827E-4E3E-B797-068EDD1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D87-6F08-49F0-A8E6-2447CF7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A8F-1C14-4DEE-B103-266E68D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FA3-EADB-4225-9064-4FCCB2D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31D-ECB7-47C4-AAB1-174FBF1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CF2-5511-4A59-A462-6404DC5C64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CCE-ED50-4707-A45C-CF0E214AB6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УТААВАСЭ- поэтический турнир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ая дорога короткой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23(1)"/>
          <p:cNvPicPr/>
          <p:nvPr/>
        </p:nvPicPr>
        <p:blipFill>
          <a:blip r:embed="rId1"/>
          <a:stretch/>
        </p:blipFill>
        <p:spPr>
          <a:xfrm>
            <a:off x="285840" y="4500720"/>
            <a:ext cx="30319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Охара Косон «Бабочка на цветке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7" name="Picture 4" descr="BC8306C"/>
          <p:cNvPicPr/>
          <p:nvPr/>
        </p:nvPicPr>
        <p:blipFill>
          <a:blip r:embed="rId1"/>
          <a:srcRect l="24805" t="48100" r="51869" b="10408"/>
          <a:stretch/>
        </p:blipFill>
        <p:spPr>
          <a:xfrm>
            <a:off x="1763640" y="1700280"/>
            <a:ext cx="439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онкурс №4 «ХАНААВАСЭ»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- сочинить хокку, главным героем которого является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мирает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кура пл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дит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Музыка 3"/>
          <p:cNvPicPr/>
          <p:nvPr/>
        </p:nvPicPr>
        <p:blipFill>
          <a:blip r:embed="rId1"/>
          <a:stretch/>
        </p:blipFill>
        <p:spPr>
          <a:xfrm>
            <a:off x="4429080" y="3714840"/>
            <a:ext cx="2965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85840" y="16426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547640" y="2492280"/>
            <a:ext cx="4537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ИГАТ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9" descr="Рисунок1"/>
          <p:cNvPicPr/>
          <p:nvPr/>
        </p:nvPicPr>
        <p:blipFill>
          <a:blip r:embed="rId1"/>
          <a:stretch/>
        </p:blipFill>
        <p:spPr>
          <a:xfrm>
            <a:off x="357120" y="357120"/>
            <a:ext cx="25210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онкурс №1 «РЭНГА»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- продолжить стихотворные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дзе Ёсимо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живи неизвестно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шина в сн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дымкой овеяны скл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 помер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ёках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ьются теплые воды в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хнет сливовым цветом селен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3" descr="Рисунок9"/>
          <p:cNvPicPr/>
          <p:nvPr/>
        </p:nvPicPr>
        <p:blipFill>
          <a:blip r:embed="rId1"/>
          <a:stretch/>
        </p:blipFill>
        <p:spPr>
          <a:xfrm>
            <a:off x="714240" y="4429080"/>
            <a:ext cx="1357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онкурс №2 «Посоревнуемся с поэтом»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- придумать третью строчку хокку по двум предложенным по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7" descr="image009"/>
          <p:cNvPicPr/>
          <p:nvPr/>
        </p:nvPicPr>
        <p:blipFill>
          <a:blip r:embed="rId1"/>
          <a:stretch/>
        </p:blipFill>
        <p:spPr>
          <a:xfrm>
            <a:off x="4714920" y="4221000"/>
            <a:ext cx="2619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ступает ца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ежему жн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сень в дерев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ла ли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мир одноцве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ишь ветер гуд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етки на в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хо сбегают кап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ждик весен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ы ув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плются, падая сем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 будто слёз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 так холод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нуть не может ча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чаясь на вол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 или три лепе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 на друга уп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падает пи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тихи Басё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2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2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20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2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2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онкурс №3 «ЭАВАСЭ»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- сочинение хокку на темы картин японских худож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6" descr="пишет мышонок"/>
          <p:cNvPicPr/>
          <p:nvPr/>
        </p:nvPicPr>
        <p:blipFill>
          <a:blip r:embed="rId1"/>
          <a:stretch/>
        </p:blipFill>
        <p:spPr>
          <a:xfrm>
            <a:off x="2714760" y="4143240"/>
            <a:ext cx="19285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цусика Хокусай «Вид на Фудзи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9" name="Picture 9" descr="5E5BC788"/>
          <p:cNvPicPr/>
          <p:nvPr/>
        </p:nvPicPr>
        <p:blipFill>
          <a:blip r:embed="rId1"/>
          <a:srcRect l="41358" t="36514" r="1974" b="35998"/>
          <a:stretch/>
        </p:blipFill>
        <p:spPr>
          <a:xfrm>
            <a:off x="826920" y="1598760"/>
            <a:ext cx="62661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Хасэгава Токаху «Пионы».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1" name="Picture 4" descr="29E67BDA"/>
          <p:cNvPicPr/>
          <p:nvPr/>
        </p:nvPicPr>
        <p:blipFill>
          <a:blip r:embed="rId1"/>
          <a:srcRect l="67368" t="7996" r="5567" b="60571"/>
          <a:stretch/>
        </p:blipFill>
        <p:spPr>
          <a:xfrm>
            <a:off x="1908000" y="1598760"/>
            <a:ext cx="4680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Андо Хиросигэ «Луна и водопад»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3" name="Picture 4" descr="350A8196"/>
          <p:cNvPicPr/>
          <p:nvPr/>
        </p:nvPicPr>
        <p:blipFill>
          <a:blip r:embed="rId1"/>
          <a:srcRect l="40410" t="48087" r="31776" b="4491"/>
          <a:stretch/>
        </p:blipFill>
        <p:spPr>
          <a:xfrm>
            <a:off x="1763640" y="1598760"/>
            <a:ext cx="43210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Андо Хиросигэ «Открытие горы»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5" name="Picture 4" descr="58920A32"/>
          <p:cNvPicPr/>
          <p:nvPr/>
        </p:nvPicPr>
        <p:blipFill>
          <a:blip r:embed="rId1"/>
          <a:srcRect l="13296" t="32622" r="14656" b="8092"/>
          <a:stretch/>
        </p:blipFill>
        <p:spPr>
          <a:xfrm>
            <a:off x="1042920" y="1598760"/>
            <a:ext cx="59054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6:46:27Z</dcterms:created>
  <dc:creator>***</dc:creator>
  <dc:description/>
  <dc:language>en-US</dc:language>
  <cp:lastModifiedBy>Admin</cp:lastModifiedBy>
  <dcterms:modified xsi:type="dcterms:W3CDTF">2013-03-31T12:55:20Z</dcterms:modified>
  <cp:revision>4</cp:revision>
  <dc:subject/>
  <dc:title>Слайд 1</dc:title>
</cp:coreProperties>
</file>