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5C2-DA6A-41B0-ADDD-93CBB592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52E-C4DD-4DE5-BE3F-574D29B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2A-9863-4693-8962-C3701784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A17-DCD5-4F7A-97FB-C0E4CE78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31B-6125-41BC-B4F3-DAC5EDE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1BC-62DE-4FD3-A0BA-543EDC1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CF1-DA85-4789-840B-000E6832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FEA-C1E3-4370-A099-3D0AF45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185-3808-4B44-B01E-3F1AA46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CEB-EE96-4EDD-B3F1-A088413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FA2-2E5E-4ECB-B068-E2D193D2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954-142E-4C3E-A406-C38ED62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07B-5892-4B7F-A301-919F0D69A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58026666_ju-a"/>
          <p:cNvPicPr/>
          <p:nvPr/>
        </p:nvPicPr>
        <p:blipFill>
          <a:blip r:embed="rId1"/>
          <a:srcRect l="0" t="0" r="0" b="22617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6320" y="1413000"/>
            <a:ext cx="34876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к-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2195640" y="4219560"/>
            <a:ext cx="568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3107"/>
          <p:cNvPicPr/>
          <p:nvPr/>
        </p:nvPicPr>
        <p:blipFill>
          <a:blip r:embed="rId1"/>
          <a:stretch/>
        </p:blipFill>
        <p:spPr>
          <a:xfrm>
            <a:off x="4905360" y="3284640"/>
            <a:ext cx="4059360" cy="3044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тор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42560442_5d46b7da"/>
          <p:cNvPicPr/>
          <p:nvPr/>
        </p:nvPicPr>
        <p:blipFill>
          <a:blip r:embed="rId2"/>
          <a:stretch/>
        </p:blipFill>
        <p:spPr>
          <a:xfrm>
            <a:off x="4859280" y="227160"/>
            <a:ext cx="4103640" cy="2841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0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Резанов очарован красотой девушки, Кончита отвечает ему взаи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корбленный Фернандо, жених Кончиты, вызывает Резанова на поединок и погиб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экспедиция спешно покидает Калифо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тайно обручается с любимой, но для венчания ему необходимо исхлопотать в Петербурге разрешение от Папы, чтобы жениться на католи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ко им не суждено больше увидеться. По пути Резанов тяжело заболевает и умирает под Краснояр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отказывается верить страшным известиям и ждет возлюбленного больше тридцати лет, после чего постригается в монахини и заканчивает свои дни затворницей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medium_d12ee5f088ac1ddce8f986bea1d05fbe"/>
          <p:cNvPicPr/>
          <p:nvPr/>
        </p:nvPicPr>
        <p:blipFill>
          <a:blip r:embed="rId1"/>
          <a:stretch/>
        </p:blipFill>
        <p:spPr>
          <a:xfrm>
            <a:off x="4427640" y="342900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2"/>
          <a:stretch/>
        </p:blipFill>
        <p:spPr>
          <a:xfrm>
            <a:off x="4427640" y="189000"/>
            <a:ext cx="4537080" cy="3016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ее чем за четверть века спектакль выдержал более сотни представлений и до сих пор идет с неизменным аншла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и главных ролей несколько раз менялись. В настоящее время роль графа Резанова исполняю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митрий Певц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ктор Рак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Аргуэльо (в постриге Мария Доминго) умерла в 1857 году в возрасте 67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Николай Петрович Резанов в 1807 году был похоронен на кладбище городского собора Краснояр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устя почти два века, в 2000 году, на его могиле был установлен беломраморный крест, на котором с одной стороны читается: «Я тебя никогда не забуду», а на другой написано: «Я тебя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98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мориальный комплек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амергер Николай Петрович Резанов»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ороде Краснояр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http://derjava.pskov.ru/images/material-images/rrrr/2rez_pam2.jpg"/>
          <p:cNvPicPr/>
          <p:nvPr/>
        </p:nvPicPr>
        <p:blipFill>
          <a:blip r:embed="rId1"/>
          <a:stretch/>
        </p:blipFill>
        <p:spPr>
          <a:xfrm>
            <a:off x="73080" y="1584360"/>
            <a:ext cx="7400880" cy="470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User\Рабочий стол\ФОТО РЯЗАНОВ\grave2l.jpg"/>
          <p:cNvPicPr/>
          <p:nvPr/>
        </p:nvPicPr>
        <p:blipFill>
          <a:blip r:embed="rId2"/>
          <a:stretch/>
        </p:blipFill>
        <p:spPr>
          <a:xfrm>
            <a:off x="5599080" y="1989000"/>
            <a:ext cx="336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00YTQxLT"/>
          <p:cNvPicPr/>
          <p:nvPr/>
        </p:nvPicPr>
        <p:blipFill>
          <a:blip r:embed="rId1"/>
          <a:srcRect l="0" t="0" r="0" b="22362"/>
          <a:stretch/>
        </p:blipFill>
        <p:spPr>
          <a:xfrm>
            <a:off x="0" y="-2700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0"/>
            <a:ext cx="478800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2205000"/>
            <a:ext cx="41403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 из известных советских       рок-опер композитор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ея Рыбник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 стихи поэт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дрея Вознесенск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509210_245478_5_Aleksej_Rybnikov"/>
          <p:cNvPicPr/>
          <p:nvPr/>
        </p:nvPicPr>
        <p:blipFill>
          <a:blip r:embed="rId2"/>
          <a:stretch/>
        </p:blipFill>
        <p:spPr>
          <a:xfrm>
            <a:off x="4932360" y="231840"/>
            <a:ext cx="410364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41337777"/>
          <p:cNvPicPr/>
          <p:nvPr/>
        </p:nvPicPr>
        <p:blipFill>
          <a:blip r:embed="rId3"/>
          <a:stretch/>
        </p:blipFill>
        <p:spPr>
          <a:xfrm>
            <a:off x="4932360" y="3429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02920"/>
            <a:ext cx="4140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снову либретто спектакля положена поэма «Авось»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о «рок-опера» в то время было запрещено, как и рок-музыка вообще, поэтому авторы написали: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ременная оп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248341"/>
          <p:cNvPicPr/>
          <p:nvPr/>
        </p:nvPicPr>
        <p:blipFill>
          <a:blip r:embed="rId1"/>
          <a:srcRect l="17849" t="0" r="19057" b="0"/>
          <a:stretch/>
        </p:blipFill>
        <p:spPr>
          <a:xfrm>
            <a:off x="4516560" y="477720"/>
            <a:ext cx="423072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4572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мьера состоя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июля 1981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Московском театре имени Ленинского комсомола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жиссер Марк Зах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edium_1f51b8c84f915495ddf778e5eb32558c"/>
          <p:cNvPicPr/>
          <p:nvPr/>
        </p:nvPicPr>
        <p:blipFill>
          <a:blip r:embed="rId1"/>
          <a:stretch/>
        </p:blipFill>
        <p:spPr>
          <a:xfrm>
            <a:off x="4960800" y="260280"/>
            <a:ext cx="3936960" cy="590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0" y="-27000"/>
            <a:ext cx="4788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78310a0359c"/>
          <p:cNvPicPr/>
          <p:nvPr/>
        </p:nvPicPr>
        <p:blipFill>
          <a:blip r:embed="rId1"/>
          <a:srcRect l="9597" t="0" r="9821" b="14047"/>
          <a:stretch/>
        </p:blipFill>
        <p:spPr>
          <a:xfrm>
            <a:off x="4716360" y="3716280"/>
            <a:ext cx="4248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0994552_yunona_i_avos"/>
          <p:cNvPicPr/>
          <p:nvPr/>
        </p:nvPicPr>
        <p:blipFill>
          <a:blip r:embed="rId2"/>
          <a:stretch/>
        </p:blipFill>
        <p:spPr>
          <a:xfrm>
            <a:off x="4643280" y="115920"/>
            <a:ext cx="43214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мьера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лавных ролях были задействованы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й Караченце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граф Резанов)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лена Шан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ончита)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андр Абдул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Фернанд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ктакль на удивление был разрешен сразу. При этом, по воспоминаниям Вознесенского, перед прохождением комиссии Захаров вместе с ним поехал в Елоховский собор и поставил свечу у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коны Казанской Божьей матер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0_big"/>
          <p:cNvPicPr/>
          <p:nvPr/>
        </p:nvPicPr>
        <p:blipFill>
          <a:blip r:embed="rId1"/>
          <a:stretch/>
        </p:blipFill>
        <p:spPr>
          <a:xfrm>
            <a:off x="4579920" y="476280"/>
            <a:ext cx="4368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643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звании спектакля использованы имена двух парусников, «Юнона» и «Авось», на которых совершала свое плавание экспедици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я Петровича Резан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-38160"/>
            <a:ext cx="4427640" cy="207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7382109_pic4659507359x500"/>
          <p:cNvPicPr/>
          <p:nvPr/>
        </p:nvPicPr>
        <p:blipFill>
          <a:blip r:embed="rId2"/>
          <a:stretch/>
        </p:blipFill>
        <p:spPr>
          <a:xfrm>
            <a:off x="4621320" y="189000"/>
            <a:ext cx="434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Documents and Settings\User\Рабочий стол\Рисунок1.gif"/>
          <p:cNvPicPr/>
          <p:nvPr/>
        </p:nvPicPr>
        <p:blipFill>
          <a:blip r:embed="rId1"/>
          <a:stretch/>
        </p:blipFill>
        <p:spPr>
          <a:xfrm>
            <a:off x="5796000" y="549360"/>
            <a:ext cx="29876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7480" y="404640"/>
            <a:ext cx="6284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2-летний государственный деятель и флотоводец, вдовец и отец двоих детей, он мечтал о плавании к берегам Север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Резанов являлся одним из основателей Российско-Американской компании, осуществлявшей освоение Аляски, был первым чрезвычайным и полномочным посланником Российской Империи в Япо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http://rezanov.krasu.ru/commander/img/ship.gif"/>
          <p:cNvPicPr/>
          <p:nvPr/>
        </p:nvPicPr>
        <p:blipFill>
          <a:blip r:embed="rId2"/>
          <a:stretch/>
        </p:blipFill>
        <p:spPr>
          <a:xfrm>
            <a:off x="6267600" y="3340080"/>
            <a:ext cx="2766960" cy="2384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6084720" y="24922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лаг  Русско-Американск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8" descr=""/>
          <p:cNvPicPr/>
          <p:nvPr/>
        </p:nvPicPr>
        <p:blipFill>
          <a:blip r:embed="rId3"/>
          <a:stretch/>
        </p:blipFill>
        <p:spPr>
          <a:xfrm>
            <a:off x="6492960" y="5815080"/>
            <a:ext cx="2651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получает от императорского двора высочайшее повеление отправляться к берегам Калифорнии, чтобы доставить продовольствие к русским колониям на Аляске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nchitaA"/>
          <p:cNvPicPr/>
          <p:nvPr/>
        </p:nvPicPr>
        <p:blipFill>
          <a:blip r:embed="rId1"/>
          <a:stretch/>
        </p:blipFill>
        <p:spPr>
          <a:xfrm>
            <a:off x="5435640" y="2347920"/>
            <a:ext cx="346392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2349360"/>
            <a:ext cx="5400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806 году в заливе Сан-Франциско бросают якорь русские корабли «Юнона» и «Авось».  На балу граф знакомится с 16-лет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нсепсией Аргуэл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дочерью коменданта Сан-Франциск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6:17:19Z</dcterms:created>
  <dc:creator>Пользователь</dc:creator>
  <dc:description/>
  <dc:language>en-US</dc:language>
  <cp:lastModifiedBy>Наталья</cp:lastModifiedBy>
  <dcterms:modified xsi:type="dcterms:W3CDTF">2016-01-31T14:10:59Z</dcterms:modified>
  <cp:revision>10</cp:revision>
  <dc:subject/>
  <dc:title>Рок-опера 1981 год театр  «Ленком»</dc:title>
</cp:coreProperties>
</file>