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773A-E4E8-49C2-BAE2-7B618D34D2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0AEA-0832-4BFA-BB23-2D6190E515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D81-AE27-4E0E-9100-C07D25B53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1899-CAEF-4CF1-98B9-AB21F99F20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CE86-64E6-4853-8434-BEF65A24CC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1E2A-8C10-44BE-A2EF-F06A9C871F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D869-96B5-4755-9B95-3B27935506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A6B3-3023-47F3-8C4E-F99816F61B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37E5-A627-40FC-AEEE-2B25685C6A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E758-1367-401A-9475-DDB180F226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7C44-30F9-46CE-83F8-9EB2C88650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C6D-DEF4-4020-A8F1-EB9BEA3AF7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1C72-2654-450D-A39B-A77D59189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B4E3-8767-4372-BD02-E280B31E0A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65DA-47A9-4265-9FA3-AEE1C24310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1BD1-3EC0-422C-918E-92EE9724BE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9C6D-2F0E-4007-BDE4-2E7FCB32EA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4B57-FA14-4DC8-A0DB-3612CD5246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A40D-A895-4F75-9C17-33A9CAD148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E73B-FE42-4FA3-9B5D-3747C5A4E0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63F1-9786-4358-9F19-6E7CEEDD7F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0786-99E4-4F94-89CA-8C08F4F12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219F-16CE-4FFA-93FF-4C6CFBD77D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EC2-3E9E-4DFF-A3C4-8BF3EF52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2D1-AF97-4F90-A5D7-121BA5B7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B41-1D82-4572-ADD4-C52B1234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CDD-4E48-4A3B-A37C-0E8FA970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2CE-EBE3-4B16-A66B-4578DB1E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134-ABBA-4251-AD8B-0D44CAF3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F54-F1BE-49FF-A5AD-B67EA05C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97D-7F3D-4590-81C9-BD38FA0C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F0A-316B-4059-A600-6F24E43F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209-8074-4AD1-B8F9-5794A3C8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465-8EC3-4CEE-8EAD-428D51EF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697-E2AA-485D-94A4-454B835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2A60-8D60-4072-874D-2E267758E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college.vzmakh.ru/lfk/21.jpg"/>
          <p:cNvPicPr/>
          <p:nvPr/>
        </p:nvPicPr>
        <p:blipFill>
          <a:blip r:embed="rId2"/>
          <a:srcRect l="17292" t="13115" r="10549" b="0"/>
          <a:stretch/>
        </p:blipFill>
        <p:spPr>
          <a:xfrm>
            <a:off x="6558120" y="4867200"/>
            <a:ext cx="2205000" cy="19908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49" name="Picture 6" descr="https://im2-tub-ru.yandex.net/i?id=2e2dfd41cf5db9375746165b3a0da4c3&amp;n=33&amp;h=190&amp;w=246"/>
          <p:cNvPicPr/>
          <p:nvPr/>
        </p:nvPicPr>
        <p:blipFill>
          <a:blip r:embed="rId3"/>
          <a:srcRect l="47288" t="28466" r="0" b="0"/>
          <a:stretch/>
        </p:blipFill>
        <p:spPr>
          <a:xfrm>
            <a:off x="4543560" y="4164120"/>
            <a:ext cx="2133360" cy="22352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50" name="Picture 2" descr="E:\DCIM\101MSDCF\DSC03613.JPG"/>
          <p:cNvPicPr/>
          <p:nvPr/>
        </p:nvPicPr>
        <p:blipFill>
          <a:blip r:embed="rId4">
            <a:lum contrast="10000"/>
          </a:blip>
          <a:srcRect l="61496" t="57317" r="11046" b="21792"/>
          <a:stretch/>
        </p:blipFill>
        <p:spPr>
          <a:xfrm>
            <a:off x="2070000" y="3967200"/>
            <a:ext cx="2624400" cy="1736640"/>
          </a:xfrm>
          <a:prstGeom prst="rect">
            <a:avLst/>
          </a:prstGeom>
          <a:ln w="28440">
            <a:solidFill>
              <a:srgbClr val="5b9bd5"/>
            </a:solidFill>
            <a:miter/>
          </a:ln>
        </p:spPr>
      </p:pic>
      <p:sp>
        <p:nvSpPr>
          <p:cNvPr id="51" name="Прямоугольник с двумя скругленными противолежащими углами 12"/>
          <p:cNvSpPr/>
          <p:nvPr/>
        </p:nvSpPr>
        <p:spPr>
          <a:xfrm>
            <a:off x="1631880" y="295200"/>
            <a:ext cx="6372360" cy="38401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Внедр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нетрадицио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здоровьесберегающих технолог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в физкультурно-оздоровитель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деятельность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s://im0-tub-ru.yandex.net/i?id=0682838440cea46b9c85a46ee2349713&amp;n=33&amp;h=190&amp;w=257"/>
          <p:cNvPicPr/>
          <p:nvPr/>
        </p:nvPicPr>
        <p:blipFill>
          <a:blip r:embed="rId6"/>
          <a:stretch/>
        </p:blipFill>
        <p:spPr>
          <a:xfrm>
            <a:off x="210960" y="4829040"/>
            <a:ext cx="2448000" cy="1809720"/>
          </a:xfrm>
          <a:prstGeom prst="rect">
            <a:avLst/>
          </a:prstGeom>
          <a:ln w="28440">
            <a:solidFill>
              <a:srgbClr val="5b9bd5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07F5-D64D-48A9-A9F0-5B42B0D9F143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662040"/>
          </a:xfrm>
          <a:custGeom>
            <a:avLst/>
            <a:gdLst/>
            <a:ahLst/>
            <a:rect l="l" t="t" r="r" b="b"/>
            <a:pathLst>
              <a:path w="8426450" h="661988">
                <a:moveTo>
                  <a:pt x="153972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508016"/>
                </a:lnTo>
                <a:cubicBezTo>
                  <a:pt x="8426450" y="593052"/>
                  <a:pt x="8357514" y="661988"/>
                  <a:pt x="8272478" y="661988"/>
                </a:cubicBezTo>
                <a:lnTo>
                  <a:pt x="0" y="661988"/>
                </a:lnTo>
                <a:lnTo>
                  <a:pt x="0" y="661988"/>
                </a:lnTo>
                <a:lnTo>
                  <a:pt x="0" y="153972"/>
                </a:lnTo>
                <a:cubicBezTo>
                  <a:pt x="0" y="68936"/>
                  <a:pt x="68936" y="0"/>
                  <a:pt x="15397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 этап работы: обобщаю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3680" y="1087560"/>
          <a:ext cx="7835760" cy="4754520"/>
        </p:xfrm>
        <a:graphic>
          <a:graphicData uri="http://schemas.openxmlformats.org/drawingml/2006/table">
            <a:tbl>
              <a:tblPr/>
              <a:tblGrid>
                <a:gridCol w="3917880"/>
                <a:gridCol w="39178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снижения заболеваемости дет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намика заболеваемости в детском саду снизилась, о чем свидетельствует сравнительный 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здоров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изилось количество детей, имеющих 2 группу здоровья на 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физического развития детей за последние три год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ечает положительную динам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3D2D-4743-4961-AE6E-62B6E42177F9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916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рганизация занимательной двигательной деятельности различного тип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8120" y="1087560"/>
          <a:ext cx="8975880" cy="5770440"/>
        </p:xfrm>
        <a:graphic>
          <a:graphicData uri="http://schemas.openxmlformats.org/drawingml/2006/table">
            <a:tbl>
              <a:tblPr/>
              <a:tblGrid>
                <a:gridCol w="2471760"/>
                <a:gridCol w="6504120"/>
              </a:tblGrid>
              <a:tr h="717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лассическая ЗД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схеме: вводно-подготовительная часть, основная, заключительная ч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17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гровая З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использованием и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17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южетные формы З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ые (объединенные определенным сюжетом, спортивное ориентирование, с развитием речи, с викторин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3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итмическая гимна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ятия, состоящие из танцевальных дви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17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амостоятельная 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стоятельная тренировка по выбору, затем проверка задания трене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2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ДД серии «изучаем свое тело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ы о своем теле, обучение самомассажу, привитие элементарных навыков по уходу за собой и оказанию первой медицинской пом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5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ематическая З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одним видом физических упраж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2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нтрольно-проверочная З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отставания в развитии моторики ребенка и пути их устра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FCDC-7B9E-44A7-A2D9-CF774FBA9462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916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Формы организации ЗД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9600" y="1397160"/>
          <a:ext cx="8609040" cy="5003640"/>
        </p:xfrm>
        <a:graphic>
          <a:graphicData uri="http://schemas.openxmlformats.org/drawingml/2006/table">
            <a:tbl>
              <a:tblPr/>
              <a:tblGrid>
                <a:gridCol w="3327480"/>
                <a:gridCol w="528156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Танцевально-ритмическая гимнастика, 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но-танцевальные композиции которой, имеют целевую направленность, сюжетный характер и завершен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Игроритмика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ьные упражнения для согласования движений с музыкой, музыкальные задания и иг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Игрогимнастика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евые, общеразвивающие упражнения, акробатические, направленные  на расслабление мышц, дыхательные и укрепление осан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Игротанец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А-фи-данс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у воспитанников танцевальных движений, что способствует повышению общей культуры ребенка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5B3E-D009-4BE8-B1B3-7DECEA9E6AFB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916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Формы организации ЗД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0960" y="1397160"/>
          <a:ext cx="8707680" cy="5126040"/>
        </p:xfrm>
        <a:graphic>
          <a:graphicData uri="http://schemas.openxmlformats.org/drawingml/2006/table">
            <a:tbl>
              <a:tblPr/>
              <a:tblGrid>
                <a:gridCol w="2532240"/>
                <a:gridCol w="6175440"/>
              </a:tblGrid>
              <a:tr h="3682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ы проведения утренней игрогимна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ренняя гимнастика игров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–3 подвижные игры или 5–7 игровых упражнений имитационного характера разной степени интенсивности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ренняя гимнастика в форме оздоровительной пробежк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ится на воздухе – в течении 5–7 мин. Непрерывный 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матическ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бег в среднем темпе с постепенным увеличением расстояния и времени. В конце гимнастики предлагаются дыхательные упраж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жнения на полосе препятствий –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жнения с постепенным увеличением нагрузки: усложнение двигательных заданий с включением разных основных видов движений увеличение числа повторов, усиление темпа движений, смена чередования физкультурных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 музыкально-ритмических упражн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инка, 5–6 основных развивающих упражнений в танцевальных движениях (флеш-мо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2FE3-9EF5-4CE2-B8F7-27A3A8A03E39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3673440" cy="1886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организации ЗД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82520" y="2749680"/>
          <a:ext cx="8707320" cy="3657600"/>
        </p:xfrm>
        <a:graphic>
          <a:graphicData uri="http://schemas.openxmlformats.org/drawingml/2006/table">
            <a:tbl>
              <a:tblPr/>
              <a:tblGrid>
                <a:gridCol w="3489480"/>
                <a:gridCol w="5217840"/>
              </a:tblGrid>
              <a:tr h="801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ы проведения мероприятий по формированию ЗО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нное Н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сказки о зубной щёт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нное Н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птыжка в гостях у МИШ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нное Н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имние виды 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pic>
        <p:nvPicPr>
          <p:cNvPr id="123" name="Picture 25" descr="&amp;Kcy;&amp;acy;&amp;rcy;&amp;tcy;&amp;icy;&amp;ncy;&amp;kcy;&amp;icy; &amp;pcy;&amp;ocy; &amp;zcy;&amp;acy;&amp;pcy;&amp;rcy;&amp;ocy;&amp;scy;&amp;ucy; &amp;kcy;&amp;acy;&amp;rcy;&amp;tcy;&amp;icy;&amp;ncy;&amp;kcy;&amp;icy; &amp;dcy;&amp;iecy;&amp;tcy;&amp;icy; &amp;ncy;&amp;acy;  &amp;zcy;&amp;acy;&amp;rcy;&amp;yacy;&amp;dcy;&amp;kcy;&amp;iecy;   &amp;vcy; &amp;dcy;&amp;ocy;&amp;ucy;"/>
          <p:cNvPicPr/>
          <p:nvPr/>
        </p:nvPicPr>
        <p:blipFill>
          <a:blip r:embed="rId3"/>
          <a:srcRect l="0" t="0" r="0" b="8845"/>
          <a:stretch/>
        </p:blipFill>
        <p:spPr>
          <a:xfrm>
            <a:off x="4826160" y="284040"/>
            <a:ext cx="3263760" cy="22194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21B-FAB0-47F9-A78B-7451D0B5EE93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916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Формы организации ЗД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0960" y="1397160"/>
          <a:ext cx="8707680" cy="5476680"/>
        </p:xfrm>
        <a:graphic>
          <a:graphicData uri="http://schemas.openxmlformats.org/drawingml/2006/table">
            <a:tbl>
              <a:tblPr/>
              <a:tblGrid>
                <a:gridCol w="3489480"/>
                <a:gridCol w="5218200"/>
              </a:tblGrid>
              <a:tr h="802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ы проведения  нетрадиционных форм оздоров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нное Н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тешествие по Африке (игропластика,  игровой стретчинг, фитбол и т.д.)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нное Н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ики в тумане (дыхательная и звуковая гимнастика)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нное  спортивное развл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ая летняя Олимпиада (дозированный бе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0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79F8-9B30-4575-A651-63F95ABB129B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916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Формы организации ЗД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10960" y="1397160"/>
          <a:ext cx="8707680" cy="5124240"/>
        </p:xfrm>
        <a:graphic>
          <a:graphicData uri="http://schemas.openxmlformats.org/drawingml/2006/table">
            <a:tbl>
              <a:tblPr/>
              <a:tblGrid>
                <a:gridCol w="3489480"/>
                <a:gridCol w="5218200"/>
              </a:tblGrid>
              <a:tr h="8031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ы проведения   форм оздоровительной 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ная деятель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дух. Полезные и вредны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нное Н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. Полезные и вредны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экспериментальная 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ная дея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 меньше боле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ливание природными факторами (солнце, воздух, во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0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B9A6-A17C-4821-ABB7-0B7674FABE92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916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Формы организации ЗД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0960" y="1397160"/>
          <a:ext cx="8707680" cy="4952880"/>
        </p:xfrm>
        <a:graphic>
          <a:graphicData uri="http://schemas.openxmlformats.org/drawingml/2006/table">
            <a:tbl>
              <a:tblPr/>
              <a:tblGrid>
                <a:gridCol w="3489480"/>
                <a:gridCol w="5218200"/>
              </a:tblGrid>
              <a:tr h="8031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ы проведения   форм работы  с семь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инар - практику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а здорового реб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ый туристический поход с детьми за пределы территории ДО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ие технологиям здорового образа жизн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онно- издательская дея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ыхательная гимна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1239840"/>
          </a:xfrm>
          <a:custGeom>
            <a:avLst/>
            <a:gdLst/>
            <a:ahLst/>
            <a:rect l="l" t="t" r="r" b="b"/>
            <a:pathLst>
              <a:path w="8426450" h="1239838">
                <a:moveTo>
                  <a:pt x="288374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951464"/>
                </a:lnTo>
                <a:cubicBezTo>
                  <a:pt x="8426450" y="1110729"/>
                  <a:pt x="8297341" y="1239838"/>
                  <a:pt x="8138076" y="1239838"/>
                </a:cubicBezTo>
                <a:lnTo>
                  <a:pt x="0" y="1239838"/>
                </a:lnTo>
                <a:lnTo>
                  <a:pt x="0" y="1239838"/>
                </a:lnTo>
                <a:lnTo>
                  <a:pt x="0" y="288374"/>
                </a:lnTo>
                <a:cubicBezTo>
                  <a:pt x="0" y="129109"/>
                  <a:pt x="129109" y="0"/>
                  <a:pt x="288374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534960" y="293760"/>
            <a:ext cx="768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словия формирования личного вклада педагога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92120" y="1773360"/>
          <a:ext cx="7624800" cy="4236840"/>
        </p:xfrm>
        <a:graphic>
          <a:graphicData uri="http://schemas.openxmlformats.org/drawingml/2006/table">
            <a:tbl>
              <a:tblPr/>
              <a:tblGrid>
                <a:gridCol w="2359080"/>
                <a:gridCol w="5265720"/>
              </a:tblGrid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научно-исследовательские услов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видов здоровьесберегающих  (ЗСТ)  технологий для дошколь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условий ДОУ для внедрения З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ор  технологий  ЗСТ для внедрения в практику работы ДО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методические 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этапов и системы внедрения З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методов внедрения ЗСТ в практику работы ДО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организационно-педагогические услов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ический совет ДОУ «Внедрение ЗСТ в практику работы ДОУ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ультация для педагогов «Виды ЗС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инар – практикум для родителей «Здоровье детей в ваших руках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5110-602B-4C7A-A2E3-2761FBAE2413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916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Условия организации ЗД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234360" y="1283400"/>
            <a:ext cx="7758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  <a:ea typeface="Times New Roman"/>
              </a:rPr>
              <a:t>Доброжелательное отношение к детям со стороны педаг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  <a:ea typeface="Times New Roman"/>
              </a:rPr>
              <a:t>Установление форм сотрудничества с деть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  <a:ea typeface="Times New Roman"/>
              </a:rPr>
              <a:t>( проявление  интереса к детской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  <a:ea typeface="Times New Roman"/>
              </a:rPr>
              <a:t>помощь в  преодолении  трудностей и неудач,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  <a:ea typeface="Times New Roman"/>
              </a:rPr>
              <a:t>Выполнение упражнений детьми выполнялись только на фо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  <a:ea typeface="Times New Roman"/>
              </a:rPr>
              <a:t>позитивных ответных реакций , доставля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  <a:ea typeface="Times New Roman"/>
              </a:rPr>
              <a:t>не только мышечную, но и эмоциональную рад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  <a:ea typeface="Times New Roman"/>
              </a:rPr>
              <a:t>Использование традиционных и нетрадиционные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  <a:ea typeface="Times New Roman"/>
              </a:rPr>
              <a:t>видов занимательной двигательной деятельности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http://ylja.umi.ru/images/cms/thumbs/a5b0aeaa3fa7d6e58d75710c18673bd7ec6d5f6d/img_8629_180_180.jpg"/>
          <p:cNvPicPr/>
          <p:nvPr/>
        </p:nvPicPr>
        <p:blipFill>
          <a:blip r:embed="rId3"/>
          <a:stretch/>
        </p:blipFill>
        <p:spPr>
          <a:xfrm>
            <a:off x="182520" y="4670280"/>
            <a:ext cx="2963880" cy="19767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4" name="Picture 9" descr="&amp;Kcy;&amp;acy;&amp;rcy;&amp;tcy;&amp;icy;&amp;ncy;&amp;kcy;&amp;icy; &amp;pcy;&amp;ocy; &amp;zcy;&amp;acy;&amp;pcy;&amp;rcy;&amp;ocy;&amp;scy;&amp;ucy; &amp;kcy;&amp;acy;&amp;rcy;&amp;tcy;&amp;icy;&amp;ncy;&amp;kcy;&amp;icy; &amp;dcy;&amp;iecy;&amp;tcy;&amp;icy; &amp;ncy;&amp;acy;  &amp;zcy;&amp;acy;&amp;rcy;&amp;yacy;&amp;dcy;&amp;kcy;&amp;iecy;   &amp;vcy; &amp;dcy;&amp;ocy;&amp;ucy;"/>
          <p:cNvPicPr/>
          <p:nvPr/>
        </p:nvPicPr>
        <p:blipFill>
          <a:blip r:embed="rId4"/>
          <a:stretch/>
        </p:blipFill>
        <p:spPr>
          <a:xfrm>
            <a:off x="3193920" y="4376880"/>
            <a:ext cx="2814840" cy="2108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5" name="Picture 11" descr="&amp;Kcy;&amp;acy;&amp;rcy;&amp;tcy;&amp;icy;&amp;ncy;&amp;kcy;&amp;icy; &amp;pcy;&amp;ocy; &amp;zcy;&amp;acy;&amp;pcy;&amp;rcy;&amp;ocy;&amp;scy;&amp;ucy; &amp;kcy;&amp;acy;&amp;rcy;&amp;tcy;&amp;icy;&amp;ncy;&amp;kcy;&amp;icy; &amp;dcy;&amp;iecy;&amp;tcy;&amp;icy; &amp;ncy;&amp;acy;  &amp;zcy;&amp;acy;&amp;rcy;&amp;yacy;&amp;dcy;&amp;kcy;&amp;iecy;   &amp;vcy; &amp;dcy;&amp;ocy;&amp;ucy;"/>
          <p:cNvPicPr/>
          <p:nvPr/>
        </p:nvPicPr>
        <p:blipFill>
          <a:blip r:embed="rId5"/>
          <a:srcRect l="0" t="10189" r="0" b="0"/>
          <a:stretch/>
        </p:blipFill>
        <p:spPr>
          <a:xfrm>
            <a:off x="6119640" y="4065480"/>
            <a:ext cx="2791080" cy="20322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5"/>
          <p:cNvSpPr/>
          <p:nvPr/>
        </p:nvSpPr>
        <p:spPr>
          <a:xfrm>
            <a:off x="333360" y="1103400"/>
            <a:ext cx="5940360" cy="5325840"/>
          </a:xfrm>
          <a:prstGeom prst="rect">
            <a:avLst/>
          </a:prstGeom>
          <a:solidFill>
            <a:srgbClr val="fff2cc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течение десяти лет педагогический коллектив  учреждения работает над  проблемой внедрения нетрадицио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доровьесберегающих технолог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физкультурно-оздоровитель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ятельность ДО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ой опыт формировался постеп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сновой опыта является использование здоровьесберегающих технологий, как фактора улучшения здоровья, приобщения к здоровому образу жизни и возможности проявить собственные 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662040"/>
          </a:xfrm>
          <a:custGeom>
            <a:avLst/>
            <a:gdLst/>
            <a:ahLst/>
            <a:rect l="l" t="t" r="r" b="b"/>
            <a:pathLst>
              <a:path w="8426450" h="661988">
                <a:moveTo>
                  <a:pt x="153972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508016"/>
                </a:lnTo>
                <a:cubicBezTo>
                  <a:pt x="8426450" y="593052"/>
                  <a:pt x="8357514" y="661988"/>
                  <a:pt x="8272478" y="661988"/>
                </a:cubicBezTo>
                <a:lnTo>
                  <a:pt x="0" y="661988"/>
                </a:lnTo>
                <a:lnTo>
                  <a:pt x="0" y="661988"/>
                </a:lnTo>
                <a:lnTo>
                  <a:pt x="0" y="153972"/>
                </a:lnTo>
                <a:cubicBezTo>
                  <a:pt x="0" y="68936"/>
                  <a:pt x="68936" y="0"/>
                  <a:pt x="15397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словия возникнов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http://ylja.umi.ru/images/cms/thumbs/a5b0aeaa3fa7d6e58d75710c18673bd7ec6d5f6d/img_0105_180_180.jpg"/>
          <p:cNvPicPr/>
          <p:nvPr/>
        </p:nvPicPr>
        <p:blipFill>
          <a:blip r:embed="rId3"/>
          <a:srcRect l="25992" t="0" r="12303" b="0"/>
          <a:stretch/>
        </p:blipFill>
        <p:spPr>
          <a:xfrm>
            <a:off x="6091200" y="2143080"/>
            <a:ext cx="2730600" cy="32450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8CA-5CE0-4644-82A1-C66D91C62F12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662040"/>
          </a:xfrm>
          <a:custGeom>
            <a:avLst/>
            <a:gdLst/>
            <a:ahLst/>
            <a:rect l="l" t="t" r="r" b="b"/>
            <a:pathLst>
              <a:path w="8426450" h="661988">
                <a:moveTo>
                  <a:pt x="153972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508016"/>
                </a:lnTo>
                <a:cubicBezTo>
                  <a:pt x="8426450" y="593052"/>
                  <a:pt x="8357514" y="661988"/>
                  <a:pt x="8272478" y="661988"/>
                </a:cubicBezTo>
                <a:lnTo>
                  <a:pt x="0" y="661988"/>
                </a:lnTo>
                <a:lnTo>
                  <a:pt x="0" y="661988"/>
                </a:lnTo>
                <a:lnTo>
                  <a:pt x="0" y="153972"/>
                </a:lnTo>
                <a:cubicBezTo>
                  <a:pt x="0" y="68936"/>
                  <a:pt x="68936" y="0"/>
                  <a:pt x="15397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461880" y="30780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дресная направ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1533600" y="1897200"/>
            <a:ext cx="6168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стоящий опыт  работы является творческой разработкой, может быть использован воспитателями другими специал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работе с детьми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2"/>
          <p:cNvSpPr/>
          <p:nvPr/>
        </p:nvSpPr>
        <p:spPr>
          <a:xfrm>
            <a:off x="295200" y="587880"/>
            <a:ext cx="8501040" cy="63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ябьева Е.А. Психогимнастика в детском саду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nsportal.ru/detskiy-sad/raznoe/2014/10/24/psikhogimnastika-v-detskom-s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лая К.Ю., Зимонина В.А. «Как обеспечить безопасность дошкольников: конспекты занятий по основам безопасности детей дошкольного возраста»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studmed.ru/belaya-kyu-kak-obespechit-bezopasnost-doshkolnikov_996b68b4029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имонина В.А. Воспитание ребёнка – дошкольника. Расту здоровым. М.;ВЛАДОС,2003-304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штанова Т.В, Организация оздоровительного центра в образовательном учреждении: практическое пособие М.: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абанов В.В. Валеология – СПб: Деан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узнецова М.Н. Система комплексных мероприятий по оздоровлению детей в дошкольных образовательных учреждениях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nashideto4ki.ru/news/sistema_kompleksnykh_meroprijatij_po_ozdorovleniju_detej_v_doshkolnykh_obrazovatelnykh_uchrezhdenijakh/2013-07-22-6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ргунова О.Н. Физкультурно-оздоровительная работа в ДОУ. Воронеж, 2005 – 127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вчинникова Т.С. Двигательный игротренинг для дошкольнико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://www.razym.ru/semiyahobbi/detiv/138142-ovchinnikova-t-s-potapchuk-a-a-dvigatelnyy-igrotrening-dlya-doshkolnikov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нзулаева Л.И. Оздоровительная гимнастика для детей дошкольного возраста М.: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нова М.А. Двигательная активность ребёнка в детском саду М.: 2000 –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нкевич Е.А. Физкультура для малышей СПб: 2003 – 48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паха И.В. Здоровьесберегающие технологии в образовательном процессе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://conference.osu.ru/assets/files/conf_info/conf6/6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с двумя скругленными противолежащими углами 3"/>
          <p:cNvSpPr/>
          <p:nvPr/>
        </p:nvSpPr>
        <p:spPr>
          <a:xfrm>
            <a:off x="247680" y="279360"/>
            <a:ext cx="8426520" cy="662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CA94-774A-46AD-A15C-D8407215C9DA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461880" y="307800"/>
            <a:ext cx="7689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1032480" y="1955880"/>
            <a:ext cx="683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alibri"/>
                <a:ea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F596-97E9-4D2D-BEED-CDBCFD6840FE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1014480"/>
          </a:xfrm>
          <a:custGeom>
            <a:avLst/>
            <a:gdLst/>
            <a:ahLst/>
            <a:rect l="l" t="t" r="r" b="b"/>
            <a:pathLst>
              <a:path w="8426450" h="1014413">
                <a:moveTo>
                  <a:pt x="235942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778471"/>
                </a:lnTo>
                <a:cubicBezTo>
                  <a:pt x="8426450" y="908778"/>
                  <a:pt x="8320815" y="1014413"/>
                  <a:pt x="8190508" y="1014413"/>
                </a:cubicBezTo>
                <a:lnTo>
                  <a:pt x="0" y="1014413"/>
                </a:lnTo>
                <a:lnTo>
                  <a:pt x="0" y="1014413"/>
                </a:lnTo>
                <a:lnTo>
                  <a:pt x="0" y="235942"/>
                </a:lnTo>
                <a:cubicBezTo>
                  <a:pt x="0" y="105635"/>
                  <a:pt x="105635" y="0"/>
                  <a:pt x="23594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61880" y="307800"/>
            <a:ext cx="76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иапазон личного вклада педагога в развитие образования и степень его новизны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хема 6" descr=""/>
          <p:cNvPicPr/>
          <p:nvPr/>
        </p:nvPicPr>
        <p:blipFill>
          <a:blip r:embed="rId3"/>
          <a:stretch/>
        </p:blipFill>
        <p:spPr>
          <a:xfrm>
            <a:off x="212760" y="1700280"/>
            <a:ext cx="8931240" cy="498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1346-460B-4FD0-8122-675304F35567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662040"/>
          </a:xfrm>
          <a:custGeom>
            <a:avLst/>
            <a:gdLst/>
            <a:ahLst/>
            <a:rect l="l" t="t" r="r" b="b"/>
            <a:pathLst>
              <a:path w="8426450" h="661988">
                <a:moveTo>
                  <a:pt x="153972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508016"/>
                </a:lnTo>
                <a:cubicBezTo>
                  <a:pt x="8426450" y="593052"/>
                  <a:pt x="8357514" y="661988"/>
                  <a:pt x="8272478" y="661988"/>
                </a:cubicBezTo>
                <a:lnTo>
                  <a:pt x="0" y="661988"/>
                </a:lnTo>
                <a:lnTo>
                  <a:pt x="0" y="661988"/>
                </a:lnTo>
                <a:lnTo>
                  <a:pt x="0" y="153972"/>
                </a:lnTo>
                <a:cubicBezTo>
                  <a:pt x="0" y="68936"/>
                  <a:pt x="68936" y="0"/>
                  <a:pt x="15397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61880" y="30780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Цель 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82600" y="-565200"/>
            <a:ext cx="7877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Цель образователь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явление механизмов и методов внедрения здоровьесберегающих технологий, с помощью которых можно организовать физическое воспитание в ДОУ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таким образом, чт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http://ylja.umi.ru/images/cms/thumbs/a5b0aeaa3fa7d6e58d75710c18673bd7ec6d5f6d/img_0746_21_180_180.jpg"/>
          <p:cNvPicPr/>
          <p:nvPr/>
        </p:nvPicPr>
        <p:blipFill>
          <a:blip r:embed="rId3"/>
          <a:stretch/>
        </p:blipFill>
        <p:spPr>
          <a:xfrm>
            <a:off x="3571920" y="4361040"/>
            <a:ext cx="3946320" cy="20620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66" name="Picture 8" descr="C:\Users\р\Desktop\ЮЛЯ ПЛАН Ф РАБ\зал\IMG_8625.JPG"/>
          <p:cNvPicPr/>
          <p:nvPr/>
        </p:nvPicPr>
        <p:blipFill>
          <a:blip r:embed="rId4"/>
          <a:stretch/>
        </p:blipFill>
        <p:spPr>
          <a:xfrm>
            <a:off x="295200" y="3227400"/>
            <a:ext cx="2463840" cy="33354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2841480" y="1006560"/>
            <a:ext cx="63025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оно обеспечивало каждому ребенку гармоничное развитие, помогало ему использовать резервы своего организма для сохранения, укрепления здоровья и повышения его уровня; приобщение детей к физической культуре и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DD78-FA49-46B0-B8FA-6FE93C384E51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662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Задачи 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07880" y="1692360"/>
          <a:ext cx="8469360" cy="4941720"/>
        </p:xfrm>
        <a:graphic>
          <a:graphicData uri="http://schemas.openxmlformats.org/drawingml/2006/table">
            <a:tbl>
              <a:tblPr/>
              <a:tblGrid>
                <a:gridCol w="2822760"/>
                <a:gridCol w="2824200"/>
                <a:gridCol w="282240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спитательные задач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здоровительные задач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разовательные задач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402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ние потребности в здоровом образе жизни; выработка привычки к соблюдению режима, потребность в физических упражнениях и игра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 кругозор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ние  физических качеств,  необходимых для полноценного  развития лич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и укрепление физического и психического здоровья дет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ршенствование функций организма, повышение  защитных свойств  средствами движения, дыхательной гимнастики, массажа, йоги, закали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правильной осанки, гигиенических навы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 дв. умений и навыков ребенка в соответствии с его инд. особенностям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условий для реализации потребности детей в двигательной актив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ление интересо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ей в двигательной деятельности и реализация их через систему спортивно-оздорови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539720" y="6213600"/>
            <a:ext cx="5739120" cy="495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9927-04E1-4430-A0C4-ED98A2626023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662040"/>
          </a:xfrm>
          <a:custGeom>
            <a:avLst/>
            <a:gdLst/>
            <a:ahLst/>
            <a:rect l="l" t="t" r="r" b="b"/>
            <a:pathLst>
              <a:path w="8426450" h="661988">
                <a:moveTo>
                  <a:pt x="153972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508016"/>
                </a:lnTo>
                <a:cubicBezTo>
                  <a:pt x="8426450" y="593052"/>
                  <a:pt x="8357514" y="661988"/>
                  <a:pt x="8272478" y="661988"/>
                </a:cubicBezTo>
                <a:lnTo>
                  <a:pt x="0" y="661988"/>
                </a:lnTo>
                <a:lnTo>
                  <a:pt x="0" y="661988"/>
                </a:lnTo>
                <a:lnTo>
                  <a:pt x="0" y="153972"/>
                </a:lnTo>
                <a:cubicBezTo>
                  <a:pt x="0" y="68936"/>
                  <a:pt x="68936" y="0"/>
                  <a:pt x="15397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едущая педагогическая иде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213480" y="748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ttp://ylja.umi.ru/images/cms/thumbs/a5b0aeaa3fa7d6e58d75710c18673bd7ec6d5f6d/risunok_8_-_kopiya1_180_180.jpg"/>
          <p:cNvPicPr/>
          <p:nvPr/>
        </p:nvPicPr>
        <p:blipFill>
          <a:blip r:embed="rId3"/>
          <a:stretch/>
        </p:blipFill>
        <p:spPr>
          <a:xfrm>
            <a:off x="1300320" y="4149720"/>
            <a:ext cx="3755880" cy="24620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78" name="Picture 13" descr="http://www.o-detstve.ru/assets/images/userfiles/42148/images/IMG_2442.JPG"/>
          <p:cNvPicPr/>
          <p:nvPr/>
        </p:nvPicPr>
        <p:blipFill>
          <a:blip r:embed="rId4"/>
          <a:srcRect l="10482" t="24187" r="23224" b="0"/>
          <a:stretch/>
        </p:blipFill>
        <p:spPr>
          <a:xfrm>
            <a:off x="4896000" y="3403440"/>
            <a:ext cx="2841480" cy="24418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79" name="Picture 11" descr="https://encrypted-tbn1.gstatic.com/images?q=tbn:ANd9GcRd0eLlZnNNUcWRYD5yW0e3PyU5W-n4k4aOL_5SvjgX1SqfvEMSHg"/>
          <p:cNvPicPr/>
          <p:nvPr/>
        </p:nvPicPr>
        <p:blipFill>
          <a:blip r:embed="rId5"/>
          <a:srcRect l="18198" t="13167" r="17061" b="0"/>
          <a:stretch/>
        </p:blipFill>
        <p:spPr>
          <a:xfrm>
            <a:off x="6049800" y="1181160"/>
            <a:ext cx="2587680" cy="2290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80" name="Прямоугольник 7"/>
          <p:cNvSpPr/>
          <p:nvPr/>
        </p:nvSpPr>
        <p:spPr>
          <a:xfrm>
            <a:off x="254160" y="1055520"/>
            <a:ext cx="41767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Улучшение здоровья дошкольников  через формирование основ здорового образа жизни и внедрение здоровьесберегающих технологий в физкультурно- оздоровительный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C89-8E3C-4EA5-9D06-81FA28A10472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1197000"/>
          </a:xfrm>
          <a:custGeom>
            <a:avLst/>
            <a:gdLst/>
            <a:ahLst/>
            <a:rect l="l" t="t" r="r" b="b"/>
            <a:pathLst>
              <a:path w="8426450" h="1196975">
                <a:moveTo>
                  <a:pt x="278404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918571"/>
                </a:lnTo>
                <a:cubicBezTo>
                  <a:pt x="8426450" y="1072329"/>
                  <a:pt x="8301804" y="1196975"/>
                  <a:pt x="8148046" y="1196975"/>
                </a:cubicBezTo>
                <a:lnTo>
                  <a:pt x="0" y="1196975"/>
                </a:lnTo>
                <a:lnTo>
                  <a:pt x="0" y="1196975"/>
                </a:lnTo>
                <a:lnTo>
                  <a:pt x="0" y="278404"/>
                </a:lnTo>
                <a:cubicBezTo>
                  <a:pt x="0" y="124646"/>
                  <a:pt x="124646" y="0"/>
                  <a:pt x="278404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76280" y="181080"/>
            <a:ext cx="7689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Деятельностный аспект личного вклада педагога в развитие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Этап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хема 7" descr=""/>
          <p:cNvPicPr/>
          <p:nvPr/>
        </p:nvPicPr>
        <p:blipFill>
          <a:blip r:embed="rId3"/>
          <a:stretch/>
        </p:blipFill>
        <p:spPr>
          <a:xfrm>
            <a:off x="401760" y="1487520"/>
            <a:ext cx="832788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6751-F5C0-4486-8046-56F99A1FB7A9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662040"/>
          </a:xfrm>
          <a:custGeom>
            <a:avLst/>
            <a:gdLst/>
            <a:ahLst/>
            <a:rect l="l" t="t" r="r" b="b"/>
            <a:pathLst>
              <a:path w="8426450" h="661988">
                <a:moveTo>
                  <a:pt x="153972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508016"/>
                </a:lnTo>
                <a:cubicBezTo>
                  <a:pt x="8426450" y="593052"/>
                  <a:pt x="8357514" y="661988"/>
                  <a:pt x="8272478" y="661988"/>
                </a:cubicBezTo>
                <a:lnTo>
                  <a:pt x="0" y="661988"/>
                </a:lnTo>
                <a:lnTo>
                  <a:pt x="0" y="661988"/>
                </a:lnTo>
                <a:lnTo>
                  <a:pt x="0" y="153972"/>
                </a:lnTo>
                <a:cubicBezTo>
                  <a:pt x="0" y="68936"/>
                  <a:pt x="68936" y="0"/>
                  <a:pt x="15397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исание опыта : 1 этап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0720" y="1184400"/>
          <a:ext cx="7258320" cy="2666880"/>
        </p:xfrm>
        <a:graphic>
          <a:graphicData uri="http://schemas.openxmlformats.org/drawingml/2006/table">
            <a:tbl>
              <a:tblPr/>
              <a:tblGrid>
                <a:gridCol w="7258320"/>
              </a:tblGrid>
              <a:tr h="36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я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научно-методической литератур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материально-технических, кадровых, организационных, научно-методических услов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системы работы в условиях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степени развития заболеваний и имеющихся морфофункциональных нарушений в развитие дет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кетирование роди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89" name="Picture 20" descr="https://encrypted-tbn2.gstatic.com/images?q=tbn:ANd9GcQVktAj3MXWlyXDZQ6wF97mixKW5HOpPL0jK3mclFblW-gkIYQQ"/>
          <p:cNvPicPr/>
          <p:nvPr/>
        </p:nvPicPr>
        <p:blipFill>
          <a:blip r:embed="rId3"/>
          <a:srcRect l="14694" t="10448" r="30746" b="12309"/>
          <a:stretch/>
        </p:blipFill>
        <p:spPr>
          <a:xfrm>
            <a:off x="6203880" y="2532240"/>
            <a:ext cx="2546280" cy="27144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90" name="Picture 22" descr="https://encrypted-tbn3.gstatic.com/images?q=tbn:ANd9GcSEvSspwcuKyTk8sNEfzt5WDflHgeBUdvmZvUHhnS0yYIy7ul3k"/>
          <p:cNvPicPr/>
          <p:nvPr/>
        </p:nvPicPr>
        <p:blipFill>
          <a:blip r:embed="rId4"/>
          <a:srcRect l="20887" t="24837" r="26342" b="0"/>
          <a:stretch/>
        </p:blipFill>
        <p:spPr>
          <a:xfrm>
            <a:off x="295200" y="4308480"/>
            <a:ext cx="2903760" cy="2324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91" name="Picture 24" descr="http://ylja.umi.ru/images/cms/thumbs/a5b0aeaa3fa7d6e58d75710c18673bd7ec6d5f6d/img_8642_180_180.jpg"/>
          <p:cNvPicPr/>
          <p:nvPr/>
        </p:nvPicPr>
        <p:blipFill>
          <a:blip r:embed="rId5"/>
          <a:stretch/>
        </p:blipFill>
        <p:spPr>
          <a:xfrm>
            <a:off x="3537000" y="4276800"/>
            <a:ext cx="3376440" cy="2349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2"/>
          <p:cNvSpPr/>
          <p:nvPr/>
        </p:nvSpPr>
        <p:spPr>
          <a:xfrm>
            <a:off x="8361360" y="631188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9A6C-BE40-4813-A8A9-43EE2237E54E}" type="slidenum">
              <a:rPr b="0" lang="ru-RU" sz="1400" spc="-1" strike="noStrike">
                <a:solidFill>
                  <a:srgbClr val="59595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с двумя скругленными противолежащими углами 3"/>
          <p:cNvSpPr/>
          <p:nvPr/>
        </p:nvSpPr>
        <p:spPr>
          <a:xfrm>
            <a:off x="363600" y="307800"/>
            <a:ext cx="8426520" cy="662040"/>
          </a:xfrm>
          <a:custGeom>
            <a:avLst/>
            <a:gdLst/>
            <a:ahLst/>
            <a:rect l="l" t="t" r="r" b="b"/>
            <a:pathLst>
              <a:path w="8426450" h="661988">
                <a:moveTo>
                  <a:pt x="153972" y="0"/>
                </a:moveTo>
                <a:lnTo>
                  <a:pt x="8426450" y="0"/>
                </a:lnTo>
                <a:lnTo>
                  <a:pt x="8426450" y="0"/>
                </a:lnTo>
                <a:lnTo>
                  <a:pt x="8426450" y="508016"/>
                </a:lnTo>
                <a:cubicBezTo>
                  <a:pt x="8426450" y="593052"/>
                  <a:pt x="8357514" y="661988"/>
                  <a:pt x="8272478" y="661988"/>
                </a:cubicBezTo>
                <a:lnTo>
                  <a:pt x="0" y="661988"/>
                </a:lnTo>
                <a:lnTo>
                  <a:pt x="0" y="661988"/>
                </a:lnTo>
                <a:lnTo>
                  <a:pt x="0" y="153972"/>
                </a:lnTo>
                <a:cubicBezTo>
                  <a:pt x="0" y="68936"/>
                  <a:pt x="68936" y="0"/>
                  <a:pt x="15397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1880" y="3078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исание опыта : 2 этап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182520" y="1111320"/>
            <a:ext cx="2771640" cy="1913040"/>
          </a:xfrm>
          <a:prstGeom prst="rect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ок 1.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держание работы с детьми определяется в соответствии с ФГОС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3009960" y="1125360"/>
            <a:ext cx="3193920" cy="195588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Блок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Организация работы с детьми по формированию ЗО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139760" y="3052800"/>
            <a:ext cx="3009960" cy="1941480"/>
          </a:xfrm>
          <a:prstGeom prst="rect">
            <a:avLst/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ок 3. Нетрадиционные формы оздоровления до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4346640" y="3130560"/>
            <a:ext cx="3151080" cy="1919160"/>
          </a:xfrm>
          <a:prstGeom prst="rect">
            <a:avLst/>
          </a:prstGeom>
          <a:solidFill>
            <a:srgbClr val="0033cc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Блок 4. Организация оздоровительн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6273720" y="1082520"/>
            <a:ext cx="2673360" cy="2013120"/>
          </a:xfrm>
          <a:prstGeom prst="rect">
            <a:avLst/>
          </a:prstGeom>
          <a:solidFill>
            <a:srgbClr val="39e0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ок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 с семьёй и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http://ylja.umi.ru/images/cms/thumbs/a5b0aeaa3fa7d6e58d75710c18673bd7ec6d5f6d/oborudovanie1_180_180.jpg"/>
          <p:cNvPicPr/>
          <p:nvPr/>
        </p:nvPicPr>
        <p:blipFill>
          <a:blip r:embed="rId3"/>
          <a:stretch/>
        </p:blipFill>
        <p:spPr>
          <a:xfrm>
            <a:off x="6254640" y="5226120"/>
            <a:ext cx="2368800" cy="163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http://ylja.umi.ru/images/cms/thumbs/a5b0aeaa3fa7d6e58d75710c18673bd7ec6d5f6d/img_8669_180_180.jpg"/>
          <p:cNvPicPr/>
          <p:nvPr/>
        </p:nvPicPr>
        <p:blipFill>
          <a:blip r:embed="rId4"/>
          <a:stretch/>
        </p:blipFill>
        <p:spPr>
          <a:xfrm>
            <a:off x="463680" y="5176800"/>
            <a:ext cx="2520720" cy="168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http://ylja.umi.ru/images/cms/thumbs/a5b0aeaa3fa7d6e58d75710c18673bd7ec6d5f6d/img_8632_180_180.jpg"/>
          <p:cNvPicPr/>
          <p:nvPr/>
        </p:nvPicPr>
        <p:blipFill>
          <a:blip r:embed="rId5"/>
          <a:stretch/>
        </p:blipFill>
        <p:spPr>
          <a:xfrm>
            <a:off x="3467160" y="5133960"/>
            <a:ext cx="2320920" cy="15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1:34:00Z</dcterms:created>
  <dc:creator>Олег Грибан</dc:creator>
  <dc:description/>
  <dc:language>en-US</dc:language>
  <cp:lastModifiedBy>Павел Князев</cp:lastModifiedBy>
  <dcterms:modified xsi:type="dcterms:W3CDTF">2018-01-02T09:41:51Z</dcterms:modified>
  <cp:revision>116</cp:revision>
  <dc:subject/>
  <dc:title>Презентация PowerPoint</dc:title>
</cp:coreProperties>
</file>