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23F-EE02-4050-92A1-09334BB4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9CA-F522-43CB-88B2-D290BE3A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61E-AE1A-46AF-A68D-39C9958E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C35-DCA4-42D0-9907-00EEA89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29D-31AA-4CBC-B7C0-00BD4BDE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E18-1767-4AC7-B047-FDB98A46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EF7-0921-413F-B4AE-9BB31141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BFE-41BF-4029-A388-DDCF6513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F1D-0B8C-4E57-A021-AF4FC112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EED-D232-4C1D-82D0-1D9B9A72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0B0-74A9-4ABD-8A9E-A2CF3A2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094-65BA-4EBB-BD85-153E661D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ffff"/>
            </a:gs>
            <a:gs pos="100000">
              <a:srgbClr val="66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2B4-C045-4470-85F1-91C78A07E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0000"/>
                </a:solidFill>
                <a:latin typeface="Arial"/>
              </a:rPr>
              <a:t>1920-1930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Х съезд РКП(б), проводившийся в 1921 г., принял наряду с программой перехода к нэпу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лан борьбы с неграмотностью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езолюцию, осуждавшую «правый уклон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ешение об отделении церкви от государст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езолюцию «О единстве партии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308720" y="5734080"/>
            <a:ext cx="176400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из названного было построено в годы первых пятилеток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Шатурская электростан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Сталинградский тракторный зав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Волго-Донской кан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) Магнитогорский металлургический комбин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) Путиловский завод в Ленингра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) автомобильный завод АМО (впоследствии ЗИЛ) в Моск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АБВ     2) АДЕ     3) БВД     4) Б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580000" y="6021360"/>
            <a:ext cx="486000" cy="549360"/>
          </a:xfrm>
          <a:prstGeom prst="upArrow">
            <a:avLst>
              <a:gd name="adj1" fmla="val 50000"/>
              <a:gd name="adj2" fmla="val 282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з названных лиц возглавлял в 1920-1930-е гг. органы внутренних д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.И. Бухарин, Г.Е. Зиновье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Г.Г. Ягода, Н.И. Еж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В.В. Куйбышев, С.М. Кир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М.В. Фрунзе, В.К. Блюхе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012000" y="4076640"/>
            <a:ext cx="172872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кие из названных государств, территорий были присоединены к СССР в 1940 г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инлян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Поль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Ла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 Л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Эсто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) Восточная Пру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АБВ   2) АВД   3) БВД   4) В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356000" y="6021360"/>
            <a:ext cx="486000" cy="549360"/>
          </a:xfrm>
          <a:prstGeom prst="upArrow">
            <a:avLst>
              <a:gd name="adj1" fmla="val 50000"/>
              <a:gd name="adj2" fmla="val 282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7. Установите соответствие между названиями съездов и принятыми на них решениям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об образовании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РСДР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о переходе к нэ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союз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 вооруженном восс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ъезд Со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об установлении сове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РКП(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о начале индустр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3780000" y="3213000"/>
            <a:ext cx="431640" cy="1295640"/>
          </a:xfrm>
          <a:prstGeom prst="pie">
            <a:avLst/>
          </a:prstGeom>
          <a:noFill/>
          <a:ln w="38160">
            <a:solidFill>
              <a:srgbClr val="ff5f6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708360" y="3716280"/>
            <a:ext cx="50328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V="1">
            <a:off x="3348000" y="3357720"/>
            <a:ext cx="936720" cy="863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851280" y="5084640"/>
            <a:ext cx="360360" cy="360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7164360" y="3500280"/>
            <a:ext cx="172872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съезд РКП(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становите соответствие между фамилиями исторических лиц и событиями, активными участниками которых были эти л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Н.И. Вавило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) освоение Северног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В.П. Чкалов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орского пу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И.Д. Папан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) организация автомобильног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И.А. Лихаче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изводства в Москв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) беспосадочный перелет из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ССР в СШ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) разработка основ селекции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стений, создание ВАСХНИ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) создание ракетной техни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2997360"/>
            <a:ext cx="934920" cy="17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3059280" y="3284640"/>
            <a:ext cx="1081080" cy="8650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3276720" y="3068640"/>
            <a:ext cx="1008000" cy="504720"/>
          </a:xfrm>
          <a:prstGeom prst="line">
            <a:avLst/>
          </a:prstGeom>
          <a:ln w="38160">
            <a:solidFill>
              <a:srgbClr val="ff5f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V="1">
            <a:off x="3203640" y="3715920"/>
            <a:ext cx="936720" cy="1443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Установите соответствие между фамилиями исторических лиц и названиями занимаемых ими в 1920-1930-е гг. постов в руководящих советских орган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.В. Луначар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рком просв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.Е. Вороши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нарком иностранных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Ф.Э. Дзержи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арком об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М.М. Литви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руководитель ВЧ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редседатель ВЦ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419640" y="3645000"/>
            <a:ext cx="792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276720" y="4076640"/>
            <a:ext cx="934920" cy="360360"/>
          </a:xfrm>
          <a:prstGeom prst="line">
            <a:avLst/>
          </a:prstGeom>
          <a:ln w="38160">
            <a:solidFill>
              <a:srgbClr val="ff5f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564000" y="4508640"/>
            <a:ext cx="647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2"/>
          <p:cNvSpPr/>
          <p:nvPr/>
        </p:nvSpPr>
        <p:spPr>
          <a:xfrm>
            <a:off x="3059280" y="4029120"/>
            <a:ext cx="1152360" cy="91260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становите соответствие между фамилиями исторических лиц, являвшихся коллегами, занимавшихся одним и тем же видом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В.П. Чка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.И. Еж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.Д. Шостако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.С. Проко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.М. Моло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.В. Ляпид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Л.П. Бе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М.М. Литв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А.Г. Стах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2771640" y="3645000"/>
            <a:ext cx="1440000" cy="720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419640" y="4076640"/>
            <a:ext cx="792000" cy="0"/>
          </a:xfrm>
          <a:prstGeom prst="line">
            <a:avLst/>
          </a:prstGeom>
          <a:ln w="38160">
            <a:solidFill>
              <a:srgbClr val="ff5f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2916360" y="4508640"/>
            <a:ext cx="1295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2556000" y="3645000"/>
            <a:ext cx="1584360" cy="127296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Установите соответствие между названиями произведений советского искусства 1920-1930-х гг. и фамилиями их созда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инофильм «Чапаев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М.А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кульптура «Рабочий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И.О. Дуна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хозниц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.И. Мух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оман «Тихий Дон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А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музыка к кинофиль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братья Василье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еселые реб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067280" y="3645000"/>
            <a:ext cx="1081080" cy="1584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411280" y="4508640"/>
            <a:ext cx="2521080" cy="0"/>
          </a:xfrm>
          <a:prstGeom prst="line">
            <a:avLst/>
          </a:prstGeom>
          <a:ln w="38160">
            <a:solidFill>
              <a:srgbClr val="ff5f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3780000" y="3716280"/>
            <a:ext cx="129672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3348000" y="4005360"/>
            <a:ext cx="1655640" cy="17762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2"/>
          <p:cNvSpPr/>
          <p:nvPr/>
        </p:nvSpPr>
        <p:spPr>
          <a:xfrm>
            <a:off x="468360" y="3860640"/>
            <a:ext cx="8207280" cy="936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уществовавшие в СССР в 1920-1930-е гг. народные комиссариаты (наркоматы)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рганы, осуществлявшие политработу в Красной Арм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ъединения ветеранов гражданской войн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нтральные органы управления отраслями хозяй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удебные органы в центре и регион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Какое из названных событий произошло раньше всех друг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нание интервентов с Дальнего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нштадтский мя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ром войск П.Н. Врангеля в Кры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Генуэзской конференции с участие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12000" y="3573360"/>
            <a:ext cx="18730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276720" y="3068640"/>
            <a:ext cx="244944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059280" y="4437000"/>
            <a:ext cx="208908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224760" y="4940280"/>
            <a:ext cx="234144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то из названного относилось к политике нэп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запрещение наемного труд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пределение по уравнительному принцип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ведение продразверстк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звитие разных форм кооперац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"/>
          <p:cNvSpPr/>
          <p:nvPr/>
        </p:nvSpPr>
        <p:spPr>
          <a:xfrm>
            <a:off x="395280" y="4797360"/>
            <a:ext cx="7854840" cy="647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Политика создания государственного крупного сельского хозяйства взамен массы индивидуальных крестьянских хозяйств в СССР называлас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циализацие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оллективизацие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ционализацие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еприватизацие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755640" y="3933720"/>
            <a:ext cx="4176720" cy="503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Широко употреблявшееся в СССР в 1930-е гг. понятие «реконструкция» означ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сстановление разрушенных заводов и фабри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циалистическое преобразование всего народного хозяй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набжение крестьянских хозяйств новой техник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существление плана ГОЭЛ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84360" y="3500280"/>
            <a:ext cx="7854840" cy="936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урс на сплошную коллективизацию сельского хозяйства предусматрив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у всей земли совхо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агрогородов на с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ие в деревню рабоч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ение единоличников в колх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8"/>
          <p:cNvSpPr/>
          <p:nvPr/>
        </p:nvSpPr>
        <p:spPr>
          <a:xfrm>
            <a:off x="395280" y="4581360"/>
            <a:ext cx="7993080" cy="64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6. В какой период, в связи с какими процессами советское руководство выдвинуло лозунг «Кадры решают все!»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первые месяцы после установления советской вла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год создания Красной Арм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завершающем этапе Гражданской войн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годы индустриализ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"/>
          <p:cNvSpPr/>
          <p:nvPr/>
        </p:nvSpPr>
        <p:spPr>
          <a:xfrm>
            <a:off x="324000" y="5084640"/>
            <a:ext cx="6048360" cy="711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пецпоселенцами в СССР в 1930-е годы назыв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рестьяне, высланные из мест своего проживания во время коллективиз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частники первых сельскохозяйственных комму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рестьяне, создававшие колхозы на неосвоенных землях в Сибир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юди, переехавшие в Балтийские республики после их включения в ССС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"/>
          <p:cNvSpPr/>
          <p:nvPr/>
        </p:nvSpPr>
        <p:spPr>
          <a:xfrm>
            <a:off x="395280" y="2492280"/>
            <a:ext cx="7854840" cy="998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Международная организация коммунистических партий, руководящие органы которой находились в 1920-1930-е гг. в Москве, называла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инфор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им интернаци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ом коммун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интер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395280" y="5157720"/>
            <a:ext cx="4105440" cy="647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Проводившаяся в СССР в 1920-1930-е гг. культурная революция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разных идейных направлений в искус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из эмиграции старой интеллиг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зацию науки и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ие гимназ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95280" y="4437000"/>
            <a:ext cx="6913440" cy="647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0. Установите соответствие между терминами, понятиями и периодами, когда они получили распространен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стаханове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ноябрь-декабрь 191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двадцатипятитысячни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середина 1920-х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нэпма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конец 1920-х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«красногвардейск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середина 1930-х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ака на капитал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конец 1930-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2987640" y="3213000"/>
            <a:ext cx="2141640" cy="1239840"/>
          </a:xfrm>
          <a:prstGeom prst="pie">
            <a:avLst/>
          </a:prstGeom>
          <a:noFill/>
          <a:ln w="38160">
            <a:solidFill>
              <a:srgbClr val="ff5f6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427640" y="3716280"/>
            <a:ext cx="64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2411280" y="3645000"/>
            <a:ext cx="2737080" cy="431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4067280" y="3284640"/>
            <a:ext cx="1081080" cy="1224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Что из названного относилось к причинам перехода советского руководства к нэпу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ятеж левых эсеров в Москве и других город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довольство крестьян политикой «военного коммунизм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Всероссийского съезда Совет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ребования республик при создании нового союзного государ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"/>
          <p:cNvSpPr/>
          <p:nvPr/>
        </p:nvSpPr>
        <p:spPr>
          <a:xfrm>
            <a:off x="539640" y="3141720"/>
            <a:ext cx="8280360" cy="93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В какие годы была проведена сплошная коллективизация в ССС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22-1924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26-1927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30-1933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37-193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859280" y="3716280"/>
            <a:ext cx="3673440" cy="720720"/>
          </a:xfrm>
          <a:prstGeom prst="wedgeRectCallout">
            <a:avLst>
              <a:gd name="adj1" fmla="val -74157"/>
              <a:gd name="adj2" fmla="val 1046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в 1929-1930 гг. было проведено раскул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Что из названного послужило причиной массовых выступлений верующих против действий советской власти в 1922 г.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здание декрета об отделении церкви от государ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празднение патриаршества правительственным декрет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нятие декрета о конфискации церковных ценност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сстрел царской семь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539640" y="4797360"/>
            <a:ext cx="7993080" cy="936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то из названного относилось к следствиям индустриализации в СССР в 1930-е гг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иквидация безработиц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ост производства товаров широкого потреб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лная механизация сельского хозяйст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автоматизация производст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"/>
          <p:cNvSpPr/>
          <p:nvPr/>
        </p:nvSpPr>
        <p:spPr>
          <a:xfrm>
            <a:off x="684360" y="2997360"/>
            <a:ext cx="5975280" cy="79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Какое из названных событий послужило одним из официальных обоснований волны массовых репрессий в середине 1930-х гг.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бийство С.М. Кир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ронштадтский мяте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кушение на В.И. Лен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рестьянское восстание под руководством А.С. Антон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611280" y="2852640"/>
            <a:ext cx="4824360" cy="72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 итогам культурной революции в СССР в 1930-е гг. относ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иквидация неграмотности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звитие авангардистских течений в искусств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ведение всеобщего среднего образова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рганизация первых российских кинокомпан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611280" y="2708280"/>
            <a:ext cx="7921440" cy="72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Что из названного относилось к причинам дипломатического признания советского государства странами Запада в середине 1920-х гг.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дежда получить долги царского прави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мерение прекратить деятельность Коминтер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обходимость противостоять германской агр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ремление использовать природные ресурсы и рынок советской стра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11280" y="5229360"/>
            <a:ext cx="8064360" cy="100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Что из названного относилось к непосредственным следствиям заключения советско-германского договора о ненападении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вертывание антифашистских лозунгов в работе Коминтер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ключение СССР из Лиги Нац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ыв англо-франко-советских переговоров в Москв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ншлюс Австрии Германи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"/>
          <p:cNvSpPr/>
          <p:nvPr/>
        </p:nvSpPr>
        <p:spPr>
          <a:xfrm>
            <a:off x="539640" y="3284640"/>
            <a:ext cx="8064720" cy="936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очтите отрывок из дневника Ф.Д. Покровского и укажите, в какой период происходили описываемы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Положение, пожалуй, будет ухудшаться. Сейчас крестьянство не заинтересовано уже больше в частной собственности, перед вступлением в коллективы режут скот, уничтожают лошадей. они нынче стали «нипочем». За хорошую лошадь просят 10-20 рублей, а год назад она стоила 100-200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 1917-1918 г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 концу 1920-х – началу 193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овине 1920-х г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к концу 193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 rot="16200000">
            <a:off x="7416000" y="5553720"/>
            <a:ext cx="720720" cy="503280"/>
          </a:xfrm>
          <a:custGeom>
            <a:avLst/>
            <a:gdLst>
              <a:gd name="textAreaLeft" fmla="*/ 0 w 720720"/>
              <a:gd name="textAreaRight" fmla="*/ 721080 w 7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. Прочтите отрывок из автобиографической книги философа Н.Бердяева и укажите, в каком году произошло описываемое событи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Высылалась за границу целая группа писателей, ученых, общественных деятелей, которых признали безнадежными в смысле обращения в коммунистическую веру. Это была странная мера, которая потом уже не повторялась. Я был выслан из своей родины не по политическим, а по идеологическим причинам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) 1918 г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) 1937 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) 1922 г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) 1953 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24000" y="569592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рочтите отрывок из заявления советского писателя (1929 г.) и укажите фамилию этого писате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В этом году исполняется десять лет с тех пор, как я начал заниматься литературой в СССР. За этот срок я… написал ряд сатирических повестей, а затем четыре пьесы, из которых три шли при неоднократных цензурных исправлениях, запрещениях их и возобновлениях на сценах государственных театров в Москве, а четвертая – «Бег» была запрещена в процессе работы над нею в Московском Художественном театре и света не увидела вовс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перь мне стало известно, что и остальные три к представлению запрещаются. Таким образом в наступающем сезоне ни одна из них, в том числе и любимая моя работа «Дни Турбиных», больше существовать не будут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) М. Горьки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) А. Толст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) М. Булгак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) А. Фаде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684360" y="562464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чтите высказывание немецкого военачальника Ф. Гальдера, относящееся к концу 1930-х гг., и укажите, что из перечисленного было причиной описываемого положени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усский офицерский корпус исключительно плох. Он производит худшее впечатление, чем в 1933 г. России потребуется 20 лет, пока она достигнет прежней высо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) отсутствие в СССР высших военных учебных завед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) невнимание руководителей государства к укреплению арм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) репрессии против командного состава арм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) потери в офицерском составе во время военных операций в Польш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24000" y="55897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Стахановское движение развернулось в ССС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0-е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30-е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40-е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0-е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5076720" y="2852640"/>
            <a:ext cx="3095640" cy="863640"/>
          </a:xfrm>
          <a:prstGeom prst="wedgeRectCallout">
            <a:avLst>
              <a:gd name="adj1" fmla="val -94254"/>
              <a:gd name="adj2" fmla="val 477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ды первых пяти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очтите отрывок из воспоминаний известного авиаконструктора А.С. Яковлева и укажите, к какому году он относ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Сравнение отечественной авиации с немецкой было в нашу пользу. Созданные советскими конструкторами истребители быстроходнее и маневреннее немецких. Ильюшинский штурмовик уникален. Но огорчались мы тем, что на вооружении нашей авиации новых машин находилось немного: процесс их серийного производства только развертывался… В Военно-Воздушных силах подавляющее большинство боевых самолетов было старых марок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) 1918 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) 1940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) 1933 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) 1945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 flipH="1">
            <a:off x="5435640" y="5013360"/>
            <a:ext cx="758880" cy="270000"/>
          </a:xfrm>
          <a:custGeom>
            <a:avLst/>
            <a:gdLst>
              <a:gd name="textAreaLeft" fmla="*/ 360 w 758880"/>
              <a:gd name="textAreaRight" fmla="*/ 759600 w 7588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Прочтите отрывок из воспоминаний Н.С. Хрущева и напишите порядковый номер партийного съезда, о котором идет реч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В 1934 г. собрался __________ съезд партии – «Съезд победителей». Никакой оппозиции уже не было ни в партии, ни на съезде. Это был первый съезд после смерти Ленина, где не было оппозиции… В то время начались пятилетки, дела пошли хорошо и все увлекались хозяйственной работой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987640" y="6093000"/>
            <a:ext cx="2952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надц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Прочтите фрагмент из книги писателя К.М. Симонова «Глазами человека моего поколения» и назовите пропущенную в тексте фамилию руководителя, о котором говорит авто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чевидно, ____________ с какого-то момента устраивало, чтобы все происшедшее в предыдущие годы связывалось поначалу с Ягодой, а потом главным образом с его преемником Ежовым. Его устраивало, что все это прикреплялось к слову «ежовщина»… Итак, в нашем сознании ___________ исправлял ошибки, совершенные до этого Ежовым и другими, всеми теми, кто наломал дров. Для исправления этих ошибок назначен был Берия… Сметая все на пути индустриализации, __________ проводил ее железной рукой. Он мало говорил, много делал, много встречался по делам с людьми, редко давал интервью, редко выступал и достиг того, что каждое его слово взвешивалось и ценилось не только у нас, но и во всем мир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203640" y="6237360"/>
            <a:ext cx="31701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8. Прочтите фрагмент из книги работника НКВД А.Орлова и назовите фамилию писателя, о котором идет реч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Как и было обещано, он получил возможность проводить осень и зиму в Италии и выезжал туда каждый год (с 1929 по 1933). Его сопровождали два советских врача, наблюдавшие за состоянием его здоровья во время этих поездок. Вместе с заботой о материальном благополучии __________ Сталин поручил Ягоде его «перевоспитание». Надо было убедить старого писателя, что Сталин строит социализм и делает все, что в его силах для подъема жизненного уровня трудящихся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411280" y="5877000"/>
            <a:ext cx="460872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Прочтите отрывки из книги французского писателя, посетившего СССР в 1936 г., и назовите общественные учреждения, о которых говорится в отрыв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_____________, где они собираются после работы по вечерам,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их несомненное достижение. И среди прочих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_____________ Москвы. Я часто туда ходил. Это место для развлечений, нечто вроде огромного «Луна-парка»… Здесь затеваются игры, чуть дальше – танцы. Обычно всем руководит затейник или затейница, и везде порядок… Дальше – народные песни и танцы, чаще всего под обычный аккордеон… Большие площадки отведены для волейбола… Для совсем маленьких тоже отведено место, там построены игрушечные дома, поезда, пароходы, детские автомобили… я уже не говорю о большом зеленом театре, где на иные спектакли собирается до двадцати тысяч зрител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411280" y="6093000"/>
            <a:ext cx="460872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ки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0. Прочтите отрывок из книги историка Э.Х. Карра и напишите название международной организации, о которой в нем говори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самым важным для советской дипломатии в то время было участие в международной жизни в Женеве. До этого отношения Советов с __________ ограничивалось слабой связью с ее организацией по здравоохранению. __________ всегда осуждалась в Москве, как неотъемлемая часть и детище грабительского Версальского мира, заключенного в 1919 г., и как ширма для военных приготовлений входящих в нее стран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411280" y="6093000"/>
            <a:ext cx="460872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га 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1. Прочтите отрывок из исторического очерка и напишите название страны, которой СССР оказывал такую помощь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та помощь была двоякого рода: посылка высших командиров и командиров менее высокого ранга; поставки самой разнообразной тех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касается военных специалистов, то они начали прибывать… организованными группами в середине октября, проехав транзитом по чужим паспортам через французскую территорию либо морским путем на советских транспортах… До середины октября 1936 г. только небольшие группы добровольцев, асов бомбардировочной и истребительной авиации, получили разрешение отправиться в республиканскую зону в индивидуальном порядке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19640" y="6093000"/>
            <a:ext cx="302400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2. Прочтите отрывок из «Заявления советского и Германского правительства» (1939 г.) и назовите месяц, когда был подписан упоминаемый в заявлении договор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осле того, как Германское правительство и Правительство СССР подписанным сегодня договором окончательно урегулировали вопросы, возникшие в результате распада Польского государства и тем самым создали прочный фундамент для длительного мира в Восточной Европе, они в обоюдном согласии выражают мнение, что ликвидация настоящей войны между Германией, с одной стороны, и Англией и Францией, с другой стороны, отвечала бы интересам всех народов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419640" y="6093000"/>
            <a:ext cx="302400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4. СССР являлся членом Лиги Наций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4-193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-1940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33-194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34-193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500720" y="4149720"/>
            <a:ext cx="1584000" cy="701640"/>
          </a:xfrm>
          <a:prstGeom prst="leftArrow">
            <a:avLst>
              <a:gd name="adj1" fmla="val 49778"/>
              <a:gd name="adj2" fmla="val 7550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Какие из названных дат связаны с подписанием договоров между Советской Россией, СССР и Германи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3 марта 19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8 марта 19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6 апреля 19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16 ноября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16 мая 193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23 августа 193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780000" y="3105000"/>
            <a:ext cx="208908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995640" y="4113360"/>
            <a:ext cx="244944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говор в Рапал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851280" y="3645000"/>
            <a:ext cx="244944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нштад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067280" y="4653000"/>
            <a:ext cx="244944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СР –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635280" y="5157720"/>
            <a:ext cx="266544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СР – Чехословак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067280" y="5661000"/>
            <a:ext cx="244944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кт о ненапа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становите соответствие между событиями и дат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ысылка Троцк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март 192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ССС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екабрь 192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мерть Лен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январь 192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Х съезд РКП(б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январь 192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 к нэ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декабрь 193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бразование 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3635280" y="3068640"/>
            <a:ext cx="1513080" cy="1297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067280" y="393372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V="1">
            <a:off x="4067280" y="3068280"/>
            <a:ext cx="1081080" cy="1368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4211640" y="3428640"/>
            <a:ext cx="936720" cy="18716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акая республика подписала в 1922 г. наряду с Россией, Белоруссией, Закавказской Федерацией, Договор и Декларацию об образовании ССС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ке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132000" y="4869000"/>
            <a:ext cx="1441440" cy="287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 1922 г. после судебного процесса была запрещена деятельность парт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рх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д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ябр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43280" y="3573360"/>
            <a:ext cx="194472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0:17:18Z</dcterms:created>
  <dc:creator>Свечников С.К.</dc:creator>
  <dc:description/>
  <dc:language>en-US</dc:language>
  <cp:lastModifiedBy>1</cp:lastModifiedBy>
  <dcterms:modified xsi:type="dcterms:W3CDTF">2008-04-09T05:25:15Z</dcterms:modified>
  <cp:revision>15</cp:revision>
  <dc:subject/>
  <dc:title>1920-1940 годы</dc:title>
</cp:coreProperties>
</file>