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E95-B007-4627-B159-96CBA57C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C72-682A-4875-AF18-BEAC3344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A50-2293-4781-88A1-47154CB2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961-1EC5-4D16-A6FA-A8BE06BC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4946-0329-4E1D-BAA1-5E338847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AB94-734A-4BFA-A23D-941BDA60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A4C3-D58C-495C-93D2-05212BF9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2BC0-1DF7-4AD5-951D-CB8F678E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9EB6-70C4-4809-9198-7CE22CEF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BAD8-7B5B-4CA7-8544-E6798EF4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13C3-2604-4AE2-BC93-340C420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5AD-122C-458A-B55C-8C84BBBD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176E-9482-4BB7-A2E0-20509B42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DE45-D0FA-4E15-BE93-0160F398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5EFD-F15B-4D7E-B566-128FEA4D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FD72-4A04-40F1-9827-9BB26251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1C4F-FDFC-47A3-80A2-AF6475FE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C47-C110-4CE1-A11E-131B71B7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ACB-D4F9-4CC5-9FA1-8B94921E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93E-DEFC-4429-8416-233928BA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7E6-6E44-4D5C-AD67-AC760570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A5C-D758-4DD8-BCE7-1E05B426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B64-1FF2-4A9E-B054-9800102D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64C-C88C-48FD-AFD7-BFD32E4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E914-B14B-4523-B44D-62137C9BB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E7D-7A4A-490B-9778-A0390159128D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ashvest.ru/photos/19.12.2008/n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optima-polyclinic.ru/img/1491935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404640"/>
            <a:ext cx="785808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Verdana"/>
              </a:rPr>
              <a:t>Добро и зло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500440" y="4947480"/>
            <a:ext cx="157140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72" name="Object 9"/>
          <p:cNvGraphicFramePr/>
          <p:nvPr/>
        </p:nvGraphicFramePr>
        <p:xfrm>
          <a:off x="3357720" y="928800"/>
          <a:ext cx="5429160" cy="52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928800"/>
                    <a:ext cx="542916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143160" y="928800"/>
            <a:ext cx="4143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Люди Земли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Мыслите, Думайте и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ворите Добро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7" descr="1191269027_c4112"/>
          <p:cNvPicPr/>
          <p:nvPr/>
        </p:nvPicPr>
        <p:blipFill>
          <a:blip r:embed="rId1"/>
          <a:stretch/>
        </p:blipFill>
        <p:spPr>
          <a:xfrm>
            <a:off x="214200" y="285840"/>
            <a:ext cx="2714760" cy="3500280"/>
          </a:xfrm>
          <a:prstGeom prst="rect">
            <a:avLst/>
          </a:prstGeom>
          <a:ln w="0">
            <a:noFill/>
          </a:ln>
        </p:spPr>
      </p:pic>
      <p:pic>
        <p:nvPicPr>
          <p:cNvPr id="196" name="Содержимое 5" descr="44877141_1244476357_12662716_11660175_169973561_c0444406441"/>
          <p:cNvPicPr/>
          <p:nvPr/>
        </p:nvPicPr>
        <p:blipFill>
          <a:blip r:embed="rId2"/>
          <a:stretch/>
        </p:blipFill>
        <p:spPr>
          <a:xfrm>
            <a:off x="4572000" y="3214800"/>
            <a:ext cx="3929040" cy="33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Правила добро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Помогать слабым, маленьким, больным, попавшим в бед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 </a:t>
            </a: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Прощать ошибки други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Не жаднича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Делиться последним с другом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Защищать слабого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Не груби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59148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Добро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обро-высшая нравственная ценность, которая относится к человеческой деятельности, образец поступков людей и отношений между ними.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К. Сухомлинск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9" descr="C:\Documents and Settings\Администратор\Рабочий стол\sun.jpg"/>
          <p:cNvPicPr/>
          <p:nvPr/>
        </p:nvPicPr>
        <p:blipFill>
          <a:blip r:embed="rId1"/>
          <a:stretch/>
        </p:blipFill>
        <p:spPr>
          <a:xfrm>
            <a:off x="6012000" y="476280"/>
            <a:ext cx="285732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л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ло – противоположность добра, это то, что мораль стремиться исправи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ло – антиценность, т.е. нечто несовместимое с нравственным поведение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. Пришви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5" descr="i?id=214093709-06"/>
          <p:cNvPicPr/>
          <p:nvPr/>
        </p:nvPicPr>
        <p:blipFill>
          <a:blip r:embed="rId1"/>
          <a:stretch/>
        </p:blipFill>
        <p:spPr>
          <a:xfrm>
            <a:off x="4211640" y="2060640"/>
            <a:ext cx="44956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Добро и зло – главные моральные понятия в жизни люде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7" descr="d3ef2eb30713"/>
          <p:cNvPicPr/>
          <p:nvPr/>
        </p:nvPicPr>
        <p:blipFill>
          <a:blip r:embed="rId1"/>
          <a:stretch/>
        </p:blipFill>
        <p:spPr>
          <a:xfrm>
            <a:off x="1476360" y="2043000"/>
            <a:ext cx="6191280" cy="4633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403848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обрые поступки направлены на преодоление разобщенности между людьм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i-main-pic" descr="Картинка 14 из 1056"/>
          <p:cNvPicPr/>
          <p:nvPr/>
        </p:nvPicPr>
        <p:blipFill>
          <a:blip r:embed="rId1"/>
          <a:stretch/>
        </p:blipFill>
        <p:spPr>
          <a:xfrm>
            <a:off x="5000760" y="1557360"/>
            <a:ext cx="3757320" cy="4079880"/>
          </a:xfrm>
          <a:prstGeom prst="rect">
            <a:avLst/>
          </a:prstGeom>
          <a:ln w="9360">
            <a:solidFill>
              <a:srgbClr val="f2dff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6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Зло разрушает отношения между людьми, препятствует развитию человеческих способностей. Злые поступки приносят беды и страдания людя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Картинка 113 из 1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933480"/>
            <a:ext cx="3744720" cy="2484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Картинка 4 из 9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00720" y="378936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497844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обрые поступки совершаются свободно, сознательно, бескорыстно. А не с расчетом на выгоду или наград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826920" y="406728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Мы делаем добро, когда добиваемся чего-то на благо общества, во имя чего-то большего, чем интересы отдельного человека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Рисунок 2" descr="http://www.waliks.narod.ru/smile/1_4mok.GIF"/>
          <p:cNvPicPr/>
          <p:nvPr/>
        </p:nvPicPr>
        <p:blipFill>
          <a:blip r:embed="rId1"/>
          <a:stretch/>
        </p:blipFill>
        <p:spPr>
          <a:xfrm>
            <a:off x="5508720" y="1446120"/>
            <a:ext cx="3635280" cy="205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9280" y="5084280"/>
            <a:ext cx="83581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обро – это человеколюбие, готовность к взаимопониманию и уважени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4" descr="Family_artpl_ru%20(10)"/>
          <p:cNvPicPr/>
          <p:nvPr/>
        </p:nvPicPr>
        <p:blipFill>
          <a:blip r:embed="rId1"/>
          <a:stretch/>
        </p:blipFill>
        <p:spPr>
          <a:xfrm>
            <a:off x="1547640" y="368280"/>
            <a:ext cx="5832720" cy="437508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p:transition>
    <p:split dir="in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00000" y="476280"/>
            <a:ext cx="756144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обрые дела помогают развиваться самому человеку и окружающим его людя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i-main-pic" descr="Картинка 68 из 1596778"/>
          <p:cNvPicPr/>
          <p:nvPr/>
        </p:nvPicPr>
        <p:blipFill>
          <a:blip r:embed="rId1"/>
          <a:stretch/>
        </p:blipFill>
        <p:spPr>
          <a:xfrm>
            <a:off x="1763640" y="2349360"/>
            <a:ext cx="5915160" cy="443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5:32:57Z</dcterms:created>
  <dc:creator>111</dc:creator>
  <dc:description/>
  <dc:language>en-US</dc:language>
  <cp:lastModifiedBy>Дом</cp:lastModifiedBy>
  <dcterms:modified xsi:type="dcterms:W3CDTF">2015-02-25T14:35:04Z</dcterms:modified>
  <cp:revision>18</cp:revision>
  <dc:subject/>
  <dc:title>Добро и зло</dc:title>
</cp:coreProperties>
</file>