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872-85F2-4B5E-9843-59510D7F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8BD-9CA7-4F4A-AB2F-2B3C0AAA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B04-9FD8-4BDB-8198-6FEE189F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04A-881B-460B-98FD-DC521ACA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BD988-4BB1-46A8-9931-C98F2496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ACD96-85FB-40AB-8044-520FA368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EF99D-5428-490F-9C6E-424F53B9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F3A00-0753-4FC2-811D-58D21FA7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95E38-F645-4609-BD47-909DEFE1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DB95F-D039-4FFF-89C1-8263C562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C2E48-3251-488B-9C46-9714CF9B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0F8-0585-4EA8-9558-43E119D2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1A46B-BAB2-4B3E-9CED-0C21B843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D4BE6-9254-48BE-9FD1-0CE6A6C5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7E841-C233-41B2-9840-897F7ABE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BC3C2-B685-498C-921A-0A1675A9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7B1D2-E705-451E-A681-84911F03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D6C7-E882-4088-884C-2A715AF2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5846E-0937-4F2E-BCE3-0314C4BB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16AE6-C7CC-41C1-BD70-89D3BB2D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90D10-68E8-4F6E-A5E6-0E4752B3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A1D57-09CE-4603-B1BB-AF529E0D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E804-7983-499F-B6C0-8B590222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A6657-8D92-4DA8-BD85-9D7D8A6A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FF6A3-885B-4CB1-B376-B63C7293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1CC42-384F-4FBF-A1DF-98620026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AA09B-958B-4AFC-83D5-3BE0BCAA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68105-9CB7-4712-BC50-38F73AA6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706C-ED95-4A7D-A14B-4C318894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2F4C4-8E33-4583-8E25-7CA2A003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6CF9E9-E095-4052-8B0C-04EB4EEF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BFC336-29DB-4F7D-BE5B-7174747A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BEEA37-9B37-4AE5-862B-FA800582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500-270F-477A-B616-68EFE538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24D158-91F5-4D83-B0FD-F3ABC023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15F67E-E32A-4A9D-9908-1D5C8E80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1B7DC4-8FB1-4292-883B-6A0CF2E0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5A3750-2B3E-4B41-A9D5-9B2467AC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F6861F-65A8-465D-AB3E-17FE3566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EC5405-48B3-404D-BF89-CA170CA5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360226-86D6-4F9B-B015-E0FA15AE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23FBA5-59C1-4ECF-AF5E-C9870B4E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B1A8C4-9144-440B-A187-3961D1FA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5AB-46C3-47CC-8C14-F422F456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3DBE-CBB3-4FA1-A437-1D46520B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DA5-A59A-473C-9495-EFF3761B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921-AD6A-471B-96B1-DEF86583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C59-9A3F-48B3-A8F8-4E629EB9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62A5-C1BC-4C35-B47D-F86B9E52D0D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1630-2101-46EA-A807-880E96F6099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4BB9-3557-4614-B044-8209365B14C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4E2A-2E9C-4DD9-B7D2-ED5ABC5A9A1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3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9084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7" descr="342256_obezyana_detyonysh_orangutan_1920x1080_(www.GdeFon.ru).jpg"/>
          <p:cNvPicPr/>
          <p:nvPr/>
        </p:nvPicPr>
        <p:blipFill>
          <a:blip r:embed="rId2"/>
          <a:stretch/>
        </p:blipFill>
        <p:spPr>
          <a:xfrm>
            <a:off x="214200" y="1523880"/>
            <a:ext cx="86439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 giraffes  /  eat  leaves  from  tre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 crocodile  / hunt  animal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Содержимое 4" descr="desktopwallpapers.org.ua-4879.jpg"/>
          <p:cNvPicPr/>
          <p:nvPr/>
        </p:nvPicPr>
        <p:blipFill>
          <a:blip r:embed="rId2"/>
          <a:stretch/>
        </p:blipFill>
        <p:spPr>
          <a:xfrm>
            <a:off x="4857840" y="1571760"/>
            <a:ext cx="3000240" cy="22143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animals_740-320x480.jpg"/>
          <p:cNvPicPr/>
          <p:nvPr/>
        </p:nvPicPr>
        <p:blipFill>
          <a:blip r:embed="rId3"/>
          <a:stretch/>
        </p:blipFill>
        <p:spPr>
          <a:xfrm>
            <a:off x="4929120" y="4071960"/>
            <a:ext cx="2928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4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 hippo  /  swim  in  the  rive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 pinguines  /  go  for  a  walk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Содержимое 7" descr="funny-animals-003.jpg"/>
          <p:cNvPicPr/>
          <p:nvPr/>
        </p:nvPicPr>
        <p:blipFill>
          <a:blip r:embed="rId2"/>
          <a:stretch/>
        </p:blipFill>
        <p:spPr>
          <a:xfrm>
            <a:off x="5000760" y="1714680"/>
            <a:ext cx="3071520" cy="228600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8" descr="75625485_large_18.jpg"/>
          <p:cNvPicPr/>
          <p:nvPr/>
        </p:nvPicPr>
        <p:blipFill>
          <a:blip r:embed="rId3"/>
          <a:stretch/>
        </p:blipFill>
        <p:spPr>
          <a:xfrm>
            <a:off x="5000760" y="4286160"/>
            <a:ext cx="30715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Содержимое 3" descr="0_5fe0e_85f933a0_XL.jpeg"/>
          <p:cNvPicPr/>
          <p:nvPr/>
        </p:nvPicPr>
        <p:blipFill>
          <a:blip r:embed="rId1"/>
          <a:stretch/>
        </p:blipFill>
        <p:spPr>
          <a:xfrm>
            <a:off x="6357960" y="164304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73" name="Заголовок 2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548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0_297e7_dc56633c_XL.jpeg"/>
          <p:cNvPicPr/>
          <p:nvPr/>
        </p:nvPicPr>
        <p:blipFill>
          <a:blip r:embed="rId3"/>
          <a:stretch/>
        </p:blipFill>
        <p:spPr>
          <a:xfrm>
            <a:off x="500040" y="1643040"/>
            <a:ext cx="2143080" cy="22147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5" descr="1e9e5b7837b3e5c54d50b21d41e_prev.jpg"/>
          <p:cNvPicPr/>
          <p:nvPr/>
        </p:nvPicPr>
        <p:blipFill>
          <a:blip r:embed="rId4"/>
          <a:stretch/>
        </p:blipFill>
        <p:spPr>
          <a:xfrm>
            <a:off x="6357960" y="4214880"/>
            <a:ext cx="2214720" cy="21430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7" descr="181016_388214.jpg"/>
          <p:cNvPicPr/>
          <p:nvPr/>
        </p:nvPicPr>
        <p:blipFill>
          <a:blip r:embed="rId5"/>
          <a:stretch/>
        </p:blipFill>
        <p:spPr>
          <a:xfrm>
            <a:off x="3071880" y="421488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8" descr="0_6476c_4158e17d_XL.jpeg"/>
          <p:cNvPicPr/>
          <p:nvPr/>
        </p:nvPicPr>
        <p:blipFill>
          <a:blip r:embed="rId6"/>
          <a:stretch/>
        </p:blipFill>
        <p:spPr>
          <a:xfrm>
            <a:off x="500040" y="4214880"/>
            <a:ext cx="2214720" cy="21430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9" descr="9682243_0004.jpg"/>
          <p:cNvPicPr/>
          <p:nvPr/>
        </p:nvPicPr>
        <p:blipFill>
          <a:blip r:embed="rId7"/>
          <a:stretch/>
        </p:blipFill>
        <p:spPr>
          <a:xfrm>
            <a:off x="3000240" y="1643040"/>
            <a:ext cx="30006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4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647960" y="1571400"/>
            <a:ext cx="40590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 is  a  wild  anima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 is  green  or  light  brow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 has  got  a  long  body  and  tail, small  eyes  and  leg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 can  swim  well  and  run  very  fas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Содержимое 9" descr="0_89460_973726e6_XL.jpeg"/>
          <p:cNvPicPr/>
          <p:nvPr/>
        </p:nvPicPr>
        <p:blipFill>
          <a:blip r:embed="rId2"/>
          <a:stretch/>
        </p:blipFill>
        <p:spPr>
          <a:xfrm>
            <a:off x="457200" y="1571760"/>
            <a:ext cx="40593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48000"/>
          </a:xfrm>
          <a:prstGeom prst="rect">
            <a:avLst/>
          </a:prstGeom>
          <a:ln w="0">
            <a:noFill/>
          </a:ln>
        </p:spPr>
      </p:pic>
      <p:pic>
        <p:nvPicPr>
          <p:cNvPr id="183" name="Содержимое 4" descr="0_66b5_a4cdc605_XL.jpeg"/>
          <p:cNvPicPr/>
          <p:nvPr/>
        </p:nvPicPr>
        <p:blipFill>
          <a:blip r:embed="rId2"/>
          <a:stretch/>
        </p:blipFill>
        <p:spPr>
          <a:xfrm>
            <a:off x="285840" y="1571760"/>
            <a:ext cx="4230720" cy="4500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 is  a  wild  anima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 is  brown, grey  or  black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 has  got  long  legs, tail  and  arms, small  eyes, nose  and  mouth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 can  climb  and  make  people  laugh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4800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4" descr="1329666239_smeshnye-foto-zhivotnyh-besplatno-10.jpg"/>
          <p:cNvPicPr/>
          <p:nvPr/>
        </p:nvPicPr>
        <p:blipFill>
          <a:blip r:embed="rId2"/>
          <a:stretch/>
        </p:blipFill>
        <p:spPr>
          <a:xfrm>
            <a:off x="142920" y="1785960"/>
            <a:ext cx="4357800" cy="4000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786200" y="1523880"/>
            <a:ext cx="392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 is  a  wild  anima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 is  brown  or  gre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 has  got  a  big  body  and  mouth, small  legs, ears  and  ey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 can  walk, swim  and  eat  vegetables  and  gras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4800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4" descr="x_d5793968.jpg"/>
          <p:cNvPicPr/>
          <p:nvPr/>
        </p:nvPicPr>
        <p:blipFill>
          <a:blip r:embed="rId2"/>
          <a:stretch/>
        </p:blipFill>
        <p:spPr>
          <a:xfrm>
            <a:off x="285840" y="1571760"/>
            <a:ext cx="4230720" cy="4500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y  are  domestic  animal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y  are  white, brown, red  and  black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y  have  got  soft  fur, legs, a  tail, ears, eyes, a  nose  and  mouth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y  are  people`s  frien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4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 is  a   …        (animal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 is   …            (colour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 has  got   …  (body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  …   can   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Содержимое 4" descr="image.jpg"/>
          <p:cNvPicPr/>
          <p:nvPr/>
        </p:nvPicPr>
        <p:blipFill>
          <a:blip r:embed="rId2"/>
          <a:stretch/>
        </p:blipFill>
        <p:spPr>
          <a:xfrm>
            <a:off x="5286240" y="1714680"/>
            <a:ext cx="2857680" cy="207144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5" descr="animals05.jpg"/>
          <p:cNvPicPr/>
          <p:nvPr/>
        </p:nvPicPr>
        <p:blipFill>
          <a:blip r:embed="rId3"/>
          <a:stretch/>
        </p:blipFill>
        <p:spPr>
          <a:xfrm>
            <a:off x="5286240" y="4214880"/>
            <a:ext cx="29289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4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 is  a  …          (animal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 is   …             (colour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 has  got   …   (body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  …   can   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Содержимое 4" descr="Animals_Under_water_Humpbacked_whale_027072_.jpg"/>
          <p:cNvPicPr/>
          <p:nvPr/>
        </p:nvPicPr>
        <p:blipFill>
          <a:blip r:embed="rId2"/>
          <a:stretch/>
        </p:blipFill>
        <p:spPr>
          <a:xfrm>
            <a:off x="5143680" y="1714680"/>
            <a:ext cx="2857320" cy="20714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6" descr="087.jpg"/>
          <p:cNvPicPr/>
          <p:nvPr/>
        </p:nvPicPr>
        <p:blipFill>
          <a:blip r:embed="rId3"/>
          <a:stretch/>
        </p:blipFill>
        <p:spPr>
          <a:xfrm>
            <a:off x="5143680" y="4143240"/>
            <a:ext cx="28573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nkeys /  make   people  laugh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lephants  /  drink  wate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Содержимое 4" descr="bald-monkey.gif"/>
          <p:cNvPicPr/>
          <p:nvPr/>
        </p:nvPicPr>
        <p:blipFill>
          <a:blip r:embed="rId2"/>
          <a:stretch/>
        </p:blipFill>
        <p:spPr>
          <a:xfrm>
            <a:off x="4929120" y="1643040"/>
            <a:ext cx="3214800" cy="214308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6" descr="4ef82d82ceb2b.jpg"/>
          <p:cNvPicPr/>
          <p:nvPr/>
        </p:nvPicPr>
        <p:blipFill>
          <a:blip r:embed="rId3"/>
          <a:stretch/>
        </p:blipFill>
        <p:spPr>
          <a:xfrm>
            <a:off x="4929120" y="4143240"/>
            <a:ext cx="321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2:26:15Z</dcterms:created>
  <dc:creator>7</dc:creator>
  <dc:description/>
  <dc:language>en-US</dc:language>
  <cp:lastModifiedBy>Home -PC</cp:lastModifiedBy>
  <dcterms:modified xsi:type="dcterms:W3CDTF">2018-01-04T17:38:53Z</dcterms:modified>
  <cp:revision>10</cp:revision>
  <dc:subject/>
  <dc:title>Amazing  creatures</dc:title>
</cp:coreProperties>
</file>