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2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BC1-BE87-4E41-AD05-D60760AD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38C-C138-414B-909A-B155057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297-7AD5-498E-A7F1-92610E63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626-DC1E-4B7C-8934-303B73D2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9A78B-C24B-4F28-A12B-44EE1B95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4DEF-A031-4E93-A4D5-8247D68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BBC4A-0A9F-4C75-B623-C53643C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02327-7987-4B97-AF65-C7EA8A8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E7BE-CEF1-4E7A-A7AD-E929A08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0511-F007-4680-9043-63F6C2C2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48EF1-C3B4-4ACB-B91B-3136B61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C37-CAE7-4B4B-8738-E27EA23E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57D80-F80C-4658-BD53-3F21F23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F292C-A50F-4FE2-8D66-76F52EF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5EED-DCC6-4FDB-B25C-2663398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05D67-C29D-465E-A66D-DB26C2C7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5FE3-9199-43C5-84C6-CD070385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B289-6FB3-440A-A3F1-3780DA73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4124-C402-4EFC-92B9-60EF76D9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5DF6-A611-4C7B-BD5D-7C381E8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FB04-14C7-4A9E-9539-D23FA3AE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8D58-DC0A-4D80-9D7A-6D1892FF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1D2-F14E-4DEF-A489-4A83C4C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7DF9-2EC3-4BB5-8814-B2F3F917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178D-9571-4E29-A36B-4B2B6A2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80E9-DDB3-44DC-8488-4F63F5F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0FAD-8F5C-4A78-A112-8BEBE33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2183-148E-482C-9738-B64986BE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3E0A-5FD8-4C84-8EA2-B1EB522F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765E-ABF2-42A7-AA99-8918B5BC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308C3-6A56-4F7D-9783-A589DE3D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D9B1F-AC8C-48CF-96FD-C1B3F99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73F82-422D-476D-AC43-6273C348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542-D2E4-4871-AC0B-87073E6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4C36E-A65B-48B2-803A-6938AFA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6FD07-BCBD-4A50-B95A-0CD55B90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E141B-1D9E-4BE3-B1D6-C58EB67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B79C3-44AC-43BD-8C6F-395F3C0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1D813-FBD0-4B1F-8797-C3B9BBA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738D8-A770-44CA-87C2-2FF51A5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28672-3DD4-4E80-B87A-5F5803B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7ECDC-9FBA-4992-B5A1-028132E1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D45DA-DAAF-47A1-91C0-F461B162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FAE-D213-408C-A334-CF4CDF1C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F33-1A9D-4F1D-8E71-07137384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D38-C5AB-4448-B771-D769A8F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22D-BF8D-4BC1-AC51-B2F77A5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FE9-4DCB-45A6-968F-ADA17E2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B87-CE31-4793-A73F-DC3F2003880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7FA-0B73-401A-8812-5342E35968D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586-5D4F-4E96-A09F-EB377DA1F91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EF41-DD7D-4F9B-AFD9-873BC47030B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3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510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560" y="1523880"/>
            <a:ext cx="843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0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English  into  Russia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in  front  of  the  des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on  the  sof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behind   the   window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in  the  fridg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under  the  chai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in  the  pencil-ca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next  to  the  boo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in  front  of  the  cook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 Russian  into  English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  пли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  шкафчике  с  полка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еред   машин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д   кроватью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коло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ьюте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   школ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ядом  с  апельсин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   кухне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59084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4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672000" cy="381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 is  a  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are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n`t 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 aren`t   any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59084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 is  a  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are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n`t 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 aren`t   any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553600" cy="1590840"/>
          </a:xfrm>
          <a:prstGeom prst="rect">
            <a:avLst/>
          </a:prstGeom>
          <a:ln w="0">
            <a:noFill/>
          </a:ln>
        </p:spPr>
      </p:pic>
      <p:pic>
        <p:nvPicPr>
          <p:cNvPr id="231" name="Объект 4" descr=""/>
          <p:cNvPicPr/>
          <p:nvPr/>
        </p:nvPicPr>
        <p:blipFill>
          <a:blip r:embed="rId2"/>
          <a:stretch/>
        </p:blipFill>
        <p:spPr>
          <a:xfrm>
            <a:off x="457200" y="2403360"/>
            <a:ext cx="4059360" cy="2813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 is  a  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are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isn`t   a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  aren`t   any   …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5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iving  room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bathroo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bedroo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 hou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kitche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) garde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0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"/>
          <p:cNvPicPr/>
          <p:nvPr/>
        </p:nvPicPr>
        <p:blipFill>
          <a:blip r:embed="rId2"/>
          <a:stretch/>
        </p:blipFill>
        <p:spPr>
          <a:xfrm>
            <a:off x="3303720" y="1755720"/>
            <a:ext cx="244764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"/>
          <p:cNvPicPr/>
          <p:nvPr/>
        </p:nvPicPr>
        <p:blipFill>
          <a:blip r:embed="rId3"/>
          <a:stretch/>
        </p:blipFill>
        <p:spPr>
          <a:xfrm>
            <a:off x="539640" y="5067360"/>
            <a:ext cx="2376720" cy="14414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"/>
          <p:cNvPicPr/>
          <p:nvPr/>
        </p:nvPicPr>
        <p:blipFill>
          <a:blip r:embed="rId4"/>
          <a:stretch/>
        </p:blipFill>
        <p:spPr>
          <a:xfrm>
            <a:off x="3375000" y="5067360"/>
            <a:ext cx="2376360" cy="14414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5"/>
          <a:stretch/>
        </p:blipFill>
        <p:spPr>
          <a:xfrm>
            <a:off x="6156360" y="1700280"/>
            <a:ext cx="2448000" cy="16398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6"/>
          <a:stretch/>
        </p:blipFill>
        <p:spPr>
          <a:xfrm>
            <a:off x="6156360" y="5091120"/>
            <a:ext cx="24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7" descr=""/>
          <p:cNvPicPr/>
          <p:nvPr/>
        </p:nvPicPr>
        <p:blipFill>
          <a:blip r:embed="rId7"/>
          <a:stretch/>
        </p:blipFill>
        <p:spPr>
          <a:xfrm>
            <a:off x="4788000" y="3573360"/>
            <a:ext cx="2376360" cy="1279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3449880" y="1876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  <a:ea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6347520" y="18763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  <a:ea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4918680" y="374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69408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  <a:ea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3449520" y="52293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  <a:ea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6324480" y="52293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Объект 1" descr=""/>
          <p:cNvPicPr/>
          <p:nvPr/>
        </p:nvPicPr>
        <p:blipFill>
          <a:blip r:embed="rId1"/>
          <a:stretch/>
        </p:blipFill>
        <p:spPr>
          <a:xfrm>
            <a:off x="6804000" y="1620720"/>
            <a:ext cx="2016000" cy="159228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"/>
          <p:cNvPicPr/>
          <p:nvPr/>
        </p:nvPicPr>
        <p:blipFill>
          <a:blip r:embed="rId3"/>
          <a:stretch/>
        </p:blipFill>
        <p:spPr>
          <a:xfrm>
            <a:off x="395280" y="1620720"/>
            <a:ext cx="2160720" cy="1592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"/>
          <p:cNvPicPr/>
          <p:nvPr/>
        </p:nvPicPr>
        <p:blipFill>
          <a:blip r:embed="rId4"/>
          <a:stretch/>
        </p:blipFill>
        <p:spPr>
          <a:xfrm>
            <a:off x="5076720" y="1620720"/>
            <a:ext cx="1440000" cy="1592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"/>
          <p:cNvPicPr/>
          <p:nvPr/>
        </p:nvPicPr>
        <p:blipFill>
          <a:blip r:embed="rId5"/>
          <a:stretch/>
        </p:blipFill>
        <p:spPr>
          <a:xfrm>
            <a:off x="2843280" y="1620720"/>
            <a:ext cx="1944720" cy="1592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406080" y="3816360"/>
            <a:ext cx="858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pboard, teddy  bear, fridge, chair, desk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oker, table, sofa, glass, mirror, bath, book, lamp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d, computer, radio, TV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…    is  in  the    …   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Объект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549360" y="4684680"/>
            <a:ext cx="346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cake  is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plat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5016240" y="4684680"/>
            <a:ext cx="371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  lot   of  flowers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e  …    the   garde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Объект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252108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29080" cy="2521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531000" y="4592520"/>
            <a:ext cx="33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box  is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ros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5017320" y="4592520"/>
            <a:ext cx="380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sofa   is 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table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808360" cy="237672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4103640" cy="23767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467280" y="4524480"/>
            <a:ext cx="387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house   is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tre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780800" y="452448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kitten    is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box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Объект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2908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519840" y="4734000"/>
            <a:ext cx="429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toys   are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children`s   room.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017320" y="4734000"/>
            <a:ext cx="407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house    is    …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garde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600360" cy="2737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539280" y="4643280"/>
            <a:ext cx="32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bed  is    …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window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946400" y="4813200"/>
            <a:ext cx="404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mirrors  are   …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  wall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4800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192560" cy="453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he   teddy  bear  is   …      the   b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he   boxes   are   …   the   b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he  chairs  are   …   the  tabl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he  glasses   are   …   the  tabl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 lamp  is   …   the   glass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2:19:04Z</dcterms:created>
  <dc:creator>Home -PC</dc:creator>
  <dc:description/>
  <dc:language>en-US</dc:language>
  <cp:lastModifiedBy>Home -PC</cp:lastModifiedBy>
  <dcterms:modified xsi:type="dcterms:W3CDTF">2013-11-19T16:45:21Z</dcterms:modified>
  <cp:revision>19</cp:revision>
  <dc:subject/>
  <dc:title>Презентация PowerPoint</dc:title>
</cp:coreProperties>
</file>