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E48-545A-4CDB-810B-6945A680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DB5-24E0-446A-9DD2-4E1C0576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52A-5D09-4FC9-A7B3-0F73536E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C93-3FDE-485B-ABF9-DD23D65A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07F9-2288-4FB8-A794-02738211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542-7206-4690-BC59-B736673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EAE4-1648-4E55-9DBE-D72D922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50E-50D6-47B2-9CDC-591C96A0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20A-3415-4B99-AAF3-9695938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4ACD-AE86-424B-A1D1-B387CDD4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A739-C05F-43BA-BC0C-C176FE30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739-DB46-4AB4-9653-DE4843E7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31FE-4BAC-4E21-8703-B5F0E5E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BAD6-276C-4271-9C81-1C6B15A9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DD20-FE4A-4F43-82DF-CBFCC756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EF8E-A52F-42D5-ADA1-73E7F9C8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995-D277-4C8B-B93B-596A93D6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9C4-6795-4E72-9496-3DD81E90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866-3C7E-489A-8841-75F54B0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84D-D1BB-464A-82AE-50DD9F0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903-2A74-4938-996E-6FA3AE6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C9D-76B9-434C-8020-F1EA7E46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437-2BA2-494F-8959-928F5A6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83A-4391-4923-9509-B0D55CAF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9ABF-B3B3-4758-9069-036D98D7CE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F3AB-DE40-41F8-83E7-0DE08F52E6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80;&#1092;&#1086;&#1085;&#1080;&#1103;" TargetMode="External"/><Relationship Id="rId2" Type="http://schemas.openxmlformats.org/officeDocument/2006/relationships/hyperlink" Target="http://ru.wikipedia.org/wiki/Ars_nova" TargetMode="External"/><Relationship Id="rId3" Type="http://schemas.openxmlformats.org/officeDocument/2006/relationships/hyperlink" Target="http://ru.wikipedia.org/wiki/&#1060;&#1088;&#1086;&#1090;&#1090;&#1086;&#1083;&#1072;" TargetMode="External"/><Relationship Id="rId4" Type="http://schemas.openxmlformats.org/officeDocument/2006/relationships/hyperlink" Target="http://ru.wikipedia.org/wiki/&#1042;&#1080;&#1083;&#1083;&#1072;&#1085;&#1077;&#1083;&#1083;&#1072;" TargetMode="External"/><Relationship Id="rId5" Type="http://schemas.openxmlformats.org/officeDocument/2006/relationships/hyperlink" Target="http://ru.wikipedia.org/wiki/&#1042;&#1080;&#1083;&#1100;&#1103;&#1085;&#1089;&#1080;&#1082;&#1086;" TargetMode="External"/><Relationship Id="rId6" Type="http://schemas.openxmlformats.org/officeDocument/2006/relationships/hyperlink" Target="http://ru.wikipedia.org/wiki/&#1041;&#1072;&#1083;&#1083;&#1072;&#1076;&#1072;" TargetMode="External"/><Relationship Id="rId7" Type="http://schemas.openxmlformats.org/officeDocument/2006/relationships/hyperlink" Target="http://ru.wikipedia.org/wiki/&#1052;&#1072;&#1076;&#1088;&#1080;&#1075;&#1072;&#1083;" TargetMode="External"/><Relationship Id="rId8" Type="http://schemas.openxmlformats.org/officeDocument/2006/relationships/hyperlink" Target="http://ru.wikipedia.org/wiki/&#1052;&#1072;&#1088;&#1077;&#1085;&#1094;&#1080;&#1086;,_&#1051;&#1091;&#1082;&#1072;" TargetMode="External"/><Relationship Id="rId9" Type="http://schemas.openxmlformats.org/officeDocument/2006/relationships/hyperlink" Target="http://ru.wikipedia.org/wiki/&#1040;&#1088;&#1082;&#1072;&#1076;&#1077;&#1083;&#1100;&#1090;,_&#1071;&#1082;&#1086;&#1073;" TargetMode="External"/><Relationship Id="rId10" Type="http://schemas.openxmlformats.org/officeDocument/2006/relationships/hyperlink" Target="http://ru.wikipedia.org/wiki/&#1044;&#1078;&#1077;&#1079;&#1091;&#1072;&#1083;&#1100;&#1076;&#1086;_&#1076;&#1072;_&#1042;&#1077;&#1085;&#1086;&#1079;&#1072;" TargetMode="External"/><Relationship Id="rId11" Type="http://schemas.openxmlformats.org/officeDocument/2006/relationships/hyperlink" Target="http://ru.wikipedia.org/wiki/&#1046;&#1072;&#1085;&#1077;&#1082;&#1077;&#1085;,_&#1050;&#1083;&#1077;&#1084;&#1072;&#1085;" TargetMode="External"/><Relationship Id="rId12" Type="http://schemas.openxmlformats.org/officeDocument/2006/relationships/hyperlink" Target="http://ru.wikipedia.org/wiki/&#1051;&#1077;&#1078;&#1105;&#1085;,_&#1050;&#1083;&#1086;&#1076;" TargetMode="External"/><Relationship Id="rId13" Type="http://schemas.openxmlformats.org/officeDocument/2006/relationships/hyperlink" Target="http://ru.wikipedia.org/wiki/&#1046;&#1086;&#1089;&#1082;&#1077;&#1085;_&#1044;&#1077;&#1087;&#1088;&#1077;" TargetMode="External"/><Relationship Id="rId14" Type="http://schemas.openxmlformats.org/officeDocument/2006/relationships/hyperlink" Target="http://ru.wikipedia.org/wiki/&#1054;&#1088;&#1083;&#1072;&#1085;&#1076;&#1086;_&#1076;&#1080;_&#1051;&#1072;&#1089;&#1089;&#1086;" TargetMode="External"/><Relationship Id="rId15" Type="http://schemas.openxmlformats.org/officeDocument/2006/relationships/hyperlink" Target="http://ru.wikipedia.org/wiki/&#1043;&#1072;&#1073;&#1088;&#1080;&#1101;&#1083;&#1080;,_&#1040;&#1085;&#1076;&#1088;&#1077;&#1072;" TargetMode="External"/><Relationship Id="rId16" Type="http://schemas.openxmlformats.org/officeDocument/2006/relationships/hyperlink" Target="http://ru.wikipedia.org/wiki/&#1043;&#1072;&#1073;&#1088;&#1080;&#1101;&#1083;&#1080;,_&#1040;&#1085;&#1076;&#1088;&#1077;&#1072;" TargetMode="External"/><Relationship Id="rId17" Type="http://schemas.openxmlformats.org/officeDocument/2006/relationships/hyperlink" Target="http://ru.wikipedia.org/wiki/&#1042;&#1080;&#1086;&#1083;&#1072;" TargetMode="External"/><Relationship Id="rId18" Type="http://schemas.openxmlformats.org/officeDocument/2006/relationships/hyperlink" Target="http://ru.wikipedia.org/wiki/&#1057;&#1082;&#1088;&#1080;&#1087;&#1082;&#1072;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V" TargetMode="External"/><Relationship Id="rId2" Type="http://schemas.openxmlformats.org/officeDocument/2006/relationships/hyperlink" Target="http://ru.wikipedia.org/wiki/XVI_&#1074;&#1077;&#1082;" TargetMode="External"/><Relationship Id="rId3" Type="http://schemas.openxmlformats.org/officeDocument/2006/relationships/hyperlink" Target="http://ru.wikipedia.org/wiki/&#1042;&#1077;&#1083;&#1080;&#1082;&#1080;&#1077;_&#1075;&#1077;&#1086;&#1075;&#1088;&#1072;&#1092;&#1080;&#1095;&#1077;&#1089;&#1082;&#1080;&#1077;_&#1086;&#1090;&#1082;&#1088;&#1099;&#1090;&#1080;&#1103;" TargetMode="External"/><Relationship Id="rId4" Type="http://schemas.openxmlformats.org/officeDocument/2006/relationships/hyperlink" Target="http://ru.wikipedia.org/wiki/&#1043;&#1077;&#1083;&#1080;&#1086;&#1094;&#1077;&#1085;&#1090;&#1088;&#1080;&#1095;&#1077;&#1089;&#1082;&#1072;&#1103;_&#1089;&#1080;&#1089;&#1090;&#1077;&#1084;&#1072;_&#1084;&#1080;&#1088;&#1072;" TargetMode="External"/><Relationship Id="rId5" Type="http://schemas.openxmlformats.org/officeDocument/2006/relationships/hyperlink" Target="http://ru.wikipedia.org/wiki/&#1050;&#1086;&#1087;&#1077;&#1088;&#1085;&#1080;&#1082;,_&#1053;&#1080;&#1082;&#1086;&#1083;&#1072;&#1081;" TargetMode="External"/><Relationship Id="rId6" Type="http://schemas.openxmlformats.org/officeDocument/2006/relationships/hyperlink" Target="http://ru.wikipedia.org/wiki/&#1047;&#1077;&#1084;&#1083;&#1103;" TargetMode="External"/><Relationship Id="rId7" Type="http://schemas.openxmlformats.org/officeDocument/2006/relationships/hyperlink" Target="http://ru.wikipedia.org/wiki/&#1042;&#1089;&#1077;&#1083;&#1077;&#1085;&#1085;&#1072;&#1103;" TargetMode="External"/><Relationship Id="rId8" Type="http://schemas.openxmlformats.org/officeDocument/2006/relationships/hyperlink" Target="http://ru.wikipedia.org/wiki/&#1055;&#1072;&#1088;&#1072;&#1094;&#1077;&#1083;&#1100;&#1089;" TargetMode="External"/><Relationship Id="rId9" Type="http://schemas.openxmlformats.org/officeDocument/2006/relationships/hyperlink" Target="http://ru.wikipedia.org/wiki/&#1042;&#1077;&#1079;&#1072;&#1083;&#1080;&#1081;,_&#1040;&#1085;&#1076;&#1088;&#1077;&#1072;&#1089;" TargetMode="External"/><Relationship Id="rId10" Type="http://schemas.openxmlformats.org/officeDocument/2006/relationships/hyperlink" Target="http://ru.wikipedia.org/wiki/&#1041;&#1086;&#1076;&#1077;&#1085;,_&#1046;&#1072;&#1085;" TargetMode="External"/><Relationship Id="rId11" Type="http://schemas.openxmlformats.org/officeDocument/2006/relationships/hyperlink" Target="http://ru.wikipedia.org/wiki/&#1052;&#1072;&#1082;&#1080;&#1072;&#1074;&#1077;&#1083;&#1083;&#1080;,_&#1053;&#1080;&#1082;&#1082;&#1086;&#1083;&#1086;" TargetMode="External"/><Relationship Id="rId12" Type="http://schemas.openxmlformats.org/officeDocument/2006/relationships/hyperlink" Target="http://ru.wikipedia.org/wiki/&#1052;&#1086;&#1088;,_&#1058;&#1086;&#1084;&#1072;&#1089;" TargetMode="External"/><Relationship Id="rId13" Type="http://schemas.openxmlformats.org/officeDocument/2006/relationships/hyperlink" Target="http://ru.wikipedia.org/wiki/&#1050;&#1072;&#1084;&#1087;&#1072;&#1085;&#1077;&#1083;&#1083;&#1072;,_&#1058;&#1086;&#1084;&#1084;&#1072;&#1079;&#1086;" TargetMode="External"/><Relationship Id="rId14" Type="http://schemas.openxmlformats.org/officeDocument/2006/relationships/hyperlink" Target="http://www.google.com/search?hl=en&amp;safe=off&amp;tbo=1&amp;tbs=bks%3A1&amp;q=%22Lost+texts+of+the+classics%22&amp;aq=f&amp;aqi=&amp;aql=&amp;oq=" TargetMode="External"/><Relationship Id="rId15" Type="http://schemas.openxmlformats.org/officeDocument/2006/relationships/hyperlink" Target="http://ru.wikipedia.org/wiki/&#1051;&#1072;&#1090;&#1080;&#1085;&#1089;&#1082;&#1080;&#1081;_&#1103;&#1079;&#1099;&#1082;" TargetMode="External"/><Relationship Id="rId16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17" Type="http://schemas.openxmlformats.org/officeDocument/2006/relationships/hyperlink" Target="http://ru.wikipedia.org/wiki/&#1053;&#1072;&#1091;&#1095;&#1085;&#1072;&#1103;_&#1088;&#1077;&#1074;&#1086;&#1083;&#1102;&#1094;&#1080;&#1103;" TargetMode="External"/><Relationship Id="rId18" Type="http://schemas.openxmlformats.org/officeDocument/2006/relationships/hyperlink" Target="http://ru.wikipedia.org/wiki/&#1056;&#1077;&#1092;&#1086;&#1088;&#1084;&#1072;&#1094;&#1080;&#1103;" TargetMode="Externa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83;&#1086;&#1089;&#1086;&#1092;&#1080;&#1103;_&#1042;&#1086;&#1079;&#1088;&#1086;&#1078;&#1076;&#1077;&#1085;&#1080;&#1103;" TargetMode="External"/><Relationship Id="rId2" Type="http://schemas.openxmlformats.org/officeDocument/2006/relationships/hyperlink" Target="http://ru.wikipedia.org/wiki/XV_&#1074;&#1077;&#1082;" TargetMode="External"/><Relationship Id="rId3" Type="http://schemas.openxmlformats.org/officeDocument/2006/relationships/hyperlink" Target="http://ru.wikipedia.org/wiki/1459" TargetMode="External"/><Relationship Id="rId4" Type="http://schemas.openxmlformats.org/officeDocument/2006/relationships/hyperlink" Target="http://ru.wikipedia.org/wiki/&#1060;&#1083;&#1086;&#1088;&#1077;&#1085;&#1094;&#1080;&#1103;" TargetMode="External"/><Relationship Id="rId5" Type="http://schemas.openxmlformats.org/officeDocument/2006/relationships/hyperlink" Target="http://ru.wikipedia.org/wiki/&#1055;&#1083;&#1072;&#1090;&#1086;&#1085;&#1086;&#1074;&#1089;&#1082;&#1072;&#1103;_&#1072;&#1082;&#1072;&#1076;&#1077;&#1084;&#1080;&#1103;_&#1074;_&#1050;&#1072;&#1088;&#1077;&#1076;&#1078;&#1080;" TargetMode="External"/><Relationship Id="rId6" Type="http://schemas.openxmlformats.org/officeDocument/2006/relationships/hyperlink" Target="http://ru.wikipedia.org/wiki/&#1040;&#1092;&#1080;&#1085;&#1089;&#1082;&#1072;&#1103;_&#1096;&#1082;&#1086;&#1083;&#1072;" TargetMode="External"/><Relationship Id="rId7" Type="http://schemas.openxmlformats.org/officeDocument/2006/relationships/hyperlink" Target="http://ru.wikipedia.org/wiki/&#1053;&#1080;&#1082;&#1086;&#1083;&#1072;&#1081;_&#1050;&#1091;&#1079;&#1072;&#1085;&#1089;&#1082;&#1080;&#1081;" TargetMode="External"/><Relationship Id="rId8" Type="http://schemas.openxmlformats.org/officeDocument/2006/relationships/hyperlink" Target="http://ru.wikipedia.org/wiki/&#1051;&#1077;&#1086;&#1085;&#1072;&#1088;&#1076;&#1086;_&#1041;&#1088;&#1091;&#1085;&#1080;" TargetMode="External"/><Relationship Id="rId9" Type="http://schemas.openxmlformats.org/officeDocument/2006/relationships/hyperlink" Target="http://ru.wikipedia.org/wiki/&#1052;&#1072;&#1088;&#1089;&#1080;&#1083;&#1080;&#1086;_&#1060;&#1080;&#1095;&#1080;&#1085;&#1086;" TargetMode="External"/><Relationship Id="rId10" Type="http://schemas.openxmlformats.org/officeDocument/2006/relationships/hyperlink" Target="http://ru.wikipedia.org/wiki/&#1053;&#1080;&#1082;&#1086;&#1083;&#1072;&#1081;_&#1050;&#1086;&#1087;&#1077;&#1088;&#1085;&#1080;&#1082;" TargetMode="External"/><Relationship Id="rId11" Type="http://schemas.openxmlformats.org/officeDocument/2006/relationships/hyperlink" Target="http://ru.wikipedia.org/wiki/&#1055;&#1080;&#1082;&#1086;_&#1076;&#1077;&#1083;&#1083;&#1072;_&#1052;&#1080;&#1088;&#1072;&#1085;&#1076;&#1086;&#1083;&#1072;" TargetMode="External"/><Relationship Id="rId12" Type="http://schemas.openxmlformats.org/officeDocument/2006/relationships/hyperlink" Target="http://ru.wikipedia.org/wiki/&#1051;&#1086;&#1088;&#1077;&#1085;&#1094;&#1086;_&#1042;&#1072;&#1083;&#1083;&#1072;" TargetMode="External"/><Relationship Id="rId13" Type="http://schemas.openxmlformats.org/officeDocument/2006/relationships/hyperlink" Target="http://ru.wikipedia.org/wiki/&#1052;&#1072;&#1085;&#1077;&#1090;&#1090;&#1080;" TargetMode="External"/><Relationship Id="rId14" Type="http://schemas.openxmlformats.org/officeDocument/2006/relationships/hyperlink" Target="http://ru.wikipedia.org/wiki/&#1055;&#1100;&#1077;&#1090;&#1088;&#1086;_&#1055;&#1086;&#1084;&#1087;&#1086;&#1085;&#1072;&#1094;&#1094;&#1080;" TargetMode="External"/><Relationship Id="rId15" Type="http://schemas.openxmlformats.org/officeDocument/2006/relationships/hyperlink" Target="http://ru.wikipedia.org/wiki/&#1046;&#1072;&#1085;_&#1041;&#1086;&#1076;&#1077;&#1085;" TargetMode="External"/><Relationship Id="rId16" Type="http://schemas.openxmlformats.org/officeDocument/2006/relationships/hyperlink" Target="http://ru.wikipedia.org/wiki/&#1052;&#1080;&#1096;&#1077;&#1083;&#1100;_&#1052;&#1086;&#1085;&#1090;&#1077;&#1085;&#1100;" TargetMode="External"/><Relationship Id="rId17" Type="http://schemas.openxmlformats.org/officeDocument/2006/relationships/hyperlink" Target="http://ru.wikipedia.org/wiki/&#1058;&#1086;&#1084;&#1072;&#1089;_&#1052;&#1086;&#1088;" TargetMode="External"/><Relationship Id="rId18" Type="http://schemas.openxmlformats.org/officeDocument/2006/relationships/hyperlink" Target="http://ru.wikipedia.org/wiki/&#1069;&#1088;&#1072;&#1079;&#1084;_&#1056;&#1086;&#1090;&#1090;&#1077;&#1088;&#1076;&#1072;&#1084;&#1089;&#1082;&#1080;&#1081;" TargetMode="External"/><Relationship Id="rId19" Type="http://schemas.openxmlformats.org/officeDocument/2006/relationships/hyperlink" Target="http://ru.wikipedia.org/wiki/&#1052;&#1072;&#1088;&#1090;&#1080;&#1085;_&#1051;&#1102;&#1090;&#1077;&#1088;" TargetMode="External"/><Relationship Id="rId20" Type="http://schemas.openxmlformats.org/officeDocument/2006/relationships/hyperlink" Target="http://ru.wikipedia.org/wiki/&#1058;&#1086;&#1084;&#1084;&#1072;&#1079;&#1086;_&#1050;&#1072;&#1084;&#1087;&#1072;&#1085;&#1077;&#1083;&#1083;&#1072;" TargetMode="External"/><Relationship Id="rId21" Type="http://schemas.openxmlformats.org/officeDocument/2006/relationships/hyperlink" Target="http://ru.wikipedia.org/wiki/&#1044;&#1078;&#1086;&#1088;&#1076;&#1072;&#1085;&#1086;_&#1041;&#1088;&#1091;&#1085;&#1086;" TargetMode="External"/><Relationship Id="rId22" Type="http://schemas.openxmlformats.org/officeDocument/2006/relationships/hyperlink" Target="http://ru.wikipedia.org/wiki/&#1053;&#1080;&#1082;&#1086;&#1083;&#1086;_&#1052;&#1072;&#1082;&#1080;&#1072;&#1074;&#1077;&#1083;&#1083;&#1080;" TargetMode="Externa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80;&#1075;&#1100;&#1077;&#1088;&#1080;,_&#1044;&#1072;&#1085;&#1090;&#1077;" TargetMode="External"/><Relationship Id="rId2" Type="http://schemas.openxmlformats.org/officeDocument/2006/relationships/hyperlink" Target="http://ru.wikipedia.org/wiki/&#1041;&#1086;&#1078;&#1077;&#1089;&#1090;&#1074;&#1077;&#1085;&#1085;&#1072;&#1103;_&#1082;&#1086;&#1084;&#1077;&#1076;&#1080;&#1103;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3;&#1080;&#1075;&#1080;&#1103;" TargetMode="External"/><Relationship Id="rId2" Type="http://schemas.openxmlformats.org/officeDocument/2006/relationships/hyperlink" Target="http://ru.wikipedia.org/wiki/&#1055;&#1077;&#1081;&#1079;&#1072;&#1078;" TargetMode="External"/><Relationship Id="rId3" Type="http://schemas.openxmlformats.org/officeDocument/2006/relationships/hyperlink" Target="http://ru.wikipedia.org/wiki/&#1048;&#1082;&#1086;&#1085;&#1086;&#1087;&#1080;&#1089;&#1100;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57;&#1080;&#1084;&#1084;&#1077;&#1090;&#1088;&#1080;&#1103;" TargetMode="External"/><Relationship Id="rId3" Type="http://schemas.openxmlformats.org/officeDocument/2006/relationships/hyperlink" Target="http://ru.wikipedia.org/wiki/&#1055;&#1088;&#1086;&#1087;&#1086;&#1088;&#1094;&#1080;&#1103;" TargetMode="External"/><Relationship Id="rId4" Type="http://schemas.openxmlformats.org/officeDocument/2006/relationships/hyperlink" Target="http://ru.wikipedia.org/wiki/&#1056;&#1080;&#1084;&#1089;&#1082;&#1072;&#1103;_&#1072;&#1088;&#1093;&#1080;&#1090;&#1077;&#1082;&#1090;&#1091;&#1088;&#1072;" TargetMode="External"/><Relationship Id="rId5" Type="http://schemas.openxmlformats.org/officeDocument/2006/relationships/hyperlink" Target="http://ru.wikipedia.org/wiki/&#1050;&#1086;&#1083;&#1086;&#1085;&#1085;&#1072;_(&#1072;&#1088;&#1093;&#1080;&#1090;&#1077;&#1082;&#1090;&#1091;&#1088;&#1072;)" TargetMode="External"/><Relationship Id="rId6" Type="http://schemas.openxmlformats.org/officeDocument/2006/relationships/hyperlink" Target="http://ru.wikipedia.org/wiki/&#1055;&#1080;&#1083;&#1103;&#1089;&#1090;&#1088;&#1072;" TargetMode="External"/><Relationship Id="rId7" Type="http://schemas.openxmlformats.org/officeDocument/2006/relationships/hyperlink" Target="http://ru.wikipedia.org/wiki/&#1055;&#1088;&#1080;&#1090;&#1086;&#1083;&#1086;&#1082;&#1072;" TargetMode="External"/><Relationship Id="rId8" Type="http://schemas.openxmlformats.org/officeDocument/2006/relationships/hyperlink" Target="http://ru.wikipedia.org/wiki/&#1040;&#1088;&#1082;&#1072;" TargetMode="External"/><Relationship Id="rId9" Type="http://schemas.openxmlformats.org/officeDocument/2006/relationships/hyperlink" Target="http://ru.wikipedia.org/wiki/&#1050;&#1091;&#1087;&#1086;&#1083;" TargetMode="External"/><Relationship Id="rId10" Type="http://schemas.openxmlformats.org/officeDocument/2006/relationships/hyperlink" Target="http://ru.wikipedia.org/wiki/&#1053;&#1080;&#1096;&#1072;" TargetMode="External"/><Relationship Id="rId11" Type="http://schemas.openxmlformats.org/officeDocument/2006/relationships/hyperlink" Target="http://ru.wikipedia.org/wiki/&#1069;&#1076;&#1080;&#1082;&#1091;&#1083;&#1072;" TargetMode="External"/><Relationship Id="rId12" Type="http://schemas.openxmlformats.org/officeDocument/2006/relationships/hyperlink" Target="http://ru.wikipedia.org/wiki/&#1060;&#1080;&#1083;&#1080;&#1087;&#1087;&#1086;_&#1041;&#1088;&#1091;&#1085;&#1077;&#1083;&#1083;&#1077;&#1089;&#1082;&#1080;" TargetMode="External"/><Relationship Id="rId13" Type="http://schemas.openxmlformats.org/officeDocument/2006/relationships/hyperlink" Target="http://ru.wikipedia.org/wiki/&#1051;&#1077;&#1086;&#1085;_&#1041;&#1072;&#1090;&#1090;&#1080;&#1089;&#1090;&#1072;_&#1040;&#1083;&#1100;&#1073;&#1077;&#1088;&#1090;&#1080;" TargetMode="External"/><Relationship Id="rId14" Type="http://schemas.openxmlformats.org/officeDocument/2006/relationships/hyperlink" Target="http://ru.wikipedia.org/wiki/&#1044;&#1086;&#1085;&#1072;&#1090;&#1086;_&#1041;&#1088;&#1072;&#1084;&#1072;&#1085;&#1090;&#1077;" TargetMode="External"/><Relationship Id="rId15" Type="http://schemas.openxmlformats.org/officeDocument/2006/relationships/hyperlink" Target="http://ru.wikipedia.org/wiki/&#1052;&#1080;&#1082;&#1077;&#1083;&#1072;&#1085;&#1076;&#1078;&#1077;&#1083;&#1086;_&#1041;&#1091;&#1086;&#1085;&#1072;&#1088;&#1086;&#1090;&#1090;&#1080;" TargetMode="External"/><Relationship Id="rId16" Type="http://schemas.openxmlformats.org/officeDocument/2006/relationships/hyperlink" Target="http://ru.wikipedia.org/wiki/&#1040;&#1085;&#1076;&#1088;&#1077;&#1072;_&#1055;&#1072;&#1083;&#1083;&#1072;&#1076;&#1080;&#1086;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Эпоха Возрождени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0360" y="5157360"/>
            <a:ext cx="3887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зы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эпоху Возрождения (Ренессанса) профессиональная музыка теряет характер чисто церковного искусства и испытывает влияние народной музыки, проникается новым гуманистическим мироощущением. Высокого уровня достигает искусство вокальной и вокально-инструментальной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олифон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творчестве представителей «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Ars nov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 («Нового искусства») в Италии и Франции XIV в., в новых полифонических школах — английской (XV в.), нидерландской (XV—XVI вв.), римской, венецианской, французской, немецкой, польской, чешской и др. (XVI в.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являются различные жанры светского музыкального искусства —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фроттол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вилланелл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Италии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ильянсик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Испании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балла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Англии,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мадрига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озникший в Италии (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Л. Маренци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Я. Аркадельт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Джезуальдо да Веноз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, но получивший повсеместное распространение, французская многоголосная песня (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К. Жанеке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К. Лежё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Светские гуманистические устремления проникают и в культовую музыку — у франко-фламандских мастеров (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Жоскен Депр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Орландо ди Ласс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, в искусстве композиторов венецианской школы (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А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Дж. Габриел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Италии расцветает искусство изготовления смычковых инструментов, обладающих богатыми выразительными возможностями. Столкновение различных эстетических установок проявляется в «борьбе» двух типов смычковых инструментов —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виол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бытовавшей в аристократической среде, и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скрип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инструмента народного происхождения. Эпоха Возрождения завершается появлением новых музыкальных жанров — сольной песни,кантаты, оратории и оперы, способствовавших постепенному утверждению гомофонного стил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ютня -один из самых популярных инструментов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200px-ReinassanceLute"/>
          <p:cNvPicPr/>
          <p:nvPr/>
        </p:nvPicPr>
        <p:blipFill>
          <a:blip r:embed="rId1"/>
          <a:stretch/>
        </p:blipFill>
        <p:spPr>
          <a:xfrm>
            <a:off x="1187280" y="1773360"/>
            <a:ext cx="633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щая характерис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ПОХА ВОЗРОЖДЕНИЯ,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иод в истории культуры Западной и Центральной Европы 14–16 вв., основным содержанием которого было становление новой, «земной», светской по своей сути картины мира, кардинально отличной от средневековой. Новая картина мира нашла выражение в гуманизме, ведущем идейном течении эпохи, и натурфилософии, проявилась в искусстве и науке, претерпевших революционные изменения. Строительным материалом для оригинального здания новой культуры послужила античность, к которой обратились через голову Средневековья и которая как бы «возрождалось» к новой жизни, – отсюда название эпохи – «Возрождение», или «Ренессанс» (на французский манер), данное ей впоследств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иоды эпохи Итальянского возрожд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тальянское Возрождение делят на 5 этап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торенессанс (2-ая половина 13 века — начало 15 ве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ннее Возрождение (15 ве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ое Возрождение (первые 20 лет 16 ве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днее Возрождение (30-ые — 90-ые годы 16 ве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верное Возрож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у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тие знаний 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XIV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XVI века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существенно повлияло на представления людей о мире и месте человека в нем.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Великие географические открыт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гелиоцентрическая система ми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Николая Коперни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зменили представления о размерах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Земл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её месте во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Вселенн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а работы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Парацельс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Везал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в которых впервые после античности были предприняты попытки изучить строение человека и процессы, происходящие в нем, положили начало научной медицине и анатом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пные изменения произошли и в общественных науках. В работах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Жана Боде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Никколо Макиавелл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сторические и политические процессы впервые стали рассматриваться как результат взаимодействия различных групп людей и их интересов. Тогда же были предприняты попытки разработки «идеального» общественного устройства: «Утопия»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Томаса Мо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«Город Солнца»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Томмазо Кампанелл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Благодаря интересу к античности были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восстановлен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выверены и напечатаны многие античные тексты. Почти все гуманисты так или иначе занимались изучением классической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латын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древнегреческого язы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целом, преобладающая в данную эпоху пантеистическая мистика Возрождения создавала неблагоприятный идейный фон для развития научных знаний. Окончательное становление научного метода и последовавшая за ней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Научная революц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XVII ст. связаны с оппозиционным Возрождению движением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Реформац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илософи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сновная статья: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Философия Возро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XV ве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45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во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Флорен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озрождается 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Платоновская академия в Каредж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Афинская школ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 — самая знаменитая фреска Рафаэля (1509-1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Философы эпохи Возро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Николай Кузанс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Леонардо Бру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Марсилио Фичи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Николай Копер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Пико делла Мирандо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Лоренцо Вал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Манет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Пьетро Помпонацц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Жан Бод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Мишель Монте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Томас Мо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Эразм Роттердамс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Мартин Люте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0"/>
              </a:rPr>
              <a:t>Томмазо Кампанел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1"/>
              </a:rPr>
              <a:t>Джордано Бру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2"/>
              </a:rPr>
              <a:t>Николо Макиавелл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5640" y="1197000"/>
            <a:ext cx="470232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инным родоначальником эпохи Возрождения в литературе принято считать итальянского поэта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Данте Алигьер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1265—-1321), который истинно раскрыл сущность людей того времени в своем произведении под названием "Комедия", которое впоследствии будет названо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"Божественной комедией"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Этим названием потомки явили свое восхищение грандиозным созданием Данте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220px-Dante-alighieri (1)"/>
          <p:cNvPicPr/>
          <p:nvPr/>
        </p:nvPicPr>
        <p:blipFill>
          <a:blip r:embed="rId3"/>
          <a:stretch/>
        </p:blipFill>
        <p:spPr>
          <a:xfrm>
            <a:off x="539640" y="1125360"/>
            <a:ext cx="328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образительное искус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живописи эпохи Возрождения характерно обращение профессионального взгляда художника к природе, к законам анатомии, жизненной перспективе, действию света и другим идентичным естественным явлени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удожники Возрождения, рисуя картины традиционной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елигиозн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тематики, начали использовать новые художественные приёмы: построение объемной композиции, использование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ейзаж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как элемент сюжета на заднем плане. Это позволило им сделать изображения более реалистичными, оживленными, в чём проявилось резкое отличие их творчества от предыдущей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иконографическ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радиции, изобилующей условностями в изображе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Рождение Венеры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300px-Birth_of_Venus_Botticelli"/>
          <p:cNvPicPr/>
          <p:nvPr/>
        </p:nvPicPr>
        <p:blipFill>
          <a:blip r:embed="rId1"/>
          <a:stretch/>
        </p:blipFill>
        <p:spPr>
          <a:xfrm>
            <a:off x="684360" y="1557360"/>
            <a:ext cx="7848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рхитектур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вное, чем характеризуется эта эпоха — возвращение в архитектуре к принципам и формам античного, преимущественно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имск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искусства. Особенное значение в этом направлении придаётся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симметр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пропор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еометрии и порядку составных частей, о чём наглядно свидетельствуют уцелевшие образцы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имской архитекту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Сложная пропорция средневековых зданий сменяется упорядоченным расположением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колон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пиляст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притоло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на смену несимметричным очертаниям приходит полукруг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ар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лусфера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купол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ниш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эдику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аибольший вклад в развитие ренессансной архитектуры внесли пять мастеров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Филиппо Брунеллес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(1377—1446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Леон Баттиста Альбер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(1402-72)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Донато Брамант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(1444—1514)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Микеланджело Буонарот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(1475—1564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Андреа Паллади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(1508—158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2:45:48Z</dcterms:created>
  <dc:creator>Customer</dc:creator>
  <dc:description/>
  <dc:language>en-US</dc:language>
  <cp:lastModifiedBy>ACER</cp:lastModifiedBy>
  <dcterms:modified xsi:type="dcterms:W3CDTF">2015-11-15T11:56:22Z</dcterms:modified>
  <cp:revision>3</cp:revision>
  <dc:subject/>
  <dc:title>Эпоха Возрождения</dc:title>
</cp:coreProperties>
</file>