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87EC-D94F-4880-BE1E-43C7CCF5C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6BF5-3579-4A05-8D9B-D3F3D0939C8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054F-608A-456E-A7F3-F712EE45AD4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04EC-4D50-41CF-AEA7-4E340A870CA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1E4D-A071-4B11-B090-93FA11EBB73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3DF7-0DEC-4D38-B5DE-E191E17329D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CAED-38D8-40A9-A8F6-D75A4DAA071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2529-E82F-4376-97A3-4A842DB7B1B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03C-7787-41F5-ADB7-E060AB795BD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3B1-16A1-4883-8E71-37E812C23A1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30F-591A-443F-A905-57FBE70B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AF8-0124-4CAA-9D54-383851C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38B-D37C-488B-9AD2-BF9CAF49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1B5-6E08-4BD5-98A6-F06D47A5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DFF-9FDE-4E8C-B507-D402C316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210-354E-4913-BA54-B6C6EE09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71A-9A1D-462F-9C15-E9A29CAC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9E7-B4ED-4DB2-98B3-2C9334CE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814-2B00-460F-9731-BE45FCF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932-9E3E-46FD-B22B-FEEC7969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116-0485-46E5-B19A-CE5E44C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97D-4DF9-4306-8E8A-6CD2C5C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76A-CBB6-421A-A5C5-C282941BDA23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Горизонтальный свиток 3"/>
          <p:cNvSpPr/>
          <p:nvPr/>
        </p:nvSpPr>
        <p:spPr>
          <a:xfrm>
            <a:off x="1214280" y="1928880"/>
            <a:ext cx="6715440" cy="4643280"/>
          </a:xfrm>
          <a:prstGeom prst="horizontalScroll">
            <a:avLst>
              <a:gd name="adj" fmla="val 12500"/>
            </a:avLst>
          </a:prstGeom>
          <a:solidFill>
            <a:srgbClr val="9e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entury Schoolbook"/>
              </a:rPr>
              <a:t>Изображение жизни и слово в искусстве романтизма.</a:t>
            </a: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71760" y="2499840"/>
            <a:ext cx="620064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Monotype Corsiva"/>
              </a:rPr>
              <a:t>«Прекрасное было время…Человеческий дух был раскован: считал себя вправе всему существующему противополагать свою действительную свободу и спрашивать  не о том, что есть, но о том, что возможно…» Ф.Шеллинг.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Герой не преклоняется перед природой. Он и ее хочет преобразовать: отсутствие гармонии в мире порождает противоречия между миром и человеком, противоречия в духовном мире самого человека.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Вертикальный свиток 5"/>
          <p:cNvSpPr/>
          <p:nvPr/>
        </p:nvSpPr>
        <p:spPr>
          <a:xfrm>
            <a:off x="0" y="428760"/>
            <a:ext cx="9144000" cy="5357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500040"/>
            <a:ext cx="822636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Здесь ничего не ранит взор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Колечком быть в её цепи телесной,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Одной из тварей, - а душа в простор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Стремится: в горы, к звёздам, в свод небесный,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В ревущий океан, чтоб с ними слиться тесно.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    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Джордж Гордон Байрон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5950080"/>
            <a:ext cx="7488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Каспар Фридрих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Странник над туманным морем</a:t>
            </a:r>
            <a:endParaRPr b="0" lang="en-US" sz="32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82" name="Picture 4" descr="200px-Der_Wanderer"/>
          <p:cNvPicPr/>
          <p:nvPr/>
        </p:nvPicPr>
        <p:blipFill>
          <a:blip r:embed="rId1"/>
          <a:stretch/>
        </p:blipFill>
        <p:spPr>
          <a:xfrm>
            <a:off x="2397240" y="115920"/>
            <a:ext cx="4348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Карл Брюллов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Последний день Помпеи</a:t>
            </a:r>
            <a:endParaRPr b="0" lang="en-US" sz="32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84" name="Picture 4" descr="Брюллов Помпея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136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entury Schoolbook"/>
              </a:rPr>
              <a:t>Иван Айвазовский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Century Schoolbook"/>
              </a:rPr>
              <a:t>Ледяные горы</a:t>
            </a:r>
            <a:endParaRPr b="0" lang="en-US" sz="36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86" name="Picture 4" descr="Айвазовский Ледяные горы"/>
          <p:cNvPicPr/>
          <p:nvPr/>
        </p:nvPicPr>
        <p:blipFill>
          <a:blip r:embed="rId1"/>
          <a:stretch/>
        </p:blipFill>
        <p:spPr>
          <a:xfrm>
            <a:off x="1619280" y="260280"/>
            <a:ext cx="5830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0872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Иван Айвазовский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Радуга</a:t>
            </a:r>
            <a:endParaRPr b="0" lang="en-US" sz="32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88" name="Picture 4" descr="Айвазовский Радуга"/>
          <p:cNvPicPr/>
          <p:nvPr/>
        </p:nvPicPr>
        <p:blipFill>
          <a:blip r:embed="rId1"/>
          <a:stretch/>
        </p:blipFill>
        <p:spPr>
          <a:xfrm>
            <a:off x="1187280" y="189000"/>
            <a:ext cx="684216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0647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Иван Айвазовский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Кронштадт. Форт император Александр</a:t>
            </a:r>
            <a:endParaRPr b="0" lang="en-US" sz="32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90" name="Picture 4" descr="Айвазовский Кронштадт Форт император александр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entury Schoolbook"/>
              </a:rPr>
              <a:t>Архитектура эпохи романтизма</a:t>
            </a: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92" name="Picture 5" descr="Хорошая Чесменская Ю"/>
          <p:cNvPicPr/>
          <p:nvPr/>
        </p:nvPicPr>
        <p:blipFill>
          <a:blip r:embed="rId1"/>
          <a:stretch/>
        </p:blipFill>
        <p:spPr>
          <a:xfrm>
            <a:off x="2195640" y="4437000"/>
            <a:ext cx="2158920" cy="186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Неоготика латвия"/>
          <p:cNvPicPr/>
          <p:nvPr/>
        </p:nvPicPr>
        <p:blipFill>
          <a:blip r:embed="rId2"/>
          <a:stretch/>
        </p:blipFill>
        <p:spPr>
          <a:xfrm>
            <a:off x="2484360" y="2565360"/>
            <a:ext cx="2160720" cy="154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Причуда Павла Шедевр арх Львова"/>
          <p:cNvPicPr/>
          <p:nvPr/>
        </p:nvPicPr>
        <p:blipFill>
          <a:blip r:embed="rId3"/>
          <a:stretch/>
        </p:blipFill>
        <p:spPr>
          <a:xfrm>
            <a:off x="5219640" y="2349360"/>
            <a:ext cx="154296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Неоготика  Массачусетс"/>
          <p:cNvPicPr/>
          <p:nvPr/>
        </p:nvPicPr>
        <p:blipFill>
          <a:blip r:embed="rId4"/>
          <a:stretch/>
        </p:blipFill>
        <p:spPr>
          <a:xfrm>
            <a:off x="324000" y="1916280"/>
            <a:ext cx="1631880" cy="223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Александр Брюллов Цвь в Парголове"/>
          <p:cNvPicPr/>
          <p:nvPr/>
        </p:nvPicPr>
        <p:blipFill>
          <a:blip r:embed="rId5"/>
          <a:stretch/>
        </p:blipFill>
        <p:spPr>
          <a:xfrm>
            <a:off x="7308720" y="2133720"/>
            <a:ext cx="1457280" cy="1942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Неоготика Вестминстер"/>
          <p:cNvPicPr/>
          <p:nvPr/>
        </p:nvPicPr>
        <p:blipFill>
          <a:blip r:embed="rId6"/>
          <a:stretch/>
        </p:blipFill>
        <p:spPr>
          <a:xfrm>
            <a:off x="4859280" y="4508640"/>
            <a:ext cx="252108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021360"/>
            <a:ext cx="79200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Schoolbook"/>
              </a:rPr>
              <a:t>Чесменская церковь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Century Schoolbook"/>
              </a:rPr>
              <a:t>в Петербурге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Century Schoolbook"/>
              </a:rPr>
              <a:t>архитектор Юрий Фельтен</a:t>
            </a:r>
            <a:endParaRPr b="0" lang="en-US" sz="28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99" name="Picture 4" descr="Чесменская Церковь"/>
          <p:cNvPicPr/>
          <p:nvPr/>
        </p:nvPicPr>
        <p:blipFill>
          <a:blip r:embed="rId1"/>
          <a:stretch/>
        </p:blipFill>
        <p:spPr>
          <a:xfrm>
            <a:off x="2627280" y="115920"/>
            <a:ext cx="38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5661000"/>
            <a:ext cx="806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Century Schoolbook"/>
              </a:rPr>
              <a:t>Лютеранская церковь в Петербурге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Century Schoolbook"/>
              </a:rPr>
              <a:t>Архитектор Александр Брюллов</a:t>
            </a:r>
            <a:endParaRPr b="0" lang="en-US" sz="24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101" name="Picture 4" descr="Ал"/>
          <p:cNvPicPr/>
          <p:nvPr/>
        </p:nvPicPr>
        <p:blipFill>
          <a:blip r:embed="rId1"/>
          <a:stretch/>
        </p:blipFill>
        <p:spPr>
          <a:xfrm>
            <a:off x="1332000" y="476280"/>
            <a:ext cx="65530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Schoolbook"/>
              </a:rPr>
              <a:t>Романтизм </a:t>
            </a:r>
            <a:r>
              <a:rPr b="0" lang="ru-RU" sz="4000" spc="-1" strike="noStrike">
                <a:solidFill>
                  <a:srgbClr val="003366"/>
                </a:solidFill>
                <a:latin typeface="Century Schoolbook"/>
              </a:rPr>
              <a:t>-  литературное направление, границы которого охватывают примерно конец 18 – середину 19 века.</a:t>
            </a:r>
            <a:endParaRPr b="0" lang="en-US" sz="40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Monotype Corsiva"/>
              </a:rPr>
              <a:t>Какие значения слова «романтизм» вам знакомы?</a:t>
            </a:r>
            <a:endParaRPr b="0" lang="en-US" sz="36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Schoolbook"/>
              </a:rPr>
              <a:t>Вокзал в Петергофе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Century Schoolbook"/>
              </a:rPr>
              <a:t>архитектор Николай Бенуа</a:t>
            </a:r>
            <a:endParaRPr b="0" lang="en-US" sz="28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103" name="Picture 5" descr="Здание вокзала  Бенуа Нов Петергоф"/>
          <p:cNvPicPr/>
          <p:nvPr/>
        </p:nvPicPr>
        <p:blipFill>
          <a:blip r:embed="rId1"/>
          <a:stretch/>
        </p:blipFill>
        <p:spPr>
          <a:xfrm>
            <a:off x="2484360" y="115920"/>
            <a:ext cx="4159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6165720"/>
            <a:ext cx="7848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Schoolbook"/>
              </a:rPr>
              <a:t>Готическая капелл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Century Schoolbook"/>
              </a:rPr>
              <a:t>парк Александрия Петергоф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Century Schoolbook"/>
              </a:rPr>
              <a:t>архитектор Карл Шинкель 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105" name="Picture 4" descr="Капелла Цвь Александра Невского Петергоф"/>
          <p:cNvPicPr/>
          <p:nvPr/>
        </p:nvPicPr>
        <p:blipFill>
          <a:blip r:embed="rId1"/>
          <a:stretch/>
        </p:blipFill>
        <p:spPr>
          <a:xfrm>
            <a:off x="4932360" y="476280"/>
            <a:ext cx="3510000" cy="468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Тоже капелла"/>
          <p:cNvPicPr/>
          <p:nvPr/>
        </p:nvPicPr>
        <p:blipFill>
          <a:blip r:embed="rId2"/>
          <a:stretch/>
        </p:blipFill>
        <p:spPr>
          <a:xfrm>
            <a:off x="611280" y="333360"/>
            <a:ext cx="3127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entury Schoolbook"/>
              </a:rPr>
              <a:t>Слово в искусстве романтизма.</a:t>
            </a:r>
            <a:endParaRPr b="0" lang="en-US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Поэтическое слово служит передаче исключительного по силе и яркости чувства.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Герои конфликтуют с обществом.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Герой романтиков- сильная личность, человек высокой страсти, живущий стремлением к свободе.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Тон повествования- взволнованный, лирический, эмоциональный.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Краски сгущены, используется гротеск, символика, аллегория.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5695920"/>
            <a:ext cx="300816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entury Schoolbook"/>
              </a:rPr>
              <a:t>Джордж Гордон Ноэль Байрон</a:t>
            </a:r>
            <a:endParaRPr b="0" lang="en-US" sz="20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30081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Century Schoolbook"/>
              </a:rPr>
              <a:t>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Но в сердце Чайльд глухую боль унес,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                 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И наслаждений жажда в нем остыла,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                 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И часто блеск его внезапных слез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                 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Лишь гордость возмущенная гасила.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                 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Меж тем тоски язвительная сила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                 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Звала покинуть край, где вырос он, -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                 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Чужих небес приветствовать светила;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                 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Он звал печаль, весельем пресыщен,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                  </a:t>
            </a: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Готов был в ад бежать, но бросить Альбион.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Monotype Corsiva"/>
              </a:rPr>
              <a:t>Байрон. «Паломничество Чайльд-Гарольда».</a:t>
            </a: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Century Schoolbook"/>
            </a:endParaRPr>
          </a:p>
        </p:txBody>
      </p:sp>
      <p:pic>
        <p:nvPicPr>
          <p:cNvPr id="111" name="Picture 2" descr="E:\Наши документы\С.А\Фото Пушкина\Байрон иллюстрации.jpg"/>
          <p:cNvPicPr/>
          <p:nvPr/>
        </p:nvPicPr>
        <p:blipFill>
          <a:blip r:embed="rId1"/>
          <a:stretch/>
        </p:blipFill>
        <p:spPr>
          <a:xfrm>
            <a:off x="3929040" y="272880"/>
            <a:ext cx="4500720" cy="53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642960" y="5000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Михаил Вруб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«Демон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5429160" y="500040"/>
            <a:ext cx="35719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Monotype Corsiva"/>
              </a:rPr>
              <a:t>Люблю тебя не здешней страстью,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Monotype Corsiva"/>
              </a:rPr>
              <a:t>Как полюбить не можешь ты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Monotype Corsiva"/>
              </a:rPr>
              <a:t>Всем упоением, всей властью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Monotype Corsiva"/>
              </a:rPr>
              <a:t>Бессмертной мысли и мечты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Monotype Corsiva"/>
              </a:rPr>
              <a:t>М. Лермонтов</a:t>
            </a:r>
            <a:r>
              <a:rPr b="0" lang="ru-RU" sz="4000" spc="-1" strike="noStrike">
                <a:solidFill>
                  <a:srgbClr val="003366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8" descr="2-9-51 Демон"/>
          <p:cNvPicPr/>
          <p:nvPr/>
        </p:nvPicPr>
        <p:blipFill>
          <a:blip r:embed="rId1"/>
          <a:stretch/>
        </p:blipFill>
        <p:spPr>
          <a:xfrm>
            <a:off x="285840" y="642960"/>
            <a:ext cx="5143320" cy="3714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571720" y="1642680"/>
            <a:ext cx="308628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0" y="5071680"/>
            <a:ext cx="3008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entury Schoolbook"/>
              </a:rPr>
              <a:t>Л.Пастернак.</a:t>
            </a:r>
            <a:br>
              <a:rPr sz="1800"/>
            </a:br>
            <a:r>
              <a:rPr b="0" i="1" lang="ru-RU" sz="1800" spc="-1" strike="noStrike">
                <a:solidFill>
                  <a:srgbClr val="000099"/>
                </a:solidFill>
                <a:latin typeface="Century Schoolbook"/>
              </a:rPr>
              <a:t>Исповедь Мцыри.</a:t>
            </a:r>
            <a:endParaRPr b="0" lang="en-US" sz="18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118" name="Содержимое 3" descr="Мцыри иллюстрация.jpeg"/>
          <p:cNvPicPr/>
          <p:nvPr/>
        </p:nvPicPr>
        <p:blipFill>
          <a:blip r:embed="rId1"/>
          <a:stretch/>
        </p:blipFill>
        <p:spPr>
          <a:xfrm>
            <a:off x="3575160" y="1465200"/>
            <a:ext cx="5111640" cy="3468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2920"/>
            <a:ext cx="3008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Старик! Я слышал много раз,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Что ты меня от смерти спас-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Зачем?..Угрюм и одинок,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Грозой оторванный листок,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Я вырос в сумрачных стенах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Душой -дитя, судьбой -монах…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Century Schoolbook"/>
              </a:rPr>
              <a:t>М. Лермонтов. «Мцыри».</a:t>
            </a:r>
            <a:endParaRPr b="0" lang="en-US" sz="18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00320" y="6214680"/>
            <a:ext cx="450036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Schoolbook"/>
              </a:rPr>
              <a:t>Карл Брюллов. Гадающая Светлана.</a:t>
            </a:r>
            <a:endParaRPr b="0" lang="en-US" sz="18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121" name="Содержимое 4" descr="Жуковский иллюстрации.jpeg"/>
          <p:cNvPicPr/>
          <p:nvPr/>
        </p:nvPicPr>
        <p:blipFill>
          <a:blip r:embed="rId1"/>
          <a:stretch/>
        </p:blipFill>
        <p:spPr>
          <a:xfrm>
            <a:off x="3576600" y="272880"/>
            <a:ext cx="5108760" cy="5853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30081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Вот красавица одна;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К зеркалу садится;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С тайной робостью она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В зеркало глядится;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Темно в зеркале; кругом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Мертвое молчанье;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Свечка трепетным огнем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Monotype Corsiva"/>
              </a:rPr>
              <a:t>Чуть лиет сиянье…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Monotype Corsiva"/>
              </a:rPr>
              <a:t>В.Жуковский.«Светлана».</a:t>
            </a:r>
            <a:endParaRPr b="0" lang="en-US" sz="20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Century Schoolbook"/>
              </a:rPr>
              <a:t>Главные эстетические принципы</a:t>
            </a:r>
            <a:endParaRPr b="0" lang="en-US" sz="5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Неприятие реальной жизни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Исключительность романтического героя 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Природа как выражение стихийного начала жизни, праобраз Свободы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Культ прошлого: идеализация Античности и Средневековья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Интерес к фольклору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Экзотика дальних стран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Century Schoolbook"/>
              </a:rPr>
              <a:t>Изобразительное искусство романтизма</a:t>
            </a:r>
            <a:endParaRPr b="0" lang="en-US" sz="54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Герой эпохи: портретная живопись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В борьбе со стихией: пейзажная живопись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Культ прошлого: интерес к фольклору, идеализация Античности и Средневековья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Современная жизнь глазами романтиков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Century Schoolbook"/>
              </a:rPr>
              <a:t>Экзотика Востока</a:t>
            </a: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99840" y="6000840"/>
            <a:ext cx="50007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entury Schoolbook"/>
              </a:rPr>
              <a:t>В.ЖУКОВСКИЙ.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Century Schoolbook"/>
              </a:rPr>
              <a:t>Поэт.</a:t>
            </a:r>
            <a:endParaRPr b="0" lang="en-US" sz="20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57" name="Picture 5" descr="Другой Жуковский Кипренского"/>
          <p:cNvPicPr/>
          <p:nvPr/>
        </p:nvPicPr>
        <p:blipFill>
          <a:blip r:embed="rId1"/>
          <a:stretch/>
        </p:blipFill>
        <p:spPr>
          <a:xfrm>
            <a:off x="2494080" y="476280"/>
            <a:ext cx="5013360" cy="540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86160" y="3571920"/>
            <a:ext cx="1928880" cy="928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19288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Schoolbook"/>
              </a:rPr>
              <a:t>Что вы можете рассказать о человеке, изображенном на портрете?</a:t>
            </a:r>
            <a:endParaRPr b="0" lang="en-US" sz="2000" spc="-1" strike="noStrike">
              <a:solidFill>
                <a:srgbClr val="003366"/>
              </a:solidFill>
              <a:latin typeface="Century Schoolbook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Schoolbook"/>
              </a:rPr>
              <a:t>Какие чувства героя сумел запечатлеть художник?</a:t>
            </a:r>
            <a:endParaRPr b="0" lang="en-US" sz="20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7680" y="514332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entury Schoolbook"/>
              </a:rPr>
              <a:t>Наполеон.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Century Schoolbook"/>
              </a:rPr>
              <a:t>Полководец.</a:t>
            </a:r>
            <a:endParaRPr b="0" lang="en-US" sz="20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560" y="642960"/>
            <a:ext cx="2714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Какой герой изображен на этом портрете?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Что можно сказать о роде занятий этого человека?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</p:txBody>
      </p:sp>
      <p:pic>
        <p:nvPicPr>
          <p:cNvPr id="62" name="Picture 7" descr="Антуан Гро Яркий фрагмент"/>
          <p:cNvPicPr/>
          <p:nvPr/>
        </p:nvPicPr>
        <p:blipFill>
          <a:blip r:embed="rId1"/>
          <a:srcRect l="0" t="13500" r="0" b="13500"/>
          <a:stretch/>
        </p:blipFill>
        <p:spPr>
          <a:xfrm>
            <a:off x="2928960" y="612720"/>
            <a:ext cx="5286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Автопортрет Кипренского поярче"/>
          <p:cNvPicPr/>
          <p:nvPr/>
        </p:nvPicPr>
        <p:blipFill>
          <a:blip r:embed="rId1"/>
          <a:stretch/>
        </p:blipFill>
        <p:spPr>
          <a:xfrm>
            <a:off x="3357720" y="285840"/>
            <a:ext cx="4349520" cy="5182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57720" y="5572080"/>
            <a:ext cx="428616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entury Schoolbook"/>
              </a:rPr>
              <a:t>О.Кипренский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Century Schoolbook"/>
              </a:rPr>
              <a:t>Художник.</a:t>
            </a:r>
            <a:endParaRPr b="0" lang="en-US" sz="20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4800" y="272880"/>
            <a:ext cx="511164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6760" y="856800"/>
            <a:ext cx="3000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Century Schoolbook"/>
              </a:rPr>
              <a:t>Каков род деятельности человека на портрете?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Schoolbook"/>
              </a:rPr>
              <a:t>Какие цвета использованы живописцем?</a:t>
            </a:r>
            <a:endParaRPr b="0" lang="en-US" sz="2800" spc="-1" strike="noStrike">
              <a:solidFill>
                <a:srgbClr val="0033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991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Century Schoolbook"/>
              </a:rPr>
              <a:t>Исключительность романтического героя</a:t>
            </a:r>
            <a:endParaRPr b="0" lang="en-US" sz="4800" spc="-1" strike="noStrike">
              <a:solidFill>
                <a:srgbClr val="000099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428840"/>
            <a:ext cx="806436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Внутренняя раздвоенность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Одиночество в реальном мире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Поиски идеала и мечты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Жизнь в сфере эмоций и чувств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Герой не преклоняется перед миром природы.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Schoolbook"/>
              </a:rPr>
              <a:t>Предметы усиливают, повторяют черты героя или оттеняют по принципу контраста.</a:t>
            </a:r>
            <a:endParaRPr b="0" lang="en-US" sz="2400" spc="-1" strike="noStrike">
              <a:solidFill>
                <a:srgbClr val="003366"/>
              </a:solidFill>
              <a:latin typeface="Century Schoolbook"/>
            </a:endParaRPr>
          </a:p>
        </p:txBody>
      </p:sp>
      <p:pic>
        <p:nvPicPr>
          <p:cNvPr id="69" name="Picture 12" descr="Жуковский Кипренского"/>
          <p:cNvPicPr/>
          <p:nvPr/>
        </p:nvPicPr>
        <p:blipFill>
          <a:blip r:embed="rId1"/>
          <a:stretch/>
        </p:blipFill>
        <p:spPr>
          <a:xfrm>
            <a:off x="3500280" y="4214880"/>
            <a:ext cx="194184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Автопортрет Кипренского поярче"/>
          <p:cNvPicPr/>
          <p:nvPr/>
        </p:nvPicPr>
        <p:blipFill>
          <a:blip r:embed="rId2"/>
          <a:stretch/>
        </p:blipFill>
        <p:spPr>
          <a:xfrm>
            <a:off x="6500880" y="4214880"/>
            <a:ext cx="175428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Антуан Гро Яркий фрагмент"/>
          <p:cNvPicPr/>
          <p:nvPr/>
        </p:nvPicPr>
        <p:blipFill>
          <a:blip r:embed="rId3"/>
          <a:stretch/>
        </p:blipFill>
        <p:spPr>
          <a:xfrm>
            <a:off x="642960" y="4214880"/>
            <a:ext cx="20318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entury Schoolbook"/>
              </a:rPr>
              <a:t>Три автопортрета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Schoolbook"/>
              </a:rPr>
              <a:t>Ореста Кипренского</a:t>
            </a: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Портрет передает и состояние души героя.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Century Schoolbook"/>
            </a:endParaRPr>
          </a:p>
        </p:txBody>
      </p:sp>
      <p:pic>
        <p:nvPicPr>
          <p:cNvPr id="73" name="Picture 4" descr="АвтопортетКипренского с кистями за ухом"/>
          <p:cNvPicPr/>
          <p:nvPr/>
        </p:nvPicPr>
        <p:blipFill>
          <a:blip r:embed="rId1"/>
          <a:stretch/>
        </p:blipFill>
        <p:spPr>
          <a:xfrm>
            <a:off x="250920" y="2708280"/>
            <a:ext cx="2622600" cy="337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Автопортрет Кипренского поярче"/>
          <p:cNvPicPr/>
          <p:nvPr/>
        </p:nvPicPr>
        <p:blipFill>
          <a:blip r:embed="rId2"/>
          <a:stretch/>
        </p:blipFill>
        <p:spPr>
          <a:xfrm>
            <a:off x="6084720" y="2708280"/>
            <a:ext cx="2843280" cy="3386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Кипренский Автоапортрет в розовом шейном платке"/>
          <p:cNvPicPr/>
          <p:nvPr/>
        </p:nvPicPr>
        <p:blipFill>
          <a:blip r:embed="rId3"/>
          <a:stretch/>
        </p:blipFill>
        <p:spPr>
          <a:xfrm>
            <a:off x="3132000" y="2708280"/>
            <a:ext cx="26784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7:00:06Z</dcterms:created>
  <dc:creator>Victor</dc:creator>
  <dc:description/>
  <dc:language>en-US</dc:language>
  <cp:lastModifiedBy>Елена</cp:lastModifiedBy>
  <dcterms:modified xsi:type="dcterms:W3CDTF">2010-01-03T16:35:52Z</dcterms:modified>
  <cp:revision>36</cp:revision>
  <dc:subject/>
  <dc:title>Результаты выполнения части 1</dc:title>
</cp:coreProperties>
</file>