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8EC-E81B-475A-BF73-BBD97465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AA4-0670-4212-A0D7-84EEA99E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AF7-D923-4DF3-B6E5-7657B78A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077-9339-45B8-B390-D22AAA64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ED3-F15B-40FD-938A-091695E8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076-A900-466A-B3CB-5B2E8907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815-053E-4E9C-8A10-97709356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15D-67C5-49E6-8F7C-993AEFEF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D1D-917E-4050-BD65-8BFF7A21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314-540A-40A7-BAB0-85D249E9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194-C6D8-4E3C-828F-83BB27E4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03A-EC6A-4884-8426-043B1333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F52D-C09A-4927-B09D-F45C30D73C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97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Культурные достижения России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зей колоколов на Валда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1280" y="4797000"/>
            <a:ext cx="4932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 работу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тенко Дмитрий. 6 «Б»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: Казакова Татьяна Николаев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Users\user\Desktop\8.jpeg"/>
          <p:cNvPicPr/>
          <p:nvPr/>
        </p:nvPicPr>
        <p:blipFill>
          <a:blip r:embed="rId1"/>
          <a:stretch/>
        </p:blipFill>
        <p:spPr>
          <a:xfrm>
            <a:off x="4643280" y="189000"/>
            <a:ext cx="4230720" cy="3024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Users\МБОУСОШ№8\Desktop\музей колоколов\Сжатые\3.jpeg"/>
          <p:cNvPicPr/>
          <p:nvPr/>
        </p:nvPicPr>
        <p:blipFill>
          <a:blip r:embed="rId2"/>
          <a:stretch/>
        </p:blipFill>
        <p:spPr>
          <a:xfrm>
            <a:off x="324000" y="189000"/>
            <a:ext cx="3960720" cy="309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МБОУСОШ№8\Desktop\музей колоколов\Сжатые\7.jpeg"/>
          <p:cNvPicPr/>
          <p:nvPr/>
        </p:nvPicPr>
        <p:blipFill>
          <a:blip r:embed="rId3"/>
          <a:stretch/>
        </p:blipFill>
        <p:spPr>
          <a:xfrm>
            <a:off x="468360" y="4508640"/>
            <a:ext cx="2952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делы экспозиции Валдайского музея колоко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евние била.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ервые века христианства было принято созывать людей специальными колотушками - деревянными или металлическими досками, по которым ударял  молотк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тушьи колокольчики.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ие колокольчики подвязывались на шею скоту и выполняли не только "сигнальную", но и магическую функцию - считалось, что они оберегают от сил зл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мщицкие колокольчик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Такие колокольчики широко распространились в России во второй половине XVIII века.  Ямщицкий колокол заменял клаксон в современных автомобилях: он предотвращал ДТП и оповещал  о приближении тройки. Колокольчики снабжались рисунками и поучительными или забавными надписями: "Нет барыша, зато слава хороша", "Прощай милая моя, еду в дальние края" (забавно, что традиция не исчезла даже с появлением автомобилей: и по сей день аналогичными по содержанию надписями снабжают свои машины дальнобойщики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ильоны.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уже не просто колокольчик, а полноценный музыкальный инструмент, собранный из отстроенных колокол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остранные колокола в России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Долгое время колокола отливались в России иностранными мастерами.  А еще колокола попадали к нам в качестве военных трофеев или приносились в дар дружескими держав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Users\МБОУСОШ№8\Desktop\музей колоколов\Сжатые\4.jpeg"/>
          <p:cNvPicPr/>
          <p:nvPr/>
        </p:nvPicPr>
        <p:blipFill>
          <a:blip r:embed="rId1"/>
          <a:stretch/>
        </p:blipFill>
        <p:spPr>
          <a:xfrm>
            <a:off x="324000" y="4076640"/>
            <a:ext cx="346536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МБОУСОШ№8\Desktop\музей колоколов\Сжатые\2.jpeg"/>
          <p:cNvPicPr/>
          <p:nvPr/>
        </p:nvPicPr>
        <p:blipFill>
          <a:blip r:embed="rId2"/>
          <a:stretch/>
        </p:blipFill>
        <p:spPr>
          <a:xfrm>
            <a:off x="4427640" y="404640"/>
            <a:ext cx="4435200" cy="230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МБОУСОШ№8\Desktop\музей колоколов\Сжатые\6.jpeg"/>
          <p:cNvPicPr/>
          <p:nvPr/>
        </p:nvPicPr>
        <p:blipFill>
          <a:blip r:embed="rId3"/>
          <a:stretch/>
        </p:blipFill>
        <p:spPr>
          <a:xfrm>
            <a:off x="4211640" y="3573360"/>
            <a:ext cx="4619520" cy="3068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Users\МБОУСОШ№8\Desktop\музей колоколов\Сжатые\i (2).jpeg"/>
          <p:cNvPicPr/>
          <p:nvPr/>
        </p:nvPicPr>
        <p:blipFill>
          <a:blip r:embed="rId4"/>
          <a:stretch/>
        </p:blipFill>
        <p:spPr>
          <a:xfrm>
            <a:off x="179280" y="333360"/>
            <a:ext cx="39308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воды и пожел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зей колоколов играет важную роль в формировании культурного потенциала России. Это наше наследие, которое мы должны беречь и сохраня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омство с памятниками культуры России способствует воспитанию нравственности, любви к Родине, уважению ее исторического наследия у молодого поко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тех, кто решил приобрести валдайский колокольчик, будет интересно узнать, для чего используют этот предмет. Наши предки считали, что колокольный звон – средство защиты от зла. В наши дни благодаря проведенному исследованию, выяснили, что они излучают ультразвуковые волны и способны уничтожить инфекционных возбу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ал из Википедии — свободной энциклопед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нет-ресурсы: сайт Музея колоколов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обществознания,2014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836280"/>
            <a:ext cx="4040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484280"/>
            <a:ext cx="4040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знать о историю Музея колоколов ,его особен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сказать о Музее колоколов моим одноклассник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3280" y="764640"/>
            <a:ext cx="4042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4720" y="1483920"/>
            <a:ext cx="4041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йти материал о Музее колокол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учить этот материа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делать презентац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ащитить свою рабо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МБОУСОШ№8\Desktop\музей колоколов\Сжатые\9.jpeg"/>
          <p:cNvPicPr/>
          <p:nvPr/>
        </p:nvPicPr>
        <p:blipFill>
          <a:blip r:embed="rId1"/>
          <a:stretch/>
        </p:blipFill>
        <p:spPr>
          <a:xfrm>
            <a:off x="250920" y="4005360"/>
            <a:ext cx="4276800" cy="245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МБОУСОШ№8\Desktop\музей колоколов\Сжатые\11.jpeg"/>
          <p:cNvPicPr/>
          <p:nvPr/>
        </p:nvPicPr>
        <p:blipFill>
          <a:blip r:embed="rId2"/>
          <a:stretch/>
        </p:blipFill>
        <p:spPr>
          <a:xfrm>
            <a:off x="4932360" y="4005360"/>
            <a:ext cx="381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ъектом моего исследования является Музей колокол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МБОУСОШ№8\Desktop\музей колоколов\Сжатые\взяли\16.jpeg"/>
          <p:cNvPicPr/>
          <p:nvPr/>
        </p:nvPicPr>
        <p:blipFill>
          <a:blip r:embed="rId1"/>
          <a:stretch/>
        </p:blipFill>
        <p:spPr>
          <a:xfrm>
            <a:off x="611280" y="1557360"/>
            <a:ext cx="8064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интересно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легендарная история, связанная с валдайским колоколом.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-то Иван ΙΙΙ решил лишить Новгород самостоятельности. Возжелал князь присоединить большие новгородские земли к Москве. Не захотели бояре терять свои владения и сговорились с Иваном ΙΙΙ, что за неприкосновенность своих вотчин, они отрекутся от вечевого колокол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езли этот символ вольности Новгородской через Валдай. Но не может быть арестованным свободный колокол. Воспротивился он такой несправедливости и разлетелся на множество част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них появились маленькие колокольчики. Сейчас они радуют своим звоном многие семьи и отгоняют от них зл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поверье, что настанет время, когда эти кусочки соберутся воедино. Новообразованный колокол зазвучит звонче прежнего и огласит о наступлении благополучных времен для всех жителей Росс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стория создания музе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836640"/>
            <a:ext cx="8713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узей колоколов в г. Валдае открыт в июне 1995 год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мещается в памятнике архитектуры 18 века церкви во имя Великомученицы Святой Екатери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ание построено по проекту Н. А. Львова на средства, выделенные императрицей Екатериной I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ительство началось в 1793 г. На протяжении XIX начала XX вв. церковные службы совершались крайне редк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920 году здание объявлено памятником архитектуры, охраняемым государством. С 1970 года в нем разместился Валдайский филиал Новгородского государственного объединенного музея-заповед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старый экспонат – псковский колокол, изготовленный в 1536 году. Есть работы шведских и немецких мастеров ΧVΙΙ века. Представлен колокол, принадлежащий самому Карлу ΧΙ – шведскому монарх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и раритетных экземпляров – изготовленный в 1928 году 24-килограммовый сигнальный колоко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МБОУСОШ№8\Desktop\музей колоколов\Сжатые\Leo0007.jpg"/>
          <p:cNvPicPr/>
          <p:nvPr/>
        </p:nvPicPr>
        <p:blipFill>
          <a:blip r:embed="rId1"/>
          <a:stretch/>
        </p:blipFill>
        <p:spPr>
          <a:xfrm>
            <a:off x="324000" y="189000"/>
            <a:ext cx="4032000" cy="345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МБОУСОШ№8\Desktop\музей колоколов\Сжатые\Leo0008.jpg"/>
          <p:cNvPicPr/>
          <p:nvPr/>
        </p:nvPicPr>
        <p:blipFill>
          <a:blip r:embed="rId2"/>
          <a:stretch/>
        </p:blipFill>
        <p:spPr>
          <a:xfrm>
            <a:off x="4500720" y="189000"/>
            <a:ext cx="4319280" cy="345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МБОУСОШ№8\Desktop\музей колоколов\Сжатые\2.jpeg"/>
          <p:cNvPicPr/>
          <p:nvPr/>
        </p:nvPicPr>
        <p:blipFill>
          <a:blip r:embed="rId3"/>
          <a:stretch/>
        </p:blipFill>
        <p:spPr>
          <a:xfrm>
            <a:off x="1547640" y="4076640"/>
            <a:ext cx="6480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окола... Низкие и высокие, густые и тяжелые, легкие, серебристые, грустные и веселые, их голоса всеми народами мира во все времена воспринимались как дар неба — исцеляющий, возвышающий, защищающий человека, его род, его д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3888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ания утверждают, что христианские колокола родились в Италии в провинции Кампана (оттого и в России они долгое время назывались не колоколами, а кампанами) и сделаны были св. Павлинием  по образу и подобию полевых цветков, явившихся ему в видении как голос неба. Металлические "цветки" стали вешать на крышах храмов и звонили они сами собой, при дуновении ветер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C:\Users\МБОУСОШ№8\Desktop\музей колоколов\Сжатые\20295640.jpg"/>
          <p:cNvPicPr/>
          <p:nvPr/>
        </p:nvPicPr>
        <p:blipFill>
          <a:blip r:embed="rId1"/>
          <a:stretch/>
        </p:blipFill>
        <p:spPr>
          <a:xfrm>
            <a:off x="4427640" y="1600200"/>
            <a:ext cx="4176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можно увидеть в Музее  колоко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836280"/>
            <a:ext cx="4316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узее колоколов можно увидеть рядом древнекитайские колокольчики XVI века до нашей эры и русский колокол XVI века нашей эры, корабельную рынду и итальянский кампан  XII века, валдайский ямской колокольчик и буддийский ветровой колокольчик, пастушьи колокольчики из разных стран и континентов и церковные колокола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есь вы сможете увидеть первый русский колокол псковских мастеров XVI века, немецкие средневековые колокола, шведские трофейные колокола, колокола, отлитые в Валдае, Ярославле, Петербурге, Вятке, железнодорожные колокола, подарочные колокольчики, сельскохозяйственные и дверные колокольчики-звон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МБОУСОШ№8\Desktop\музей колоколов\Сжатые\33.jpeg"/>
          <p:cNvPicPr/>
          <p:nvPr/>
        </p:nvPicPr>
        <p:blipFill>
          <a:blip r:embed="rId1"/>
          <a:stretch/>
        </p:blipFill>
        <p:spPr>
          <a:xfrm>
            <a:off x="4572000" y="1052640"/>
            <a:ext cx="4410000" cy="252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МБОУСОШ№8\Desktop\музей колоколов\Сжатые\99.jpeg"/>
          <p:cNvPicPr/>
          <p:nvPr/>
        </p:nvPicPr>
        <p:blipFill>
          <a:blip r:embed="rId2"/>
          <a:stretch/>
        </p:blipFill>
        <p:spPr>
          <a:xfrm>
            <a:off x="4716360" y="3789360"/>
            <a:ext cx="4256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окола музе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МБОУСОШ№8\Desktop\музей колоколов\Сжатые\77.jpeg"/>
          <p:cNvPicPr/>
          <p:nvPr/>
        </p:nvPicPr>
        <p:blipFill>
          <a:blip r:embed="rId1"/>
          <a:stretch/>
        </p:blipFill>
        <p:spPr>
          <a:xfrm>
            <a:off x="1042920" y="1125360"/>
            <a:ext cx="1743120" cy="1810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МБОУСОШ№8\Desktop\музей колоколов\Сжатые\page_0741a1dba0e85532314b2b9fc3de888d.jpg"/>
          <p:cNvPicPr/>
          <p:nvPr/>
        </p:nvPicPr>
        <p:blipFill>
          <a:blip r:embed="rId2"/>
          <a:stretch/>
        </p:blipFill>
        <p:spPr>
          <a:xfrm>
            <a:off x="3780000" y="1052640"/>
            <a:ext cx="4824360" cy="544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МБОУСОШ№8\Desktop\музей колоколов\Сжатые\57243796.jpg"/>
          <p:cNvPicPr/>
          <p:nvPr/>
        </p:nvPicPr>
        <p:blipFill>
          <a:blip r:embed="rId3"/>
          <a:stretch/>
        </p:blipFill>
        <p:spPr>
          <a:xfrm>
            <a:off x="250920" y="3284640"/>
            <a:ext cx="2771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5T10:20:20Z</dcterms:created>
  <dc:creator>user</dc:creator>
  <dc:description/>
  <dc:language>en-US</dc:language>
  <cp:lastModifiedBy>МБОУСОШ№8</cp:lastModifiedBy>
  <dcterms:modified xsi:type="dcterms:W3CDTF">2016-04-16T01:41:05Z</dcterms:modified>
  <cp:revision>22</cp:revision>
  <dc:subject/>
  <dc:title>Презентация PowerPoint</dc:title>
</cp:coreProperties>
</file>