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A423-AE30-4664-8278-E9C9D36985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E809-7356-425A-A0C3-FE147F2E9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D28-F528-4E16-949D-9692ADE3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797-9E18-4BF3-868E-195DB0A2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2058C-CCD0-40C0-935C-1D8410E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6B7FD-664E-4A01-92C7-DAF04FD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D5195-A26D-4598-BC78-34CA81F0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CD88F-6557-4627-B9B4-38AF6C5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B9327-64C6-4ECF-BBC9-81DFC84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7191B-0E00-4A9D-9EC3-87791ED2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978EF-10AA-46C7-885F-AAA484C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29A86-80C0-4F81-B6DE-328B66C8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267A2-C586-4D06-A328-61FDF420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E60-357D-4100-A2B3-6D03C8FA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88E-0E31-4236-8A68-223559E7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6AE1-5D9E-452C-BD29-57B019A9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8A11-6F7C-47D4-BA65-32895520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DE4-4A2D-4931-8094-4DDD1CE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0CFF-4BA0-4EEA-9026-BC678BFB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535A-2CC2-4837-A8AF-0A640685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8004-3D88-41A4-85BF-FCFC98E3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7FFC-238A-41AF-9F0D-9C8BE59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C4B-A353-48C7-9878-94EAA63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A334-E90B-494C-8699-FCD179A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5B7D-AD1B-4075-B5B1-D6B8123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91FF-EBD0-4B02-BBDD-02A65DA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99CC-60C5-4258-8120-A2591C88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4DF-52E9-4206-9918-6E156342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238A-78CC-4882-8D91-3813E670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27D8-AF4A-4A4E-B76B-3CD024E7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242E-D25F-4A12-BE9D-0E3BDE6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9851-9DF7-4285-A31A-19A13E4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4F88-9BD1-4B94-B051-928CB5DE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330-C78E-4429-AA17-CAD037BF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F4AC-EA68-441A-AB0E-1DFCB23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6C6E-8C77-4B4D-A353-ABA835D1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AAF7-5BB8-4E1A-AF9F-A4B3B1FD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2CCD-B0A7-41B9-8352-E658707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21612-8627-43DA-A779-4865EB9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17E1-54C2-4976-A26B-A23A4BDA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A15D-4553-40CB-86B9-4133447A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DC96-E01A-47FC-B1CA-F8F69F87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ECAF-8D3D-4AF9-8FDF-39FCAC6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3246-6266-4441-8AFD-D3293EE3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1DE-DC09-4968-813D-E6F1E0C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D62B-D134-44FA-8068-A712DB45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7631-7F61-4A26-A579-73E199D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8F07-43F7-40E1-97E7-AA5305F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07D5-84B8-442A-8514-A2AAE37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B0CF-AA24-42B3-A74F-3E0EFC0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5C094-B580-42AF-A915-9CBA6E63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D9A7-5B30-410D-9EBF-B4D2B016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02C3-6916-4A15-ADAA-873AACA1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F9E3-EBBE-444A-A212-F95C1B7B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C065-8A2E-484B-A045-59BB93C3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B8B-6819-4F39-8159-28531520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0A79-D84B-4E2B-9F2D-3506E5AD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CF71-7BEA-40B5-903B-89A9B71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506E-8256-452A-92CC-A3FD870C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5435-290B-4F5A-AE44-35C99A87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9570D-6AAD-46D3-8F81-E078B6B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83F4-7757-4A9A-BF3D-6C217E3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CCD5B-1794-4960-8C25-6D8F315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8638A-CF41-4496-8CE7-CE1F26D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64A75-85FE-4A6C-BE05-A42C67C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BB4D-F5AA-43E4-87A4-CCE2632F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53B-F599-4445-86D4-A600330C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B305-7312-4396-9302-B54B1D1C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6BB8-7552-43E1-8F71-08A73C9D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F020C-B3AC-4F75-8E07-B74A926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EEEC-9DA2-4BA6-B3D0-3D740E6C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BC80-567B-4B65-9300-26D5C26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C290F-B95C-4E59-986D-36A3FC9F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7ABB1-CF51-4F01-A289-8C465D1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B90D-525C-43FF-AD91-80A943F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2BFCC-E794-4DD5-B28C-314C13CE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CE43-1043-48C3-A867-8430BC71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057-00F3-42C3-8DD2-126DB03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B253-A43D-47D9-9CDF-178C5D0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92B6D-C359-49F2-BFCA-ED58B2B0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9805-D79C-4242-A74C-6FA31A0C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DA16C-A651-4DC2-B49F-4C03BB52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450E2-59E2-4A8B-8B88-FFF3F181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EC656-E1B8-4458-A4F4-9314332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F1FD-BC15-43C0-A8D6-2E7495B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0E2E-CD1F-4594-BC82-44A039BF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906B-B21F-4C4E-99E7-94842397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411B-D728-4769-9930-C7F40AA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35A-106E-4C77-9C6F-5228CF6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662B-50BA-44C0-B612-50BEA7F4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8CB0-E0C8-42BB-87FB-53789C4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29772-6D0E-4877-A802-0972A28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3F89-026A-45B0-83DE-8B7C0095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30F0F-AFC5-4FCB-BA72-20363944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5CDAA-B989-4C3B-88D4-3C2F050E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1FA3D-077C-4AE7-8C45-A367A315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6E8C-1834-46E1-BCB7-ADF5C56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D9A8B-903C-4DEF-AC8F-299D26B5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29C02-A5A8-40AC-927F-DB22C169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85A-B48B-4BB0-AF20-CEB9200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9263-3842-4D65-9203-2314402E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963CD-62F9-480E-A2DA-7B19962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532D4-CBFE-4DC2-B2B5-C8F192C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41A1-46DE-4667-ACC2-ECFE440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2F0FA-D0AB-4FF0-A760-142696FE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5E197-9568-44C7-B083-747B0FD9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4C427-10D2-4C9F-BD08-B84778DF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0BE60-CBC7-4963-B7BA-C1552252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552ED-F353-406C-8011-F3F6373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FAF0A-78A4-4F81-8788-929B89F5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061-344A-4809-87B4-3B936C688123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7D45-5B66-4C98-87E8-C58C620B51CD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EBF4-6615-402A-83AC-E0CC3DFF9FED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4b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d4b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4b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d4b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4b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d4b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4b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d4b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4b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d4b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993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4b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d4b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993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4b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d4b7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4b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d4b7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5BD2-BF3E-4414-94D9-91801FFEE19E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693-2526-4C06-8453-B647F0237673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075-120F-4229-A4C0-E411278F25C3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372B-DDE6-4E15-8686-4888BE21B0C3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1004-F9DF-44B8-9322-A98693218891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6211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1c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427F-2239-4B55-9A2A-1EF95906EA4F}" type="slidenum">
              <a:rPr b="0" lang="en-US" sz="1200" spc="-1" strike="noStrike">
                <a:solidFill>
                  <a:srgbClr val="751c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311040" y="3110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3"/>
          <a:stretch/>
        </p:blipFill>
        <p:spPr>
          <a:xfrm>
            <a:off x="971640" y="1197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4"/>
          <a:stretch/>
        </p:blipFill>
        <p:spPr>
          <a:xfrm>
            <a:off x="324000" y="213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324000" y="1052640"/>
            <a:ext cx="476280" cy="9522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1258920" y="2349360"/>
            <a:ext cx="47628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1258920" y="189000"/>
            <a:ext cx="47628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6804000" y="4869000"/>
            <a:ext cx="1800360" cy="1649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908000" y="1916280"/>
            <a:ext cx="7236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d4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МУЗЫ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    </a:t>
            </a: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ТВОРЧЕСТВ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         </a:t>
            </a: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КОМПЬЮТ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580000" y="2565360"/>
            <a:ext cx="356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Georgia"/>
              </a:rPr>
              <a:t>Анри Матисс</a:t>
            </a:r>
            <a:br>
              <a:rPr sz="3200"/>
            </a:br>
            <a:r>
              <a:rPr b="1" i="1" lang="ru-RU" sz="3200" spc="-1" strike="noStrike">
                <a:solidFill>
                  <a:srgbClr val="0066ff"/>
                </a:solidFill>
                <a:latin typeface="Georgia"/>
              </a:rPr>
              <a:t>«Красные рыбки»</a:t>
            </a:r>
            <a:endParaRPr b="0" lang="en-US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43" name="Picture 4" descr="аквариум"/>
          <p:cNvPicPr/>
          <p:nvPr/>
        </p:nvPicPr>
        <p:blipFill>
          <a:blip r:embed="rId2"/>
          <a:stretch/>
        </p:blipFill>
        <p:spPr>
          <a:xfrm>
            <a:off x="0" y="0"/>
            <a:ext cx="53816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311040" y="3110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3"/>
          <a:stretch/>
        </p:blipFill>
        <p:spPr>
          <a:xfrm>
            <a:off x="1116000" y="1341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4"/>
          <a:stretch/>
        </p:blipFill>
        <p:spPr>
          <a:xfrm>
            <a:off x="165240" y="24512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324000" y="1052640"/>
            <a:ext cx="476280" cy="9522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1258920" y="2349360"/>
            <a:ext cx="476280" cy="9525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1258920" y="189000"/>
            <a:ext cx="476280" cy="952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8"/>
          <a:stretch/>
        </p:blipFill>
        <p:spPr>
          <a:xfrm>
            <a:off x="7343640" y="5208480"/>
            <a:ext cx="1800360" cy="16495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908000" y="1916280"/>
            <a:ext cx="7236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d4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МУЗЫ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    </a:t>
            </a: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ТВОРЧЕСТВ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         </a:t>
            </a: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КОМПЬЮТ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2719440" y="1079640"/>
            <a:ext cx="3632040" cy="10893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68360" y="189000"/>
            <a:ext cx="81374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d4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Georgia"/>
              </a:rPr>
              <a:t>КАМИЛЬ СЕН- САН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211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rcRect l="0" t="0" r="1564" b="243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3924360" y="3933720"/>
            <a:ext cx="1584360" cy="287280"/>
          </a:xfrm>
          <a:prstGeom prst="rect">
            <a:avLst/>
          </a:prstGeom>
          <a:noFill/>
          <a:ln w="5724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462560" y="2636640"/>
            <a:ext cx="4681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Цвет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Цветовые сочетания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Контур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Тон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250920" y="2637000"/>
            <a:ext cx="4681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Темб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Динамические отт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Мело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Г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12536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Средства</a:t>
            </a:r>
            <a:r>
              <a:rPr b="0" i="1" lang="en-US" sz="2800" spc="-1" strike="noStrike">
                <a:solidFill>
                  <a:srgbClr val="0066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музыкальной</a:t>
            </a:r>
            <a:r>
              <a:rPr b="0" i="1" lang="en-US" sz="2800" spc="-1" strike="noStrike">
                <a:solidFill>
                  <a:srgbClr val="0066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выраз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4932360" y="1125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Средства</a:t>
            </a:r>
            <a:r>
              <a:rPr b="0" i="1" lang="en-US" sz="2800" spc="-1" strike="noStrike">
                <a:solidFill>
                  <a:srgbClr val="0066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художественной</a:t>
            </a:r>
            <a:r>
              <a:rPr b="0" i="1" lang="en-US" sz="2800" spc="-1" strike="noStrike">
                <a:solidFill>
                  <a:srgbClr val="0066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выраз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1714680" y="1714680"/>
            <a:ext cx="662436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Отт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Выразитель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Georgia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1720" indent="-7099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500040" y="1096920"/>
            <a:ext cx="82296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75f6d"/>
                </a:solidFill>
                <a:latin typeface="Georgia"/>
              </a:rPr>
              <a:t>Мы познакомились с французским композитором, которого зовут…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75f6d"/>
                </a:solidFill>
                <a:latin typeface="Georgia"/>
              </a:rPr>
              <a:t>Камиль Сен-Санс сочинил необычное произведение под названием…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75f6d"/>
                </a:solidFill>
                <a:latin typeface="Georgia"/>
              </a:rPr>
              <a:t>«Карнавал животных» - симфоническое произведение, состоящее из …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75f6d"/>
                </a:solidFill>
                <a:latin typeface="Georgia"/>
              </a:rPr>
              <a:t>Пьеса, которую мы слушали сегодня, называется…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6211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4027320" y="14349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Georgia"/>
              </a:rPr>
              <a:t>Камиль Сен-Са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4041360" y="270828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«Карнавал живот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5381280" y="436572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14 пь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816440" y="5589720"/>
            <a:ext cx="24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Аквариум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78920" y="1413000"/>
            <a:ext cx="921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Сквозь серебристые струи воды,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среди мерцания изумрудной зелени,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       </a:t>
            </a: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неторопливо плавают,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прекрасные и беспомощные,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                       </a:t>
            </a:r>
            <a:r>
              <a:rPr b="1" i="1" lang="en-US" sz="2800" spc="-1" strike="noStrike">
                <a:solidFill>
                  <a:srgbClr val="0066ff"/>
                </a:solidFill>
                <a:latin typeface="Georgia"/>
              </a:rPr>
              <a:t>безмолвные рыбки.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185840" y="602136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(«Хокку,танку - японское стихотворение, без риф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5:46:06Z</dcterms:created>
  <dc:creator>UseR</dc:creator>
  <dc:description/>
  <dc:language>en-US</dc:language>
  <cp:lastModifiedBy>Бухгалтерия</cp:lastModifiedBy>
  <dcterms:modified xsi:type="dcterms:W3CDTF">2009-03-31T09:38:27Z</dcterms:modified>
  <cp:revision>32</cp:revision>
  <dc:subject/>
  <dc:title>Слайд 1</dc:title>
</cp:coreProperties>
</file>