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207-C687-45AB-B8B3-973B0E12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36A-A30D-406D-9704-0A60DA4E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B70-E2E0-47A7-9EBC-BE05150C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56E-D920-4497-A331-610E7780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398F-54E2-411C-A62A-7E0C6E8C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540-64E0-438D-91A3-B07C0F0E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0BC-02D8-4341-B6F6-BB0D4B0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99B-98C7-4AAB-8CBB-5C6BDE7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F67B-AC27-4E0C-A28C-A6B3DE5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786A-A05E-4519-AD70-13B2890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0B8-69E7-47C1-B0BB-5AACEB4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226-8340-4DE3-BCB0-18E0345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04D6-EED8-4349-9679-3967B067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703E-0AD6-4AE9-B610-9FA0D2C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948-C537-434A-968D-E8C621C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4C2-1BE2-492A-8396-D383531B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63A-5DB5-45FC-8049-66516170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C03-80D5-48B7-B2A0-986113D0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648-26DD-4882-9FA6-31F9E62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078-3A0E-4C87-A344-7AF602E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75D-A3A2-4E33-A0A9-89E2109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1F0-C122-4320-866C-2BE3FABE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1BC-A707-45BE-855D-CF43275C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58F-EF2F-47D1-A5FD-17F5B95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DF8-FB6F-48D2-8373-AC8AF3BDFD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6001-35B1-4969-9858-97496E513E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Franklin Gothic Medium"/>
              </a:rPr>
              <a:t>Музыкальные инструменты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Franklin Gothic Medium"/>
              </a:rPr>
              <a:t> коренных народов Север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953160" cy="4437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6154560"/>
            <a:ext cx="856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ицкая Светлана Валерьев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музыки МБОУ БГО «Борисоглебская гимназия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1557360"/>
            <a:ext cx="3961080" cy="7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71640" cy="439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1557360"/>
            <a:ext cx="73080" cy="439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950080"/>
            <a:ext cx="3961080" cy="7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Известно, что этот инструмент шаманы никогда не продавали, считая, что продав его, продаешь свою душу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793880"/>
            <a:ext cx="4897440" cy="206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5159520" cy="203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92720" y="191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верные манси называли этот инструмен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нквыл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773360"/>
            <a:ext cx="73080" cy="20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3860640"/>
            <a:ext cx="489744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773360"/>
            <a:ext cx="489744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1773360"/>
            <a:ext cx="71280" cy="21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4292640"/>
            <a:ext cx="7308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4221000"/>
            <a:ext cx="5113440" cy="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6308640"/>
            <a:ext cx="511344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64720" y="4221000"/>
            <a:ext cx="71280" cy="216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Смычковые музыкальные инструмен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4581360"/>
            <a:ext cx="44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780080" cy="243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9640" y="1844640"/>
            <a:ext cx="360360" cy="24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844640"/>
            <a:ext cx="144360" cy="24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4149720"/>
            <a:ext cx="44640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844640"/>
            <a:ext cx="44640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1844640"/>
            <a:ext cx="142920" cy="24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4581360"/>
            <a:ext cx="142920" cy="216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48720" y="4581360"/>
            <a:ext cx="144360" cy="216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508640"/>
            <a:ext cx="4608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6597720"/>
            <a:ext cx="432108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1989000"/>
            <a:ext cx="33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струнные, двухструнные смычковые коробчатые лютни. Северные манси  называли – нэрнэ йи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653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жные манси – нернэх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При игре инструмент держат  вертикально на колене и водят смычком по струна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321080" cy="2114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16360" y="4216320"/>
            <a:ext cx="4008600" cy="2473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16360" y="4221000"/>
            <a:ext cx="142920" cy="244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75640" y="4221000"/>
            <a:ext cx="144360" cy="244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4149720"/>
            <a:ext cx="410364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6597720"/>
            <a:ext cx="41036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44640"/>
            <a:ext cx="144360" cy="20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1844640"/>
            <a:ext cx="144720" cy="20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43927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3860640"/>
            <a:ext cx="43927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1989000"/>
            <a:ext cx="32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бчатая двухструнная смычковая лютня. Восточные ханты называли её кугель – й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тичье дере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29264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хструнная смычковая лютня называла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рхжав й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журавлиное дере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Смычковый инструмент по звучанию напоминает плач, он передает все оттенки человеческого голос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291200" cy="2243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49417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нешне напоминает скрипку. Состоит из грифа, корпуса и деки. Имеется смычок, струна которого сделана из крученого конского вол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292640"/>
            <a:ext cx="43214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060640"/>
            <a:ext cx="43214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2060640"/>
            <a:ext cx="7308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2060640"/>
            <a:ext cx="7308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Язычковый музыкальный инструмент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губной музыкальный инструмент класса варганов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99640" y="4365720"/>
            <a:ext cx="67820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й древний инструмент, прошедший через века. У разных народов мира он известен под разными названиям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е манси называли –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арган тумр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резовские ханты – варган томр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ргутские – томрэ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хо – васюганские - том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392720" cy="2595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95640" y="1628640"/>
            <a:ext cx="72720" cy="25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628640"/>
            <a:ext cx="73080" cy="25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628640"/>
            <a:ext cx="453708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4221000"/>
            <a:ext cx="453708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Костяная пластинка в форме вытянутого прямоугольника. Через сквозное отверстие пропущена и привязана веревочка из скрученных нитей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85080" cy="3044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5892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грают на нем слегка прижимая его к губам. Голос у инструмента – магический и завораживающий, поэтому ханты и манси считают. Что он отгоняет злых духов и излечивает боль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1773360"/>
            <a:ext cx="72720" cy="30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1773360"/>
            <a:ext cx="73080" cy="30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1773360"/>
            <a:ext cx="53290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4724280"/>
            <a:ext cx="532908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В мире музы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зыка – это символ жизни, она возвращает нас к истокам, к природе, к традициям. Она сопровождает человека всю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читывается почти 27 видов музыкальных инструментов народов ханты и манси. Все они изготавливались обычно вручную из природного материала – хорошо высушенного дерева, кости, жил, волоса, травы, листьев. На них играли в обычной обстановке, во время медвежьих игрищ и других празд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мните и сохраняйте традиции коренных народов Севе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Ударный шумовой</a:t>
            </a:r>
            <a:br>
              <a:rPr sz="3200"/>
            </a:b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инструмент Бубен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нсийское название бубна – койп. Один из главных шаманских атрибутов, который используют шаманы при совершении религиозных обрядов, так как считается, что его звук обладает магической силой, способной отгонять  злых дух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26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В настоящее время бубны как музыкальный инструмент используется танцевальными коллективами при исполнении национальных танцев ханты и манс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6697800" cy="367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87280" y="6165720"/>
            <a:ext cx="669780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637000"/>
            <a:ext cx="6697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637000"/>
            <a:ext cx="142920" cy="36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0720" y="2637000"/>
            <a:ext cx="144360" cy="36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Щипковые музыкальные инструмен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668600"/>
            <a:ext cx="5904000" cy="305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42920" y="5084640"/>
            <a:ext cx="70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орпус вырезан из цельного куска дерева и напоминает плывущую птицу с головой коня. Струнный щипковый музыкальный инструмент. Закреплено 9 струн из тонкой проволо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1628640"/>
            <a:ext cx="144360" cy="3097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628640"/>
            <a:ext cx="144360" cy="30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1557360"/>
            <a:ext cx="597708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653000"/>
            <a:ext cx="597708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Угловая арфа ( манси)</a:t>
            </a:r>
            <a:br>
              <a:rPr sz="2800"/>
            </a:b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автор Григорий Николаевич Сайнахов</a:t>
            </a:r>
            <a:br>
              <a:rPr sz="2000"/>
            </a:b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музей Природы и Человека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г. Ханты - Мансийск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006720" cy="396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16360" y="2276640"/>
            <a:ext cx="144360" cy="396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276640"/>
            <a:ext cx="144720" cy="396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133720"/>
            <a:ext cx="309564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6237360"/>
            <a:ext cx="309564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Угловая арфа ( манси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368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1700280"/>
            <a:ext cx="698508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1700280"/>
            <a:ext cx="73080" cy="3673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373720"/>
            <a:ext cx="7058160" cy="7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1700280"/>
            <a:ext cx="71280" cy="37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ятиструнная продолговатая цитр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вук инструмента завораживает своей мелодичностью как человека, так и животное, птицу, потому его называют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голосом поющего бо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737320" cy="2317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3933720"/>
            <a:ext cx="7164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3933720"/>
            <a:ext cx="7308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933720"/>
            <a:ext cx="5761080" cy="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6165720"/>
            <a:ext cx="5761080" cy="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ри игре инструмент кладут горизонтально на колени, повернув его на бок. Играют на нём двумя руками: одной защипывают струны, другой – приглушают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6764400" cy="3006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32000" y="5445000"/>
            <a:ext cx="676908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565360"/>
            <a:ext cx="144360" cy="302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565360"/>
            <a:ext cx="684216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28000" y="2565360"/>
            <a:ext cx="144360" cy="302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9500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Автор Александр Михайлович Однокулов г. Няга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Этот инструмент имеет разное назв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5040360" cy="199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51280" y="4492800"/>
            <a:ext cx="4938840" cy="202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24360" y="1916280"/>
            <a:ext cx="3419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зымские ханты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сть й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резовские – нарс й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аркальские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эсь й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365720"/>
            <a:ext cx="3456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ргутские – наркис йух (играющее дере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сюганские – вахо панап й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струнное дере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844640"/>
            <a:ext cx="71280" cy="20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1844640"/>
            <a:ext cx="73080" cy="20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73360"/>
            <a:ext cx="504036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860640"/>
            <a:ext cx="504036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4508640"/>
            <a:ext cx="71280" cy="20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4437000"/>
            <a:ext cx="4968720" cy="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6524640"/>
            <a:ext cx="504000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8720" y="4437000"/>
            <a:ext cx="71280" cy="216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2:51:05Z</dcterms:created>
  <dc:creator>HMAO</dc:creator>
  <dc:description/>
  <dc:language>en-US</dc:language>
  <cp:lastModifiedBy>Студия</cp:lastModifiedBy>
  <dcterms:modified xsi:type="dcterms:W3CDTF">2016-06-28T06:44:37Z</dcterms:modified>
  <cp:revision>8</cp:revision>
  <dc:subject/>
  <dc:title>Музыкальные инструменты народов севера</dc:title>
</cp:coreProperties>
</file>