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7621588" cy="64404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734B-3F83-462B-ACFC-8B1256B5A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56680"/>
            <a:ext cx="685800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01920"/>
            <a:ext cx="685800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1680"/>
            <a:ext cx="685800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A0A1-87F9-4C11-84BE-84BB9C72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56680"/>
            <a:ext cx="685800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501920"/>
            <a:ext cx="334656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501920"/>
            <a:ext cx="334656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1680"/>
            <a:ext cx="334656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721680"/>
            <a:ext cx="334656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3A7A-BC66-4229-9497-5C5CDCD6B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56680"/>
            <a:ext cx="685800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501920"/>
            <a:ext cx="220788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501920"/>
            <a:ext cx="220788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501920"/>
            <a:ext cx="220788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1680"/>
            <a:ext cx="220788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721680"/>
            <a:ext cx="220788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721680"/>
            <a:ext cx="220788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887C-71E3-479F-B653-1F39C2E8A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56680"/>
            <a:ext cx="685800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501920"/>
            <a:ext cx="6858000" cy="42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C3BF-7372-407D-9CAF-01F55408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56680"/>
            <a:ext cx="685800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01920"/>
            <a:ext cx="68580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6F4E-272E-4214-9D97-AD07ADB3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56680"/>
            <a:ext cx="685800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01920"/>
            <a:ext cx="334656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501920"/>
            <a:ext cx="334656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3D0F-BC34-4DE3-88F2-7967BE35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56680"/>
            <a:ext cx="685800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9F47-B79E-4B82-9BB9-3BB0DBFD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56680"/>
            <a:ext cx="6858000" cy="49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BB58-175F-4B96-BE6F-2837FBC4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56680"/>
            <a:ext cx="685800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501920"/>
            <a:ext cx="334656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501920"/>
            <a:ext cx="334656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1680"/>
            <a:ext cx="334656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8C36-A7B1-4122-AEBA-0D19A942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56680"/>
            <a:ext cx="685800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01920"/>
            <a:ext cx="334656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501920"/>
            <a:ext cx="334656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721680"/>
            <a:ext cx="334656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DD4C-3E8D-4175-B576-649D5838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56680"/>
            <a:ext cx="685800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501920"/>
            <a:ext cx="334656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501920"/>
            <a:ext cx="334656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1680"/>
            <a:ext cx="685800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A837-FF7A-4147-9CCC-27B5A632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56680"/>
            <a:ext cx="685800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01920"/>
            <a:ext cx="68580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864040"/>
            <a:ext cx="17780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864040"/>
            <a:ext cx="241308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864040"/>
            <a:ext cx="17780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E1E6-0B9D-4393-9F31-D0361E81D6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622440" y="1460520"/>
            <a:ext cx="57085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0000"/>
                </a:solidFill>
                <a:uFillTx/>
                <a:latin typeface="Times New Roman"/>
              </a:rPr>
              <a:t>Цел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Times New Roman"/>
              </a:rPr>
              <a:t>- умение употреблять приставки ПРЕ- и ПРИ-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Times New Roman"/>
              </a:rPr>
              <a:t>- формирование навыка правописания слов 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ff0000"/>
                </a:solidFill>
                <a:latin typeface="Times New Roman"/>
              </a:rPr>
              <a:t>приставками, в которых легко определяется значени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165320" y="336600"/>
            <a:ext cx="5803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ff0000"/>
                </a:solidFill>
                <a:uFillTx/>
                <a:latin typeface="Times New Roman"/>
              </a:rPr>
              <a:t>Тема:</a:t>
            </a:r>
            <a:r>
              <a:rPr b="0" lang="ru-RU" sz="2100" spc="-1" strike="noStrike">
                <a:solidFill>
                  <a:srgbClr val="ff0000"/>
                </a:solidFill>
                <a:latin typeface="Times New Roman"/>
              </a:rPr>
              <a:t> Правописание приставок ПРЕ- и ПРИ-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7"/>
          <p:cNvGrpSpPr/>
          <p:nvPr/>
        </p:nvGrpSpPr>
        <p:grpSpPr>
          <a:xfrm>
            <a:off x="5334120" y="4467240"/>
            <a:ext cx="1428480" cy="1457280"/>
            <a:chOff x="5334120" y="4467240"/>
            <a:chExt cx="1428480" cy="1457280"/>
          </a:xfrm>
        </p:grpSpPr>
        <p:pic>
          <p:nvPicPr>
            <p:cNvPr id="44" name="Picture 5" descr="jiv1461"/>
            <p:cNvPicPr/>
            <p:nvPr/>
          </p:nvPicPr>
          <p:blipFill>
            <a:blip r:embed="rId2"/>
            <a:stretch/>
          </p:blipFill>
          <p:spPr>
            <a:xfrm>
              <a:off x="5334120" y="4467240"/>
              <a:ext cx="1428480" cy="14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6" descr="pageLink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5334120" y="5753160"/>
              <a:ext cx="171360" cy="17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374760" y="361800"/>
            <a:ext cx="610848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ff0000"/>
                </a:solidFill>
                <a:uFillTx/>
                <a:latin typeface="Times New Roman"/>
              </a:rPr>
              <a:t>Словарный диктан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ытожить, бесстрашный, спуститься, поиграть, сверхинтересный, взглянуть, испечь, контригра, измерить, предыстор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5"/>
          <p:cNvGrpSpPr/>
          <p:nvPr/>
        </p:nvGrpSpPr>
        <p:grpSpPr>
          <a:xfrm>
            <a:off x="6067440" y="4581360"/>
            <a:ext cx="1428840" cy="1457640"/>
            <a:chOff x="6067440" y="4581360"/>
            <a:chExt cx="1428840" cy="1457640"/>
          </a:xfrm>
        </p:grpSpPr>
        <p:pic>
          <p:nvPicPr>
            <p:cNvPr id="48" name="Picture 3" descr="jiv1461"/>
            <p:cNvPicPr/>
            <p:nvPr/>
          </p:nvPicPr>
          <p:blipFill>
            <a:blip r:embed="rId2"/>
            <a:stretch/>
          </p:blipFill>
          <p:spPr>
            <a:xfrm>
              <a:off x="6067440" y="4581360"/>
              <a:ext cx="1428840" cy="14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" descr="pageLink(1)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067440" y="5867280"/>
              <a:ext cx="171360" cy="17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9" descr=""/>
          <p:cNvPicPr/>
          <p:nvPr/>
        </p:nvPicPr>
        <p:blipFill>
          <a:blip r:embed="rId2"/>
          <a:stretch/>
        </p:blipFill>
        <p:spPr>
          <a:xfrm>
            <a:off x="0" y="0"/>
            <a:ext cx="7620120" cy="643896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21"/>
          <p:cNvSpPr/>
          <p:nvPr/>
        </p:nvSpPr>
        <p:spPr>
          <a:xfrm>
            <a:off x="452520" y="0"/>
            <a:ext cx="31431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ергей Есен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Бер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Белая бер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од моим ок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р(е,и)накрылась снег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Точно серебр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На пушистых вет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нежною кай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Распустились ки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Белой бахро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И стоит бер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 сонной тишин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И горят снежи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 золотом ог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А заря, лени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Обходя круг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Обсыпает ве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Новым сереб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498680" y="355680"/>
            <a:ext cx="58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Правописание приставок ПРЕ- и ПР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831960" y="1155600"/>
            <a:ext cx="3213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800080"/>
                </a:solidFill>
                <a:latin typeface="Times New Roman"/>
              </a:rPr>
              <a:t>Внимательно изучите схему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4"/>
          <p:cNvSpPr/>
          <p:nvPr/>
        </p:nvSpPr>
        <p:spPr>
          <a:xfrm>
            <a:off x="2666880" y="1866960"/>
            <a:ext cx="2306880" cy="372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994120" y="1908000"/>
            <a:ext cx="174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8b"/>
                </a:solidFill>
                <a:latin typeface="Times New Roman"/>
              </a:rPr>
              <a:t>Приставки ПРЕ- и ПРИ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 flipH="1">
            <a:off x="2085840" y="2286000"/>
            <a:ext cx="1609920" cy="380880"/>
          </a:xfrm>
          <a:prstGeom prst="line">
            <a:avLst/>
          </a:prstGeom>
          <a:ln w="76320">
            <a:solidFill>
              <a:srgbClr val="0000ff"/>
            </a:solidFill>
            <a:miter/>
            <a:headEnd len="sm" type="diamond" w="med"/>
            <a:tailEnd len="sm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>
            <a:off x="3809880" y="2286000"/>
            <a:ext cx="1638360" cy="438120"/>
          </a:xfrm>
          <a:prstGeom prst="line">
            <a:avLst/>
          </a:prstGeom>
          <a:ln w="76320">
            <a:solidFill>
              <a:srgbClr val="0000ff"/>
            </a:solidFill>
            <a:miter/>
            <a:headEnd len="sm" type="diamond" w="med"/>
            <a:tailEnd len="sm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1031760" y="2946240"/>
            <a:ext cx="2222640" cy="14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8b"/>
                </a:solidFill>
                <a:latin typeface="Times New Roman"/>
              </a:rPr>
              <a:t>1. =пере, через, по-ином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8b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8b"/>
                </a:solidFill>
                <a:latin typeface="Times New Roman"/>
              </a:rPr>
              <a:t>преград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8b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8b"/>
                </a:solidFill>
                <a:latin typeface="Times New Roman"/>
              </a:rPr>
              <a:t>превращ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8b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8b"/>
                </a:solidFill>
                <a:latin typeface="Times New Roman"/>
              </a:rPr>
              <a:t>2. =очень, весьм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8b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8b"/>
                </a:solidFill>
                <a:latin typeface="Times New Roman"/>
              </a:rPr>
              <a:t>пребольш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8b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8b"/>
                </a:solidFill>
                <a:latin typeface="Times New Roman"/>
              </a:rPr>
              <a:t>премил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4213080" y="2946240"/>
            <a:ext cx="252756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b"/>
                </a:solidFill>
                <a:latin typeface="Times New Roman"/>
              </a:rPr>
              <a:t>1. Пространственная близ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b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8b"/>
                </a:solidFill>
                <a:latin typeface="Times New Roman"/>
              </a:rPr>
              <a:t>прибреж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8b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8b"/>
                </a:solidFill>
                <a:latin typeface="Times New Roman"/>
              </a:rPr>
              <a:t>приусадеб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b"/>
                </a:solidFill>
                <a:latin typeface="Times New Roman"/>
              </a:rPr>
              <a:t>2. Прибли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b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8b"/>
                </a:solidFill>
                <a:latin typeface="Times New Roman"/>
              </a:rPr>
              <a:t>прилете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8b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8b"/>
                </a:solidFill>
                <a:latin typeface="Times New Roman"/>
              </a:rPr>
              <a:t>приех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b"/>
                </a:solidFill>
                <a:latin typeface="Times New Roman"/>
              </a:rPr>
              <a:t>3. Присоеди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b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8b"/>
                </a:solidFill>
                <a:latin typeface="Times New Roman"/>
              </a:rPr>
              <a:t>прилеп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8b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8b"/>
                </a:solidFill>
                <a:latin typeface="Times New Roman"/>
              </a:rPr>
              <a:t>приш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b"/>
                </a:solidFill>
                <a:latin typeface="Times New Roman"/>
              </a:rPr>
              <a:t>4. Приб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8b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8b"/>
                </a:solidFill>
                <a:latin typeface="Times New Roman"/>
              </a:rPr>
              <a:t>пририсов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b"/>
                </a:solidFill>
                <a:latin typeface="Times New Roman"/>
              </a:rPr>
              <a:t>5. Неполное 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b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8b"/>
                </a:solidFill>
                <a:latin typeface="Times New Roman"/>
              </a:rPr>
              <a:t>прилеч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8b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8b"/>
                </a:solidFill>
                <a:latin typeface="Times New Roman"/>
              </a:rPr>
              <a:t>присе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2"/>
          <p:cNvGrpSpPr/>
          <p:nvPr/>
        </p:nvGrpSpPr>
        <p:grpSpPr>
          <a:xfrm>
            <a:off x="237960" y="4719600"/>
            <a:ext cx="1428840" cy="1457280"/>
            <a:chOff x="237960" y="4719600"/>
            <a:chExt cx="1428840" cy="1457280"/>
          </a:xfrm>
        </p:grpSpPr>
        <p:pic>
          <p:nvPicPr>
            <p:cNvPr id="61" name="Picture 10" descr="jiv1461"/>
            <p:cNvPicPr/>
            <p:nvPr/>
          </p:nvPicPr>
          <p:blipFill>
            <a:blip r:embed="rId2"/>
            <a:stretch/>
          </p:blipFill>
          <p:spPr>
            <a:xfrm>
              <a:off x="237960" y="4719600"/>
              <a:ext cx="1428840" cy="14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11" descr="pageLink(6)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237960" y="6005160"/>
              <a:ext cx="171360" cy="17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012680" y="289080"/>
            <a:ext cx="6013440" cy="42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1900" spc="-1" strike="noStrike">
                <a:solidFill>
                  <a:srgbClr val="ff0000"/>
                </a:solidFill>
                <a:latin typeface="Times New Roman"/>
              </a:rPr>
              <a:t>                     </a:t>
            </a:r>
            <a:r>
              <a:rPr b="1" lang="ru-RU" sz="1900" spc="-1" strike="noStrike">
                <a:solidFill>
                  <a:srgbClr val="ff0000"/>
                </a:solidFill>
                <a:latin typeface="Times New Roman"/>
              </a:rPr>
              <a:t>Это нужно помнить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8b0000"/>
                </a:solidFill>
                <a:latin typeface="Times New Roman"/>
              </a:rPr>
              <a:t>1. Значение приставок неясно                2. ПРЕ- и ПРИ- могут не являться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8b0000"/>
                </a:solidFill>
                <a:latin typeface="Times New Roman"/>
              </a:rPr>
              <a:t>                                                                           </a:t>
            </a:r>
            <a:r>
              <a:rPr b="1" lang="ru-RU" sz="1300" spc="-1" strike="noStrike">
                <a:solidFill>
                  <a:srgbClr val="8b0000"/>
                </a:solidFill>
                <a:latin typeface="Times New Roman"/>
              </a:rPr>
              <a:t>приставкам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1300" spc="-1" strike="noStrike">
                <a:solidFill>
                  <a:srgbClr val="0000ff"/>
                </a:solidFill>
                <a:latin typeface="Times New Roman"/>
              </a:rPr>
              <a:t>причудливый                                              прелестный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1300" spc="-1" strike="noStrike">
                <a:solidFill>
                  <a:srgbClr val="0000ff"/>
                </a:solidFill>
                <a:latin typeface="Times New Roman"/>
              </a:rPr>
              <a:t>приследовать                                               премерны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1300" spc="-1" strike="noStrike">
                <a:solidFill>
                  <a:srgbClr val="0000ff"/>
                </a:solidFill>
                <a:latin typeface="Times New Roman"/>
              </a:rPr>
              <a:t>преобразовать                                              президиу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1300" spc="-1" strike="noStrike">
                <a:solidFill>
                  <a:srgbClr val="0000ff"/>
                </a:solidFill>
                <a:latin typeface="Times New Roman"/>
              </a:rPr>
              <a:t>знаки препинания                                       природа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1300" spc="-1" strike="noStrike">
                <a:solidFill>
                  <a:srgbClr val="0000ff"/>
                </a:solidFill>
                <a:latin typeface="Times New Roman"/>
              </a:rPr>
              <a:t>присмереть                                                    прелюд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1300" spc="-1" strike="noStrike">
                <a:solidFill>
                  <a:srgbClr val="0000ff"/>
                </a:solidFill>
                <a:latin typeface="Times New Roman"/>
              </a:rPr>
              <a:t>беспрекословный                                        привилег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1300" spc="-1" strike="noStrike">
                <a:solidFill>
                  <a:srgbClr val="0000ff"/>
                </a:solidFill>
                <a:latin typeface="Times New Roman"/>
              </a:rPr>
              <a:t>пресловутый                                                 прибор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1300" spc="-1" strike="noStrike">
                <a:solidFill>
                  <a:srgbClr val="0000ff"/>
                </a:solidFill>
                <a:latin typeface="Times New Roman"/>
              </a:rPr>
              <a:t>прискорбный факт                                      примитивны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1300" spc="-1" strike="noStrike">
                <a:solidFill>
                  <a:srgbClr val="0000ff"/>
                </a:solidFill>
                <a:latin typeface="Times New Roman"/>
              </a:rPr>
              <a:t>препятствие                                                  приорите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1300" spc="-1" strike="noStrike">
                <a:solidFill>
                  <a:srgbClr val="0000ff"/>
                </a:solidFill>
                <a:latin typeface="Times New Roman"/>
              </a:rPr>
              <a:t>мера пресечения                                          презен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1300" spc="-1" strike="noStrike">
                <a:solidFill>
                  <a:srgbClr val="0000ff"/>
                </a:solidFill>
                <a:latin typeface="Times New Roman"/>
              </a:rPr>
              <a:t>примадонна                                                   президен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                           </a:t>
            </a:r>
            <a:r>
              <a:rPr b="1" lang="ru-RU" sz="1300" spc="-1" strike="noStrike">
                <a:solidFill>
                  <a:srgbClr val="0000ff"/>
                </a:solidFill>
                <a:latin typeface="Times New Roman"/>
              </a:rPr>
              <a:t>премировать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                           </a:t>
            </a:r>
            <a:r>
              <a:rPr b="1" lang="ru-RU" sz="1300" spc="-1" strike="noStrike">
                <a:solidFill>
                  <a:srgbClr val="0000ff"/>
                </a:solidFill>
                <a:latin typeface="Times New Roman"/>
              </a:rPr>
              <a:t>премьер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                           </a:t>
            </a:r>
            <a:r>
              <a:rPr b="1" lang="ru-RU" sz="1300" spc="-1" strike="noStrike">
                <a:solidFill>
                  <a:srgbClr val="0000ff"/>
                </a:solidFill>
                <a:latin typeface="Times New Roman"/>
              </a:rPr>
              <a:t>препара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                           </a:t>
            </a:r>
            <a:r>
              <a:rPr b="1" lang="ru-RU" sz="1300" spc="-1" strike="noStrike">
                <a:solidFill>
                  <a:srgbClr val="0000ff"/>
                </a:solidFill>
                <a:latin typeface="Times New Roman"/>
              </a:rPr>
              <a:t>претенден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                           </a:t>
            </a:r>
            <a:r>
              <a:rPr b="1" lang="ru-RU" sz="1300" spc="-1" strike="noStrike">
                <a:solidFill>
                  <a:srgbClr val="0000ff"/>
                </a:solidFill>
                <a:latin typeface="Times New Roman"/>
              </a:rPr>
              <a:t>претенз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5"/>
          <p:cNvGrpSpPr/>
          <p:nvPr/>
        </p:nvGrpSpPr>
        <p:grpSpPr>
          <a:xfrm>
            <a:off x="5857920" y="4633920"/>
            <a:ext cx="1428840" cy="1457280"/>
            <a:chOff x="5857920" y="4633920"/>
            <a:chExt cx="1428840" cy="1457280"/>
          </a:xfrm>
        </p:grpSpPr>
        <p:pic>
          <p:nvPicPr>
            <p:cNvPr id="65" name="Picture 3" descr="jiv1461"/>
            <p:cNvPicPr/>
            <p:nvPr/>
          </p:nvPicPr>
          <p:blipFill>
            <a:blip r:embed="rId2"/>
            <a:stretch/>
          </p:blipFill>
          <p:spPr>
            <a:xfrm>
              <a:off x="5857920" y="4633920"/>
              <a:ext cx="1428840" cy="14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4" descr="pageLink(7)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5857920" y="5919840"/>
              <a:ext cx="171360" cy="17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955800" y="146160"/>
            <a:ext cx="387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Закрепление  изученного матери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536400" y="812880"/>
            <a:ext cx="5880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9300"/>
                </a:solidFill>
                <a:latin typeface="Times New Roman"/>
              </a:rPr>
              <a:t>Упражнение №1: </a:t>
            </a:r>
            <a:r>
              <a:rPr b="0" lang="ru-RU" sz="1300" spc="-1" strike="noStrike">
                <a:solidFill>
                  <a:srgbClr val="009300"/>
                </a:solidFill>
                <a:latin typeface="Times New Roman"/>
              </a:rPr>
              <a:t>Разнесите по столбикам слова с приставками ПРЕ- и ПРИ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6"/>
          <p:cNvGrpSpPr/>
          <p:nvPr/>
        </p:nvGrpSpPr>
        <p:grpSpPr>
          <a:xfrm>
            <a:off x="6095880" y="4700520"/>
            <a:ext cx="1428840" cy="1457280"/>
            <a:chOff x="6095880" y="4700520"/>
            <a:chExt cx="1428840" cy="1457280"/>
          </a:xfrm>
        </p:grpSpPr>
        <p:pic>
          <p:nvPicPr>
            <p:cNvPr id="70" name="Picture 4" descr="jiv1461"/>
            <p:cNvPicPr/>
            <p:nvPr/>
          </p:nvPicPr>
          <p:blipFill>
            <a:blip r:embed="rId2"/>
            <a:stretch/>
          </p:blipFill>
          <p:spPr>
            <a:xfrm>
              <a:off x="6095880" y="4700520"/>
              <a:ext cx="1428840" cy="14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5" descr="pageLink(8)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095880" y="5986440"/>
              <a:ext cx="171720" cy="17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Text Box 7"/>
          <p:cNvSpPr/>
          <p:nvPr/>
        </p:nvSpPr>
        <p:spPr>
          <a:xfrm>
            <a:off x="708120" y="1432080"/>
            <a:ext cx="63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800" spc="-1" strike="noStrike">
                <a:solidFill>
                  <a:srgbClr val="4b0082"/>
                </a:solidFill>
                <a:latin typeface="Times New Roman"/>
              </a:rPr>
              <a:t>ПРЕ-                                                        ПРИ-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8"/>
          <p:cNvSpPr/>
          <p:nvPr/>
        </p:nvSpPr>
        <p:spPr>
          <a:xfrm>
            <a:off x="3867120" y="1409760"/>
            <a:ext cx="0" cy="1647720"/>
          </a:xfrm>
          <a:prstGeom prst="line">
            <a:avLst/>
          </a:prstGeom>
          <a:ln cap="rnd" w="76320">
            <a:solidFill>
              <a:srgbClr val="32cd32"/>
            </a:solidFill>
            <a:custDash>
              <a:ds d="100000" sp="1000"/>
            </a:custDash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307800" y="3708360"/>
            <a:ext cx="7175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Пр..дорожная трава, пр..милый ребёнок, пр..городный поезд, пр..странный случай, пр..вокзальная площадь, пр..добрый человек, пр..больно удариться, пр..сесть на минуту, пр..встать со стула, пр..хорошенькая девочка, пр..брежный тростник, пр..забавный щен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2460600" y="345960"/>
            <a:ext cx="2432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800080"/>
                </a:solidFill>
                <a:latin typeface="Times New Roman"/>
              </a:rPr>
              <a:t>Правильный ответ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907920" y="1317600"/>
            <a:ext cx="50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ПРИ-                                                ПР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"/>
          <p:cNvSpPr/>
          <p:nvPr/>
        </p:nvSpPr>
        <p:spPr>
          <a:xfrm>
            <a:off x="3933720" y="1476360"/>
            <a:ext cx="0" cy="1447920"/>
          </a:xfrm>
          <a:prstGeom prst="line">
            <a:avLst/>
          </a:prstGeom>
          <a:ln w="76320">
            <a:solidFill>
              <a:srgbClr val="ff00ff"/>
            </a:solidFill>
            <a:prstDash val="dashDot"/>
            <a:miter/>
            <a:headEnd len="sm" type="diamond" w="med"/>
            <a:tailEnd len="sm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193760" y="1889280"/>
            <a:ext cx="24512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820"/>
                </a:solidFill>
                <a:latin typeface="Times New Roman"/>
              </a:rPr>
              <a:t>Придорожная тра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820"/>
                </a:solidFill>
                <a:latin typeface="Times New Roman"/>
              </a:rPr>
              <a:t>пригородный поез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820"/>
                </a:solidFill>
                <a:latin typeface="Times New Roman"/>
              </a:rPr>
              <a:t>привокзальная площад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820"/>
                </a:solidFill>
                <a:latin typeface="Times New Roman"/>
              </a:rPr>
              <a:t>присесть на минут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820"/>
                </a:solidFill>
                <a:latin typeface="Times New Roman"/>
              </a:rPr>
              <a:t>привстать со сту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820"/>
                </a:solidFill>
                <a:latin typeface="Times New Roman"/>
              </a:rPr>
              <a:t>прибрежный трост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4603680" y="1870200"/>
            <a:ext cx="2565360" cy="26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6820"/>
                </a:solidFill>
                <a:latin typeface="Times New Roman"/>
              </a:rPr>
              <a:t>Премилый ребёно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6820"/>
                </a:solidFill>
                <a:latin typeface="Times New Roman"/>
              </a:rPr>
              <a:t>престранный случа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6820"/>
                </a:solidFill>
                <a:latin typeface="Times New Roman"/>
              </a:rPr>
              <a:t>предобрый челове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6820"/>
                </a:solidFill>
                <a:latin typeface="Times New Roman"/>
              </a:rPr>
              <a:t>пребольно ударитьс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6820"/>
                </a:solidFill>
                <a:latin typeface="Times New Roman"/>
              </a:rPr>
              <a:t>прехорошенькая девочк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6820"/>
                </a:solidFill>
                <a:latin typeface="Times New Roman"/>
              </a:rPr>
              <a:t>презабавный щено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9"/>
          <p:cNvGrpSpPr/>
          <p:nvPr/>
        </p:nvGrpSpPr>
        <p:grpSpPr>
          <a:xfrm>
            <a:off x="5753160" y="4576680"/>
            <a:ext cx="1428840" cy="1457280"/>
            <a:chOff x="5753160" y="4576680"/>
            <a:chExt cx="1428840" cy="1457280"/>
          </a:xfrm>
        </p:grpSpPr>
        <p:pic>
          <p:nvPicPr>
            <p:cNvPr id="81" name="Picture 7" descr="jiv1461"/>
            <p:cNvPicPr/>
            <p:nvPr/>
          </p:nvPicPr>
          <p:blipFill>
            <a:blip r:embed="rId2"/>
            <a:stretch/>
          </p:blipFill>
          <p:spPr>
            <a:xfrm>
              <a:off x="5753160" y="4576680"/>
              <a:ext cx="1428840" cy="14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8" descr="pageLink(9)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5753160" y="5862600"/>
              <a:ext cx="171360" cy="17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2003400" y="355680"/>
            <a:ext cx="36324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Times New Roman"/>
              </a:rPr>
              <a:t>П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ОДВЕДЁМ  ИТОГИ 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536400" y="851040"/>
            <a:ext cx="70041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b"/>
                </a:solidFill>
                <a:latin typeface="Times New Roman"/>
              </a:rPr>
              <a:t>В прекрасном замке на го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b"/>
                </a:solidFill>
                <a:latin typeface="Times New Roman"/>
              </a:rPr>
              <a:t>Жила-была приставка ПРЕ-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b"/>
                </a:solidFill>
                <a:latin typeface="Times New Roman"/>
              </a:rPr>
              <a:t>Особа преотважна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b"/>
                </a:solidFill>
                <a:latin typeface="Times New Roman"/>
              </a:rPr>
              <a:t>Важная-преважна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b"/>
                </a:solidFill>
                <a:latin typeface="Times New Roman"/>
              </a:rPr>
              <a:t>Гордая-прегорда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b"/>
                </a:solidFill>
                <a:latin typeface="Times New Roman"/>
              </a:rPr>
              <a:t>Добрая-предобр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b"/>
                </a:solidFill>
                <a:latin typeface="Times New Roman"/>
              </a:rPr>
              <a:t>Её считали очень мудро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b"/>
                </a:solidFill>
                <a:latin typeface="Times New Roman"/>
              </a:rPr>
              <a:t>И называли все премудр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b"/>
                </a:solidFill>
                <a:latin typeface="Times New Roman"/>
              </a:rPr>
              <a:t>Был у неё прелестный пудель                                    Винт привинтил, прикрутил колес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b"/>
                </a:solidFill>
                <a:latin typeface="Times New Roman"/>
              </a:rPr>
              <a:t>Прехрабрый пёс по кличке Дудель.                          Приклеил, пришил умело -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b"/>
                </a:solidFill>
                <a:latin typeface="Times New Roman"/>
              </a:rPr>
              <a:t>Он преспокойно спал у двери,                                    Пишем мы ПРИ-, говоря обо всё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b"/>
                </a:solidFill>
                <a:latin typeface="Times New Roman"/>
              </a:rPr>
              <a:t>Когда вошла приставка ПЕРЕ-.                                Что добрые руки придела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b"/>
                </a:solidFill>
                <a:latin typeface="Times New Roman"/>
              </a:rPr>
              <a:t>Она сказала: "На за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b"/>
                </a:solidFill>
                <a:latin typeface="Times New Roman"/>
              </a:rPr>
              <a:t>Я уезжаю. Друг мой, ПРЕ-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b"/>
                </a:solidFill>
                <a:latin typeface="Times New Roman"/>
              </a:rPr>
              <a:t>Меня не будет два-три дня,                                         Прибыл ли поезд, приплыл теплоход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b"/>
                </a:solidFill>
                <a:latin typeface="Times New Roman"/>
              </a:rPr>
              <a:t>Ты поработай за меня.                                                  Космонавт прилетел из Вселенной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b"/>
                </a:solidFill>
                <a:latin typeface="Times New Roman"/>
              </a:rPr>
              <a:t>Позаменяй меня, прошу.                                              В словах </a:t>
            </a:r>
            <a:r>
              <a:rPr b="1" lang="ru-RU" sz="1200" spc="-1" strike="noStrike" u="sng">
                <a:solidFill>
                  <a:srgbClr val="00008b"/>
                </a:solidFill>
                <a:uFillTx/>
                <a:latin typeface="Times New Roman"/>
              </a:rPr>
              <a:t>придёт, прилетит, приплывёт</a:t>
            </a:r>
            <a:r>
              <a:rPr b="1" lang="ru-RU" sz="1200" spc="-1" strike="noStrike">
                <a:solidFill>
                  <a:srgbClr val="00008b"/>
                </a:solidFill>
                <a:latin typeface="Times New Roman"/>
              </a:rPr>
              <a:t>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b"/>
                </a:solidFill>
                <a:latin typeface="Times New Roman"/>
              </a:rPr>
              <a:t>Спокойной ночи. Я спешу.                                           Пишется ПРИ-, несомненн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6"/>
          <p:cNvGrpSpPr/>
          <p:nvPr/>
        </p:nvGrpSpPr>
        <p:grpSpPr>
          <a:xfrm>
            <a:off x="5724360" y="4729320"/>
            <a:ext cx="1428840" cy="1457280"/>
            <a:chOff x="5724360" y="4729320"/>
            <a:chExt cx="1428840" cy="1457280"/>
          </a:xfrm>
        </p:grpSpPr>
        <p:pic>
          <p:nvPicPr>
            <p:cNvPr id="86" name="Picture 4" descr="jiv1461"/>
            <p:cNvPicPr/>
            <p:nvPr/>
          </p:nvPicPr>
          <p:blipFill>
            <a:blip r:embed="rId2"/>
            <a:stretch/>
          </p:blipFill>
          <p:spPr>
            <a:xfrm>
              <a:off x="5724360" y="4729320"/>
              <a:ext cx="1428840" cy="14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5" descr="pageLink(12)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5724360" y="6014880"/>
              <a:ext cx="171720" cy="17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237960" y="355680"/>
            <a:ext cx="692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80"/>
                </a:solidFill>
                <a:uFillTx/>
                <a:latin typeface="Times New Roman"/>
              </a:rPr>
              <a:t>Дифференцированное 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241200" y="1374840"/>
            <a:ext cx="7137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араграф 9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 вариант – упр. 7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 вариант упр. 7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ловарный диктант на с.50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7T05:49:23Z</dcterms:created>
  <dc:creator>comp</dc:creator>
  <dc:description/>
  <dc:language>en-US</dc:language>
  <cp:lastModifiedBy>dom</cp:lastModifiedBy>
  <dcterms:modified xsi:type="dcterms:W3CDTF">2013-02-11T17:16:07Z</dcterms:modified>
  <cp:revision>13</cp:revision>
  <dc:subject/>
  <dc:title>Слайд 1</dc:title>
</cp:coreProperties>
</file>