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6.gif" ContentType="image/gif"/>
  <Override PartName="/ppt/media/image15.png" ContentType="image/png"/>
  <Override PartName="/ppt/media/image13.png" ContentType="image/png"/>
  <Override PartName="/ppt/media/chimes.wav" ContentType="audio/x-wav"/>
  <Override PartName="/ppt/media/image1.png" ContentType="image/png"/>
  <Override PartName="/ppt/media/image2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83EE-2B77-4136-B862-72D8E84F2D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81D4-9E80-46E9-9C07-35AF216832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EFA-D11C-4365-96FB-86F806D1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973-0561-45C5-9677-FD94F52B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F99-A553-4CEE-B7DC-198F8350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3690-3FE9-4D5B-BD0C-6CC9217C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1C2-AC3C-453C-BE38-573C745F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354-B6CE-4CAD-BA2E-A84AC58F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AE7-BE41-475D-B72E-EB211D9B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705-2C4A-4878-8854-A0659512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273-7377-41B9-AE0D-381C1DFC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27B-982B-43CE-8B7A-1106AC6D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BF9-64B9-4914-820C-3370EC26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9A7-75AD-43D8-BEDE-0FEA8A8A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8054-2DEF-4CE9-9B04-FAB25B4CBE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strana-sovetov.com/career/3281-professional-deformation.html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Calibri"/>
              </a:rPr>
              <a:t>Педагогический совет - «деловая игра»</a:t>
            </a:r>
            <a:br>
              <a:rPr sz="4400"/>
            </a:br>
            <a:r>
              <a:rPr b="1" i="1" lang="ru-RU" sz="4400" spc="-1" strike="noStrike">
                <a:solidFill>
                  <a:srgbClr val="6600ff"/>
                </a:solidFill>
                <a:latin typeface="Calibri"/>
              </a:rPr>
              <a:t>Тема: «Родители – активные участники образовательного процесса в ДО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и должны иметь постоянную возможность свободно, по своему желанию, в удобное для них время знакомиться с жизнедеятельностью ребенка в дошкольной организации, а дошкольная организация должна стать открытым развивающим пространством, где родители и сотрудники – равноправные партнеры в воспитании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дать дошкольной организации «открытость» - значит сделать педагогический процесс более свободным, гибким, дифференцированным, гуманизировать отношения между детьми, педагогами и родителями. Необходимо создать условия, чтобы у всех участников воспитательного процесса (дети, педагоги, родители) возникла личная готовность открыть самого себя в какой – то деятельности, мероприятии и т.д. Своим примером (личной готовностью открыть самого себя) педагог вызывает родителей на доверительное общ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Открытость» дошкольной образовательной организации внутрь - предполагает вовлечение родителей в образовательный процесс. Родители, члены семьи могут значительно разнообразить жизнь детей в дошкольной организации, внести свой вклад в образовательную работу. Это могут быть эпизодические мероприятия, которые по силам каждой семье: организовать помощь в проведении мероприятий, экскурсию, поход, помощь в оснащении педагогического процесса и др. В этом случае дети учатся с уважением, благодарностью и любовью смотреть на своих близк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агоги в свою очередь имеют возможность лучше узнать семью, понять сильные и слабые стороны домашнего воспитания, определить содержание своей помощи, а иногда и просто поучить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Открытость» дошкольной образовательной организации наружу означает, что дошкольная организация открыта влияниям микросоциума своего микрорайона, готова сотрудничать с расположенными на территории социальными институтами: общеобразовательной школой, музыкальной школой, библиотекой, спортивным комплексом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мнению О.И. Давыдова и А.А. Майера эффективность деятельности семьи как института воспитания детей следует оценивать по тому, насколько успешно она готовит ребенка к самостоятельной творческой деятельности, постановке и решению новых задач, которых не было и не могло быть в опыте прошлых поколений. При этом родители нуждаются в поддержке: им нужно помочь овладеть навыками, которые способствовали бы развитию позитивных детско-родительских отноше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ателем эффективности взаимодействия педагогов и родителей является проявление интереса родителей к педагогическому процессу ДОО, повышение родительской активности на уровне не только общения с педагогом, но и оказания помощи и участия в мероприятиях, возникновение дискуссий между участниками педагогического процесса, снижение количества претензий и агрессивности родителей, осознание родителями своей ответственности в воспитании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ноценное воспитание дошкольника должно происходить в условиях одновременного влияния семьи и дошкольной организации. Диалог между детским садом и семьей необходимо строить на основе демонстрации воспитателем достижений ребенка, его положительных качеств, способностей и т.д. Педагог в такой позитивной роли воспринимается родителями как равноправный партнер в воспита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эффективного взаимодействия родителей и педагогов ДОО является сложной задачей, как в организационном, так и в психолого-педагогическом плане и предполагает несколько этап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й этап должен включать демонстрацию родителям положительного образа ребенка, благодаря чему между родителями и воспитателями устанавливаются доброжелательные отношения, направленные на сотрудничество. Важность этого этапа определяется тем, что зачастую родители фиксируют свое внимание лишь на негативных проявлениях развития и поведения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втором этапе родителям необходимо дать практические знания психолого-педагогических особенностей воспитания ребенка. При этом могут быть использованы различные традиционные формы и методы, а также инновационные подх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ьим этапом должно выступать ознакомление педагога с проблемами конкретной семьи в вопросах воспитания ребенка. Здесь проявляется активность родителей, которые могут не только поделиться семейным опытом воспитания, рассказать об индивидуальных проявлениях ребенка, но и попросить совета у педагога по интересующим их проблем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организация эффективного взаимодействия педагогов ДОО с родителями включает в себя следующие направления: информационно-аналитическое, организационно-просветительское и досуговое. Содержание и формы работы с семьей в ДОО отличаются разнообразием и определяются потребностями участников образовательного процесса. Целесообразно традиционные формы взаимодействия педагогического коллектива ДОО с родителями воспитанников сочетать с вариативными инновационными технолог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м образом, организация эффективного взаимодействия педагогов ДОО с родителями включает в себя следующие направления: информационно-аналитическое, организационно-просветительское и досуговое. Содержание и формы работы с семьей в ДОО отличаются разнообразием и определяются потребностями участников образовательного процесса. Целесообразно традиционные формы взаимодействия педагогического коллектива ДОО с родителями воспитанников сочетать с вариативными инновационными технолог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нципами взаимодействия с родителями являю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1.Доброжелательный стиль общения педагогов с родителя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итив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строй на общение является тем самым прочным фундаментом, на котором строитс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я работа педагогов группы с родителями. В общении воспитателя с родителя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уместны категоричность, требовательный тон. Ведь любая прекрасно выстроенна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дминистрацией детского сада модель взаимодействия с семьей останется «модель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бумаге», если воспитатель не выработает для себя конкретных форм корректног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щения с родителями. Педагог общается с родителями ежедневно, и именно о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го зависит, каким будет отношение семьи к детскому саду в целом. Ежедневно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брожелательное взаимодействие педагогов с родителями значит гораздо больше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м отдельное хорошо проведенное мероприят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971640" y="112536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ыполнение решений предыдущего педсо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оклад старшего воспитателя Дмитриевой Л.В. по теме: «Работа с родителями в связи с внедрением ФГОС ДО в систему дошкольного образования». Результаты анкетирования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едагогический тренинг «Оценка уровня коммуникации педагога с родителям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Доклад воспитателя Литвишко М.Н. по теме: "Вовлечение родителей в жизнь группы, как средство создания дополнительных возможностей для всех участников образовательного процесса, позволяющих реализовать индивидуальный подход"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Деловая игра «Педагогическое мастер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Решение педагогического со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2. Индивидуальный подход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только в работе с детьми, но и в работе с родителями. Воспитатель, общаясь 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ями, должен чувствовать ситуацию, настроение мамы или папы. Здесь 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годится человеческое и педагогическое умение воспитателя успокоить родител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очувствовать и вместе подумать, как помочь ребенку в той или ин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. Сотрудничество, а не наставничеств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ременны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мы и папы в большинстве своем люди грамотные, осведомленные и, конечно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рошо знающие, как им надо воспитывать своих собственных детей. Поэтом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иция наставления и простой пропаганды педагогических знаний сегодня вряд 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есет положительные результаты. Гораздо эффективнее будут создание атмосфер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аимопомощи и поддержки семьи в сложных педагогических ситуациях, демонстрац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интересованности коллектива детского сада разобраться в проблемах семьи 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креннее желание помо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Готовимся серьез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ое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же самое небольшое мероприятие по работе с родителями необходимо тщательно 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ьезно готовить. Главное в этой работе - качество, а не количество отдель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ятых, не связанных между собой мероприятий. Слабое, плохо подготовленно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тельское собрание или семинар могут негативно повлиять на положительны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идж учреждения в ц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Динамич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·   Детский сад сегодн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жен находиться в режиме развития, а не функционирования, представлять соб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бильную систему, быстро реагировать на изменения социального состава родител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х образовательные потребности и воспитательные запросы. В зависимости от эт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жны меняться формы и направления работы детского сада с семь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 чтобы спланировать работу с родителям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о хорошо знать родителей своих воспитан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начинать необходимо с анализа социального состава родителей, их настроя и ожиданий о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бывания ребенка в детском саду. Проведение анкетирования, личных бесед 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у тему поможет правильно выстроить работу с родителями, сделать е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й, подобрать интересные формы взаимодействия с семь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зультаты анкетир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анкеты: адаптировать работу учреждения к потребностям Вашего ребенка.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ткуда Вы берете информацию о воспитании ребенк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бственная интуиция. 2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ическая и психологическая литература - 29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воспитателя детского сада - 44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психолога детского сада - 1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личного опыта, воспоминаний детства- 36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ты других родителей, друзей, соседей – 1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е -6% (Интернет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6840" y="1642680"/>
            <a:ext cx="7829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то бы Вы хотели получить от детского сад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ение максимально полной информации о ребенке – 2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агогические советы по общению с ним – 3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ические консультации – 2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комендации, какую литературу о воспитании ребенка то­го или иного возраста лучше прочитать – 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большего общения с родителями других детей – 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участвовать в самодеятельности детского сада – 1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ое (как общается с другими детьми, первоначальное обучение) – 4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7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3. Трудности, которые Вы испытываете при воспитании детей дошкольного возрас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нок плохо ест – 3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лушает родителей – 3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роявляете неуверенность в себе, испытываете страхи в воспитании ребенка – 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знаете, чем занять ребенка дома – 11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ое – 14% (противоречит родителя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т трудностей – 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7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Обращались ли вы за помощью к педагогам, специалистам детского сада с этими трудностями? Да – 20%, нет – 76%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Если нет, то почему не обращались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идают особого значения этим трудностям -1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читают это неудобным, так как подобного рода консультации не входят в обязанности педагога – 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ытывают затруднения в общении с сотрудниками детского сада – 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читают, что справятся сами – 3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ое – 8%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т трудностей – 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9"/>
          <p:cNvSpPr/>
          <p:nvPr/>
        </p:nvSpPr>
        <p:spPr>
          <a:xfrm>
            <a:off x="106920" y="1188720"/>
            <a:ext cx="8933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Arial"/>
              </a:rPr>
              <a:t>Оценка уровня коммуникабель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Arial"/>
              </a:rPr>
              <a:t>педагог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Arial"/>
              </a:rPr>
              <a:t>с родителя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Arial"/>
              </a:rPr>
              <a:t>Методика прове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ff"/>
                </a:solidFill>
                <a:latin typeface="Arial"/>
              </a:rPr>
              <a:t>Вниманию педагогов предлага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ff"/>
                </a:solidFill>
                <a:latin typeface="Arial"/>
              </a:rPr>
              <a:t>несколько простых вопрос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ff"/>
                </a:solidFill>
                <a:latin typeface="Arial"/>
              </a:rPr>
              <a:t>Отвечать нужно быстро, однознач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ff"/>
                </a:solidFill>
                <a:latin typeface="Arial"/>
              </a:rPr>
              <a:t>"да", "нет", "иногда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684360" y="200412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По первому вопросу слушали старшего воспитателя Дмитриеву Л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Решение педагогического совета от 27.11.201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* Всем воспитателям организовать твор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выставки по зимней тематике в каждой возрастной груп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* Всем воспитателям создать папки-передвижки (или стенды) для родителей с подбором интересного материала по художественно-эстетическому развитию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* Музыкальным руководителям оформить уголки для родителей с информацией по музыкальной деятельности детей.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96360" cy="7018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1187280" y="1333440"/>
            <a:ext cx="795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м предстоит ординарная беседа с одним из род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ивает ли Вас ее ожидание из коле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ызывает ли у Вас смятение и неудовольствие поручение выступить  с докладом, информацией перед родителя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Не откладываете ли Вы неприятную беседу о сложном ребенке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о родителями до последнего момен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Считаете ли Вы, что не следует лично беседовать с родител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 особенностях воспитания в семье, а лучше провести анкетирование, письменный опро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Вам предлагают подготовить общее родительское собр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одителей дошкольного учреждения. Приложите ли Вы максимум усилий, чтобы избежать этого поруч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900000" y="1644120"/>
            <a:ext cx="80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Любите ли Вы делиться своими переживаниями от общения с родителями с коллегами, руководств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Убеждены ли Вы, что общаться с родителями гораздо сложнее, чем с деть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Раздражаетесь ли Вы, если один из родителей Ваших воспитанников постоянно задает Вам вопрос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Верите ли Вы, что существует проблема "воспитателей и родителей" и что они разговаривают на "разных языках"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Постесняетесь ли Вы напомнить родителям об обещании, которое они забыли выполн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324000" y="1251000"/>
            <a:ext cx="864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 Вызывает ли у Вас досаду просьба кого-либо из родителей помочь разобраться в том или ином сложном воспитательном вопрос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. Услышав высказывание явно ошибочной точки зрения по вопросу воспитания, предпочтете ли Вы промолчать и не вступать в спо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. Боитесь ли Вы участвовать в разборе конфликтных ситуаций между педагогами и родителя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. У Вас есть собственные, сугубо индивидуальные критерии оценки семейного воспитания и других мнений на этот счет Вы не приемл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. Считаете ли Вы, что воспитывать необходимо и родителей, а не только дет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. Проще ли Вам подготовить информацию для родителей в письменном виде, чем провести устную консультац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а ответов: "да" - 2 очка, "иногда" - 1 очко, "нет" - О оч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993300"/>
                </a:solidFill>
                <a:latin typeface="Calibri"/>
              </a:rPr>
              <a:t>Полученные очки суммируются и определяется, к какой категории относится испытуемый.</a:t>
            </a:r>
            <a:br>
              <a:rPr sz="1800"/>
            </a:br>
            <a:r>
              <a:rPr b="0" lang="ru-RU" sz="1800" spc="-1" strike="noStrike" u="sng">
                <a:solidFill>
                  <a:srgbClr val="660066"/>
                </a:solidFill>
                <a:uFillTx/>
                <a:latin typeface="Calibri"/>
              </a:rPr>
              <a:t>30-32 очка. </a:t>
            </a:r>
            <a:r>
              <a:rPr b="0" lang="ru-RU" sz="1800" spc="-1" strike="noStrike">
                <a:solidFill>
                  <a:srgbClr val="660066"/>
                </a:solidFill>
                <a:latin typeface="Calibri"/>
              </a:rPr>
              <a:t>Вам явно сложно вступать в общение с родителями. Скорее всего, Вы вообще не коммуникабельны. Это Ваша беда, так как страдаете от этого больше Вы сами. Но и окружающим Вас людям нелегко. На Вас трудно положиться в деле, которое требует коллективных усилий. Контакты с родителями Вы стараетесь свести к минимуму. В основном они формальны. Причины трудностей в общении Вы стремитесь переложить на родителей. Вы убеждены, что большинство родителей - это всегда недовольные, придирчивые люди, ищущие в Вашей работе только недостатки, не желающие прислушиваться к Вашему мнению. Ваше неумение построить общение с родителями приводит к тому, что и они стремятся избегать общения с Вами. Постарайтесь стать общительнее, контролируйте себя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  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ff"/>
                </a:solidFill>
                <a:uFillTx/>
                <a:latin typeface="Calibri"/>
              </a:rPr>
              <a:t>25-29 очков. </a:t>
            </a:r>
            <a:r>
              <a:rPr b="1" lang="ru-RU" sz="2400" spc="-1" strike="noStrike">
                <a:solidFill>
                  <a:srgbClr val="0066ff"/>
                </a:solidFill>
                <a:latin typeface="Calibri"/>
              </a:rPr>
              <a:t>Вы замкнуты, неразговорчивы. Новая работа и необходимость новых контактов надолго выводят Вас из равновесия. Общение с родителями воспитанников является для Вас сложным и не слишком приятным делом. Вы знаете эту особенность своего характера и бываете недовольны собой. Однако в неудачных контактах с родителями стремитесь в большей степени обвинить их, а не собственную коммуникабельность. В Ваших силах изменить особенности своего характера. Вспомните, ведь участие в общем интересном деле позволяет Вам легко находить общий язык с родителям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428760"/>
            <a:ext cx="86868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ff"/>
                </a:solidFill>
                <a:uFillTx/>
                <a:latin typeface="Calibri"/>
              </a:rPr>
              <a:t>19-24 очка. </a:t>
            </a: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Вы в известной степени общительны и в незнакомой обстановке чувствуете себя вполне уверенно. Вам удается достаточно легко наладить контакты с большинством родителей своей группы, но с "трудными" родителями Вы не стремитесь активно общаться. В незнакомой ситуации Вы выбираете тактику "присматривания". Сложности общения с родителями не пугают Вас, однако порой Вы бываете излишне критичны по отношению к ним. Эти недостатки исправи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 u="sng">
                <a:solidFill>
                  <a:srgbClr val="008000"/>
                </a:solidFill>
                <a:uFillTx/>
                <a:latin typeface="Calibri"/>
              </a:rPr>
              <a:t>14-18 очков. </a:t>
            </a:r>
            <a:r>
              <a:rPr b="0" lang="ru-RU" sz="2200" spc="-1" strike="noStrike">
                <a:solidFill>
                  <a:srgbClr val="008000"/>
                </a:solidFill>
                <a:latin typeface="Calibri"/>
              </a:rPr>
              <a:t>У Вас нормальная коммуникабельность. Вы убеждены, что с любым родителем всегда можно найти "общий язык". Вы охотно выслушиваете родителей, достаточно терпеливы в общении с ними, умеете отстоять свою точку зрения, не навязывая ее при этом другому. И индивидуальное и коллективное общение с родителями не вызывает у Вас неприятных переживаний. Родители так же стремятся поддерживать контакты с Вами, ищут Вашего совета, поддержки. В то же время Вы не любите многословия, излишней эмоциональности, стремитесь избегать ненужных конфликтов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9900"/>
                </a:solidFill>
                <a:uFillTx/>
                <a:latin typeface="Calibri"/>
              </a:rPr>
              <a:t>9-13 очков. </a:t>
            </a:r>
            <a:r>
              <a:rPr b="1" lang="ru-RU" sz="2400" spc="-1" strike="noStrike">
                <a:solidFill>
                  <a:srgbClr val="cc9900"/>
                </a:solidFill>
                <a:latin typeface="Calibri"/>
              </a:rPr>
              <a:t>Вы бываете весьма общительны. Постоянно стремитесь вступить в беседу с родителями, но часто эти беседы носят бессодержательный характер. Вы любите бывать в центре внимания, никому не отказываете в просьбах, хотя не всегда можете их выполнить. Стремитесь высказать родителям собственное мнение о том, как они воспитывают детей, в любой ситуации дать совет, что способно вызывать у них раздражение. Вы вспыльчивы, но отходчивы. Вам недостает терпения и отваги при столкновении с серьезными проблемами. При желании, однако, Вы умеете выстраивать содержательное общ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0" y="360"/>
            <a:ext cx="705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68360" y="150264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b13f9a"/>
                </a:solidFill>
                <a:uFillTx/>
                <a:latin typeface="Arial"/>
              </a:rPr>
              <a:t>4-8 очков. </a:t>
            </a:r>
            <a:r>
              <a:rPr b="1" lang="ru-RU" sz="2400" spc="-1" strike="noStrike">
                <a:solidFill>
                  <a:srgbClr val="b13f9a"/>
                </a:solidFill>
                <a:latin typeface="Arial"/>
              </a:rPr>
              <a:t>Вы чрезмерно общительны. Стремитесь стать "другом" каждому родителю, быть в курсе всех их проблем. Любите принимать участие во всех спорах и дискуссиях. Всегда охотно беретесь за любое дело, хотя не всегда можете успешно довести его до конца. Имеете собственное мнение по любому вопросу и всегда стремитесь ею высказать. Возможно, по этой причине родители и коллеги относятся к Вам с опаской и сомнениями. Вам следует задуматься над этими фа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20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5280" y="26028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Calibri"/>
              </a:rPr>
              <a:t>3 очка и менее. 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Ваша общительность носит болезненный характер. Вы многословны, вмешиваетесь в дела, которые не имеют к Вам никакого отношения. Беретесь судить о проблемах, в которых совершенно не компетентны. Вольно или невольно Вы часто бываете причиной разного рода конфликтов, в том числе и среди родителей. Общаясь с родителями, бываете грубоваты, фамильярны. Вас отличают необъективность, обидчивость. Любую проблему Вы стремитесь вынести на всеобщее обсуждение. Серьезное общение с родителями не для Вас. Окружающим сложно с Вами. Постарайтесь задуматься, почему, несмотря на все Ваши усилия наладить общение с родителями, из этого ничего не выходит? Воспитывайте в себе терпеливость и сдержанность, уважительно относитесь к люд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1.4. Основные принципы дошкольного образо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полноценное проживание ребенком всех этапов детства (младенческого, раннего и дошкольного возраста), обогащение (амплификация) детского развит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построение образовательной деятельности на основе индивидуальных особенностей каждого ребенка, при котором сам ребенок становится активным в выборе содержания своего образования, становится субъектом образования (далее - индивидуализация дошкольного образования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содействие и сотрудничество детей и взрослых, признание ребенка полноценным участником (субъектом) образовательных отнош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поддержка инициативы детей в различных видах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) сотрудничество Организации с семь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) приобщение детей к социокультурным нормам, традициям семьи, общества и государства и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Профессиональное выгор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фессиональное выгорание — это частный случай 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Calibri"/>
                <a:hlinkClick r:id="rId2"/>
              </a:rPr>
              <a:t>профессиональной деформации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. Термин «эмоциональное выгорание» 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(burnout)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впервые ввел в психологическую практику американский психиатр Фрейденберг в 1974 году. Синдром профессионального выгорания связан с продолжительным воздействием стрессообразующих факторов средней интенсивности, связанных с профессиональной деятельностью. По сути, профессиональное выгорание — это длинный хронический стрес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ольше других профессиональному выгоранию подвержены представители профессий, связанных с интеллектуальной деятельностью и общением с людьми: журналисты, врачи, школьные учителя и преподаватели вузов, руководители и т.п. Профессиональное выгорание характеризуется возникновением чувства безразличия к работе, коллегам (даже если раньше они были вам вполне симпатичны) и вообще ко всему происходящему. Человек теряет уверенность в себе, начинает обвинять себя в отсутствии знаний, опыта, компетентности и профессионализ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На возникновение синдрома профессионального выгорания существенно влияют три фактора — личностный, ролевой и организационн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84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Личностный фактор. </a:t>
            </a:r>
            <a:r>
              <a:rPr b="1" i="1" lang="ru-RU" sz="2400" spc="-1" strike="noStrike">
                <a:solidFill>
                  <a:srgbClr val="984204"/>
                </a:solidFill>
                <a:latin typeface="Calibri"/>
              </a:rPr>
              <a:t>На профессиональное выгорание не имеют влияния стаж, семейное положение и возраст. Однако психологи считают, что синдром профессионального выгорания чаще встречается у женщин, чем у мужчин. Женщины зачастую склонны более эмоционально переживать неудачи в профессиональной деятельности и проблемы в общении с коллег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олевой фактор</a:t>
            </a:r>
            <a:r>
              <a:rPr b="0" i="1" lang="ru-RU" sz="44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628280"/>
            <a:ext cx="8218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700" spc="-1" strike="noStrike">
                <a:solidFill>
                  <a:srgbClr val="00b050"/>
                </a:solidFill>
                <a:latin typeface="Calibri"/>
              </a:rPr>
              <a:t>Синдрому профессионального выгорания гораздо чаще подвержены люди, которые считают, что знают больше других. То есть не желают и не хотят слышать собеседника, думают, что нового им никто не скажет, что они сами все знают и умеют. Такие люди чаще встречаются в образовательных учреждениях – детские сады, школы – педагоги и воспитатели. Когда человек уже не желает учиться и развиваться, не слышит собеседников, не дает им возможности самим раскрыться, рассказать, дать совет. Решает за ребенка и взрослого сам</a:t>
            </a:r>
            <a:r>
              <a:rPr b="0" i="1" lang="ru-RU" sz="2700" spc="-1" strike="noStrike">
                <a:solidFill>
                  <a:srgbClr val="00b05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pic>
        <p:nvPicPr>
          <p:cNvPr id="143" name="Заголовок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7400880" cy="1182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599840"/>
            <a:ext cx="7758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Calibri"/>
              </a:rPr>
              <a:t>Синдром профессионального выгорания напрямую связан с напряженной психоэмоциональной деятельностью: необходимостью интенсивного общения, подкрепляемого эмоциями, интенсивного восприятия, переработки и интерпретации информации, принятия реше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7018200"/>
          </a:xfrm>
          <a:prstGeom prst="rect">
            <a:avLst/>
          </a:prstGeom>
          <a:ln w="0">
            <a:noFill/>
          </a:ln>
        </p:spPr>
      </p:pic>
      <p:pic>
        <p:nvPicPr>
          <p:cNvPr id="146" name="Заголовок 6" descr=""/>
          <p:cNvPicPr/>
          <p:nvPr/>
        </p:nvPicPr>
        <p:blipFill>
          <a:blip r:embed="rId2"/>
          <a:stretch/>
        </p:blipFill>
        <p:spPr>
          <a:xfrm>
            <a:off x="500040" y="244440"/>
            <a:ext cx="6900840" cy="134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ираются роли: родитель и воспит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Задания родителю – вы занятой человек, у вас сложности на работе, т.к. Вы недавно вышли из декретного отпуска и еще не можете войти в процесс. Заняты ребенком, имеете чувство вины перед ним, так как меньше времени стали проводить с ним. Проблемы дома с мужем. Занят по вечерам на работе, не желает помочь забирать ребенка из ДОУ. Вообще достаточно сильно отдалился от Ва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Задание воспитателю – родитель систематически поздно забирает ребенка, или приводит раньше обычного. Вас не слушает, объясняет занятостью. На Ваши предложения и замечания не реагирует. День Х – у Вас день рождение у подруги (дочери, зятя), Вы торопитесь, ребенка опять не забираю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Практическое упражнение – встреча родителя и воспитате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98f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флексия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ак вел себя воспитатель, что Вы чувствовали – слышит ли Вас воспитател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ак вел себя родитель, что Вы чувствовали – слышит ли Вас родител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акие методики Вы использовали при бесед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ыла ли беседа агрессивно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нял ли Вас родител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нял ли Вас воспитател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Упражнение №3 “Сфера ответственности”</a:t>
            </a:r>
            <a:br>
              <a:rPr sz="3600"/>
            </a:br>
            <a:r>
              <a:rPr b="1" i="1" lang="ru-RU" sz="2400" spc="-1" strike="noStrike">
                <a:solidFill>
                  <a:srgbClr val="0066ff"/>
                </a:solidFill>
                <a:latin typeface="Calibri"/>
              </a:rPr>
              <a:t>“Родитель”, </a:t>
            </a:r>
            <a:r>
              <a:rPr b="1" i="1" lang="ru-RU" sz="2400" spc="-1" strike="noStrike">
                <a:solidFill>
                  <a:srgbClr val="008000"/>
                </a:solidFill>
                <a:latin typeface="Calibri"/>
              </a:rPr>
              <a:t>“Воспитатель”, 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“Администрация”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8" descr="pozitiv017"/>
          <p:cNvPicPr/>
          <p:nvPr/>
        </p:nvPicPr>
        <p:blipFill>
          <a:blip r:embed="rId2"/>
          <a:stretch/>
        </p:blipFill>
        <p:spPr>
          <a:xfrm>
            <a:off x="3279600" y="3409920"/>
            <a:ext cx="2629080" cy="1287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2010-02-1012-30-49_0389ab"/>
          <p:cNvPicPr/>
          <p:nvPr/>
        </p:nvPicPr>
        <p:blipFill>
          <a:blip r:embed="rId3"/>
          <a:stretch/>
        </p:blipFill>
        <p:spPr>
          <a:xfrm>
            <a:off x="2124000" y="4724280"/>
            <a:ext cx="4383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pic>
        <p:nvPicPr>
          <p:cNvPr id="155" name="Заголовок 1" descr=""/>
          <p:cNvPicPr/>
          <p:nvPr/>
        </p:nvPicPr>
        <p:blipFill>
          <a:blip r:embed="rId2"/>
          <a:stretch/>
        </p:blipFill>
        <p:spPr>
          <a:xfrm>
            <a:off x="450720" y="274680"/>
            <a:ext cx="8328240" cy="1328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•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оказание разовой помощи; 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• участие в организации образовательной работы с детьми на занятиях, в деятельности кружков и т. п.; 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• участие в качестве постоянных добровольных помощников; 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• участие в принятии решений относительно ребенка или группы, которую он посещает; 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• участие в обсуждении вопросов и принятие решений, касающихся деятельности ДОУ в целом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pic>
        <p:nvPicPr>
          <p:cNvPr id="158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2"/>
          <p:cNvSpPr/>
          <p:nvPr/>
        </p:nvSpPr>
        <p:spPr>
          <a:xfrm>
            <a:off x="1258920" y="333360"/>
            <a:ext cx="720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исутствие в группе родителей имеет для них следующие плюсы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ни могут наблюдать за своими детьми на фоне их сверстников, что дает возможность лучше разобраться в вопросах развития ребенка, научиться и дома применять подходящие методы воспитания;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• у родителей формируется более высокая оценка достижений своих детей и гордость за них;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является возможность поработать в профессиональной среде, что может побудить к получению дополнительного образования, поступлению на какие-либо курсы или даже превратиться в постоянную работу;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• развивается более глубокое понимание процесса обучения детей дошкольного возраста; формируется правильное понимание возможностей обучения и сложностей, которые с этим связаны;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• возникает доверие к воспитателям и другим сотрудникам детского сада;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• делается выбор детского сада для второго ребенка и т.д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971640" y="620640"/>
            <a:ext cx="7561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ru-RU" sz="2400" spc="-1" strike="noStrike">
                <a:solidFill>
                  <a:srgbClr val="591f4d"/>
                </a:solidFill>
                <a:latin typeface="Arial"/>
              </a:rPr>
              <a:t>А вот что происходит с детьми, когда они видят своих родителей в групп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х сознании возникает позитивная связь между семьей и детским садом: если дети чувствуют, что членов их семьи принимают в саду с открытым сердцем, то у них возникает более доверительное отношение к работающим в группе взрослым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рисутствие и участие родителей в занятиях доставляет детям особое удовольствие, благоприятствует их успехам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у ребенка наблюдается буквально взлет чувства собственного достоинства, даже если участие членов семьи носит редкий и непродолжительный характер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знакомство с другими взрослыми расширяет социальный опыт и дает положительные модели для подражания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дети начинают признавать полномочия других взрослых (помимо воспитателей) и относятся к ним как к источнику знаний и опыта;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.6. Стандарт направлен на решение следующих задач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) обеспечения психолого-педагогической поддержки семьи и повышения компетентности родителей (законных представителей) в вопросах развития и образования, охраны и укрепления здоровья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-214200" y="-16020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А вот некоторые положительные моменты для педагогов и всего детского сада, которые возникают при привлечении к работе в группе членов семей воспитанников: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• </a:t>
            </a: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изменение соотношения "взрослый-ребенок" в группе. Воспитатели получают возможность проводить больше времени с отдельными детьми и работать с малыми группами; 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• возможность использования увлечений, талантов, знаний и интересов родителей в процессе занятий с детьми; 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• возможность закрепления знаний, получаемых в детском саду с помощью занятий дома; 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• происходит более тесное общение между родителями; 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• родители становятся участниками процесса принятия решений по вопросам жизни детского сада; 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• возможность понять, как родители мотивируют своих детей, увидеть, как мамы и папы помогают своим малышам решать задачи; </a:t>
            </a:r>
            <a:br>
              <a:rPr sz="1800"/>
            </a:b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• возможность узнать, какие занятия и увлечения взрослые члены семьи разделяют со своими детьми (например, приготовление пищи, игра на музыкальных инструментах)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Алгоритм взаимодействия с семьей – воспитатель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"/>
          <p:cNvSpPr/>
          <p:nvPr/>
        </p:nvSpPr>
        <p:spPr>
          <a:xfrm>
            <a:off x="539640" y="155736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-я стадия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контактов при первой встрече. Воспитатель должен проявить высокий педагогический такт, искреннее уважение к родителям, деликатность, сдержанность, важно не оттолкнуть непродуманным вопросом. </a:t>
            </a: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-я стадия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ается, что необходимо развивать и воспитывать в ребенке, подчеркивать его индивидуальность, неповторимость. На этом этапе уже можно осторожно заговорить о нежелательных проявлениях в поведении малыша. </a:t>
            </a: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-я стадия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общих требований к воспитанию ребенка. Педагог побуждает родителей высказать свои взгляды на воспитание ребенка, выслушивает мнение родителей об используемых ими методах, даже если оно ошибочно. Не опровергает, а предлагает свои способы воздействия, призывает объединить усилия для выработки единых требований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620280"/>
            <a:ext cx="82072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4-я стадия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очение сотрудничества в достижении общей цели. Согласившись на совместное сотрудничество, стороны уточняют воспитательные возможности друг друга, ставят единые цели и задачи. Возможны споры, разногласия. Важно, чтобы они не помешали дальнейшему сотрудничеству. 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5-я стадия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лизация индивидуального подхода. Педагог не демонстрирует свою всесильность, а доверительно сообщает о своих сомнениях, затруднениях, спрашивает совета у родителей и прислушивается к ним. На этой стадии вырабатывается целый ряд согласованных мер, направленных, в том числе и на перевоспитание ребенка. 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6-я стадия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ование педагогического сотрудничества. Готовые рецепты не предлагаются, тщательно анализируется процесс совместной деятельности. Это стадия развития педагогического сотрудничества, где идет реализация единых педагогических воздействий. Инициатором контакта является педагог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755640" y="2060640"/>
          <a:ext cx="7993080" cy="3672000"/>
        </p:xfrm>
        <a:graphic>
          <a:graphicData uri="http://schemas.openxmlformats.org/drawingml/2006/table">
            <a:tbl>
              <a:tblPr/>
              <a:tblGrid>
                <a:gridCol w="3592440"/>
                <a:gridCol w="4400640"/>
              </a:tblGrid>
              <a:tr h="3672000"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51253a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1253a"/>
                          </a:solidFill>
                          <a:latin typeface="Calibri"/>
                        </a:rPr>
                        <a:t>День прибывает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1253a"/>
                          </a:solidFill>
                          <a:latin typeface="Calibri"/>
                        </a:rPr>
                        <a:t>А он убыва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1253a"/>
                          </a:solidFill>
                          <a:latin typeface="Calibri"/>
                        </a:rPr>
                        <a:t>Дни пройдут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1253a"/>
                          </a:solidFill>
                          <a:latin typeface="Calibri"/>
                        </a:rPr>
                        <a:t>Все листы опаду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993300"/>
                        </a:buClr>
                        <a:buFont typeface="Calibri"/>
                        <a:buAutoNum type="arabicPeriod" startAt="2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3300"/>
                          </a:solidFill>
                          <a:latin typeface="Calibri"/>
                        </a:rPr>
                        <a:t>Ползун ползет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3300"/>
                          </a:solidFill>
                          <a:latin typeface="Calibri"/>
                        </a:rPr>
                        <a:t>Иглы везет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3300"/>
                          </a:solidFill>
                          <a:latin typeface="Calibri"/>
                        </a:rPr>
                        <a:t>Всегда их при себе носит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3300"/>
                          </a:solidFill>
                          <a:latin typeface="Calibri"/>
                        </a:rPr>
                        <a:t>А шить не мож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Заголовок 1" descr=""/>
          <p:cNvPicPr/>
          <p:nvPr/>
        </p:nvPicPr>
        <p:blipFill>
          <a:blip r:embed="rId2"/>
          <a:stretch/>
        </p:blipFill>
        <p:spPr>
          <a:xfrm>
            <a:off x="457200" y="573120"/>
            <a:ext cx="8229600" cy="135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755640" y="2305080"/>
          <a:ext cx="8177400" cy="3139920"/>
        </p:xfrm>
        <a:graphic>
          <a:graphicData uri="http://schemas.openxmlformats.org/drawingml/2006/table">
            <a:tbl>
              <a:tblPr/>
              <a:tblGrid>
                <a:gridCol w="3675240"/>
                <a:gridCol w="4502160"/>
              </a:tblGrid>
              <a:tr h="313992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Никто его не видит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всякий его слыши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крыльев оно, а летит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языка, а говори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В лесу родился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лесу вырос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дом приходил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х вкруг себя посадил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563400" y="2421000"/>
          <a:ext cx="8329680" cy="2952720"/>
        </p:xfrm>
        <a:graphic>
          <a:graphicData uri="http://schemas.openxmlformats.org/drawingml/2006/table">
            <a:tbl>
              <a:tblPr/>
              <a:tblGrid>
                <a:gridCol w="3743640"/>
                <a:gridCol w="4586040"/>
              </a:tblGrid>
              <a:tr h="295272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  Всем кто придет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всем, кто уйдет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на ручку пода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   Есть добрая вещица у мен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льзя мне без нее прожить и дн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гает мне во всем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 живет моим ум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решу – она решит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спешу – она спеш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имательная штучк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она зовется? 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Calibri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64396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1 тур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66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1"/>
          <p:cNvSpPr/>
          <p:nvPr/>
        </p:nvSpPr>
        <p:spPr>
          <a:xfrm>
            <a:off x="1979640" y="1413000"/>
            <a:ext cx="54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просы из области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ому принадлежит ведущая роль в воспитании дете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сновой семейного воспитания является…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просы из области педагог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то является формой обучения детей в ДО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то из ученых является автором «Великой дидактики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Documents and Settings\1\Рабочий стол\рабочий стол(3)\флешка синяя\ШАБЛОНЫ ДЛЯ ПРЕЗЕНТАЦИЙ фон\master03_background.gif"/>
          <p:cNvPicPr/>
          <p:nvPr/>
        </p:nvPicPr>
        <p:blipFill>
          <a:blip r:embed="rId1"/>
          <a:stretch/>
        </p:blipFill>
        <p:spPr>
          <a:xfrm>
            <a:off x="-60480" y="-30240"/>
            <a:ext cx="9264960" cy="6967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1\Рабочий стол\рабочий стол(3)\флешка синяя\82e13e8c589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опросы из области психологи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1"/>
          <p:cNvSpPr/>
          <p:nvPr/>
        </p:nvSpPr>
        <p:spPr>
          <a:xfrm>
            <a:off x="1403280" y="1341360"/>
            <a:ext cx="69138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Определите тип темпер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ети очень подвижны. Их  движения порывистые, резкие, как будто кто-то гонится за ним. А чтобы посидеть на одном месте, про это не может быть и речи. Разговаривают они  быстро, отрывисто, эмоционально. Не говорят, а тараторят, глотая слоги и слова. Затем начинают кричать, словно в рупор. Увлекаются разговорами так страстно, что уже никого не слышат. Засыпают такие дети  долго и с трудом. Спят беспокойно под впечатлением событий дня. Просыпаться могут в различном настроении: от самого хорошего до самого плохого, в зависимости от того, какие дела их жд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"/>
          <p:cNvSpPr/>
          <p:nvPr/>
        </p:nvSpPr>
        <p:spPr>
          <a:xfrm>
            <a:off x="755640" y="336600"/>
            <a:ext cx="770400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е тип темпер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Дети данного типа темперамента отличаются низкой эмоциональностью, невыразительной, бедной мимикой. Эмоции проявляют неявно: тихо смеются, негромко плачут. Для них характерна высокая работоспособность, умение делать все тщательно, кропотливо, длительно концентрироваться на выполнении задания. Любую деятельность дошкольники выполняют медленно, им необходимо некоторое время, чтобы освоить и понять, что от них требуется. Эти дети легко дисциплинируются в привычной обстановке, болезненно переживают ее нарушение и устоявшихся стереотипов. Для детей этого типа характерна медленная, негромкая, с длительными паузами реч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-16020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2 тур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опросы из ОО «Познавательное развитие» (математическое развити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1. Исключите лишний раздел программы по формированию математических представл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ичество и сч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иентировка в простран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личина и фор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. Целенаправленный педагогический процесс, формирующий чувственное познание и совершенствующий ощущения и восприятия – это 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нсорное воспит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ственное развит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ственное воспит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стетическое разви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7. Стандарт является основой дл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разработки Программ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разработки вариативных примерных образовательных программ дошкольного образования (далее - примерные программы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разработки нормативов финансового обеспечения реализации Программы и нормативных затрат на оказание государственной (муниципальной) услуги в сфере дошкольного образ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объективной оценки соответствия образовательной деятельности Организации требованиям Стандар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 формирования содержания профессионального образования и дополнительного профессионального образования педагогических работников, а также проведения их аттест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) оказания помощи родителям (законным представителям) в воспитании детей, охране и укреплении их физического и психического здоровья, в развитии индивидуальных способностей и необходимой коррекции нарушений их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pic>
        <p:nvPicPr>
          <p:cNvPr id="198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.  Особенностью какого метода ознакомления с художественной литературой является дословная передача текст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с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це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учивание с детьми наизу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казы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2. Какие средства общения являются ведущими у детей старшего дошкольного возраст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ов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метно-действе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чев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ение инструкций взросл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просы из ОО «Художественно-эстетическое развитие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 Целью обучения изобразительной деятельности детей является 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навы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ум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к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йствие развитию творческой ли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В какой группе учат приклеивать детали к основной форм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 второй младш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рш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итель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ff"/>
                </a:solidFill>
                <a:uFillTx/>
                <a:latin typeface="Calibri"/>
              </a:rPr>
              <a:t>3 тур</a:t>
            </a:r>
            <a:br>
              <a:rPr sz="3200"/>
            </a:br>
            <a:r>
              <a:rPr b="1" i="1" lang="ru-RU" sz="3200" spc="-1" strike="noStrike">
                <a:solidFill>
                  <a:srgbClr val="0066ff"/>
                </a:solidFill>
                <a:latin typeface="Calibri"/>
              </a:rPr>
              <a:t>Решение педагогических задач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итуация для анализа 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вухлетний Илюша с усердием надевает колготы. Трудное занятие! Наконец-то после долгих усилий колготы почти надеты, но ...наизнанку. Малыш, конечно, этого не замечает и продолжает их натягивать. Мать прекращает, как она говорит, "эту бесцельную возню", быстрым движением, не скрывая раздражения, старается натянуть ребенку колготы. Малыш поднимает крик: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 Сам, сам! Сам!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ать строго говорит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 Сиди спокойно и не капризничай! Не умеешь, а кричишь "сам"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Правильно ли поступила мама?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Каковы последствия поведения мамы?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Что бы вы посоветовали маме?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туация для анал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1"/>
          <p:cNvSpPr/>
          <p:nvPr/>
        </p:nvSpPr>
        <p:spPr>
          <a:xfrm>
            <a:off x="1476360" y="1413000"/>
            <a:ext cx="655164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Воспитатели нередко слышат от детей своей группы во время игры: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"Будешь слушаться, куплю это", "Будешь хорошо кушать, свожу в зоопарк", "Это тебе за то, что хорошо себя вел" и т. д. Встречая родителей, дети сообщают, что хорошо себя вели, слушались, помогали малышам и тут же спрашивают: "А что ты мне за это купишь?" 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просы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во ваше мнение о педагогической ценности подкупа, задабривания, применяемого некоторыми родителями в воспитании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ю каких поступков эти методы способствуют?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8000"/>
                </a:solidFill>
                <a:latin typeface="Calibri"/>
              </a:rPr>
              <a:t>Решение педсовет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вать условия для совместной деятельности педагогического коллектива и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Для обогащения, расширения педагогического опыта родителей ежемесячно размещать в родительских уголках  детского сада планы и новости из жизни групп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С целью дальнейшего вовлечения родителей в жизнь дошкольного образовательного учреждения, повышения у них интереса к воспитательно-образовательному процессу провести педагогический совет № 4 с участием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2.13. Дополнительным разделом Программы является текст ее краткой презентации. Краткая презентация Программы должна быть ориентирована на родителей (законных представителей) детей и доступна для ознаком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краткой презентации Программы должны быть указа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возрастные и иные категории детей, на которых ориентирована Программа Организации, в том числе категории детей с ограниченными возможностями здоровья, если Программа предусматривает особенности ее реализации для этой категории дет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используемые Примерные программ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характеристика взаимодействия педагогического коллектива с семьями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оответствии с ФГОС детский сад обязан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•    информировать родителей (законных представителей) и общественность относительно целей  дошкольного  образования,  общих для всего образовательного пространства Российской Федерации, а также о Программе, и не только семье, но и всем заинтересованным лицам, вовлечённым в  образовательную деятельность; 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•    обеспечить открытость дошкольного образования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•    создавать условия для участия родителей (законных представителей) в образовательной деятельност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•    поддерживать родителей (законных представителей) в воспитании детей, охране и укреплении их  здоровь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•    обеспечить вовлечение  семей    непосредственно в образовательную деятельность, в том числе   посредством создания образовательных проектов совместно с семьёй на основе выявления потребностей и поддержки образовательных инициатив семь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•    создавать условия для взрослых по поиску, использованию материалов, обеспечивающих реализацию Программы, в том числе в информационной среде, а также для обсуждения с родителями (законными  представителями) детей вопросов, связанных с реализаци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1\Рабочий стол\рабочий стол(3)\флешка синяя\82e13e8c5890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2.8. Организация должна создавать возмож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для предоставления информации о Программе семье и всем заинтересованным лицам, вовлеченным в образовательную деятельность, а также широкой обществен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для взрослых по поиску, использованию материалов, обеспечивающих реализацию Программы, в том числе в информационной сред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для обсуждения с родителями (законными представителями) детей вопросов, связанных с реализацией Програм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1-03T17:46:39Z</dcterms:modified>
  <cp:revision>91</cp:revision>
  <dc:subject/>
  <dc:title>Информационно-аналитическая справка о выполнении  годового плана </dc:title>
</cp:coreProperties>
</file>