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3757-95F3-4845-A0F6-C307D2B7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2505-91BC-4884-ACA7-4B89B9C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96ADF-EB1A-45B0-A68B-7ED70B5C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F2836-819A-4BD3-9F63-7E3CB4FF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177E7-94B8-477A-9A0C-01BC756D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D1E3C-AF68-40EC-BA79-EF42F0E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5F5A0-2629-4D1E-AF68-E464D5D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41AB7-5DFF-479D-861B-92F7D32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A1194-FD3D-48E5-9539-B95E6B8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D12F2-0E5F-4ADF-A0DF-48FB2A0F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478E1-4A56-4745-AD53-CA91299B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65063-B7E8-4499-B661-8D032001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40D8-8A63-493B-B2DE-AC0A7CF0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6CDAE-7F32-45A3-8006-73F052CE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46A92-45EF-4C5F-9F4C-6B13DC6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31ED-5774-4993-B802-9CEC4E7E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3F863-E27E-49E0-A25C-38DAADDD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0A113-4684-4F93-B688-F2C65A2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BFC14-AD24-4B29-B3C9-3A207AD5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59DE5-7809-47E2-AFD8-D930B53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DC185-D028-45F8-85F7-5C10E4E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666DC-E571-42E2-8A49-8883BE3E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D09CD-C8F5-460E-973A-08B33B6C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3818-9D4E-4E0D-9278-4E659B7D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056CB-CE48-40CF-BD18-ABB61669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574F-3A2A-4E7E-BE6E-74A16CC1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FBB7-CEA5-4EA0-A09D-8F3D28E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C0FB-BEEE-4ABE-8508-78ACAE6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B1F-B41C-477D-B22E-7208FF8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FE9D-4BF8-4C64-A7A1-F9D0386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6221-9600-47B6-9E58-E188E834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F08-504F-4FDC-8BD1-061438C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60A7-8422-478E-A4E5-56D004EF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356-FFCC-4E91-8181-5E74CF7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B5B4-FB62-4F19-8A6D-D67C827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0F30-7E01-4EC6-B04F-4DC28566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CB37-DB4F-49A5-86C5-C8FB5F02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1170-AA79-45C4-BE9B-DCF3DF7C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1B79-9598-4B4B-BF33-EFABE9E3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DC4D-BF48-4749-8415-439E620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EAA8-E65C-4DE7-A644-417C18C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E1CC-ADF9-4D11-844F-6F48E587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53D6-A21A-40BF-BDAE-494E2BD1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316D-A31B-443E-A511-AA62B19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4BA1-512A-4618-8F3E-14C8E112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1DD7-17AC-4CF7-BF2D-5835B2F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AC3A-C48B-44CC-8EB8-C26744F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D1B8-AC00-4EF4-9ED9-1EF3B31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784A-02C4-403E-8597-D00F2F1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39E2-F49D-4980-9E81-7B407C7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2806-4624-4D48-AEC2-4B8BA0FC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BFCA-2D56-4EBA-A4F3-74E997AC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F898-B4C3-4FE0-BA40-94A7E3C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C314-9239-42AA-8C04-974DF74D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677F-0B93-48EF-89B1-A3512E4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356C-426F-4AAC-A56B-6A4F205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E10D-5E7A-43EC-8296-12EED53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B8A9-EE8B-407D-9554-0A7EDF94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A666-33EA-45B3-90DA-52F6E9F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98C6-AE48-4CE4-B495-834189B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CDB0-496D-4450-B71E-DCA7CC29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0A37-6508-43D1-A6E9-8963C400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EC47-B001-4A41-914D-5D2C10A1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F74F-1150-4D3F-B83E-A5563C01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0BB39-0B67-421D-B83D-71B03EB6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A3D3-0EE0-43DB-9B0E-FDCAA9AE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93EE-FCAA-4985-9D58-9CE80F41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6177-47C5-437E-B0D8-0C9CA607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3947-A27E-46D3-BF81-555C81DD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C207-F3C2-44F3-908E-89A2EB76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EBFD-193F-4121-82E9-3F71C70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BF86-6177-4FB9-9312-E58C96B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E0B5-EE02-4302-B07D-8FAEF00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19A12-AC72-4BBE-BC5E-4D6EA94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30D6-13A7-4E24-AC98-3583FDD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54F8-33D8-443E-AF5E-8BB7F505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8D46-2F15-4E3C-9E16-28B5A1F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CCF8-9545-4324-B8DE-1C8F404F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79EA-0D84-47F8-B72E-A8F6CEEF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F4E2-5917-4591-9A66-F66D75F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3CEB-0195-48BB-84D0-43E94C7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6847-B2AC-4539-A8B7-58653C07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F915-06D1-4A1D-8CDC-DDFBB49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43B4-35D8-48E1-A4C6-3C3F768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94EE-84B8-4299-B706-126E5FE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B4D4-65E2-4EEB-BF25-2C68502F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E073D-6645-4653-BB92-835E3EC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ACDA-6E96-42AB-8286-BFC1B18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C6BF-6DC7-4D68-B74A-2FC13B4C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3670-727B-4ABE-971A-E60C08EA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BA70-3E8D-43D7-975F-66C589BB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5BCB-CA31-4D84-A3D7-85344B80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8C50-1348-400F-8511-36CA801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EE93E-92D4-44F8-9293-8D5F81C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727B-60BF-4EE4-8502-F669365C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BCF2-C41D-4401-BA28-25F25A0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33282-66A0-4F02-85EF-85C5EFAD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613E-4A4D-4E94-90E5-9D9A344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7EE1-8C93-4D74-9491-F8AEB8F4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7D19-4FCA-4E5E-A921-02C22E5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33503-15C9-4CDB-B611-4D0871A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63833-75F2-4470-BD81-D04ECC61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A414-DBA0-44AF-8BD8-58F65C57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01DBF-69B0-4AC0-97A4-A69F552A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A086-ABFB-430F-9B8C-EC071189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6BDD-68AE-486C-B33E-706537C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E44E6-F537-4CE8-910F-D240507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D242D-E25F-4476-AF44-F75640A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C018-F031-4526-B402-94E87608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A55A-B177-472E-8BB1-A71DF2D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54F2-A4D7-4514-81DD-66A5D83B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01231-D24E-4345-B4E3-E5689F3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9AC68-E243-455C-A7FB-909F05B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3838-FEE9-459A-AC23-A9DC8F4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7CC45-0F4C-4F0D-8C91-2DC1B87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D3AB-658B-4DD1-9CBF-0F856ED4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5372-C756-4FB6-8397-5CDFE72D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E37A6-23C5-4D18-8E83-FAF784DE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6686-2FB2-4140-A404-396941D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B1FC6-8515-47AB-A7D7-C89BDA4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291D-789B-4A37-AE15-E5E2E7FD1D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9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10E-E4CE-4ADF-A08E-0D35C66795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28A-3033-4BC2-AE93-DC711929D3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936-55D7-48B4-9B15-D02C5C0F6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7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88FD-3864-47B8-9B27-10F4D01F48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2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2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FE6-E5C8-4DBE-9EF0-CCF53359C0D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9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9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497-8729-4128-AF53-59433691908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3E7A-053E-4BB5-A6F4-E21AF8C596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920F-36FF-4AB9-8B92-E35CA4B0E6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3C4F-FBD2-491E-B4CD-B65B4D15F3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Карликовая планета, о которой практически никто не знае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икифоров Степа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. Нижний Новгор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В клас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юди думают, что карликовая планета одна - Плутон. Но это не так. Их насчитывается больше пяти (Церера, Плутон, Хаумеа, Эрида, Макемак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т. д.). Я хочу рассказать 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акема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52280" y="2438280"/>
            <a:ext cx="8839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105520" cy="44956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оманда Брауна из Калифорнийского университета обнаружила  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Макемаке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и темно-бурые пятна на поверхности карликовой планеты в 2005 году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емаке официально стала карликовой планетой в июле 2008 года. На Макемаке, возможно, присутствует атмосфера  по крайней мере часть времени. Когда карликовая планета находится на орбите ближе к Солнцу, она нагревается и газы (метан и этан), которые на поверхности планеты присутствуют в виде льда, начинают испаряться, образуя атмосферу. Когда Макемаке удаляется по орбите от Солнца, она быстро остывает. Газы вновь замерзают, падают на землю хлопьями снега и атмосфера опять исчезает. Макемаке вращается вокруг Солнца на среднем расстоянии 6850 миллиона километров и завершает оборот каждые 31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Garamond"/>
              </a:rPr>
              <a:t>Учёный Алекс Паркер заметил тусклую светящуюся точку рядом с карликовой планетой. Используя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2500" spc="-1" strike="noStrike">
                <a:solidFill>
                  <a:srgbClr val="003399"/>
                </a:solidFill>
                <a:latin typeface="Garamond"/>
              </a:rPr>
              <a:t>данные, полученные при помощи широкоугольной камеры №3 космического телескопа «Хаббл», ученый обнаружил спутник. Он получил название «MK2».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8209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364000">
            <a:off x="4419720" y="3047760"/>
            <a:ext cx="3967200" cy="41148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 rot="1530600">
            <a:off x="609120" y="3200040"/>
            <a:ext cx="3714840" cy="325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58400" y="356760"/>
            <a:ext cx="62578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7600" spc="-1" strike="noStrike">
                <a:solidFill>
                  <a:srgbClr val="ffffcc"/>
                </a:solidFill>
                <a:latin typeface="Tahoma"/>
              </a:rPr>
              <a:t>Спасибо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858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 внима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yandex.ru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naked-science.ru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http://cometasite.r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4:37:42Z</dcterms:created>
  <dc:creator>User</dc:creator>
  <dc:description/>
  <dc:language>en-US</dc:language>
  <cp:lastModifiedBy>User</cp:lastModifiedBy>
  <dcterms:modified xsi:type="dcterms:W3CDTF">2016-11-02T04:44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