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938-F2AC-42B9-A791-C5117B0D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B7F-86B8-4E57-9B8E-6A406BE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591-0041-4C4A-8005-3616DC9A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A71-D886-40FA-AF9C-C8270AE7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C8B-3724-487F-AD3E-2917DEDE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FA5-1AF6-4D26-9134-752599C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98B-B433-4FD2-93B8-6ED9D524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A14-B22C-4789-BF22-288C8CC0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40A-047E-4979-A64C-6BB4F74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23F-3799-4B8B-AA7E-44E1427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E2A-50F5-47CB-BBA8-F1068F4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045-69E0-40CF-B21E-D1BFE30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8111-9763-4D18-B4FD-1F83FEA3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РАСТИТЕЛЬНЫ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роение и свойства клеток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испособле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199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938680" cy="170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://yunail.ru/yunail/images/m45560b81.jpg"/>
          <p:cNvPicPr/>
          <p:nvPr/>
        </p:nvPicPr>
        <p:blipFill>
          <a:blip r:embed="rId3"/>
          <a:stretch/>
        </p:blipFill>
        <p:spPr>
          <a:xfrm>
            <a:off x="3200400" y="4952880"/>
            <a:ext cx="2298600" cy="154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ttps://upload.wikimedia.org/wikipedia/commons/thumb/2/22/Brassica_leaf.jpg/500px-Brassica_leaf.jpg"/>
          <p:cNvPicPr/>
          <p:nvPr/>
        </p:nvPicPr>
        <p:blipFill>
          <a:blip r:embed="rId4"/>
          <a:stretch/>
        </p:blipFill>
        <p:spPr>
          <a:xfrm>
            <a:off x="5486400" y="4495680"/>
            <a:ext cx="1600200" cy="149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https://allyslide.com/thumbs/909db6efcee322a73b7e13a2ff237d50/img14.jpg"/>
          <p:cNvPicPr/>
          <p:nvPr/>
        </p:nvPicPr>
        <p:blipFill>
          <a:blip r:embed="rId5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ЕРИДЕ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8"/>
          <p:cNvCxnSpPr/>
          <p:nvPr/>
        </p:nvCxnSpPr>
        <p:spPr>
          <a:xfrm flipH="1" flipV="1">
            <a:off x="4114440" y="1828440"/>
            <a:ext cx="9914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9" name="Прямая со стрелкой 10"/>
          <p:cNvCxnSpPr/>
          <p:nvPr/>
        </p:nvCxnSpPr>
        <p:spPr>
          <a:xfrm flipH="1" flipV="1">
            <a:off x="4114440" y="2057040"/>
            <a:ext cx="91512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0" name="Прямая со стрелкой 12"/>
          <p:cNvCxnSpPr/>
          <p:nvPr/>
        </p:nvCxnSpPr>
        <p:spPr>
          <a:xfrm flipH="1" flipV="1">
            <a:off x="4114440" y="2285640"/>
            <a:ext cx="91512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1" name="Блок-схема: процесс 14"/>
          <p:cNvSpPr/>
          <p:nvPr/>
        </p:nvSpPr>
        <p:spPr>
          <a:xfrm>
            <a:off x="5181480" y="1676520"/>
            <a:ext cx="1676520" cy="380880"/>
          </a:xfrm>
          <a:prstGeom prst="flowChartProcess">
            <a:avLst/>
          </a:prstGeom>
          <a:noFill/>
          <a:ln w="0">
            <a:solidFill>
              <a:srgbClr val="89a4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ФЕЛ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роцесс 16"/>
          <p:cNvSpPr/>
          <p:nvPr/>
        </p:nvSpPr>
        <p:spPr>
          <a:xfrm>
            <a:off x="6858000" y="1828800"/>
            <a:ext cx="1600200" cy="380880"/>
          </a:xfrm>
          <a:prstGeom prst="flowChartProcess">
            <a:avLst/>
          </a:prstGeom>
          <a:solidFill>
            <a:srgbClr val="def6f1"/>
          </a:solidFill>
          <a:ln w="0">
            <a:solidFill>
              <a:srgbClr val="89a4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ФЕЛЛ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17"/>
          <p:cNvSpPr/>
          <p:nvPr/>
        </p:nvSpPr>
        <p:spPr>
          <a:xfrm>
            <a:off x="5105520" y="2133720"/>
            <a:ext cx="1904760" cy="380880"/>
          </a:xfrm>
          <a:prstGeom prst="flowChartProcess">
            <a:avLst/>
          </a:prstGeom>
          <a:solidFill>
            <a:srgbClr val="def6f1"/>
          </a:solidFill>
          <a:ln w="0">
            <a:solidFill>
              <a:srgbClr val="89a4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ФЕЛЛОД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543480" cy="4762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3151080" cy="207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www.ecosystema.ru/08nature/trees/morf-win/m14-1.jpg"/>
          <p:cNvPicPr/>
          <p:nvPr/>
        </p:nvPicPr>
        <p:blipFill>
          <a:blip r:embed="rId3"/>
          <a:stretch/>
        </p:blipFill>
        <p:spPr>
          <a:xfrm>
            <a:off x="3962520" y="4495680"/>
            <a:ext cx="29718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67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сил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древесин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8dc6ff"/>
                </a:solidFill>
                <a:latin typeface="Arial"/>
              </a:rPr>
              <a:t>Флоэ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лу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047760" cy="39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533160" cy="187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49536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1905120" y="2666880"/>
            <a:ext cx="504720" cy="235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6172200" y="2362320"/>
            <a:ext cx="2473200" cy="258120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11"/>
          <p:cNvCxnSpPr/>
          <p:nvPr/>
        </p:nvCxnSpPr>
        <p:spPr>
          <a:xfrm>
            <a:off x="4648320" y="5410080"/>
            <a:ext cx="305280" cy="76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Прямая со стрелкой 13"/>
          <p:cNvCxnSpPr/>
          <p:nvPr/>
        </p:nvCxnSpPr>
        <p:spPr>
          <a:xfrm flipV="1">
            <a:off x="4648320" y="4800240"/>
            <a:ext cx="2160" cy="4579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Прямая со стрелкой 14"/>
          <p:cNvCxnSpPr/>
          <p:nvPr/>
        </p:nvCxnSpPr>
        <p:spPr>
          <a:xfrm flipH="1" flipV="1">
            <a:off x="3580920" y="3885840"/>
            <a:ext cx="534240" cy="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9" name="Прямая со стрелкой 15"/>
          <p:cNvCxnSpPr/>
          <p:nvPr/>
        </p:nvCxnSpPr>
        <p:spPr>
          <a:xfrm flipH="1" flipV="1">
            <a:off x="4190760" y="3885480"/>
            <a:ext cx="457920" cy="2293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" name="Прямая со стрелкой 16"/>
          <p:cNvCxnSpPr/>
          <p:nvPr/>
        </p:nvCxnSpPr>
        <p:spPr>
          <a:xfrm flipV="1">
            <a:off x="4648320" y="4190760"/>
            <a:ext cx="2160" cy="4579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1" name="Прямая со стрелкой 21"/>
          <p:cNvCxnSpPr/>
          <p:nvPr/>
        </p:nvCxnSpPr>
        <p:spPr>
          <a:xfrm flipH="1">
            <a:off x="5409360" y="4724280"/>
            <a:ext cx="2520" cy="457920"/>
          </a:xfrm>
          <a:prstGeom prst="straightConnector1">
            <a:avLst/>
          </a:prstGeom>
          <a:ln w="31680">
            <a:solidFill>
              <a:srgbClr val="8dc6ff"/>
            </a:solidFill>
            <a:miter/>
            <a:tailEnd len="med" type="triangle" w="med"/>
          </a:ln>
        </p:spPr>
      </p:cxnSp>
      <p:cxnSp>
        <p:nvCxnSpPr>
          <p:cNvPr id="102" name="Прямая со стрелкой 22"/>
          <p:cNvCxnSpPr/>
          <p:nvPr/>
        </p:nvCxnSpPr>
        <p:spPr>
          <a:xfrm flipH="1">
            <a:off x="5409360" y="3886200"/>
            <a:ext cx="2520" cy="457920"/>
          </a:xfrm>
          <a:prstGeom prst="straightConnector1">
            <a:avLst/>
          </a:prstGeom>
          <a:ln w="31680">
            <a:solidFill>
              <a:srgbClr val="8dc6ff"/>
            </a:solidFill>
            <a:miter/>
            <a:tailEnd len="med" type="triangle" w="med"/>
          </a:ln>
        </p:spPr>
      </p:cxnSp>
      <p:cxnSp>
        <p:nvCxnSpPr>
          <p:cNvPr id="103" name="Прямая со стрелкой 23"/>
          <p:cNvCxnSpPr/>
          <p:nvPr/>
        </p:nvCxnSpPr>
        <p:spPr>
          <a:xfrm flipH="1">
            <a:off x="5409360" y="3048120"/>
            <a:ext cx="2520" cy="457920"/>
          </a:xfrm>
          <a:prstGeom prst="straightConnector1">
            <a:avLst/>
          </a:prstGeom>
          <a:ln w="31680">
            <a:solidFill>
              <a:srgbClr val="8dc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МЕХАНИЧЕСКИЕ ТКАНИ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армату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КЛАССИФИКАЦИЯ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олленх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4767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леренхи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механические вол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0" i="1" lang="ru-RU" sz="2400" spc="-1" strike="noStrike" u="sng">
                <a:solidFill>
                  <a:srgbClr val="9900cc"/>
                </a:solidFill>
                <a:uFillTx/>
                <a:latin typeface="Arial"/>
              </a:rPr>
              <a:t>По месту положения</a:t>
            </a:r>
            <a:r>
              <a:rPr b="0" i="1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 Лубяные волок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камбифор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 Древесные вол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либрифор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лереи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каменистые клет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155412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230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СНОВНЫЕ ТКАНИ </a:t>
            </a:r>
            <a:br>
              <a:rPr sz="44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паренх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9900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пасающая паренх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II.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Ассимиляционная паренх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4000680" cy="304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657600" cy="379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http://www.studfiles.ru/html/2706/88/html_Ku6HyHpHu1.ZBna/htmlconvd-L_3bNF275x1.jpg"/>
          <p:cNvPicPr/>
          <p:nvPr/>
        </p:nvPicPr>
        <p:blipFill>
          <a:blip r:embed="rId3"/>
          <a:stretch/>
        </p:blipFill>
        <p:spPr>
          <a:xfrm>
            <a:off x="4419720" y="3200400"/>
            <a:ext cx="22860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. Аэренх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9339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ВЫДЕЛИТЕЛЬНЫЕ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Внутренние вместил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моляные 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Мл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Наружные вместил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идатоды (явление гут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 Железистые вол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 Нектар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6629400" y="2133720"/>
            <a:ext cx="1751040" cy="116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sovetylechenija.ru/images/poleznye-svojstva-i-protivopokazanija/klevernyj-med-poleznye-svojstva-i_5_1.jpg"/>
          <p:cNvPicPr/>
          <p:nvPr/>
        </p:nvPicPr>
        <p:blipFill>
          <a:blip r:embed="rId2"/>
          <a:stretch/>
        </p:blipFill>
        <p:spPr>
          <a:xfrm>
            <a:off x="5638680" y="4648320"/>
            <a:ext cx="2254320" cy="149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ttp://biofile.ru/pic/nadine-o-558.jpg"/>
          <p:cNvPicPr/>
          <p:nvPr/>
        </p:nvPicPr>
        <p:blipFill>
          <a:blip r:embed="rId3"/>
          <a:stretch/>
        </p:blipFill>
        <p:spPr>
          <a:xfrm>
            <a:off x="838080" y="2666880"/>
            <a:ext cx="25146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Вопросы к теме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Понятие о растительных тканях. Виды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Образовательны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Покровны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Проводящи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Механически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Основны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Выделительные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Растительная тка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– это группа клеток, одинаковых по строению, происхождению и выполняемым функция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ИДЫ ТКАНЕЙ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.По форме клеток, составляющих ткани различают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аренхи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зенх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2520" y="19051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. По выполняемым функциям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образовательные (мерист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покр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мех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проводя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 выдел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62120" y="335268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7"/>
          <p:cNvSpPr/>
          <p:nvPr/>
        </p:nvSpPr>
        <p:spPr>
          <a:xfrm>
            <a:off x="1600200" y="3352680"/>
            <a:ext cx="533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авильный пятиугольник 8"/>
          <p:cNvSpPr/>
          <p:nvPr/>
        </p:nvSpPr>
        <p:spPr>
          <a:xfrm>
            <a:off x="2438280" y="3276720"/>
            <a:ext cx="685800" cy="533160"/>
          </a:xfrm>
          <a:prstGeom prst="pentagon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38080" y="4800600"/>
            <a:ext cx="2286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0"/>
          <p:cNvSpPr/>
          <p:nvPr/>
        </p:nvSpPr>
        <p:spPr>
          <a:xfrm>
            <a:off x="1447920" y="4800600"/>
            <a:ext cx="15228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есяц 11"/>
          <p:cNvSpPr/>
          <p:nvPr/>
        </p:nvSpPr>
        <p:spPr>
          <a:xfrm>
            <a:off x="2057400" y="4800600"/>
            <a:ext cx="22860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бразовательные ткани (меристем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Функция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ост, образование других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Особенности строения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летки живые, мелкие, тонкостенные, ядро крупное, вакуоли мелкие или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9900cc"/>
                </a:solidFill>
                <a:latin typeface="Arial"/>
              </a:rPr>
              <a:t>КЛАССИФИКАЦ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.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По месту положе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Верхуше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Бо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ам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окам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и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Фелл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Раневая мер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0" descr="http://ok-t.ru/studopediaru/baza15/4355894451262.files/image002.jpg"/>
          <p:cNvPicPr/>
          <p:nvPr/>
        </p:nvPicPr>
        <p:blipFill>
          <a:blip r:embed="rId1"/>
          <a:stretch/>
        </p:blipFill>
        <p:spPr>
          <a:xfrm>
            <a:off x="380880" y="2590920"/>
            <a:ext cx="4199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. По происхождению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9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ерв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 верхуше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екоторые бо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прокамб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пери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2) Вто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Камб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елло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невая мер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окровны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Функции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ащита, связь растений с внешн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собенности строе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клетки живые или мертвые, плотно прилегают друг к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естоположение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сегда сверху, покрывают органы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ЛАССИФИКАЦИЯ</a:t>
            </a:r>
            <a:br>
              <a:rPr sz="28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по происхождению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пидерми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– первич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идерма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– вторич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рка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– третич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ПИДЕРМ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data17.i.gallery.ru/albums/gallery/122338-7d66d-48569245-m750x740-uf15bb.jpg"/>
          <p:cNvPicPr/>
          <p:nvPr/>
        </p:nvPicPr>
        <p:blipFill>
          <a:blip r:embed="rId1"/>
          <a:stretch/>
        </p:blipFill>
        <p:spPr>
          <a:xfrm>
            <a:off x="0" y="1143000"/>
            <a:ext cx="4255920" cy="30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f.internetara.com/onbellek/12/11/02/iuuq_NV_00xxx_SL_njttpvsjqmbout_SL_dpn0Zfmmpxbmu0Tpmjebhp_SK_sbevmb_SK_tufn_SL_kqh.jpg"/>
          <p:cNvPicPr/>
          <p:nvPr/>
        </p:nvPicPr>
        <p:blipFill>
          <a:blip r:embed="rId2"/>
          <a:stretch/>
        </p:blipFill>
        <p:spPr>
          <a:xfrm>
            <a:off x="3962520" y="3581280"/>
            <a:ext cx="2133360" cy="27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715000" y="1295280"/>
            <a:ext cx="28954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8-01-03T17:50:5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