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4.gif" ContentType="image/gif"/>
  <Override PartName="/ppt/media/image1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2.png" ContentType="image/png"/>
  <Override PartName="/ppt/media/image22.gif" ContentType="image/gif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F76-A8E2-4E00-AB50-0145F6FA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4DF-B876-49AB-B43E-752C83DB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FC1-6790-4D9A-8345-0E07D057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DF3-9B12-465A-8CD8-26E79A3F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540-6D38-401A-8A76-F9396544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5CC-C2E7-4566-8359-FE88FF3A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4C1-C93D-49E8-AE86-47E71EFC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7B4-120D-44C5-B400-4B703872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0BE-3E4F-4C55-9245-93F95E78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437-2291-42A6-BDC9-C4C2FA11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842-D380-474C-826A-AF7EFCF3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C71-1AD2-4D93-86FA-856D4621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F889-A885-431C-928A-61D30E869C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8" descr=""/>
          <p:cNvPicPr/>
          <p:nvPr/>
        </p:nvPicPr>
        <p:blipFill>
          <a:blip r:embed="rId1"/>
          <a:stretch/>
        </p:blipFill>
        <p:spPr>
          <a:xfrm>
            <a:off x="603360" y="1944720"/>
            <a:ext cx="8553240" cy="3535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Бабочки смайлики картинки гифки анимации"/>
          <p:cNvPicPr/>
          <p:nvPr/>
        </p:nvPicPr>
        <p:blipFill>
          <a:blip r:embed="rId2"/>
          <a:stretch/>
        </p:blipFill>
        <p:spPr>
          <a:xfrm>
            <a:off x="2340000" y="4221000"/>
            <a:ext cx="489600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Бабочки смайлик картинка"/>
          <p:cNvPicPr/>
          <p:nvPr/>
        </p:nvPicPr>
        <p:blipFill>
          <a:blip r:embed="rId3"/>
          <a:stretch/>
        </p:blipFill>
        <p:spPr>
          <a:xfrm rot="19246800">
            <a:off x="6845400" y="256680"/>
            <a:ext cx="12668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http://player.myshared.ru/9/907847/slides/slide_9.jpg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16360"/>
          </a:xfrm>
          <a:prstGeom prst="rect">
            <a:avLst/>
          </a:prstGeom>
          <a:ln w="9360">
            <a:solidFill>
              <a:srgbClr val="b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http://player.myshared.ru/9/907847/slides/slide_10.jpg"/>
          <p:cNvPicPr/>
          <p:nvPr/>
        </p:nvPicPr>
        <p:blipFill>
          <a:blip r:embed="rId1"/>
          <a:stretch/>
        </p:blipFill>
        <p:spPr>
          <a:xfrm>
            <a:off x="900000" y="620640"/>
            <a:ext cx="7344000" cy="5238720"/>
          </a:xfrm>
          <a:prstGeom prst="rect">
            <a:avLst/>
          </a:prstGeom>
          <a:ln w="9360">
            <a:solidFill>
              <a:srgbClr val="b00000"/>
            </a:solidFill>
            <a:miter/>
          </a:ln>
        </p:spPr>
      </p:pic>
      <p:pic>
        <p:nvPicPr>
          <p:cNvPr id="60" name="Picture 2" descr="http://d27v8envyltg3v.cloudfront.net/tackk/7534988/14144233808411/cover.jpg"/>
          <p:cNvPicPr/>
          <p:nvPr/>
        </p:nvPicPr>
        <p:blipFill>
          <a:blip r:embed="rId2"/>
          <a:stretch/>
        </p:blipFill>
        <p:spPr>
          <a:xfrm>
            <a:off x="250920" y="4437000"/>
            <a:ext cx="2808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0"/>
          <a:ext cx="8785440" cy="719280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ода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редства, приемы организации учебного проц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Визуал</a:t>
                      </a: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 – ведущей модальностью является зрительная информац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Концентрация в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достигается на основе написанного или нарисованного на дос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большое количество наглядного материал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иллюстрац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пазл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выреза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видеоигр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разные схемы и символ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Аудиал</a:t>
                      </a: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 – ведущей модальностью является слуховая информ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Концентрации внимания способствуют такие фразы: «Запомни это», «Возьми на заметку», «Это может встретиться в контрольной работе»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использование музыки для изучения новой тем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разговорные игр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для расслабл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Кинестет</a:t>
                      </a: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 – воспринимает мир через ощущения,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Запоминает то, что  им сделано, а не услышано или уви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эксперимен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практическое действ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ролевые игры, драм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моделирова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00000"/>
                          </a:solidFill>
                          <a:latin typeface="Times New Roman"/>
                        </a:rPr>
                        <a:t>- большой раздаточный материа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mnemozina.ru/upload/iblock/499/499c261e2973ded87c94c7aac0215c8e.jpg"/>
          <p:cNvPicPr/>
          <p:nvPr/>
        </p:nvPicPr>
        <p:blipFill>
          <a:blip r:embed="rId1"/>
          <a:stretch/>
        </p:blipFill>
        <p:spPr>
          <a:xfrm>
            <a:off x="684360" y="907920"/>
            <a:ext cx="2950920" cy="3313080"/>
          </a:xfrm>
          <a:prstGeom prst="rect">
            <a:avLst/>
          </a:prstGeom>
          <a:ln w="9360">
            <a:solidFill>
              <a:srgbClr val="b00000"/>
            </a:solidFill>
            <a:miter/>
          </a:ln>
        </p:spPr>
      </p:pic>
      <p:pic>
        <p:nvPicPr>
          <p:cNvPr id="63" name="Прямоугольник 5" descr=""/>
          <p:cNvPicPr/>
          <p:nvPr/>
        </p:nvPicPr>
        <p:blipFill>
          <a:blip r:embed="rId2"/>
          <a:stretch/>
        </p:blipFill>
        <p:spPr>
          <a:xfrm>
            <a:off x="1030320" y="4352760"/>
            <a:ext cx="2494080" cy="621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4211640" y="213372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«Интеграции знаний из разных областей, помогает снять причины детской усталост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http://player.myshared.ru/9/907847/slides/slide_27.jpg"/>
          <p:cNvPicPr/>
          <p:nvPr/>
        </p:nvPicPr>
        <p:blipFill>
          <a:blip r:embed="rId1"/>
          <a:stretch/>
        </p:blipFill>
        <p:spPr>
          <a:xfrm>
            <a:off x="684360" y="333360"/>
            <a:ext cx="7704000" cy="5310360"/>
          </a:xfrm>
          <a:prstGeom prst="rect">
            <a:avLst/>
          </a:prstGeom>
          <a:ln w="9360">
            <a:solidFill>
              <a:srgbClr val="b00000"/>
            </a:solidFill>
            <a:miter/>
          </a:ln>
        </p:spPr>
      </p:pic>
      <p:pic>
        <p:nvPicPr>
          <p:cNvPr id="66" name="Picture 2" descr="http://900igr.net/datai/biologija/Oschuschenie-i-vosprijatie/0011-017-Vizualy-ljudi-vosprinimajuschie-informatsiju-s-pomoschju-zrenija.jpg"/>
          <p:cNvPicPr/>
          <p:nvPr/>
        </p:nvPicPr>
        <p:blipFill>
          <a:blip r:embed="rId2"/>
          <a:stretch/>
        </p:blipFill>
        <p:spPr>
          <a:xfrm>
            <a:off x="179280" y="4962600"/>
            <a:ext cx="36007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http://player.myshared.ru/9/907847/slides/slide_18.jpg"/>
          <p:cNvPicPr/>
          <p:nvPr/>
        </p:nvPicPr>
        <p:blipFill>
          <a:blip r:embed="rId1"/>
          <a:stretch/>
        </p:blipFill>
        <p:spPr>
          <a:xfrm>
            <a:off x="755640" y="476280"/>
            <a:ext cx="7561440" cy="5256360"/>
          </a:xfrm>
          <a:prstGeom prst="rect">
            <a:avLst/>
          </a:prstGeom>
          <a:ln w="9360">
            <a:solidFill>
              <a:srgbClr val="b00000"/>
            </a:solidFill>
            <a:miter/>
          </a:ln>
        </p:spPr>
      </p:pic>
      <p:pic>
        <p:nvPicPr>
          <p:cNvPr id="68" name="Picture 2" descr="http://pandia.ru/text/79/444/images/image004_20.jpg"/>
          <p:cNvPicPr/>
          <p:nvPr/>
        </p:nvPicPr>
        <p:blipFill>
          <a:blip r:embed="rId2"/>
          <a:stretch/>
        </p:blipFill>
        <p:spPr>
          <a:xfrm>
            <a:off x="6588000" y="1700280"/>
            <a:ext cx="1785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http://player.myshared.ru/9/907847/slides/slide_31.jpg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5094360"/>
          </a:xfrm>
          <a:prstGeom prst="rect">
            <a:avLst/>
          </a:prstGeom>
          <a:ln w="9360">
            <a:solidFill>
              <a:srgbClr val="b00000"/>
            </a:solidFill>
            <a:miter/>
          </a:ln>
        </p:spPr>
      </p:pic>
      <p:pic>
        <p:nvPicPr>
          <p:cNvPr id="70" name="Picture 2" descr="http://miranimacii.ru/_ph/23/865520745.gif"/>
          <p:cNvPicPr/>
          <p:nvPr/>
        </p:nvPicPr>
        <p:blipFill>
          <a:blip r:embed="rId2"/>
          <a:stretch/>
        </p:blipFill>
        <p:spPr>
          <a:xfrm>
            <a:off x="7451640" y="33336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detisochi.ru/assets/images/articles/11/19.jpg"/>
          <p:cNvPicPr/>
          <p:nvPr/>
        </p:nvPicPr>
        <p:blipFill>
          <a:blip r:embed="rId3"/>
          <a:stretch/>
        </p:blipFill>
        <p:spPr>
          <a:xfrm>
            <a:off x="5364000" y="4292640"/>
            <a:ext cx="2725920" cy="2381040"/>
          </a:xfrm>
          <a:prstGeom prst="rect">
            <a:avLst/>
          </a:prstGeom>
          <a:ln w="9360">
            <a:solidFill>
              <a:srgbClr val="b00000"/>
            </a:solidFill>
            <a:miter/>
          </a:ln>
        </p:spPr>
      </p:pic>
      <p:pic>
        <p:nvPicPr>
          <p:cNvPr id="72" name="Picture 6" descr="http://funlib.ru/cimg/2014/101708/1528334"/>
          <p:cNvPicPr/>
          <p:nvPr/>
        </p:nvPicPr>
        <p:blipFill>
          <a:blip r:embed="rId4"/>
          <a:stretch/>
        </p:blipFill>
        <p:spPr>
          <a:xfrm>
            <a:off x="1403280" y="4292640"/>
            <a:ext cx="2941560" cy="2278080"/>
          </a:xfrm>
          <a:prstGeom prst="rect">
            <a:avLst/>
          </a:prstGeom>
          <a:ln w="9360">
            <a:solidFill>
              <a:srgbClr val="b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modernlib.ru/books/verzilin_nikolay_mihaylovich/photo.jpg"/>
          <p:cNvPicPr/>
          <p:nvPr/>
        </p:nvPicPr>
        <p:blipFill>
          <a:blip r:embed="rId1"/>
          <a:stretch/>
        </p:blipFill>
        <p:spPr>
          <a:xfrm>
            <a:off x="971640" y="981000"/>
            <a:ext cx="2376360" cy="3456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7" descr=""/>
          <p:cNvPicPr/>
          <p:nvPr/>
        </p:nvPicPr>
        <p:blipFill>
          <a:blip r:embed="rId2"/>
          <a:stretch/>
        </p:blipFill>
        <p:spPr>
          <a:xfrm>
            <a:off x="981000" y="4511520"/>
            <a:ext cx="2390760" cy="5367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3492360" y="1916280"/>
            <a:ext cx="52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«Методика начинается с того момента, когда учитель становится  руководителем познавательного процесса, протекающего в сознании ученик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vynogradiv-zosh2.edukit.uz.ua/files2/images/%D0%A1%D1%83%D1%85%D0%BE%D0%BC%D0%BB%D0%B8%D0%BD%D1%81%D1%8C%D0%BA%D0%B8%D0%B9.jpg"/>
          <p:cNvPicPr/>
          <p:nvPr/>
        </p:nvPicPr>
        <p:blipFill>
          <a:blip r:embed="rId1"/>
          <a:stretch/>
        </p:blipFill>
        <p:spPr>
          <a:xfrm>
            <a:off x="1042920" y="1197000"/>
            <a:ext cx="2737080" cy="35272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822240" y="4797360"/>
            <a:ext cx="3249720" cy="536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140360" y="1815120"/>
            <a:ext cx="453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"Процесс обучения будет легким, если это станет для детей ярким, захватывающим, наполненным живыми образами, звуками, мелодией то, что ребенок обязан запомнить прежде всего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rku.nrav.org/wp-content/uploads/2014/06/%D1%8C%D1%82%D0%B8%D0%BF%D0%B0%D0%B2.jpg"/>
          <p:cNvPicPr/>
          <p:nvPr/>
        </p:nvPicPr>
        <p:blipFill>
          <a:blip r:embed="rId1"/>
          <a:stretch/>
        </p:blipFill>
        <p:spPr>
          <a:xfrm>
            <a:off x="1116000" y="1052640"/>
            <a:ext cx="2879640" cy="37386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5" descr=""/>
          <p:cNvPicPr/>
          <p:nvPr/>
        </p:nvPicPr>
        <p:blipFill>
          <a:blip r:embed="rId2"/>
          <a:stretch/>
        </p:blipFill>
        <p:spPr>
          <a:xfrm>
            <a:off x="963720" y="4943520"/>
            <a:ext cx="3400200" cy="536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716360" y="21337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" Интеграция в начальной школе должна иметь количественный характер: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b00000"/>
                </a:solidFill>
                <a:uFillTx/>
                <a:latin typeface="Times New Roman"/>
              </a:rPr>
              <a:t>"Немного обо всем".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934920" y="271476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Интегрированный урок наряду с сочетанием методов и средств обучения предполагает сочетание форм организации учебной деятельности школьников на уроке, а именно: 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</a:rPr>
              <a:t>индивидуальной, групповой, фронтально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332000" y="705960"/>
            <a:ext cx="7056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0000"/>
                </a:solidFill>
                <a:latin typeface="Times New Roman"/>
              </a:rPr>
              <a:t>Интегрированный урок преследует следующие результаты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- повышение уровня знаний по предмет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- изменение интеллектуальн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- развитие речи школьников, обусловленное взаимовлиянием разных учебных предме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- эмоциональное развитие учащихся, основанное на привлечении музыки, живописи, лепки, литературы, пластики движения те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- рост познавательного интереса школьников, проявляемого в желании активной и самостоятельной работы на уроке и во внеурочное врем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Calibri"/>
              </a:rPr>
              <a:t>- включение учащихся в творческую деятельность, результатом которой могут быть их собственные стихотворения, рисунки, панно, поделки, являющие отражение личностного отношения к тем или иным явлениям и процессам.</a:t>
            </a:r>
            <a:r>
              <a:rPr b="1" lang="ru-RU" sz="2000" spc="-1" strike="noStrike">
                <a:solidFill>
                  <a:srgbClr val="b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826920" y="420840"/>
            <a:ext cx="7490160" cy="36601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b00000"/>
                </a:solidFill>
                <a:latin typeface="Times New Roman"/>
              </a:rPr>
              <a:t>В комбинации элементов данных методик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Дети, пришедшие в школу, различны по темпераменту, видам памяти, усидчивости и т.д. При комбинации различных элементов методик есть возможность «достучаться» до каждого или почти до каждого учащего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00000"/>
                </a:solidFill>
                <a:latin typeface="Times New Roman"/>
              </a:rPr>
              <a:t>В рационализации, усовершенствовании отдельных сторон педагогического труд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- различные предметы </a:t>
            </a:r>
            <a:r>
              <a:rPr b="0" i="1" lang="ru-RU" sz="1800" spc="-1" strike="noStrike">
                <a:solidFill>
                  <a:srgbClr val="b00000"/>
                </a:solidFill>
                <a:latin typeface="Times New Roman"/>
              </a:rPr>
              <a:t>взаимопроникают друг в друга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, сокращается общее время преподавания всех предметов, увеличивается время для других сторон урока: средств обучения, применения различных видов деятельности, самостоятельной работы учащихся, и применении современных технолог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-оптимальность</a:t>
            </a:r>
            <a:r>
              <a:rPr b="0" lang="ru-RU" sz="1800" spc="-1" strike="noStrike" u="sng">
                <a:solidFill>
                  <a:srgbClr val="b00000"/>
                </a:solidFill>
                <a:uFillTx/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достигается в интегрированном обучении </a:t>
            </a:r>
            <a:r>
              <a:rPr b="0" i="1" lang="ru-RU" sz="1800" spc="-1" strike="noStrike">
                <a:solidFill>
                  <a:srgbClr val="b00000"/>
                </a:solidFill>
                <a:latin typeface="Times New Roman"/>
              </a:rPr>
              <a:t>за счет взаимопроникновения тем и под тем.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826920" y="4230000"/>
            <a:ext cx="7561440" cy="20142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00000"/>
                </a:solidFill>
                <a:latin typeface="Times New Roman"/>
              </a:rPr>
              <a:t>В рационализации, усовершенствовании отдельных сторон педагогического труд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- различные предметы </a:t>
            </a:r>
            <a:r>
              <a:rPr b="0" i="1" lang="ru-RU" sz="1800" spc="-1" strike="noStrike">
                <a:solidFill>
                  <a:srgbClr val="b00000"/>
                </a:solidFill>
                <a:latin typeface="Times New Roman"/>
              </a:rPr>
              <a:t>взаимопроникают друг в друга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</a:rPr>
              <a:t>, сокращается общее время преподавания всех предметов, увеличивается время для других сторон урока: средств обучения, применения различных видов деятельности, самостоятельной работы учащихся, и применении современных технолог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http://player.myshared.ru/9/907847/slides/slide_4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53000"/>
          </a:xfrm>
          <a:prstGeom prst="rect">
            <a:avLst/>
          </a:prstGeom>
          <a:ln w="9360">
            <a:solidFill>
              <a:srgbClr val="b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826920" y="700560"/>
            <a:ext cx="7848720" cy="1922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Показать ребенку единство и разнообразие постоянно меняющегося мира, и как дети разные по темпераменту, по эмоциональной устойчивости, по ведущему каналу восприятия (визуалы,  аудиалы, кинестеты) ведут себя во время уроков.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http://img1.liveinternet.ru/images/attach/c/1/56/348/56348275_speak5.gif"/>
          <p:cNvPicPr/>
          <p:nvPr/>
        </p:nvPicPr>
        <p:blipFill>
          <a:blip r:embed="rId1"/>
          <a:stretch/>
        </p:blipFill>
        <p:spPr>
          <a:xfrm>
            <a:off x="1476360" y="3068640"/>
            <a:ext cx="66675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player.myshared.ru/9/907847/slides/slide_8.jpg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5473440"/>
          </a:xfrm>
          <a:prstGeom prst="rect">
            <a:avLst/>
          </a:prstGeom>
          <a:ln w="9360">
            <a:solidFill>
              <a:srgbClr val="b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8-01-03T09:13:16Z</dcterms:modified>
  <cp:revision>73</cp:revision>
  <dc:subject/>
  <dc:title>Слайд 1</dc:title>
</cp:coreProperties>
</file>