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8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2B2A3-0AAE-45AE-A84B-96647FEFB6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2BF5C-9477-41CB-80EB-0A16BE4B0F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3C27B-40EE-4164-BFD3-94C0B5AC48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BD03A-3798-4326-8D1F-5236EFE20E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D0356-5B62-4BB2-B088-58B9883436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4CB9A-95F6-43E6-9739-F74F65C418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29CA8-CE97-4BE5-AE2E-85B079B336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DDEF8-FF3C-44FC-A7DB-B36E589E1C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D2818-72B0-4118-B1A3-4DA91AEA72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DB1-2861-4BE4-B75B-54D4C90D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9F7-4053-4912-8746-13F080E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52A-5FAA-4F94-84F0-64EE28B6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EA4-CC3E-4F02-A02D-EF965D9B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4D8-BC2B-4AF8-8292-B8A0435B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7E0-954A-453B-A061-B12E165B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EAB-E625-4C41-BA1F-01585A8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AB9-AD17-4EBB-9788-C3D46E33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6A9-6FF4-4FBD-A00D-71B494D8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1F9-8338-4DA7-8620-CD2982E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A73-B0DB-4F0F-AF7D-6B18F21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406-45CB-48FE-8542-FAAC7B1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9E314E-D7CA-4CE2-BC52-B2D8D79B7D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633680" y="271440"/>
            <a:ext cx="72118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, во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598920" y="1905120"/>
            <a:ext cx="2859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ласс Мо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886200" y="301680"/>
            <a:ext cx="57880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В коробке 6 карандаш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толе ещё 2 карандаш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98600" y="468360"/>
            <a:ext cx="3354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Условие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200560" y="2298600"/>
            <a:ext cx="3243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Вопрос задачи</a:t>
            </a:r>
            <a:r>
              <a:rPr b="0" lang="ru-RU" sz="2400" spc="-1" strike="noStrike">
                <a:solidFill>
                  <a:srgbClr val="b84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794040" y="3355920"/>
            <a:ext cx="5889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сего карандаш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1960" y="4656240"/>
            <a:ext cx="3446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Решение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21240" y="4551480"/>
            <a:ext cx="1569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+2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28880" y="6199200"/>
            <a:ext cx="1473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Отв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797200" y="6168960"/>
            <a:ext cx="2967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карандаш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6076800" y="4338720"/>
            <a:ext cx="7272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271440" y="0"/>
            <a:ext cx="98074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оробке было 6 карандашей. Выну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арандаш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арандашей осталось в короб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611600" y="1814400"/>
            <a:ext cx="335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Условие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56240" y="3719520"/>
            <a:ext cx="3178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Вопрос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7040" y="5443560"/>
            <a:ext cx="34466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Решение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859040" y="6380280"/>
            <a:ext cx="1473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Отв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813120" y="2386080"/>
            <a:ext cx="60739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оробке было 6 карандашей. Выну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арандаш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992160" y="4383000"/>
            <a:ext cx="8751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арандашей осталось в короб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689280" y="5381640"/>
            <a:ext cx="1314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-2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WordArt 9"/>
          <p:cNvSpPr txBox="1"/>
          <p:nvPr/>
        </p:nvSpPr>
        <p:spPr>
          <a:xfrm>
            <a:off x="4973760" y="4989600"/>
            <a:ext cx="110484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4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506760" y="6426360"/>
            <a:ext cx="2716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каранда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203040" y="1633680"/>
            <a:ext cx="1105200" cy="72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794640" y="1649520"/>
            <a:ext cx="110484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5510160" y="1649520"/>
            <a:ext cx="1104840" cy="723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5"/>
          <a:stretch/>
        </p:blipFill>
        <p:spPr>
          <a:xfrm>
            <a:off x="4194000" y="1649520"/>
            <a:ext cx="1105200" cy="7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6"/>
          <a:stretch/>
        </p:blipFill>
        <p:spPr>
          <a:xfrm>
            <a:off x="2879640" y="1619280"/>
            <a:ext cx="1104840" cy="723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7"/>
          <a:stretch/>
        </p:blipFill>
        <p:spPr>
          <a:xfrm>
            <a:off x="1519200" y="1619280"/>
            <a:ext cx="1104840" cy="723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438120" y="514440"/>
            <a:ext cx="2994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Слава сдел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3960" y="2751120"/>
            <a:ext cx="6672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отдал товарищу 2 корабл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8"/>
          <a:stretch/>
        </p:blipFill>
        <p:spPr>
          <a:xfrm>
            <a:off x="2879640" y="3341520"/>
            <a:ext cx="1104840" cy="723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9"/>
          <a:stretch/>
        </p:blipFill>
        <p:spPr>
          <a:xfrm>
            <a:off x="1549440" y="3357720"/>
            <a:ext cx="1104840" cy="72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725400" y="4338720"/>
            <a:ext cx="8398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орабликов осталось у Сла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1680" y="4973760"/>
            <a:ext cx="3105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Что извест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27160" y="5896080"/>
            <a:ext cx="3983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Arial"/>
              </a:rPr>
              <a:t>Что нужно узн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446640" y="4869000"/>
            <a:ext cx="6149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Слава сделал 6 корабл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552840" y="5367240"/>
            <a:ext cx="5718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лава отдал 2 корабл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233960" y="5896080"/>
            <a:ext cx="44593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орабл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 у Сла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7737480" y="2049480"/>
            <a:ext cx="2122560" cy="2219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635040" y="241200"/>
            <a:ext cx="58165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условие задач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орая решается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633240" y="2162160"/>
            <a:ext cx="5911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5+2=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5"/>
          <a:stretch/>
        </p:blipFill>
        <p:spPr>
          <a:xfrm>
            <a:off x="237960" y="4726080"/>
            <a:ext cx="2122560" cy="22194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100240" y="4686480"/>
            <a:ext cx="7605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</a:rPr>
              <a:t>Ответ : 7 пти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271440" y="1981080"/>
            <a:ext cx="944892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-2=                   0+1=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-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바탕"/>
              </a:rPr>
              <a:t>□=9                 6+2=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바탕"/>
              </a:rPr>
              <a:t>8+2=                     2-2=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바탕"/>
              </a:rPr>
              <a:t>6+□=7                  □-2=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WordArt 2" descr=""/>
          <p:cNvPicPr/>
          <p:nvPr/>
        </p:nvPicPr>
        <p:blipFill>
          <a:blip r:embed="rId2"/>
          <a:stretch/>
        </p:blipFill>
        <p:spPr>
          <a:xfrm>
            <a:off x="4359240" y="5900760"/>
            <a:ext cx="858960" cy="907920"/>
          </a:xfrm>
          <a:prstGeom prst="rect">
            <a:avLst/>
          </a:prstGeom>
          <a:ln w="0">
            <a:noFill/>
          </a:ln>
        </p:spPr>
      </p:pic>
      <p:pic>
        <p:nvPicPr>
          <p:cNvPr id="93" name="WordArt 3" descr=""/>
          <p:cNvPicPr/>
          <p:nvPr/>
        </p:nvPicPr>
        <p:blipFill>
          <a:blip r:embed="rId3"/>
          <a:stretch/>
        </p:blipFill>
        <p:spPr>
          <a:xfrm>
            <a:off x="5450040" y="5688000"/>
            <a:ext cx="738000" cy="1023840"/>
          </a:xfrm>
          <a:prstGeom prst="rect">
            <a:avLst/>
          </a:prstGeom>
          <a:ln w="0">
            <a:noFill/>
          </a:ln>
        </p:spPr>
      </p:pic>
      <p:pic>
        <p:nvPicPr>
          <p:cNvPr id="94" name="WordArt 4" descr=""/>
          <p:cNvPicPr/>
          <p:nvPr/>
        </p:nvPicPr>
        <p:blipFill>
          <a:blip r:embed="rId4"/>
          <a:stretch/>
        </p:blipFill>
        <p:spPr>
          <a:xfrm>
            <a:off x="2109960" y="5888160"/>
            <a:ext cx="755640" cy="10792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5" descr=""/>
          <p:cNvPicPr/>
          <p:nvPr/>
        </p:nvPicPr>
        <p:blipFill>
          <a:blip r:embed="rId5"/>
          <a:stretch/>
        </p:blipFill>
        <p:spPr>
          <a:xfrm>
            <a:off x="6437160" y="5840280"/>
            <a:ext cx="933480" cy="92556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6" descr=""/>
          <p:cNvPicPr/>
          <p:nvPr/>
        </p:nvPicPr>
        <p:blipFill>
          <a:blip r:embed="rId6"/>
          <a:stretch/>
        </p:blipFill>
        <p:spPr>
          <a:xfrm>
            <a:off x="7370640" y="5827680"/>
            <a:ext cx="725760" cy="106056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7" descr=""/>
          <p:cNvPicPr/>
          <p:nvPr/>
        </p:nvPicPr>
        <p:blipFill>
          <a:blip r:embed="rId7"/>
          <a:stretch/>
        </p:blipFill>
        <p:spPr>
          <a:xfrm>
            <a:off x="1030320" y="6076800"/>
            <a:ext cx="804960" cy="927360"/>
          </a:xfrm>
          <a:prstGeom prst="rect">
            <a:avLst/>
          </a:prstGeom>
          <a:ln w="0">
            <a:noFill/>
          </a:ln>
        </p:spPr>
      </p:pic>
      <p:pic>
        <p:nvPicPr>
          <p:cNvPr id="98" name="WordArt 8" descr=""/>
          <p:cNvPicPr/>
          <p:nvPr/>
        </p:nvPicPr>
        <p:blipFill>
          <a:blip r:embed="rId8"/>
          <a:stretch/>
        </p:blipFill>
        <p:spPr>
          <a:xfrm>
            <a:off x="8577360" y="6029280"/>
            <a:ext cx="1347840" cy="993960"/>
          </a:xfrm>
          <a:prstGeom prst="rect">
            <a:avLst/>
          </a:prstGeom>
          <a:ln w="0">
            <a:noFill/>
          </a:ln>
        </p:spPr>
      </p:pic>
      <p:pic>
        <p:nvPicPr>
          <p:cNvPr id="99" name="WordArt 9" descr=""/>
          <p:cNvPicPr/>
          <p:nvPr/>
        </p:nvPicPr>
        <p:blipFill>
          <a:blip r:embed="rId9"/>
          <a:stretch/>
        </p:blipFill>
        <p:spPr>
          <a:xfrm>
            <a:off x="3267000" y="6004080"/>
            <a:ext cx="792360" cy="1145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7921800" y="347760"/>
            <a:ext cx="20476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WordArt 11" descr=""/>
          <p:cNvPicPr/>
          <p:nvPr/>
        </p:nvPicPr>
        <p:blipFill>
          <a:blip r:embed="rId10"/>
          <a:stretch/>
        </p:blipFill>
        <p:spPr>
          <a:xfrm>
            <a:off x="3365640" y="2389320"/>
            <a:ext cx="2943000" cy="24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"/>
          <p:cNvSpPr/>
          <p:nvPr/>
        </p:nvSpPr>
        <p:spPr>
          <a:xfrm>
            <a:off x="407880" y="90360"/>
            <a:ext cx="1390680" cy="1346400"/>
          </a:xfrm>
          <a:prstGeom prst="ellipse">
            <a:avLst/>
          </a:prstGeom>
          <a:gradFill rotWithShape="0">
            <a:gsLst>
              <a:gs pos="0">
                <a:srgbClr val="e6ff00"/>
              </a:gs>
              <a:gs pos="100000">
                <a:srgbClr val="ff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801720" y="2282760"/>
            <a:ext cx="898056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-1 * 7    7+2 *9    6-2 *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-1 *6     7+2 *8    4+1 *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WordArt 3" descr=""/>
          <p:cNvPicPr/>
          <p:nvPr/>
        </p:nvPicPr>
        <p:blipFill>
          <a:blip r:embed="rId1"/>
          <a:stretch/>
        </p:blipFill>
        <p:spPr>
          <a:xfrm>
            <a:off x="590400" y="4194000"/>
            <a:ext cx="609840" cy="54324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4" descr=""/>
          <p:cNvPicPr/>
          <p:nvPr/>
        </p:nvPicPr>
        <p:blipFill>
          <a:blip r:embed="rId2"/>
          <a:stretch/>
        </p:blipFill>
        <p:spPr>
          <a:xfrm>
            <a:off x="487440" y="4133880"/>
            <a:ext cx="639720" cy="541440"/>
          </a:xfrm>
          <a:prstGeom prst="rect">
            <a:avLst/>
          </a:prstGeom>
          <a:ln w="0">
            <a:noFill/>
          </a:ln>
        </p:spPr>
      </p:pic>
      <p:pic>
        <p:nvPicPr>
          <p:cNvPr id="106" name="WordArt 5" descr=""/>
          <p:cNvPicPr/>
          <p:nvPr/>
        </p:nvPicPr>
        <p:blipFill>
          <a:blip r:embed="rId3"/>
          <a:stretch/>
        </p:blipFill>
        <p:spPr>
          <a:xfrm>
            <a:off x="3243240" y="2865600"/>
            <a:ext cx="3614760" cy="180972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6" descr=""/>
          <p:cNvPicPr/>
          <p:nvPr/>
        </p:nvPicPr>
        <p:blipFill>
          <a:blip r:embed="rId4"/>
          <a:stretch/>
        </p:blipFill>
        <p:spPr>
          <a:xfrm>
            <a:off x="2584440" y="4108320"/>
            <a:ext cx="671400" cy="646200"/>
          </a:xfrm>
          <a:prstGeom prst="rect">
            <a:avLst/>
          </a:prstGeom>
          <a:ln w="0">
            <a:noFill/>
          </a:ln>
        </p:spPr>
      </p:pic>
      <p:pic>
        <p:nvPicPr>
          <p:cNvPr id="108" name="WordArt 7" descr=""/>
          <p:cNvPicPr/>
          <p:nvPr/>
        </p:nvPicPr>
        <p:blipFill>
          <a:blip r:embed="rId5"/>
          <a:stretch/>
        </p:blipFill>
        <p:spPr>
          <a:xfrm>
            <a:off x="2535120" y="4054320"/>
            <a:ext cx="738360" cy="657360"/>
          </a:xfrm>
          <a:prstGeom prst="rect">
            <a:avLst/>
          </a:prstGeom>
          <a:ln w="0">
            <a:noFill/>
          </a:ln>
        </p:spPr>
      </p:pic>
      <p:pic>
        <p:nvPicPr>
          <p:cNvPr id="109" name="WordArt 8" descr=""/>
          <p:cNvPicPr/>
          <p:nvPr/>
        </p:nvPicPr>
        <p:blipFill>
          <a:blip r:embed="rId6"/>
          <a:stretch/>
        </p:blipFill>
        <p:spPr>
          <a:xfrm>
            <a:off x="4017960" y="4071960"/>
            <a:ext cx="719280" cy="622440"/>
          </a:xfrm>
          <a:prstGeom prst="rect">
            <a:avLst/>
          </a:prstGeom>
          <a:ln w="0">
            <a:noFill/>
          </a:ln>
        </p:spPr>
      </p:pic>
      <p:pic>
        <p:nvPicPr>
          <p:cNvPr id="110" name="WordArt 9" descr=""/>
          <p:cNvPicPr/>
          <p:nvPr/>
        </p:nvPicPr>
        <p:blipFill>
          <a:blip r:embed="rId7"/>
          <a:stretch/>
        </p:blipFill>
        <p:spPr>
          <a:xfrm>
            <a:off x="4035600" y="4022640"/>
            <a:ext cx="718920" cy="62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8"/>
          <a:stretch/>
        </p:blipFill>
        <p:spPr>
          <a:xfrm>
            <a:off x="3220920" y="4184640"/>
            <a:ext cx="3990960" cy="638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498600" y="5548320"/>
            <a:ext cx="9343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+2= 3          4+2=</a:t>
            </a: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□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바탕"/>
              </a:rPr>
              <a:t>          5+2=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바탕"/>
              </a:rPr>
              <a:t>3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□+2      6=  □+2            7=  □+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-2= □       6-2=  □             7-2=  □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98600" y="5548320"/>
            <a:ext cx="93438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+2= 3          4+2=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바탕"/>
              </a:rPr>
              <a:t>          5+2=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바탕"/>
              </a:rPr>
              <a:t>3= 1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+2      6=  4+2            7= 5+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-2= 1       6-2= 4             7-2= 5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978280" y="438120"/>
            <a:ext cx="4554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ить приме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3673440" y="333360"/>
            <a:ext cx="30052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5638680" y="2328840"/>
            <a:ext cx="4176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овут кажд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ьчик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олов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удочка 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ши длиннее, ч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Димы, но короч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у То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008160" y="1981080"/>
            <a:ext cx="1465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354560" y="2509920"/>
            <a:ext cx="1360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965240" y="2328840"/>
            <a:ext cx="1287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815760" y="3522600"/>
            <a:ext cx="2028600" cy="665280"/>
          </a:xfrm>
          <a:prstGeom prst="line">
            <a:avLst/>
          </a:prstGeom>
          <a:ln w="720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2523600" y="3840120"/>
            <a:ext cx="668520" cy="695520"/>
          </a:xfrm>
          <a:prstGeom prst="line">
            <a:avLst/>
          </a:prstGeom>
          <a:ln w="72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4444920" y="3900600"/>
            <a:ext cx="227160" cy="453960"/>
          </a:xfrm>
          <a:prstGeom prst="line">
            <a:avLst/>
          </a:prstGeom>
          <a:ln w="36000">
            <a:solidFill>
              <a:srgbClr val="5c8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6:22:40Z</dcterms:created>
  <dc:creator>Климова В.А.</dc:creator>
  <dc:description/>
  <dc:language>en-US</dc:language>
  <cp:lastModifiedBy>KlimovaVA</cp:lastModifiedBy>
  <dcterms:modified xsi:type="dcterms:W3CDTF">2017-12-22T10:21:15Z</dcterms:modified>
  <cp:revision>2</cp:revision>
  <dc:subject/>
  <dc:title>Слайд 1</dc:title>
</cp:coreProperties>
</file>