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54A-D9DE-4C88-85E7-A8D46AE1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E77-2152-4A63-81FF-94244255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477A-850D-401F-8FC1-1C2370E5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EC6-05D2-4C1B-BADD-939FAFB6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63C-7A73-4AB9-A8A9-78454F25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41E-2EBE-4C7D-AF19-AAC5F4DD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33C-2DA3-45DB-AC2A-40A217AD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84C-8294-4D79-B0A1-1FD20060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2E7-151B-424C-8A1E-6F02E126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C53-150D-443C-BB21-6B5D6190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8AD-051A-472D-8DA6-E12F6048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99A-C573-41DA-9359-73FC18A4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F1E6-C6D6-4F55-AF74-1EBB9EED4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вё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строномия, уро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вёзды и созвез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20108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ые яркие звё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4861" r="0" b="0"/>
          <a:stretch/>
        </p:blipFill>
        <p:spPr>
          <a:xfrm>
            <a:off x="971640" y="1557360"/>
            <a:ext cx="74167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везд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ая зв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76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ь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лип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и 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Пункты плана выражают главны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Пункты плана связаны между собой по смыс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Чёткая и краткая формул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Вопросы для составления пла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о чём здесь говори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что об этом говор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Название 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Ключевые слова и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Условные обо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Блок-схема? План? Диаграм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Оформление с помощью цветных маркеров и ру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Вопросы, которые требуют дальнейшей прораб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a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нал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читаю, что мои товарищ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чу узнать 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6:55:21Z</dcterms:created>
  <dc:creator>212</dc:creator>
  <dc:description/>
  <dc:language>en-US</dc:language>
  <cp:lastModifiedBy>212</cp:lastModifiedBy>
  <dcterms:modified xsi:type="dcterms:W3CDTF">2018-01-03T17:11:53Z</dcterms:modified>
  <cp:revision>2</cp:revision>
  <dc:subject/>
  <dc:title>Звёздное небо</dc:title>
</cp:coreProperties>
</file>