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23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73B2-31D1-4271-A8B9-F623EC380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6282-A39A-491D-AA6B-0FDD9F1F2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1E4-EBAB-4D0B-BA11-C37F5442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2A0-92FE-438B-B7BD-C2E9EDEC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F11-1A1B-4C4F-9CD1-AB95BA89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905-EE45-46B7-ABC2-5CD4AA8F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0537-93CF-4395-AE36-498E6863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A28B-CEA6-4BF9-A903-9F85034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2C73-BB08-4F56-BD71-DD3975B7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5164-9D93-429B-95ED-762EB67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8A41-621D-44CA-964D-C9A93191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DF4E-B338-4EC9-89FC-7B1B6012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51B4-8CCC-4597-ACD3-03987017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9AC-1A5C-46FE-A4AA-9AA307E9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5E57-365C-43F4-B66C-A090947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4B7E-2BFB-4AA8-A0E1-91EC8BD4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2030-B6F1-498B-BC0F-C5760D98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0586-A334-4264-85EA-5ECFD5D6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F2CD-9F1A-433A-9544-99B0CA2D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EF290-930B-4166-B0C0-41C61CF6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0DDF-6AF8-4F4B-8437-7236B55E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3771-E4FD-4147-80F3-92527B09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727E-5699-49F7-81A4-F7A64C4C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B80E-4F2E-4FA3-872B-B5F585F8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400-65E9-4383-81D8-3BBC83AA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54F0-D790-449F-9C7F-FFA2F8D9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A407-D1B2-47EA-B613-B9B06A8C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A06C-28D3-412F-9771-9D2C39A3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794B-52F3-459E-9610-B0EDEECE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DE19-939C-44C1-96A0-65C4CD21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9107-67DB-48BD-9762-856332DF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6DF0-F7A0-40BA-B52B-22A57C5F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8C96-4D39-47D4-A774-B88FB1B6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532E-BC5E-46A0-BE29-43638649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10399-D527-4BCD-A70D-51D3F801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0E5-348C-4173-8FDC-DE75A643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A84E-D516-4D06-8638-20758109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9211-C46E-4D8C-8576-797169FC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C1B7-A2E5-472C-BA11-7D07F760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8E3C-A515-4E62-A443-09E7299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46CEE-43AB-4973-9C06-7737E078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515A-BCDF-411D-8F6F-9FA6B29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FA0C-8F83-443A-B0BD-EBC11A3A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670E6-0A9D-42C9-8B86-9177E67A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D936-B1A9-4124-8959-2A845504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B62A6-7972-40A6-9179-BD17A27B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ED6-4FA0-4999-B230-C250CB4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9B8A-1BA2-4DB8-87B1-C200E09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732B-7492-415C-A65F-4AE85E3E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90B80-93B4-463B-9BCD-9CFCF71A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DA1A-953E-46BB-B168-A33D0BF3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E9B22-57C5-49E2-B6C2-935273BA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A808C-C9CC-4E2A-A75C-37ED7ED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3909B-E943-4172-8CCF-1219EE6D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D1AA9-2FA9-4481-AD42-07CD464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3E0DA-B496-4D0E-87A8-20E16065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BEE1-A846-45E2-9290-B9DD3CDE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853-B4C2-4AE7-A0C5-CB7DF4C1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6E086-2E09-4824-95B7-C52171A6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8E51-25E8-43C5-B316-7718E4E2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CF95-5F4B-480F-91A2-8E9B2F5C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A74A0-1AC4-4795-9A7A-E4CB80C0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D591-0F33-4DFD-B209-152D565F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FDD29-D8BB-4C5F-B521-1ACC21D4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D0316-56F4-4888-8EDE-0FFC26AD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1232D-4EC2-4240-AE75-9F2BB2E3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E04E-006E-4A44-A1FE-72C55AF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799FE-5A2C-433C-8B2A-6D960DF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CE7-BE6A-41F9-B8B8-C8C5324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B99AC-71E7-439D-AF23-28BF2AD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7246B-97AB-4EB5-A05C-94968B72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F5911-8EAA-42B8-84F6-E945578E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A8E34-0BC7-42CF-8F46-2C53536C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395E-ECB0-4445-BF09-174E47DA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B5D8-829E-46B4-9761-ED102630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F77CC-9CB4-4DE4-8810-7D29D086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4EDA4-F0FC-4A73-914E-FF1EE72C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7B5DC-56CE-4DA0-BF26-191C1000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176A-F0DB-4959-9BB2-22C0D730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115-73E6-487C-88EF-08DF4372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CE535-DE2F-4EF0-A35C-E87DBF9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8D1E3-11F1-47D8-ABAF-FFC8C33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777D3-8F99-4B7B-96FA-369F68C0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9B066-E254-4690-943D-2CB1EBBA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78D6A-EFC8-4097-892E-1F651E5C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13116-4008-42FB-8081-5CF9DBF5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DBB37-9BFA-4352-82B1-FF5A2FC9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F293B-4A96-4A58-90F2-13745B44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6B70A-B632-4D73-A029-2B6A201B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13CCA-91BC-4B51-A9D7-22E998D9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33B-4D89-4476-8BA9-765185C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D1805-1F57-40BF-AC07-950A1CE2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41288-F916-45B9-9462-CE25AA2A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E303E-0EF6-4270-9769-A56E2EB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1325A-D994-4FB2-BE96-95CBB68B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37BB7-43F2-4BF7-92BF-BDD7C2E1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0A408-3D6E-4EB8-8858-619CD234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7B832-EB32-417C-B451-CF9F3DA1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DBF5-896E-4F9F-86CB-A5E9A027B47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3A0-B4C5-4148-A1E2-117455B258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513-0053-4836-A40F-B39DF94DCB4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B62-96C6-48F5-B5BC-D1F88F51EE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A54F-E7E0-4671-9126-66C6614AEE4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7AC4-D83C-40DD-8008-149EF712C4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A2AA-9C47-4E8A-A26B-14CE9AF7848C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5341-4213-4F08-8DC5-A300DEEC84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75A4-6462-467E-87AB-7BF3312E015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7D95-E447-4F7F-8AA6-DC49B258A6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532-2AA4-4306-9A18-3097AEB0BAF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CB32-C7BB-412B-8765-8DCC17B038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5982-D243-4716-A4B4-CEBAFE5A7C4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AA73-58DE-4CAF-9D56-4F07389885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013B-D917-4B20-B11B-DBC279CC996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3CE6-29EC-4030-A343-F0CE0FBB73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xt Box 9" descr=""/>
          <p:cNvPicPr/>
          <p:nvPr/>
        </p:nvPicPr>
        <p:blipFill>
          <a:blip r:embed="rId1"/>
          <a:stretch/>
        </p:blipFill>
        <p:spPr>
          <a:xfrm>
            <a:off x="901800" y="2494080"/>
            <a:ext cx="7778520" cy="1303200"/>
          </a:xfrm>
          <a:prstGeom prst="rect">
            <a:avLst/>
          </a:prstGeom>
          <a:ln w="0">
            <a:noFill/>
          </a:ln>
        </p:spPr>
      </p:pic>
      <p:pic>
        <p:nvPicPr>
          <p:cNvPr id="378" name="Text Box 10" descr=""/>
          <p:cNvPicPr/>
          <p:nvPr/>
        </p:nvPicPr>
        <p:blipFill>
          <a:blip r:embed="rId2"/>
          <a:stretch/>
        </p:blipFill>
        <p:spPr>
          <a:xfrm>
            <a:off x="4645080" y="4084560"/>
            <a:ext cx="4565520" cy="822240"/>
          </a:xfrm>
          <a:prstGeom prst="rect">
            <a:avLst/>
          </a:prstGeom>
          <a:ln w="0">
            <a:noFill/>
          </a:ln>
        </p:spPr>
      </p:pic>
      <p:pic>
        <p:nvPicPr>
          <p:cNvPr id="379" name="Text Box 11" descr=""/>
          <p:cNvPicPr/>
          <p:nvPr/>
        </p:nvPicPr>
        <p:blipFill>
          <a:blip r:embed="rId3"/>
          <a:stretch/>
        </p:blipFill>
        <p:spPr>
          <a:xfrm>
            <a:off x="3121200" y="6224760"/>
            <a:ext cx="2981160" cy="36504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6" descr=""/>
          <p:cNvPicPr/>
          <p:nvPr/>
        </p:nvPicPr>
        <p:blipFill>
          <a:blip r:embed="rId4"/>
          <a:stretch/>
        </p:blipFill>
        <p:spPr>
          <a:xfrm>
            <a:off x="579600" y="1225440"/>
            <a:ext cx="8296200" cy="1060560"/>
          </a:xfrm>
          <a:prstGeom prst="rect">
            <a:avLst/>
          </a:prstGeom>
          <a:ln w="0">
            <a:noFill/>
          </a:ln>
        </p:spPr>
      </p:pic>
      <p:pic>
        <p:nvPicPr>
          <p:cNvPr id="381" name="Text Box 11" descr=""/>
          <p:cNvPicPr/>
          <p:nvPr/>
        </p:nvPicPr>
        <p:blipFill>
          <a:blip r:embed="rId5"/>
          <a:stretch/>
        </p:blipFill>
        <p:spPr>
          <a:xfrm>
            <a:off x="225360" y="328680"/>
            <a:ext cx="8620200" cy="519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6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792000" y="384480"/>
            <a:ext cx="68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лактической работы детского са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4038480" y="1770480"/>
            <a:ext cx="5105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единства психического и физического здоровья ребе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взаимосвязи и взаимозависимости развития ребенка в семье и детском сад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 единства и взаимосвязи антенатального и постнатального развития ребе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о-ориентированный подход в работе с семьей и ребенк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сть системы профилактической рабо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трудничество субъектов профилакти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6" name="Picture 7" descr="post-5450-1181480382"/>
          <p:cNvPicPr/>
          <p:nvPr/>
        </p:nvPicPr>
        <p:blipFill>
          <a:blip r:embed="rId1"/>
          <a:stretch/>
        </p:blipFill>
        <p:spPr>
          <a:xfrm>
            <a:off x="228600" y="2349360"/>
            <a:ext cx="3809880" cy="301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1173240" y="460440"/>
            <a:ext cx="663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ы взаимодейств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семьями воспитанников детского са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1125720" y="1526040"/>
            <a:ext cx="66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первичной информации о системе работы ДОУ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1141920" y="2211840"/>
            <a:ext cx="666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этап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физического и нервно-психического развит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1447920" y="2973960"/>
            <a:ext cx="610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этап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ы профилакти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1" name="Picture 9" descr="22150378"/>
          <p:cNvPicPr/>
          <p:nvPr/>
        </p:nvPicPr>
        <p:blipFill>
          <a:blip r:embed="rId1"/>
          <a:stretch/>
        </p:blipFill>
        <p:spPr>
          <a:xfrm>
            <a:off x="2590920" y="3809880"/>
            <a:ext cx="4038480" cy="27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4"/>
          <p:cNvSpPr txBox="1"/>
          <p:nvPr/>
        </p:nvSpPr>
        <p:spPr>
          <a:xfrm rot="21171000">
            <a:off x="914040" y="1447920"/>
            <a:ext cx="739152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25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25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3733920" y="4191120"/>
            <a:ext cx="223812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380880" y="98928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диктивное поведение – одна из форм деструктивного поведени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выражается в стремлении к уходу от реальности путе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своего психического состояния посредством прием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х веществ или постоянной фиксации внимания 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ых предметах или активностях (видах деятельности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опровождается развитием интенсивных эмоци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600200" y="380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диктивное повед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4" name="Picture 8" descr="1258322300_carrot"/>
          <p:cNvPicPr/>
          <p:nvPr/>
        </p:nvPicPr>
        <p:blipFill>
          <a:blip r:embed="rId1"/>
          <a:stretch/>
        </p:blipFill>
        <p:spPr>
          <a:xfrm>
            <a:off x="3429000" y="3124080"/>
            <a:ext cx="2476440" cy="330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2013120" y="534960"/>
            <a:ext cx="54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ы аддиктивной реализац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2590920" y="150876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диктивные агенты (предметы)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изменяющие психическое состояние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2666880" y="2514600"/>
            <a:ext cx="358164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е препара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ые веще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8" descr="e3b8de22563d"/>
          <p:cNvPicPr/>
          <p:nvPr/>
        </p:nvPicPr>
        <p:blipFill>
          <a:blip r:embed="rId1"/>
          <a:stretch/>
        </p:blipFill>
        <p:spPr>
          <a:xfrm>
            <a:off x="380880" y="11430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9"/>
          <p:cNvSpPr/>
          <p:nvPr/>
        </p:nvSpPr>
        <p:spPr>
          <a:xfrm>
            <a:off x="2590920" y="396144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ность в различные виды деятельност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0" name="Picture 10" descr="originnal_a086056412c46fe061414f3901a1502a"/>
          <p:cNvPicPr/>
          <p:nvPr/>
        </p:nvPicPr>
        <p:blipFill>
          <a:blip r:embed="rId2"/>
          <a:stretch/>
        </p:blipFill>
        <p:spPr>
          <a:xfrm>
            <a:off x="380880" y="4038480"/>
            <a:ext cx="1766880" cy="26672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1"/>
          <p:cNvSpPr/>
          <p:nvPr/>
        </p:nvSpPr>
        <p:spPr>
          <a:xfrm>
            <a:off x="2666880" y="4572000"/>
            <a:ext cx="358164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артные иг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едание или голода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ная музык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1556640" y="763560"/>
            <a:ext cx="60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атеги первичной профилактик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1022400" y="1524960"/>
            <a:ext cx="69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еские мероприятия, направленные на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609480" y="2150280"/>
            <a:ext cx="7772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личностных ресурсов, обеспечивающих             развитие у детей социально-нормативного жизненного   стиля с доминированием ценностей здорового образа жизни и действенной установки на отказ от приема психоактив­ных вещест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ресурсов семьи, помогающих воспитанию у детей успешного законопослушного и ответственного повед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дрение в образовательной среде инновационных педагогических и психологических технологий, обеспечивающих развитие ценностей здорового образа жизни и мотивов отказа от «пробы» и приема наркотик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1474200" y="536760"/>
            <a:ext cx="60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ейные факторы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зывающие девиантное повед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038480" y="2286000"/>
            <a:ext cx="487692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эффективные стратегии воспит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тивные отношения в сем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диктиное поведение родите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события, переживаемые семь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7" descr="d37cffc40be75297eb145c276585887buniqueidcmcimage1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1474200" y="536760"/>
            <a:ext cx="60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ественные факторы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зывающие девиантное повед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2286000" y="1903320"/>
            <a:ext cx="685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ы с воспитателя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иночество детей в групп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ах перед детским садо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кие или даже негативные ожидания со стороны  воспита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важительное и несправедливое отношение со стороны воспита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вешивание ярлыков, оценочные и даже оскорбительные высказывания педагогов по поводу внешности и способностей дет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нипулирование чувством в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имулирование конкуренции дет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вление обязательств, принуждение де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609560" cy="1562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771560" cy="1562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2230920" y="613080"/>
            <a:ext cx="45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направл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780920" y="16776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Профилактическая работа с семь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2819520" y="2451960"/>
            <a:ext cx="632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2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диагностики детско-родительских отношений, выявление семей из группы рис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2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мероприятий по мотивации родителей на включение в профилактическую работу детского сад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2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совместных с детьми досуговых мероприят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2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работка информационных материалов для уголка профилактики зависим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2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ивидуальное консультирование родителей по вопросам детско-родительских отнош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5" name="Picture 8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2154600" y="308160"/>
            <a:ext cx="45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направл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017360" y="1372680"/>
            <a:ext cx="71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Воспитательно-педагогическая работа с деть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514600" y="2059560"/>
            <a:ext cx="6629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Диагностика развития ребенка и составление индивидуальной программы развит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оведение мероприятий, обеспечивающих легкую адаптацию ребенка к ДО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работка и внедрение обучающих валеологических программ, ориентированных на формирование привычки к здоровому образу жизн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еализация программ социально-личностного развития детей, обеспечивающих формирование эмоционально-волевой сферы и коммуникативных навы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оздание условий, побуждающих детей к самостоятельной познавательной активности каждого ребенка и проявлению личностного потенциа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9" name="Picture 9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2366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2078640" y="155880"/>
            <a:ext cx="45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направл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304920" y="13737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Организационно-методологическая работа по профилактике зависимо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4038480" y="2526480"/>
            <a:ext cx="5105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я внутренних обучающих семинаров для педагогов ДО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еализация программ профессионального выгорания педагог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работка материалов самодиагностики родителей и дистанционного консультир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работка информационных материалов для уголка профилактики зависим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08592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-1</dc:creator>
  <dc:description/>
  <dc:language>en-US</dc:language>
  <cp:lastModifiedBy>Илья</cp:lastModifiedBy>
  <dcterms:modified xsi:type="dcterms:W3CDTF">2018-01-04T14:37:2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