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gif" ContentType="image/gif"/>
  <Override PartName="/ppt/media/image13.png" ContentType="image/png"/>
  <Override PartName="/ppt/media/image9.png" ContentType="image/png"/>
  <Override PartName="/ppt/media/image8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D11-D43D-4E33-9B13-D5E9AB8D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50C-6190-491A-940E-FD780B10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01C-C1B7-4FB2-9554-61975E01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594-5405-4759-BACD-6E3F900B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2563-22CF-443A-9399-7307ACF1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744A-B71B-4CBB-A969-3D70FC6A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FE4F-6FAA-4B00-A251-C798329F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64FD-2D3A-4B73-82DC-00C19900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0F30-B56B-4D34-8F85-994A55BF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8D97-E8C3-4E3D-81E6-1E50F16F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C5CC-DA51-43BD-BBE9-E97EA011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921-79B4-43B6-850D-01D126DD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1C97-ECA5-4BDB-93C3-E6B0730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34A5-A23F-4267-9CCD-5C8BEFCC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1690-3256-458E-BCCD-6667A991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283F-80E8-4881-A8CF-E98BAF1D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DA62-4D14-4DA5-A9BB-9C3F28D6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36E-EEE3-4767-A134-8A11D0AA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385-526F-40D4-BD78-CA546175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055-72FD-4BC0-997A-39472C73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67E-9661-450A-AB5E-6FBF3E33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684-BE42-4F0C-BEF0-71A4783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2F3-4C9B-4CD3-A0B7-1728A900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5E1-1F1F-4604-A1A1-A822777E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068D-C26C-4D76-96DE-EECB32BB9742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6B8F-342F-4D14-BF33-AB98956605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E395-FFB6-46E5-80E8-5029A98C37C2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8896-2C64-49D5-938B-975E74F735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286000" y="457200"/>
            <a:ext cx="5867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609480" y="53341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щадей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990720" y="228600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рения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20" descr="http://www.znasha.ru/files/texts/image/%D0%BB%D0%BE%D0%B3%D0%BE%D1%82%D0%B8%D0%BF_2.jpg"/>
          <p:cNvPicPr/>
          <p:nvPr/>
        </p:nvPicPr>
        <p:blipFill>
          <a:blip r:embed="rId2"/>
          <a:stretch/>
        </p:blipFill>
        <p:spPr>
          <a:xfrm>
            <a:off x="152280" y="228600"/>
            <a:ext cx="1828800" cy="185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http://www.znasha.ru/files/texts/image/010.jpg"/>
          <p:cNvPicPr/>
          <p:nvPr/>
        </p:nvPicPr>
        <p:blipFill>
          <a:blip r:embed="rId3"/>
          <a:stretch/>
        </p:blipFill>
        <p:spPr>
          <a:xfrm>
            <a:off x="6629400" y="4778280"/>
            <a:ext cx="2252520" cy="1927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znasha.ru/files/texts/image/%D0%A1%D0%B2%D0%B5%D1%82%D0%BB%D0%B8%D0%BD%D0%BA%D0%B0.jpg"/>
          <p:cNvPicPr/>
          <p:nvPr/>
        </p:nvPicPr>
        <p:blipFill>
          <a:blip r:embed="rId4"/>
          <a:stretch/>
        </p:blipFill>
        <p:spPr>
          <a:xfrm>
            <a:off x="2666880" y="3124080"/>
            <a:ext cx="1981440" cy="21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0624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Comic Sans MS"/>
              </a:rPr>
              <a:t>4. Найдите периметр прямоугольника, площадь которого равна 30см   , а одна из его сторон - 5см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6629400" y="3276720"/>
            <a:ext cx="304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4" name="Picture 7" descr="D:\Картинки аним\Картинки\20.bmp"/>
          <p:cNvPicPr/>
          <p:nvPr/>
        </p:nvPicPr>
        <p:blipFill>
          <a:blip r:embed="rId1"/>
          <a:stretch/>
        </p:blipFill>
        <p:spPr>
          <a:xfrm>
            <a:off x="3657600" y="4902120"/>
            <a:ext cx="1981080" cy="16416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6095880" y="5410080"/>
            <a:ext cx="2514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Р = 22 см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0624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5. Найдите площадь и периметр всей фигуры, если даны следующие размеры: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D = AB = 4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см,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DN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= 6с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295280" y="3962520"/>
            <a:ext cx="533412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3276720" y="3962520"/>
            <a:ext cx="0" cy="175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1752480" y="579132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с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3048120" y="57913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11"/>
          <p:cNvSpPr txBox="1"/>
          <p:nvPr/>
        </p:nvSpPr>
        <p:spPr>
          <a:xfrm>
            <a:off x="6629400" y="34290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12"/>
          <p:cNvSpPr txBox="1"/>
          <p:nvPr/>
        </p:nvSpPr>
        <p:spPr>
          <a:xfrm>
            <a:off x="3048120" y="34290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914400" y="34290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14"/>
          <p:cNvSpPr txBox="1"/>
          <p:nvPr/>
        </p:nvSpPr>
        <p:spPr>
          <a:xfrm>
            <a:off x="6553080" y="57913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15"/>
          <p:cNvSpPr txBox="1"/>
          <p:nvPr/>
        </p:nvSpPr>
        <p:spPr>
          <a:xfrm>
            <a:off x="914400" y="57913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16"/>
          <p:cNvSpPr txBox="1"/>
          <p:nvPr/>
        </p:nvSpPr>
        <p:spPr>
          <a:xfrm>
            <a:off x="4343400" y="579132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с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WordArt 17"/>
          <p:cNvSpPr txBox="1"/>
          <p:nvPr/>
        </p:nvSpPr>
        <p:spPr>
          <a:xfrm>
            <a:off x="533520" y="4572000"/>
            <a:ext cx="533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с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7086600" y="441972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= 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Р = 28с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0624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6. Площадь прямоугольника 50см  , а площадь квадрата в 2 раза меньше. Чему равна сторона квадрат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WordArt 12"/>
          <p:cNvSpPr txBox="1"/>
          <p:nvPr/>
        </p:nvSpPr>
        <p:spPr>
          <a:xfrm>
            <a:off x="3048120" y="34290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5867280" y="144792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Прямоугольник 15"/>
          <p:cNvSpPr/>
          <p:nvPr/>
        </p:nvSpPr>
        <p:spPr>
          <a:xfrm>
            <a:off x="2819520" y="2438280"/>
            <a:ext cx="2971800" cy="1067040"/>
          </a:xfrm>
          <a:prstGeom prst="rect">
            <a:avLst/>
          </a:prstGeom>
          <a:solidFill>
            <a:srgbClr val="00b050"/>
          </a:solidFill>
          <a:ln w="19080">
            <a:solidFill>
              <a:srgbClr val="26262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41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1295280" cy="66204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7"/>
          <p:cNvSpPr/>
          <p:nvPr/>
        </p:nvSpPr>
        <p:spPr>
          <a:xfrm>
            <a:off x="6934320" y="2438280"/>
            <a:ext cx="1062000" cy="990720"/>
          </a:xfrm>
          <a:prstGeom prst="rect">
            <a:avLst/>
          </a:prstGeom>
          <a:solidFill>
            <a:srgbClr val="0070c0"/>
          </a:solidFill>
          <a:ln w="2844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7247520" y="26668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0" y="411480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50 : 2 = 25 (см)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– площадь квадра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WordArt 6"/>
          <p:cNvSpPr txBox="1"/>
          <p:nvPr/>
        </p:nvSpPr>
        <p:spPr>
          <a:xfrm>
            <a:off x="3200400" y="41911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4724280"/>
            <a:ext cx="9144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 = а  = а * а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–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площадь квадр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WordArt 6"/>
          <p:cNvSpPr txBox="1"/>
          <p:nvPr/>
        </p:nvSpPr>
        <p:spPr>
          <a:xfrm>
            <a:off x="1371600" y="480060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5 * 5 = 25,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значит, сторона квадрата равна 5см.                           Ответ: 5с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0624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7. Квадрат со стороной 8см и прямоугольник длиной 16см имеют равные площади. Чему равна ширина прямоугольник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3048120" y="34290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5943600" y="2514600"/>
            <a:ext cx="2971800" cy="1066680"/>
          </a:xfrm>
          <a:prstGeom prst="rect">
            <a:avLst/>
          </a:prstGeom>
          <a:solidFill>
            <a:srgbClr val="00b050"/>
          </a:solidFill>
          <a:ln w="19080">
            <a:solidFill>
              <a:srgbClr val="26262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Прямоугольник 17"/>
          <p:cNvSpPr/>
          <p:nvPr/>
        </p:nvSpPr>
        <p:spPr>
          <a:xfrm>
            <a:off x="3886200" y="2819520"/>
            <a:ext cx="1062000" cy="990360"/>
          </a:xfrm>
          <a:prstGeom prst="rect">
            <a:avLst/>
          </a:prstGeom>
          <a:solidFill>
            <a:srgbClr val="0070c0"/>
          </a:solidFill>
          <a:ln w="2844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5585760" y="289548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0" y="3581280"/>
            <a:ext cx="2438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411480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8 * 8 = 64 (см)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– площадь квадра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3200400" y="41911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4724280"/>
            <a:ext cx="9144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 = а * </a:t>
            </a: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b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 = 16 * </a:t>
            </a: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b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–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площадь прямоугольн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16 * </a:t>
            </a: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b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64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,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значит, ширина прямоуголь-ника равна 64/16=4см.         Ответ: 4с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3276720" y="3124080"/>
            <a:ext cx="533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с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191120" y="3886200"/>
            <a:ext cx="533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с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7315200" y="3657600"/>
            <a:ext cx="533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с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0624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8. Грядку длиной 12м и шириной 1 м разделили на 3 равных прямоугольника. Чему равна площадь каждог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WordArt 12"/>
          <p:cNvSpPr txBox="1"/>
          <p:nvPr/>
        </p:nvSpPr>
        <p:spPr>
          <a:xfrm>
            <a:off x="3048120" y="34290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Прямоугольник 15"/>
          <p:cNvSpPr/>
          <p:nvPr/>
        </p:nvSpPr>
        <p:spPr>
          <a:xfrm>
            <a:off x="2743200" y="2590920"/>
            <a:ext cx="5791320" cy="1066680"/>
          </a:xfrm>
          <a:prstGeom prst="rect">
            <a:avLst/>
          </a:prstGeom>
          <a:solidFill>
            <a:srgbClr val="00b050"/>
          </a:solidFill>
          <a:ln w="19080">
            <a:solidFill>
              <a:srgbClr val="26262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0" y="3581280"/>
            <a:ext cx="2438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0" y="411480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12 * 1 = 12 (м)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– площадь гряд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2971800" y="41911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4724280"/>
            <a:ext cx="9144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12 : 3 = 4 (м)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–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площадь каждого прямоуголь-ни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5867280"/>
            <a:ext cx="91440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Ответ: 4 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WordArt 9"/>
          <p:cNvSpPr txBox="1"/>
          <p:nvPr/>
        </p:nvSpPr>
        <p:spPr>
          <a:xfrm>
            <a:off x="5638680" y="3733920"/>
            <a:ext cx="5335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2286000" y="2895480"/>
            <a:ext cx="38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Прямая соединительная линия 28"/>
          <p:cNvSpPr/>
          <p:nvPr/>
        </p:nvSpPr>
        <p:spPr>
          <a:xfrm>
            <a:off x="4648320" y="2590920"/>
            <a:ext cx="1440" cy="1068120"/>
          </a:xfrm>
          <a:prstGeom prst="line">
            <a:avLst/>
          </a:prstGeom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Прямая соединительная линия 31"/>
          <p:cNvSpPr/>
          <p:nvPr/>
        </p:nvSpPr>
        <p:spPr>
          <a:xfrm>
            <a:off x="6705720" y="2590920"/>
            <a:ext cx="1440" cy="1068120"/>
          </a:xfrm>
          <a:prstGeom prst="line">
            <a:avLst/>
          </a:prstGeom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WordArt 6"/>
          <p:cNvSpPr txBox="1"/>
          <p:nvPr/>
        </p:nvSpPr>
        <p:spPr>
          <a:xfrm>
            <a:off x="2743200" y="480060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5334120" y="594360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53452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1.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Надо нам стремиться лучше жит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И стараться быть активным человеко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Только так мы сможем примени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Свой талант, как ключик, на пути к успех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И тогда, наверняка, математика са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Интересна будет всем без исключень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Все задачки мы решим, лень и скуку победи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И успешным будет школьное ученье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2.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Мы хотим любить, дерзать, творит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Трудолюбию и творчеству учитьс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Знаем мы – царица всех нау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В нашей жизни даже очень пригоди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295280" y="45720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2f"/>
                    </a:gs>
                    <a:gs pos="50000">
                      <a:srgbClr val="ff0066"/>
                    </a:gs>
                    <a:gs pos="100000">
                      <a:srgbClr val="76002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И М Н   У С П Е Х 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2f"/>
                  </a:gs>
                  <a:gs pos="50000">
                    <a:srgbClr val="ff0066"/>
                  </a:gs>
                  <a:gs pos="100000">
                    <a:srgbClr val="76002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От улыбки Куплет.mp3" descr=""/>
          <p:cNvPicPr/>
          <p:nvPr/>
        </p:nvPicPr>
        <p:blipFill>
          <a:blip r:embed="rId1"/>
          <a:stretch/>
        </p:blipFill>
        <p:spPr>
          <a:xfrm>
            <a:off x="79246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243568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8001000" cy="7588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rcRect l="21250" t="27409" r="20833" b="21484"/>
          <a:stretch/>
        </p:blipFill>
        <p:spPr>
          <a:xfrm>
            <a:off x="228600" y="1295280"/>
            <a:ext cx="8686800" cy="48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http://www.znasha.ru/files/texts/image/%D0%A1%D0%B2%D0%B5%D1%82%D0%BB%D0%B8%D0%BD%D0%BA%D0%B0.jpg"/>
          <p:cNvPicPr/>
          <p:nvPr/>
        </p:nvPicPr>
        <p:blipFill>
          <a:blip r:embed="rId2"/>
          <a:stretch/>
        </p:blipFill>
        <p:spPr>
          <a:xfrm>
            <a:off x="7531200" y="5105520"/>
            <a:ext cx="1444680" cy="156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http://www.znasha.ru/files/texts/image/010.jpg"/>
          <p:cNvPicPr/>
          <p:nvPr/>
        </p:nvPicPr>
        <p:blipFill>
          <a:blip r:embed="rId3"/>
          <a:stretch/>
        </p:blipFill>
        <p:spPr>
          <a:xfrm>
            <a:off x="2895480" y="5257800"/>
            <a:ext cx="1600200" cy="1368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0" descr="http://www.znasha.ru/files/texts/image/%D0%BB%D0%BE%D0%B3%D0%BE%D1%82%D0%B8%D0%BF_2.jpg"/>
          <p:cNvPicPr/>
          <p:nvPr/>
        </p:nvPicPr>
        <p:blipFill>
          <a:blip r:embed="rId4"/>
          <a:stretch/>
        </p:blipFill>
        <p:spPr>
          <a:xfrm>
            <a:off x="0" y="304920"/>
            <a:ext cx="1276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амостоятельная работа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Отве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4953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Verdana"/>
              </a:rPr>
              <a:t>Вариант </a:t>
            </a:r>
            <a:r>
              <a:rPr b="0" lang="en-US" sz="2600" spc="-1" strike="noStrike">
                <a:solidFill>
                  <a:srgbClr val="008000"/>
                </a:solidFill>
                <a:latin typeface="Verdana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2) </a:t>
            </a:r>
            <a:r>
              <a:rPr b="0" lang="ru-RU" sz="2600" spc="-1" strike="noStrike">
                <a:solidFill>
                  <a:srgbClr val="0000ff"/>
                </a:solidFill>
                <a:latin typeface="Verdana"/>
              </a:rPr>
              <a:t>81см  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Verdana"/>
              </a:rPr>
              <a:t>2) 30см  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Verdana"/>
              </a:rPr>
              <a:t>4) 26с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Verdana"/>
              </a:rPr>
              <a:t>3) 26см 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WordArt 28"/>
          <p:cNvSpPr txBox="1"/>
          <p:nvPr/>
        </p:nvSpPr>
        <p:spPr>
          <a:xfrm>
            <a:off x="2438280" y="2438280"/>
            <a:ext cx="15264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34" name="WordArt 29"/>
          <p:cNvSpPr txBox="1"/>
          <p:nvPr/>
        </p:nvSpPr>
        <p:spPr>
          <a:xfrm>
            <a:off x="2438280" y="2895480"/>
            <a:ext cx="15264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35" name="WordArt 30"/>
          <p:cNvSpPr txBox="1"/>
          <p:nvPr/>
        </p:nvSpPr>
        <p:spPr>
          <a:xfrm>
            <a:off x="2438280" y="3809880"/>
            <a:ext cx="15264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4648320" y="1752480"/>
            <a:ext cx="3924360" cy="42674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Verdana"/>
              </a:rPr>
              <a:t>Вариант </a:t>
            </a:r>
            <a:r>
              <a:rPr b="0" lang="en-US" sz="2600" spc="-1" strike="noStrike">
                <a:solidFill>
                  <a:srgbClr val="008000"/>
                </a:solidFill>
                <a:latin typeface="Verdana"/>
              </a:rPr>
              <a:t>I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2) </a:t>
            </a:r>
            <a:r>
              <a:rPr b="0" lang="ru-RU" sz="2600" spc="-1" strike="noStrike">
                <a:solidFill>
                  <a:srgbClr val="0000ff"/>
                </a:solidFill>
                <a:latin typeface="Verdana"/>
              </a:rPr>
              <a:t>121см  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Verdana"/>
              </a:rPr>
              <a:t>1) 24см  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Verdana"/>
              </a:rPr>
              <a:t>1) 26с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Verdana"/>
              </a:rPr>
              <a:t>4) 39см 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WordArt 32"/>
          <p:cNvSpPr txBox="1"/>
          <p:nvPr/>
        </p:nvSpPr>
        <p:spPr>
          <a:xfrm>
            <a:off x="6781680" y="2438280"/>
            <a:ext cx="15264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38" name="WordArt 33"/>
          <p:cNvSpPr txBox="1"/>
          <p:nvPr/>
        </p:nvSpPr>
        <p:spPr>
          <a:xfrm>
            <a:off x="6553080" y="2895480"/>
            <a:ext cx="15264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39" name="WordArt 34"/>
          <p:cNvSpPr txBox="1"/>
          <p:nvPr/>
        </p:nvSpPr>
        <p:spPr>
          <a:xfrm>
            <a:off x="6553080" y="3809880"/>
            <a:ext cx="15264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16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Вычисли  площадь  фигу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Рамка 4"/>
          <p:cNvSpPr/>
          <p:nvPr/>
        </p:nvSpPr>
        <p:spPr>
          <a:xfrm>
            <a:off x="2057400" y="2438280"/>
            <a:ext cx="4038480" cy="2286000"/>
          </a:xfrm>
          <a:custGeom>
            <a:avLst/>
            <a:gdLst>
              <a:gd name="textAreaLeft" fmla="*/ 285480 w 4038480"/>
              <a:gd name="textAreaRight" fmla="*/ 3753000 w 4038480"/>
              <a:gd name="textAreaTop" fmla="*/ 285480 h 2286000"/>
              <a:gd name="textAreaBottom" fmla="*/ 2000520 h 2286000"/>
            </a:gdLst>
            <a:ahLst/>
            <a:rect l="textAreaLeft" t="textAreaTop" r="textAreaRight" b="textAreaBottom"/>
            <a:pathLst>
              <a:path w="4038600" h="2286000">
                <a:moveTo>
                  <a:pt x="0" y="0"/>
                </a:moveTo>
                <a:lnTo>
                  <a:pt x="4038600" y="0"/>
                </a:lnTo>
                <a:lnTo>
                  <a:pt x="4038600" y="2286000"/>
                </a:lnTo>
                <a:lnTo>
                  <a:pt x="0" y="2286000"/>
                </a:lnTo>
                <a:close/>
                <a:moveTo>
                  <a:pt x="285750" y="285750"/>
                </a:moveTo>
                <a:lnTo>
                  <a:pt x="285750" y="2000250"/>
                </a:lnTo>
                <a:lnTo>
                  <a:pt x="3752850" y="2000250"/>
                </a:lnTo>
                <a:lnTo>
                  <a:pt x="3752850" y="28575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990720" y="3048120"/>
            <a:ext cx="928440" cy="571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23 с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3505320" y="4800600"/>
            <a:ext cx="1628640" cy="571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45 с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685800" y="5638680"/>
            <a:ext cx="1785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А.  580 см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Содержимое 16"/>
              <p:cNvSpPr txBox="1"/>
              <p:nvPr/>
            </p:nvSpPr>
            <p:spPr>
              <a:xfrm>
                <a:off x="2057400" y="5715000"/>
                <a:ext cx="6332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Прямая соединительная линия 14"/>
          <p:cNvSpPr/>
          <p:nvPr/>
        </p:nvSpPr>
        <p:spPr>
          <a:xfrm>
            <a:off x="5867280" y="2971800"/>
            <a:ext cx="21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Блок-схема: узел 18"/>
          <p:cNvSpPr/>
          <p:nvPr/>
        </p:nvSpPr>
        <p:spPr>
          <a:xfrm>
            <a:off x="5791320" y="2895480"/>
            <a:ext cx="71280" cy="7164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Блок-схема: узел 19"/>
          <p:cNvSpPr/>
          <p:nvPr/>
        </p:nvSpPr>
        <p:spPr>
          <a:xfrm flipV="1">
            <a:off x="6019920" y="2894760"/>
            <a:ext cx="71280" cy="7164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Блок-схема: процесс 23"/>
          <p:cNvSpPr/>
          <p:nvPr/>
        </p:nvSpPr>
        <p:spPr>
          <a:xfrm>
            <a:off x="5562720" y="2514600"/>
            <a:ext cx="785520" cy="285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5 с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Блок-схема: процесс 24"/>
          <p:cNvSpPr/>
          <p:nvPr/>
        </p:nvSpPr>
        <p:spPr>
          <a:xfrm>
            <a:off x="3733920" y="5638680"/>
            <a:ext cx="1699920" cy="7858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. 1035 с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Блок-схема: процесс 25"/>
          <p:cNvSpPr/>
          <p:nvPr/>
        </p:nvSpPr>
        <p:spPr>
          <a:xfrm>
            <a:off x="6705720" y="5638680"/>
            <a:ext cx="1500120" cy="7858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В. 455 с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5105520" y="5715000"/>
                <a:ext cx="604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7848720" y="5715000"/>
                <a:ext cx="554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7" name="Rectangle 2"/>
          <p:cNvSpPr/>
          <p:nvPr/>
        </p:nvSpPr>
        <p:spPr>
          <a:xfrm>
            <a:off x="0" y="457200"/>
            <a:ext cx="9144000" cy="60660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Дополнительные зад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5715000" cy="353052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ая соединительная линия 6"/>
          <p:cNvSpPr/>
          <p:nvPr/>
        </p:nvSpPr>
        <p:spPr>
          <a:xfrm flipH="1">
            <a:off x="2514600" y="2590920"/>
            <a:ext cx="1440" cy="251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Блок-схема: узел 11"/>
          <p:cNvSpPr/>
          <p:nvPr/>
        </p:nvSpPr>
        <p:spPr>
          <a:xfrm>
            <a:off x="2438280" y="2590920"/>
            <a:ext cx="142920" cy="142920"/>
          </a:xfrm>
          <a:prstGeom prst="flowChartConnector">
            <a:avLst/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Блок-схема: узел 12"/>
          <p:cNvSpPr/>
          <p:nvPr/>
        </p:nvSpPr>
        <p:spPr>
          <a:xfrm>
            <a:off x="2438280" y="4876920"/>
            <a:ext cx="142920" cy="142920"/>
          </a:xfrm>
          <a:prstGeom prst="flowChartConnector">
            <a:avLst/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ая соединительная линия 14"/>
          <p:cNvSpPr/>
          <p:nvPr/>
        </p:nvSpPr>
        <p:spPr>
          <a:xfrm flipH="1">
            <a:off x="5410080" y="2666880"/>
            <a:ext cx="504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Блок-схема: узел 19"/>
          <p:cNvSpPr/>
          <p:nvPr/>
        </p:nvSpPr>
        <p:spPr>
          <a:xfrm>
            <a:off x="5334120" y="2590920"/>
            <a:ext cx="142920" cy="142920"/>
          </a:xfrm>
          <a:prstGeom prst="flowChartConnector">
            <a:avLst/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Блок-схема: узел 20"/>
          <p:cNvSpPr/>
          <p:nvPr/>
        </p:nvSpPr>
        <p:spPr>
          <a:xfrm flipV="1">
            <a:off x="5334120" y="4876200"/>
            <a:ext cx="142920" cy="142920"/>
          </a:xfrm>
          <a:prstGeom prst="flowChartConnector">
            <a:avLst/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Прямоугольник 21"/>
          <p:cNvSpPr/>
          <p:nvPr/>
        </p:nvSpPr>
        <p:spPr>
          <a:xfrm>
            <a:off x="457200" y="167652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ычисли  площадь  фигур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Блок-схема: процесс 22"/>
          <p:cNvSpPr/>
          <p:nvPr/>
        </p:nvSpPr>
        <p:spPr>
          <a:xfrm>
            <a:off x="3429000" y="2133720"/>
            <a:ext cx="914400" cy="428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15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Verdana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Блок-схема: процесс 24"/>
          <p:cNvSpPr/>
          <p:nvPr/>
        </p:nvSpPr>
        <p:spPr>
          <a:xfrm>
            <a:off x="4714920" y="4786200"/>
            <a:ext cx="914400" cy="612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Блок-схема: процесс 26"/>
          <p:cNvSpPr/>
          <p:nvPr/>
        </p:nvSpPr>
        <p:spPr>
          <a:xfrm>
            <a:off x="2362320" y="3429000"/>
            <a:ext cx="990360" cy="500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Блок-схема: процесс 28"/>
          <p:cNvSpPr/>
          <p:nvPr/>
        </p:nvSpPr>
        <p:spPr>
          <a:xfrm>
            <a:off x="3929040" y="4786200"/>
            <a:ext cx="642960" cy="571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Box 29"/>
          <p:cNvSpPr/>
          <p:nvPr/>
        </p:nvSpPr>
        <p:spPr>
          <a:xfrm>
            <a:off x="3505320" y="5105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31  с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Box 30"/>
          <p:cNvSpPr/>
          <p:nvPr/>
        </p:nvSpPr>
        <p:spPr>
          <a:xfrm>
            <a:off x="1447920" y="51055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Verdana"/>
              </a:rPr>
              <a:t>8 с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Блок-схема: процесс 35"/>
          <p:cNvSpPr/>
          <p:nvPr/>
        </p:nvSpPr>
        <p:spPr>
          <a:xfrm>
            <a:off x="1428840" y="5929200"/>
            <a:ext cx="2533680" cy="714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твет:  230 с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Содержимое 16"/>
              <p:cNvSpPr txBox="1"/>
              <p:nvPr/>
            </p:nvSpPr>
            <p:spPr>
              <a:xfrm>
                <a:off x="3429000" y="6019920"/>
                <a:ext cx="39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0624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Дополнительные зад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«Площадь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101"/>
          <p:cNvPicPr/>
          <p:nvPr/>
        </p:nvPicPr>
        <p:blipFill>
          <a:blip r:embed="rId1"/>
          <a:srcRect l="8178" t="6172" r="8382" b="7690"/>
          <a:stretch/>
        </p:blipFill>
        <p:spPr>
          <a:xfrm>
            <a:off x="1371600" y="1217520"/>
            <a:ext cx="655308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7488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8088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66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09480" y="914400"/>
            <a:ext cx="77724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1. Для тех, кто получил сегодня оценк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762120" y="2057400"/>
            <a:ext cx="34290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«4» или «5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648320" y="1752480"/>
            <a:ext cx="190476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724280" y="2743200"/>
            <a:ext cx="25909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82, № 78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4724280" y="3962520"/>
            <a:ext cx="221004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8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12"/>
          <p:cNvSpPr/>
          <p:nvPr/>
        </p:nvSpPr>
        <p:spPr>
          <a:xfrm flipV="1">
            <a:off x="4191120" y="19807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4191120" y="2514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14"/>
          <p:cNvSpPr/>
          <p:nvPr/>
        </p:nvSpPr>
        <p:spPr>
          <a:xfrm flipV="1">
            <a:off x="4191120" y="3200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15"/>
          <p:cNvSpPr/>
          <p:nvPr/>
        </p:nvSpPr>
        <p:spPr>
          <a:xfrm>
            <a:off x="419112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685800" y="3429000"/>
            <a:ext cx="34290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«3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685800" y="5105520"/>
            <a:ext cx="77724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2. Придумать задачу самому и решить е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0624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J0199465"/>
          <p:cNvPicPr/>
          <p:nvPr/>
        </p:nvPicPr>
        <p:blipFill>
          <a:blip r:embed="rId1"/>
          <a:stretch/>
        </p:blipFill>
        <p:spPr>
          <a:xfrm>
            <a:off x="4343400" y="5486400"/>
            <a:ext cx="1387440" cy="11113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28600" y="1752480"/>
            <a:ext cx="7696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Вспомните, какие единицы измерения площадей вы знае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2743200"/>
            <a:ext cx="87631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Что такое квадратный миллиметр, квадратный сантиметр, квадратный километр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28600" y="3733920"/>
            <a:ext cx="41148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Что такое гектар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28600" y="4267080"/>
            <a:ext cx="7848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Что за единица измерения площади 1ар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4800600"/>
            <a:ext cx="8229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Повторите единицы измерения площа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0624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Единицы измерения площад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1га = 10 000м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100м * 100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1а = 100м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10м* 10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1дм   = 100см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         1дм = 10с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1м    = 100дм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1м = 10дм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1м   = 10 000см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1м = 100см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1км   = 1 000 000м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1км = 1 000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3276720" y="167652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2590920" y="22096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1600200" y="274320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3276720" y="274320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1371600" y="32767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3200400" y="3352680"/>
            <a:ext cx="304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WordArt 12"/>
          <p:cNvSpPr txBox="1"/>
          <p:nvPr/>
        </p:nvSpPr>
        <p:spPr>
          <a:xfrm>
            <a:off x="1371600" y="3809880"/>
            <a:ext cx="304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3"/>
          <p:cNvSpPr txBox="1"/>
          <p:nvPr/>
        </p:nvSpPr>
        <p:spPr>
          <a:xfrm>
            <a:off x="3581280" y="388620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14"/>
          <p:cNvSpPr txBox="1"/>
          <p:nvPr/>
        </p:nvSpPr>
        <p:spPr>
          <a:xfrm>
            <a:off x="1523880" y="44197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15"/>
          <p:cNvSpPr txBox="1"/>
          <p:nvPr/>
        </p:nvSpPr>
        <p:spPr>
          <a:xfrm>
            <a:off x="4114800" y="44197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16" descr="D:\Картинки аним\новые картинки\ucheba.jpg"/>
          <p:cNvPicPr/>
          <p:nvPr/>
        </p:nvPicPr>
        <p:blipFill>
          <a:blip r:embed="rId1"/>
          <a:stretch/>
        </p:blipFill>
        <p:spPr>
          <a:xfrm>
            <a:off x="3352680" y="5029200"/>
            <a:ext cx="213372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1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г) 930а = 9га 30а; 45 700 м   = 4га 57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0" y="525780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в) 43га = 4300а; 4га 5а = 405а;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0" y="457200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б) 420 000 м   = 42га; 45км   = 4500га;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0" y="358128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а) 5га = 50 000 м   ; 30га = 300 000м 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18а = 1800м   ; 6 соток = 600м   ;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660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6.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Выразит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а) в квадратных метрах: 5га; 30га; 18а; 6 сото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б) в гектарах: 420 000 м  ; 45км 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в) в арах: 43га; 4га 5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г) в гектарах и арах: 930а; 45 700 м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WordArt 17"/>
          <p:cNvSpPr txBox="1"/>
          <p:nvPr/>
        </p:nvSpPr>
        <p:spPr>
          <a:xfrm>
            <a:off x="4572000" y="213372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18"/>
          <p:cNvSpPr txBox="1"/>
          <p:nvPr/>
        </p:nvSpPr>
        <p:spPr>
          <a:xfrm>
            <a:off x="5867280" y="21337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WordArt 19"/>
          <p:cNvSpPr txBox="1"/>
          <p:nvPr/>
        </p:nvSpPr>
        <p:spPr>
          <a:xfrm>
            <a:off x="6629400" y="297180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WordArt 22"/>
          <p:cNvSpPr txBox="1"/>
          <p:nvPr/>
        </p:nvSpPr>
        <p:spPr>
          <a:xfrm>
            <a:off x="3352680" y="37339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WordArt 23"/>
          <p:cNvSpPr txBox="1"/>
          <p:nvPr/>
        </p:nvSpPr>
        <p:spPr>
          <a:xfrm>
            <a:off x="6781680" y="37339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24"/>
          <p:cNvSpPr txBox="1"/>
          <p:nvPr/>
        </p:nvSpPr>
        <p:spPr>
          <a:xfrm>
            <a:off x="2819520" y="411480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WordArt 25"/>
          <p:cNvSpPr txBox="1"/>
          <p:nvPr/>
        </p:nvSpPr>
        <p:spPr>
          <a:xfrm>
            <a:off x="6019920" y="411480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WordArt 26"/>
          <p:cNvSpPr txBox="1"/>
          <p:nvPr/>
        </p:nvSpPr>
        <p:spPr>
          <a:xfrm>
            <a:off x="2514600" y="46483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27"/>
          <p:cNvSpPr txBox="1"/>
          <p:nvPr/>
        </p:nvSpPr>
        <p:spPr>
          <a:xfrm>
            <a:off x="5105520" y="464832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28"/>
          <p:cNvSpPr txBox="1"/>
          <p:nvPr/>
        </p:nvSpPr>
        <p:spPr>
          <a:xfrm>
            <a:off x="5181480" y="6095880"/>
            <a:ext cx="304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596a"/>
                </a:solidFill>
                <a:latin typeface="Verdana"/>
              </a:rPr>
              <a:t>Формулы площадей прямоугольника и квадра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Блок-схема: процесс 3"/>
          <p:cNvSpPr/>
          <p:nvPr/>
        </p:nvSpPr>
        <p:spPr>
          <a:xfrm>
            <a:off x="380880" y="2133720"/>
            <a:ext cx="4724640" cy="2938320"/>
          </a:xfrm>
          <a:prstGeom prst="flowChartProcess">
            <a:avLst/>
          </a:prstGeom>
          <a:solidFill>
            <a:srgbClr val="75fb8b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Verdana"/>
              </a:rPr>
              <a:t>S  =  </a:t>
            </a:r>
            <a:r>
              <a:rPr b="0" lang="en-US" sz="4000" spc="-1" strike="noStrike">
                <a:solidFill>
                  <a:srgbClr val="404040"/>
                </a:solidFill>
                <a:latin typeface="Verdana"/>
              </a:rPr>
              <a:t>a</a:t>
            </a:r>
            <a:r>
              <a:rPr b="0" lang="ru-RU" sz="4000" spc="-1" strike="noStrike">
                <a:solidFill>
                  <a:srgbClr val="404040"/>
                </a:solidFill>
                <a:latin typeface="Verdana"/>
              </a:rPr>
              <a:t> · </a:t>
            </a:r>
            <a:r>
              <a:rPr b="0" lang="en-US" sz="4000" spc="-1" strike="noStrike">
                <a:solidFill>
                  <a:srgbClr val="404040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Блок-схема: процесс 4"/>
          <p:cNvSpPr/>
          <p:nvPr/>
        </p:nvSpPr>
        <p:spPr>
          <a:xfrm>
            <a:off x="5486400" y="2438280"/>
            <a:ext cx="3048120" cy="2257560"/>
          </a:xfrm>
          <a:prstGeom prst="flowChartProcess">
            <a:avLst/>
          </a:prstGeom>
          <a:solidFill>
            <a:srgbClr val="ced5dd"/>
          </a:solidFill>
          <a:ln w="25560">
            <a:solidFill>
              <a:srgbClr val="979c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Verdana"/>
              </a:rPr>
              <a:t>S  =  </a:t>
            </a:r>
            <a:r>
              <a:rPr b="0" lang="en-US" sz="4000" spc="-1" strike="noStrike">
                <a:solidFill>
                  <a:srgbClr val="404040"/>
                </a:solidFill>
                <a:latin typeface="Verdan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7620120" y="3048120"/>
                <a:ext cx="906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7143840" y="5572080"/>
            <a:ext cx="15714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0624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Ширина прямоугольника равна 3м, а длина на 2м больше. Найдите площад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boy_math_md_wht"/>
          <p:cNvPicPr/>
          <p:nvPr/>
        </p:nvPicPr>
        <p:blipFill>
          <a:blip r:embed="rId1"/>
          <a:stretch/>
        </p:blipFill>
        <p:spPr>
          <a:xfrm>
            <a:off x="7010280" y="42670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25909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3 + 2 = 5 (м) – длина прямоуголь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388620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= 3 * 5 = 15 (м ) –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площадь прямоугольн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4724280"/>
            <a:ext cx="3276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Ответ: 15 м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3352680" y="3809880"/>
                <a:ext cx="690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9"/>
              <p:cNvSpPr txBox="1"/>
              <p:nvPr/>
            </p:nvSpPr>
            <p:spPr>
              <a:xfrm>
                <a:off x="2438280" y="4648320"/>
                <a:ext cx="690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0624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2. Найдите площадь треуголь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АС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, если АВ = 3см, А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 = 6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219320" y="2895480"/>
            <a:ext cx="5029200" cy="18288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6"/>
          <p:cNvSpPr/>
          <p:nvPr/>
        </p:nvSpPr>
        <p:spPr>
          <a:xfrm flipV="1">
            <a:off x="1219320" y="2971800"/>
            <a:ext cx="4952880" cy="175248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6324480" y="45720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838080" y="45720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6324480" y="27432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WordArt 11"/>
          <p:cNvSpPr txBox="1"/>
          <p:nvPr/>
        </p:nvSpPr>
        <p:spPr>
          <a:xfrm>
            <a:off x="838080" y="27432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1" name="Picture 12" descr="D:\Картинки аним\новые картинки\ученик .jpeg"/>
          <p:cNvPicPr/>
          <p:nvPr/>
        </p:nvPicPr>
        <p:blipFill>
          <a:blip r:embed="rId1"/>
          <a:stretch/>
        </p:blipFill>
        <p:spPr>
          <a:xfrm>
            <a:off x="7467480" y="1371600"/>
            <a:ext cx="1374840" cy="1941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380880" y="5334120"/>
            <a:ext cx="83822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ешение: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=(AD*AB)/2=(6*3)/2=9(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м)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6600"/>
          </a:xfrm>
          <a:prstGeom prst="rect">
            <a:avLst/>
          </a:prstGeom>
          <a:solidFill>
            <a:srgbClr val="f8f56f"/>
          </a:solidFill>
          <a:ln w="9360">
            <a:solidFill>
              <a:srgbClr val="e9090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3. Найдите площадь фигуры, считая, что площадь одной клетки равн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8534520" y="1752480"/>
            <a:ext cx="304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6"/>
          <p:cNvSpPr txBox="1"/>
          <p:nvPr/>
        </p:nvSpPr>
        <p:spPr>
          <a:xfrm>
            <a:off x="7924680" y="175248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с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7" name="Picture 7" descr="102"/>
          <p:cNvPicPr/>
          <p:nvPr/>
        </p:nvPicPr>
        <p:blipFill>
          <a:blip r:embed="rId1"/>
          <a:srcRect l="9096" t="9474" r="10692" b="15403"/>
          <a:stretch/>
        </p:blipFill>
        <p:spPr>
          <a:xfrm>
            <a:off x="685800" y="2819520"/>
            <a:ext cx="3976560" cy="3047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58" name="Picture 9" descr="http://festival.1september.ru/articles/526674/img2.gif"/>
          <p:cNvPicPr/>
          <p:nvPr/>
        </p:nvPicPr>
        <p:blipFill>
          <a:blip r:embed="rId2"/>
          <a:srcRect l="0" t="0" r="57344" b="0"/>
          <a:stretch/>
        </p:blipFill>
        <p:spPr>
          <a:xfrm>
            <a:off x="5486400" y="2514600"/>
            <a:ext cx="2538360" cy="3451320"/>
          </a:xfrm>
          <a:prstGeom prst="rect">
            <a:avLst/>
          </a:prstGeom>
          <a:ln w="19080">
            <a:solidFill>
              <a:srgbClr val="ff4747"/>
            </a:solidFill>
            <a:miter/>
          </a:ln>
        </p:spPr>
      </p:pic>
      <p:sp>
        <p:nvSpPr>
          <p:cNvPr id="159" name="Rectangle 3"/>
          <p:cNvSpPr/>
          <p:nvPr/>
        </p:nvSpPr>
        <p:spPr>
          <a:xfrm>
            <a:off x="2514600" y="601992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477120" y="6095880"/>
            <a:ext cx="685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36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2-17T08:35:03Z</dcterms:modified>
  <cp:revision>2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