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EA9-3314-4358-A0F4-F94E8E9C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29E-FFFD-433C-86B0-C35DFB0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81F-4006-419B-9A98-18D0729A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7AF-B300-493F-9BE9-20598DF7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FE0-03AB-4980-A59A-2B59CF2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959-081F-49A4-AE49-32F75DF1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4D3-1B8A-4905-93EA-46AA3FC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1E7-43C5-482D-AE70-2AF06A7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E68-92DF-4887-9CA7-243A51FF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719-268D-421C-B20C-A1B7566B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430-F9CB-4417-928D-1CB418B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92C-3307-4283-B842-025BCE3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152-5D3B-475E-BA2C-362A08985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4427640" y="1916280"/>
            <a:ext cx="3889440" cy="466560"/>
          </a:xfrm>
          <a:prstGeom prst="wedgeRectCallout">
            <a:avLst>
              <a:gd name="adj1" fmla="val -55796"/>
              <a:gd name="adj2" fmla="val 90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скусство ведения хозя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esk1"/>
          <p:cNvSpPr/>
          <p:nvPr/>
        </p:nvSpPr>
        <p:spPr>
          <a:xfrm>
            <a:off x="1979640" y="1844640"/>
            <a:ext cx="4680000" cy="1008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ЗЕМ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риродные ресурсы производства (участки, полезные ископаемые, реки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835280" y="3933720"/>
            <a:ext cx="4895640" cy="8654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оход того, кто владеет зем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ubBanner"/>
          <p:cNvSpPr/>
          <p:nvPr/>
        </p:nvSpPr>
        <p:spPr>
          <a:xfrm>
            <a:off x="1332000" y="1413000"/>
            <a:ext cx="6840360" cy="2303280"/>
          </a:xfrm>
          <a:custGeom>
            <a:avLst/>
            <a:gdLst>
              <a:gd name="textAreaLeft" fmla="*/ 1313640 w 6840360"/>
              <a:gd name="textAreaRight" fmla="*/ 5526720 w 6840360"/>
              <a:gd name="textAreaTop" fmla="*/ 442440 h 2303280"/>
              <a:gd name="textAreaBottom" fmla="*/ 18608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0" y="11620"/>
                </a:lnTo>
                <a:lnTo>
                  <a:pt x="198" y="12861"/>
                </a:lnTo>
                <a:lnTo>
                  <a:pt x="1758" y="13393"/>
                </a:lnTo>
                <a:lnTo>
                  <a:pt x="786" y="14846"/>
                </a:lnTo>
                <a:lnTo>
                  <a:pt x="2495" y="15216"/>
                </a:lnTo>
                <a:lnTo>
                  <a:pt x="1742" y="16682"/>
                </a:lnTo>
                <a:lnTo>
                  <a:pt x="3490" y="16719"/>
                </a:lnTo>
                <a:lnTo>
                  <a:pt x="3163" y="18437"/>
                </a:lnTo>
                <a:lnTo>
                  <a:pt x="4754" y="18005"/>
                </a:lnTo>
                <a:lnTo>
                  <a:pt x="4761" y="19754"/>
                </a:lnTo>
                <a:lnTo>
                  <a:pt x="6240" y="19027"/>
                </a:lnTo>
                <a:lnTo>
                  <a:pt x="6580" y="20741"/>
                </a:lnTo>
                <a:lnTo>
                  <a:pt x="8050" y="19795"/>
                </a:lnTo>
                <a:lnTo>
                  <a:pt x="8555" y="21364"/>
                </a:lnTo>
                <a:lnTo>
                  <a:pt x="9817" y="20154"/>
                </a:lnTo>
                <a:lnTo>
                  <a:pt x="10800" y="21600"/>
                </a:lnTo>
                <a:lnTo>
                  <a:pt x="11620" y="20170"/>
                </a:lnTo>
                <a:lnTo>
                  <a:pt x="12861" y="21402"/>
                </a:lnTo>
                <a:lnTo>
                  <a:pt x="13393" y="19842"/>
                </a:lnTo>
                <a:lnTo>
                  <a:pt x="14846" y="20814"/>
                </a:lnTo>
                <a:lnTo>
                  <a:pt x="15216" y="19105"/>
                </a:lnTo>
                <a:lnTo>
                  <a:pt x="16682" y="19858"/>
                </a:lnTo>
                <a:lnTo>
                  <a:pt x="16719" y="18110"/>
                </a:lnTo>
                <a:lnTo>
                  <a:pt x="18437" y="18437"/>
                </a:lnTo>
                <a:lnTo>
                  <a:pt x="18005" y="16846"/>
                </a:lnTo>
                <a:lnTo>
                  <a:pt x="19754" y="16839"/>
                </a:lnTo>
                <a:lnTo>
                  <a:pt x="19027" y="15360"/>
                </a:lnTo>
                <a:lnTo>
                  <a:pt x="20741" y="15020"/>
                </a:lnTo>
                <a:lnTo>
                  <a:pt x="19795" y="13550"/>
                </a:lnTo>
                <a:lnTo>
                  <a:pt x="21364" y="13045"/>
                </a:lnTo>
                <a:lnTo>
                  <a:pt x="20154" y="11783"/>
                </a:lnTo>
                <a:lnTo>
                  <a:pt x="21600" y="10800"/>
                </a:lnTo>
                <a:lnTo>
                  <a:pt x="20170" y="9980"/>
                </a:lnTo>
                <a:lnTo>
                  <a:pt x="21402" y="8739"/>
                </a:lnTo>
                <a:lnTo>
                  <a:pt x="19842" y="8207"/>
                </a:lnTo>
                <a:lnTo>
                  <a:pt x="20814" y="6754"/>
                </a:lnTo>
                <a:lnTo>
                  <a:pt x="19105" y="6384"/>
                </a:lnTo>
                <a:lnTo>
                  <a:pt x="19858" y="4918"/>
                </a:lnTo>
                <a:lnTo>
                  <a:pt x="18110" y="4881"/>
                </a:lnTo>
                <a:lnTo>
                  <a:pt x="18437" y="3163"/>
                </a:lnTo>
                <a:lnTo>
                  <a:pt x="16846" y="3595"/>
                </a:lnTo>
                <a:lnTo>
                  <a:pt x="16839" y="1846"/>
                </a:lnTo>
                <a:lnTo>
                  <a:pt x="15360" y="2573"/>
                </a:lnTo>
                <a:lnTo>
                  <a:pt x="15020" y="859"/>
                </a:lnTo>
                <a:lnTo>
                  <a:pt x="13550" y="1805"/>
                </a:lnTo>
                <a:lnTo>
                  <a:pt x="13045" y="236"/>
                </a:lnTo>
                <a:lnTo>
                  <a:pt x="11783" y="1446"/>
                </a:lnTo>
                <a:lnTo>
                  <a:pt x="10800" y="0"/>
                </a:lnTo>
                <a:lnTo>
                  <a:pt x="9980" y="1430"/>
                </a:lnTo>
                <a:lnTo>
                  <a:pt x="8739" y="198"/>
                </a:lnTo>
                <a:lnTo>
                  <a:pt x="8207" y="1758"/>
                </a:lnTo>
                <a:lnTo>
                  <a:pt x="6754" y="786"/>
                </a:lnTo>
                <a:lnTo>
                  <a:pt x="6384" y="2495"/>
                </a:lnTo>
                <a:lnTo>
                  <a:pt x="4918" y="1742"/>
                </a:lnTo>
                <a:lnTo>
                  <a:pt x="4881" y="3490"/>
                </a:lnTo>
                <a:lnTo>
                  <a:pt x="3163" y="3163"/>
                </a:lnTo>
                <a:lnTo>
                  <a:pt x="3595" y="4754"/>
                </a:lnTo>
                <a:lnTo>
                  <a:pt x="1846" y="4761"/>
                </a:lnTo>
                <a:lnTo>
                  <a:pt x="2573" y="6240"/>
                </a:lnTo>
                <a:lnTo>
                  <a:pt x="859" y="6580"/>
                </a:lnTo>
                <a:lnTo>
                  <a:pt x="1805" y="8050"/>
                </a:lnTo>
                <a:lnTo>
                  <a:pt x="236" y="8555"/>
                </a:lnTo>
                <a:lnTo>
                  <a:pt x="1446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ЕДПРИНИМ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еятельность по организации и управлению производством, которые связаны с новаторством, р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2484360" y="4005360"/>
            <a:ext cx="4103640" cy="1295280"/>
          </a:xfrm>
          <a:prstGeom prst="downArrow">
            <a:avLst>
              <a:gd name="adj1" fmla="val 51102"/>
              <a:gd name="adj2" fmla="val 468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а з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059280" y="5516640"/>
            <a:ext cx="3014640" cy="761760"/>
          </a:xfrm>
          <a:custGeom>
            <a:avLst/>
            <a:gdLst>
              <a:gd name="textAreaLeft" fmla="*/ 753480 w 3014640"/>
              <a:gd name="textAreaRight" fmla="*/ 2261160 w 30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ы трудов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личие сознательно поставленной ц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ходимость средств тру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местные усилия (общественный характер труд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деление труда (распределение и закрепление занятий между участникам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щение, позволяющее координировать людям сво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фессионализм, квалификация, специализ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1280" y="5372280"/>
            <a:ext cx="2737080" cy="1152360"/>
          </a:xfrm>
          <a:prstGeom prst="wedgeRectCallout">
            <a:avLst>
              <a:gd name="adj1" fmla="val 40314"/>
              <a:gd name="adj2" fmla="val -7424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ство и грамотность выполнения трудов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987640" y="5372280"/>
            <a:ext cx="3313080" cy="1412640"/>
          </a:xfrm>
          <a:prstGeom prst="wedgeRectCallout">
            <a:avLst>
              <a:gd name="adj1" fmla="val -6157"/>
              <a:gd name="adj2" fmla="val -72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рофессиональная подготовка, необходимая для выполнения слож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588000" y="5373720"/>
            <a:ext cx="2160720" cy="1224000"/>
          </a:xfrm>
          <a:prstGeom prst="wedgeRectCallout">
            <a:avLst>
              <a:gd name="adj1" fmla="val -48750"/>
              <a:gd name="adj2" fmla="val -7282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одной или несколь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ровольное, сознательное соблюдение правил и порядка поведения в коллективе, добросовестное исполнение своих обязанностей, высокое качество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0429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957" y="-2523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5087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43" y="-25236"/>
                </a:moveTo>
                <a:lnTo>
                  <a:pt x="-737" y="3117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324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окупность материальных и духовных средств, с помощью которых люди осуществляют материально-производственну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24000" y="3141720"/>
          <a:ext cx="4762440" cy="291312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роизв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распред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отре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гуманизация и гуманизация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539640" y="1916280"/>
            <a:ext cx="4680000" cy="93636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еслен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оздает вещь от на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конца, оттачивает свое 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708360" y="3068640"/>
            <a:ext cx="4248360" cy="1584360"/>
          </a:xfrm>
          <a:prstGeom prst="flowChartMultidocumen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только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, машины домин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116000" y="4508640"/>
            <a:ext cx="201600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12"/>
          <p:cNvCxnSpPr>
            <a:stCxn id="136" idx="1"/>
            <a:endCxn id="137" idx="0"/>
          </p:cNvCxnSpPr>
          <p:nvPr/>
        </p:nvCxnSpPr>
        <p:spPr>
          <a:xfrm flipV="1" rot="10800000">
            <a:off x="2123280" y="3860640"/>
            <a:ext cx="1585080" cy="64836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AutoShape 13"/>
          <p:cNvSpPr/>
          <p:nvPr/>
        </p:nvSpPr>
        <p:spPr>
          <a:xfrm>
            <a:off x="3564000" y="5300640"/>
            <a:ext cx="2592360" cy="1130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6"/>
          <p:cNvCxnSpPr>
            <a:stCxn id="139" idx="0"/>
            <a:endCxn id="136" idx="2"/>
          </p:cNvCxnSpPr>
          <p:nvPr/>
        </p:nvCxnSpPr>
        <p:spPr>
          <a:xfrm flipH="1" flipV="1" rot="5400000">
            <a:off x="4960080" y="4428000"/>
            <a:ext cx="773640" cy="972000"/>
          </a:xfrm>
          <a:prstGeom prst="curvedConnector5">
            <a:avLst>
              <a:gd name="adj1" fmla="val 41852"/>
              <a:gd name="adj2" fmla="val 49981"/>
              <a:gd name="adj3" fmla="val 41852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 Box 17"/>
          <p:cNvSpPr/>
          <p:nvPr/>
        </p:nvSpPr>
        <p:spPr>
          <a:xfrm>
            <a:off x="250920" y="5516640"/>
            <a:ext cx="316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ение факторов, угрожающих здоровью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372360" y="5516640"/>
            <a:ext cx="244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изац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факторам производства относитс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отношений собств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 юридической точки зр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500720" y="71280"/>
            <a:ext cx="3600360" cy="432000"/>
          </a:xfrm>
          <a:prstGeom prst="wedgeRectCallout">
            <a:avLst>
              <a:gd name="adj1" fmla="val -43694"/>
              <a:gd name="adj2" fmla="val 9742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«человек – ве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3348000" y="2852640"/>
            <a:ext cx="5327640" cy="1008000"/>
          </a:xfrm>
          <a:prstGeom prst="leftArrow">
            <a:avLst>
              <a:gd name="adj1" fmla="val 67556"/>
              <a:gd name="adj2" fmla="val 14094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меть у себя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348000" y="393372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зменять состоя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, принадлежность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3348000" y="501336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 свойства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соб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3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вобытная, семейная, государственная, коллектив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чная, индивиду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владельческая, феодальная, начальный капитализ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кционерная, кооперативная, совместные предприят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упповая (акционерная)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рпорация выпускает ценные бумаги (акции), их собственники имеют право на часть дохода (дивиденды) и на участие в управлении дела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116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осаксо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-3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4788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ине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-8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деятельности людей по производству, распределению, обмену и потребл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, изучающая эффективные способы использования ограниченных ресурсов для производств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6948360" y="1989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6516720" y="2133720"/>
            <a:ext cx="23828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отреб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ес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граниченном кол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4"/>
          <p:cNvSpPr/>
          <p:nvPr/>
        </p:nvSpPr>
        <p:spPr>
          <a:xfrm flipV="1">
            <a:off x="4284720" y="270792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 flipV="1">
            <a:off x="6084720" y="4149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собствен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7"/>
          <p:cNvGrpSpPr/>
          <p:nvPr/>
        </p:nvGrpSpPr>
        <p:grpSpPr>
          <a:xfrm>
            <a:off x="457200" y="1600200"/>
            <a:ext cx="8229600" cy="4959360"/>
            <a:chOff x="457200" y="1600200"/>
            <a:chExt cx="8229600" cy="4959360"/>
          </a:xfrm>
        </p:grpSpPr>
        <p:sp>
          <p:nvSpPr>
            <p:cNvPr id="162" name="Rectangle 14"/>
            <p:cNvSpPr/>
            <p:nvPr/>
          </p:nvSpPr>
          <p:spPr>
            <a:xfrm>
              <a:off x="3203640" y="5186520"/>
              <a:ext cx="548316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едприятие, перешедшее в собственность коллектива, члены которого участвуют в управлении производств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457200" y="5186520"/>
              <a:ext cx="274644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ллективное (народное) 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3203640" y="445464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Член кооператива имеет свою долю и может выйти с возвращением до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457200" y="445464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оператив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3203640" y="372276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Имущество, находящееся в распоряжении, ведении местных орган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57200" y="372276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Муницип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3203640" y="2349360"/>
              <a:ext cx="5483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омышленные предприятия, банки, транспорт, энергетика; преобладает в отраслях, имеющих стратегическое зна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457200" y="2349360"/>
              <a:ext cx="2746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Государств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3203640" y="1600200"/>
              <a:ext cx="54831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емейные фирмы, мастерские, бензоколонки…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57200" y="1600200"/>
              <a:ext cx="27464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Индивидуальная част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57200" y="2349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57200" y="3722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8"/>
            <p:cNvSpPr/>
            <p:nvPr/>
          </p:nvSpPr>
          <p:spPr>
            <a:xfrm>
              <a:off x="457200" y="4454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457200" y="5186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>
              <a:off x="457200" y="65595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4572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>
              <a:off x="3203640" y="1600200"/>
              <a:ext cx="0" cy="495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3"/>
            <p:cNvSpPr/>
            <p:nvPr/>
          </p:nvSpPr>
          <p:spPr>
            <a:xfrm>
              <a:off x="86868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бельная фабрика по договору передала в аренду строительному кооперативу часть свободных помещений сроком на пять лет. Пример иллюстрирует право собственни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ж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организации хозяйственной деятельности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Organization Chart 6"/>
          <p:cNvGrpSpPr/>
          <p:nvPr/>
        </p:nvGrpSpPr>
        <p:grpSpPr>
          <a:xfrm>
            <a:off x="431640" y="3505320"/>
            <a:ext cx="8208360" cy="1508040"/>
            <a:chOff x="431640" y="3505320"/>
            <a:chExt cx="8208360" cy="1508040"/>
          </a:xfrm>
        </p:grpSpPr>
        <p:cxnSp>
          <p:nvCxnSpPr>
            <p:cNvPr id="188" name="_s2052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55400" y="2687760"/>
              <a:ext cx="229320" cy="287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2053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4420800" y="412236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2054"/>
            <p:cNvCxnSpPr>
              <a:stCxn id="194" idx="0"/>
              <a:endCxn id="190" idx="2"/>
            </p:cNvCxnSpPr>
            <p:nvPr/>
          </p:nvCxnSpPr>
          <p:spPr>
            <a:xfrm flipH="1" flipV="1" rot="5400000">
              <a:off x="2985480" y="2689200"/>
              <a:ext cx="229320" cy="286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2055"/>
            <p:cNvSpPr/>
            <p:nvPr/>
          </p:nvSpPr>
          <p:spPr>
            <a:xfrm>
              <a:off x="2395800" y="3505320"/>
              <a:ext cx="4277520" cy="50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иды экономических сис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6"/>
            <p:cNvSpPr/>
            <p:nvPr/>
          </p:nvSpPr>
          <p:spPr>
            <a:xfrm>
              <a:off x="43164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57"/>
            <p:cNvSpPr/>
            <p:nvPr/>
          </p:nvSpPr>
          <p:spPr>
            <a:xfrm>
              <a:off x="33004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оманд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8"/>
            <p:cNvSpPr/>
            <p:nvPr/>
          </p:nvSpPr>
          <p:spPr>
            <a:xfrm>
              <a:off x="61696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диционна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и капитал находятся в общем вла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ится преемственность, приверженность тради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подствует натур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витость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технического прог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ый производственный потенц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ость производимых материальных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но-административная 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без экономических кризи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е ц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безрабо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рованные за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мотивированность к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сихологии иждивен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е качество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очительное отношение 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яет ресурсы на производство необходимы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яет рациональную и эффектив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откликается на потребност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достижения 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пособствует сохранению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имулирует крупные проекты, которые не дают быстрой 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беспечивает фундаментальные исследования в на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носит нестабильный характер со спадами и инфля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 безработица и усиление экономической дифференциаци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987640" y="71280"/>
            <a:ext cx="5761080" cy="358920"/>
          </a:xfrm>
          <a:prstGeom prst="wedgeRectCallout">
            <a:avLst>
              <a:gd name="adj1" fmla="val -24097"/>
              <a:gd name="adj2" fmla="val 14336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нтанная координация, «стихийный поряд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андная экономика, в отличие от рыночно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ает товарный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ржена циклическим колеб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ропорции между производством и потреб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условия для внедрения в производство техническ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ры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82920" y="71280"/>
            <a:ext cx="4934160" cy="405000"/>
          </a:xfrm>
          <a:prstGeom prst="wedgeRectCallout">
            <a:avLst>
              <a:gd name="adj1" fmla="val -13129"/>
              <a:gd name="adj2" fmla="val 10529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а купли-продажи товаров и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оваров и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продуктов конечного пользования: товарные биржи, предприятия оптовой и розничной торговли, ярмарки, аукционы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ки факторов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земли, полезных ископаемых, трудовых ресурсов, т.е. всех товаров, идущих на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услуг всех работающих, вся информация по спросу и предложению рабочей си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научно-технических разрабо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, лицензии, ноу-ха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 flipH="1">
            <a:off x="4210920" y="1916280"/>
            <a:ext cx="4932360" cy="43164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производителями и потреб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 flipH="1">
            <a:off x="4210920" y="2708280"/>
            <a:ext cx="4932360" cy="57636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уется в ходе конкурен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я равновесной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flipH="1">
            <a:off x="3994920" y="357336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88" y="0"/>
                </a:lnTo>
                <a:lnTo>
                  <a:pt x="21600" y="10800"/>
                </a:lnTo>
                <a:lnTo>
                  <a:pt x="20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ает о размерах производ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и потребительского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flipH="1">
            <a:off x="3994920" y="443700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8" y="0"/>
                </a:lnTo>
                <a:lnTo>
                  <a:pt x="21600" y="10800"/>
                </a:lnTo>
                <a:lnTo>
                  <a:pt x="198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текание капитала из м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годных областей в более выг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 flipH="1">
            <a:off x="3418920" y="5229360"/>
            <a:ext cx="5724360" cy="576000"/>
          </a:xfrm>
          <a:custGeom>
            <a:avLst/>
            <a:gdLst>
              <a:gd name="textAreaLeft" fmla="*/ -360 w 5724360"/>
              <a:gd name="textAreaRight" fmla="*/ 5724360 w 57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6" y="0"/>
                </a:lnTo>
                <a:lnTo>
                  <a:pt x="21600" y="10800"/>
                </a:lnTo>
                <a:lnTo>
                  <a:pt x="20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бождение экономики от неэффек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свободного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егулируемое предложение, нерегулируемая цена и спр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граниченное число участников, доступ на рынок для любого производителя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куренция производ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бильность материальных, финансовых, трудовых ресурсов, необходимых для производства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3"/>
          <p:cNvSpPr/>
          <p:nvPr/>
        </p:nvSpPr>
        <p:spPr>
          <a:xfrm>
            <a:off x="1264320" y="1628640"/>
            <a:ext cx="65329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продуктов и усл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х материальные потреб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1258920" y="2565360"/>
            <a:ext cx="65530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ухов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духовных цен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оторых человек меняет свое с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2987640" y="3789360"/>
            <a:ext cx="2952720" cy="934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изв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ько и потре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8"/>
          <p:cNvSpPr/>
          <p:nvPr/>
        </p:nvSpPr>
        <p:spPr>
          <a:xfrm>
            <a:off x="1547640" y="4869000"/>
            <a:ext cx="6120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ся больше, чем 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>
            <a:off x="1403280" y="142920"/>
            <a:ext cx="4390920" cy="349200"/>
          </a:xfrm>
          <a:prstGeom prst="wedgeRectCallout">
            <a:avLst>
              <a:gd name="adj1" fmla="val 7916"/>
              <a:gd name="adj2" fmla="val 1036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создания материальных б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элементы рыночного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 определенного вида, которое покупатель готов купить по определенной ц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, которое продавец готов предложить покупателям в конкретном месте и в конкрет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ое выражение сто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4140360" y="4653000"/>
            <a:ext cx="4248000" cy="360360"/>
          </a:xfrm>
          <a:prstGeom prst="wedgeRectCallout">
            <a:avLst>
              <a:gd name="adj1" fmla="val 2726"/>
              <a:gd name="adj2" fmla="val 8700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ные в производство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с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 цена, по которой покупатель может купи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цена, по которой продавец может прода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2340000" y="1125360"/>
            <a:ext cx="172728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5076720" y="1125360"/>
            <a:ext cx="165600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684360" y="3860640"/>
            <a:ext cx="7921440" cy="1873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ц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, при которой объем спроса равен объему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опускаться ниже ц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подниматься выше цены с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о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ительск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сть вещи, ее способность удовлетворить ту или иную потре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ов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ое отношение, в котором обмениваются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цены за аналогичную продукцию по сравнению с другими конкур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за высокое качество, широкая реклам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030560" y="71280"/>
            <a:ext cx="4718160" cy="478080"/>
          </a:xfrm>
          <a:prstGeom prst="wedgeRectCallout">
            <a:avLst>
              <a:gd name="adj1" fmla="val -37550"/>
              <a:gd name="adj2" fmla="val 8521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производителей за потреб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опо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403280" y="34920"/>
            <a:ext cx="6985080" cy="609480"/>
          </a:xfrm>
          <a:prstGeom prst="wedgeRectCallout">
            <a:avLst>
              <a:gd name="adj1" fmla="val 2226"/>
              <a:gd name="adj2" fmla="val 843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, на котором только один продавец, где покупатель вынужден платить назначенную ц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453240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88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по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, на котором преобладают несколько крупных фир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заключают соглашение о ценах, рынках сбыта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дик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сохраняют собственность на средства производства, но теряют коммерческую самосто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корпорации, имеющая многоотраслево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ыночная экономика предполагает участие потребителей в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и рыночной цены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и производств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е методов кредитования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и налоговых льг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р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(акционерная) организация, предоставляющая помещение, гарантии, расчетные и информационные услуги для совершения сделок с товарами и ценными бум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6"/>
          <p:cNvGrpSpPr/>
          <p:nvPr/>
        </p:nvGrpSpPr>
        <p:grpSpPr>
          <a:xfrm>
            <a:off x="324000" y="3216600"/>
            <a:ext cx="8360640" cy="1823760"/>
            <a:chOff x="324000" y="3216600"/>
            <a:chExt cx="8360640" cy="1823760"/>
          </a:xfrm>
        </p:grpSpPr>
        <p:cxnSp>
          <p:nvCxnSpPr>
            <p:cNvPr id="253" name="_s3076"/>
            <p:cNvCxnSpPr>
              <a:stCxn id="254" idx="0"/>
              <a:endCxn id="255" idx="2"/>
            </p:cNvCxnSpPr>
            <p:nvPr/>
          </p:nvCxnSpPr>
          <p:spPr>
            <a:xfrm flipV="1" rot="16200000">
              <a:off x="5874120" y="233532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6" name="_s3077"/>
            <p:cNvCxnSpPr>
              <a:stCxn id="257" idx="0"/>
              <a:endCxn id="255" idx="2"/>
            </p:cNvCxnSpPr>
            <p:nvPr/>
          </p:nvCxnSpPr>
          <p:spPr>
            <a:xfrm flipV="1">
              <a:off x="4503960" y="3705840"/>
              <a:ext cx="3960" cy="18648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8" name="_s3078"/>
            <p:cNvCxnSpPr>
              <a:stCxn id="259" idx="0"/>
              <a:endCxn id="255" idx="2"/>
            </p:cNvCxnSpPr>
            <p:nvPr/>
          </p:nvCxnSpPr>
          <p:spPr>
            <a:xfrm flipH="1" flipV="1" rot="5400000">
              <a:off x="2947680" y="233568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255" name="_s3079"/>
            <p:cNvSpPr/>
            <p:nvPr/>
          </p:nvSpPr>
          <p:spPr>
            <a:xfrm>
              <a:off x="3247560" y="3216600"/>
              <a:ext cx="2513160" cy="489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Бирж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080"/>
            <p:cNvSpPr/>
            <p:nvPr/>
          </p:nvSpPr>
          <p:spPr>
            <a:xfrm>
              <a:off x="324000" y="3892320"/>
              <a:ext cx="2508120" cy="114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ндов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упля-продаж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3081"/>
            <p:cNvSpPr/>
            <p:nvPr/>
          </p:nvSpPr>
          <p:spPr>
            <a:xfrm>
              <a:off x="3250800" y="3892320"/>
              <a:ext cx="2507400" cy="114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руд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ем работни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82"/>
            <p:cNvSpPr/>
            <p:nvPr/>
          </p:nvSpPr>
          <p:spPr>
            <a:xfrm>
              <a:off x="6177240" y="3892320"/>
              <a:ext cx="2507400" cy="1148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овар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товая торгов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14"/>
          <p:cNvSpPr/>
          <p:nvPr/>
        </p:nvSpPr>
        <p:spPr>
          <a:xfrm>
            <a:off x="324000" y="5300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л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во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427640" y="5300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к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ник, 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чет кл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и б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, участвующий в экономической деятельности в качестве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ет от своего имени, не нуждается в создании и регистрации своей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заниматься предпринимательской деятельность (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рид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, учреждение, фирма, выступающая в качестве самостоятельного носителя прав и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: независимость  входящих в него лиц; право приобретать, пользоваться и распоряжаться собственностью; право осуществлять экономические операции от своего имени; имущественная ответственность; право выступать от своего имени на с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262692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536400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он убывающей дохо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 каждой дополнительной единицы продукции дается все с большими затратами физического труда, денег,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246600" y="3362040"/>
            <a:ext cx="8640000" cy="1625400"/>
            <a:chOff x="246600" y="3362040"/>
            <a:chExt cx="8640000" cy="1625400"/>
          </a:xfrm>
        </p:grpSpPr>
        <p:cxnSp>
          <p:nvCxnSpPr>
            <p:cNvPr id="270" name="_s4100"/>
            <p:cNvCxnSpPr>
              <a:stCxn id="271" idx="0"/>
              <a:endCxn id="272" idx="2"/>
            </p:cNvCxnSpPr>
            <p:nvPr/>
          </p:nvCxnSpPr>
          <p:spPr>
            <a:xfrm flipV="1" rot="16200000">
              <a:off x="5340960" y="3043800"/>
              <a:ext cx="228960" cy="177876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3" name="_s4101"/>
            <p:cNvCxnSpPr>
              <a:stCxn id="274" idx="0"/>
              <a:endCxn id="272" idx="2"/>
            </p:cNvCxnSpPr>
            <p:nvPr/>
          </p:nvCxnSpPr>
          <p:spPr>
            <a:xfrm flipV="1" rot="16200000">
              <a:off x="6230160" y="215460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5" name="_s4102"/>
            <p:cNvCxnSpPr>
              <a:stCxn id="276" idx="0"/>
              <a:endCxn id="272" idx="2"/>
            </p:cNvCxnSpPr>
            <p:nvPr/>
          </p:nvCxnSpPr>
          <p:spPr>
            <a:xfrm flipV="1" rot="16200000">
              <a:off x="4444200" y="3940200"/>
              <a:ext cx="257400" cy="14040"/>
            </a:xfrm>
            <a:prstGeom prst="bentConnector3">
              <a:avLst>
                <a:gd name="adj1" fmla="val 44397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7" name="_s4103"/>
            <p:cNvCxnSpPr>
              <a:stCxn id="278" idx="0"/>
              <a:endCxn id="272" idx="2"/>
            </p:cNvCxnSpPr>
            <p:nvPr/>
          </p:nvCxnSpPr>
          <p:spPr>
            <a:xfrm flipH="1" flipV="1" rot="5400000">
              <a:off x="3563280" y="3044160"/>
              <a:ext cx="228960" cy="17784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9" name="_s4104"/>
            <p:cNvCxnSpPr>
              <a:stCxn id="280" idx="0"/>
              <a:endCxn id="272" idx="2"/>
            </p:cNvCxnSpPr>
            <p:nvPr/>
          </p:nvCxnSpPr>
          <p:spPr>
            <a:xfrm flipH="1" flipV="1" rot="5400000">
              <a:off x="2674080" y="215496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sp>
          <p:nvSpPr>
            <p:cNvPr id="272" name="_s4105"/>
            <p:cNvSpPr/>
            <p:nvPr/>
          </p:nvSpPr>
          <p:spPr>
            <a:xfrm>
              <a:off x="3168720" y="3362040"/>
              <a:ext cx="2795400" cy="4568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Возрастание доход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06"/>
            <p:cNvSpPr/>
            <p:nvPr/>
          </p:nvSpPr>
          <p:spPr>
            <a:xfrm>
              <a:off x="2466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спольз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овых источник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нер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4107"/>
            <p:cNvSpPr/>
            <p:nvPr/>
          </p:nvSpPr>
          <p:spPr>
            <a:xfrm>
              <a:off x="20250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мен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втома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еханизм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108"/>
            <p:cNvSpPr/>
            <p:nvPr/>
          </p:nvSpPr>
          <p:spPr>
            <a:xfrm>
              <a:off x="3814200" y="4076280"/>
              <a:ext cx="1529280" cy="9111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тандар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заимозаменяем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ча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109"/>
            <p:cNvSpPr/>
            <p:nvPr/>
          </p:nvSpPr>
          <p:spPr>
            <a:xfrm>
              <a:off x="735912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пециализация 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зделение тру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110"/>
            <p:cNvSpPr/>
            <p:nvPr/>
          </p:nvSpPr>
          <p:spPr>
            <a:xfrm>
              <a:off x="558108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счлен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изводст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прост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вторяющиес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20"/>
          <p:cNvSpPr/>
          <p:nvPr/>
        </p:nvSpPr>
        <p:spPr>
          <a:xfrm>
            <a:off x="3348000" y="5373720"/>
            <a:ext cx="237636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вей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126828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хозяйственной деятельности, цель которого – получение прибыли путем удовлетворения потребностей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оединение экономических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ая (организация производства ради прибы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ая (создание новых видов производства, новых продук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изводства = Производительные силы +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924360" y="71280"/>
            <a:ext cx="4535280" cy="609840"/>
          </a:xfrm>
          <a:prstGeom prst="wedgeRectCallout">
            <a:avLst>
              <a:gd name="adj1" fmla="val -85703"/>
              <a:gd name="adj2" fmla="val 557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как люди производят средства к жизни в тот или иной период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124000" y="2492280"/>
            <a:ext cx="2879640" cy="1297080"/>
          </a:xfrm>
          <a:prstGeom prst="wedgeRectCallout">
            <a:avLst>
              <a:gd name="adj1" fmla="val 35060"/>
              <a:gd name="adj2" fmla="val -97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 средства производства: орудия труда, предметы и средств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5364000" y="2492280"/>
            <a:ext cx="2880000" cy="1297080"/>
          </a:xfrm>
          <a:prstGeom prst="wedgeRectCallout">
            <a:avLst>
              <a:gd name="adj1" fmla="val 24476"/>
              <a:gd name="adj2" fmla="val -9443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людей в процессе производства, обмена, распределения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324000" y="4076640"/>
            <a:ext cx="2571480" cy="934920"/>
          </a:xfrm>
          <a:prstGeom prst="cloudCallout">
            <a:avLst>
              <a:gd name="adj1" fmla="val 71050"/>
              <a:gd name="adj2" fmla="val -7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5940360" y="4149720"/>
            <a:ext cx="2571840" cy="934920"/>
          </a:xfrm>
          <a:prstGeom prst="cloudCallout">
            <a:avLst>
              <a:gd name="adj1" fmla="val -18518"/>
              <a:gd name="adj2" fmla="val -83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619280" y="5084640"/>
            <a:ext cx="4967280" cy="1440000"/>
          </a:xfrm>
          <a:prstGeom prst="irregularSeal2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ая ре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696000" y="5373720"/>
            <a:ext cx="2411640" cy="934920"/>
          </a:xfrm>
          <a:prstGeom prst="wedgeRectCallout">
            <a:avLst>
              <a:gd name="adj1" fmla="val -91476"/>
              <a:gd name="adj2" fmla="val 92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2987640" y="4221000"/>
            <a:ext cx="2879640" cy="628920"/>
          </a:xfrm>
          <a:prstGeom prst="leftRightArrow">
            <a:avLst>
              <a:gd name="adj1" fmla="val 50000"/>
              <a:gd name="adj2" fmla="val 9115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3708360" y="4724280"/>
            <a:ext cx="647640" cy="577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ых предприят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быстро реагируют на изменения рын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ивлекательны для талантливых и энергичных люде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не требуют больших затра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68360" y="1413000"/>
            <a:ext cx="8229600" cy="647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родукции за единицу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2400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20364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6084720" y="2637000"/>
            <a:ext cx="2737080" cy="2016000"/>
          </a:xfrm>
          <a:prstGeom prst="upArrowCallout">
            <a:avLst>
              <a:gd name="adj1" fmla="val 33945"/>
              <a:gd name="adj2" fmla="val 33942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производителе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Производитель в рыночной экономике заинтересован в снижении ставки процента за креди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Производитель в рыночной экономике вынужден постоянно увеличивать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отребительского п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дные семьи большую часть средств тратят на самое необход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одежду, дорогостоящие предметы, развлечения растут в большей пропорции, чем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ость источников делает потребление более увер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116000" y="1413000"/>
            <a:ext cx="676908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, кто приобретает и использует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287280" y="71280"/>
            <a:ext cx="8748720" cy="405000"/>
          </a:xfrm>
          <a:prstGeom prst="wedgeRectCallout">
            <a:avLst>
              <a:gd name="adj1" fmla="val 3509"/>
              <a:gd name="adj2" fmla="val 10372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сточник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рплата, трансферты, доход от предпринимательской деятельности, от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900000" y="5516640"/>
            <a:ext cx="748836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Энг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чем больше доход, тем меньше расход на пит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больше на товары длительного пользования, рост сбере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ере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Organization Chart 6"/>
          <p:cNvGrpSpPr/>
          <p:nvPr/>
        </p:nvGrpSpPr>
        <p:grpSpPr>
          <a:xfrm>
            <a:off x="1979280" y="1843920"/>
            <a:ext cx="5328360" cy="4205520"/>
            <a:chOff x="1979280" y="1843920"/>
            <a:chExt cx="5328360" cy="4205520"/>
          </a:xfrm>
        </p:grpSpPr>
        <p:cxnSp>
          <p:nvCxnSpPr>
            <p:cNvPr id="304" name="_s5124"/>
            <p:cNvCxnSpPr>
              <a:stCxn id="305" idx="0"/>
              <a:endCxn id="306" idx="3"/>
            </p:cNvCxnSpPr>
            <p:nvPr/>
          </p:nvCxnSpPr>
          <p:spPr>
            <a:xfrm rot="10800000">
              <a:off x="3381120" y="2704320"/>
              <a:ext cx="778680" cy="218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7" name="_s5125"/>
            <p:cNvCxnSpPr>
              <a:stCxn id="308" idx="0"/>
              <a:endCxn id="306" idx="2"/>
            </p:cNvCxnSpPr>
            <p:nvPr/>
          </p:nvCxnSpPr>
          <p:spPr>
            <a:xfrm rot="10800000">
              <a:off x="3381120" y="2704320"/>
              <a:ext cx="778680" cy="30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_s5126"/>
            <p:cNvCxnSpPr>
              <a:stCxn id="310" idx="0"/>
              <a:endCxn id="306" idx="1"/>
            </p:cNvCxnSpPr>
            <p:nvPr/>
          </p:nvCxnSpPr>
          <p:spPr>
            <a:xfrm rot="10800000">
              <a:off x="3381120" y="2704320"/>
              <a:ext cx="778680" cy="134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_s5127"/>
            <p:cNvCxnSpPr>
              <a:stCxn id="312" idx="0"/>
              <a:endCxn id="306" idx="0"/>
            </p:cNvCxnSpPr>
            <p:nvPr/>
          </p:nvCxnSpPr>
          <p:spPr>
            <a:xfrm rot="10800000">
              <a:off x="3381120" y="2704320"/>
              <a:ext cx="778680" cy="51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6" name="_s5128"/>
            <p:cNvSpPr/>
            <p:nvPr/>
          </p:nvSpPr>
          <p:spPr>
            <a:xfrm>
              <a:off x="1979280" y="1843920"/>
              <a:ext cx="2802240" cy="860760"/>
            </a:xfrm>
            <a:prstGeom prst="bevel">
              <a:avLst>
                <a:gd name="adj" fmla="val 12500"/>
              </a:avLst>
            </a:prstGeom>
            <a:solidFill>
              <a:srgbClr val="fbdf53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иды сбереж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5129"/>
            <p:cNvSpPr/>
            <p:nvPr/>
          </p:nvSpPr>
          <p:spPr>
            <a:xfrm>
              <a:off x="4159800" y="2893680"/>
              <a:ext cx="314784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чета в бан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5130"/>
            <p:cNvSpPr/>
            <p:nvPr/>
          </p:nvSpPr>
          <p:spPr>
            <a:xfrm>
              <a:off x="4159800" y="372996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нные бумаги (акци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5131"/>
            <p:cNvSpPr/>
            <p:nvPr/>
          </p:nvSpPr>
          <p:spPr>
            <a:xfrm>
              <a:off x="4159800" y="5402160"/>
              <a:ext cx="307548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рах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5132"/>
            <p:cNvSpPr/>
            <p:nvPr/>
          </p:nvSpPr>
          <p:spPr>
            <a:xfrm>
              <a:off x="4159800" y="456480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едвиж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сумма денежных средств, достаточная для удовлетворения необходим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250920" y="3357720"/>
            <a:ext cx="8569080" cy="934920"/>
          </a:xfrm>
          <a:prstGeom prst="wedgeRectCallout">
            <a:avLst>
              <a:gd name="adj1" fmla="val -20787"/>
              <a:gd name="adj2" fmla="val -1068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имость минимального необходимого количества продуктов в меся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аница бед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4284720" y="4581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419640" y="5300640"/>
            <a:ext cx="2160360" cy="124452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пе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благосостояния населения, степень удовлетворения основных жизненн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1"/>
          <p:cNvGrpSpPr/>
          <p:nvPr/>
        </p:nvGrpSpPr>
        <p:grpSpPr>
          <a:xfrm>
            <a:off x="457200" y="2997360"/>
            <a:ext cx="8229600" cy="3447720"/>
            <a:chOff x="457200" y="2997360"/>
            <a:chExt cx="8229600" cy="3447720"/>
          </a:xfrm>
        </p:grpSpPr>
        <p:sp>
          <p:nvSpPr>
            <p:cNvPr id="321" name="Rectangle 10"/>
            <p:cNvSpPr/>
            <p:nvPr/>
          </p:nvSpPr>
          <p:spPr>
            <a:xfrm>
              <a:off x="457200" y="5500800"/>
              <a:ext cx="82296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звитие образования, здравоохранения, социального обеспе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457200" y="4875120"/>
              <a:ext cx="82296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еспеченность жиль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57200" y="4248000"/>
              <a:ext cx="8229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еальные доходы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57200" y="362268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требление на душу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57200" y="299736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казатели уровня жизн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57200" y="29973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457200" y="3622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57200" y="4248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457200" y="4875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5"/>
            <p:cNvSpPr/>
            <p:nvPr/>
          </p:nvSpPr>
          <p:spPr>
            <a:xfrm>
              <a:off x="457200" y="5500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57200" y="64450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>
              <a:off x="4572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8"/>
            <p:cNvSpPr/>
            <p:nvPr/>
          </p:nvSpPr>
          <p:spPr>
            <a:xfrm>
              <a:off x="86868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2189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сумма затрат на обеспечение среднестатистического потребления человека (семьи) в определенный период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ексация дох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129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номинальных доходов в зависимости от роста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доходах потребителя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дин из способов сохранения доходов потребителя – приобретение ценных бума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Собственность – один из источников доходов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туральное и товарн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довлетворения собственных потребност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о на рыно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замкнутость, консерватизм, ручной труд, медленные темпы развит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динамичность, использование техники, механизированный характ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рители эконом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8360" y="1773360"/>
            <a:ext cx="3743280" cy="1368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кономик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572000" y="1773360"/>
            <a:ext cx="4032360" cy="1368360"/>
          </a:xfrm>
          <a:prstGeom prst="flowChartAlternate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11280" y="3860640"/>
            <a:ext cx="3095640" cy="1872000"/>
          </a:xfrm>
          <a:prstGeom prst="flowChartPunchedCard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ортиз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ис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4067280" y="3573360"/>
            <a:ext cx="4465440" cy="2592360"/>
          </a:xfrm>
          <a:custGeom>
            <a:avLst/>
            <a:gdLst>
              <a:gd name="textAreaLeft" fmla="*/ 938880 w 4465440"/>
              <a:gd name="textAreaRight" fmla="*/ 3526560 w 4465440"/>
              <a:gd name="textAreaTop" fmla="*/ 545040 h 2592360"/>
              <a:gd name="textAreaBottom" fmla="*/ 20473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84" y="11571"/>
                </a:lnTo>
                <a:lnTo>
                  <a:pt x="198" y="12861"/>
                </a:lnTo>
                <a:lnTo>
                  <a:pt x="2293" y="13239"/>
                </a:lnTo>
                <a:lnTo>
                  <a:pt x="786" y="14846"/>
                </a:lnTo>
                <a:lnTo>
                  <a:pt x="2986" y="14955"/>
                </a:lnTo>
                <a:lnTo>
                  <a:pt x="1742" y="16682"/>
                </a:lnTo>
                <a:lnTo>
                  <a:pt x="3922" y="16369"/>
                </a:lnTo>
                <a:lnTo>
                  <a:pt x="3163" y="18437"/>
                </a:lnTo>
                <a:lnTo>
                  <a:pt x="5111" y="17579"/>
                </a:lnTo>
                <a:lnTo>
                  <a:pt x="4761" y="19754"/>
                </a:lnTo>
                <a:lnTo>
                  <a:pt x="6509" y="18540"/>
                </a:lnTo>
                <a:lnTo>
                  <a:pt x="6580" y="20741"/>
                </a:lnTo>
                <a:lnTo>
                  <a:pt x="8213" y="19263"/>
                </a:lnTo>
                <a:lnTo>
                  <a:pt x="8555" y="21364"/>
                </a:lnTo>
                <a:lnTo>
                  <a:pt x="9875" y="19602"/>
                </a:lnTo>
                <a:lnTo>
                  <a:pt x="10800" y="21600"/>
                </a:lnTo>
                <a:lnTo>
                  <a:pt x="11571" y="19616"/>
                </a:lnTo>
                <a:lnTo>
                  <a:pt x="12861" y="21402"/>
                </a:lnTo>
                <a:lnTo>
                  <a:pt x="13239" y="19307"/>
                </a:lnTo>
                <a:lnTo>
                  <a:pt x="14846" y="20814"/>
                </a:lnTo>
                <a:lnTo>
                  <a:pt x="14955" y="18614"/>
                </a:lnTo>
                <a:lnTo>
                  <a:pt x="16682" y="19858"/>
                </a:lnTo>
                <a:lnTo>
                  <a:pt x="16369" y="17678"/>
                </a:lnTo>
                <a:lnTo>
                  <a:pt x="18437" y="18437"/>
                </a:lnTo>
                <a:lnTo>
                  <a:pt x="17579" y="16489"/>
                </a:lnTo>
                <a:lnTo>
                  <a:pt x="19754" y="16839"/>
                </a:lnTo>
                <a:lnTo>
                  <a:pt x="18540" y="15091"/>
                </a:lnTo>
                <a:lnTo>
                  <a:pt x="20741" y="15020"/>
                </a:lnTo>
                <a:lnTo>
                  <a:pt x="19263" y="13387"/>
                </a:lnTo>
                <a:lnTo>
                  <a:pt x="21364" y="13045"/>
                </a:lnTo>
                <a:lnTo>
                  <a:pt x="19602" y="11725"/>
                </a:lnTo>
                <a:lnTo>
                  <a:pt x="21600" y="10800"/>
                </a:lnTo>
                <a:lnTo>
                  <a:pt x="19616" y="10029"/>
                </a:lnTo>
                <a:lnTo>
                  <a:pt x="21402" y="8739"/>
                </a:lnTo>
                <a:lnTo>
                  <a:pt x="19307" y="8361"/>
                </a:lnTo>
                <a:lnTo>
                  <a:pt x="20814" y="6754"/>
                </a:lnTo>
                <a:lnTo>
                  <a:pt x="18614" y="6645"/>
                </a:lnTo>
                <a:lnTo>
                  <a:pt x="19858" y="4918"/>
                </a:lnTo>
                <a:lnTo>
                  <a:pt x="17678" y="5231"/>
                </a:lnTo>
                <a:lnTo>
                  <a:pt x="18437" y="3163"/>
                </a:lnTo>
                <a:lnTo>
                  <a:pt x="16489" y="4021"/>
                </a:lnTo>
                <a:lnTo>
                  <a:pt x="16839" y="1846"/>
                </a:lnTo>
                <a:lnTo>
                  <a:pt x="15091" y="3060"/>
                </a:lnTo>
                <a:lnTo>
                  <a:pt x="15020" y="859"/>
                </a:lnTo>
                <a:lnTo>
                  <a:pt x="13387" y="2337"/>
                </a:lnTo>
                <a:lnTo>
                  <a:pt x="13045" y="236"/>
                </a:lnTo>
                <a:lnTo>
                  <a:pt x="11725" y="1998"/>
                </a:lnTo>
                <a:lnTo>
                  <a:pt x="10800" y="0"/>
                </a:lnTo>
                <a:lnTo>
                  <a:pt x="10029" y="1984"/>
                </a:lnTo>
                <a:lnTo>
                  <a:pt x="8739" y="198"/>
                </a:lnTo>
                <a:lnTo>
                  <a:pt x="8361" y="2293"/>
                </a:lnTo>
                <a:lnTo>
                  <a:pt x="6754" y="786"/>
                </a:lnTo>
                <a:lnTo>
                  <a:pt x="6645" y="2986"/>
                </a:lnTo>
                <a:lnTo>
                  <a:pt x="4918" y="1742"/>
                </a:lnTo>
                <a:lnTo>
                  <a:pt x="5231" y="3922"/>
                </a:lnTo>
                <a:lnTo>
                  <a:pt x="3163" y="3163"/>
                </a:lnTo>
                <a:lnTo>
                  <a:pt x="4021" y="5111"/>
                </a:lnTo>
                <a:lnTo>
                  <a:pt x="1846" y="4761"/>
                </a:lnTo>
                <a:lnTo>
                  <a:pt x="3060" y="6509"/>
                </a:lnTo>
                <a:lnTo>
                  <a:pt x="859" y="6580"/>
                </a:lnTo>
                <a:lnTo>
                  <a:pt x="2337" y="8213"/>
                </a:lnTo>
                <a:lnTo>
                  <a:pt x="236" y="8555"/>
                </a:lnTo>
                <a:lnTo>
                  <a:pt x="1998" y="9875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х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е ц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4356000" y="222120"/>
            <a:ext cx="4537080" cy="349560"/>
          </a:xfrm>
          <a:prstGeom prst="wedgeRectCallout">
            <a:avLst>
              <a:gd name="adj1" fmla="val -28587"/>
              <a:gd name="adj2" fmla="val 8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от одного кризиса до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900000" y="0"/>
            <a:ext cx="2376720" cy="620640"/>
          </a:xfrm>
          <a:prstGeom prst="cloudCallout">
            <a:avLst>
              <a:gd name="adj1" fmla="val 51000"/>
              <a:gd name="adj2" fmla="val 6534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57, 1900-1901, 1929-193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12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криз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сбыта товаров, уменьшение прибыли, банкротство предприятий и банков, безработица, инфля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депр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, но стабильный уровень производства, высокий уровень безработиц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ожи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рост производства, снижение уровня безработицы, постепенный рост спро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под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производства превосходит прежний цикл, быстро растут цены, сокращается безработи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й р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национального богат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лучшение условий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ъем жизненного уровня насе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престижа стр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зможные мину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затрат и интенсификация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блема сбыта това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черпывание ресурс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худшение экологической ситу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419640" y="34920"/>
            <a:ext cx="5040000" cy="609480"/>
          </a:xfrm>
          <a:prstGeom prst="wedgeRectCallout">
            <a:avLst>
              <a:gd name="adj1" fmla="val -38944"/>
              <a:gd name="adj2" fmla="val 6406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ое увеличение и качественное совершенствован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измерителями экономики страны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рента, валовой внутренни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, национальный доход, валовые капиталов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валовой национальный продукт, валово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ой внутренний продукт, национальный доход, валовой национальны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нятость и безрабо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нят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рудовая деятельность 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работ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ложение в экономике, при котором часть способных трудиться не могут найти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нок тр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щественные механизмы, которые дают возможность одним людям найти работу, а другим нанять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труктур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упадком старых отраслей и появления новых, отмиранием одних профессий и появлением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икл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циклического спада в развитии рыночной эконом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рикци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переходом с одного места работы на другое («между двумя работ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словлена внедрением новых технолог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з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осуществлением некоторых видов работ в определенное время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, готовые работать за более низкую зарплату, чем та, которую получают занятые, все равно не могут найти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х работников не устраивает уровень зарплаты или характер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рыт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ишние работники используются в производстве, реально требующем меньшего коли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е вознаграждение за труд, получаемое работником в соответствии с затратами и результата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324000" y="3068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приобрет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минальную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4427640" y="3068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мин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благ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ы на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менная (зависит от количества отработанных ча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ьная (определяется количеством произведенных раб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работица, возникшая в результате перехода работника с одного места на другое, называе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ци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кл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   е   н   ь   г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ственная стоимость соответствует номи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ха, скот, золото, сере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енная денежная система, которая предполагает отказ от золотого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33134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общий эквивалент, выражающий стоимость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5564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3348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6012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ические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32560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НЕОЛИТИЧЕСК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(переход от присваивающего к производящему хозяй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ПРОМЫШЛЕННАЯ</a:t>
            </a: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 (переход от мануфактуры к фабричному производ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00"/>
                </a:solidFill>
                <a:latin typeface="Arial"/>
              </a:rPr>
              <a:t>НАУЧНО-ТЕХНИЧЕСКА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(переход к постиндустриальному обще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76360" y="5668920"/>
            <a:ext cx="5338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476360" y="5186520"/>
            <a:ext cx="5338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476360" y="470376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арно-реме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476360" y="422100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3716280"/>
            <a:ext cx="53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 развити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7"/>
          <p:cNvGrpSpPr/>
          <p:nvPr/>
        </p:nvGrpSpPr>
        <p:grpSpPr>
          <a:xfrm>
            <a:off x="1476360" y="3716280"/>
            <a:ext cx="5338800" cy="2433600"/>
            <a:chOff x="1476360" y="3716280"/>
            <a:chExt cx="5338800" cy="2433600"/>
          </a:xfrm>
        </p:grpSpPr>
        <p:sp>
          <p:nvSpPr>
            <p:cNvPr id="76" name="Line 10"/>
            <p:cNvSpPr/>
            <p:nvPr/>
          </p:nvSpPr>
          <p:spPr>
            <a:xfrm>
              <a:off x="1476360" y="37162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1476360" y="422100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476360" y="470376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1476360" y="51865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1476360" y="56689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1476360" y="61498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14763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68151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AutoShape 29"/>
          <p:cNvCxnSpPr>
            <a:stCxn id="69" idx="0"/>
          </p:cNvCxnSpPr>
          <p:nvPr/>
        </p:nvCxnSpPr>
        <p:spPr>
          <a:xfrm flipH="1" rot="16200000">
            <a:off x="4022640" y="1942560"/>
            <a:ext cx="3456720" cy="2107440"/>
          </a:xfrm>
          <a:prstGeom prst="curvedConnector5">
            <a:avLst>
              <a:gd name="adj1" fmla="val -2062"/>
              <a:gd name="adj2" fmla="val 100973"/>
              <a:gd name="adj3" fmla="val -2062"/>
            </a:avLst>
          </a:prstGeom>
          <a:ln w="9360">
            <a:solidFill>
              <a:srgbClr val="cc3300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5" name="AutoShape 30"/>
          <p:cNvCxnSpPr>
            <a:stCxn id="69" idx="1"/>
            <a:endCxn id="79" idx="0"/>
          </p:cNvCxnSpPr>
          <p:nvPr/>
        </p:nvCxnSpPr>
        <p:spPr>
          <a:xfrm>
            <a:off x="250920" y="2290680"/>
            <a:ext cx="1226160" cy="2896560"/>
          </a:xfrm>
          <a:prstGeom prst="curvedConnector5">
            <a:avLst>
              <a:gd name="adj1" fmla="val 49985"/>
              <a:gd name="adj2" fmla="val 49558"/>
              <a:gd name="adj3" fmla="val 49985"/>
            </a:avLst>
          </a:prstGeom>
          <a:ln w="9360">
            <a:solidFill>
              <a:srgbClr val="0000cc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6" name="AutoShape 32"/>
          <p:cNvCxnSpPr/>
          <p:nvPr/>
        </p:nvCxnSpPr>
        <p:spPr>
          <a:xfrm>
            <a:off x="3850920" y="3141720"/>
            <a:ext cx="3026520" cy="2520000"/>
          </a:xfrm>
          <a:prstGeom prst="curvedConnector5">
            <a:avLst>
              <a:gd name="adj1" fmla="val 143587"/>
              <a:gd name="adj2" fmla="val 49992"/>
              <a:gd name="adj3" fmla="val 143587"/>
            </a:avLst>
          </a:prstGeom>
          <a:ln w="9360">
            <a:solidFill>
              <a:srgbClr val="996600"/>
            </a:solidFill>
            <a:miter/>
            <a:headEnd len="med" type="oval" w="med"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квидность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5280" y="1341360"/>
            <a:ext cx="8229600" cy="1079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ность денег быть обращенными в наличные и истраченными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2556000" y="3141720"/>
            <a:ext cx="3600360" cy="2735280"/>
          </a:xfrm>
          <a:prstGeom prst="upArrowCallout">
            <a:avLst>
              <a:gd name="adj1" fmla="val 32910"/>
              <a:gd name="adj2" fmla="val 32907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й ликв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наличные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и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щиеся в ба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ля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ренная (ползучая) – 1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опирующая – 100-15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инфляция – до 100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ая (никем не сдерживаем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вленная (государство искусственно контролирует це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5703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«лишних» денег ведет к их обесцени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ежная эмиссия (масса денег растет, а масса товаров сокращае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сходов на военные и социальные ну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кризисы (сырьевой, энергетиче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правительства в экономическо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альвация и дено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альв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фициальное обесценивание национальной валюты, снижение ее курса по отношению к иностранным валютам, международным денежным един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омин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крепление национальной денежной единицы путем обмена по установленному соотношению старых денежных знаков на 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суждение верн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Ликвидность денег – это их способность быть обращенными в наличные и истраченными на това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Инфляция – это появление лишни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государства в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билизац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соб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денежного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фундаментальной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распределение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отношений между работодателями и наемными рабоч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нешнеэкономическ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государственной экономической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билизаци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здоровление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 бюджетно-налоговую (фискальную) и кредитно-денежную (монетарную) поли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поддержание сбалансированного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: поддержка особо важных отраслей, приватизация, содействие конкуренции, ограничение деятельности монопо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е и косвенное воздействие государства на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преимущественно административные методы (законы, госзаказы, развитие госсектора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в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методы кредитно-денежной и бюджетно-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о степени вмешательства государства в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етаристы (Фрид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освободить экономику от вмешательства государства, сократить налоги, госрасходы, активно использовать рыноч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йнсианцы (Кейн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к не в состоянии решить проблемы в экономике, поэтому необходимо активное вмешательство государства, но в основном с помощью косвенных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правильный 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Государственное регулирование экономики – это целенаправленное воздействие государства на экономику, направленное на эффективное функционирование национальной эконом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Государственное регулирование экономики – это система мер законодательного, исполнительного и контролирующего характера, осуществляемых государством в целях стабилизации и приспособления экономики к изменяющимся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7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8" name="Organization Chart 39"/>
          <p:cNvGrpSpPr/>
          <p:nvPr/>
        </p:nvGrpSpPr>
        <p:grpSpPr>
          <a:xfrm>
            <a:off x="431640" y="2328840"/>
            <a:ext cx="8208360" cy="1397160"/>
            <a:chOff x="431640" y="2328840"/>
            <a:chExt cx="8208360" cy="1397160"/>
          </a:xfrm>
        </p:grpSpPr>
        <p:cxnSp>
          <p:nvCxnSpPr>
            <p:cNvPr id="89" name="_s1028"/>
            <p:cNvCxnSpPr>
              <a:stCxn id="90" idx="0"/>
              <a:endCxn id="91" idx="2"/>
            </p:cNvCxnSpPr>
            <p:nvPr/>
          </p:nvCxnSpPr>
          <p:spPr>
            <a:xfrm flipV="1" rot="16200000">
              <a:off x="5858280" y="1461960"/>
              <a:ext cx="229320" cy="287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29"/>
            <p:cNvCxnSpPr>
              <a:stCxn id="93" idx="0"/>
              <a:endCxn id="91" idx="2"/>
            </p:cNvCxnSpPr>
            <p:nvPr/>
          </p:nvCxnSpPr>
          <p:spPr>
            <a:xfrm flipV="1" rot="16200000">
              <a:off x="4421160" y="2898360"/>
              <a:ext cx="22932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30"/>
            <p:cNvCxnSpPr>
              <a:stCxn id="95" idx="0"/>
              <a:endCxn id="91" idx="2"/>
            </p:cNvCxnSpPr>
            <p:nvPr/>
          </p:nvCxnSpPr>
          <p:spPr>
            <a:xfrm flipH="1" flipV="1" rot="5400000">
              <a:off x="2984760" y="1464480"/>
              <a:ext cx="229320" cy="287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031"/>
            <p:cNvSpPr/>
            <p:nvPr/>
          </p:nvSpPr>
          <p:spPr>
            <a:xfrm>
              <a:off x="1567800" y="2328840"/>
              <a:ext cx="593424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лавные вопросы эконом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43164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то 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3"/>
            <p:cNvSpPr/>
            <p:nvPr/>
          </p:nvSpPr>
          <p:spPr>
            <a:xfrm>
              <a:off x="330480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6178320" y="3014640"/>
              <a:ext cx="246168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ля 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те слово, пропущенное в схем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и бюджетного процесс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роекта прави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проекта Госдумой, Советом Федерации и Счетной пала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бюджета, принятие закона о бюджете Федеральным Собранием, подписание его презид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бюджета органами исполнительной власти с 1 января по 3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отчета об исполнении бюджета и его утверждение в течение 5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95280" y="1341360"/>
            <a:ext cx="822960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финансовый план государства на год, объединяющий главные доходы и расходы государства и имеющий силу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государственного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ся за счет налогов и зай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4196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затраты, возникающие у государства при выполнении им экономических, политических,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492360" y="2133720"/>
            <a:ext cx="5183280" cy="3456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группы рас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одержание гос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ы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науки, куль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, здравоохра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отдельных отрас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убсидии и кредиты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луживание государственного д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нешнего и внутренн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108000" y="5734080"/>
            <a:ext cx="4392720" cy="692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/>
          <p:cNvSpPr/>
          <p:nvPr/>
        </p:nvSpPr>
        <p:spPr>
          <a:xfrm flipH="1">
            <a:off x="4641840" y="5734080"/>
            <a:ext cx="4392720" cy="692280"/>
          </a:xfrm>
          <a:custGeom>
            <a:avLst/>
            <a:gdLst>
              <a:gd name="textAreaLeft" fmla="*/ 360 w 4392720"/>
              <a:gd name="textAreaRight" fmla="*/ 439344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и преодоления дефицита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кращение расходов (секвестир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дополнительных источников доходов (изменение системы налогооблож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иссия денег (дополнительный выпуск бумажных дене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ем у населения и у других ст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скальная (формируется доходная часть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тимулирование или сдерживание темпов производ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ительная (распределение результатов производства между различными сферами и группами насе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395280" y="1341360"/>
            <a:ext cx="822960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платежи, взимаемые государством с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26920" y="1557360"/>
            <a:ext cx="345780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ход или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859280" y="1557360"/>
            <a:ext cx="3457800" cy="1366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вары и усл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чиваемые в их цен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ные в тар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1258920" y="3141720"/>
            <a:ext cx="5977080" cy="934920"/>
          </a:xfrm>
          <a:prstGeom prst="wedgeRectCallout">
            <a:avLst>
              <a:gd name="adj1" fmla="val 36930"/>
              <a:gd name="adj2" fmla="val -7292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и на добавленную стоимость (НД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зы (добавка в цене на отдельные тов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95640" y="4365720"/>
            <a:ext cx="4608360" cy="1800000"/>
          </a:xfrm>
          <a:prstGeom prst="verticalScroll">
            <a:avLst>
              <a:gd name="adj" fmla="val 1869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алоговому кодексу РФ 200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рямым налогам относят нал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бавленную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му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оженные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ый рынок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ешанная 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 рыночного механизма и государственного регу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рынка на уровне комп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аркетинга – деятельности по продвижению товаров и услуг на рынке, изучению запросов и потребностей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ктный характер рынка (компании производят для известных им потребителей в соответствии с заключенными договор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50920" y="1341360"/>
            <a:ext cx="864216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ациональных хозяйств, объединенных международным разделением труда, торговыми, производственными и другими экономически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541600" y="42840"/>
            <a:ext cx="4824360" cy="663480"/>
          </a:xfrm>
          <a:prstGeom prst="borderCallout2">
            <a:avLst>
              <a:gd name="adj1" fmla="val 18750"/>
              <a:gd name="adj2" fmla="val -8333"/>
              <a:gd name="adj3" fmla="val 17226"/>
              <a:gd name="adj4" fmla="val -10597"/>
              <a:gd name="adj5" fmla="val 272250"/>
              <a:gd name="adj6" fmla="val -19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по производству отдельных видов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Organization Chart 8"/>
          <p:cNvGrpSpPr/>
          <p:nvPr/>
        </p:nvGrpSpPr>
        <p:grpSpPr>
          <a:xfrm>
            <a:off x="431640" y="3363840"/>
            <a:ext cx="8208360" cy="2006640"/>
            <a:chOff x="431640" y="3363840"/>
            <a:chExt cx="8208360" cy="2006640"/>
          </a:xfrm>
        </p:grpSpPr>
        <p:cxnSp>
          <p:nvCxnSpPr>
            <p:cNvPr id="447" name="_s6148"/>
            <p:cNvCxnSpPr>
              <a:stCxn id="448" idx="0"/>
              <a:endCxn id="449" idx="2"/>
            </p:cNvCxnSpPr>
            <p:nvPr/>
          </p:nvCxnSpPr>
          <p:spPr>
            <a:xfrm flipV="1" rot="16200000">
              <a:off x="4953600" y="3402000"/>
              <a:ext cx="229320" cy="106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0" name="_s6149"/>
            <p:cNvCxnSpPr>
              <a:stCxn id="451" idx="0"/>
              <a:endCxn id="449" idx="2"/>
            </p:cNvCxnSpPr>
            <p:nvPr/>
          </p:nvCxnSpPr>
          <p:spPr>
            <a:xfrm flipV="1" rot="16200000">
              <a:off x="6017760" y="2337840"/>
              <a:ext cx="229320" cy="3193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2" name="_s6150"/>
            <p:cNvCxnSpPr>
              <a:stCxn id="453" idx="0"/>
              <a:endCxn id="449" idx="2"/>
            </p:cNvCxnSpPr>
            <p:nvPr/>
          </p:nvCxnSpPr>
          <p:spPr>
            <a:xfrm flipH="1" flipV="1" rot="5400000">
              <a:off x="3889800" y="3403440"/>
              <a:ext cx="229320" cy="106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4" name="_s6151"/>
            <p:cNvCxnSpPr>
              <a:stCxn id="455" idx="0"/>
              <a:endCxn id="449" idx="2"/>
            </p:cNvCxnSpPr>
            <p:nvPr/>
          </p:nvCxnSpPr>
          <p:spPr>
            <a:xfrm flipH="1" flipV="1" rot="5400000">
              <a:off x="2825640" y="2338920"/>
              <a:ext cx="229320" cy="3192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9" name="_s6152"/>
            <p:cNvSpPr/>
            <p:nvPr/>
          </p:nvSpPr>
          <p:spPr>
            <a:xfrm>
              <a:off x="3426480" y="3363840"/>
              <a:ext cx="22186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ровой 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6153"/>
            <p:cNvSpPr/>
            <p:nvPr/>
          </p:nvSpPr>
          <p:spPr>
            <a:xfrm>
              <a:off x="4316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6154"/>
            <p:cNvSpPr/>
            <p:nvPr/>
          </p:nvSpPr>
          <p:spPr>
            <a:xfrm>
              <a:off x="255996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пита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6155"/>
            <p:cNvSpPr/>
            <p:nvPr/>
          </p:nvSpPr>
          <p:spPr>
            <a:xfrm>
              <a:off x="68162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6"/>
            <p:cNvSpPr/>
            <p:nvPr/>
          </p:nvSpPr>
          <p:spPr>
            <a:xfrm>
              <a:off x="4688280" y="4049640"/>
              <a:ext cx="182340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AutoShape 18"/>
          <p:cNvSpPr/>
          <p:nvPr/>
        </p:nvSpPr>
        <p:spPr>
          <a:xfrm>
            <a:off x="6443640" y="5589720"/>
            <a:ext cx="2700360" cy="976320"/>
          </a:xfrm>
          <a:prstGeom prst="downArrow">
            <a:avLst>
              <a:gd name="adj1" fmla="val 53611"/>
              <a:gd name="adj2" fmla="val 4504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ночная экономика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250920" y="1844640"/>
            <a:ext cx="374472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но-администр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4932360" y="1844640"/>
            <a:ext cx="374508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7"/>
          <p:cNvCxnSpPr>
            <a:stCxn id="458" idx="0"/>
            <a:endCxn id="459" idx="0"/>
          </p:cNvCxnSpPr>
          <p:nvPr/>
        </p:nvCxnSpPr>
        <p:spPr>
          <a:xfrm>
            <a:off x="3995640" y="2349000"/>
            <a:ext cx="937440" cy="1080"/>
          </a:xfrm>
          <a:prstGeom prst="straightConnector1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Text Box 8"/>
          <p:cNvSpPr/>
          <p:nvPr/>
        </p:nvSpPr>
        <p:spPr>
          <a:xfrm>
            <a:off x="3997080" y="198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ч. 1990-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24000" y="3213000"/>
            <a:ext cx="8135640" cy="647640"/>
          </a:xfrm>
          <a:prstGeom prst="rightArrowCallout">
            <a:avLst>
              <a:gd name="adj1" fmla="val 31864"/>
              <a:gd name="adj2" fmla="val 25000"/>
              <a:gd name="adj3" fmla="val -100658"/>
              <a:gd name="adj4" fmla="val 8300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а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ча государствен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ную соб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755640" y="4508640"/>
            <a:ext cx="6769080" cy="180000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я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образие форм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ная, государственная, муниципальна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ствия экономической ре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коммерческих банков, товарных бирж, рынка ценных бума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частного сектор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дефицита потребительски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дееспособности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покупательского спроса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редоточение экономической власти в руках 4-5% росси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модернизации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поляризация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340000" y="1413000"/>
            <a:ext cx="4319640" cy="104292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ческие рес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и умственные у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24000" y="2637000"/>
            <a:ext cx="3421080" cy="792000"/>
          </a:xfrm>
          <a:prstGeom prst="rec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843280" y="3284640"/>
            <a:ext cx="3313080" cy="1130040"/>
          </a:xfrm>
          <a:prstGeom prst="diamond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нсив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6084720" y="2565360"/>
            <a:ext cx="2664000" cy="1150920"/>
          </a:xfrm>
          <a:prstGeom prst="flowChartMultidocumen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68360" y="4508640"/>
            <a:ext cx="1942920" cy="1512720"/>
          </a:xfrm>
          <a:prstGeom prst="wedgeRectCallout">
            <a:avLst>
              <a:gd name="adj1" fmla="val 83"/>
              <a:gd name="adj2" fmla="val -119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роизведенных за единицу времени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635280" y="4941720"/>
            <a:ext cx="2232000" cy="1513080"/>
          </a:xfrm>
          <a:prstGeom prst="wedgeRectCallout">
            <a:avLst>
              <a:gd name="adj1" fmla="val 5759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расхода умственной и физической энергии в единиц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6659640" y="4508640"/>
            <a:ext cx="2160360" cy="936360"/>
          </a:xfrm>
          <a:prstGeom prst="wedgeRectCallout">
            <a:avLst>
              <a:gd name="adj1" fmla="val -47796"/>
              <a:gd name="adj2" fmla="val -13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, выплачиваемая з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 первой формой международных связей б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ые соглашения и договоры между стра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национальные корпо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24000" y="3716280"/>
            <a:ext cx="3456000" cy="216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я, станки,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спользую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ие ряда ле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547640" y="1341360"/>
            <a:ext cx="5616720" cy="1440000"/>
          </a:xfrm>
          <a:custGeom>
            <a:avLst/>
            <a:gdLst>
              <a:gd name="textAreaLeft" fmla="*/ 1404000 w 5616720"/>
              <a:gd name="textAreaRight" fmla="*/ 4212720 w 561672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ш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, зд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4067280" y="3645000"/>
            <a:ext cx="4787640" cy="21603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ны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ье, матери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ресурс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уются за один цик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346560" y="278136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ы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17"/>
          <p:cNvCxnSpPr>
            <a:stCxn id="111" idx="1"/>
            <a:endCxn id="107" idx="0"/>
          </p:cNvCxnSpPr>
          <p:nvPr/>
        </p:nvCxnSpPr>
        <p:spPr>
          <a:xfrm flipV="1" rot="10800000">
            <a:off x="2052000" y="2979360"/>
            <a:ext cx="1296000" cy="73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19"/>
          <p:cNvCxnSpPr>
            <a:stCxn id="111" idx="3"/>
            <a:endCxn id="110" idx="0"/>
          </p:cNvCxnSpPr>
          <p:nvPr/>
        </p:nvCxnSpPr>
        <p:spPr>
          <a:xfrm>
            <a:off x="5466960" y="2979720"/>
            <a:ext cx="994680" cy="66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20"/>
          <p:cNvSpPr/>
          <p:nvPr/>
        </p:nvSpPr>
        <p:spPr>
          <a:xfrm>
            <a:off x="2050920" y="6058080"/>
            <a:ext cx="5185080" cy="466560"/>
          </a:xfrm>
          <a:custGeom>
            <a:avLst/>
            <a:gdLst>
              <a:gd name="textAreaLeft" fmla="*/ 70560 w 5185080"/>
              <a:gd name="textAreaRight" fmla="*/ 5114520 w 5185080"/>
              <a:gd name="textAreaTop" fmla="*/ 70560 h 466560"/>
              <a:gd name="textAreaBottom" fmla="*/ 396000 h 466560"/>
            </a:gdLst>
            <a:ahLst/>
            <a:rect l="textAreaLeft" t="textAreaTop" r="textAreaRight" b="textAreaBottom"/>
            <a:pathLst>
              <a:path w="239882" h="21600">
                <a:moveTo>
                  <a:pt x="4629" y="0"/>
                </a:moveTo>
                <a:arcTo wR="4629" hR="4629" stAng="0" swAng="5400000"/>
                <a:lnTo>
                  <a:pt x="0" y="16971"/>
                </a:lnTo>
                <a:arcTo wR="4629" hR="4629" stAng="16200000" swAng="5400000"/>
                <a:lnTo>
                  <a:pt x="235253" y="21600"/>
                </a:lnTo>
                <a:arcTo wR="4629" hR="4629" stAng="10800000" swAng="5400000"/>
                <a:lnTo>
                  <a:pt x="239882" y="4629"/>
                </a:lnTo>
                <a:arcTo wR="4629" hR="4629" stAng="5400000" swAng="5400000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ата за использование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38:09Z</dcterms:created>
  <dc:creator>Сергей</dc:creator>
  <dc:description/>
  <dc:language>en-US</dc:language>
  <cp:lastModifiedBy>1</cp:lastModifiedBy>
  <dcterms:modified xsi:type="dcterms:W3CDTF">2008-04-09T05:21:05Z</dcterms:modified>
  <cp:revision>43</cp:revision>
  <dc:subject/>
  <dc:title>ЭКОНОМИКА</dc:title>
</cp:coreProperties>
</file>