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0CC9-D401-49DD-9966-ED1D39681C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7e3c2a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E24D-E306-4817-A3D6-8E0E57585A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EE2D-3980-494F-9013-6A0AF908D1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1D7C-1580-4CBA-B898-AF44310E9E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5778-1ED7-4A13-92E3-6872EC084E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7588-DEBE-48BD-BDA3-75EDD178F1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BF68-AD23-47CF-964A-557F0714A9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2AEA-9BCE-4513-BB8A-C2481B9D5B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949E-ACDC-4997-BF71-CA0AB918A7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AB15-CE7C-4498-8C90-3B725B2E9A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92B0-D8D5-4840-B720-90A32C1CC9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9C2F-4541-421D-9112-441AB378D8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C771-F67E-4F1E-9CE2-4D38F654EF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47F2-AF07-4272-98EA-D18DD3DF31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C4F9-EEBB-4C16-A39E-125BEE70DA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F2A8-5493-4E36-9FFA-A0058631F4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727C-D773-4F89-8671-835D87A949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EFEF-44A7-4865-B11C-D03AE2ADC4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A688-9AE3-4650-BF15-C0FFF393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2AA1-B5C5-4118-AE31-EB45312F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1F9B-4296-4D66-9E05-1D3C4955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CEEC-D75B-42A0-9649-994FE3B7B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A3C4-2850-4DB0-8D51-055261EB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0ADE-5DF6-4C75-86BD-CBE0C632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740A-250D-4F93-8432-1C40A155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0BD1-CFE9-493E-8AE2-60EDDA40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E9ED-58D5-488C-B8E5-6E4F55A6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A303-3A51-4CAD-ACC6-6FA6D6A2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3D92-2C70-4291-897A-C75FD163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DA6F-1FC1-4B1F-B147-623691F4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100000">
              <a:srgbClr val="2f2f1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4FA6-EE66-4C9E-888A-4CD90D227F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7e3c2a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" Target=""/><Relationship Id="rId4" Type="http://schemas.openxmlformats.org/officeDocument/2006/relationships/slide" Target="slide21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92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L014_p04_d03_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edd"/>
            </a:solidFill>
            <a:miter/>
          </a:ln>
        </p:spPr>
      </p:pic>
      <p:sp>
        <p:nvSpPr>
          <p:cNvPr id="49" name="Text Box 3"/>
          <p:cNvSpPr/>
          <p:nvPr/>
        </p:nvSpPr>
        <p:spPr>
          <a:xfrm>
            <a:off x="1187280" y="476280"/>
            <a:ext cx="7129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6dfce"/>
                </a:solidFill>
                <a:latin typeface="Monotype Corsiva"/>
              </a:rPr>
              <a:t>Варны и касты  в Древней</a:t>
            </a:r>
            <a:r>
              <a:rPr b="1" i="1" lang="ru-RU" sz="7200" spc="-1" strike="noStrike">
                <a:solidFill>
                  <a:srgbClr val="c7e0a8"/>
                </a:solidFill>
                <a:latin typeface="Monotype Corsiva"/>
              </a:rPr>
              <a:t> </a:t>
            </a:r>
            <a:r>
              <a:rPr b="1" i="1" lang="ru-RU" sz="7200" spc="-1" strike="noStrike">
                <a:solidFill>
                  <a:srgbClr val="f6dfce"/>
                </a:solidFill>
                <a:latin typeface="Monotype Corsiva"/>
              </a:rPr>
              <a:t>Индии</a:t>
            </a:r>
            <a:endParaRPr b="1" i="1" lang="en-US" sz="72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50" name="AutoShape 4">
            <a:hlinkClick r:id="" action="ppaction://hlinkshowjump?jump=nextslide"/>
          </p:cNvPr>
          <p:cNvSpPr/>
          <p:nvPr/>
        </p:nvSpPr>
        <p:spPr>
          <a:xfrm>
            <a:off x="8101080" y="6237360"/>
            <a:ext cx="863640" cy="43164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fffedd"/>
          </a:solidFill>
          <a:ln w="9360">
            <a:solidFill>
              <a:srgbClr val="91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780000" y="3860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92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99"/>
                </a:solidFill>
                <a:latin typeface="Times New Roman"/>
              </a:rPr>
              <a:t>«Законы Ману».</a:t>
            </a:r>
            <a:br>
              <a:rPr sz="4000"/>
            </a:br>
            <a:r>
              <a:rPr b="1" i="1" lang="ru-RU" sz="4000" spc="-1" strike="noStrike">
                <a:solidFill>
                  <a:srgbClr val="ffff99"/>
                </a:solidFill>
                <a:latin typeface="Times New Roman"/>
              </a:rPr>
              <a:t>Кшатр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Times New Roman"/>
              </a:rPr>
              <a:t>1,89— Охрану подданных, а также дачу милостыни, жертвоприношение, изучение Вед и умеренность в наслаждениях он указал для кшатрие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Times New Roman"/>
              </a:rPr>
              <a:t>X, 118 – Кшатрий, взимающий в крайних обстоятельствах даже четвертую часть (урожая), со всей энергией охраняющий подданных, освобождается от грех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Times New Roman"/>
              </a:rPr>
              <a:t>X, 119 — Его (царя) истинный долг — победа; он пусть не обращается в бегство в опасности; защищая оружием вайшьев, пусть заставляет вносить законный налог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blipFill rotWithShape="0">
            <a:blip r:embed="rId1">
              <a:alphaModFix amt="12000"/>
            </a:blip>
            <a:srcRect/>
            <a:tile tx="0" ty="0" sx="100000" sy="100000" algn="ctr"/>
          </a:blipFill>
          <a:ln w="38160">
            <a:solidFill>
              <a:srgbClr val="c7e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28" name="AutoShape 10">
            <a:hlinkClick r:id="" action="ppaction://hlinkshowjump?jump=nextslide"/>
          </p:cNvPr>
          <p:cNvSpPr/>
          <p:nvPr/>
        </p:nvSpPr>
        <p:spPr>
          <a:xfrm>
            <a:off x="7885080" y="6165720"/>
            <a:ext cx="863640" cy="43200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8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fffedd"/>
          </a:solidFill>
          <a:ln w="9360">
            <a:solidFill>
              <a:srgbClr val="91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92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99"/>
                </a:solidFill>
                <a:latin typeface="Times New Roman"/>
              </a:rPr>
              <a:t>«Законы Ману».</a:t>
            </a:r>
            <a:br>
              <a:rPr sz="4000"/>
            </a:br>
            <a:r>
              <a:rPr b="1" i="1" lang="ru-RU" sz="4000" spc="-1" strike="noStrike">
                <a:solidFill>
                  <a:srgbClr val="ffff99"/>
                </a:solidFill>
                <a:latin typeface="Times New Roman"/>
              </a:rPr>
              <a:t>Вайшь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Times New Roman"/>
              </a:rPr>
              <a:t>1,90— Пастьбу скота, а также дачу милостыни, жертвоприношение, изучение Вед, торговлю, ростовщичество и земледелие  — для вайшь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ru-RU" sz="2300" spc="-1" strike="noStrike">
                <a:solidFill>
                  <a:srgbClr val="ffffff"/>
                </a:solidFill>
                <a:latin typeface="Times New Roman"/>
              </a:rPr>
              <a:t>,98 – Вайшья, который не в состоянии существовать (исполнением) своей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дхарму </a:t>
            </a: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Times New Roman"/>
              </a:rPr>
              <a:t>(правила поведения человека соответственно его общественному положению)</a:t>
            </a:r>
            <a:r>
              <a:rPr b="1" i="1" lang="ru-RU" sz="2300" spc="-1" strike="noStrike">
                <a:solidFill>
                  <a:srgbClr val="ffffff"/>
                </a:solidFill>
                <a:latin typeface="Times New Roman"/>
              </a:rPr>
              <a:t>, может существовать по образу жизни шудры, (но) не исполняя запрещенные (ему) дела и отвращаясь (от этого) как только може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blipFill rotWithShape="0">
            <a:blip r:embed="rId1">
              <a:alphaModFix amt="12000"/>
            </a:blip>
            <a:srcRect/>
            <a:tile tx="0" ty="0" sx="100000" sy="100000" algn="ctr"/>
          </a:blipFill>
          <a:ln w="38160">
            <a:solidFill>
              <a:srgbClr val="c7e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33" name="AutoShape 10">
            <a:hlinkClick r:id="" action="ppaction://hlinkshowjump?jump=nextslide"/>
          </p:cNvPr>
          <p:cNvSpPr/>
          <p:nvPr/>
        </p:nvSpPr>
        <p:spPr>
          <a:xfrm>
            <a:off x="7885080" y="6165720"/>
            <a:ext cx="863640" cy="43200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8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fffedd"/>
          </a:solidFill>
          <a:ln w="9360">
            <a:solidFill>
              <a:srgbClr val="91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92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99"/>
                </a:solidFill>
                <a:latin typeface="Times New Roman"/>
              </a:rPr>
              <a:t>«Законы Ману».</a:t>
            </a:r>
            <a:br>
              <a:rPr sz="4000"/>
            </a:br>
            <a:r>
              <a:rPr b="1" i="1" lang="ru-RU" sz="4000" spc="-1" strike="noStrike">
                <a:solidFill>
                  <a:srgbClr val="ffff99"/>
                </a:solidFill>
                <a:latin typeface="Times New Roman"/>
              </a:rPr>
              <a:t>Шудр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Times New Roman"/>
              </a:rPr>
              <a:t>1,91— Но только одно занятие Владыка указал для шудры — обслуживание этих каст со смирением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Times New Roman"/>
              </a:rPr>
              <a:t>X, 99— Шудра, не могущий исполнять обслуживание дважды рожденных и угрожаемый гибелью сыновей и жены, пусть живет ремесленными занятиям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Times New Roman"/>
              </a:rPr>
              <a:t>X, 100 – (Ему надлежит следовать) тем занятиям ремесленников, таким различным ремеслам, исполнением которых обслуживаются дваждырожденны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Times New Roman"/>
              </a:rPr>
              <a:t>III, 13 — Для шудры предписана жена только касты шудр; для вайшьи — той и своей касты; для кшатрия — тех обеих, а также своей; для брахмана — тех [трех], а также своей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blipFill rotWithShape="0">
            <a:blip r:embed="rId1">
              <a:alphaModFix amt="12000"/>
            </a:blip>
            <a:srcRect/>
            <a:tile tx="0" ty="0" sx="100000" sy="100000" algn="ctr"/>
          </a:blipFill>
          <a:ln w="38160">
            <a:solidFill>
              <a:srgbClr val="c7e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38" name="AutoShape 10">
            <a:hlinkClick r:id="" action="ppaction://hlinkshowjump?jump=nextslide"/>
          </p:cNvPr>
          <p:cNvSpPr/>
          <p:nvPr/>
        </p:nvSpPr>
        <p:spPr>
          <a:xfrm>
            <a:off x="7885080" y="6165720"/>
            <a:ext cx="863640" cy="43200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8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fffedd"/>
          </a:solidFill>
          <a:ln w="9360">
            <a:solidFill>
              <a:srgbClr val="91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92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99"/>
                </a:solidFill>
                <a:latin typeface="Times New Roman"/>
              </a:rPr>
              <a:t>«Законы Ману».</a:t>
            </a:r>
            <a:br>
              <a:rPr sz="4000"/>
            </a:br>
            <a:r>
              <a:rPr b="1" i="1" lang="ru-RU" sz="4000" spc="-1" strike="noStrike">
                <a:solidFill>
                  <a:srgbClr val="ffff99"/>
                </a:solidFill>
                <a:latin typeface="Times New Roman"/>
              </a:rPr>
              <a:t>«Неприкасаемы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ru-RU" sz="2300" spc="-1" strike="noStrike">
                <a:solidFill>
                  <a:srgbClr val="ffffff"/>
                </a:solidFill>
                <a:latin typeface="Times New Roman"/>
              </a:rPr>
              <a:t>,51 – Местожительство чандалов и швапачей (неприкасаемых) – (должно быть) вне селения, утварь, использованная ими, должна выбрасываться (другими), имуществом их (должны быть только) собаки и ослы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ru-RU" sz="2300" spc="-1" strike="noStrike">
                <a:solidFill>
                  <a:srgbClr val="ffffff"/>
                </a:solidFill>
                <a:latin typeface="Times New Roman"/>
              </a:rPr>
              <a:t>,52 – Одеждами – одеяния мертвых, пища (должна им даваться) в разбитой посуде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ru-RU" sz="2300" spc="-1" strike="noStrike">
                <a:solidFill>
                  <a:srgbClr val="ffffff"/>
                </a:solidFill>
                <a:latin typeface="Times New Roman"/>
              </a:rPr>
              <a:t>,53 – Человеку, исполняющему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дхарму </a:t>
            </a:r>
            <a:r>
              <a:rPr b="1" i="1" lang="ru-RU" sz="2300" spc="-1" strike="noStrike" u="sng">
                <a:solidFill>
                  <a:srgbClr val="ffffff"/>
                </a:solidFill>
                <a:uFillTx/>
                <a:latin typeface="Times New Roman"/>
              </a:rPr>
              <a:t>(правила поведения человека соответственно его общественному положению),</a:t>
            </a:r>
            <a:r>
              <a:rPr b="1" i="1" lang="ru-RU" sz="2300" spc="-1" strike="noStrike">
                <a:solidFill>
                  <a:srgbClr val="ffffff"/>
                </a:solidFill>
                <a:latin typeface="Times New Roman"/>
              </a:rPr>
              <a:t> не следует общаться с ними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blipFill rotWithShape="0">
            <a:blip r:embed="rId1">
              <a:alphaModFix amt="12000"/>
            </a:blip>
            <a:srcRect/>
            <a:tile tx="0" ty="0" sx="100000" sy="100000" algn="ctr"/>
          </a:blipFill>
          <a:ln w="38160">
            <a:solidFill>
              <a:srgbClr val="c7e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43" name="AutoShape 10">
            <a:hlinkClick r:id="" action="ppaction://hlinkshowjump?jump=nextslide"/>
          </p:cNvPr>
          <p:cNvSpPr/>
          <p:nvPr/>
        </p:nvSpPr>
        <p:spPr>
          <a:xfrm>
            <a:off x="7885080" y="6165720"/>
            <a:ext cx="863640" cy="43200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8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fffedd"/>
          </a:solidFill>
          <a:ln w="9360">
            <a:solidFill>
              <a:srgbClr val="91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324000" y="260280"/>
            <a:ext cx="8640720" cy="6337440"/>
          </a:xfrm>
          <a:prstGeom prst="rect">
            <a:avLst/>
          </a:prstGeom>
          <a:blipFill rotWithShape="0">
            <a:blip r:embed="rId1">
              <a:alphaModFix amt="55000"/>
            </a:blip>
            <a:srcRect/>
            <a:stretch/>
          </a:blipFill>
          <a:ln w="38160">
            <a:solidFill>
              <a:srgbClr val="c7e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solidFill>
            <a:srgbClr val="918e00"/>
          </a:solidFill>
          <a:ln w="9360">
            <a:solidFill>
              <a:srgbClr val="fbf1e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bf1e9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bf1e9"/>
                </a:solidFill>
                <a:latin typeface="Times New Roman"/>
              </a:rPr>
              <a:t>Религия Инд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03640" y="1773000"/>
            <a:ext cx="3246480" cy="431640"/>
          </a:xfrm>
          <a:prstGeom prst="rect">
            <a:avLst/>
          </a:prstGeom>
          <a:solidFill>
            <a:srgbClr val="918e00"/>
          </a:solidFill>
          <a:ln w="9360">
            <a:solidFill>
              <a:srgbClr val="fbf1e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уддиз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5"/>
          <p:cNvPicPr/>
          <p:nvPr/>
        </p:nvPicPr>
        <p:blipFill>
          <a:blip r:embed="rId2"/>
          <a:stretch/>
        </p:blipFill>
        <p:spPr>
          <a:xfrm>
            <a:off x="3276720" y="3068640"/>
            <a:ext cx="3168360" cy="2127240"/>
          </a:xfrm>
          <a:prstGeom prst="rect">
            <a:avLst/>
          </a:prstGeom>
          <a:ln w="57240">
            <a:solidFill>
              <a:srgbClr val="fbf1e9"/>
            </a:solidFill>
            <a:miter/>
          </a:ln>
        </p:spPr>
      </p:pic>
      <p:sp>
        <p:nvSpPr>
          <p:cNvPr id="148" name="Rectangle 6">
            <a:hlinkClick r:id="rId3" action="ppaction://hlinksldjump"/>
          </p:cNvPr>
          <p:cNvSpPr/>
          <p:nvPr/>
        </p:nvSpPr>
        <p:spPr>
          <a:xfrm>
            <a:off x="3276720" y="5300640"/>
            <a:ext cx="302400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Ступ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1" i="1" lang="en-US" sz="1800" spc="-1" strike="noStrike">
              <a:solidFill>
                <a:srgbClr val="7e3c2a"/>
              </a:solidFill>
              <a:latin typeface="Monotype Corsiv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 хранения реликвий Будды </a:t>
            </a:r>
            <a:endParaRPr b="1" i="1" lang="en-US" sz="1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348000" y="2421000"/>
            <a:ext cx="29289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 – V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ка до н. э.</a:t>
            </a:r>
            <a:endParaRPr b="1" i="1" lang="en-US" sz="24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50" name="AutoShape 8">
            <a:hlinkClick r:id="" action="ppaction://hlinkshowjump?jump=nextslide"/>
          </p:cNvPr>
          <p:cNvSpPr/>
          <p:nvPr/>
        </p:nvSpPr>
        <p:spPr>
          <a:xfrm>
            <a:off x="7885080" y="6165720"/>
            <a:ext cx="863640" cy="43200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8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fffedd"/>
          </a:solidFill>
          <a:ln w="9360">
            <a:solidFill>
              <a:srgbClr val="91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>
            <a:lum bright="70000" contrast="-70000"/>
          </a:blip>
          <a:srcRect l="13202" t="0" r="0" b="23322"/>
          <a:stretch/>
        </p:blipFill>
        <p:spPr>
          <a:xfrm>
            <a:off x="326880" y="333360"/>
            <a:ext cx="8493120" cy="6264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11280" y="333000"/>
            <a:ext cx="40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удд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11640" y="1268280"/>
            <a:ext cx="42480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 – V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а до нашей э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120"/>
          <p:cNvPicPr/>
          <p:nvPr/>
        </p:nvPicPr>
        <p:blipFill>
          <a:blip r:embed="rId2"/>
          <a:stretch/>
        </p:blipFill>
        <p:spPr>
          <a:xfrm>
            <a:off x="684360" y="549360"/>
            <a:ext cx="3359160" cy="4465440"/>
          </a:xfrm>
          <a:prstGeom prst="rect">
            <a:avLst/>
          </a:prstGeom>
          <a:ln w="57240">
            <a:solidFill>
              <a:srgbClr val="95442b"/>
            </a:solidFill>
            <a:miter/>
          </a:ln>
        </p:spPr>
      </p:pic>
      <p:sp>
        <p:nvSpPr>
          <p:cNvPr id="156" name="Rectangle 6"/>
          <p:cNvSpPr/>
          <p:nvPr/>
        </p:nvSpPr>
        <p:spPr>
          <a:xfrm>
            <a:off x="4427640" y="1773360"/>
            <a:ext cx="4176720" cy="3969360"/>
          </a:xfrm>
          <a:prstGeom prst="rect">
            <a:avLst/>
          </a:prstGeom>
          <a:solidFill>
            <a:srgbClr val="f1f8f9"/>
          </a:solidFill>
          <a:ln w="9360">
            <a:solidFill>
              <a:srgbClr val="9544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атель религии - </a:t>
            </a:r>
            <a:endParaRPr b="1" i="1" lang="en-US" sz="2400" spc="-1" strike="noStrike">
              <a:solidFill>
                <a:srgbClr val="7e3c2a"/>
              </a:solidFill>
              <a:latin typeface="Monotype Corsiv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дда - принц Гаутама, </a:t>
            </a:r>
            <a:endParaRPr b="1" i="1" lang="en-US" sz="2400" spc="-1" strike="noStrike">
              <a:solidFill>
                <a:srgbClr val="7e3c2a"/>
              </a:solidFill>
              <a:latin typeface="Monotype Corsiv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л в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. до н.э.</a:t>
            </a:r>
            <a:endParaRPr b="1" i="1" lang="en-US" sz="2400" spc="-1" strike="noStrike">
              <a:solidFill>
                <a:srgbClr val="7e3c2a"/>
              </a:solidFill>
              <a:latin typeface="Monotype Corsiv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кинул дом и семью, чтобы постичь суть жизни и найти путь к преодолению человеческих страданий.</a:t>
            </a:r>
            <a:endParaRPr b="1" i="1" lang="en-US" sz="2400" spc="-1" strike="noStrike">
              <a:solidFill>
                <a:srgbClr val="7e3c2a"/>
              </a:solidFill>
              <a:latin typeface="Monotype Corsiv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л свое учение</a:t>
            </a:r>
            <a:endParaRPr b="1" i="1" lang="en-US" sz="2400" spc="-1" strike="noStrike">
              <a:solidFill>
                <a:srgbClr val="7e3c2a"/>
              </a:solidFill>
              <a:latin typeface="Monotype Corsiv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971640" y="5229360"/>
            <a:ext cx="2160360" cy="368280"/>
          </a:xfrm>
          <a:prstGeom prst="rect">
            <a:avLst/>
          </a:prstGeom>
          <a:solidFill>
            <a:srgbClr val="f1f8f9"/>
          </a:solidFill>
          <a:ln w="9360">
            <a:solidFill>
              <a:srgbClr val="9544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дда</a:t>
            </a:r>
            <a:endParaRPr b="1" i="1" lang="en-US" sz="1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58" name="AutoShape 8">
            <a:hlinkClick r:id="" action="ppaction://hlinkshowjump?jump=nextslide"/>
          </p:cNvPr>
          <p:cNvSpPr/>
          <p:nvPr/>
        </p:nvSpPr>
        <p:spPr>
          <a:xfrm>
            <a:off x="8028000" y="6237360"/>
            <a:ext cx="863640" cy="43164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fffedd"/>
          </a:solidFill>
          <a:ln w="9360">
            <a:solidFill>
              <a:srgbClr val="91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79280" y="333360"/>
            <a:ext cx="8785440" cy="6335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f6d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3059280" y="907920"/>
            <a:ext cx="5832360" cy="5113440"/>
          </a:xfrm>
          <a:prstGeom prst="rect">
            <a:avLst/>
          </a:prstGeom>
          <a:solidFill>
            <a:srgbClr val="975e3b">
              <a:alpha val="99000"/>
            </a:srgbClr>
          </a:solidFill>
          <a:ln w="76320">
            <a:solidFill>
              <a:srgbClr val="f6d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361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делайте зла, творите добро, </a:t>
            </a:r>
            <a:endParaRPr b="1" i="1" lang="en-US" sz="2400" spc="-1" strike="noStrike">
              <a:solidFill>
                <a:srgbClr val="7e3c2a"/>
              </a:solidFill>
              <a:latin typeface="Monotype Corsiva"/>
            </a:endParaRPr>
          </a:p>
          <a:p>
            <a:pPr marL="181080" indent="361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ищайте ум от дурных мыслей. </a:t>
            </a:r>
            <a:endParaRPr b="1" i="1" lang="en-US" sz="2400" spc="-1" strike="noStrike">
              <a:solidFill>
                <a:srgbClr val="7e3c2a"/>
              </a:solidFill>
              <a:latin typeface="Monotype Corsiva"/>
            </a:endParaRPr>
          </a:p>
          <a:p>
            <a:pPr marL="181080" indent="361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7e3c2a"/>
              </a:solidFill>
              <a:latin typeface="Monotype Corsiva"/>
            </a:endParaRPr>
          </a:p>
          <a:p>
            <a:pPr marL="181080" indent="361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то сам не делает зла, тот не подвержен злу </a:t>
            </a:r>
            <a:endParaRPr b="1" i="1" lang="en-US" sz="2400" spc="-1" strike="noStrike">
              <a:solidFill>
                <a:srgbClr val="7e3c2a"/>
              </a:solidFill>
              <a:latin typeface="Monotype Corsiva"/>
            </a:endParaRPr>
          </a:p>
          <a:p>
            <a:pPr marL="181080" indent="361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7e3c2a"/>
              </a:solidFill>
              <a:latin typeface="Monotype Corsiva"/>
            </a:endParaRPr>
          </a:p>
          <a:p>
            <a:pPr marL="181080" indent="361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ая великая победа – над собой</a:t>
            </a:r>
            <a:endParaRPr b="1" i="1" lang="en-US" sz="2400" spc="-1" strike="noStrike">
              <a:solidFill>
                <a:srgbClr val="7e3c2a"/>
              </a:solidFill>
              <a:latin typeface="Monotype Corsiva"/>
            </a:endParaRPr>
          </a:p>
          <a:p>
            <a:pPr marL="181080" indent="361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7e3c2a"/>
              </a:solidFill>
              <a:latin typeface="Monotype Corsiva"/>
            </a:endParaRPr>
          </a:p>
          <a:p>
            <a:pPr marL="181080" indent="361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нев побеждается  отсутствием гнева , недоброе – добрым, скупость  - щедростью, ложь  –  правдой</a:t>
            </a:r>
            <a:endParaRPr b="1" i="1" lang="en-US" sz="24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d1a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987640" y="333360"/>
            <a:ext cx="3816360" cy="360360"/>
          </a:xfrm>
          <a:prstGeom prst="rect">
            <a:avLst/>
          </a:prstGeom>
          <a:gradFill rotWithShape="0">
            <a:gsLst>
              <a:gs pos="0">
                <a:srgbClr val="451f14"/>
              </a:gs>
              <a:gs pos="50000">
                <a:srgbClr val="95442b"/>
              </a:gs>
              <a:gs pos="100000">
                <a:srgbClr val="451f14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bf1e9"/>
                </a:solidFill>
                <a:latin typeface="Times New Roman"/>
              </a:rPr>
              <a:t>ИЗРЕЧЕНИЯ БУДДЫ</a:t>
            </a:r>
            <a:endParaRPr b="1" i="1" lang="en-US" sz="24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64" name="AutoShape 6">
            <a:hlinkClick r:id="" action="ppaction://hlinkshowjump?jump=nextslide"/>
          </p:cNvPr>
          <p:cNvSpPr/>
          <p:nvPr/>
        </p:nvSpPr>
        <p:spPr>
          <a:xfrm>
            <a:off x="8101080" y="6165720"/>
            <a:ext cx="863640" cy="43200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8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fffedd"/>
          </a:solidFill>
          <a:ln w="9360">
            <a:solidFill>
              <a:srgbClr val="f6d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258920" y="5589720"/>
            <a:ext cx="936720" cy="313200"/>
          </a:xfrm>
          <a:prstGeom prst="rect">
            <a:avLst/>
          </a:prstGeom>
          <a:solidFill>
            <a:srgbClr val="f6d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удда</a:t>
            </a:r>
            <a:endParaRPr b="1" i="1" lang="en-US" sz="1800" spc="-1" strike="noStrike">
              <a:solidFill>
                <a:srgbClr val="7e3c2a"/>
              </a:solidFill>
              <a:latin typeface="Monotype Corsiva"/>
            </a:endParaRPr>
          </a:p>
        </p:txBody>
      </p:sp>
      <p:pic>
        <p:nvPicPr>
          <p:cNvPr id="166" name="Picture 8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249732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92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8e8a6"/>
                </a:solidFill>
                <a:latin typeface="Antique Olive Compact"/>
              </a:rPr>
              <a:t>Решите кроссв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635280" y="1413000"/>
            <a:ext cx="518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100" spc="-1" strike="noStrike">
                <a:solidFill>
                  <a:srgbClr val="f9ecb5"/>
                </a:solidFill>
                <a:latin typeface="Times New Roman"/>
              </a:rPr>
              <a:t>На них лежала обязанность возделывать поля, работать в мастерских, а также торговать.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100" spc="-1" strike="noStrike">
                <a:solidFill>
                  <a:srgbClr val="f9ecb5"/>
                </a:solidFill>
                <a:latin typeface="Times New Roman"/>
              </a:rPr>
              <a:t>Представители второй варны, которые с детства обучались владеть оружием, управляться с конем и колеснице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100" spc="-1" strike="noStrike">
                <a:solidFill>
                  <a:srgbClr val="f9ecb5"/>
                </a:solidFill>
                <a:latin typeface="Times New Roman"/>
              </a:rPr>
              <a:t>Представители четвертой варны, которые служили высшим варнам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100" spc="-1" strike="noStrike">
                <a:solidFill>
                  <a:srgbClr val="f9ecb5"/>
                </a:solidFill>
                <a:latin typeface="Times New Roman"/>
              </a:rPr>
              <a:t>Представители самой высшей варны, которые выполняли обязанности жрецов и совершали многочисленные обряд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100" spc="-1" strike="noStrike">
                <a:solidFill>
                  <a:srgbClr val="f9ecb5"/>
                </a:solidFill>
                <a:latin typeface="Times New Roman"/>
              </a:rPr>
              <a:t>Основатель буддизма в Древней Индии.</a:t>
            </a:r>
            <a:r>
              <a:rPr b="1" i="1" lang="ru-RU" sz="2100" spc="-1" strike="noStrike">
                <a:solidFill>
                  <a:srgbClr val="f4da6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55640" y="1413000"/>
          <a:ext cx="2232000" cy="4006800"/>
        </p:xfrm>
        <a:graphic>
          <a:graphicData uri="http://schemas.openxmlformats.org/drawingml/2006/table">
            <a:tbl>
              <a:tblPr/>
              <a:tblGrid>
                <a:gridCol w="446040"/>
                <a:gridCol w="446040"/>
                <a:gridCol w="447840"/>
                <a:gridCol w="446040"/>
                <a:gridCol w="446040"/>
              </a:tblGrid>
              <a:tr h="36828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i="1" lang="en-US" sz="1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i="1" lang="en-US" sz="1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i="1" lang="en-US" sz="1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i="1" lang="en-US" sz="1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i="1" lang="en-US" sz="1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0" name="Rectangle 72"/>
          <p:cNvSpPr/>
          <p:nvPr/>
        </p:nvSpPr>
        <p:spPr>
          <a:xfrm>
            <a:off x="250920" y="6093000"/>
            <a:ext cx="381636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ЮЧЕВОЕ СЛОВО</a:t>
            </a:r>
            <a:endParaRPr b="1" i="1" lang="en-US" sz="24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71" name="Rectangle 7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72" name="Rectangle 76"/>
          <p:cNvSpPr/>
          <p:nvPr/>
        </p:nvSpPr>
        <p:spPr>
          <a:xfrm>
            <a:off x="250920" y="333360"/>
            <a:ext cx="8640720" cy="6337440"/>
          </a:xfrm>
          <a:prstGeom prst="rect">
            <a:avLst/>
          </a:prstGeom>
          <a:blipFill rotWithShape="0">
            <a:blip r:embed="rId1">
              <a:alphaModFix amt="12000"/>
            </a:blip>
            <a:srcRect/>
            <a:tile tx="0" ty="0" sx="100000" sy="100000" algn="ctr"/>
          </a:blipFill>
          <a:ln w="38160">
            <a:solidFill>
              <a:srgbClr val="c7e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73" name="AutoShape 77">
            <a:hlinkClick r:id="" action="ppaction://hlinkshowjump?jump=nextslide"/>
          </p:cNvPr>
          <p:cNvSpPr/>
          <p:nvPr/>
        </p:nvSpPr>
        <p:spPr>
          <a:xfrm>
            <a:off x="7885080" y="6165720"/>
            <a:ext cx="863640" cy="43200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8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fffedd"/>
          </a:solidFill>
          <a:ln w="9360">
            <a:solidFill>
              <a:srgbClr val="91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4692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124000" y="549360"/>
          <a:ext cx="4402080" cy="4576680"/>
        </p:xfrm>
        <a:graphic>
          <a:graphicData uri="http://schemas.openxmlformats.org/drawingml/2006/table">
            <a:tbl>
              <a:tblPr/>
              <a:tblGrid>
                <a:gridCol w="879480"/>
                <a:gridCol w="879480"/>
                <a:gridCol w="884160"/>
                <a:gridCol w="879480"/>
                <a:gridCol w="879480"/>
              </a:tblGrid>
              <a:tr h="402840">
                <a:tc rowSpan="6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   Б</a:t>
                      </a:r>
                      <a:endParaRPr b="1" i="1" lang="en-US" sz="1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1" i="1" lang="en-US" sz="1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i="1" lang="en-US" sz="1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  Б</a:t>
                      </a:r>
                      <a:endParaRPr b="1" i="1" lang="en-US" sz="1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0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Ш</a:t>
                      </a:r>
                      <a:endParaRPr b="1" i="1" lang="en-US" sz="1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1" i="1" lang="en-US" sz="1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1" i="1" lang="en-US" sz="1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0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  К</a:t>
                      </a:r>
                      <a:endParaRPr b="1" i="1" lang="en-US" sz="1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1" i="1" lang="en-US" sz="1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1" i="1" lang="en-US" sz="1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1" i="1" lang="en-US" sz="1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</a:t>
                      </a:r>
                      <a:endParaRPr b="1" i="1" lang="en-US" sz="1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1" i="1" lang="en-US" sz="1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i="1" lang="en-US" sz="1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1" i="1" lang="en-US" sz="1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В</a:t>
                      </a:r>
                      <a:endParaRPr b="1" i="1" lang="en-US" sz="1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i="1" lang="en-US" sz="1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1" i="1" lang="en-US" sz="1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1" i="1" lang="en-US" sz="1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i="1" lang="en-US" sz="1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i="1" lang="en-US" sz="1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1" i="1" lang="en-US" sz="1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</a:t>
                      </a:r>
                      <a:endParaRPr b="1" i="1" lang="en-US" sz="1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</a:t>
                      </a:r>
                      <a:endParaRPr b="1" i="1" lang="en-US" sz="1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Й</a:t>
                      </a:r>
                      <a:endParaRPr b="1" i="1" lang="en-US" sz="1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1" i="1" lang="en-US" sz="1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</a:t>
                      </a:r>
                      <a:endParaRPr b="1" i="1" lang="en-US" sz="1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i="1" lang="en-US" sz="1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1" i="1" lang="en-US" sz="1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i="1" lang="en-US" sz="1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i="1" lang="en-US" sz="1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Rectangle 71"/>
          <p:cNvSpPr/>
          <p:nvPr/>
        </p:nvSpPr>
        <p:spPr>
          <a:xfrm>
            <a:off x="5508720" y="5300640"/>
            <a:ext cx="194472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1" i="1" lang="en-US" sz="24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77" name="Rectangle 72"/>
          <p:cNvSpPr/>
          <p:nvPr/>
        </p:nvSpPr>
        <p:spPr>
          <a:xfrm>
            <a:off x="250920" y="333360"/>
            <a:ext cx="8640720" cy="6337440"/>
          </a:xfrm>
          <a:prstGeom prst="rect">
            <a:avLst/>
          </a:prstGeom>
          <a:blipFill rotWithShape="0">
            <a:blip r:embed="rId1">
              <a:alphaModFix amt="19000"/>
            </a:blip>
            <a:srcRect/>
            <a:tile tx="0" ty="0" sx="100000" sy="100000" algn="ctr"/>
          </a:blipFill>
          <a:ln w="38160">
            <a:solidFill>
              <a:srgbClr val="c7e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bc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900000" y="333360"/>
            <a:ext cx="77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Times New Roman"/>
              </a:rPr>
              <a:t>План урока «Варны и касты в Древней Индии»</a:t>
            </a:r>
            <a:endParaRPr b="1" i="1" lang="en-US" sz="36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684360" y="1700280"/>
            <a:ext cx="5832360" cy="51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Понятие «Варны». Особенности деления древнеиндийского общества на Варны.</a:t>
            </a:r>
            <a:endParaRPr b="1" i="1" lang="en-US" sz="3200" spc="-1" strike="noStrike">
              <a:solidFill>
                <a:srgbClr val="7e3c2a"/>
              </a:solidFill>
              <a:latin typeface="Monotype Corsiva"/>
            </a:endParaRPr>
          </a:p>
          <a:p>
            <a:pPr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7e3c2a"/>
              </a:solidFill>
              <a:latin typeface="Monotype Corsiva"/>
            </a:endParaRPr>
          </a:p>
          <a:p>
            <a:pPr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Характеристика Варн.</a:t>
            </a:r>
            <a:endParaRPr b="1" i="1" lang="en-US" sz="3200" spc="-1" strike="noStrike">
              <a:solidFill>
                <a:srgbClr val="7e3c2a"/>
              </a:solidFill>
              <a:latin typeface="Monotype Corsiva"/>
            </a:endParaRPr>
          </a:p>
          <a:p>
            <a:pPr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7e3c2a"/>
              </a:solidFill>
              <a:latin typeface="Monotype Corsiva"/>
            </a:endParaRPr>
          </a:p>
          <a:p>
            <a:pPr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Религия  Древней Индии. Легенда о Будде.</a:t>
            </a:r>
            <a:endParaRPr b="1" i="1" lang="en-US" sz="3200" spc="-1" strike="noStrike">
              <a:solidFill>
                <a:srgbClr val="7e3c2a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39640" y="28526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57" name="AutoShape 26">
            <a:hlinkClick r:id="" action="ppaction://hlinkshowjump?jump=nextslide"/>
          </p:cNvPr>
          <p:cNvSpPr/>
          <p:nvPr/>
        </p:nvSpPr>
        <p:spPr>
          <a:xfrm>
            <a:off x="8101080" y="6237360"/>
            <a:ext cx="863640" cy="43164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fffedd"/>
          </a:solidFill>
          <a:ln w="9360">
            <a:solidFill>
              <a:srgbClr val="91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58" name="Rectangle 25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blipFill rotWithShape="0">
            <a:blip r:embed="rId1">
              <a:alphaModFix amt="15000"/>
            </a:blip>
            <a:srcRect/>
            <a:stretch/>
          </a:blipFill>
          <a:ln w="38160">
            <a:solidFill>
              <a:srgbClr val="c7e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7e3c2a"/>
              </a:solidFill>
              <a:latin typeface="Monotype Corsiv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7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99"/>
                </a:solidFill>
                <a:latin typeface="Monotype Corsiva"/>
              </a:rPr>
              <a:t>Структура древнеиндийского общест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Organization Chart 3"/>
          <p:cNvGrpSpPr/>
          <p:nvPr/>
        </p:nvGrpSpPr>
        <p:grpSpPr>
          <a:xfrm>
            <a:off x="468360" y="1490760"/>
            <a:ext cx="8229240" cy="4524840"/>
            <a:chOff x="468360" y="1490760"/>
            <a:chExt cx="8229240" cy="4524840"/>
          </a:xfrm>
        </p:grpSpPr>
        <p:cxnSp>
          <p:nvCxnSpPr>
            <p:cNvPr id="61" name="_s1028"/>
            <p:cNvCxnSpPr>
              <a:stCxn id="62" idx="0"/>
              <a:endCxn id="63" idx="2"/>
            </p:cNvCxnSpPr>
            <p:nvPr/>
          </p:nvCxnSpPr>
          <p:spPr>
            <a:xfrm flipV="1" rot="16200000">
              <a:off x="7704000" y="4339440"/>
              <a:ext cx="566280" cy="523440"/>
            </a:xfrm>
            <a:prstGeom prst="bentConnector3">
              <a:avLst>
                <a:gd name="adj1" fmla="val 243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029"/>
            <p:cNvCxnSpPr>
              <a:stCxn id="65" idx="0"/>
              <a:endCxn id="66" idx="2"/>
            </p:cNvCxnSpPr>
            <p:nvPr/>
          </p:nvCxnSpPr>
          <p:spPr>
            <a:xfrm flipV="1" rot="16200000">
              <a:off x="5609520" y="4339440"/>
              <a:ext cx="566280" cy="523440"/>
            </a:xfrm>
            <a:prstGeom prst="bentConnector3">
              <a:avLst>
                <a:gd name="adj1" fmla="val 243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030"/>
            <p:cNvCxnSpPr>
              <a:stCxn id="68" idx="0"/>
              <a:endCxn id="69" idx="2"/>
            </p:cNvCxnSpPr>
            <p:nvPr/>
          </p:nvCxnSpPr>
          <p:spPr>
            <a:xfrm flipV="1" rot="16200000">
              <a:off x="3515400" y="4339080"/>
              <a:ext cx="566280" cy="524160"/>
            </a:xfrm>
            <a:prstGeom prst="bentConnector3">
              <a:avLst>
                <a:gd name="adj1" fmla="val 243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31"/>
            <p:cNvCxnSpPr>
              <a:stCxn id="71" idx="0"/>
              <a:endCxn id="72" idx="2"/>
            </p:cNvCxnSpPr>
            <p:nvPr/>
          </p:nvCxnSpPr>
          <p:spPr>
            <a:xfrm flipV="1" rot="16200000">
              <a:off x="1420560" y="4339080"/>
              <a:ext cx="566280" cy="524160"/>
            </a:xfrm>
            <a:prstGeom prst="bentConnector3">
              <a:avLst>
                <a:gd name="adj1" fmla="val 243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1032"/>
            <p:cNvCxnSpPr>
              <a:stCxn id="74" idx="0"/>
              <a:endCxn id="63" idx="2"/>
            </p:cNvCxnSpPr>
            <p:nvPr/>
          </p:nvCxnSpPr>
          <p:spPr>
            <a:xfrm flipH="1" flipV="1" rot="5400000">
              <a:off x="7180920" y="4339440"/>
              <a:ext cx="566280" cy="524160"/>
            </a:xfrm>
            <a:prstGeom prst="bentConnector3">
              <a:avLst>
                <a:gd name="adj1" fmla="val 243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1033"/>
            <p:cNvCxnSpPr>
              <a:stCxn id="76" idx="0"/>
              <a:endCxn id="66" idx="2"/>
            </p:cNvCxnSpPr>
            <p:nvPr/>
          </p:nvCxnSpPr>
          <p:spPr>
            <a:xfrm flipH="1" flipV="1" rot="5400000">
              <a:off x="5086080" y="4339440"/>
              <a:ext cx="566280" cy="524160"/>
            </a:xfrm>
            <a:prstGeom prst="bentConnector3">
              <a:avLst>
                <a:gd name="adj1" fmla="val 243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034"/>
            <p:cNvCxnSpPr>
              <a:stCxn id="78" idx="0"/>
              <a:endCxn id="69" idx="2"/>
            </p:cNvCxnSpPr>
            <p:nvPr/>
          </p:nvCxnSpPr>
          <p:spPr>
            <a:xfrm flipH="1" flipV="1" rot="5400000">
              <a:off x="2991240" y="4339440"/>
              <a:ext cx="566280" cy="524160"/>
            </a:xfrm>
            <a:prstGeom prst="bentConnector3">
              <a:avLst>
                <a:gd name="adj1" fmla="val 243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035"/>
            <p:cNvCxnSpPr>
              <a:stCxn id="80" idx="0"/>
              <a:endCxn id="72" idx="2"/>
            </p:cNvCxnSpPr>
            <p:nvPr/>
          </p:nvCxnSpPr>
          <p:spPr>
            <a:xfrm flipH="1" flipV="1" rot="5400000">
              <a:off x="896760" y="4338720"/>
              <a:ext cx="566280" cy="525600"/>
            </a:xfrm>
            <a:prstGeom prst="bentConnector3">
              <a:avLst>
                <a:gd name="adj1" fmla="val 243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1036"/>
            <p:cNvCxnSpPr>
              <a:stCxn id="63" idx="0"/>
              <a:endCxn id="82" idx="2"/>
            </p:cNvCxnSpPr>
            <p:nvPr/>
          </p:nvCxnSpPr>
          <p:spPr>
            <a:xfrm flipV="1" rot="16200000">
              <a:off x="5870520" y="1332360"/>
              <a:ext cx="566280" cy="3143880"/>
            </a:xfrm>
            <a:prstGeom prst="bentConnector3">
              <a:avLst>
                <a:gd name="adj1" fmla="val 242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1037"/>
            <p:cNvCxnSpPr>
              <a:stCxn id="66" idx="0"/>
              <a:endCxn id="82" idx="2"/>
            </p:cNvCxnSpPr>
            <p:nvPr/>
          </p:nvCxnSpPr>
          <p:spPr>
            <a:xfrm flipV="1" rot="16200000">
              <a:off x="4823280" y="2379600"/>
              <a:ext cx="566280" cy="1049400"/>
            </a:xfrm>
            <a:prstGeom prst="bentConnector3">
              <a:avLst>
                <a:gd name="adj1" fmla="val 242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1038"/>
            <p:cNvCxnSpPr>
              <a:stCxn id="69" idx="0"/>
              <a:endCxn id="82" idx="2"/>
            </p:cNvCxnSpPr>
            <p:nvPr/>
          </p:nvCxnSpPr>
          <p:spPr>
            <a:xfrm flipH="1" flipV="1" rot="5400000">
              <a:off x="3776760" y="2381400"/>
              <a:ext cx="566280" cy="1046160"/>
            </a:xfrm>
            <a:prstGeom prst="bentConnector3">
              <a:avLst>
                <a:gd name="adj1" fmla="val 242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1039"/>
            <p:cNvCxnSpPr>
              <a:stCxn id="72" idx="0"/>
              <a:endCxn id="82" idx="2"/>
            </p:cNvCxnSpPr>
            <p:nvPr/>
          </p:nvCxnSpPr>
          <p:spPr>
            <a:xfrm flipH="1" flipV="1" rot="5400000">
              <a:off x="2729160" y="1333800"/>
              <a:ext cx="566280" cy="3141000"/>
            </a:xfrm>
            <a:prstGeom prst="bentConnector3">
              <a:avLst>
                <a:gd name="adj1" fmla="val 242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2" name="_s1040"/>
            <p:cNvSpPr/>
            <p:nvPr/>
          </p:nvSpPr>
          <p:spPr>
            <a:xfrm>
              <a:off x="4133520" y="1490760"/>
              <a:ext cx="897840" cy="1131120"/>
            </a:xfrm>
            <a:custGeom>
              <a:avLst/>
              <a:gdLst>
                <a:gd name="textAreaLeft" fmla="*/ 43560 w 897840"/>
                <a:gd name="textAreaRight" fmla="*/ 854280 w 897840"/>
                <a:gd name="textAreaTop" fmla="*/ 43560 h 1131120"/>
                <a:gd name="textAreaBottom" fmla="*/ 1087560 h 1131120"/>
              </a:gdLst>
              <a:ahLst/>
              <a:rect l="textAreaLeft" t="textAreaTop" r="textAreaRight" b="textAreaBottom"/>
              <a:pathLst>
                <a:path w="21600" h="27210">
                  <a:moveTo>
                    <a:pt x="3600" y="0"/>
                  </a:moveTo>
                  <a:arcTo wR="3600" hR="3600" stAng="16200000" swAng="-5400000"/>
                  <a:lnTo>
                    <a:pt x="0" y="23610"/>
                  </a:lnTo>
                  <a:arcTo wR="3600" hR="3600" stAng="10800000" swAng="-5400000"/>
                  <a:lnTo>
                    <a:pt x="18000" y="272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0000"/>
                  </a:solidFill>
                  <a:latin typeface="Times New Roman"/>
                </a:rPr>
                <a:t>ВАРНЫ</a:t>
              </a:r>
              <a:endParaRPr b="1" i="1" lang="en-US" sz="1200" spc="-1" strike="noStrike">
                <a:solidFill>
                  <a:srgbClr val="7e3c2a"/>
                </a:solidFill>
                <a:latin typeface="Monotype Corsiva"/>
              </a:endParaRPr>
            </a:p>
          </p:txBody>
        </p:sp>
        <p:sp>
          <p:nvSpPr>
            <p:cNvPr id="72" name="_s1041"/>
            <p:cNvSpPr/>
            <p:nvPr/>
          </p:nvSpPr>
          <p:spPr>
            <a:xfrm>
              <a:off x="992160" y="3187440"/>
              <a:ext cx="897840" cy="1131120"/>
            </a:xfrm>
            <a:custGeom>
              <a:avLst/>
              <a:gdLst>
                <a:gd name="textAreaLeft" fmla="*/ 43560 w 897840"/>
                <a:gd name="textAreaRight" fmla="*/ 854280 w 897840"/>
                <a:gd name="textAreaTop" fmla="*/ 43560 h 1131120"/>
                <a:gd name="textAreaBottom" fmla="*/ 1087560 h 1131120"/>
              </a:gdLst>
              <a:ahLst/>
              <a:rect l="textAreaLeft" t="textAreaTop" r="textAreaRight" b="textAreaBottom"/>
              <a:pathLst>
                <a:path w="21600" h="27210">
                  <a:moveTo>
                    <a:pt x="3600" y="0"/>
                  </a:moveTo>
                  <a:arcTo wR="3600" hR="3600" stAng="16200000" swAng="-5400000"/>
                  <a:lnTo>
                    <a:pt x="0" y="23610"/>
                  </a:lnTo>
                  <a:arcTo wR="3600" hR="3600" stAng="10800000" swAng="-5400000"/>
                  <a:lnTo>
                    <a:pt x="18000" y="272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7e3c2a"/>
                  </a:solidFill>
                  <a:latin typeface="Times New Roman"/>
                </a:rPr>
                <a:t>Брахманы</a:t>
              </a:r>
              <a:endParaRPr b="1" i="1" lang="en-US" sz="1200" spc="-1" strike="noStrike">
                <a:solidFill>
                  <a:srgbClr val="7e3c2a"/>
                </a:solidFill>
                <a:latin typeface="Monotype Corsiva"/>
              </a:endParaRPr>
            </a:p>
          </p:txBody>
        </p:sp>
        <p:sp>
          <p:nvSpPr>
            <p:cNvPr id="69" name="_s1042"/>
            <p:cNvSpPr/>
            <p:nvPr/>
          </p:nvSpPr>
          <p:spPr>
            <a:xfrm>
              <a:off x="3087000" y="3187440"/>
              <a:ext cx="897840" cy="1131120"/>
            </a:xfrm>
            <a:custGeom>
              <a:avLst/>
              <a:gdLst>
                <a:gd name="textAreaLeft" fmla="*/ 43560 w 897840"/>
                <a:gd name="textAreaRight" fmla="*/ 854280 w 897840"/>
                <a:gd name="textAreaTop" fmla="*/ 43560 h 1131120"/>
                <a:gd name="textAreaBottom" fmla="*/ 1087560 h 1131120"/>
              </a:gdLst>
              <a:ahLst/>
              <a:rect l="textAreaLeft" t="textAreaTop" r="textAreaRight" b="textAreaBottom"/>
              <a:pathLst>
                <a:path w="21600" h="27210">
                  <a:moveTo>
                    <a:pt x="3600" y="0"/>
                  </a:moveTo>
                  <a:arcTo wR="3600" hR="3600" stAng="16200000" swAng="-5400000"/>
                  <a:lnTo>
                    <a:pt x="0" y="23610"/>
                  </a:lnTo>
                  <a:arcTo wR="3600" hR="3600" stAng="10800000" swAng="-5400000"/>
                  <a:lnTo>
                    <a:pt x="18000" y="272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7e3c2a"/>
                  </a:solidFill>
                  <a:latin typeface="Times New Roman"/>
                </a:rPr>
                <a:t>Кшатрии</a:t>
              </a:r>
              <a:endParaRPr b="1" i="1" lang="en-US" sz="1200" spc="-1" strike="noStrike">
                <a:solidFill>
                  <a:srgbClr val="7e3c2a"/>
                </a:solidFill>
                <a:latin typeface="Monotype Corsiva"/>
              </a:endParaRPr>
            </a:p>
          </p:txBody>
        </p:sp>
        <p:sp>
          <p:nvSpPr>
            <p:cNvPr id="66" name="_s1043"/>
            <p:cNvSpPr/>
            <p:nvPr/>
          </p:nvSpPr>
          <p:spPr>
            <a:xfrm>
              <a:off x="5181480" y="3187440"/>
              <a:ext cx="897840" cy="1131120"/>
            </a:xfrm>
            <a:custGeom>
              <a:avLst/>
              <a:gdLst>
                <a:gd name="textAreaLeft" fmla="*/ 43560 w 897840"/>
                <a:gd name="textAreaRight" fmla="*/ 854280 w 897840"/>
                <a:gd name="textAreaTop" fmla="*/ 43560 h 1131120"/>
                <a:gd name="textAreaBottom" fmla="*/ 1087560 h 1131120"/>
              </a:gdLst>
              <a:ahLst/>
              <a:rect l="textAreaLeft" t="textAreaTop" r="textAreaRight" b="textAreaBottom"/>
              <a:pathLst>
                <a:path w="21600" h="27210">
                  <a:moveTo>
                    <a:pt x="3600" y="0"/>
                  </a:moveTo>
                  <a:arcTo wR="3600" hR="3600" stAng="16200000" swAng="-5400000"/>
                  <a:lnTo>
                    <a:pt x="0" y="23610"/>
                  </a:lnTo>
                  <a:arcTo wR="3600" hR="3600" stAng="10800000" swAng="-5400000"/>
                  <a:lnTo>
                    <a:pt x="18000" y="272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7e3c2a"/>
                  </a:solidFill>
                  <a:latin typeface="Times New Roman"/>
                </a:rPr>
                <a:t>Вайшьи</a:t>
              </a:r>
              <a:endParaRPr b="1" i="1" lang="en-US" sz="1200" spc="-1" strike="noStrike">
                <a:solidFill>
                  <a:srgbClr val="7e3c2a"/>
                </a:solidFill>
                <a:latin typeface="Monotype Corsiva"/>
              </a:endParaRPr>
            </a:p>
          </p:txBody>
        </p:sp>
        <p:sp>
          <p:nvSpPr>
            <p:cNvPr id="63" name="_s1044"/>
            <p:cNvSpPr/>
            <p:nvPr/>
          </p:nvSpPr>
          <p:spPr>
            <a:xfrm>
              <a:off x="7275960" y="3187440"/>
              <a:ext cx="897840" cy="1131120"/>
            </a:xfrm>
            <a:custGeom>
              <a:avLst/>
              <a:gdLst>
                <a:gd name="textAreaLeft" fmla="*/ 43560 w 897840"/>
                <a:gd name="textAreaRight" fmla="*/ 854280 w 897840"/>
                <a:gd name="textAreaTop" fmla="*/ 43560 h 1131120"/>
                <a:gd name="textAreaBottom" fmla="*/ 1087560 h 1131120"/>
              </a:gdLst>
              <a:ahLst/>
              <a:rect l="textAreaLeft" t="textAreaTop" r="textAreaRight" b="textAreaBottom"/>
              <a:pathLst>
                <a:path w="21600" h="27210">
                  <a:moveTo>
                    <a:pt x="3600" y="0"/>
                  </a:moveTo>
                  <a:arcTo wR="3600" hR="3600" stAng="16200000" swAng="-5400000"/>
                  <a:lnTo>
                    <a:pt x="0" y="23610"/>
                  </a:lnTo>
                  <a:arcTo wR="3600" hR="3600" stAng="10800000" swAng="-5400000"/>
                  <a:lnTo>
                    <a:pt x="18000" y="272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</a:rPr>
                <a:t>Шудры</a:t>
              </a:r>
              <a:endParaRPr b="1" i="1" lang="en-US" sz="1200" spc="-1" strike="noStrike">
                <a:solidFill>
                  <a:srgbClr val="7e3c2a"/>
                </a:solidFill>
                <a:latin typeface="Monotype Corsiva"/>
              </a:endParaRPr>
            </a:p>
          </p:txBody>
        </p:sp>
        <p:sp>
          <p:nvSpPr>
            <p:cNvPr id="80" name="_s1045"/>
            <p:cNvSpPr/>
            <p:nvPr/>
          </p:nvSpPr>
          <p:spPr>
            <a:xfrm>
              <a:off x="468360" y="4884480"/>
              <a:ext cx="897840" cy="1131120"/>
            </a:xfrm>
            <a:custGeom>
              <a:avLst/>
              <a:gdLst>
                <a:gd name="textAreaLeft" fmla="*/ 43560 w 897840"/>
                <a:gd name="textAreaRight" fmla="*/ 854280 w 897840"/>
                <a:gd name="textAreaTop" fmla="*/ 43560 h 1131120"/>
                <a:gd name="textAreaBottom" fmla="*/ 1087560 h 1131120"/>
              </a:gdLst>
              <a:ahLst/>
              <a:rect l="textAreaLeft" t="textAreaTop" r="textAreaRight" b="textAreaBottom"/>
              <a:pathLst>
                <a:path w="21600" h="27210">
                  <a:moveTo>
                    <a:pt x="3600" y="0"/>
                  </a:moveTo>
                  <a:arcTo wR="3600" hR="3600" stAng="16200000" swAng="-5400000"/>
                  <a:lnTo>
                    <a:pt x="0" y="23610"/>
                  </a:lnTo>
                  <a:arcTo wR="3600" hR="3600" stAng="10800000" swAng="-5400000"/>
                  <a:lnTo>
                    <a:pt x="18000" y="272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7e3c2a"/>
                  </a:solidFill>
                  <a:latin typeface="Times New Roman"/>
                </a:rPr>
                <a:t>касты</a:t>
              </a:r>
              <a:endParaRPr b="1" i="1" lang="en-US" sz="1200" spc="-1" strike="noStrike">
                <a:solidFill>
                  <a:srgbClr val="7e3c2a"/>
                </a:solidFill>
                <a:latin typeface="Monotype Corsiva"/>
              </a:endParaRPr>
            </a:p>
          </p:txBody>
        </p:sp>
        <p:sp>
          <p:nvSpPr>
            <p:cNvPr id="78" name="_s1046"/>
            <p:cNvSpPr/>
            <p:nvPr/>
          </p:nvSpPr>
          <p:spPr>
            <a:xfrm>
              <a:off x="2563920" y="4884480"/>
              <a:ext cx="897840" cy="1131120"/>
            </a:xfrm>
            <a:custGeom>
              <a:avLst/>
              <a:gdLst>
                <a:gd name="textAreaLeft" fmla="*/ 43560 w 897840"/>
                <a:gd name="textAreaRight" fmla="*/ 854280 w 897840"/>
                <a:gd name="textAreaTop" fmla="*/ 43560 h 1131120"/>
                <a:gd name="textAreaBottom" fmla="*/ 1087560 h 1131120"/>
              </a:gdLst>
              <a:ahLst/>
              <a:rect l="textAreaLeft" t="textAreaTop" r="textAreaRight" b="textAreaBottom"/>
              <a:pathLst>
                <a:path w="21600" h="27210">
                  <a:moveTo>
                    <a:pt x="3600" y="0"/>
                  </a:moveTo>
                  <a:arcTo wR="3600" hR="3600" stAng="16200000" swAng="-5400000"/>
                  <a:lnTo>
                    <a:pt x="0" y="23610"/>
                  </a:lnTo>
                  <a:arcTo wR="3600" hR="3600" stAng="10800000" swAng="-5400000"/>
                  <a:lnTo>
                    <a:pt x="18000" y="272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7e3c2a"/>
                  </a:solidFill>
                  <a:latin typeface="Times New Roman"/>
                </a:rPr>
                <a:t>касты</a:t>
              </a:r>
              <a:endParaRPr b="1" i="1" lang="en-US" sz="1200" spc="-1" strike="noStrike">
                <a:solidFill>
                  <a:srgbClr val="7e3c2a"/>
                </a:solidFill>
                <a:latin typeface="Monotype Corsiva"/>
              </a:endParaRPr>
            </a:p>
          </p:txBody>
        </p:sp>
        <p:sp>
          <p:nvSpPr>
            <p:cNvPr id="76" name="_s1047"/>
            <p:cNvSpPr/>
            <p:nvPr/>
          </p:nvSpPr>
          <p:spPr>
            <a:xfrm>
              <a:off x="4658400" y="4884480"/>
              <a:ext cx="897840" cy="1131120"/>
            </a:xfrm>
            <a:custGeom>
              <a:avLst/>
              <a:gdLst>
                <a:gd name="textAreaLeft" fmla="*/ 43560 w 897840"/>
                <a:gd name="textAreaRight" fmla="*/ 854280 w 897840"/>
                <a:gd name="textAreaTop" fmla="*/ 43560 h 1131120"/>
                <a:gd name="textAreaBottom" fmla="*/ 1087560 h 1131120"/>
              </a:gdLst>
              <a:ahLst/>
              <a:rect l="textAreaLeft" t="textAreaTop" r="textAreaRight" b="textAreaBottom"/>
              <a:pathLst>
                <a:path w="21600" h="27210">
                  <a:moveTo>
                    <a:pt x="3600" y="0"/>
                  </a:moveTo>
                  <a:arcTo wR="3600" hR="3600" stAng="16200000" swAng="-5400000"/>
                  <a:lnTo>
                    <a:pt x="0" y="23610"/>
                  </a:lnTo>
                  <a:arcTo wR="3600" hR="3600" stAng="10800000" swAng="-5400000"/>
                  <a:lnTo>
                    <a:pt x="18000" y="272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7e3c2a"/>
                  </a:solidFill>
                  <a:latin typeface="Times New Roman"/>
                </a:rPr>
                <a:t>касты</a:t>
              </a:r>
              <a:endParaRPr b="1" i="1" lang="en-US" sz="1200" spc="-1" strike="noStrike">
                <a:solidFill>
                  <a:srgbClr val="7e3c2a"/>
                </a:solidFill>
                <a:latin typeface="Monotype Corsiva"/>
              </a:endParaRPr>
            </a:p>
          </p:txBody>
        </p:sp>
        <p:sp>
          <p:nvSpPr>
            <p:cNvPr id="74" name="_s1048"/>
            <p:cNvSpPr/>
            <p:nvPr/>
          </p:nvSpPr>
          <p:spPr>
            <a:xfrm>
              <a:off x="6753240" y="4884480"/>
              <a:ext cx="897840" cy="1131120"/>
            </a:xfrm>
            <a:custGeom>
              <a:avLst/>
              <a:gdLst>
                <a:gd name="textAreaLeft" fmla="*/ 43560 w 897840"/>
                <a:gd name="textAreaRight" fmla="*/ 854280 w 897840"/>
                <a:gd name="textAreaTop" fmla="*/ 43560 h 1131120"/>
                <a:gd name="textAreaBottom" fmla="*/ 1087560 h 1131120"/>
              </a:gdLst>
              <a:ahLst/>
              <a:rect l="textAreaLeft" t="textAreaTop" r="textAreaRight" b="textAreaBottom"/>
              <a:pathLst>
                <a:path w="21600" h="27210">
                  <a:moveTo>
                    <a:pt x="3600" y="0"/>
                  </a:moveTo>
                  <a:arcTo wR="3600" hR="3600" stAng="16200000" swAng="-5400000"/>
                  <a:lnTo>
                    <a:pt x="0" y="23610"/>
                  </a:lnTo>
                  <a:arcTo wR="3600" hR="3600" stAng="10800000" swAng="-5400000"/>
                  <a:lnTo>
                    <a:pt x="18000" y="272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7e3c2a"/>
                  </a:solidFill>
                  <a:latin typeface="Times New Roman"/>
                </a:rPr>
                <a:t>касты</a:t>
              </a:r>
              <a:endParaRPr b="1" i="1" lang="en-US" sz="1200" spc="-1" strike="noStrike">
                <a:solidFill>
                  <a:srgbClr val="7e3c2a"/>
                </a:solidFill>
                <a:latin typeface="Monotype Corsiva"/>
              </a:endParaRPr>
            </a:p>
          </p:txBody>
        </p:sp>
        <p:sp>
          <p:nvSpPr>
            <p:cNvPr id="71" name="_s1049"/>
            <p:cNvSpPr/>
            <p:nvPr/>
          </p:nvSpPr>
          <p:spPr>
            <a:xfrm>
              <a:off x="1515960" y="4884480"/>
              <a:ext cx="897840" cy="1131120"/>
            </a:xfrm>
            <a:custGeom>
              <a:avLst/>
              <a:gdLst>
                <a:gd name="textAreaLeft" fmla="*/ 43560 w 897840"/>
                <a:gd name="textAreaRight" fmla="*/ 854280 w 897840"/>
                <a:gd name="textAreaTop" fmla="*/ 43560 h 1131120"/>
                <a:gd name="textAreaBottom" fmla="*/ 1087560 h 1131120"/>
              </a:gdLst>
              <a:ahLst/>
              <a:rect l="textAreaLeft" t="textAreaTop" r="textAreaRight" b="textAreaBottom"/>
              <a:pathLst>
                <a:path w="21600" h="27210">
                  <a:moveTo>
                    <a:pt x="3600" y="0"/>
                  </a:moveTo>
                  <a:arcTo wR="3600" hR="3600" stAng="16200000" swAng="-5400000"/>
                  <a:lnTo>
                    <a:pt x="0" y="23610"/>
                  </a:lnTo>
                  <a:arcTo wR="3600" hR="3600" stAng="10800000" swAng="-5400000"/>
                  <a:lnTo>
                    <a:pt x="18000" y="272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7e3c2a"/>
                  </a:solidFill>
                  <a:latin typeface="Times New Roman"/>
                </a:rPr>
                <a:t>касты</a:t>
              </a:r>
              <a:endParaRPr b="1" i="1" lang="en-US" sz="1200" spc="-1" strike="noStrike">
                <a:solidFill>
                  <a:srgbClr val="7e3c2a"/>
                </a:solidFill>
                <a:latin typeface="Monotype Corsiva"/>
              </a:endParaRPr>
            </a:p>
          </p:txBody>
        </p:sp>
        <p:sp>
          <p:nvSpPr>
            <p:cNvPr id="68" name="_s1050"/>
            <p:cNvSpPr/>
            <p:nvPr/>
          </p:nvSpPr>
          <p:spPr>
            <a:xfrm>
              <a:off x="3611520" y="4884480"/>
              <a:ext cx="897120" cy="1131120"/>
            </a:xfrm>
            <a:custGeom>
              <a:avLst/>
              <a:gdLst>
                <a:gd name="textAreaLeft" fmla="*/ 43560 w 897120"/>
                <a:gd name="textAreaRight" fmla="*/ 853560 w 897120"/>
                <a:gd name="textAreaTop" fmla="*/ 43560 h 1131120"/>
                <a:gd name="textAreaBottom" fmla="*/ 1087560 h 1131120"/>
              </a:gdLst>
              <a:ahLst/>
              <a:rect l="textAreaLeft" t="textAreaTop" r="textAreaRight" b="textAreaBottom"/>
              <a:pathLst>
                <a:path w="21600" h="27232">
                  <a:moveTo>
                    <a:pt x="3600" y="0"/>
                  </a:moveTo>
                  <a:arcTo wR="3600" hR="3600" stAng="16200000" swAng="-5400000"/>
                  <a:lnTo>
                    <a:pt x="0" y="23632"/>
                  </a:lnTo>
                  <a:arcTo wR="3600" hR="3600" stAng="10800000" swAng="-5400000"/>
                  <a:lnTo>
                    <a:pt x="18000" y="272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7e3c2a"/>
                  </a:solidFill>
                  <a:latin typeface="Times New Roman"/>
                </a:rPr>
                <a:t>касты</a:t>
              </a:r>
              <a:endParaRPr b="1" i="1" lang="en-US" sz="1200" spc="-1" strike="noStrike">
                <a:solidFill>
                  <a:srgbClr val="7e3c2a"/>
                </a:solidFill>
                <a:latin typeface="Monotype Corsiva"/>
              </a:endParaRPr>
            </a:p>
          </p:txBody>
        </p:sp>
        <p:sp>
          <p:nvSpPr>
            <p:cNvPr id="65" name="_s1051"/>
            <p:cNvSpPr/>
            <p:nvPr/>
          </p:nvSpPr>
          <p:spPr>
            <a:xfrm>
              <a:off x="5706360" y="4884480"/>
              <a:ext cx="897120" cy="1131120"/>
            </a:xfrm>
            <a:custGeom>
              <a:avLst/>
              <a:gdLst>
                <a:gd name="textAreaLeft" fmla="*/ 43560 w 897120"/>
                <a:gd name="textAreaRight" fmla="*/ 853560 w 897120"/>
                <a:gd name="textAreaTop" fmla="*/ 43560 h 1131120"/>
                <a:gd name="textAreaBottom" fmla="*/ 1087560 h 1131120"/>
              </a:gdLst>
              <a:ahLst/>
              <a:rect l="textAreaLeft" t="textAreaTop" r="textAreaRight" b="textAreaBottom"/>
              <a:pathLst>
                <a:path w="21600" h="27232">
                  <a:moveTo>
                    <a:pt x="3600" y="0"/>
                  </a:moveTo>
                  <a:arcTo wR="3600" hR="3600" stAng="16200000" swAng="-5400000"/>
                  <a:lnTo>
                    <a:pt x="0" y="23632"/>
                  </a:lnTo>
                  <a:arcTo wR="3600" hR="3600" stAng="10800000" swAng="-5400000"/>
                  <a:lnTo>
                    <a:pt x="18000" y="272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7e3c2a"/>
                  </a:solidFill>
                  <a:latin typeface="Times New Roman"/>
                </a:rPr>
                <a:t>касты</a:t>
              </a:r>
              <a:endParaRPr b="1" i="1" lang="en-US" sz="1200" spc="-1" strike="noStrike">
                <a:solidFill>
                  <a:srgbClr val="7e3c2a"/>
                </a:solidFill>
                <a:latin typeface="Monotype Corsiva"/>
              </a:endParaRPr>
            </a:p>
          </p:txBody>
        </p:sp>
        <p:sp>
          <p:nvSpPr>
            <p:cNvPr id="62" name="_s1052"/>
            <p:cNvSpPr/>
            <p:nvPr/>
          </p:nvSpPr>
          <p:spPr>
            <a:xfrm>
              <a:off x="7800840" y="4884480"/>
              <a:ext cx="896760" cy="1131120"/>
            </a:xfrm>
            <a:custGeom>
              <a:avLst/>
              <a:gdLst>
                <a:gd name="textAreaLeft" fmla="*/ 43560 w 896760"/>
                <a:gd name="textAreaRight" fmla="*/ 853200 w 896760"/>
                <a:gd name="textAreaTop" fmla="*/ 43560 h 1131120"/>
                <a:gd name="textAreaBottom" fmla="*/ 1087560 h 1131120"/>
              </a:gdLst>
              <a:ahLst/>
              <a:rect l="textAreaLeft" t="textAreaTop" r="textAreaRight" b="textAreaBottom"/>
              <a:pathLst>
                <a:path w="21600" h="27243">
                  <a:moveTo>
                    <a:pt x="3600" y="0"/>
                  </a:moveTo>
                  <a:arcTo wR="3600" hR="3600" stAng="16200000" swAng="-5400000"/>
                  <a:lnTo>
                    <a:pt x="0" y="23643"/>
                  </a:lnTo>
                  <a:arcTo wR="3600" hR="3600" stAng="10800000" swAng="-5400000"/>
                  <a:lnTo>
                    <a:pt x="18000" y="27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7e3c2a"/>
                  </a:solidFill>
                  <a:latin typeface="Times New Roman"/>
                </a:rPr>
                <a:t>касты</a:t>
              </a:r>
              <a:endParaRPr b="1" i="1" lang="en-US" sz="1200" spc="-1" strike="noStrike">
                <a:solidFill>
                  <a:srgbClr val="7e3c2a"/>
                </a:solidFill>
                <a:latin typeface="Monotype Corsiva"/>
              </a:endParaRPr>
            </a:p>
          </p:txBody>
        </p:sp>
      </p:grpSp>
      <p:sp>
        <p:nvSpPr>
          <p:cNvPr id="86" name="Rectangle 3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87" name="AutoShape 40">
            <a:hlinkClick r:id="" action="ppaction://hlinkshowjump?jump=nextslide"/>
          </p:cNvPr>
          <p:cNvSpPr/>
          <p:nvPr/>
        </p:nvSpPr>
        <p:spPr>
          <a:xfrm>
            <a:off x="8101080" y="6237360"/>
            <a:ext cx="863640" cy="43164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fffedd"/>
          </a:solidFill>
          <a:ln w="9360">
            <a:solidFill>
              <a:srgbClr val="91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Объект 3" descr=""/>
          <p:cNvPicPr/>
          <p:nvPr/>
        </p:nvPicPr>
        <p:blipFill>
          <a:blip r:embed="rId1"/>
          <a:stretch/>
        </p:blipFill>
        <p:spPr>
          <a:xfrm>
            <a:off x="1763640" y="115920"/>
            <a:ext cx="5616720" cy="63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bc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3300"/>
                </a:solidFill>
                <a:latin typeface="Monotype Corsiva"/>
              </a:rPr>
              <a:t>Понятие «Варн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800000"/>
                </a:solidFill>
                <a:uFillTx/>
                <a:latin typeface="Monotype Corsiva"/>
              </a:rPr>
              <a:t>Варна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(санскр. </a:t>
            </a: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वर्ण</a:t>
            </a: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, varṇa, «качество, цвет, категория») — группа людей, обладающая определенными правами и обязанностями, передаваемыми по наследств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blipFill rotWithShape="0">
            <a:blip r:embed="rId1">
              <a:alphaModFix amt="11000"/>
            </a:blip>
            <a:srcRect/>
            <a:stretch/>
          </a:blipFill>
          <a:ln w="38160">
            <a:solidFill>
              <a:srgbClr val="c7e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94" name="AutoShape 18">
            <a:hlinkClick r:id="" action="ppaction://hlinkshowjump?jump=nextslide"/>
          </p:cNvPr>
          <p:cNvSpPr/>
          <p:nvPr/>
        </p:nvSpPr>
        <p:spPr>
          <a:xfrm>
            <a:off x="8101080" y="6237360"/>
            <a:ext cx="863640" cy="43164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fffedd"/>
          </a:solidFill>
          <a:ln w="9360">
            <a:solidFill>
              <a:srgbClr val="91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92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1">
              <a:alphaModFix amt="35000"/>
            </a:blip>
            <a:srcRect/>
            <a:stretch/>
          </a:blipFill>
          <a:ln w="38160">
            <a:solidFill>
              <a:srgbClr val="c7e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771640" y="765000"/>
            <a:ext cx="3600720" cy="520560"/>
          </a:xfrm>
          <a:prstGeom prst="rect">
            <a:avLst/>
          </a:prstGeom>
          <a:solidFill>
            <a:srgbClr val="91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Индийские Варны</a:t>
            </a:r>
            <a:endParaRPr b="1" i="1" lang="en-US" sz="2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84360" y="1413000"/>
            <a:ext cx="18730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рахманы</a:t>
            </a:r>
            <a:endParaRPr b="1" i="1" lang="en-US" sz="2400" spc="-1" strike="noStrike">
              <a:solidFill>
                <a:srgbClr val="7e3c2a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Жрецы)</a:t>
            </a:r>
            <a:endParaRPr b="1" i="1" lang="en-US" sz="24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6877080" y="1557360"/>
            <a:ext cx="1873080" cy="1015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шатрии</a:t>
            </a:r>
            <a:endParaRPr b="1" i="1" lang="en-US" sz="2400" spc="-1" strike="noStrike">
              <a:solidFill>
                <a:srgbClr val="7e3c2a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Воины)</a:t>
            </a:r>
            <a:endParaRPr b="1" i="1" lang="en-US" sz="24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68360" y="5229360"/>
            <a:ext cx="2663640" cy="101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йшьи</a:t>
            </a:r>
            <a:endParaRPr b="1" i="1" lang="en-US" sz="2400" spc="-1" strike="noStrike">
              <a:solidFill>
                <a:srgbClr val="7e3c2a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Земледельцы)</a:t>
            </a:r>
            <a:endParaRPr b="1" i="1" lang="en-US" sz="24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6443640" y="4941720"/>
            <a:ext cx="187344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f1e9"/>
                </a:solidFill>
                <a:latin typeface="Arial"/>
              </a:rPr>
              <a:t>Шудры</a:t>
            </a:r>
            <a:endParaRPr b="1" i="1" lang="en-US" sz="2400" spc="-1" strike="noStrike">
              <a:solidFill>
                <a:srgbClr val="7e3c2a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f1e9"/>
                </a:solidFill>
                <a:latin typeface="Arial"/>
              </a:rPr>
              <a:t>(Слуги)</a:t>
            </a:r>
            <a:endParaRPr b="1" i="1" lang="en-US" sz="24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003640" y="5950080"/>
            <a:ext cx="2880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рикасаемые</a:t>
            </a:r>
            <a:endParaRPr b="1" i="1" lang="en-US" sz="24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02" name="Line 9"/>
          <p:cNvSpPr/>
          <p:nvPr/>
        </p:nvSpPr>
        <p:spPr>
          <a:xfrm flipV="1">
            <a:off x="5651640" y="2637000"/>
            <a:ext cx="1152360" cy="8632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03" name="Line 10"/>
          <p:cNvSpPr/>
          <p:nvPr/>
        </p:nvSpPr>
        <p:spPr>
          <a:xfrm flipH="1" flipV="1">
            <a:off x="2627280" y="2349360"/>
            <a:ext cx="1225440" cy="64800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04" name="Line 11"/>
          <p:cNvSpPr/>
          <p:nvPr/>
        </p:nvSpPr>
        <p:spPr>
          <a:xfrm flipH="1">
            <a:off x="2555640" y="4653000"/>
            <a:ext cx="1439640" cy="4316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05" name="Line 12"/>
          <p:cNvSpPr/>
          <p:nvPr/>
        </p:nvSpPr>
        <p:spPr>
          <a:xfrm>
            <a:off x="5724360" y="4292640"/>
            <a:ext cx="1152720" cy="57636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  <p:pic>
        <p:nvPicPr>
          <p:cNvPr id="106" name="Picture 13" descr="brahma_02"/>
          <p:cNvPicPr/>
          <p:nvPr/>
        </p:nvPicPr>
        <p:blipFill>
          <a:blip r:embed="rId2"/>
          <a:srcRect l="0" t="0" r="0" b="21263"/>
          <a:stretch/>
        </p:blipFill>
        <p:spPr>
          <a:xfrm>
            <a:off x="4140360" y="2781360"/>
            <a:ext cx="1422360" cy="1728720"/>
          </a:xfrm>
          <a:prstGeom prst="rect">
            <a:avLst/>
          </a:prstGeom>
          <a:ln w="76320">
            <a:solidFill>
              <a:srgbClr val="6a3914"/>
            </a:solidFill>
            <a:miter/>
          </a:ln>
        </p:spPr>
      </p:pic>
      <p:sp>
        <p:nvSpPr>
          <p:cNvPr id="107" name="AutoShape 14">
            <a:hlinkClick r:id="" action="ppaction://hlinkshowjump?jump=nextslide"/>
          </p:cNvPr>
          <p:cNvSpPr/>
          <p:nvPr/>
        </p:nvSpPr>
        <p:spPr>
          <a:xfrm>
            <a:off x="8028000" y="6237360"/>
            <a:ext cx="863640" cy="43164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fffedd"/>
          </a:solidFill>
          <a:ln w="9360">
            <a:solidFill>
              <a:srgbClr val="91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9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Особенности деления общества на Варн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Члены Варны не должны вступать в браки вне своей Вар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добные, но менее строгие запреты касаются и принятия пи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чно установленный род зан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Члены Варны со дня рождения и в течение всей жизни принадлежат к данной Варне, если не исключается из нее за нарушение ее зак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ереход из одной Варны в другую невозмож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вторитет брахма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12" name="Rectangle 26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blipFill rotWithShape="0">
            <a:blip r:embed="rId1">
              <a:alphaModFix amt="10000"/>
            </a:blip>
            <a:srcRect/>
            <a:stretch/>
          </a:blipFill>
          <a:ln w="38160">
            <a:solidFill>
              <a:srgbClr val="c7e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13" name="AutoShape 27">
            <a:hlinkClick r:id="" action="ppaction://hlinkshowjump?jump=nextslide"/>
          </p:cNvPr>
          <p:cNvSpPr/>
          <p:nvPr/>
        </p:nvSpPr>
        <p:spPr>
          <a:xfrm>
            <a:off x="8101080" y="6237360"/>
            <a:ext cx="863640" cy="43164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fffedd"/>
          </a:solidFill>
          <a:ln w="9360">
            <a:solidFill>
              <a:srgbClr val="91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aa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00"/>
                </a:solidFill>
                <a:latin typeface="Times New Roman"/>
              </a:rPr>
              <a:t>Характеристика Вар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03280" y="1125360"/>
          <a:ext cx="6624720" cy="5043600"/>
        </p:xfrm>
        <a:graphic>
          <a:graphicData uri="http://schemas.openxmlformats.org/drawingml/2006/table">
            <a:tbl>
              <a:tblPr/>
              <a:tblGrid>
                <a:gridCol w="2305080"/>
                <a:gridCol w="431964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Название </a:t>
                      </a:r>
                      <a:endParaRPr b="1" i="1" lang="en-US" sz="24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Обязанности представителей Варн</a:t>
                      </a:r>
                      <a:endParaRPr b="1" i="1" lang="en-US" sz="24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1. Жрецы (брахманы)</a:t>
                      </a:r>
                      <a:endParaRPr b="1" i="1" lang="en-US" sz="24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2. Знатные воины (кшатрии)</a:t>
                      </a:r>
                      <a:endParaRPr b="1" i="1" lang="en-US" sz="24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3.Земледельцы (вайшьи)   </a:t>
                      </a:r>
                      <a:endParaRPr b="1" i="1" lang="en-US" sz="24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4. Слуги (шудры)</a:t>
                      </a:r>
                      <a:endParaRPr b="1" i="1" lang="en-US" sz="24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>
                        <a:solidFill>
                          <a:srgbClr val="7e3c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Rectangle 2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17" name="Rectangle 29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blipFill rotWithShape="0">
            <a:blip r:embed="rId1">
              <a:alphaModFix amt="13000"/>
            </a:blip>
            <a:srcRect/>
            <a:stretch/>
          </a:blipFill>
          <a:ln w="38160">
            <a:solidFill>
              <a:srgbClr val="c7e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18" name="AutoShape 30">
            <a:hlinkClick r:id="" action="ppaction://hlinkshowjump?jump=nextslide"/>
          </p:cNvPr>
          <p:cNvSpPr/>
          <p:nvPr/>
        </p:nvSpPr>
        <p:spPr>
          <a:xfrm>
            <a:off x="8101080" y="6237360"/>
            <a:ext cx="863640" cy="43164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fffedd"/>
          </a:solidFill>
          <a:ln w="9360">
            <a:solidFill>
              <a:srgbClr val="91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92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99"/>
                </a:solidFill>
                <a:latin typeface="Times New Roman"/>
              </a:rPr>
              <a:t>«Законы Ману».</a:t>
            </a:r>
            <a:br>
              <a:rPr sz="4000"/>
            </a:br>
            <a:r>
              <a:rPr b="1" i="1" lang="ru-RU" sz="4000" spc="-1" strike="noStrike">
                <a:solidFill>
                  <a:srgbClr val="ffff99"/>
                </a:solidFill>
                <a:latin typeface="Times New Roman"/>
              </a:rPr>
              <a:t>Брахма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Times New Roman"/>
              </a:rPr>
              <a:t>1,31— А для процветания миров он (Брахма) создал из своих уст, рук, бедер и ступней брахмана, кшатрия, вайшью и шудру [соответственно]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Times New Roman"/>
              </a:rPr>
              <a:t>1,87— А для сохранения всей этой вселенной он, пресветлый для происшедших из его уст, рук, бедер и ступней, установил особые [обязанности и] занятия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Times New Roman"/>
              </a:rPr>
              <a:t>1,88— Таким образом, обучение Ведам и изучение их, принесение жертв за себя и за других, а также дачу и получение [милостыни] он установил для брахмано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Times New Roman"/>
              </a:rPr>
              <a:t>1,100 – Все, что существует в мире, - это собственность брахмана; вследствие превосходства рождения именно брахман имеет право на все это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Times New Roman"/>
              </a:rPr>
              <a:t>IX</a:t>
            </a:r>
            <a:r>
              <a:rPr b="1" i="1" lang="ru-RU" sz="2300" spc="-1" strike="noStrike">
                <a:solidFill>
                  <a:srgbClr val="ffffff"/>
                </a:solidFill>
                <a:latin typeface="Times New Roman"/>
              </a:rPr>
              <a:t>, 317 – Брахман – ученый или неученый – великое божество, равно как великое божество и огонь, и использованный (при жертвоприношении) и неиспользованный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blipFill rotWithShape="0">
            <a:blip r:embed="rId1">
              <a:alphaModFix amt="12000"/>
            </a:blip>
            <a:srcRect/>
            <a:tile tx="0" ty="0" sx="100000" sy="100000" algn="ctr"/>
          </a:blipFill>
          <a:ln w="38160">
            <a:solidFill>
              <a:srgbClr val="c7e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7e3c2a"/>
              </a:solidFill>
              <a:latin typeface="Monotype Corsiva"/>
            </a:endParaRPr>
          </a:p>
        </p:txBody>
      </p:sp>
      <p:sp>
        <p:nvSpPr>
          <p:cNvPr id="123" name="AutoShape 12">
            <a:hlinkClick r:id="" action="ppaction://hlinkshowjump?jump=nextslide"/>
          </p:cNvPr>
          <p:cNvSpPr/>
          <p:nvPr/>
        </p:nvSpPr>
        <p:spPr>
          <a:xfrm>
            <a:off x="7885080" y="6165720"/>
            <a:ext cx="863640" cy="43200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8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fffedd"/>
          </a:solidFill>
          <a:ln w="9360">
            <a:solidFill>
              <a:srgbClr val="91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7e3c2a"/>
              </a:solidFill>
              <a:latin typeface="Monotype Corsiv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07:41:55Z</dcterms:created>
  <dc:creator>Дом</dc:creator>
  <dc:description/>
  <dc:language>en-US</dc:language>
  <cp:lastModifiedBy>Вадим Белокриницкий</cp:lastModifiedBy>
  <dcterms:modified xsi:type="dcterms:W3CDTF">2017-12-02T06:24:06Z</dcterms:modified>
  <cp:revision>19</cp:revision>
  <dc:subject/>
  <dc:title>Слайд 1</dc:title>
</cp:coreProperties>
</file>