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45F-F7E8-41FF-96B8-12CE79EF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F6E-9E50-435E-9776-8E7081AD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3AF-0815-4DA9-9EC5-C1A6C17C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ECB-63A7-428E-936B-42D37E1C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153-B31D-4F23-B9EF-4654E448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8F2-9FC2-426F-A594-00796061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52D-E6DB-4E3C-BB33-5DCA36E4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F12-AC18-4263-8F2F-6C84D243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729-7560-4204-9B18-AF3D47B7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560-D33E-40C3-91DA-1AA4EEF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06E-513E-4FC5-B46C-E649060E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D78-AFB7-418E-AA90-E2C58ED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568A-8451-4009-BF53-30B90DBC2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1692360" y="692280"/>
            <a:ext cx="604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атематический КВ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12" descr="7dp4xd"/>
          <p:cNvPicPr/>
          <p:nvPr/>
        </p:nvPicPr>
        <p:blipFill>
          <a:blip r:embed="rId1"/>
          <a:stretch/>
        </p:blipFill>
        <p:spPr>
          <a:xfrm>
            <a:off x="1042920" y="1916280"/>
            <a:ext cx="3090960" cy="324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22320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50920" y="90792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тёнок  поймал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куней и разложил их на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кучек так ,что в каждой кучке было разное количество рыб Разложи и ты так 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2924280"/>
            <a:ext cx="873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 + 2 + 3 + 4 + 5 =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2305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самое большое трёхзначное число уменьшить на самое большое двузначное число ,полученный результат разделить на 4,а затем вычесть 25 ,то получится возраст мудреца –звездочёта .Сосчитай ,сколько лет звездочё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m036"/>
          <p:cNvPicPr/>
          <p:nvPr/>
        </p:nvPicPr>
        <p:blipFill>
          <a:blip r:embed="rId1"/>
          <a:stretch/>
        </p:blipFill>
        <p:spPr>
          <a:xfrm>
            <a:off x="3203640" y="3213000"/>
            <a:ext cx="2448000" cy="3311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498000" y="37940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2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202020"/>
                </a:solidFill>
                <a:latin typeface="Arial"/>
              </a:rPr>
              <a:t>Сколько лет  просидел на печи Илья Муромец? Известно, что если бы он просидел ещё 2 раза по столько, то его возраст составил бы наибольшее двузначное число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2952720" cy="3527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00720" y="380844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3 + 33 + 33= 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MCj04348590000[1]"/>
          <p:cNvPicPr/>
          <p:nvPr/>
        </p:nvPicPr>
        <p:blipFill>
          <a:blip r:embed="rId2"/>
          <a:stretch/>
        </p:blipFill>
        <p:spPr>
          <a:xfrm>
            <a:off x="5292720" y="4076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2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202020"/>
                </a:solidFill>
                <a:latin typeface="Arial"/>
              </a:rPr>
              <a:t>Барон Мюнхгаузен пересчитал число волшебных волос в бороде старика Хоттабыча. Оно оказалось равным сумме наименьшего трёхзначного числа и наибольшего двузначного. Что это за число</a:t>
            </a:r>
            <a:r>
              <a:rPr b="0" i="1" lang="ru-RU" sz="3600" spc="-1" strike="noStrike">
                <a:solidFill>
                  <a:srgbClr val="20202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924360" y="3716280"/>
            <a:ext cx="3527280" cy="288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529080" cy="2881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556000" y="2969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100 + 99 = 1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MCj04348590000[1]"/>
          <p:cNvPicPr/>
          <p:nvPr/>
        </p:nvPicPr>
        <p:blipFill>
          <a:blip r:embed="rId3"/>
          <a:stretch/>
        </p:blipFill>
        <p:spPr>
          <a:xfrm>
            <a:off x="6804000" y="2852640"/>
            <a:ext cx="1548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акое число получится, если перемножить количество горбов у двугорбого верблюда, крыльев у воробья, глаз у зайца, лап у медведя, копыт у лошади и рогов у о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MCj04348590000[1]"/>
          <p:cNvPicPr/>
          <p:nvPr/>
        </p:nvPicPr>
        <p:blipFill>
          <a:blip r:embed="rId1"/>
          <a:stretch/>
        </p:blipFill>
        <p:spPr>
          <a:xfrm>
            <a:off x="4284720" y="4292640"/>
            <a:ext cx="1225440" cy="1568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uratino"/>
          <p:cNvPicPr/>
          <p:nvPr/>
        </p:nvPicPr>
        <p:blipFill>
          <a:blip r:embed="rId2"/>
          <a:stretch/>
        </p:blipFill>
        <p:spPr>
          <a:xfrm>
            <a:off x="1187280" y="3257640"/>
            <a:ext cx="25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• 2 • 2 • 4 • 4 • 0 =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твет :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осла нет рогов.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2303280" cy="266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376360" cy="191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2627280" y="458136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4"/>
          <a:stretch/>
        </p:blipFill>
        <p:spPr>
          <a:xfrm>
            <a:off x="4859280" y="4581360"/>
            <a:ext cx="216072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5"/>
          <a:stretch/>
        </p:blipFill>
        <p:spPr>
          <a:xfrm>
            <a:off x="2627280" y="2060640"/>
            <a:ext cx="158436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6"/>
          <a:stretch/>
        </p:blipFill>
        <p:spPr>
          <a:xfrm>
            <a:off x="4067280" y="2133720"/>
            <a:ext cx="2808360" cy="2193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"/>
          <p:cNvPicPr/>
          <p:nvPr/>
        </p:nvPicPr>
        <p:blipFill>
          <a:blip r:embed="rId7"/>
          <a:stretch/>
        </p:blipFill>
        <p:spPr>
          <a:xfrm>
            <a:off x="6975360" y="1916280"/>
            <a:ext cx="216864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>
            <a:off x="914400" y="685800"/>
            <a:ext cx="7467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Спасибо за работу!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382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-541440" y="260280"/>
            <a:ext cx="9182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тур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фра верная нужна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4" descr="7dp4xd"/>
          <p:cNvPicPr/>
          <p:nvPr/>
        </p:nvPicPr>
        <p:blipFill>
          <a:blip r:embed="rId1"/>
          <a:stretch/>
        </p:blipFill>
        <p:spPr>
          <a:xfrm>
            <a:off x="1403280" y="2852640"/>
            <a:ext cx="3090960" cy="324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003640" y="2708280"/>
            <a:ext cx="2232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78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тавь одинаковые цифры так, чтобы получилось верное равенство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* + 3* + 5* = 1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2979720" y="260280"/>
            <a:ext cx="318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умай - ка</a:t>
            </a:r>
            <a:endParaRPr b="1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124000" y="436572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7 + 37 + 57 = 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7dp4xd"/>
          <p:cNvPicPr/>
          <p:nvPr/>
        </p:nvPicPr>
        <p:blipFill>
          <a:blip r:embed="rId1"/>
          <a:stretch/>
        </p:blipFill>
        <p:spPr>
          <a:xfrm>
            <a:off x="6443640" y="3068640"/>
            <a:ext cx="3089160" cy="343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223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79280" y="836640"/>
            <a:ext cx="914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шифруй пример  .Все четыре буквы А означают одну и ту же циф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2340000" y="306864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А + 2А+ 3А = 7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195640" y="4724280"/>
            <a:ext cx="57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5 + 25 + 35 = 7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5" name="Picture 7" descr="7dp4xd"/>
          <p:cNvPicPr/>
          <p:nvPr/>
        </p:nvPicPr>
        <p:blipFill>
          <a:blip r:embed="rId1"/>
          <a:stretch/>
        </p:blipFill>
        <p:spPr>
          <a:xfrm>
            <a:off x="6732720" y="1773360"/>
            <a:ext cx="2160360" cy="28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0" y="2708280"/>
            <a:ext cx="2232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476360" y="836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асшифруй пример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2124000" y="3068640"/>
            <a:ext cx="4319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 А +А Б =ВВВ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050920" y="4724280"/>
            <a:ext cx="417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5+56= 111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0" name="Picture 7" descr="7dp4xd"/>
          <p:cNvPicPr/>
          <p:nvPr/>
        </p:nvPicPr>
        <p:blipFill>
          <a:blip r:embed="rId1"/>
          <a:stretch/>
        </p:blipFill>
        <p:spPr>
          <a:xfrm>
            <a:off x="6054840" y="1557360"/>
            <a:ext cx="3089160" cy="343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0" y="2708280"/>
            <a:ext cx="2232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34920" y="3573360"/>
            <a:ext cx="2952000" cy="1344240"/>
          </a:xfrm>
          <a:prstGeom prst="rect">
            <a:avLst/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1908000" y="2565360"/>
            <a:ext cx="4680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908000" y="2565360"/>
            <a:ext cx="2087640" cy="410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7020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V="1">
            <a:off x="3995640" y="2565000"/>
            <a:ext cx="2592360" cy="410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flipV="1" rot="10800000">
            <a:off x="3924360" y="1628280"/>
            <a:ext cx="4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3512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16000" y="33336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авь числ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,3,4,5,6,7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треугольниках  так ,чтобы каждая пара чисел расположенных друг против друга, вместе с числом стоящим в середине ,давала бы сумму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780000" y="5445000"/>
            <a:ext cx="5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2411280" y="249228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435640" y="2492280"/>
            <a:ext cx="87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105280" y="4226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5435640" y="4221000"/>
            <a:ext cx="87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6732720" y="3213000"/>
            <a:ext cx="2232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9864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з чисел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21, 19, 30,3,12,9,15,6,27,25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дбери такие числа ,сумма которых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авна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ятидеся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103480" y="3736800"/>
            <a:ext cx="30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843280" y="4240080"/>
            <a:ext cx="590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9+25+6=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2232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794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ставь вместо звёздочек знаки   действий, чтобы равенства стали вер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*2*3*4*5=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(2+3)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5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2195640" y="404640"/>
            <a:ext cx="446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умай - ка</a:t>
            </a:r>
            <a:endParaRPr b="1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68360" y="3141720"/>
            <a:ext cx="1460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8360" y="4446720"/>
            <a:ext cx="287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2124000" y="4437000"/>
            <a:ext cx="71640" cy="7164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8"/>
          <p:cNvSpPr/>
          <p:nvPr/>
        </p:nvSpPr>
        <p:spPr>
          <a:xfrm>
            <a:off x="3780000" y="4437000"/>
            <a:ext cx="71280" cy="7164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9"/>
          <p:cNvSpPr/>
          <p:nvPr/>
        </p:nvSpPr>
        <p:spPr>
          <a:xfrm>
            <a:off x="4427640" y="4437000"/>
            <a:ext cx="71280" cy="7164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Колобок 2"/>
          <p:cNvPicPr/>
          <p:nvPr/>
        </p:nvPicPr>
        <p:blipFill>
          <a:blip r:embed="rId1"/>
          <a:stretch/>
        </p:blipFill>
        <p:spPr>
          <a:xfrm>
            <a:off x="6516720" y="4149720"/>
            <a:ext cx="201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928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тавь знаки и скобки так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лучились верные 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9  9 =2                 9  9  9 =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9+9):9=2                9 9+9=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9  9=10                9  9  9=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9:9+9=10                 9:9 9=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40000" y="189000"/>
            <a:ext cx="453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умай - ка</a:t>
            </a:r>
            <a:endParaRPr b="1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Oval 5"/>
          <p:cNvSpPr/>
          <p:nvPr/>
        </p:nvSpPr>
        <p:spPr>
          <a:xfrm>
            <a:off x="5651640" y="3213000"/>
            <a:ext cx="71280" cy="7164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6227640" y="4508640"/>
            <a:ext cx="71640" cy="712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Колобок 2"/>
          <p:cNvPicPr/>
          <p:nvPr/>
        </p:nvPicPr>
        <p:blipFill>
          <a:blip r:embed="rId1"/>
          <a:stretch/>
        </p:blipFill>
        <p:spPr>
          <a:xfrm>
            <a:off x="3132000" y="4221000"/>
            <a:ext cx="2016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09:49:07Z</dcterms:created>
  <dc:creator>Admin</dc:creator>
  <dc:description/>
  <dc:language>en-US</dc:language>
  <cp:lastModifiedBy>я</cp:lastModifiedBy>
  <dcterms:modified xsi:type="dcterms:W3CDTF">2013-04-09T17:03:39Z</dcterms:modified>
  <cp:revision>33</cp:revision>
  <dc:subject/>
  <dc:title>Слайд 1</dc:title>
</cp:coreProperties>
</file>