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FF8-F96A-4052-8E70-A488E88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02A-2BA7-48CF-8659-8C35E0C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BAE-D280-4686-B539-3FB5B5A0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C07-6C8A-4C84-85B7-0C8B7F59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45B-784E-43E8-A2D8-9558F20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93B-EF60-4F90-8A68-14232F9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412-BB80-40DF-A300-83FC3FDB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50D-7B27-4AF3-BADD-FFDDE440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B28-029B-4203-8522-6584D967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2C4-3892-4C66-BDC5-802DE17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F37-3CF3-427B-9225-0EF8174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BED-B3A3-4A0A-8782-8E62CA4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1660-28CA-4642-95C8-A5457841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9144000" cy="300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826920" y="2492280"/>
            <a:ext cx="73216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Мир спор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96360" y="692280"/>
            <a:ext cx="360360" cy="32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2205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5516640"/>
            <a:ext cx="360360" cy="32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480" y="187920"/>
            <a:ext cx="73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ест №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 теме «Как человек учился быть сильным и ловки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61992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Правильный ответ закрашиваем красным цветом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2400" y="1488600"/>
            <a:ext cx="65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</a:rPr>
              <a:t>1.  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ревний человек мог обойтись без бега?    Да  -              Нет 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2240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ожно было обойтись древнему человеку  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ез метание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</a:rPr>
              <a:t>?                                                      Да  -              Нет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51460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6600cc"/>
              </a:buClr>
              <a:buFont typeface="Arial"/>
              <a:buAutoNum type="arabicPeriod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Для защиты человеку нужно или 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оружие?                                                        Да  -            Нет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306864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6600cc"/>
              </a:buClr>
              <a:buFont typeface="Aria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Человеку  надо было научиться подни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тяжести?                                                    Да  -            Нет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3690720"/>
            <a:ext cx="66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6600cc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С чем человек мог  мигом перемахнуть через ручей или топ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С  шестом  -                             С лыжной палкой  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4892400"/>
            <a:ext cx="583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6. 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Для чего к ногам привязывали плоские дощеч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Ходить по рыхлому снегу  -                Плавать в воде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148428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35772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96360" y="2781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5516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4292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35772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4292640"/>
            <a:ext cx="360360" cy="32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2781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205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148428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6360" y="2205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148428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4292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335772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2781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0000" y="2637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637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637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8508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4720" y="6237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436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2637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96360" y="981000"/>
            <a:ext cx="360360" cy="327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5229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637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6237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8792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ест №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по теме «Как рождался всемирный праздни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легенды и мифы Древней Гре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891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равильный ответ закрашиваем синим цветом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7680" y="1884240"/>
            <a:ext cx="450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1.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ак зовут сына Зев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Геракл                        Ваня                      Бобик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4160" y="3213000"/>
            <a:ext cx="41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2.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то являлся божеством соревнова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шка                         Зев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040" y="4476600"/>
            <a:ext cx="490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3.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ак возникли Олимпийские игры в древ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з сказок                  Из мифов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9960" y="1916280"/>
            <a:ext cx="427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4.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Сколько подвигов совершил Герак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12              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5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988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5.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На чём устраивались состяз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На колесницах                  На машине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160" y="5300640"/>
            <a:ext cx="515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6.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Какая борьба проходила между участник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Кулачный бой                          Карате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44000" y="1268280"/>
            <a:ext cx="360360" cy="327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869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3789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486900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8360" y="256464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36072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56536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789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789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5516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8000" y="5516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638172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630864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792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ест №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–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Развитие физической культуры в Древнем Востоке, Греции, Рим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19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(Правильный ответ закрашиваем, зелёным цве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957320"/>
            <a:ext cx="76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1.  Какими физическими упражнениями занимались на Дальнем Востоке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?                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Бег                        Прыжки                       Метани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938320"/>
            <a:ext cx="59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2. Кто из городов Греции занимался физической культур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парта                            Афины                           Советск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17132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3.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Какой бой проводился в Древнем Рим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Бой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диаторов                      Бок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8200" y="4747680"/>
            <a:ext cx="39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4.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Какие создавали школ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Школа №2       Школа гимнастики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506200"/>
            <a:ext cx="51116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5.  Ч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м больше всего любили заниматься Афиня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Музыкой                        Собирать марки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812000" y="270828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00045100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1656000" cy="765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67280" y="270828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989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51" descr=""/>
          <p:cNvPicPr/>
          <p:nvPr/>
        </p:nvPicPr>
        <p:blipFill>
          <a:blip r:embed="rId3"/>
          <a:stretch/>
        </p:blipFill>
        <p:spPr>
          <a:xfrm>
            <a:off x="8244000" y="3213000"/>
            <a:ext cx="7588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7080" y="5013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j0320876" descr=""/>
          <p:cNvPicPr/>
          <p:nvPr/>
        </p:nvPicPr>
        <p:blipFill>
          <a:blip r:embed="rId4"/>
          <a:stretch/>
        </p:blipFill>
        <p:spPr>
          <a:xfrm>
            <a:off x="8101080" y="4437000"/>
            <a:ext cx="81900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0872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989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j0413048" descr=""/>
          <p:cNvPicPr/>
          <p:nvPr/>
        </p:nvPicPr>
        <p:blipFill>
          <a:blip r:embed="rId5"/>
          <a:stretch/>
        </p:blipFill>
        <p:spPr>
          <a:xfrm>
            <a:off x="1619280" y="2565360"/>
            <a:ext cx="144792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80000" y="5013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393372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o115i" descr=""/>
          <p:cNvPicPr/>
          <p:nvPr/>
        </p:nvPicPr>
        <p:blipFill>
          <a:blip r:embed="rId6"/>
          <a:stretch/>
        </p:blipFill>
        <p:spPr>
          <a:xfrm>
            <a:off x="3348000" y="4869000"/>
            <a:ext cx="1219320" cy="118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5445000"/>
            <a:ext cx="3603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6237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51664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6237360"/>
            <a:ext cx="36036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6240" y="187920"/>
            <a:ext cx="81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Тест №4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тема урока «Путешествие по стране Спортлланд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86640" y="605520"/>
            <a:ext cx="70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(Правильный ответ закрашиваем желтым цветом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017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 Как называют лёгкую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тлети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ролева спорта      Королев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а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нзоколонк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1932120"/>
            <a:ext cx="362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 Чем занимаются спортсме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гом                     Прыжками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3213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Times New Roman"/>
              <a:buAutoNum type="arabicPeriod" startAt="3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показано на рисун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Корзина  Мяч    Обру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28400" y="4292640"/>
            <a:ext cx="31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6600"/>
              </a:buClr>
              <a:buFont typeface="Arial"/>
              <a:buAutoNum type="arabicPeriod" startAt="4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Как называется эта иг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Салки        Волей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8000" y="3862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1680"/>
            <a:ext cx="51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6600"/>
              </a:buClr>
              <a:buFont typeface="Arial"/>
              <a:buAutoNum type="arabicPeriod" startAt="5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акой вид гимнастики показан нам на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рисунке?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Ритмика      Балет      Спорт.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23120" y="69418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" y="4765680"/>
            <a:ext cx="323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6.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ой это вид спор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ыжные гонки       Гимнаст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80680" y="551664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7.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зажигают на олимпиа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кел            Лампочку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4000" y="692280"/>
            <a:ext cx="360360" cy="326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108000"/>
            <a:ext cx="83739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ст №5 – </a:t>
            </a: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ыбери предметы, которые нужны для занятий физическими упражн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Правильные цифры закрасить розовым цветом.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02564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692280"/>
            <a:ext cx="360360" cy="326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1341360"/>
            <a:ext cx="433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349360"/>
            <a:ext cx="43164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450864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595008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42900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1484280"/>
            <a:ext cx="43200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530064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13372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437000"/>
            <a:ext cx="43164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0360" y="6237360"/>
            <a:ext cx="43200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0720" y="2421000"/>
            <a:ext cx="43164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1:07:51Z</dcterms:created>
  <dc:creator>User</dc:creator>
  <dc:description/>
  <dc:language>en-US</dc:language>
  <cp:lastModifiedBy>Zver</cp:lastModifiedBy>
  <dcterms:modified xsi:type="dcterms:W3CDTF">2008-01-24T19:36:09Z</dcterms:modified>
  <cp:revision>5</cp:revision>
  <dc:subject/>
  <dc:title>Слайд 1</dc:title>
</cp:coreProperties>
</file>