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82C-3072-495C-8A40-979CD278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783-CBC7-4033-B207-D2194783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0FC72-EC11-49DA-B392-82834E4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7B9B-8F94-46F9-9419-C0CF745F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AB363-D46E-480D-A327-70212C6F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A169B-E5EB-4247-B095-E832598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41AC7-C139-4AE1-A3D8-71079F65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E75B-1EE0-40FD-9D50-2F7B24B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4C18-FDA4-40ED-9B32-D962403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2CBF-8785-4782-BF60-969F4C58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87235-346C-4254-BE38-8C2760C5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C4129-A5F4-4648-8DDD-C3E8C65F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3DB-E8B6-48B2-BA53-C5570D1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060A6-F3A1-46C4-A657-DFDBED7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C1A41-030A-4E05-B94A-ED596A30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DCC4C-3F5D-4E6C-96CF-F87114E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66924-06C4-437A-A278-E34B3EC0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FBC46-36E1-472F-9A44-3A35DF4D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1820D-272D-4961-877D-D4FDA7B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96F6-BD50-4504-98A9-94B8C24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17835-DCEB-4675-8A29-189C1CB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02928-C0DE-49C4-8057-46A51BD1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80561-D68F-4E8B-B076-D0348258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6C4-3AA6-4418-BAFB-FD80B72E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8804-AED0-4384-BAB5-2E4DB366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6FD3F-5642-4518-9342-20727D16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8FB3-6373-47F4-B181-AA4A9CA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B77F-F826-430E-9C61-7E6E832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4B891-ADAC-4E5A-A4DB-66380C3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B71CE-E3C8-435E-A804-1822082E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2235-54CC-49C6-9DF2-D512E049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6139-4A59-41C6-9DDB-E3391CD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16E1-F2F3-4F39-8598-8021BDF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E6B7-5352-4D06-8793-D2B6B05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A63-76B2-4A6E-AD0F-0D64AC0E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2D374-BC4E-4607-951D-C47B174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1E293-3305-46EF-8AE7-B3CC2D5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D2EA5-A563-4305-BC99-84F2880F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FD306-F023-44DD-9858-A65CF138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44B67-AD7C-4301-88AC-59FD3AE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C8BF7-7CA6-4814-9098-989FFC91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BCEE3-C33A-4A9E-A71F-49D0D6A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90392-FEAE-434A-89E5-8125C0F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F975A-2A47-484D-BDC3-16B62EB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118CD-771B-4EEF-9E78-0A0B2E3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02D-9E9F-44FD-80DD-53D63076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D073F-7F30-4894-B0F7-06DE802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A650-3312-4F05-BC4D-C3FD2E4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9AA32-FBBB-45B9-AC77-E4734300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D6937-4B74-42D6-B796-7288575B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0FA65-DD48-4623-B026-74FC6ED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0D850-0ED9-4E2C-A5FB-FCC32BAA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43ECF-1720-4570-901F-E42AD7C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3A5A3-0C99-48F5-BE33-3D6C5B4F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52479-2F96-4253-880E-5D05D9A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F9588-E8FB-4D5C-9C64-0083775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2E0-F644-42EB-A3CB-C47E876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95CDE-A886-4891-8982-DE84E71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33EFC-7F2E-4285-A7A6-841D634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6AF6A-5B25-447D-B1CE-B4686A8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7C8C9-368C-47D5-87FB-A9DD93C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015F5-071B-42FE-94E1-A78A474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CC205-C1C7-4EE8-B2D1-AAF86CC0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64C1B-9BA2-4CE8-90AE-9AF41DB0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B242-6465-4690-A35E-BE88391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F4FF-02A4-4790-8D18-6336918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7851-F0EB-43DC-B3E5-0134BC2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F9B7-BE76-4F6C-B573-CA1EB37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3BC-881D-4B12-8A20-50CA6F38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CE5-18C3-4106-B831-FFBBD3E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A5AF-60A9-4764-8B9C-F15EEA3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9183-51A1-49F0-8179-768C89F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8B81-DF42-4B1F-8988-DDC0C511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479-DE31-45CD-8B6D-DF534481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E87B-5669-496A-B880-97F87639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6F55-DC00-4E86-8C20-60103FD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386C-51D4-43CE-B25A-6970BD8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7CEC-5E03-4601-A8E6-85C74F9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3F9C-AB0C-43E6-BD0B-7E1F74D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4EE-3B6C-40CA-997C-A7A47B6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B035-E155-4937-A230-C37B93A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6DBA-DB40-4CCA-B073-1066815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29D0-03A1-42FA-BC4C-F8335F7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1622-0DB7-4DC3-9F6B-8E328CE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4B24-7D6F-41DA-AA5B-13D7426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67BC-6786-4557-96EB-3D4594E2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C5DB-FB36-4E79-807A-B0A478F8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C4D0-3EA5-4A07-8A04-2D9F99E2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12669-ED42-4399-9C01-10DA09E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C03E-58A6-4B1E-8D44-850DFF9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8D3-FA78-48B4-BB56-8CB0AC93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1A66-6487-48E2-85D0-2A90827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A26F-1755-4AD6-8B85-338DD318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8AF2-B1EE-4C08-90B8-2360176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5AA6-88FF-417B-9B58-23D83DD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D197-B153-4A43-A8BE-CF2154F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1162-4FAB-4C22-AA2C-EFADBE6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7D99-2A0C-40BF-940B-96F776E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B5ED-8BAD-4A0B-87F2-AC7BB44A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0F6F-C160-4AC7-B7F8-BDB6C0BF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538C-F83A-412E-9600-88FEB48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8D4-8393-4660-8CF9-7BDD9645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7308-3813-4F53-A86D-C13AEB58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20AC-FFDE-4E29-AA70-5A8F550D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E31A-E69B-4825-B8E1-8E0DD65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D4D3-692C-4663-912B-0BB5C7C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4908-7F4E-419A-A5CF-2C5BC61E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6708-6BAC-4C68-B204-6C645C6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7063-1263-4F39-99E8-AB44B9A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BD48-72AD-4D6C-B865-B189EAB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900C-C102-4939-B325-87DF6DE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4E40-439F-42DB-9EB6-4CC5E360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759-E0D1-45B9-89F3-F5DFF73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3A1B-3D48-4B28-A895-21C79BEB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FDE9-09AA-47DD-BA6C-C03655D8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26C2-C3E3-4051-8042-FD86010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E0A3-17CD-4BAB-A505-1DA257C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5BFA-EF73-48F5-9123-A62442BD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FA00-0B36-4169-BD04-A39528F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50148-0FB3-45A5-B1CC-BB856658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D582-7E69-48B7-823C-CD2E165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1F7B-2DFA-415B-8324-960A8E5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D8CC4-BB5A-4EA9-94FC-49E980F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FB1-6DB1-4A77-9501-9B5AFBBF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ED37-775A-44F0-B58A-FCFF0763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1720-51A9-46F0-BD12-FCC6EE5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F614-29D2-4550-B6C9-C6B9EBF5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7F3E-3E2E-4B77-9C98-69FE0084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D814D-8E16-4FAC-A9F9-9D130BC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92B9-0ACF-420B-BBEF-933F511B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58849-46C0-413F-8719-E74B752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21AF-4A4E-4843-ABA6-E2EFB55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08D2-A463-4B3D-9CEF-5AEE4D1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3658-02AD-43D2-B8AD-BE4531A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FDA-B3FE-413D-89C8-93EBCA84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A62D-32A7-41C2-A43D-47A779D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60F71-7390-4EEC-9821-FD691A0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094E-C602-44B2-9F9A-F9723A9F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1688-6A19-426D-852F-C1FDA091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6BBF-BF8D-4058-89F1-B330497E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B235D-4ECB-4E0F-ADA7-111350E2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7780-6BFA-4C3C-AACF-B456C804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E422-15BE-484E-AE96-13ED2A0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4BA8-1432-4929-BF55-7E7B1C7F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3B64-4F10-4030-9603-8EE9363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490-478F-49F5-984C-14766F36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22A2-E180-4705-8F96-701CCE5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B102D-C67D-481B-9E04-E90ECEB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C282-525F-4C9A-9F80-289D6CE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2FF3D-FF8B-4F22-BFC9-1133DE4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18B3-7C6E-48E7-8467-FD87A1B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1287F-8F8B-479D-9858-AD9E364B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6BE27-393E-41D4-A253-2D592E46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11AB-764F-4FEB-AAEF-5955AEE8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5410F-F666-4A0B-A05F-711282F6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8613-B5F5-46C6-B2FD-1AEC5E1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2AC-CDEA-4FAB-8125-973B3A339003}" type="datetime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9BC7-5159-445D-89E1-831B9AE2710B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1418-BC67-42B7-A1D6-F22E230DBD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04A6-7A56-4D88-8FAC-9B5E70CFC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25D-12B7-4361-9EE7-D6C4406B83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F81-1B35-43EA-AF9A-DD7FA4F49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0056-C34E-4A48-8FD6-1A17E91C4B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759-0237-4C6D-BF1B-1604FA889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ACD-63BF-49C8-95DD-DDC61BF59B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213A-E132-40ED-88A0-F4D0726DC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9D60-8A8F-46B3-8059-397A1AE362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496-1EFD-466C-9F3A-BD2F16DCF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2B9-E3EB-4532-8965-D5DBF5E79D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04C1-32C2-4E4E-B9BE-28FA12ECE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8AC-DEBB-43D0-A6F6-4B8BCF7DF6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EEE6-1851-460B-837C-455B90BCE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FF3-ABFC-402C-A6D8-6C85978D01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AE9-3477-4364-968E-001935CE7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E9E3-816A-473F-B89B-2C01E496AE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9E7-F57D-48EE-B254-E2701E599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AC7B-4492-4FCC-9FAF-56C30EF33E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6D4E-C71D-42C2-AB5A-7A4B6D2DD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378E-10F2-4A70-8B9F-DAD241B9D2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B1E6-7A56-40B3-BF08-B8B3D51C7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DF3D-0822-48D3-BCE5-40C8CB767B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AA0-D87D-4CEB-8407-B79047F62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3"/>
          <p:cNvSpPr/>
          <p:nvPr/>
        </p:nvSpPr>
        <p:spPr>
          <a:xfrm>
            <a:off x="-38160" y="1987560"/>
            <a:ext cx="9144000" cy="4286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14800" y="6428880"/>
            <a:ext cx="14288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Алдан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771516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9"/>
          <p:cNvSpPr/>
          <p:nvPr/>
        </p:nvSpPr>
        <p:spPr>
          <a:xfrm>
            <a:off x="395280" y="2492280"/>
            <a:ext cx="0" cy="28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1"/>
          <p:cNvSpPr/>
          <p:nvPr/>
        </p:nvSpPr>
        <p:spPr>
          <a:xfrm>
            <a:off x="0" y="1643040"/>
            <a:ext cx="914400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C:\Users\Пользователь\Desktop\1263910091_aldanskij-rajon.jpg"/>
          <p:cNvPicPr/>
          <p:nvPr/>
        </p:nvPicPr>
        <p:blipFill>
          <a:blip r:embed="rId1"/>
          <a:stretch/>
        </p:blipFill>
        <p:spPr>
          <a:xfrm>
            <a:off x="142920" y="0"/>
            <a:ext cx="1279440" cy="15825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3"/>
          <p:cNvSpPr/>
          <p:nvPr/>
        </p:nvSpPr>
        <p:spPr>
          <a:xfrm>
            <a:off x="1654200" y="214200"/>
            <a:ext cx="724860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КУ «Департамент образования» МО «Алданский райо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16"/>
          <p:cNvSpPr/>
          <p:nvPr/>
        </p:nvSpPr>
        <p:spPr>
          <a:xfrm>
            <a:off x="2142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593-5B98-43EB-916E-EC64586AC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1496880" y="907920"/>
            <a:ext cx="7371000" cy="7016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"/>
          <p:cNvSpPr/>
          <p:nvPr/>
        </p:nvSpPr>
        <p:spPr>
          <a:xfrm>
            <a:off x="1763640" y="112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ОШ № 10 п. Лебеди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612720" y="2133720"/>
            <a:ext cx="825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правление  и название деятельности       </a:t>
            </a: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художественно-эст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4"/>
          <p:cNvSpPr/>
          <p:nvPr/>
        </p:nvSpPr>
        <p:spPr>
          <a:xfrm>
            <a:off x="612720" y="2708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Ф.И.О. руководителя </a:t>
            </a: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Кович Ольга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8"/>
          <p:cNvSpPr/>
          <p:nvPr/>
        </p:nvSpPr>
        <p:spPr>
          <a:xfrm>
            <a:off x="765000" y="2997360"/>
            <a:ext cx="510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Цели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детей основам изобразительной грамоты и их активное творческое развитие с учётом индивидуальности каждого ребёнка посредством занятий изобразительной деятельностью, приобщения к достижениям мировой художественной культур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Задачи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 детей чувственно-эмоциональных проявлений: внимания, памяти, фантазии, воображ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колористического вид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художественного вкуса, способности видеть и понимать прекрасно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лучшение моторики, пластичности, гибкости рук и точности глазомер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организационно-управленческих умений и навыков (планировать свою деятельность; определять её проблемы и их причины; содержать в порядке своё рабочее место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коммуникативных умений и навыков, обеспечивающих совместную деятельность в группе, сотрудничество, общ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ограмма : «Пали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хват учащихся: 1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19" descr=""/>
          <p:cNvPicPr/>
          <p:nvPr/>
        </p:nvPicPr>
        <p:blipFill>
          <a:blip r:embed="rId3"/>
          <a:stretch/>
        </p:blipFill>
        <p:spPr>
          <a:xfrm>
            <a:off x="6072120" y="3224160"/>
            <a:ext cx="2475000" cy="4206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9" descr="C:\Users\Ольга\Desktop\Новая папка (3)\20160210_160312.jpg"/>
          <p:cNvPicPr/>
          <p:nvPr/>
        </p:nvPicPr>
        <p:blipFill>
          <a:blip r:embed="rId4"/>
          <a:stretch/>
        </p:blipFill>
        <p:spPr>
          <a:xfrm>
            <a:off x="6156360" y="342900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3"/>
          <p:cNvSpPr/>
          <p:nvPr/>
        </p:nvSpPr>
        <p:spPr>
          <a:xfrm>
            <a:off x="-38160" y="2039760"/>
            <a:ext cx="9144000" cy="4286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7714800" y="6428880"/>
            <a:ext cx="14288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Алдан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771516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9"/>
          <p:cNvSpPr/>
          <p:nvPr/>
        </p:nvSpPr>
        <p:spPr>
          <a:xfrm>
            <a:off x="395280" y="2492280"/>
            <a:ext cx="0" cy="28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1"/>
          <p:cNvSpPr/>
          <p:nvPr/>
        </p:nvSpPr>
        <p:spPr>
          <a:xfrm>
            <a:off x="0" y="1643040"/>
            <a:ext cx="914400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Users\Пользователь\Desktop\1263910091_aldanskij-rajon.jpg"/>
          <p:cNvPicPr/>
          <p:nvPr/>
        </p:nvPicPr>
        <p:blipFill>
          <a:blip r:embed="rId1"/>
          <a:stretch/>
        </p:blipFill>
        <p:spPr>
          <a:xfrm>
            <a:off x="108000" y="60480"/>
            <a:ext cx="1279440" cy="15825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1619280" y="214200"/>
            <a:ext cx="7129440" cy="47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16"/>
          <p:cNvSpPr/>
          <p:nvPr/>
        </p:nvSpPr>
        <p:spPr>
          <a:xfrm>
            <a:off x="1731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E09-609F-428E-BC5F-C4BAC23B2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7370640" cy="7016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0"/>
          <p:cNvSpPr/>
          <p:nvPr/>
        </p:nvSpPr>
        <p:spPr>
          <a:xfrm>
            <a:off x="1763640" y="112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ОШ № 10 п. Лебеди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3"/>
          <a:stretch/>
        </p:blipFill>
        <p:spPr>
          <a:xfrm>
            <a:off x="5919840" y="3065400"/>
            <a:ext cx="2822400" cy="4206960"/>
          </a:xfrm>
          <a:prstGeom prst="rect">
            <a:avLst/>
          </a:prstGeom>
          <a:ln w="0">
            <a:noFill/>
          </a:ln>
        </p:spPr>
      </p:pic>
      <p:pic>
        <p:nvPicPr>
          <p:cNvPr id="565" name="Прямоугольник 8" descr=""/>
          <p:cNvPicPr/>
          <p:nvPr/>
        </p:nvPicPr>
        <p:blipFill>
          <a:blip r:embed="rId4"/>
          <a:stretch/>
        </p:blipFill>
        <p:spPr>
          <a:xfrm>
            <a:off x="171360" y="2011320"/>
            <a:ext cx="5693040" cy="4432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1654200" y="214200"/>
            <a:ext cx="724860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КУ «Департамент образования» МО «Алданский райо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Рисунок 19" descr="сканирование0083.jpg"/>
          <p:cNvPicPr/>
          <p:nvPr/>
        </p:nvPicPr>
        <p:blipFill>
          <a:blip r:embed="rId5"/>
          <a:stretch/>
        </p:blipFill>
        <p:spPr>
          <a:xfrm>
            <a:off x="6732720" y="3141720"/>
            <a:ext cx="13698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3"/>
          <p:cNvSpPr/>
          <p:nvPr/>
        </p:nvSpPr>
        <p:spPr>
          <a:xfrm>
            <a:off x="-38160" y="2039760"/>
            <a:ext cx="9144000" cy="4286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7714800" y="6428880"/>
            <a:ext cx="14288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Алдан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748720" cy="34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br>
              <a:rPr sz="2000"/>
            </a:br>
            <a:br>
              <a:rPr sz="1400"/>
            </a:b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Helios"/>
              </a:rPr>
              <a:t>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Прямоугольник 4"/>
          <p:cNvSpPr/>
          <p:nvPr/>
        </p:nvSpPr>
        <p:spPr>
          <a:xfrm>
            <a:off x="771516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ая соединительная линия 9"/>
          <p:cNvSpPr/>
          <p:nvPr/>
        </p:nvSpPr>
        <p:spPr>
          <a:xfrm>
            <a:off x="395280" y="2492280"/>
            <a:ext cx="0" cy="28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0" y="1643040"/>
            <a:ext cx="914400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Пользователь\Desktop\1263910091_aldanskij-rajon.jpg"/>
          <p:cNvPicPr/>
          <p:nvPr/>
        </p:nvPicPr>
        <p:blipFill>
          <a:blip r:embed="rId1"/>
          <a:stretch/>
        </p:blipFill>
        <p:spPr>
          <a:xfrm>
            <a:off x="108000" y="60480"/>
            <a:ext cx="1279440" cy="1582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619280" y="214200"/>
            <a:ext cx="7129440" cy="47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16"/>
          <p:cNvSpPr/>
          <p:nvPr/>
        </p:nvSpPr>
        <p:spPr>
          <a:xfrm>
            <a:off x="2142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0A1-43DC-4203-B021-0DA6FF1CC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2"/>
          <a:stretch/>
        </p:blipFill>
        <p:spPr>
          <a:xfrm>
            <a:off x="1496880" y="907920"/>
            <a:ext cx="7371000" cy="701640"/>
          </a:xfrm>
          <a:prstGeom prst="rect">
            <a:avLst/>
          </a:prstGeom>
          <a:ln w="0">
            <a:noFill/>
          </a:ln>
        </p:spPr>
      </p:pic>
      <p:sp>
        <p:nvSpPr>
          <p:cNvPr id="581" name="TextBox 20"/>
          <p:cNvSpPr/>
          <p:nvPr/>
        </p:nvSpPr>
        <p:spPr>
          <a:xfrm>
            <a:off x="1763640" y="112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ОШ № 10 п. Лебеди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307800" y="2390760"/>
          <a:ext cx="8656920" cy="3562200"/>
        </p:xfrm>
        <a:graphic>
          <a:graphicData uri="http://schemas.openxmlformats.org/drawingml/2006/table">
            <a:tbl>
              <a:tblPr/>
              <a:tblGrid>
                <a:gridCol w="808200"/>
                <a:gridCol w="4608360"/>
                <a:gridCol w="3240360"/>
              </a:tblGrid>
              <a:tr h="3859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исок детей , посещающих отделение «Палитра» РЦ «Радуг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.И.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умова Га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ов Макс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ля Алекс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ашкин Кири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цева Евг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ов Дми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валь Ир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енова Маргар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местникова Татья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шаева Ал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Rectangle 3"/>
          <p:cNvSpPr/>
          <p:nvPr/>
        </p:nvSpPr>
        <p:spPr>
          <a:xfrm>
            <a:off x="1654200" y="214200"/>
            <a:ext cx="724860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КУ «Департамент образования» МО «Алданский райо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3"/>
          <p:cNvSpPr/>
          <p:nvPr/>
        </p:nvSpPr>
        <p:spPr>
          <a:xfrm>
            <a:off x="-38160" y="2039760"/>
            <a:ext cx="9144000" cy="4286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7714800" y="6428880"/>
            <a:ext cx="14288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Алдан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748720" cy="34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2000"/>
            </a:br>
            <a:br>
              <a:rPr sz="2000"/>
            </a:br>
            <a:br>
              <a:rPr sz="1400"/>
            </a:b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Helios"/>
              </a:rPr>
              <a:t>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Прямоугольник 4"/>
          <p:cNvSpPr/>
          <p:nvPr/>
        </p:nvSpPr>
        <p:spPr>
          <a:xfrm>
            <a:off x="771516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9"/>
          <p:cNvSpPr/>
          <p:nvPr/>
        </p:nvSpPr>
        <p:spPr>
          <a:xfrm>
            <a:off x="395280" y="2492280"/>
            <a:ext cx="0" cy="28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11"/>
          <p:cNvSpPr/>
          <p:nvPr/>
        </p:nvSpPr>
        <p:spPr>
          <a:xfrm>
            <a:off x="0" y="1643040"/>
            <a:ext cx="914400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C:\Users\Пользователь\Desktop\1263910091_aldanskij-rajon.jpg"/>
          <p:cNvPicPr/>
          <p:nvPr/>
        </p:nvPicPr>
        <p:blipFill>
          <a:blip r:embed="rId1"/>
          <a:stretch/>
        </p:blipFill>
        <p:spPr>
          <a:xfrm>
            <a:off x="142920" y="0"/>
            <a:ext cx="1279440" cy="15825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1619280" y="214200"/>
            <a:ext cx="7129440" cy="47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Номер слайда 16"/>
          <p:cNvSpPr/>
          <p:nvPr/>
        </p:nvSpPr>
        <p:spPr>
          <a:xfrm>
            <a:off x="2142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745-9AC9-4651-9140-4A0CB1DA7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737100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7" name=""/>
          <p:cNvGraphicFramePr/>
          <p:nvPr/>
        </p:nvGraphicFramePr>
        <p:xfrm>
          <a:off x="322200" y="2205000"/>
          <a:ext cx="8656560" cy="4529160"/>
        </p:xfrm>
        <a:graphic>
          <a:graphicData uri="http://schemas.openxmlformats.org/drawingml/2006/table">
            <a:tbl>
              <a:tblPr/>
              <a:tblGrid>
                <a:gridCol w="2906640"/>
                <a:gridCol w="2911680"/>
                <a:gridCol w="2838240"/>
              </a:tblGrid>
              <a:tr h="4320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ие в мероприятиях в  2015-2016г.( с сентября по ма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Название мероприятия, место, время, Ф.И, призера, кла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Школьные и рай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спубликанские меропри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всероссийских мероприят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елковый конкурс рисунков по ЗОЖ (апрель2016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елковая выставка рисунков по теме «Моя Якутия» (апрель 2016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кольная выставка рисунков  «Мы за ЗОЖ» (декабрь 2015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кольная выставка рисунков «Моя мама» (март 2016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стие в выставке ко дню «Святого Валентина» (февраль 2016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стие в выставке на  день открытых дверей «Красная горка» ( апрель 2016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«Мастерской Деда Мороз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декабрь 2015 г.) (школа , посело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3"/>
          <p:cNvSpPr/>
          <p:nvPr/>
        </p:nvSpPr>
        <p:spPr>
          <a:xfrm>
            <a:off x="1654200" y="214200"/>
            <a:ext cx="724860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КУ «Департамент образования» МО «Алданский райо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8"/>
          <p:cNvSpPr/>
          <p:nvPr/>
        </p:nvSpPr>
        <p:spPr>
          <a:xfrm>
            <a:off x="3290040" y="105264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ОШ № 10 п. Лебеди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3"/>
          <p:cNvSpPr/>
          <p:nvPr/>
        </p:nvSpPr>
        <p:spPr>
          <a:xfrm>
            <a:off x="-38160" y="2039760"/>
            <a:ext cx="9144000" cy="4286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714800" y="6428880"/>
            <a:ext cx="14288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Алдан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771516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9"/>
          <p:cNvSpPr/>
          <p:nvPr/>
        </p:nvSpPr>
        <p:spPr>
          <a:xfrm>
            <a:off x="395280" y="2492280"/>
            <a:ext cx="0" cy="28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1"/>
          <p:cNvSpPr/>
          <p:nvPr/>
        </p:nvSpPr>
        <p:spPr>
          <a:xfrm>
            <a:off x="0" y="1643040"/>
            <a:ext cx="914400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Пользователь\Desktop\1263910091_aldanskij-rajon.jpg"/>
          <p:cNvPicPr/>
          <p:nvPr/>
        </p:nvPicPr>
        <p:blipFill>
          <a:blip r:embed="rId1"/>
          <a:stretch/>
        </p:blipFill>
        <p:spPr>
          <a:xfrm>
            <a:off x="142920" y="0"/>
            <a:ext cx="1279440" cy="15825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619280" y="214200"/>
            <a:ext cx="7129440" cy="47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16"/>
          <p:cNvSpPr/>
          <p:nvPr/>
        </p:nvSpPr>
        <p:spPr>
          <a:xfrm>
            <a:off x="2142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B6A1-F434-4447-BFAB-739E01521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1496880" y="907920"/>
            <a:ext cx="7371000" cy="701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21" descr=""/>
          <p:cNvPicPr/>
          <p:nvPr/>
        </p:nvPicPr>
        <p:blipFill>
          <a:blip r:embed="rId3"/>
          <a:stretch/>
        </p:blipFill>
        <p:spPr>
          <a:xfrm>
            <a:off x="5194440" y="2036880"/>
            <a:ext cx="3516120" cy="42177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23"/>
          <p:cNvSpPr/>
          <p:nvPr/>
        </p:nvSpPr>
        <p:spPr>
          <a:xfrm>
            <a:off x="906480" y="239544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Calibri"/>
                <a:ea typeface="Arial"/>
              </a:rPr>
              <a:t>Вставить фото по направлению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Рисунок 24" descr=""/>
          <p:cNvPicPr/>
          <p:nvPr/>
        </p:nvPicPr>
        <p:blipFill>
          <a:blip r:embed="rId4"/>
          <a:stretch/>
        </p:blipFill>
        <p:spPr>
          <a:xfrm>
            <a:off x="384120" y="2041560"/>
            <a:ext cx="3767040" cy="420696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25" descr=""/>
          <p:cNvPicPr/>
          <p:nvPr/>
        </p:nvPicPr>
        <p:blipFill>
          <a:blip r:embed="rId5"/>
          <a:stretch/>
        </p:blipFill>
        <p:spPr>
          <a:xfrm>
            <a:off x="396720" y="4352760"/>
            <a:ext cx="3754440" cy="42181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27" descr=""/>
          <p:cNvPicPr/>
          <p:nvPr/>
        </p:nvPicPr>
        <p:blipFill>
          <a:blip r:embed="rId6"/>
          <a:stretch/>
        </p:blipFill>
        <p:spPr>
          <a:xfrm>
            <a:off x="5194440" y="4322880"/>
            <a:ext cx="3516120" cy="420516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1654200" y="214200"/>
            <a:ext cx="724860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КУ «Департамент образования» МО «Алданский райо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8"/>
          <p:cNvSpPr/>
          <p:nvPr/>
        </p:nvSpPr>
        <p:spPr>
          <a:xfrm>
            <a:off x="3433680" y="105264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ОШ № 10 п. Лебеди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7"/>
          <a:srcRect l="0" t="22882" r="0" b="0"/>
          <a:stretch/>
        </p:blipFill>
        <p:spPr>
          <a:xfrm>
            <a:off x="539640" y="2133720"/>
            <a:ext cx="1890720" cy="1942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"/>
          <p:cNvPicPr/>
          <p:nvPr/>
        </p:nvPicPr>
        <p:blipFill>
          <a:blip r:embed="rId8"/>
          <a:stretch/>
        </p:blipFill>
        <p:spPr>
          <a:xfrm>
            <a:off x="2556000" y="2133720"/>
            <a:ext cx="1395360" cy="1860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C:\Users\Ольга\Desktop\Новая папка (3)\20160517_181633.jpg"/>
          <p:cNvPicPr/>
          <p:nvPr/>
        </p:nvPicPr>
        <p:blipFill>
          <a:blip r:embed="rId9"/>
          <a:stretch/>
        </p:blipFill>
        <p:spPr>
          <a:xfrm>
            <a:off x="5796000" y="220500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5" descr="C:\Users\Ольга\Desktop\Новая папка (3)\20160517_181652.jpg"/>
          <p:cNvPicPr/>
          <p:nvPr/>
        </p:nvPicPr>
        <p:blipFill>
          <a:blip r:embed="rId10"/>
          <a:srcRect l="13936" t="15203" r="15175" b="12215"/>
          <a:stretch/>
        </p:blipFill>
        <p:spPr>
          <a:xfrm>
            <a:off x="468360" y="4437000"/>
            <a:ext cx="1687320" cy="1295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6" descr="C:\Users\Ольга\Desktop\Новая папка (3)\20160517_181712.jpg"/>
          <p:cNvPicPr/>
          <p:nvPr/>
        </p:nvPicPr>
        <p:blipFill>
          <a:blip r:embed="rId11"/>
          <a:srcRect l="6470" t="5759" r="7160" b="2119"/>
          <a:stretch/>
        </p:blipFill>
        <p:spPr>
          <a:xfrm>
            <a:off x="2268360" y="5013360"/>
            <a:ext cx="1798920" cy="1440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7" descr="C:\Users\Ольга\Desktop\Новая папка (3)\20160517_181737.jpg"/>
          <p:cNvPicPr/>
          <p:nvPr/>
        </p:nvPicPr>
        <p:blipFill>
          <a:blip r:embed="rId12"/>
          <a:stretch/>
        </p:blipFill>
        <p:spPr>
          <a:xfrm>
            <a:off x="5796000" y="4437000"/>
            <a:ext cx="25686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2:43:05Z</dcterms:created>
  <dc:creator>gryaznova</dc:creator>
  <dc:description/>
  <dc:language>en-US</dc:language>
  <cp:lastModifiedBy>Children</cp:lastModifiedBy>
  <dcterms:modified xsi:type="dcterms:W3CDTF">2018-01-04T03:58:15Z</dcterms:modified>
  <cp:revision>28</cp:revision>
  <dc:subject/>
  <dc:title>Презентация PowerPoint</dc:title>
</cp:coreProperties>
</file>