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7F1-13CE-437D-AA4A-038E9F69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1D3-0A51-44B3-B1ED-CD370E2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F88-3D4D-4142-8CEC-27CC88B8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2BD-60AB-4139-B5F2-024DDFE4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C3A5-740B-44CB-B39A-AC50E34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2709-AF80-4E99-A485-DCA41F36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6F1-314E-4CC5-B576-007D4289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F6C3-377C-42D1-BC11-27BEC02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629F-F446-4BE3-8854-0663DDE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E2CB-6035-4E6C-AD7C-6E99552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D20B-FA36-49F6-9C86-B742EB7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8C1-974C-4852-9284-808E1A2B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1812-5EC7-4B25-9EED-B62CBDF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A01-E431-4FBB-BCD8-CEFF230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D4AE-5733-414E-9CE2-49637EF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1AE7-05A4-4E09-9BD0-496E5A2E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0EB7-014C-47F1-A44F-A2E2D70B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566-9794-494E-BA6E-84E357A0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78E-245F-4F90-BFDB-379C49AB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B59-7921-42C9-826A-1D07D17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33F-F528-478F-BFE7-B4FF6C2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992-245D-4A30-94FA-AC22B1C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5C0-B7C1-48B3-ADD2-2E87EA2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EA7-C43C-41E6-8C8B-79C948D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83BC-7CB4-48B9-ABC8-A254063FFE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73B7-0F5E-40D6-8365-10988DFE50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ПОЛИТИЧЕСКАЯ СФЕР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971640" y="981000"/>
            <a:ext cx="7345440" cy="432000"/>
          </a:xfrm>
          <a:prstGeom prst="wedgeRectCallout">
            <a:avLst>
              <a:gd name="adj1" fmla="val -43083"/>
              <a:gd name="adj2" fmla="val 162865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итика – от греческого «полис» (город-государство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900000" y="3933720"/>
            <a:ext cx="6408720" cy="503280"/>
          </a:xfrm>
          <a:prstGeom prst="wedgeRectCallout">
            <a:avLst>
              <a:gd name="adj1" fmla="val -41083"/>
              <a:gd name="adj2" fmla="val -311828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итика – искусство управления государств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ие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руппы давл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группы, защищающие собственные интересы (профсоюзы, союз предпринимателей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руппы интерес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группы, выступающие с новой инициативой (антиглобалисты, зеленые, феминистки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Лобби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те, кто находится в непосредственном окружении власти и может оказывать на нее давление при принятии реше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Эли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небольшая группа людей, которые обладают наибольшей властью в обществ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ие лид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ризма – личная привлекательность, вера в их необычные способ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пулизм (опора на примитивные лозунги, спекулирование на внушаемости масс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собность объединять вокруг себя люд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собность руководить общественно-политическими процесса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тепень вовлеченности людей в политику (по М. Веберу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учаю (ходим на выбор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овместительству (доверенное лицо кандидата в депутат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фессиональное занятие политикой (человек живет для политики, за счет политики и политико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Что из названного связано с понятием власть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созн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циал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рит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акая из приведенных позиций характеризует исключительно политическую власть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щение ко всем гражданам стра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ошение господства и подчин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личие субъектно-объектной связ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явление в совокупности обычаев и тради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ая система является эффективной, если он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ойч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собна приспосабливаться к изменениям внешней сред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тивна, может успешно решать конфликты мирным пут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вокупность существующих в обществе политических структур, отношений и действий, связанных с политической власть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лементы политической системы (подсистемы, компоненты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Институциональная (организационная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дсистема (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партии, движения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Нормативн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дсистема (политические нормы, традиции, принципы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ультурно-идеологическ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дсистема (политические идеи, ценности, идеалы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ммуникативн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одсистема (формы взаимодействия власти, общества, личности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ункции современной поли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ражение значимых интересов всех групп и слоев обще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грация различных слоев насе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ание целостности общества, порядка и стаби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еспечение социального развития общества и чело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вление и руководство общественными процесса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ая социализация лич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Установите соответствие между подсистемами политической системы и их отдельными элементами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ое движ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алог между политическими и неполитическими организация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ая идеолог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ая тради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8000" y="1599840"/>
            <a:ext cx="403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ституциональ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ультур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уникатив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рматив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сударство и его призна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знаки государств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бличная власть, которая представляет собой группу профессиональных управленц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рритория, четко определенная границ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веренитет, т.е. независимость государственной власти как внутри страны, так и вне 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нополия на легальное применение силы, физическое принужд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во на взимание налогов и сборов с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68360" y="1341360"/>
            <a:ext cx="8229600" cy="935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оюз людей, живущих на одной террит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верховная власть, стоящая над обществ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власть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ность и возможность осуществлять свою волю, оказывать влияние на поведение и деятельность лю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142800" y="2924280"/>
            <a:ext cx="2821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актовки в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24000" y="4005360"/>
            <a:ext cx="2016000" cy="17272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Как влия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ействов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о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д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484360" y="4005360"/>
            <a:ext cx="2016360" cy="25192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Как авторитет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ношени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ражающе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брово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глас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чинять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каза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ластвующе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643280" y="4005360"/>
            <a:ext cx="2160720" cy="237636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Ка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принужде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лияни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арактеризую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щее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соки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овне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6948360" y="4005360"/>
            <a:ext cx="2016360" cy="259236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Ка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могуществ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ользова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ви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лияния д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о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уг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6" name="AutoShape 12"/>
          <p:cNvCxnSpPr>
            <a:stCxn id="161" idx="1"/>
            <a:endCxn id="162" idx="0"/>
          </p:cNvCxnSpPr>
          <p:nvPr/>
        </p:nvCxnSpPr>
        <p:spPr>
          <a:xfrm flipV="1" rot="10800000">
            <a:off x="1331280" y="3156480"/>
            <a:ext cx="1722960" cy="848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7" name="AutoShape 13"/>
          <p:cNvCxnSpPr>
            <a:stCxn id="161" idx="2"/>
            <a:endCxn id="163" idx="0"/>
          </p:cNvCxnSpPr>
          <p:nvPr/>
        </p:nvCxnSpPr>
        <p:spPr>
          <a:xfrm rot="5400000">
            <a:off x="3715560" y="3166920"/>
            <a:ext cx="615240" cy="1062720"/>
          </a:xfrm>
          <a:prstGeom prst="bentConnector3">
            <a:avLst>
              <a:gd name="adj1" fmla="val 498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8" name="AutoShape 14"/>
          <p:cNvCxnSpPr>
            <a:stCxn id="161" idx="2"/>
            <a:endCxn id="164" idx="0"/>
          </p:cNvCxnSpPr>
          <p:nvPr/>
        </p:nvCxnSpPr>
        <p:spPr>
          <a:xfrm flipH="1" rot="16200000">
            <a:off x="4831920" y="3112560"/>
            <a:ext cx="615240" cy="1170720"/>
          </a:xfrm>
          <a:prstGeom prst="bentConnector3">
            <a:avLst>
              <a:gd name="adj1" fmla="val 498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AutoShape 15"/>
          <p:cNvCxnSpPr>
            <a:stCxn id="161" idx="3"/>
            <a:endCxn id="165" idx="0"/>
          </p:cNvCxnSpPr>
          <p:nvPr/>
        </p:nvCxnSpPr>
        <p:spPr>
          <a:xfrm>
            <a:off x="6053040" y="3157200"/>
            <a:ext cx="1904400" cy="848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и государ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нутренни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политическая (государство является носителем власти и управляет обществом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обеспечение правопорядка и законности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экономическая (регулирует экономические отношения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социальная (развитие образования, здравоохранения, социального обеспечения, поддержка культуры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идеологическая (воспитание членов общества, формирование гражданских и патриотических ценностей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64000" y="1599840"/>
            <a:ext cx="332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нешни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обеспечение национальной безопасности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участие в решении глобальных проблем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развитие взаимовыгодного сотрудничеств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отстаивание государственных интересов в международных отношениях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Любое государство характеризуется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стью осуществлять принуж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партий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аимной ответственностью государства и лич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елением власт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государственного пра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нархия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сточником власти является одно лицо и власть передается по наследст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бсолютная монарх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нституционная монарх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спублика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а государства избира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рламентская республ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зидентская республ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мешанная республ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AutoShape 46"/>
          <p:cNvSpPr/>
          <p:nvPr/>
        </p:nvSpPr>
        <p:spPr>
          <a:xfrm>
            <a:off x="468360" y="1413000"/>
            <a:ext cx="5545080" cy="1295280"/>
          </a:xfrm>
          <a:prstGeom prst="wedgeRectCallout">
            <a:avLst>
              <a:gd name="adj1" fmla="val 47310"/>
              <a:gd name="adj2" fmla="val 89337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рховенство парламента, который формирует правительство и перед которым оно несет ответственность; правительство возглавляет премьер-минист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47"/>
          <p:cNvSpPr/>
          <p:nvPr/>
        </p:nvSpPr>
        <p:spPr>
          <a:xfrm>
            <a:off x="468360" y="3068640"/>
            <a:ext cx="4464000" cy="1008000"/>
          </a:xfrm>
          <a:prstGeom prst="wedgeRectCallout">
            <a:avLst>
              <a:gd name="adj1" fmla="val 73259"/>
              <a:gd name="adj2" fmla="val 64013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идент – глава государства и правительства; правительство ответственно перед президен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8"/>
          <p:cNvSpPr/>
          <p:nvPr/>
        </p:nvSpPr>
        <p:spPr>
          <a:xfrm>
            <a:off x="468360" y="4437000"/>
            <a:ext cx="4390920" cy="1008000"/>
          </a:xfrm>
          <a:prstGeom prst="wedgeRectCallout">
            <a:avLst>
              <a:gd name="adj1" fmla="val 65583"/>
              <a:gd name="adj2" fmla="val 37245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тельство находится в двойном подчинении (президент и парламент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территориального устрой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нитарное 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единое государственное образование: Польша, Швеция, Япония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едерац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союз относительно самостоятельных субъектов: Россия, США, Германия, Швейцария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федерац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временное объединение независимых государств: СНГ, Европейский Союз, Британское Содружество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ий режи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ритаризм (от лат. «ауторитас» - власть, влияни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алитаризм (от лат. «тоталис» - весь, целый, полный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кратия (от греч. «демос» - народ, «кратос» - власт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71280" y="71280"/>
            <a:ext cx="8604360" cy="476280"/>
          </a:xfrm>
          <a:prstGeom prst="wedgeRectCallout">
            <a:avLst>
              <a:gd name="adj1" fmla="val 2916"/>
              <a:gd name="adj2" fmla="val 84333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вокупность приемов и методов осуществления государственной власт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вторитар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ласть сосредоточена в руках одного лидера или груп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ствует исполнительная вла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рламент как совещательное учреждение при главе государ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новные методы управления – приказы и команд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чность находится в подчинении у властных груп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талитар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ство группы лиц, возглавляемых лидер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сторонний контроль за жизнью обще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пре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ство одной идеоло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ное подчинении личности вла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сутствие свободы суждений и действ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знаки демократ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ность в органы государственной вла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деление властей 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законодательную, исполнительную и судебну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ирокие права и свободы гражд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ий плюрализ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с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лияние граждан на политическую деятель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3924360" y="3357720"/>
            <a:ext cx="4537080" cy="431640"/>
          </a:xfrm>
          <a:prstGeom prst="wedgeRectCallout">
            <a:avLst>
              <a:gd name="adj1" fmla="val -76101"/>
              <a:gd name="adj2" fmla="val -209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енный аппар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рмы демократ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971640" y="1989000"/>
            <a:ext cx="7345440" cy="1368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яма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род непосредственно принимает реш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референдумы, выборы, митинги, собрания, демонстраци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щения в органы власти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971640" y="4149720"/>
            <a:ext cx="7345440" cy="12952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ставительна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род осуществляет власть через своих представител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парламент, местное самоуправление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Что из перечисленного относится к формам территориального устройства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кра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спубл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дер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нарх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астн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еятельность по выработке и принятию властных решений и проведению их в жизн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887120" y="2637000"/>
            <a:ext cx="5306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менты властной деятель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95280" y="3716280"/>
            <a:ext cx="2016000" cy="1873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ЛАСТ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525840" y="3716280"/>
            <a:ext cx="2016000" cy="1873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ЛАСТ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Ш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804000" y="3716280"/>
            <a:ext cx="2016000" cy="1873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ЛАСТ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6" name="AutoShape 10"/>
          <p:cNvCxnSpPr>
            <a:stCxn id="172" idx="1"/>
            <a:endCxn id="173" idx="0"/>
          </p:cNvCxnSpPr>
          <p:nvPr/>
        </p:nvCxnSpPr>
        <p:spPr>
          <a:xfrm flipV="1" rot="10800000">
            <a:off x="1402560" y="2869920"/>
            <a:ext cx="361080" cy="84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AutoShape 13"/>
          <p:cNvCxnSpPr>
            <a:stCxn id="172" idx="3"/>
            <a:endCxn id="175" idx="0"/>
          </p:cNvCxnSpPr>
          <p:nvPr/>
        </p:nvCxnSpPr>
        <p:spPr>
          <a:xfrm>
            <a:off x="7316640" y="2870280"/>
            <a:ext cx="496080" cy="84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AutoShape 15"/>
          <p:cNvCxnSpPr>
            <a:stCxn id="172" idx="2"/>
            <a:endCxn id="174" idx="0"/>
          </p:cNvCxnSpPr>
          <p:nvPr/>
        </p:nvCxnSpPr>
        <p:spPr>
          <a:xfrm flipH="1">
            <a:off x="4533480" y="3103560"/>
            <a:ext cx="7200" cy="613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биратель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Типы избирательных систем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жоритар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орциональ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ша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формирования органов власти и распределения мест в них после определения результатов голосо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жоритар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340000" y="1628640"/>
            <a:ext cx="4248000" cy="936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 каждого избирательн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круга – один депут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50920" y="3284640"/>
            <a:ext cx="3744720" cy="1296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бедитель – кандида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бравший наибольше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исло голо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4859280" y="3284640"/>
            <a:ext cx="3995640" cy="1296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бедитель – кандида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воевавший 50%+1 голо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64" name="AutoShape 9"/>
          <p:cNvCxnSpPr>
            <a:stCxn id="261" idx="1"/>
            <a:endCxn id="262" idx="0"/>
          </p:cNvCxnSpPr>
          <p:nvPr/>
        </p:nvCxnSpPr>
        <p:spPr>
          <a:xfrm flipV="1" rot="10800000">
            <a:off x="2123280" y="2095920"/>
            <a:ext cx="216720" cy="118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5" name="AutoShape 10"/>
          <p:cNvCxnSpPr>
            <a:stCxn id="261" idx="3"/>
            <a:endCxn id="263" idx="0"/>
          </p:cNvCxnSpPr>
          <p:nvPr/>
        </p:nvCxnSpPr>
        <p:spPr>
          <a:xfrm>
            <a:off x="6588000" y="2096640"/>
            <a:ext cx="270720" cy="118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6" name="Text Box 11"/>
          <p:cNvSpPr/>
          <p:nvPr/>
        </p:nvSpPr>
        <p:spPr>
          <a:xfrm>
            <a:off x="1095480" y="50277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36520" y="46530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нос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льшин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6096960" y="465300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бсолют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льшин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84240" y="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ША, Франция, Япония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порциональ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вый вариан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рание от каждого округа нескольких кандидатов – представителей той или иной парт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торой вариан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иратели голосуют за партийные списки в масштабе всей стр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88200" y="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я, Испания, Швеция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мешан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Verdana"/>
              </a:rPr>
              <a:t>Мажоритарная система 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Verdana"/>
              </a:rPr>
              <a:t>+ 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Verdana"/>
              </a:rPr>
              <a:t>Пропорциональная система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05840" y="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я, Австралия, Германия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ное самоуправ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знаки местного самоуправл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стоятельность и ответственность населения за принятие решений местного характе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стное самоуправление не входит в систему органов государственной вла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особое управленческое звено, осуществляемое самими граждана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уществляется непосредственно (сходы, собрания) или через выборные орг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341360"/>
            <a:ext cx="8229600" cy="79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стоятельная деятельность населения по решению вопросов местного знач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24000" y="5703840"/>
            <a:ext cx="3744720" cy="10810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моуправляющие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рриториальные образова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 – муниципаль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643280" y="5703840"/>
            <a:ext cx="3745080" cy="10810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х экономической основ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вляется муниципаль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Какой из названных признаков отличает пропорциональную избирательную систему от мажоритарной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ы являются всеобщими и равны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бедителем признается кандидат, получивший большинство в своем окру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частках проводится тайное голос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иратель голосует за списки кандидатов от политических пар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ая пар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новные че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личие организации (профессионального аппарат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ая программа и идеолог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артийный устав, содержащая нормы внутрипартийной жизн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ть первичных местных организаций, состоящих из добровольных член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иксированное количество членов парт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ганизованная группа людей, имеющая общую политическую программу и стремящаяся к в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и парт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рются за политическую вла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тролируют выдвижение своих кандидатов на выборах и поддерживают 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уществляют политическую социализацию граждан, влияя на их взгляды и убежд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имаются воспитанием кад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ступают в качестве посредника между обществом и государств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 каким признакам разделяют парт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 организационному принципу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массовые (многочисленны, имеют постоянное членство и источники существования) и кадровые (нет фиксированного членства, постоянного источника финансирования и отличаются значительной внутренней свободо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 отношению к власт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правящие и оппозиционные (легальные и нелегальны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 используемым методам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революционные и реформистск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 идеологическому признаку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консервативные, либеральные, социал-демократические, националистические, клерикальные (религиозные), коммунистические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литические партии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абатывают программы развития обще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ют законы, обязательные для всех гражд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яют рыночные це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носят судебные реш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вла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Экономическ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контроль над экономическими ресурсами, обладание собственн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оциальн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контроль над распределением статусов, должностей, льгот и привиле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ультурно-информационн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контроль над средствами массовой информ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олитическа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контроль в сфере управл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де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ль идеологи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лачивает, мобилизует членов обще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ет знание о социальной действите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ет ориентиры поли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ражает интересы определенных социальных групп и общества в цел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68360" y="1341360"/>
            <a:ext cx="8229600" cy="79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истема идей, теорий и взглядов, выражающих интересы субъектов полит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979640" y="71280"/>
            <a:ext cx="5472000" cy="432000"/>
          </a:xfrm>
          <a:prstGeom prst="borderCallout1">
            <a:avLst>
              <a:gd name="adj1" fmla="val 18750"/>
              <a:gd name="adj2" fmla="val -8333"/>
              <a:gd name="adj3" fmla="val 279777"/>
              <a:gd name="adj4" fmla="val -1517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рабатывается идеологами-учены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видности идеолог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660320" y="1276560"/>
            <a:ext cx="6270840" cy="3585960"/>
            <a:chOff x="1660320" y="1276560"/>
            <a:chExt cx="6270840" cy="3585960"/>
          </a:xfrm>
        </p:grpSpPr>
        <p:cxnSp>
          <p:nvCxnSpPr>
            <p:cNvPr id="305" name="_s1028"/>
            <p:cNvCxnSpPr>
              <a:stCxn id="306" idx="1"/>
              <a:endCxn id="307" idx="2"/>
            </p:cNvCxnSpPr>
            <p:nvPr/>
          </p:nvCxnSpPr>
          <p:spPr>
            <a:xfrm rot="10800000">
              <a:off x="4795200" y="2154960"/>
              <a:ext cx="184320" cy="236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8" name="_s1029"/>
            <p:cNvCxnSpPr>
              <a:stCxn id="309" idx="3"/>
              <a:endCxn id="307" idx="2"/>
            </p:cNvCxnSpPr>
            <p:nvPr/>
          </p:nvCxnSpPr>
          <p:spPr>
            <a:xfrm flipV="1">
              <a:off x="4611600" y="2154960"/>
              <a:ext cx="184680" cy="236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0" name="_s1030"/>
            <p:cNvCxnSpPr>
              <a:stCxn id="311" idx="1"/>
              <a:endCxn id="307" idx="2"/>
            </p:cNvCxnSpPr>
            <p:nvPr/>
          </p:nvCxnSpPr>
          <p:spPr>
            <a:xfrm rot="10800000">
              <a:off x="4795200" y="2154960"/>
              <a:ext cx="184320" cy="53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1031"/>
            <p:cNvCxnSpPr>
              <a:stCxn id="313" idx="1"/>
              <a:endCxn id="307" idx="2"/>
            </p:cNvCxnSpPr>
            <p:nvPr/>
          </p:nvCxnSpPr>
          <p:spPr>
            <a:xfrm rot="10800000">
              <a:off x="4795200" y="2154960"/>
              <a:ext cx="184320" cy="14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1032"/>
            <p:cNvCxnSpPr>
              <a:stCxn id="315" idx="3"/>
              <a:endCxn id="307" idx="2"/>
            </p:cNvCxnSpPr>
            <p:nvPr/>
          </p:nvCxnSpPr>
          <p:spPr>
            <a:xfrm flipV="1">
              <a:off x="4611600" y="2155320"/>
              <a:ext cx="184680" cy="14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33"/>
            <p:cNvCxnSpPr>
              <a:stCxn id="317" idx="3"/>
              <a:endCxn id="307" idx="2"/>
            </p:cNvCxnSpPr>
            <p:nvPr/>
          </p:nvCxnSpPr>
          <p:spPr>
            <a:xfrm flipV="1">
              <a:off x="4611600" y="2155320"/>
              <a:ext cx="184680" cy="53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7" name="_s1034"/>
            <p:cNvSpPr/>
            <p:nvPr/>
          </p:nvSpPr>
          <p:spPr>
            <a:xfrm>
              <a:off x="3521880" y="1276560"/>
              <a:ext cx="2548080" cy="8406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Либеральная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идеология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1035"/>
            <p:cNvSpPr/>
            <p:nvPr/>
          </p:nvSpPr>
          <p:spPr>
            <a:xfrm>
              <a:off x="1660320" y="2339280"/>
              <a:ext cx="2912760" cy="69336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Индивидуализм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1036"/>
            <p:cNvSpPr/>
            <p:nvPr/>
          </p:nvSpPr>
          <p:spPr>
            <a:xfrm>
              <a:off x="1660320" y="3254400"/>
              <a:ext cx="2912760" cy="6930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ащита демократи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_s1037"/>
            <p:cNvSpPr/>
            <p:nvPr/>
          </p:nvSpPr>
          <p:spPr>
            <a:xfrm>
              <a:off x="5018400" y="3254400"/>
              <a:ext cx="2912760" cy="6930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Частная собственно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_s1038"/>
            <p:cNvSpPr/>
            <p:nvPr/>
          </p:nvSpPr>
          <p:spPr>
            <a:xfrm>
              <a:off x="5018400" y="2339280"/>
              <a:ext cx="2912760" cy="69336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ава и свободы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личност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_s1039"/>
            <p:cNvSpPr/>
            <p:nvPr/>
          </p:nvSpPr>
          <p:spPr>
            <a:xfrm>
              <a:off x="1660320" y="4169520"/>
              <a:ext cx="2912760" cy="6930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авенств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озможностей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" name="_s1040"/>
            <p:cNvSpPr/>
            <p:nvPr/>
          </p:nvSpPr>
          <p:spPr>
            <a:xfrm>
              <a:off x="5018400" y="4169520"/>
              <a:ext cx="2912760" cy="6930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авенств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еред законом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8" name="Text Box 22"/>
          <p:cNvSpPr/>
          <p:nvPr/>
        </p:nvSpPr>
        <p:spPr>
          <a:xfrm>
            <a:off x="2382120" y="5300640"/>
            <a:ext cx="42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олиберализм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енное регулирова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ыночной экономик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циальная помощь нуждающим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видности идеолог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0" name="Organization Chart 6"/>
          <p:cNvGrpSpPr/>
          <p:nvPr/>
        </p:nvGrpSpPr>
        <p:grpSpPr>
          <a:xfrm>
            <a:off x="276120" y="1328760"/>
            <a:ext cx="8583120" cy="3402000"/>
            <a:chOff x="276120" y="1328760"/>
            <a:chExt cx="8583120" cy="3402000"/>
          </a:xfrm>
        </p:grpSpPr>
        <p:cxnSp>
          <p:nvCxnSpPr>
            <p:cNvPr id="321" name="_s2052"/>
            <p:cNvCxnSpPr>
              <a:stCxn id="322" idx="1"/>
              <a:endCxn id="323" idx="2"/>
            </p:cNvCxnSpPr>
            <p:nvPr/>
          </p:nvCxnSpPr>
          <p:spPr>
            <a:xfrm rot="10800000">
              <a:off x="4566960" y="1939320"/>
              <a:ext cx="309960" cy="243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4" name="_s2053"/>
            <p:cNvCxnSpPr>
              <a:stCxn id="325" idx="3"/>
              <a:endCxn id="323" idx="2"/>
            </p:cNvCxnSpPr>
            <p:nvPr/>
          </p:nvCxnSpPr>
          <p:spPr>
            <a:xfrm flipV="1">
              <a:off x="4258080" y="1939680"/>
              <a:ext cx="310320" cy="243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6" name="_s2054"/>
            <p:cNvCxnSpPr>
              <a:stCxn id="327" idx="1"/>
              <a:endCxn id="323" idx="2"/>
            </p:cNvCxnSpPr>
            <p:nvPr/>
          </p:nvCxnSpPr>
          <p:spPr>
            <a:xfrm rot="10800000">
              <a:off x="4566960" y="1939320"/>
              <a:ext cx="309960" cy="1491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8" name="_s2055"/>
            <p:cNvCxnSpPr>
              <a:stCxn id="329" idx="3"/>
              <a:endCxn id="323" idx="2"/>
            </p:cNvCxnSpPr>
            <p:nvPr/>
          </p:nvCxnSpPr>
          <p:spPr>
            <a:xfrm flipV="1">
              <a:off x="4258080" y="1939680"/>
              <a:ext cx="310320" cy="1491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2056"/>
            <p:cNvCxnSpPr>
              <a:stCxn id="331" idx="1"/>
              <a:endCxn id="323" idx="2"/>
            </p:cNvCxnSpPr>
            <p:nvPr/>
          </p:nvCxnSpPr>
          <p:spPr>
            <a:xfrm rot="10800000">
              <a:off x="4566960" y="1939320"/>
              <a:ext cx="309960" cy="54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2057"/>
            <p:cNvCxnSpPr>
              <a:stCxn id="333" idx="3"/>
              <a:endCxn id="323" idx="2"/>
            </p:cNvCxnSpPr>
            <p:nvPr/>
          </p:nvCxnSpPr>
          <p:spPr>
            <a:xfrm flipV="1">
              <a:off x="4258080" y="1939320"/>
              <a:ext cx="310320" cy="54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3" name="_s2058"/>
            <p:cNvSpPr/>
            <p:nvPr/>
          </p:nvSpPr>
          <p:spPr>
            <a:xfrm>
              <a:off x="2655000" y="1328760"/>
              <a:ext cx="3825000" cy="57312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Консервативная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_s2059"/>
            <p:cNvSpPr/>
            <p:nvPr/>
          </p:nvSpPr>
          <p:spPr>
            <a:xfrm>
              <a:off x="276120" y="2130480"/>
              <a:ext cx="3943440" cy="7142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иверженно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радициям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_s2060"/>
            <p:cNvSpPr/>
            <p:nvPr/>
          </p:nvSpPr>
          <p:spPr>
            <a:xfrm>
              <a:off x="4915800" y="2130480"/>
              <a:ext cx="3943440" cy="7142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бильность 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орядок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_s2061"/>
            <p:cNvSpPr/>
            <p:nvPr/>
          </p:nvSpPr>
          <p:spPr>
            <a:xfrm>
              <a:off x="276120" y="3073320"/>
              <a:ext cx="3943440" cy="7146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Иерархично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ществ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_s2062"/>
            <p:cNvSpPr/>
            <p:nvPr/>
          </p:nvSpPr>
          <p:spPr>
            <a:xfrm>
              <a:off x="4915800" y="3073320"/>
              <a:ext cx="3943440" cy="7146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Естественно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неравенств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_s2063"/>
            <p:cNvSpPr/>
            <p:nvPr/>
          </p:nvSpPr>
          <p:spPr>
            <a:xfrm>
              <a:off x="276120" y="4016520"/>
              <a:ext cx="3943440" cy="7142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ильная государственна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ла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2064"/>
            <p:cNvSpPr/>
            <p:nvPr/>
          </p:nvSpPr>
          <p:spPr>
            <a:xfrm>
              <a:off x="4915800" y="4016520"/>
              <a:ext cx="3943440" cy="7142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Частная собственность 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вобода предпринимательств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4" name="Text Box 22"/>
          <p:cNvSpPr/>
          <p:nvPr/>
        </p:nvSpPr>
        <p:spPr>
          <a:xfrm>
            <a:off x="1685880" y="5300640"/>
            <a:ext cx="56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оконсерватизм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граниченное государственное регулирова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ыночной экономикой, бесплатные благ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лько тем, кто в них нуждает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видности идеолог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36" name="Organization Chart 6"/>
          <p:cNvGrpSpPr/>
          <p:nvPr/>
        </p:nvGrpSpPr>
        <p:grpSpPr>
          <a:xfrm>
            <a:off x="431640" y="2332080"/>
            <a:ext cx="8208360" cy="2071800"/>
            <a:chOff x="431640" y="2332080"/>
            <a:chExt cx="8208360" cy="2071800"/>
          </a:xfrm>
        </p:grpSpPr>
        <p:cxnSp>
          <p:nvCxnSpPr>
            <p:cNvPr id="337" name="_s3076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895720" y="1585440"/>
              <a:ext cx="153360" cy="2873520"/>
            </a:xfrm>
            <a:prstGeom prst="bentConnector3">
              <a:avLst>
                <a:gd name="adj1" fmla="val 498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0" name="_s3077"/>
            <p:cNvCxnSpPr>
              <a:stCxn id="341" idx="0"/>
              <a:endCxn id="339" idx="2"/>
            </p:cNvCxnSpPr>
            <p:nvPr/>
          </p:nvCxnSpPr>
          <p:spPr>
            <a:xfrm flipV="1">
              <a:off x="4536000" y="2945880"/>
              <a:ext cx="3600" cy="15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2" name="_s3078"/>
            <p:cNvCxnSpPr>
              <a:stCxn id="343" idx="0"/>
              <a:endCxn id="339" idx="2"/>
            </p:cNvCxnSpPr>
            <p:nvPr/>
          </p:nvCxnSpPr>
          <p:spPr>
            <a:xfrm flipH="1" flipV="1" rot="5400000">
              <a:off x="3022560" y="1585800"/>
              <a:ext cx="153360" cy="2873520"/>
            </a:xfrm>
            <a:prstGeom prst="bentConnector3">
              <a:avLst>
                <a:gd name="adj1" fmla="val 498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39" name="_s3079"/>
            <p:cNvSpPr/>
            <p:nvPr/>
          </p:nvSpPr>
          <p:spPr>
            <a:xfrm>
              <a:off x="1740240" y="2332080"/>
              <a:ext cx="5591520" cy="57636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Коммунистическая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_s3080"/>
            <p:cNvSpPr/>
            <p:nvPr/>
          </p:nvSpPr>
          <p:spPr>
            <a:xfrm>
              <a:off x="431640" y="3137040"/>
              <a:ext cx="2462400" cy="12668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щественна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обственно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на средств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оизводств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_s3081"/>
            <p:cNvSpPr/>
            <p:nvPr/>
          </p:nvSpPr>
          <p:spPr>
            <a:xfrm>
              <a:off x="3304440" y="3137040"/>
              <a:ext cx="2462400" cy="12668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Диктатур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олетариат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_s3082"/>
            <p:cNvSpPr/>
            <p:nvPr/>
          </p:nvSpPr>
          <p:spPr>
            <a:xfrm>
              <a:off x="6177600" y="3137040"/>
              <a:ext cx="2462400" cy="12668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оциальна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праведливост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видности идеолог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45" name="Organization Chart 24"/>
          <p:cNvGrpSpPr/>
          <p:nvPr/>
        </p:nvGrpSpPr>
        <p:grpSpPr>
          <a:xfrm>
            <a:off x="393840" y="2332080"/>
            <a:ext cx="8246520" cy="3048120"/>
            <a:chOff x="393840" y="2332080"/>
            <a:chExt cx="8246520" cy="3048120"/>
          </a:xfrm>
        </p:grpSpPr>
        <p:cxnSp>
          <p:nvCxnSpPr>
            <p:cNvPr id="346" name="_s4100"/>
            <p:cNvCxnSpPr>
              <a:stCxn id="347" idx="1"/>
              <a:endCxn id="348" idx="2"/>
            </p:cNvCxnSpPr>
            <p:nvPr/>
          </p:nvCxnSpPr>
          <p:spPr>
            <a:xfrm rot="10800000">
              <a:off x="4516200" y="2826720"/>
              <a:ext cx="302760" cy="2235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4101"/>
            <p:cNvCxnSpPr>
              <a:stCxn id="350" idx="3"/>
              <a:endCxn id="348" idx="2"/>
            </p:cNvCxnSpPr>
            <p:nvPr/>
          </p:nvCxnSpPr>
          <p:spPr>
            <a:xfrm flipV="1">
              <a:off x="4215240" y="2827080"/>
              <a:ext cx="302400" cy="2235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1" name="_s4102"/>
            <p:cNvCxnSpPr>
              <a:stCxn id="352" idx="1"/>
              <a:endCxn id="348" idx="2"/>
            </p:cNvCxnSpPr>
            <p:nvPr/>
          </p:nvCxnSpPr>
          <p:spPr>
            <a:xfrm rot="10800000">
              <a:off x="4516200" y="2826720"/>
              <a:ext cx="302760" cy="1372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3" name="_s4103"/>
            <p:cNvCxnSpPr>
              <a:stCxn id="354" idx="3"/>
              <a:endCxn id="348" idx="2"/>
            </p:cNvCxnSpPr>
            <p:nvPr/>
          </p:nvCxnSpPr>
          <p:spPr>
            <a:xfrm flipV="1">
              <a:off x="4215240" y="2827080"/>
              <a:ext cx="302400" cy="1372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5" name="_s4104"/>
            <p:cNvCxnSpPr>
              <a:stCxn id="356" idx="1"/>
              <a:endCxn id="348" idx="2"/>
            </p:cNvCxnSpPr>
            <p:nvPr/>
          </p:nvCxnSpPr>
          <p:spPr>
            <a:xfrm rot="10800000">
              <a:off x="4516200" y="2826720"/>
              <a:ext cx="302760" cy="508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7" name="_s4105"/>
            <p:cNvCxnSpPr>
              <a:stCxn id="358" idx="3"/>
              <a:endCxn id="348" idx="2"/>
            </p:cNvCxnSpPr>
            <p:nvPr/>
          </p:nvCxnSpPr>
          <p:spPr>
            <a:xfrm flipV="1">
              <a:off x="4215240" y="2826720"/>
              <a:ext cx="302400" cy="508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48" name="_s4106"/>
            <p:cNvSpPr/>
            <p:nvPr/>
          </p:nvSpPr>
          <p:spPr>
            <a:xfrm>
              <a:off x="2530800" y="2332080"/>
              <a:ext cx="3972240" cy="45720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Социал-демократическая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_s4107"/>
            <p:cNvSpPr/>
            <p:nvPr/>
          </p:nvSpPr>
          <p:spPr>
            <a:xfrm>
              <a:off x="393840" y="301788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реобразование обществ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утем реформ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_s4108"/>
            <p:cNvSpPr/>
            <p:nvPr/>
          </p:nvSpPr>
          <p:spPr>
            <a:xfrm>
              <a:off x="4856760" y="301788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авенство форм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обственности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_s4109"/>
            <p:cNvSpPr/>
            <p:nvPr/>
          </p:nvSpPr>
          <p:spPr>
            <a:xfrm>
              <a:off x="393840" y="388152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ерераспределение доходов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_s4110"/>
            <p:cNvSpPr/>
            <p:nvPr/>
          </p:nvSpPr>
          <p:spPr>
            <a:xfrm>
              <a:off x="4856760" y="388152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Доступность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оциальных благ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_s4111"/>
            <p:cNvSpPr/>
            <p:nvPr/>
          </p:nvSpPr>
          <p:spPr>
            <a:xfrm>
              <a:off x="393840" y="474516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Государственное регулировани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ыночной экономикой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_s4112"/>
            <p:cNvSpPr/>
            <p:nvPr/>
          </p:nvSpPr>
          <p:spPr>
            <a:xfrm>
              <a:off x="4856760" y="4745160"/>
              <a:ext cx="3783600" cy="63504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Демократия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видности идеолог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0" name="Organization Chart 6"/>
          <p:cNvGrpSpPr/>
          <p:nvPr/>
        </p:nvGrpSpPr>
        <p:grpSpPr>
          <a:xfrm>
            <a:off x="1188720" y="2332080"/>
            <a:ext cx="6693480" cy="2330280"/>
            <a:chOff x="1188720" y="2332080"/>
            <a:chExt cx="6693480" cy="2330280"/>
          </a:xfrm>
        </p:grpSpPr>
        <p:cxnSp>
          <p:nvCxnSpPr>
            <p:cNvPr id="361" name="_s5124"/>
            <p:cNvCxnSpPr>
              <a:stCxn id="362" idx="1"/>
              <a:endCxn id="363" idx="2"/>
            </p:cNvCxnSpPr>
            <p:nvPr/>
          </p:nvCxnSpPr>
          <p:spPr>
            <a:xfrm rot="10800000">
              <a:off x="4536720" y="2858400"/>
              <a:ext cx="142200" cy="145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4" name="_s5125"/>
            <p:cNvCxnSpPr>
              <a:stCxn id="365" idx="3"/>
              <a:endCxn id="363" idx="2"/>
            </p:cNvCxnSpPr>
            <p:nvPr/>
          </p:nvCxnSpPr>
          <p:spPr>
            <a:xfrm flipV="1">
              <a:off x="4392360" y="2858760"/>
              <a:ext cx="144720" cy="145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6" name="_s5126"/>
            <p:cNvCxnSpPr>
              <a:stCxn id="367" idx="1"/>
              <a:endCxn id="363" idx="2"/>
            </p:cNvCxnSpPr>
            <p:nvPr/>
          </p:nvCxnSpPr>
          <p:spPr>
            <a:xfrm rot="10800000">
              <a:off x="4536720" y="2859120"/>
              <a:ext cx="142200" cy="53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8" name="_s5127"/>
            <p:cNvCxnSpPr>
              <a:stCxn id="369" idx="3"/>
              <a:endCxn id="363" idx="2"/>
            </p:cNvCxnSpPr>
            <p:nvPr/>
          </p:nvCxnSpPr>
          <p:spPr>
            <a:xfrm flipV="1">
              <a:off x="4392360" y="2859120"/>
              <a:ext cx="144720" cy="53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3" name="_s5128"/>
            <p:cNvSpPr/>
            <p:nvPr/>
          </p:nvSpPr>
          <p:spPr>
            <a:xfrm>
              <a:off x="3710520" y="2332080"/>
              <a:ext cx="1649160" cy="48888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Фашизм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_s5129"/>
            <p:cNvSpPr/>
            <p:nvPr/>
          </p:nvSpPr>
          <p:spPr>
            <a:xfrm>
              <a:off x="1188720" y="3049560"/>
              <a:ext cx="3166200" cy="69228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асовое и национально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неравенств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_s5130"/>
            <p:cNvSpPr/>
            <p:nvPr/>
          </p:nvSpPr>
          <p:spPr>
            <a:xfrm>
              <a:off x="4716000" y="3049560"/>
              <a:ext cx="3166200" cy="69228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оталитаризм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_s5131"/>
            <p:cNvSpPr/>
            <p:nvPr/>
          </p:nvSpPr>
          <p:spPr>
            <a:xfrm>
              <a:off x="1188720" y="3970440"/>
              <a:ext cx="3166200" cy="69192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инцип фюрерств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_s5132"/>
            <p:cNvSpPr/>
            <p:nvPr/>
          </p:nvSpPr>
          <p:spPr>
            <a:xfrm>
              <a:off x="4716000" y="3970440"/>
              <a:ext cx="3166200" cy="691920"/>
            </a:xfrm>
            <a:prstGeom prst="rect">
              <a:avLst/>
            </a:prstGeom>
            <a:solidFill>
              <a:srgbClr val="0066cc"/>
            </a:solidFill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Насилие и агресси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емократия = Либерализ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1332000" y="2205000"/>
            <a:ext cx="2519280" cy="792360"/>
          </a:xfrm>
          <a:prstGeom prst="wedgeRectCallout">
            <a:avLst>
              <a:gd name="adj1" fmla="val -14083"/>
              <a:gd name="adj2" fmla="val -188476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ий режи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5148360" y="2205000"/>
            <a:ext cx="2519280" cy="792360"/>
          </a:xfrm>
          <a:prstGeom prst="wedgeRectCallout">
            <a:avLst>
              <a:gd name="adj1" fmla="val 21898"/>
              <a:gd name="adj2" fmla="val -188675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ая идеолог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539640" y="3836880"/>
            <a:ext cx="3168720" cy="12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19" y="1979"/>
                </a:moveTo>
                <a:lnTo>
                  <a:pt x="-866" y="1979"/>
                </a:lnTo>
                <a:lnTo>
                  <a:pt x="-866" y="-31191"/>
                </a:lnTo>
                <a:lnTo>
                  <a:pt x="7586" y="-45344"/>
                </a:lnTo>
              </a:path>
            </a:pathLst>
          </a:cu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ервом месте – принцип равенст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219640" y="3860640"/>
            <a:ext cx="3168720" cy="12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9" y="1979"/>
                </a:moveTo>
                <a:lnTo>
                  <a:pt x="22119" y="1979"/>
                </a:lnTo>
                <a:lnTo>
                  <a:pt x="22119" y="-30751"/>
                </a:lnTo>
                <a:lnTo>
                  <a:pt x="14252" y="-47295"/>
                </a:lnTo>
              </a:path>
            </a:pathLst>
          </a:cu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ервом месте – принци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ободы лич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Свобода личности, индивидуализм, равенство возможностей характеризуют идеологию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сервативну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беральну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циал-демократическу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мунистическу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ртийная сис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днопартийная система             (Куба, Северная Корея (КНДР), бывший СССР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вухпартийная система (Великобритания, США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ногопартийная система (большинство европейских государств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68360" y="1341360"/>
            <a:ext cx="8229600" cy="79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ханизм взаимодействия и соперничества партий в борьбе за власть и ее осуществл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щественные движ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 отличие от партий общественные движения стремятся не к власти,               а к изменению поведения органов власт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116000" y="1341360"/>
            <a:ext cx="6985080" cy="79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ъединения граждан для достижения какой-либо це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нципы устойчивости политической вла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егитимнос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общественное признание власти, политических решений, лидеров, партий, организаций и движе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зультативнос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степень выполнения тех функций, которые возлагают на власть участники политических отнош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ажданское обще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11280" y="1341360"/>
            <a:ext cx="784836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щественная жизнь людей, огражденная законами от прямого вмешательства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11280" y="2852640"/>
            <a:ext cx="7848360" cy="144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вокупность негосударственных общественных отношений и институтов, выражающих разнообразные интересы и потребности лю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11280" y="4724280"/>
            <a:ext cx="784836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политические отношения в добровольно сформировавшихся объединениях и организациях гражда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лои отношений внутри гражданского обще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ночное хозяй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циокультурные отношения (семья, школа, церковь, научные, культурные учреждения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единения по интересам, включающиеся в политик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11280" y="5300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сударство должно обеспечива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рмальную жизнедеятельность гражданского общест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Признаки правового государства: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Верховенство права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Подчинение закону самого государства, его органов, должностных лиц, организаций и граждан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Гуманный характер законов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Свобода и равенство в правах признается как прирожденное качество человека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Незыблемость прав человека, их охрана и гарантия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Взаимная заинтересованность государства и личности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Разделение властей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250920" y="1341360"/>
            <a:ext cx="8569080" cy="792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сударство, в котором существует верховенство права в обществе и всех его сфер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1116000" y="71280"/>
            <a:ext cx="6838920" cy="333360"/>
          </a:xfrm>
          <a:prstGeom prst="wedgeRectCallout">
            <a:avLst>
              <a:gd name="adj1" fmla="val -4037"/>
              <a:gd name="adj2" fmla="val 13666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возможно без зрелого гражданского обще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стественные прав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сеобщая Декларация прав человека 1948 года (минимальный объем прав и свобод человека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Международный пакт об экономических, социальных и культурных правах 1966 год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Международный пакт о гражданских и политических правах человека 1966 год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Факультативный протокол к Международному пакту о гражданских и политических правах человека (право обращаться в Комитет по правам человека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1547640" y="71280"/>
            <a:ext cx="6193080" cy="333360"/>
          </a:xfrm>
          <a:prstGeom prst="wedgeRectCallout">
            <a:avLst>
              <a:gd name="adj1" fmla="val -4115"/>
              <a:gd name="adj2" fmla="val 149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исаны в Хартии (Билле) прав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истемы защиты прав человека в современной Евро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ООН (см. выш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Совещания по безопасности и сотрудничеству в Европе (СБСЕ) (с 1975 г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, функционирующая в рамках Совета Европы (СЕ) (Европейская конвенция прав человека и основных свобод 1950 год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826920" y="5805360"/>
            <a:ext cx="3024360" cy="765360"/>
          </a:xfrm>
          <a:prstGeom prst="upArrowCallout">
            <a:avLst>
              <a:gd name="adj1" fmla="val 98798"/>
              <a:gd name="adj2" fmla="val 98789"/>
              <a:gd name="adj3" fmla="val 16667"/>
              <a:gd name="adj4" fmla="val 6666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вропейская Комис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140360" y="5805360"/>
            <a:ext cx="4608360" cy="790560"/>
          </a:xfrm>
          <a:prstGeom prst="upArrowCallout">
            <a:avLst>
              <a:gd name="adj1" fmla="val 145744"/>
              <a:gd name="adj2" fmla="val 145731"/>
              <a:gd name="adj3" fmla="val 16667"/>
              <a:gd name="adj4" fmla="val 6666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вропейский Суд по правам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изнаками только правового государства являются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уверенит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ховенство пра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работанность закон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храна и гарантии прав чело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аимная заинтересованность государства и лич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деление государственных влас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государственной власти в России: выбо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70040" y="15717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рма пр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55640" y="1557360"/>
            <a:ext cx="2376360" cy="504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спубли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904280" y="19890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бираютс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924360" y="1557360"/>
            <a:ext cx="3457440" cy="17272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иден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енная Дум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конодательные собр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бъектов федераци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ганы местн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моупр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994320" y="234936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бира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684360" y="2421000"/>
            <a:ext cx="2519280" cy="8636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 18 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654120" y="364500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ссив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бирательное пра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755640" y="3645000"/>
            <a:ext cx="2519280" cy="8636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идент с 35 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путат Госдум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 21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618800" y="371628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бирательных пра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 имею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4572000" y="3645000"/>
            <a:ext cx="2736720" cy="8636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дееспособные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ключен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058480" y="530064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ые требования к выбора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684360" y="5084640"/>
            <a:ext cx="6913440" cy="79236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оры должны быть свободными, альтернативным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ямыми, равными, проходить при тайном голосован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государственной власти в России: президен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116000" y="1413000"/>
            <a:ext cx="7201080" cy="6490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идент – глава государства, избираемый прямы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сованием сроком на 4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116000" y="3284640"/>
            <a:ext cx="7201080" cy="93636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писывает законы, возвращает их на повтор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смотрение, вносит законопроекты в Госдум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дает указы и распоряж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116000" y="4221000"/>
            <a:ext cx="7201080" cy="936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Совету Федерации кандидатов на должн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дей Конституционного суда, Верховного суд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сшего арбитражного суда, Генерального прокур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1116000" y="2060640"/>
            <a:ext cx="7201080" cy="1225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рмирует правительство: назначает с соглас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мы председателя, его заместителей, руководител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итетов и ведомств, принимает реш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 отставке правитель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1116000" y="5157720"/>
            <a:ext cx="7201080" cy="936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главляет Совет безопасности, руководит внешн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итикой, решает вопросы гражданства, помиловани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суждает государственные награ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государственной власти в России: парламен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547640" y="1628640"/>
            <a:ext cx="2664000" cy="17290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едерально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обр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211640" y="2492280"/>
            <a:ext cx="3743280" cy="8636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Ду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50 депута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4211640" y="1628640"/>
            <a:ext cx="3743280" cy="8636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овет Федер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76 сенатор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539640" y="3573360"/>
            <a:ext cx="5472360" cy="970200"/>
          </a:xfrm>
          <a:prstGeom prst="wedgeRectCallout">
            <a:avLst>
              <a:gd name="adj1" fmla="val 27342"/>
              <a:gd name="adj2" fmla="val -72259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сматривает и принимает законы, участвует в формировании правительства, других высших органов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539640" y="4941720"/>
            <a:ext cx="6120000" cy="147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69" y="1676"/>
                </a:moveTo>
                <a:lnTo>
                  <a:pt x="28783" y="1676"/>
                </a:lnTo>
                <a:lnTo>
                  <a:pt x="28783" y="-22601"/>
                </a:lnTo>
                <a:lnTo>
                  <a:pt x="26435" y="-40314"/>
                </a:lnTo>
              </a:path>
            </a:pathLst>
          </a:cu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нение границ между субъектами, назначение на должность судей Конституционного суда, Верховного суд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сшего арбитражного суда, Генерального прокурора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государственной власти в России: правитель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11280" y="1700280"/>
            <a:ext cx="7921440" cy="936720"/>
          </a:xfrm>
          <a:prstGeom prst="bevel">
            <a:avLst>
              <a:gd name="adj" fmla="val 1250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седатель, его заместители, федеральные минист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900000" y="2924280"/>
            <a:ext cx="7201080" cy="64908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рабатывает и представляет Госдуме бюдж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900000" y="3789360"/>
            <a:ext cx="7201080" cy="649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еспечивает выполнение социально-экономическ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 развития стр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900000" y="4724280"/>
            <a:ext cx="7201080" cy="4334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правляет федеральной собственность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900000" y="5445000"/>
            <a:ext cx="7201080" cy="72072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уществляет меры по обороне страны, защите прав 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обод гражда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ая деяте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осударственное управлени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воздействие на общество силой закона и специальных учрежден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здействи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литических партий на общественные процес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зличные формы участ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рода в политической жизни (сотрудничество, союз, конфликт, борьба и т.д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государственной власти в России: су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11280" y="1700280"/>
            <a:ext cx="7921440" cy="2952720"/>
          </a:xfrm>
          <a:prstGeom prst="bevel">
            <a:avLst>
              <a:gd name="adj" fmla="val 1250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сшие органы судебной влас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ституционный су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ховный су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сший арбитражный су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 Российской Федерации парламентом является: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 Федер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ударственная Ду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деральное Собр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 безопас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ческая куль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менты политической культур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ие знания (знания о политике, политической системе, политических идеологиях, институтах и процедурах участия в политик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ие ценностные ориентации (представления о идеалах и ценностях лучшего общественного устройств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итические действия (правила политического поведения, исполнение политических роле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042920" y="1341360"/>
            <a:ext cx="698508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ровень освоения человеком и обществом политических идей, взглядов, концепций, програм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ы политической культу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триархальная (полное отсутствие интереса к политик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анническая (люди имеют представление о политике, но не принимают в ней участия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ажданская (активное участие граждан в политике, ответственное участие в выборах, приверженность к демократическим ценностям и т. д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ы вла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Харизматическая власт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управление страной осуществляется выдающейся личностью, способной авторитетом воздействовать на общество в цел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радиционная власт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держится на обычаях, традициях, вере в надежность и непоколебимость существующих поряд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егальная власт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узаконенная, основанная на юридических нормах, которые необходимо выполня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ъекты поли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2268360" y="1773360"/>
            <a:ext cx="4824720" cy="1655640"/>
          </a:xfrm>
          <a:prstGeom prst="bevel">
            <a:avLst>
              <a:gd name="adj" fmla="val 1250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нутренняя политик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ество в целом, экономик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циональные отношени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циальная сфера, культура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2268360" y="3716280"/>
            <a:ext cx="4824720" cy="1656000"/>
          </a:xfrm>
          <a:prstGeom prst="bevel">
            <a:avLst>
              <a:gd name="adj" fmla="val 12500"/>
            </a:avLst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нешняя политик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ировое сообщество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ждународные отнош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бъекты политической деятель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ие социальные общности (социальные группы, классы, народ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тические организации и группы (государство, партии, движени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ельные личности (лидеры партий, государственные деятели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2:16:03Z</dcterms:created>
  <dc:creator>Свечников Сергей</dc:creator>
  <dc:description/>
  <dc:language>en-US</dc:language>
  <cp:lastModifiedBy>1</cp:lastModifiedBy>
  <dcterms:modified xsi:type="dcterms:W3CDTF">2008-04-09T07:04:50Z</dcterms:modified>
  <cp:revision>44</cp:revision>
  <dc:subject/>
  <dc:title>ПОЛИТИЧЕСКАЯ СФЕРА</dc:title>
</cp:coreProperties>
</file>