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66C-4056-4288-8055-49B2FA68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B83-4896-4738-8A12-3E180702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098-9260-413A-89B1-3FB1D729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63E-11EC-4267-9C58-02C18423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2FA-F970-4A93-AAE2-5BD4735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B64-D9BD-414C-AED5-6B586B8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15F-F510-41C9-84B3-CC97E8D2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E44-DABC-4205-B505-FFF19AAE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934-8747-4EB3-A198-87D8D404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9F7-BEC1-4939-A68C-882C40C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A52-5523-4C89-B587-1BBEA01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91F-AA26-463D-8474-1BB444B7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3f3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C91C-B81A-4147-A21A-3C75C40F5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4140360" y="1628640"/>
            <a:ext cx="3240000" cy="465120"/>
          </a:xfrm>
          <a:prstGeom prst="wedgeRectCallout">
            <a:avLst>
              <a:gd name="adj1" fmla="val -52300"/>
              <a:gd name="adj2" fmla="val 15136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олучения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203640" y="4797360"/>
            <a:ext cx="2808360" cy="865080"/>
          </a:xfrm>
          <a:prstGeom prst="upArrowCallout">
            <a:avLst>
              <a:gd name="adj1" fmla="val 81166"/>
              <a:gd name="adj2" fmla="val 81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НОС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0.00399 -0.20995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ответствие представлений о предмете самому этому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20877600">
            <a:off x="3851280" y="2923920"/>
            <a:ext cx="1224000" cy="485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3141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ель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151960" y="2781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4764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20877600">
            <a:off x="3635280" y="3860280"/>
            <a:ext cx="1224000" cy="48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937400" y="3716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332000" y="5300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критерий истины – практ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564000" y="3429000"/>
            <a:ext cx="143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5866920" y="306864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оположности ис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знание, которое не соответствует своему предме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ж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реднамеренное введение в забл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, исчерпывающее знание назы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ив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ука – основная форма позн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ление к объ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ны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законов и закономерностей, более глубоки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2124000" y="0"/>
            <a:ext cx="5112000" cy="692280"/>
          </a:xfrm>
          <a:prstGeom prst="cloudCallout">
            <a:avLst>
              <a:gd name="adj1" fmla="val 19814"/>
              <a:gd name="adj2" fmla="val 61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искусство, философия, мораль, религия, повседневный опы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многоголовая гидра, пожирающая человеческую индивидуаль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д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ловека всегда важнее личная жизнь, чем обществен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сложная динамичная система, все компоненты которой тесно взаимосвяза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й из функций семьи является социализация подрастающих покол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5720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закон, принцип, научная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572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факты и эмпирически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720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бъяснение изучаемых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572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писание предметов и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ые формы познания П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572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енные формы познания ОВ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5720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пи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57200" y="23493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57200" y="34815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457200" y="48531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457200" y="66517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4572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572000" y="1600200"/>
            <a:ext cx="0" cy="505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86868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теоретическ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ановка цели и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литературы по т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я и проведение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законов , научных прогно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867280" y="2492280"/>
            <a:ext cx="1922760" cy="360360"/>
          </a:xfrm>
          <a:prstGeom prst="wedgeRectCallout">
            <a:avLst>
              <a:gd name="adj1" fmla="val -97481"/>
              <a:gd name="adj2" fmla="val 627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приемов получения определен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2565360"/>
          <a:ext cx="8229600" cy="40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(невключенн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ело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кция (от частного к обще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укция (от общего к частно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037120"/>
        </p:xfrm>
        <a:graphic>
          <a:graphicData uri="http://schemas.openxmlformats.org/drawingml/2006/table">
            <a:tbl>
              <a:tblPr/>
              <a:tblGrid>
                <a:gridCol w="5267160"/>
                <a:gridCol w="2962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ое модел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й 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отрасли науч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Organization Chart 16"/>
          <p:cNvGrpSpPr/>
          <p:nvPr/>
        </p:nvGrpSpPr>
        <p:grpSpPr>
          <a:xfrm>
            <a:off x="457200" y="1904760"/>
            <a:ext cx="8002080" cy="1387800"/>
            <a:chOff x="457200" y="1904760"/>
            <a:chExt cx="8002080" cy="1387800"/>
          </a:xfrm>
        </p:grpSpPr>
        <p:cxnSp>
          <p:nvCxnSpPr>
            <p:cNvPr id="188" name="_s2052"/>
            <p:cNvCxnSpPr>
              <a:stCxn id="189" idx="0"/>
              <a:endCxn id="190" idx="1"/>
            </p:cNvCxnSpPr>
            <p:nvPr/>
          </p:nvCxnSpPr>
          <p:spPr>
            <a:xfrm flipV="1" rot="16200000">
              <a:off x="5420520" y="1356840"/>
              <a:ext cx="228960" cy="21564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_s2053"/>
            <p:cNvCxnSpPr>
              <a:stCxn id="192" idx="0"/>
              <a:endCxn id="190" idx="0"/>
            </p:cNvCxnSpPr>
            <p:nvPr/>
          </p:nvCxnSpPr>
          <p:spPr>
            <a:xfrm flipH="1" flipV="1" rot="5400000">
              <a:off x="3266280" y="1359000"/>
              <a:ext cx="228960" cy="215244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0" name="_s2054"/>
            <p:cNvSpPr/>
            <p:nvPr/>
          </p:nvSpPr>
          <p:spPr>
            <a:xfrm>
              <a:off x="3550680" y="1904760"/>
              <a:ext cx="1812240" cy="416160"/>
            </a:xfrm>
            <a:prstGeom prst="bevel">
              <a:avLst>
                <a:gd name="adj" fmla="val 12500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55"/>
            <p:cNvSpPr/>
            <p:nvPr/>
          </p:nvSpPr>
          <p:spPr>
            <a:xfrm>
              <a:off x="457200" y="2549520"/>
              <a:ext cx="369360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дамент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физика, хим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6"/>
            <p:cNvSpPr/>
            <p:nvPr/>
          </p:nvSpPr>
          <p:spPr>
            <a:xfrm>
              <a:off x="4765320" y="2549520"/>
              <a:ext cx="369396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агрономия, зоотехн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Organization Chart 23"/>
          <p:cNvGrpSpPr/>
          <p:nvPr/>
        </p:nvGrpSpPr>
        <p:grpSpPr>
          <a:xfrm>
            <a:off x="324000" y="3872880"/>
            <a:ext cx="8362800" cy="953280"/>
            <a:chOff x="324000" y="3872880"/>
            <a:chExt cx="8362800" cy="953280"/>
          </a:xfrm>
        </p:grpSpPr>
        <p:cxnSp>
          <p:nvCxnSpPr>
            <p:cNvPr id="194" name="_s2059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6017040" y="2722320"/>
              <a:ext cx="229320" cy="325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7" name="_s2060"/>
            <p:cNvCxnSpPr>
              <a:stCxn id="198" idx="0"/>
              <a:endCxn id="196" idx="2"/>
            </p:cNvCxnSpPr>
            <p:nvPr/>
          </p:nvCxnSpPr>
          <p:spPr>
            <a:xfrm flipV="1" rot="16200000">
              <a:off x="4932720" y="3806640"/>
              <a:ext cx="229320" cy="108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9" name="_s2061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3848400" y="3806280"/>
              <a:ext cx="229320" cy="1085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1" name="_s2062"/>
            <p:cNvCxnSpPr>
              <a:stCxn id="202" idx="0"/>
              <a:endCxn id="196" idx="2"/>
            </p:cNvCxnSpPr>
            <p:nvPr/>
          </p:nvCxnSpPr>
          <p:spPr>
            <a:xfrm flipH="1" flipV="1" rot="5400000">
              <a:off x="2764080" y="2721960"/>
              <a:ext cx="229320" cy="325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6" name="_s2063"/>
            <p:cNvSpPr/>
            <p:nvPr/>
          </p:nvSpPr>
          <p:spPr>
            <a:xfrm>
              <a:off x="2890080" y="3872880"/>
              <a:ext cx="3229200" cy="3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cc"/>
              </a:solidFill>
              <a:miter/>
            </a:ln>
            <a:effectLst>
              <a:outerShdw dist="63504" dir="19383909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 предмету и методу по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064"/>
            <p:cNvSpPr/>
            <p:nvPr/>
          </p:nvSpPr>
          <p:spPr>
            <a:xfrm>
              <a:off x="324000" y="4464000"/>
              <a:ext cx="1857960" cy="36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65"/>
            <p:cNvSpPr/>
            <p:nvPr/>
          </p:nvSpPr>
          <p:spPr>
            <a:xfrm>
              <a:off x="2492280" y="4464000"/>
              <a:ext cx="1857960" cy="36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66"/>
            <p:cNvSpPr/>
            <p:nvPr/>
          </p:nvSpPr>
          <p:spPr>
            <a:xfrm>
              <a:off x="4660560" y="4464000"/>
              <a:ext cx="1857960" cy="362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67"/>
            <p:cNvSpPr/>
            <p:nvPr/>
          </p:nvSpPr>
          <p:spPr>
            <a:xfrm>
              <a:off x="6828840" y="4464000"/>
              <a:ext cx="1857960" cy="362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манита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5"/>
          <p:cNvSpPr/>
          <p:nvPr/>
        </p:nvSpPr>
        <p:spPr>
          <a:xfrm>
            <a:off x="39528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2556000" y="4797360"/>
            <a:ext cx="172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я инжен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471636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6948360" y="4797360"/>
            <a:ext cx="17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ы к решению проблемы познаваемости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3564000" y="5221440"/>
            <a:ext cx="5122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ваем и познание есть единств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вств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ц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57200" y="5221440"/>
            <a:ext cx="3106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564000" y="43164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щущения и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57200" y="43164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су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ж. Лок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564000" y="3409920"/>
            <a:ext cx="5122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мыслительны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57200" y="3409920"/>
            <a:ext cx="3106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Дека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564000" y="2505240"/>
            <a:ext cx="5122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пыт,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" y="2505240"/>
            <a:ext cx="3106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пир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. Бэк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64000" y="16002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ть невоз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7200" y="16002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ностиц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. К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457200" y="3409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457200" y="4316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457200" y="52214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57200" y="64072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4572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3564000" y="1600200"/>
            <a:ext cx="0" cy="480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86868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"/>
          <p:cNvSpPr/>
          <p:nvPr/>
        </p:nvSpPr>
        <p:spPr>
          <a:xfrm>
            <a:off x="6300720" y="6019920"/>
            <a:ext cx="2087640" cy="838080"/>
          </a:xfrm>
          <a:prstGeom prst="cloudCallout">
            <a:avLst>
              <a:gd name="adj1" fmla="val -74333"/>
              <a:gd name="adj2" fmla="val -46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уровня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фика познания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Organization Chart 7"/>
          <p:cNvGrpSpPr/>
          <p:nvPr/>
        </p:nvGrpSpPr>
        <p:grpSpPr>
          <a:xfrm>
            <a:off x="539640" y="1737720"/>
            <a:ext cx="8064000" cy="4057920"/>
            <a:chOff x="539640" y="1737720"/>
            <a:chExt cx="8064000" cy="4057920"/>
          </a:xfrm>
        </p:grpSpPr>
        <p:cxnSp>
          <p:nvCxnSpPr>
            <p:cNvPr id="209" name="_s3076"/>
            <p:cNvCxnSpPr>
              <a:stCxn id="210" idx="1"/>
              <a:endCxn id="211" idx="2"/>
            </p:cNvCxnSpPr>
            <p:nvPr/>
          </p:nvCxnSpPr>
          <p:spPr>
            <a:xfrm rot="10800000">
              <a:off x="4574880" y="2307960"/>
              <a:ext cx="47916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077"/>
            <p:cNvCxnSpPr>
              <a:stCxn id="213" idx="3"/>
              <a:endCxn id="211" idx="2"/>
            </p:cNvCxnSpPr>
            <p:nvPr/>
          </p:nvCxnSpPr>
          <p:spPr>
            <a:xfrm flipV="1">
              <a:off x="4089960" y="2308320"/>
              <a:ext cx="48600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078"/>
            <p:cNvCxnSpPr>
              <a:stCxn id="215" idx="1"/>
              <a:endCxn id="211" idx="2"/>
            </p:cNvCxnSpPr>
            <p:nvPr/>
          </p:nvCxnSpPr>
          <p:spPr>
            <a:xfrm rot="10800000">
              <a:off x="4574880" y="2307960"/>
              <a:ext cx="47916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079"/>
            <p:cNvCxnSpPr>
              <a:stCxn id="217" idx="3"/>
              <a:endCxn id="211" idx="2"/>
            </p:cNvCxnSpPr>
            <p:nvPr/>
          </p:nvCxnSpPr>
          <p:spPr>
            <a:xfrm flipV="1">
              <a:off x="4089960" y="2308320"/>
              <a:ext cx="4860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3080"/>
            <p:cNvSpPr/>
            <p:nvPr/>
          </p:nvSpPr>
          <p:spPr>
            <a:xfrm>
              <a:off x="1811880" y="1737720"/>
              <a:ext cx="5523480" cy="510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е позн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081"/>
            <p:cNvSpPr/>
            <p:nvPr/>
          </p:nvSpPr>
          <p:spPr>
            <a:xfrm>
              <a:off x="539640" y="241884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 и субъе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впада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082"/>
            <p:cNvSpPr/>
            <p:nvPr/>
          </p:nvSpPr>
          <p:spPr>
            <a:xfrm>
              <a:off x="5118840" y="241884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ож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083"/>
            <p:cNvSpPr/>
            <p:nvPr/>
          </p:nvSpPr>
          <p:spPr>
            <a:xfrm>
              <a:off x="539640" y="419292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бытия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я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повтори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084"/>
            <p:cNvSpPr/>
            <p:nvPr/>
          </p:nvSpPr>
          <p:spPr>
            <a:xfrm>
              <a:off x="5118840" y="419292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гранич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Верны ли следующие суждения о социальном знани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Социальное знание связано с интересами субъектов социаль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Социальное знание характеризуется единообразием взглядов и под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А и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чувствен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 предмета, возникающий на основе предшествующих ощущений и вос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стный образ внешнего мира, формирующийся на основе ощу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арное отражение отдельных сторон и свойств явлений и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у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рациональ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ового знания на основе имеющихся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о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 связь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 обобще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39640" y="1125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познание, в отличие от чувствен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истинные знания о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рается на ощу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ет представления о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логические умоза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39640" y="3500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чувственного познания, в отличие от рационального, проис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е восприят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тизац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лучен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мыслитель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982880" y="1908000"/>
            <a:ext cx="984240" cy="625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03280" y="2637000"/>
            <a:ext cx="566640" cy="20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2195640" y="1557360"/>
            <a:ext cx="565200" cy="208080"/>
          </a:xfrm>
          <a:prstGeom prst="ellips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987640" y="2637000"/>
            <a:ext cx="566640" cy="207720"/>
          </a:xfrm>
          <a:prstGeom prst="diamond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837080" y="263700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757120" y="263700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bbon2Sharp"/>
          <p:cNvSpPr/>
          <p:nvPr/>
        </p:nvSpPr>
        <p:spPr>
          <a:xfrm>
            <a:off x="826920" y="3573360"/>
            <a:ext cx="1224000" cy="792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ibbon1Sharp"/>
          <p:cNvSpPr/>
          <p:nvPr/>
        </p:nvSpPr>
        <p:spPr>
          <a:xfrm>
            <a:off x="2340000" y="3573360"/>
            <a:ext cx="122400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119240" y="429264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5796000" y="3284640"/>
            <a:ext cx="1655640" cy="1062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153760" y="4221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2"/>
          <p:cNvGrpSpPr/>
          <p:nvPr/>
        </p:nvGrpSpPr>
        <p:grpSpPr>
          <a:xfrm>
            <a:off x="5435640" y="1484280"/>
            <a:ext cx="1800000" cy="1250640"/>
            <a:chOff x="5435640" y="1484280"/>
            <a:chExt cx="1800000" cy="1250640"/>
          </a:xfrm>
        </p:grpSpPr>
        <p:sp>
          <p:nvSpPr>
            <p:cNvPr id="109" name="Puzzle3"/>
            <p:cNvSpPr/>
            <p:nvPr/>
          </p:nvSpPr>
          <p:spPr>
            <a:xfrm>
              <a:off x="6312240" y="1484280"/>
              <a:ext cx="707400" cy="6649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2"/>
            <p:cNvSpPr/>
            <p:nvPr/>
          </p:nvSpPr>
          <p:spPr>
            <a:xfrm>
              <a:off x="6106320" y="1968480"/>
              <a:ext cx="1129320" cy="60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4"/>
            <p:cNvSpPr/>
            <p:nvPr/>
          </p:nvSpPr>
          <p:spPr>
            <a:xfrm>
              <a:off x="5669280" y="1960920"/>
              <a:ext cx="680760" cy="7740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uzzle1"/>
            <p:cNvSpPr/>
            <p:nvPr/>
          </p:nvSpPr>
          <p:spPr>
            <a:xfrm>
              <a:off x="5435640" y="1685160"/>
              <a:ext cx="1143360" cy="4615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27"/>
          <p:cNvSpPr/>
          <p:nvPr/>
        </p:nvSpPr>
        <p:spPr>
          <a:xfrm>
            <a:off x="3492360" y="4581360"/>
            <a:ext cx="1871640" cy="10083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279600" y="551664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826920" y="29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ожение целого на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4356000" y="2924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частей в единое 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1188720" y="458136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пост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яда явлен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ов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явления у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его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и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5437800" y="4581360"/>
            <a:ext cx="29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е обр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альности посре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лечения и по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3205080" y="5877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ход от единичного к об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бстрагир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абстра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практики в позн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атериальное освоение человеком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Diagram 6"/>
          <p:cNvGrpSpPr/>
          <p:nvPr/>
        </p:nvGrpSpPr>
        <p:grpSpPr>
          <a:xfrm>
            <a:off x="1116000" y="2708280"/>
            <a:ext cx="7272360" cy="3600360"/>
            <a:chOff x="1116000" y="2708280"/>
            <a:chExt cx="7272360" cy="3600360"/>
          </a:xfrm>
        </p:grpSpPr>
        <p:sp>
          <p:nvSpPr>
            <p:cNvPr id="126" name="_s1028"/>
            <p:cNvSpPr/>
            <p:nvPr/>
          </p:nvSpPr>
          <p:spPr>
            <a:xfrm flipH="1">
              <a:off x="3059280" y="5084640"/>
              <a:ext cx="720720" cy="289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1116000" y="5202360"/>
              <a:ext cx="2139840" cy="1017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ль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0"/>
            <p:cNvSpPr/>
            <p:nvPr/>
          </p:nvSpPr>
          <p:spPr>
            <a:xfrm>
              <a:off x="5076720" y="5013360"/>
              <a:ext cx="935280" cy="36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1"/>
            <p:cNvSpPr/>
            <p:nvPr/>
          </p:nvSpPr>
          <p:spPr>
            <a:xfrm>
              <a:off x="5651640" y="5202360"/>
              <a:ext cx="2736720" cy="1106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тер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стинности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 flipV="1">
              <a:off x="4427640" y="3789000"/>
              <a:ext cx="1440" cy="39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48000" y="2708280"/>
              <a:ext cx="2303640" cy="1058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нова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4"/>
            <p:cNvSpPr/>
            <p:nvPr/>
          </p:nvSpPr>
          <p:spPr>
            <a:xfrm>
              <a:off x="3564000" y="4149720"/>
              <a:ext cx="1728720" cy="1058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к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ажите, что практика – основа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26:48Z</dcterms:created>
  <dc:creator>Сергей</dc:creator>
  <dc:description/>
  <dc:language>en-US</dc:language>
  <cp:lastModifiedBy>1</cp:lastModifiedBy>
  <dcterms:modified xsi:type="dcterms:W3CDTF">2008-04-09T05:14:27Z</dcterms:modified>
  <cp:revision>36</cp:revision>
  <dc:subject/>
  <dc:title>ПОЗНАНИЕ</dc:title>
</cp:coreProperties>
</file>