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983-C640-46C4-B545-85298514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EB7-F737-4A67-91EA-6218D0E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E00-8731-484A-86C6-595095A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7BC-4C21-4A9A-958B-A666E7D1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2BB3-2F25-4C54-A45E-47DFD7EA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73F-B933-4F72-A75E-7AE74C5E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9800-F2B0-424C-BD18-27827FC8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D15-57CB-4CFD-A228-B337DD5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A06C-BAFE-424F-B2E9-41B56CA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27B7-7E9B-4AE3-8F43-2905DB1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3934-8E9A-414C-B0A7-E9DE542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A28-2C5C-422C-B01A-90240A28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B5D-0F52-4924-9DB6-4241D70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52D5-6880-4035-AE6E-F70AE5C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A426-D5CF-48D9-9E37-153174C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723-73D4-4637-92E9-963D262C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A6CF-E69B-4E7C-A33D-51210D1F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76E-3F28-4FA0-96CD-78A1E5A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DBE-D5BD-4F42-BCE5-C35EBF6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10C-F7F8-4769-BE68-E3E1B5B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A39-58C9-46AE-91D6-582CB7E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4F7-EC9C-4FB6-B280-B8B4F52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7D0-6C13-430A-BA81-D973072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80C-0E9C-45BE-8B73-21AB503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CDE-B44D-4CF6-A120-E971803E9C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42C-7AAC-4C09-B990-17EA279BF4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3132000" y="1989000"/>
            <a:ext cx="4104000" cy="609840"/>
          </a:xfrm>
          <a:prstGeom prst="wedgeRectCallout">
            <a:avLst>
              <a:gd name="adj1" fmla="val -32361"/>
              <a:gd name="adj2" fmla="val 108074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обязательные нормы, установленные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наруш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знаки правонаруш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сознанное действие (украл) или осознанное бездействие (не уплатил налоги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тивопра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ротиворечие действия нормам пра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ино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сихическое отношение к своему противоправному поведению (прямой умысел, косвенный умысел, самонадеянность, небрежность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щественно-опасное 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ущерб личности, обществу, государств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8360" y="1268280"/>
            <a:ext cx="82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вредное, виновное деяние, противоречащее нормам п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547640" y="5950080"/>
            <a:ext cx="237672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уп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219640" y="5950080"/>
            <a:ext cx="223200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есту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ы преступл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степени опас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небольшой тяжести, средней тяжести, тяжкие, особо тяж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характер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корыстные (кражи, взятки…), экономические (нарушение интересов потребителя, ущерб окружающей среде…), насильственные (убийства…), террор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гласно УП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против личности, в экономической сфере, против общественного порядка, против государственной власти, против военной службы, против мира и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опасное деяние, запрещенное уголовным кодек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ступ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проступ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сфере служебных отношен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осягающие на общественные отношения, связанные с государственным управлением – нарушение правил безопасности дорожного движения, пожарной безопасности, нецензурная брань в общественных местах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 сфере имущественных и некоторых неимущественных отношений (неисполнение обязанностей по договору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новное противоправное деяние, представляющее меньшую опасность, чем преступ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Юридическая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упает за совершение правонару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ется государством в нормах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лагается строго определенными государственными органами, должност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ся принудительной силой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еблагоприятных последствий, которые могут возникнуть у тех, кто нарушил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95280" y="5948280"/>
            <a:ext cx="835344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– защитить права и свободы человека, обеспечить общественный порядок, наказать винов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юридическ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в целях недопущения большего вре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вменяемость посягающего 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одолимая сила (например, стихийное бедств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юридической ответствен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о-правов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выгодные последствия имущественного характера – возмещение вреда, уплата неустойки, штраф, пени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ложение взыскания на работника предприятия администрацией – замечание, выговор, строгий выговор, увольнение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упреждение, штраф, лишение специальных прав, административный арест до 15 суток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голо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ерны ли следующие суждения?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 Проступки делятся на гражданские, административные, уголовные, дисциплинар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. Заведомо ложное сообщение о готовящемся террористическом акте классифицируется в РФ как преступ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и А, и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утвер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нституционное (государственное)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ватыв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конституцион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о-государственное устройство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организации и функции государственных органов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щая отрасль права, регулирующая фундаментальные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 («О референдуме РФ», «О Конституционном суде», «О выборах Президента РФ»…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тивные акты субъектов (Конституции республик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говора (о разграничении полномочий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3780000" y="1557360"/>
            <a:ext cx="4537080" cy="609480"/>
          </a:xfrm>
          <a:prstGeom prst="wedgeRectCallout">
            <a:avLst>
              <a:gd name="adj1" fmla="val -59763"/>
              <a:gd name="adj2" fmla="val 59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ята 12 декабря 1993 г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упила в силу 25 декабря 1993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нципы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спубликанская форма 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ый суверенитет (источник власти – нар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оритет и нерушимость прав и свобод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ение вла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обенности правовых нор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ят общеобязатель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ы в законах и других правовых ак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ко определяют границы возмож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ются принудительной сил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ы административных отнош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аппаратные отношения (руководитель – подчиненны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я между правительством и министер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общественными организ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граждан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т общественные отношения в сфере государствен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черты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менное участие какого-либо органа государственной в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юридического равенства сторон: один участник имеет права, а другой - обяза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403280" y="5300640"/>
            <a:ext cx="64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ая ответственность наступает с 16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например, «О милици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 (указы президента, постановления правительства, акты министерств и ведомст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декс об административных правонарушениях (КоАП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административных правонарушен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ПД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улиганство (брань, оскорбительное отношение к людя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итие спиртных напитков  в общественны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анение наркотиков в небольших разме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ые взыск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упреждение ( в письменной форм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раф (исходя из МРО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ездное изъятие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фис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ение специального права (водительское, право охоты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равительные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ест на 15 суток (кроме лиц, имеющих детей до 12 лет, беременных, инвалидов 1 и 2 гр., лиц до 18 ле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е выдворение за пределы РФ (иностранцев, лиц без гражданст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голо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71280" y="1268280"/>
            <a:ext cx="900144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юридических норм, определяющих преступность и наказуемость деяний, опасных для об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4360" y="2565360"/>
            <a:ext cx="352872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 УК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инят в 1997 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59280" y="2565360"/>
            <a:ext cx="352908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поняти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е и наказ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2268360" y="4005360"/>
            <a:ext cx="496764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ая ответственность – с 16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умышленные преступления – с 14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уголовных наказан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 (от 25 до 1000 МРО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права занимать должность (до 5 ле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фискация иму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изненное 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1476360" y="4941720"/>
            <a:ext cx="6335640" cy="129564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 уголовного наказа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равить и перевоспит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становить социальную справедлив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уголовн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спасая людей в экстренных ситуация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ое и психическое принуждение (связанный сторож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ение вреда при задержании лица, совершившего преступ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 или распоря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жданск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физические и юридические лица, государство, субъекты РФ, муниципальные образ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ъек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вещи, деньги, услуги, информация, интеллектуальная собственность, здоровь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орм, регулирующие имущественные и личные неиму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гражданск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К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о приватизации, о защите прав потребителей, о несостоятельности (банкротстве) предприятий, об авторском праве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826920" y="1341360"/>
            <a:ext cx="7561440" cy="1511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 п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обязательное правило поведения, установленное государством и закрепленное в официальных правовых ак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826920" y="3068640"/>
            <a:ext cx="7561440" cy="172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асль права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правовых норм, регулирующая целую сферу однородных правовых отношений (конституционное право, трудовое право, уголовное право, административное право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4941720"/>
            <a:ext cx="7561440" cy="1656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 п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обленная группа норм внутри отрасли права (в уголовном праве: институт преступлений против жизни, здоровья, достоинства человека, институт преступлений против собственности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мущественные и личные неимущественные отнош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050920" y="1773360"/>
            <a:ext cx="475308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ущественные отнош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аво иметь, наследовать имущество…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4000" y="3141720"/>
            <a:ext cx="287964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ные отно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купатель – продавец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292720" y="3141720"/>
            <a:ext cx="3527280" cy="792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ственные отно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олжник кредито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47" name="AutoShape 9"/>
          <p:cNvCxnSpPr>
            <a:stCxn id="244" idx="0"/>
            <a:endCxn id="245" idx="0"/>
          </p:cNvCxnSpPr>
          <p:nvPr/>
        </p:nvCxnSpPr>
        <p:spPr>
          <a:xfrm flipV="1" rot="10800000">
            <a:off x="1762920" y="2277000"/>
            <a:ext cx="28800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AutoShape 10"/>
          <p:cNvCxnSpPr>
            <a:stCxn id="244" idx="1"/>
            <a:endCxn id="246" idx="0"/>
          </p:cNvCxnSpPr>
          <p:nvPr/>
        </p:nvCxnSpPr>
        <p:spPr>
          <a:xfrm>
            <a:off x="6803640" y="2277720"/>
            <a:ext cx="25308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9" name="AutoShape 11"/>
          <p:cNvSpPr/>
          <p:nvPr/>
        </p:nvSpPr>
        <p:spPr>
          <a:xfrm>
            <a:off x="1835280" y="4437000"/>
            <a:ext cx="5329080" cy="57636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чные неимущественные отно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395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не связан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храна достоинства, чес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ой репутации, интересов…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4643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связан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авторские прав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ещи (имущество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е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земельные участки, участки недр, обособленные водные объекты, здания, сооружения, воздушные и морские суда, космические объекты. Подлежат государственной регист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деньги, ценные бумаг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делка и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дел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установление, изменение и прекращение определенных прав и обязанностей. Сделки бывают односторонними (доверенность) и многосторон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ид сделки, в которой участвуют две или более сторон. Виды: договор купли-продажи, дарения, мены, банковского кредита, строительного подряда, на оказание услуг, страхования, аренда земли, здан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потреб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е товары и услуги должны соответствовать стандарту и санитарным норма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 на подробную информацию о товар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На этикетке должна быть указана марка производителя с адрес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о на безопасный и качественный товар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 дефектах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потребовать, чтобы недостатки были устранены в течении 20 дней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договориться об уменьшении цены на товар с продавц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заменить аналогичным, но качественным товар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возвратить товар в магазин до определенного срока и вернуть деньг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изготов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срок службы ве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некоторые товары устанавливать срок го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гарантийный срок, в течение которого могут быть произведены ремонтные работы беспла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отношения между людьми в процессе трудов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 отношений – работник и работод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м трудовых правоотношений является трудовой договор (контрак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042920" y="1268280"/>
            <a:ext cx="70581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отношения между работодателями и наемными работни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3132000" y="2637000"/>
            <a:ext cx="5688000" cy="1008000"/>
          </a:xfrm>
          <a:prstGeom prst="wedgeRectCallout">
            <a:avLst>
              <a:gd name="adj1" fmla="val -44893"/>
              <a:gd name="adj2" fmla="val 10133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государственное и муниципальное предприя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коммерческая и некоммерческая орган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индивидуальный предпринима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2700360" y="5589720"/>
            <a:ext cx="388944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источники – ТК РФ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РФ «О коллектив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говорах и соглашениях»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й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месте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трудовой функции работника (специальность, квалификация, долж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размере заработной пл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виде трудового договора (срочный или заключенный на неопределенное врем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ые условия (другие вопросы труда, социально-бытовое обслуживание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332000" y="71280"/>
            <a:ext cx="6983280" cy="405000"/>
          </a:xfrm>
          <a:prstGeom prst="wedgeRectCallout">
            <a:avLst>
              <a:gd name="adj1" fmla="val 217"/>
              <a:gd name="adj2" fmla="val 101763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соглашение между работником и работодател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бочее время и время отдых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олжительнос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бочего дн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более 40 часов в нед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молодежи от 16 до 18 лет – до 36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ростков до 16 лет – до 24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ремя отдых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рыв на обед (не более 2 ч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дневный отдых после трудового д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ходные 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(не менее 24 рабочих дн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по семейным обстоятель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язатель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одате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лачивать тр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ть безопасность и надлежащие условия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н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енно выполнять свою раб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людать правила внутреннего распоря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356000" y="5157720"/>
            <a:ext cx="4032360" cy="1224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сциплинарные взыск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невыполнение обязательст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ечание, выговор, строг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овор, уволь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24000" y="5229360"/>
            <a:ext cx="3743280" cy="1079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ощр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, ценные подар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мии, государственные награ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мей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84360" y="1268280"/>
            <a:ext cx="7848360" cy="1584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личные неимущественные и имущественные отношения граждан, возникающие из брака, родства, усыновления, опеки и попечительства над несовершеннолетними, принятия детей в семью на воспит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56000" y="3213000"/>
            <a:ext cx="38890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ейный кодекс РФ (199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995640" y="4724280"/>
            <a:ext cx="91440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258920" y="5445000"/>
            <a:ext cx="151272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акт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6227640" y="544500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708360" y="580536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ов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4" name="AutoShape 11"/>
          <p:cNvCxnSpPr>
            <a:stCxn id="280" idx="2"/>
            <a:endCxn id="281" idx="3"/>
          </p:cNvCxnSpPr>
          <p:nvPr/>
        </p:nvCxnSpPr>
        <p:spPr>
          <a:xfrm flipH="1">
            <a:off x="2771280" y="5229360"/>
            <a:ext cx="16819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5" name="AutoShape 12"/>
          <p:cNvCxnSpPr>
            <a:stCxn id="280" idx="2"/>
            <a:endCxn id="283" idx="0"/>
          </p:cNvCxnSpPr>
          <p:nvPr/>
        </p:nvCxnSpPr>
        <p:spPr>
          <a:xfrm>
            <a:off x="4452840" y="5229360"/>
            <a:ext cx="13680" cy="57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AutoShape 13"/>
          <p:cNvCxnSpPr>
            <a:stCxn id="280" idx="2"/>
            <a:endCxn id="282" idx="1"/>
          </p:cNvCxnSpPr>
          <p:nvPr/>
        </p:nvCxnSpPr>
        <p:spPr>
          <a:xfrm>
            <a:off x="4452840" y="5229360"/>
            <a:ext cx="17755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7" name="AutoShape 14"/>
          <p:cNvSpPr/>
          <p:nvPr/>
        </p:nvSpPr>
        <p:spPr>
          <a:xfrm>
            <a:off x="6372360" y="4437000"/>
            <a:ext cx="2447640" cy="647640"/>
          </a:xfrm>
          <a:prstGeom prst="wedgeRectCallout">
            <a:avLst>
              <a:gd name="adj1" fmla="val -35990"/>
              <a:gd name="adj2" fmla="val 10244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егистрированные в ЗАГ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расли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егулятив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установление прав и обязанностей (конституционное, гражданское, трудовое, семей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хранитель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обеспечивает равенство между всеми субъектами (гражданское, семейное, предпринимательск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блич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заключения брака необходимо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аимное соглас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ижение брачного возраста (18 лет, в исключительных случаях – с 16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другого зарегистрированного бр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близкого р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еспособность желающих вступить в бр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супруг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ые (выбор профессии, места жительства, выбор фамилии, совместное воспитание детей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 (совместная собственность, собственность каждого из супругов, алиментные отношения, брачный договор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ребе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 и воспитываться 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бщение с родителями и другими родственн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жать свое мнение, которое имеет юридическое значение с 10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мя, отчество, фамил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ственности на полученные им доходы, на имущество, полученное в дар или наследу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дительские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оспитание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ыбор ОУ и формы получения основного общ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защиту прав и интересов своих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а имени и фамилии ребен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чи согласия на усыновлени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сыновление, опека, попечительство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сыновление (удочерение)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жду усыновленным и усыновителем устанавливаются правовые отношения, существующие между детьми и род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еку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пекают детей, не достигших 14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печите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ывают детей от 14 до 18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476360" y="5775480"/>
            <a:ext cx="58323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питание в приемной семь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екуны (попечители) за воспитание чужих дет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чают зарпла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 какой из отраслей права формой юридической ответственности может быть лишение свободы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ск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ти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о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он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акое из правонарушений является административным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 подписей избирателей в запрещенном ме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щение имущества, принадлежащего преступ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льсификация итогов избирательной камп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бликация статьи, порочащей честь гражда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еждународное гуманитарное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невские конвенции 1949 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 и больных в действующих арм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, больных и лиц, потерпевших кораблекрушение из состава вооруженных сил на мо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обращении с военнопл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защите гражданского населения во время вой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539640" y="5445000"/>
            <a:ext cx="734544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+ Дополнительные протоколы от 8 июня 1977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екратившие принимать участие в военных действиях, а также лица, не принимающие в них прямого участия, имеют право на уважение своей жизни, а также моральной и физической неприкоснов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ника, который сдался в плен или прекратил принимать участие в военных действиях, запрещается убивать или наносить ему увеч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и (формы)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овой обычай (обычное право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авило поведения, которое вошло в привычку и обеспечивается принудительной силой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ебный прецедент (право судей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дебное решение, случай, который становится образцом, при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тивно-правовой акт (право законодателя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фициальный документ, который создается государственными органами и содержит обязательные юридические нор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26920" y="1341360"/>
            <a:ext cx="756144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 выражения и закрепления норм права с целью придания им юридического, общеобязательного п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енные и больные должны быть подобраны, и им должна быть оказана помощь стороной, находящейся в конфликте, во власти которой они оказались. Под защитой находятся также медперсонал, санитарные учреждения, транспорт и оборудование. Знаками этой защиты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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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ые в плен участники военных действий и гражданские лица, находящиеся во власти противника, имеют право на сохранение своей жизни, уважение своего достоинства, личных прав и уб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кому человеку должны быть предоставлены основные судебные гарантии. Никто не может подвергаться физическим или моральным пыткам, равно как телесным наказаниям или оскорбительному, унижающему достоинству обращ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и лица из состава их вооруженных сил ограничены в своем праве выбора методов и средств ведения боевых действий. Запрещается применять оружие или методы ведения боевых действий, способные причинить чрезмерные повреждения или излишни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должны всегда проводить различие между гражданским населением и комбатантами для обеспечения уважения и защиты гражданского населения и гражданских объектов. Нападение должно быть направлено только против военных о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судопроизвод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908000" y="71280"/>
            <a:ext cx="4392720" cy="476280"/>
          </a:xfrm>
          <a:prstGeom prst="wedgeRectCallout">
            <a:avLst>
              <a:gd name="adj1" fmla="val -17870"/>
              <a:gd name="adj2" fmla="val 8799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окупность всех действующих су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684360" y="1484280"/>
            <a:ext cx="331128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ституционный су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меняет зако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реча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и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ушающие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4643280" y="1484280"/>
            <a:ext cx="331164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рховный су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ейший орг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ебной власти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ым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 де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3280" y="3716280"/>
            <a:ext cx="331344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7" y="3802"/>
                </a:moveTo>
                <a:lnTo>
                  <a:pt x="25036" y="3802"/>
                </a:lnTo>
                <a:lnTo>
                  <a:pt x="25036" y="-50911"/>
                </a:lnTo>
                <a:lnTo>
                  <a:pt x="17533" y="-59677"/>
                </a:ln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+ верховные суды субъектов и городские районн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684360" y="3789360"/>
            <a:ext cx="3311280" cy="237636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битражный су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ешает эконом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ы между гражданам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нимающими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ь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ью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рганизац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284720" y="4653000"/>
            <a:ext cx="4535280" cy="1440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ровые суд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жности в качес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а первой инстан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ллегиа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ссмотрения д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и-профессионалы + присяжные засед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6836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челов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25 до 70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05928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могут бы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ьи, священ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ое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724360" y="3284640"/>
            <a:ext cx="230364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ают вопр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виновности 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вино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1835280" y="2637000"/>
            <a:ext cx="475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9"/>
          <p:cNvSpPr/>
          <p:nvPr/>
        </p:nvSpPr>
        <p:spPr>
          <a:xfrm flipH="1">
            <a:off x="4140000" y="2637000"/>
            <a:ext cx="2447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6588000" y="2637000"/>
            <a:ext cx="2890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476360" y="4941720"/>
            <a:ext cx="583236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сяжные заседатели принимают учас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заседаниях суда лишь по некоторым де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ласнос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 – присутствие на заседаниях любого заинтересованного в этом деле человека (родственников, друзей, представителей С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476360" y="4437000"/>
            <a:ext cx="5832360" cy="1513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отдельных случаях слушание дела мож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ходить при закрытых дел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государственная, коммерческая тай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обо тяжкие преступл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авноправ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стязате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116000" y="3429000"/>
            <a:ext cx="68421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се участники равны между собой и перед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 происшедшее исследуется с разных стор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едение судопроизводства на националь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258920" y="3500280"/>
            <a:ext cx="655488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ешается пользоваться услугами переводч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трасль частного права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логиче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иратель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риниматель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езумпция невино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187280" y="4653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иняемы не обязан доказывать свою вино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971640" y="2997360"/>
            <a:ext cx="720072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судимого, по делу которого еще не вынесен пригово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называть преступни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хранительные орган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468360" y="1413000"/>
            <a:ext cx="3672000" cy="223200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ку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енеральная п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субъектов РФ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городов, район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уществляет надзо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исполн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5292720" y="1484280"/>
            <a:ext cx="3240000" cy="1800360"/>
          </a:xfrm>
          <a:prstGeom prst="borderCallout1">
            <a:avLst>
              <a:gd name="adj1" fmla="val 18750"/>
              <a:gd name="adj2" fmla="val -8333"/>
              <a:gd name="adj3" fmla="val 25574"/>
              <a:gd name="adj4" fmla="val -6481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неральный прокуро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ется и освобождается Советом Федерации по представлению президента на 5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68360" y="4076640"/>
            <a:ext cx="367200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двок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объедин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стов, созданное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вой помощ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м и юридически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4788000" y="4076640"/>
            <a:ext cx="367164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В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юсти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ИБД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инципом демократического судопроизводства является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суде всех доказательств вины независимо от способа их пол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сность судебного разбир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в праве на защиту обвиняемым в тяжких преступл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отстранения судей Президен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ая куль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ный уровень развития правосознания, включающий знания законодательства, его верное понимание, соблюдение, применение, а также нетерпимое отношение к нарушителям зако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187280" y="4869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уктура правовой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психология (чувства, эмоции, настроения, который выражают отношение к пра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идеология (система знаний о прав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ое поведение (юридически значимое поведе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вос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каналы правового воспит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основ права в школах, техникумах, вуз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ляризация знаний по праву через книги, брошюры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воспитание и само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042920" y="537372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ормативно-правовые 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юридической силе различ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(имеет высшую юридическую сил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ы президента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ановления прав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ы и инструкции министер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иту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яет основы государственного строя, права и свободы граж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важнейшие стороны общественн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другие законы издаются в соответствии с Конститу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ужит высшей нормой поведения граждан и государстве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тнош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1268280"/>
            <a:ext cx="8280360" cy="432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я, которые регулируются правовыми норм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108000" y="2276640"/>
            <a:ext cx="3456000" cy="1512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у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е и юрид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708360" y="1989000"/>
            <a:ext cx="504036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сителем прав и обязанно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с момента рождения/регистр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780000" y="2997360"/>
            <a:ext cx="4967280" cy="136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е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лица свои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иями осуществлять принадлежа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му права, создавать для себя обяза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исполнять и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по достижении совершенноле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2981160" y="34920"/>
            <a:ext cx="5631120" cy="620640"/>
          </a:xfrm>
          <a:prstGeom prst="borderCallout1">
            <a:avLst>
              <a:gd name="adj1" fmla="val 18750"/>
              <a:gd name="adj2" fmla="val -8333"/>
              <a:gd name="adj3" fmla="val 680819"/>
              <a:gd name="adj4" fmla="val 101351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чная дееспособ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овершеннолетних (14-18) и малолетних (6-1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250920" y="4724280"/>
            <a:ext cx="4392360" cy="14400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ьные и нематериаль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а, продукты интеллектуаль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чества, результаты дей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932360" y="4724280"/>
            <a:ext cx="3743280" cy="1368720"/>
          </a:xfrm>
          <a:custGeom>
            <a:avLst/>
            <a:gdLst>
              <a:gd name="textAreaLeft" fmla="*/ 161280 w 3743280"/>
              <a:gd name="textAreaRight" fmla="*/ 3582000 w 3743280"/>
              <a:gd name="textAreaTop" fmla="*/ 161280 h 1368720"/>
              <a:gd name="textAreaBottom" fmla="*/ 1207440 h 1368720"/>
            </a:gdLst>
            <a:ahLst/>
            <a:rect l="textAreaLeft" t="textAreaTop" r="textAreaRight" b="textAreaBottom"/>
            <a:pathLst>
              <a:path w="590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463" y="21600"/>
                </a:lnTo>
                <a:arcTo wR="3600" hR="3600" stAng="10800000" swAng="5400000"/>
                <a:lnTo>
                  <a:pt x="59063" y="3600"/>
                </a:lnTo>
                <a:arcTo wR="3600" hR="3600" stAng="5400000" swAng="5400000"/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одержание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бъективные прав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е обязан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250920" y="260280"/>
            <a:ext cx="1419120" cy="682560"/>
          </a:xfrm>
          <a:prstGeom prst="wedgeRectCallout">
            <a:avLst>
              <a:gd name="adj1" fmla="val 138365"/>
              <a:gd name="adj2" fmla="val -40462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ная уголовная ответственность – с 16 лет, частичная – с 14 ле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4-09T05:16:07Z</dcterms:modified>
  <cp:revision>32</cp:revision>
  <dc:subject/>
  <dc:title>PowerPoint Presentation</dc:title>
</cp:coreProperties>
</file>