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4.jpeg" ContentType="image/jpeg"/>
  <Override PartName="/ppt/media/image22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23.gif" ContentType="image/gif"/>
  <Override PartName="/ppt/media/image49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4.wmf" ContentType="image/x-wmf"/>
  <Override PartName="/ppt/media/image8.gif" ContentType="image/gif"/>
  <Override PartName="/ppt/media/image2.wmf" ContentType="image/x-wmf"/>
  <Override PartName="/ppt/media/image15.jpeg" ContentType="image/jpeg"/>
  <Override PartName="/ppt/media/image3.wmf" ContentType="image/x-wmf"/>
  <Override PartName="/ppt/media/image29.jpeg" ContentType="image/jpeg"/>
  <Override PartName="/ppt/media/image7.gif" ContentType="image/gif"/>
  <Override PartName="/ppt/media/image18.gif" ContentType="image/gif"/>
  <Override PartName="/ppt/media/image37.jpeg" ContentType="image/jpeg"/>
  <Override PartName="/ppt/media/image12.jpeg" ContentType="image/jpeg"/>
  <Override PartName="/ppt/media/image45.gif" ContentType="image/gif"/>
  <Override PartName="/ppt/media/image39.jpeg" ContentType="image/jpeg"/>
  <Override PartName="/ppt/media/image42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43.gif" ContentType="image/gif"/>
  <Override PartName="/ppt/media/image47.jpeg" ContentType="image/jpeg"/>
  <Override PartName="/ppt/media/image48.jpeg" ContentType="image/jpeg"/>
  <Override PartName="/ppt/media/image46.jpeg" ContentType="image/jpeg"/>
  <Override PartName="/ppt/media/image51.jpeg" ContentType="image/jpeg"/>
  <Override PartName="/ppt/media/image36.jpeg" ContentType="image/jpeg"/>
  <Override PartName="/ppt/media/image11.jpeg" ContentType="image/jpeg"/>
  <Override PartName="/ppt/media/image52.gif" ContentType="image/gif"/>
  <Override PartName="/ppt/media/image44.gif" ContentType="image/gif"/>
  <Override PartName="/ppt/media/image34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31.jpeg" ContentType="image/jpeg"/>
  <Override PartName="/ppt/media/image30.gif" ContentType="image/gif"/>
  <Override PartName="/ppt/media/image9.png" ContentType="image/png"/>
  <Override PartName="/ppt/media/image13.jpeg" ContentType="image/jpeg"/>
  <Override PartName="/ppt/media/image40.jpeg" ContentType="image/jpeg"/>
  <Override PartName="/ppt/media/image6.jpeg" ContentType="image/jpeg"/>
  <Override PartName="/ppt/media/image25.gif" ContentType="image/gif"/>
  <Override PartName="/ppt/media/image38.jpeg" ContentType="image/jpeg"/>
  <Override PartName="/ppt/media/image2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B8D3-C904-495E-9E55-E94873B89D9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F792-AB72-4C63-BC60-1C620757303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173-A29C-48B8-AE44-1BAADC74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8BF-1743-47A6-8AEB-AC1B12D1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E92-A1A4-4C39-9D97-E8342365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3EA-1028-49FA-95A6-39B1FEE1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79AE-96D1-4650-9ACC-8C156B19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0FF8-8187-4175-8D0D-432F77F4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E508-4E15-4BC4-99FB-1F9E99FA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B08D-1C6F-4552-9467-A8A44353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9215-86E4-46AC-B540-849B787E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F817-71D7-4C52-9C19-65337403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8763-AB58-4735-BFD9-1B43BA5B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0DE-F8CF-4341-8F0A-9D31137B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C9D6-735B-4FE6-AA6D-A9408B99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7B17-75E2-40EA-B817-B2952CAE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3F9C-9068-4A7D-A570-79FE8440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87C4-44E4-42D2-997C-00784553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13F6-9CD7-42B9-8EC3-F4EA8126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F2B1E-CC38-4811-88BC-5AE21ABE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05269-50C0-4B33-97BB-AC7DAD9A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8C591-8D31-47C1-8E00-53795D8A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203A2-FCAB-4FCE-AC4D-33CB4BE7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C4AE1-D14A-454C-A2B4-6AE9D81F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3C53-6DCA-4ECF-95CB-3AE0C8F5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4AD3-BC4C-4143-BDDF-55AA2E7A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6B512-FA8E-4239-879C-53C7742E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69E86-3F60-4532-B006-699F95DE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5F70-1EF6-4FA4-A292-DF2F441C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92B42-416D-42A7-B507-57585213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5C35C-6C47-4A31-A173-1509BEAA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817BE-044F-428C-92CA-CBE9C2E4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BDD-075A-4D9A-8EBA-4F7AECB5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359-FAD1-4BE3-BBEB-51F6E3C6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0A4-B248-4A9C-8303-1B358F25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C5E-F47C-47BE-B270-474972E0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6AF-098D-43F7-B11D-873BC995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57A-9B6E-4088-A19C-3A13D869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006F-67C7-4562-B68A-753A990D954C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8DFE-FD82-4661-B5DD-7F73CF01FB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7438-0741-4D20-9730-CF7217D2256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image" Target="../media/image44.gif"/><Relationship Id="rId4" Type="http://schemas.openxmlformats.org/officeDocument/2006/relationships/image" Target="../media/image45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gif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99640" y="1699920"/>
            <a:ext cx="61722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Monotype Corsiva"/>
              </a:rPr>
              <a:t>Я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Monotype Corsiva"/>
              </a:rPr>
              <a:t>выбираю спорт,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Monotype Corsiva"/>
              </a:rPr>
              <a:t>как альтернативу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Monotype Corsiva"/>
              </a:rPr>
              <a:t>пагубным привычкам!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pic>
        <p:nvPicPr>
          <p:cNvPr id="139" name="Picture 6" descr="j0299763"/>
          <p:cNvPicPr/>
          <p:nvPr/>
        </p:nvPicPr>
        <p:blipFill>
          <a:blip r:embed="rId1"/>
          <a:stretch/>
        </p:blipFill>
        <p:spPr>
          <a:xfrm>
            <a:off x="250920" y="189000"/>
            <a:ext cx="1827000" cy="1504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j0301480"/>
          <p:cNvPicPr/>
          <p:nvPr/>
        </p:nvPicPr>
        <p:blipFill>
          <a:blip r:embed="rId2"/>
          <a:stretch/>
        </p:blipFill>
        <p:spPr>
          <a:xfrm>
            <a:off x="2916360" y="4076640"/>
            <a:ext cx="1798560" cy="1338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j0199036"/>
          <p:cNvPicPr/>
          <p:nvPr/>
        </p:nvPicPr>
        <p:blipFill>
          <a:blip r:embed="rId3"/>
          <a:stretch/>
        </p:blipFill>
        <p:spPr>
          <a:xfrm>
            <a:off x="5580000" y="549360"/>
            <a:ext cx="1569960" cy="1730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2" descr="Binary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01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ff"/>
                </a:solidFill>
                <a:latin typeface="Impact"/>
              </a:rPr>
              <a:t>За последние десять лет значительно увеличилось число женщин, страдающих алкогольной зависимостью. Почему так происходит?</a:t>
            </a:r>
            <a:r>
              <a:rPr b="0" lang="ru-RU" sz="3600" spc="-1" strike="noStrike">
                <a:solidFill>
                  <a:srgbClr val="cc66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4941360"/>
            <a:ext cx="8001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Женщины гораздо более эмоционально реагируют на стрессовые ситуации, «погружаются в несчастье» и ищут немедленного разрешения, выхода из психотравмирующей ситуации, жаждут горячей поддержки и сочувствия. При отсутствии поддержки на помощь приходит алкого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702520" y="1125360"/>
            <a:ext cx="45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ИЧИНЫ ЖЕНСКОГО АЛКОГО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1261800" y="1484280"/>
            <a:ext cx="67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ью женского алкоголизма является боль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ическая подоплека, нежели у мужч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 flipH="1">
            <a:off x="2700360" y="213372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191240" y="2832120"/>
            <a:ext cx="252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дино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вдовство, распад семь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4643280" y="2205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850920" y="3284640"/>
            <a:ext cx="164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тери близ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смерть дет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6372360" y="2133720"/>
            <a:ext cx="431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6373440" y="28526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ес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4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Изображение 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 rot="20203800">
            <a:off x="675000" y="1412640"/>
            <a:ext cx="48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Comic Sans MS"/>
              </a:rPr>
              <a:t>НАРКОТ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 rot="789600">
            <a:off x="4025520" y="2781000"/>
            <a:ext cx="440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Comic Sans MS"/>
              </a:rPr>
              <a:t>ПРОБЛ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68400" y="3860640"/>
            <a:ext cx="139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Comic Sans MS"/>
              </a:rPr>
              <a:t>№</a:t>
            </a:r>
            <a:r>
              <a:rPr b="0" lang="ru-RU" sz="60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0715"/>
          <p:cNvPicPr/>
          <p:nvPr/>
        </p:nvPicPr>
        <p:blipFill>
          <a:blip r:embed="rId2"/>
          <a:stretch/>
        </p:blipFill>
        <p:spPr>
          <a:xfrm>
            <a:off x="5148360" y="458136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indefinite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8" dur="indefinit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123145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вколол - и полете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ир разом опустел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летаешь кружишьс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вокруг все в ужас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йф прошел и мир вернулс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азу к горлу тошнот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часа - и обернул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нь опять против тебя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чер долгий, тело ломит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стоишь незнамо как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тебя вся жизнь проходит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за – кайф – реал - ломак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лер нужен. Он поможе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- реальный человек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вколоть тебе предложит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 лавэ - товар в шприце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вколол и полетел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ир разом опустел…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е с кайфа не вернется…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м он с неба улыбнется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830160" y="115560"/>
            <a:ext cx="771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, как это ни странно, считают употреб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котиков не только приятным, но и полезным заняти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активно отстаивают свои странные взгля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они приводят внешне убедительные доводы своей "правоты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2592360" y="1483560"/>
            <a:ext cx="420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МИФ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ЛЕГЕНДЫ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nark2"/>
          <p:cNvPicPr/>
          <p:nvPr/>
        </p:nvPicPr>
        <p:blipFill>
          <a:blip r:embed="rId1"/>
          <a:stretch/>
        </p:blipFill>
        <p:spPr>
          <a:xfrm>
            <a:off x="6084720" y="5084640"/>
            <a:ext cx="2874960" cy="1632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3191"/>
          <p:cNvPicPr/>
          <p:nvPr/>
        </p:nvPicPr>
        <p:blipFill>
          <a:blip r:embed="rId2"/>
          <a:stretch/>
        </p:blipFill>
        <p:spPr>
          <a:xfrm>
            <a:off x="1908000" y="4653000"/>
            <a:ext cx="2000520" cy="1542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10527469_1196749696_1ef329e6268f"/>
          <p:cNvPicPr/>
          <p:nvPr/>
        </p:nvPicPr>
        <p:blipFill>
          <a:blip r:embed="rId3"/>
          <a:stretch/>
        </p:blipFill>
        <p:spPr>
          <a:xfrm>
            <a:off x="6877080" y="1628640"/>
            <a:ext cx="1947960" cy="251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kanabis_marixuana"/>
          <p:cNvPicPr/>
          <p:nvPr/>
        </p:nvPicPr>
        <p:blipFill>
          <a:blip r:embed="rId4"/>
          <a:stretch/>
        </p:blipFill>
        <p:spPr>
          <a:xfrm>
            <a:off x="250920" y="1484280"/>
            <a:ext cx="2232000" cy="1768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1097782584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Impact"/>
              </a:rPr>
              <a:t>Отнюдь не сказки, но распространенные заблуждения</a:t>
            </a:r>
            <a:endParaRPr b="0" lang="en-US" sz="24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537480" y="835920"/>
            <a:ext cx="82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ают, что 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"В жизни все надо попробовать, в том числе и наркотики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32720" y="1196640"/>
            <a:ext cx="666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Самые подлые слова, которые только говорят лю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Потому что после пробы наркот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ряд ли вы захотите (и сможете) попробовать что-то друг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323280" y="3859920"/>
            <a:ext cx="76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орят: 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"Наркотики придают жизни разнообразие и скрашивают ее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1624680" y="497844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Сначала, вроде, скрашивают. Вроде что-то новое, интерес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2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397080" y="259560"/>
            <a:ext cx="73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ют, что 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"Наркотики помогают решать жизненные проблемы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144880" y="1039320"/>
            <a:ext cx="632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которые проблемы наркотики действительно реша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ример, они на какое-то (очень небольшое) врем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проблемы-то остаютс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24919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ают, что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 "Наркотики бывают "всерьез" и "не всерьез". Можно принимать наркотики и не быть зависимым от них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1362600" y="3761640"/>
            <a:ext cx="714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 первый раз все так думают, даже и те, кто позднее плот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"присядет" на наркотики. Никто не собирается быть наркома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pic15069"/>
          <p:cNvPicPr/>
          <p:nvPr/>
        </p:nvPicPr>
        <p:blipFill>
          <a:blip r:embed="rId1"/>
          <a:stretch/>
        </p:blipFill>
        <p:spPr>
          <a:xfrm>
            <a:off x="-700200" y="115920"/>
            <a:ext cx="9828360" cy="73724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-2160" y="115560"/>
            <a:ext cx="45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е активные защи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котиков утвержда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"Наркотики делают людей свободными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269800" y="1267920"/>
            <a:ext cx="367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Интересно, с чего это тогда те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кто принимает их постоян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азывают "зависимыми"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23640" y="2421000"/>
            <a:ext cx="397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ь люди, которые дума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"Каждый из нас зависит от чего-т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и от нелегальных наркоти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угие от легальных: кофе, ч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бака и даже алкоголя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2048040" y="4797360"/>
            <a:ext cx="68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о лучше ни от чего химического не зависе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и от табака, ни от кофе, ни от чая, и тем более - от алког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Лучше зависеть от учёбы,  от работы, а е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лучше - быть совершенно свободным в своем выбо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апример, я выбираю –спор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9" descr="image41"/>
          <p:cNvPicPr/>
          <p:nvPr/>
        </p:nvPicPr>
        <p:blipFill>
          <a:blip r:embed="rId2"/>
          <a:stretch/>
        </p:blipFill>
        <p:spPr>
          <a:xfrm>
            <a:off x="179280" y="4508640"/>
            <a:ext cx="1816200" cy="195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Organization Chart 5"/>
          <p:cNvGrpSpPr/>
          <p:nvPr/>
        </p:nvGrpSpPr>
        <p:grpSpPr>
          <a:xfrm>
            <a:off x="330120" y="407880"/>
            <a:ext cx="8000280" cy="5409000"/>
            <a:chOff x="330120" y="407880"/>
            <a:chExt cx="8000280" cy="5409000"/>
          </a:xfrm>
        </p:grpSpPr>
        <p:cxnSp>
          <p:nvCxnSpPr>
            <p:cNvPr id="248" name="_s1028"/>
            <p:cNvCxnSpPr>
              <a:stCxn id="249" idx="0"/>
              <a:endCxn id="250" idx="2"/>
            </p:cNvCxnSpPr>
            <p:nvPr/>
          </p:nvCxnSpPr>
          <p:spPr>
            <a:xfrm flipV="1" rot="16200000">
              <a:off x="5189040" y="1711440"/>
              <a:ext cx="1082520" cy="2800800"/>
            </a:xfrm>
            <a:prstGeom prst="bentConnector3">
              <a:avLst>
                <a:gd name="adj1" fmla="val 209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1" name="_s1029"/>
            <p:cNvCxnSpPr>
              <a:stCxn id="252" idx="0"/>
              <a:endCxn id="250" idx="2"/>
            </p:cNvCxnSpPr>
            <p:nvPr/>
          </p:nvCxnSpPr>
          <p:spPr>
            <a:xfrm flipV="1">
              <a:off x="4330440" y="2570760"/>
              <a:ext cx="2880" cy="108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3" name="_s1030"/>
            <p:cNvCxnSpPr>
              <a:stCxn id="254" idx="0"/>
              <a:endCxn id="250" idx="2"/>
            </p:cNvCxnSpPr>
            <p:nvPr/>
          </p:nvCxnSpPr>
          <p:spPr>
            <a:xfrm flipH="1" flipV="1" rot="5400000">
              <a:off x="2388960" y="1711800"/>
              <a:ext cx="1082520" cy="2800800"/>
            </a:xfrm>
            <a:prstGeom prst="bentConnector3">
              <a:avLst>
                <a:gd name="adj1" fmla="val 209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0" name="_s1031"/>
            <p:cNvSpPr/>
            <p:nvPr/>
          </p:nvSpPr>
          <p:spPr>
            <a:xfrm>
              <a:off x="3130200" y="407880"/>
              <a:ext cx="2400120" cy="2163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100" spc="-1" strike="noStrike">
                  <a:solidFill>
                    <a:srgbClr val="0033cc"/>
                  </a:solidFill>
                  <a:latin typeface="Arial"/>
                </a:rPr>
                <a:t>Наркот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ru-RU" sz="2100" spc="-1" strike="noStrike">
                  <a:solidFill>
                    <a:srgbClr val="0033cc"/>
                  </a:solidFill>
                  <a:latin typeface="Arial"/>
                </a:rPr>
                <a:t>принимают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33cc"/>
                  </a:solidFill>
                  <a:latin typeface="Arial"/>
                </a:rPr>
                <a:t>по трем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33cc"/>
                  </a:solidFill>
                  <a:latin typeface="Arial"/>
                </a:rPr>
                <a:t>основным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33cc"/>
                  </a:solidFill>
                  <a:latin typeface="Arial"/>
                </a:rPr>
                <a:t>причинам:</a:t>
              </a: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32"/>
            <p:cNvSpPr/>
            <p:nvPr/>
          </p:nvSpPr>
          <p:spPr>
            <a:xfrm>
              <a:off x="330120" y="3653280"/>
              <a:ext cx="2400120" cy="2163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66ff"/>
                  </a:solidFill>
                  <a:latin typeface="Arial"/>
                </a:rPr>
                <a:t>Чтобы не отст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cc66ff"/>
                  </a:solidFill>
                  <a:latin typeface="Arial"/>
                </a:rPr>
                <a:t>от товарищей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cc66ff"/>
                  </a:solidFill>
                  <a:latin typeface="Arial"/>
                </a:rPr>
                <a:t>и это называет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cc66ff"/>
                  </a:solidFill>
                  <a:latin typeface="Arial"/>
                </a:rPr>
                <a:t>"стадным инстинктом"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66ff"/>
                  </a:solidFill>
                  <a:latin typeface="Arial"/>
                </a:rPr>
                <a:t>- от слова "стадо"</a:t>
              </a:r>
              <a:r>
                <a:rPr b="0" lang="ru-RU" sz="21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1033"/>
            <p:cNvSpPr/>
            <p:nvPr/>
          </p:nvSpPr>
          <p:spPr>
            <a:xfrm>
              <a:off x="3130200" y="3653280"/>
              <a:ext cx="2400120" cy="2163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cc66ff"/>
                  </a:solidFill>
                  <a:latin typeface="Arial"/>
                </a:rPr>
                <a:t>Из любопытства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cc66ff"/>
                  </a:solidFill>
                  <a:latin typeface="Arial"/>
                </a:rPr>
                <a:t>но оно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cc66ff"/>
                  </a:solidFill>
                  <a:latin typeface="Arial"/>
                </a:rPr>
                <a:t>быстро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cc66ff"/>
                  </a:solidFill>
                  <a:latin typeface="Arial"/>
                </a:rPr>
                <a:t>проходит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1034"/>
            <p:cNvSpPr/>
            <p:nvPr/>
          </p:nvSpPr>
          <p:spPr>
            <a:xfrm>
              <a:off x="5930280" y="3653280"/>
              <a:ext cx="2400120" cy="2163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cc66ff"/>
                  </a:solidFill>
                  <a:latin typeface="Arial"/>
                </a:rPr>
                <a:t>Чтобы н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r>
                <a:rPr b="0" lang="ru-RU" sz="2100" spc="-1" strike="noStrike">
                  <a:solidFill>
                    <a:srgbClr val="cc66ff"/>
                  </a:solidFill>
                  <a:latin typeface="Arial"/>
                </a:rPr>
                <a:t>дума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r>
                <a:rPr b="0" lang="ru-RU" sz="2100" spc="-1" strike="noStrike">
                  <a:solidFill>
                    <a:srgbClr val="cc66ff"/>
                  </a:solidFill>
                  <a:latin typeface="Arial"/>
                </a:rPr>
                <a:t>о том, ка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r>
                <a:rPr b="0" lang="ru-RU" sz="2100" spc="-1" strike="noStrike">
                  <a:solidFill>
                    <a:srgbClr val="cc66ff"/>
                  </a:solidFill>
                  <a:latin typeface="Arial"/>
                </a:rPr>
                <a:t>жить завтр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Picture 15" descr="image002"/>
          <p:cNvPicPr/>
          <p:nvPr/>
        </p:nvPicPr>
        <p:blipFill>
          <a:blip r:embed="rId1"/>
          <a:stretch/>
        </p:blipFill>
        <p:spPr>
          <a:xfrm>
            <a:off x="6084720" y="692280"/>
            <a:ext cx="2700360" cy="1900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6" descr="1198480405_0246"/>
          <p:cNvPicPr/>
          <p:nvPr/>
        </p:nvPicPr>
        <p:blipFill>
          <a:blip r:embed="rId2"/>
          <a:stretch/>
        </p:blipFill>
        <p:spPr>
          <a:xfrm>
            <a:off x="324000" y="692280"/>
            <a:ext cx="238104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9" descr="Изображение 381"/>
          <p:cNvPicPr/>
          <p:nvPr/>
        </p:nvPicPr>
        <p:blipFill>
          <a:blip r:embed="rId1"/>
          <a:stretch/>
        </p:blipFill>
        <p:spPr>
          <a:xfrm>
            <a:off x="-468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4"/>
          <p:cNvSpPr/>
          <p:nvPr/>
        </p:nvSpPr>
        <p:spPr>
          <a:xfrm rot="1041000">
            <a:off x="322200" y="529956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Занимайся спортом — получай здоровье оптом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 rot="907200">
            <a:off x="555120" y="974880"/>
            <a:ext cx="675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Здоровье — это драй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Здоровый образ жизни быстрее выбир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 rot="1051800">
            <a:off x="3051000" y="3498480"/>
            <a:ext cx="57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Долой наркоманию, СПИД и таба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Пиво  — это тоже наш враг!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1" descr="9"/>
          <p:cNvPicPr/>
          <p:nvPr/>
        </p:nvPicPr>
        <p:blipFill>
          <a:blip r:embed="rId2"/>
          <a:stretch/>
        </p:blipFill>
        <p:spPr>
          <a:xfrm>
            <a:off x="7596360" y="476280"/>
            <a:ext cx="98100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30"/>
          <p:cNvPicPr/>
          <p:nvPr/>
        </p:nvPicPr>
        <p:blipFill>
          <a:blip r:embed="rId3"/>
          <a:stretch/>
        </p:blipFill>
        <p:spPr>
          <a:xfrm>
            <a:off x="0" y="5734080"/>
            <a:ext cx="1047600" cy="1333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пр"/>
          <p:cNvPicPr/>
          <p:nvPr/>
        </p:nvPicPr>
        <p:blipFill>
          <a:blip r:embed="rId4"/>
          <a:stretch/>
        </p:blipFill>
        <p:spPr>
          <a:xfrm>
            <a:off x="7093080" y="5084640"/>
            <a:ext cx="162864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2846520" y="10526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ЫБОР ЗА ТО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10471"/>
          <p:cNvPicPr/>
          <p:nvPr/>
        </p:nvPicPr>
        <p:blipFill>
          <a:blip r:embed="rId1"/>
          <a:stretch/>
        </p:blipFill>
        <p:spPr>
          <a:xfrm>
            <a:off x="3276720" y="2421000"/>
            <a:ext cx="2806560" cy="2106720"/>
          </a:xfrm>
          <a:prstGeom prst="rect">
            <a:avLst/>
          </a:prstGeom>
          <a:ln w="0">
            <a:noFill/>
          </a:ln>
        </p:spPr>
      </p:pic>
      <p:sp>
        <p:nvSpPr>
          <p:cNvPr id="266" name="Line 6"/>
          <p:cNvSpPr/>
          <p:nvPr/>
        </p:nvSpPr>
        <p:spPr>
          <a:xfrm>
            <a:off x="2700360" y="249228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2484360" y="357336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8"/>
          <p:cNvSpPr/>
          <p:nvPr/>
        </p:nvSpPr>
        <p:spPr>
          <a:xfrm flipV="1">
            <a:off x="2843280" y="4221000"/>
            <a:ext cx="43164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 flipH="1">
            <a:off x="6084720" y="2349360"/>
            <a:ext cx="50328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 flipH="1">
            <a:off x="6084720" y="350028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 flipH="1" flipV="1">
            <a:off x="6084360" y="429228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2" descr="311354572"/>
          <p:cNvPicPr/>
          <p:nvPr/>
        </p:nvPicPr>
        <p:blipFill>
          <a:blip r:embed="rId2"/>
          <a:stretch/>
        </p:blipFill>
        <p:spPr>
          <a:xfrm>
            <a:off x="324000" y="98100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PR20090226163733"/>
          <p:cNvPicPr/>
          <p:nvPr/>
        </p:nvPicPr>
        <p:blipFill>
          <a:blip r:embed="rId3"/>
          <a:stretch/>
        </p:blipFill>
        <p:spPr>
          <a:xfrm>
            <a:off x="468360" y="2924280"/>
            <a:ext cx="1993680" cy="1500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ni_e65ad6ceccdd7f164e37d9921695d65b"/>
          <p:cNvPicPr/>
          <p:nvPr/>
        </p:nvPicPr>
        <p:blipFill>
          <a:blip r:embed="rId4"/>
          <a:stretch/>
        </p:blipFill>
        <p:spPr>
          <a:xfrm>
            <a:off x="900000" y="472428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5" descr="Изображение 363"/>
          <p:cNvPicPr/>
          <p:nvPr/>
        </p:nvPicPr>
        <p:blipFill>
          <a:blip r:embed="rId5"/>
          <a:stretch/>
        </p:blipFill>
        <p:spPr>
          <a:xfrm>
            <a:off x="6588000" y="76500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6" descr="Изображение 376"/>
          <p:cNvPicPr/>
          <p:nvPr/>
        </p:nvPicPr>
        <p:blipFill>
          <a:blip r:embed="rId6"/>
          <a:stretch/>
        </p:blipFill>
        <p:spPr>
          <a:xfrm>
            <a:off x="6732720" y="2781360"/>
            <a:ext cx="2050920" cy="1539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7" descr="торо"/>
          <p:cNvPicPr/>
          <p:nvPr/>
        </p:nvPicPr>
        <p:blipFill>
          <a:blip r:embed="rId7"/>
          <a:stretch/>
        </p:blipFill>
        <p:spPr>
          <a:xfrm>
            <a:off x="6588000" y="4365720"/>
            <a:ext cx="1514520" cy="1714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4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4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last_walk"/>
          <p:cNvPicPr/>
          <p:nvPr/>
        </p:nvPicPr>
        <p:blipFill>
          <a:blip r:embed="rId1"/>
          <a:stretch/>
        </p:blipFill>
        <p:spPr>
          <a:xfrm>
            <a:off x="-828720" y="-45864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Спросил мудрец когда-то дурака: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"Зачем ты пьёшь, глупец, зачем ты колешь?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Плывёшь... Но это мёртвая река,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Ещё чуть-чуть, и ты себя потопишь"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Дурак не думая такое отвечал: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"Ты не учи! Держу всё под контролем!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От всякой дряни тот лишь умирал,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Кто в этой речке дерзко плавал кролем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А я лежу спокойно на спине,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Меня несёт блаженное теченье,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Река за это радость дарит мне,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И жизнь моя - сплошное сновиденье"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Мудрец молчал. Дурак совсем уснул,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Теченье приближало к водопаду,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Хотел сказать, что он не утонул,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Реальность говорит, что врать не надо...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Изображение 189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332"/>
          <p:cNvPicPr/>
          <p:nvPr/>
        </p:nvPicPr>
        <p:blipFill>
          <a:blip r:embed="rId2"/>
          <a:stretch/>
        </p:blipFill>
        <p:spPr>
          <a:xfrm>
            <a:off x="7093080" y="1052640"/>
            <a:ext cx="576000" cy="455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333"/>
          <p:cNvPicPr/>
          <p:nvPr/>
        </p:nvPicPr>
        <p:blipFill>
          <a:blip r:embed="rId3"/>
          <a:stretch/>
        </p:blipFill>
        <p:spPr>
          <a:xfrm>
            <a:off x="1403280" y="907920"/>
            <a:ext cx="549360" cy="486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179280" y="191628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Comic Sans MS"/>
              </a:rPr>
              <a:t>КУР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390920" y="299736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Comic Sans MS"/>
              </a:rPr>
              <a:t>ПРОБЛ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195640" y="458136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Comic Sans MS"/>
              </a:rPr>
              <a:t>№</a:t>
            </a:r>
            <a:r>
              <a:rPr b="0" lang="ru-RU" sz="6000" spc="-1" strike="noStrike">
                <a:solidFill>
                  <a:srgbClr val="cc33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робл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78920" y="98064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пробовал разок ты закурить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шло в привычку, а назад дороги нет!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 многим людям невозможно с этим жить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урение наносит тяжкий вред!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 ведь здоровьем каждый дорожит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му проблемы лишние нужны?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дь надо жить, любить, творить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чем тебе курение, скажи?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ы думаешь, что бросить так легко?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ы заблуждаешься и очень глубоко!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 ведь здоровье никогда ты не вернешь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умай, для чего же ты живешь?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Изображение 11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322200" y="260280"/>
            <a:ext cx="85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a1fd"/>
                </a:solidFill>
                <a:latin typeface="Arial"/>
              </a:rPr>
              <a:t>ПРИЧИНЫ ПРЕЖДЕВРЕМЕННОЙ СМ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22698"/>
          <p:cNvPicPr/>
          <p:nvPr/>
        </p:nvPicPr>
        <p:blipFill>
          <a:blip r:embed="rId2"/>
          <a:stretch/>
        </p:blipFill>
        <p:spPr>
          <a:xfrm>
            <a:off x="179280" y="2133720"/>
            <a:ext cx="1295640" cy="448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230px-Smirnoffbottle"/>
          <p:cNvPicPr/>
          <p:nvPr/>
        </p:nvPicPr>
        <p:blipFill>
          <a:blip r:embed="rId3"/>
          <a:stretch/>
        </p:blipFill>
        <p:spPr>
          <a:xfrm>
            <a:off x="1692360" y="3141720"/>
            <a:ext cx="1584360" cy="342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10334253_1196593162_spid1"/>
          <p:cNvPicPr/>
          <p:nvPr/>
        </p:nvPicPr>
        <p:blipFill>
          <a:blip r:embed="rId4"/>
          <a:stretch/>
        </p:blipFill>
        <p:spPr>
          <a:xfrm>
            <a:off x="3348000" y="3933720"/>
            <a:ext cx="1728720" cy="2671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033"/>
          <p:cNvPicPr/>
          <p:nvPr/>
        </p:nvPicPr>
        <p:blipFill>
          <a:blip r:embed="rId5"/>
          <a:srcRect l="7689" t="13638" r="12833" b="11150"/>
          <a:stretch/>
        </p:blipFill>
        <p:spPr>
          <a:xfrm>
            <a:off x="5219640" y="4508640"/>
            <a:ext cx="1800360" cy="2087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Udavka"/>
          <p:cNvPicPr/>
          <p:nvPr/>
        </p:nvPicPr>
        <p:blipFill>
          <a:blip r:embed="rId6"/>
          <a:stretch/>
        </p:blipFill>
        <p:spPr>
          <a:xfrm>
            <a:off x="7164360" y="4941720"/>
            <a:ext cx="1763640" cy="15876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3"/>
          <p:cNvSpPr/>
          <p:nvPr/>
        </p:nvSpPr>
        <p:spPr>
          <a:xfrm>
            <a:off x="611280" y="2708280"/>
            <a:ext cx="4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4069080" y="54450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2052720" y="400536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5510520" y="580536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7598160" y="58770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8"/>
          <p:cNvSpPr/>
          <p:nvPr/>
        </p:nvSpPr>
        <p:spPr>
          <a:xfrm>
            <a:off x="826920" y="3068640"/>
            <a:ext cx="1368720" cy="1224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2268360" y="4365720"/>
            <a:ext cx="194328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4284720" y="5805360"/>
            <a:ext cx="1439640" cy="287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5796000" y="6165720"/>
            <a:ext cx="2016000" cy="71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2"/>
          <p:cNvSpPr/>
          <p:nvPr/>
        </p:nvSpPr>
        <p:spPr>
          <a:xfrm flipV="1">
            <a:off x="826920" y="1844280"/>
            <a:ext cx="0" cy="1079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3"/>
          <p:cNvSpPr/>
          <p:nvPr/>
        </p:nvSpPr>
        <p:spPr>
          <a:xfrm>
            <a:off x="826920" y="1844640"/>
            <a:ext cx="26654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903240" y="141300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ТАБАК – 120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5"/>
          <p:cNvSpPr/>
          <p:nvPr/>
        </p:nvSpPr>
        <p:spPr>
          <a:xfrm flipV="1">
            <a:off x="2268360" y="2781360"/>
            <a:ext cx="0" cy="1511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6"/>
          <p:cNvSpPr/>
          <p:nvPr/>
        </p:nvSpPr>
        <p:spPr>
          <a:xfrm>
            <a:off x="2268360" y="2781360"/>
            <a:ext cx="2880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2272680" y="234936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АЛКОГОЛЬ – 20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8"/>
          <p:cNvSpPr/>
          <p:nvPr/>
        </p:nvSpPr>
        <p:spPr>
          <a:xfrm flipV="1">
            <a:off x="4284720" y="3428640"/>
            <a:ext cx="0" cy="2305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9"/>
          <p:cNvSpPr/>
          <p:nvPr/>
        </p:nvSpPr>
        <p:spPr>
          <a:xfrm>
            <a:off x="4284720" y="3429000"/>
            <a:ext cx="2519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4430160" y="299736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СПИД – 7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1"/>
          <p:cNvSpPr/>
          <p:nvPr/>
        </p:nvSpPr>
        <p:spPr>
          <a:xfrm flipV="1">
            <a:off x="5724360" y="4005000"/>
            <a:ext cx="0" cy="2087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2"/>
          <p:cNvSpPr/>
          <p:nvPr/>
        </p:nvSpPr>
        <p:spPr>
          <a:xfrm>
            <a:off x="5724360" y="4005360"/>
            <a:ext cx="2664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3"/>
          <p:cNvSpPr/>
          <p:nvPr/>
        </p:nvSpPr>
        <p:spPr>
          <a:xfrm>
            <a:off x="5731920" y="3645000"/>
            <a:ext cx="2707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9933"/>
                </a:solidFill>
                <a:latin typeface="Arial"/>
              </a:rPr>
              <a:t>АВТОКАТАСТРОФЫ – 8 челове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4"/>
          <p:cNvSpPr/>
          <p:nvPr/>
        </p:nvSpPr>
        <p:spPr>
          <a:xfrm flipH="1" flipV="1">
            <a:off x="6588000" y="4437000"/>
            <a:ext cx="1224000" cy="1728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5"/>
          <p:cNvSpPr/>
          <p:nvPr/>
        </p:nvSpPr>
        <p:spPr>
          <a:xfrm>
            <a:off x="6588000" y="4437000"/>
            <a:ext cx="2376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6"/>
          <p:cNvSpPr/>
          <p:nvPr/>
        </p:nvSpPr>
        <p:spPr>
          <a:xfrm>
            <a:off x="6522840" y="4149720"/>
            <a:ext cx="2498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9933"/>
                </a:solidFill>
                <a:latin typeface="Arial"/>
              </a:rPr>
              <a:t>САМОУБИЙСТВА – 6 челове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3689640" y="78408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7fd4"/>
                </a:solidFill>
                <a:latin typeface="Arial"/>
              </a:rPr>
              <a:t>(на 1 тыс. челове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мотри на эту диаграмму и задумайся: стоит ли отдать свою жизнь убийце под названием «табак»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831960" y="5084640"/>
            <a:ext cx="7509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у тебя сильный характер, воля – ты сможешь отказ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курения самостоятельно. Ведь впереди вся жизнь, а она т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красна (образование, работа, спорт…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212280" y="1413000"/>
            <a:ext cx="552096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данным статистики до 40% курильщ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гут сами бросить курить. Остальным мо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адобиться помощь специалист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рколога. Иногда процесс отказа мож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ть продолжитель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615320" y="4508640"/>
            <a:ext cx="46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ты же хочешь быть здоров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16015_big"/>
          <p:cNvPicPr/>
          <p:nvPr/>
        </p:nvPicPr>
        <p:blipFill>
          <a:blip r:embed="rId1"/>
          <a:stretch/>
        </p:blipFill>
        <p:spPr>
          <a:xfrm>
            <a:off x="7308720" y="378936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smert"/>
          <p:cNvPicPr/>
          <p:nvPr/>
        </p:nvPicPr>
        <p:blipFill>
          <a:blip r:embed="rId2"/>
          <a:stretch/>
        </p:blipFill>
        <p:spPr>
          <a:xfrm>
            <a:off x="900000" y="1197000"/>
            <a:ext cx="2159280" cy="2281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n09"/>
          <p:cNvPicPr/>
          <p:nvPr/>
        </p:nvPicPr>
        <p:blipFill>
          <a:blip r:embed="rId3"/>
          <a:stretch/>
        </p:blipFill>
        <p:spPr>
          <a:xfrm>
            <a:off x="108000" y="260280"/>
            <a:ext cx="576360" cy="519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n10"/>
          <p:cNvPicPr/>
          <p:nvPr/>
        </p:nvPicPr>
        <p:blipFill>
          <a:blip r:embed="rId4"/>
          <a:stretch/>
        </p:blipFill>
        <p:spPr>
          <a:xfrm>
            <a:off x="7885080" y="5954760"/>
            <a:ext cx="64764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Изображение 3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bc09"/>
                </a:solidFill>
                <a:latin typeface="Impact"/>
              </a:rPr>
              <a:t>Мы предлагаем Вам следующие рекомендации, </a:t>
            </a:r>
            <a:br>
              <a:rPr sz="2400"/>
            </a:br>
            <a:r>
              <a:rPr b="0" lang="ru-RU" sz="2400" spc="-1" strike="noStrike">
                <a:solidFill>
                  <a:srgbClr val="fbbc09"/>
                </a:solidFill>
                <a:latin typeface="Impact"/>
              </a:rPr>
              <a:t>чтобы отказаться от курения.</a:t>
            </a:r>
            <a:endParaRPr b="0" lang="en-US" sz="24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25"/>
              </a:spcBef>
              <a:buClr>
                <a:srgbClr val="027f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27fd4"/>
                </a:solidFill>
                <a:latin typeface="Arial"/>
              </a:rPr>
              <a:t>Сформируйте для себя основные доводы от отказа от курения и укрепитесь мыслями в решимости мысленно избавиться от табачной «соски»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25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Arial"/>
              </a:rPr>
              <a:t>Уберите с глаз сигареты, пепельницы, спички и всё, что может напоминать о курении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25"/>
              </a:spcBef>
              <a:buClr>
                <a:srgbClr val="027f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27fd4"/>
                </a:solidFill>
                <a:latin typeface="Arial"/>
              </a:rPr>
              <a:t>Запаситесь жевательной резинкой, карамелью, семечками, ломтиками яблока и т.п., чтобы брать их в рот при появлении желания курить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25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Arial"/>
              </a:rPr>
              <a:t>Пейте больше жидкостей, исключая алкоголь и кофе.</a:t>
            </a:r>
            <a:r>
              <a:rPr b="1" lang="ru-RU" sz="1700" spc="-1" strike="noStrike">
                <a:solidFill>
                  <a:srgbClr val="027fd4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25"/>
              </a:spcBef>
              <a:buClr>
                <a:srgbClr val="027f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27fd4"/>
                </a:solidFill>
                <a:latin typeface="Arial"/>
              </a:rPr>
              <a:t>Сообщите окружающим и близким, что вы бросили курить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25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Arial"/>
              </a:rPr>
              <a:t>При появлении сильного желания курить сделайте глубокий вдох и задержите дыхание 10 сек., потом выдохните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25"/>
              </a:spcBef>
              <a:buClr>
                <a:srgbClr val="027f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27fd4"/>
                </a:solidFill>
                <a:latin typeface="Arial"/>
              </a:rPr>
              <a:t>Используйте физические упражнения для снятия напряжения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25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Arial"/>
              </a:rPr>
              <a:t>Приглашайте в компанию для отказа от курения своих друзей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197"/>
          <p:cNvPicPr/>
          <p:nvPr/>
        </p:nvPicPr>
        <p:blipFill>
          <a:blip r:embed="rId2"/>
          <a:stretch/>
        </p:blipFill>
        <p:spPr>
          <a:xfrm>
            <a:off x="8101080" y="3068640"/>
            <a:ext cx="720720" cy="536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198"/>
          <p:cNvPicPr/>
          <p:nvPr/>
        </p:nvPicPr>
        <p:blipFill>
          <a:blip r:embed="rId3"/>
          <a:stretch/>
        </p:blipFill>
        <p:spPr>
          <a:xfrm>
            <a:off x="324000" y="260280"/>
            <a:ext cx="404640" cy="647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1020"/>
          <p:cNvPicPr/>
          <p:nvPr/>
        </p:nvPicPr>
        <p:blipFill>
          <a:blip r:embed="rId4"/>
          <a:stretch/>
        </p:blipFill>
        <p:spPr>
          <a:xfrm>
            <a:off x="179280" y="6118200"/>
            <a:ext cx="1008000" cy="554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rays2002"/>
          <p:cNvPicPr/>
          <p:nvPr/>
        </p:nvPicPr>
        <p:blipFill>
          <a:blip r:embed="rId1"/>
          <a:stretch/>
        </p:blipFill>
        <p:spPr>
          <a:xfrm>
            <a:off x="-900000" y="-24300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455360" y="1268280"/>
            <a:ext cx="429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Comic Sans MS"/>
              </a:rPr>
              <a:t>АЛКОГО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857160" y="3213000"/>
            <a:ext cx="440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Comic Sans MS"/>
              </a:rPr>
              <a:t>ПРОБЛ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5792400" y="5013360"/>
            <a:ext cx="139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Comic Sans MS"/>
              </a:rPr>
              <a:t>№</a:t>
            </a:r>
            <a:r>
              <a:rPr b="0" lang="ru-RU" sz="60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224"/>
          <p:cNvPicPr/>
          <p:nvPr/>
        </p:nvPicPr>
        <p:blipFill>
          <a:blip r:embed="rId2"/>
          <a:stretch/>
        </p:blipFill>
        <p:spPr>
          <a:xfrm>
            <a:off x="8244000" y="260280"/>
            <a:ext cx="720720" cy="615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222"/>
          <p:cNvPicPr/>
          <p:nvPr/>
        </p:nvPicPr>
        <p:blipFill>
          <a:blip r:embed="rId3"/>
          <a:stretch/>
        </p:blipFill>
        <p:spPr>
          <a:xfrm>
            <a:off x="539640" y="4724280"/>
            <a:ext cx="792360" cy="679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indefinit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7" dur="indefinit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alk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 rot="20388600">
            <a:off x="5510880" y="476640"/>
            <a:ext cx="3398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Алкоголь разрушает мозги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Память ту, что когда то была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Ты уже не вернёшь те куски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И не вспомнишь былые слов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Алкоголь мои мысли унёс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И разрушен немного мой мозг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И теперь я решила не пить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Чтобы мозгу спокойно пож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6:11:46Z</dcterms:created>
  <dc:creator>Зинько</dc:creator>
  <dc:description/>
  <cp:keywords/>
  <dc:language>en-US</dc:language>
  <cp:lastModifiedBy>Пользователь</cp:lastModifiedBy>
  <dcterms:modified xsi:type="dcterms:W3CDTF">2001-12-31T21:29:06Z</dcterms:modified>
  <cp:revision>12</cp:revision>
  <dc:subject/>
  <dc:title>спор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61049</vt:lpwstr>
  </property>
</Properties>
</file>