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1387-0571-4AE1-9B64-3237B2EC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EAC5-3E14-48B1-ADD5-FA07B381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1134-4850-47CA-B367-7E6BF933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4CEE-1BAF-47DB-8C23-A40C122D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907E-E6A6-4254-A977-0E82B9FD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ED0A-A10C-4EE8-A49B-45230887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4DFB-87DB-4988-8A21-86DBB87F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D4BF-76EE-4AFB-BCB3-E9ADCD22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3758-8D2F-464D-B17B-97B624B6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AA40-8F08-4150-9F2C-6F820B62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2AE4-0249-410E-B7CA-3DF22D98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6B74-8880-4337-82D7-AE736CBE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6590-1B53-47DE-A415-EFAB34BC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635E-F082-4080-A319-70A2042F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CE11-E84D-49E9-B045-121ACD17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B425-2266-41FF-9814-C6DDEDA3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0854-7DB2-4B25-BF51-7471B4C3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70B7-50C9-4E1C-AC7F-CE8B5007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3257-B61D-467E-BEEE-4635CD03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31A4-0096-43C6-90EC-89529CE1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9838-EA51-4A21-9283-60A9AE63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2403-A7FE-43D1-8D2F-CC1C0A6E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CC2A-2C85-46AA-B8EC-B4600867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C94E-33FC-47DF-AA05-0ED876B2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4C9D-9B50-40F7-A50F-8C8959CDB8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D694-0910-4B06-889C-A7A8205AE4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vokrugsveta.ru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Showcard Gothic"/>
              </a:rPr>
              <a:t>Экологическая акция</a:t>
            </a:r>
            <a:br>
              <a:rPr sz="5400"/>
            </a:br>
            <a:br>
              <a:rPr sz="40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05320" y="3886200"/>
            <a:ext cx="5029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1" lang="ru-RU" sz="2000" spc="-1" strike="noStrike">
                <a:solidFill>
                  <a:srgbClr val="0066ff"/>
                </a:solidFill>
                <a:latin typeface="Tahoma"/>
              </a:rPr>
              <a:t>Подготови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Tahoma"/>
              </a:rPr>
              <a:t>Липенская Зоя Александр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Tahoma"/>
              </a:rPr>
              <a:t>Твиритина Надежда Алексеевна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2057400"/>
            <a:ext cx="78483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тицы   зимой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15630" t="21044" r="17052" b="20239"/>
          <a:stretch/>
        </p:blipFill>
        <p:spPr>
          <a:xfrm>
            <a:off x="1143000" y="4114800"/>
            <a:ext cx="2362320" cy="175248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ahoma"/>
              </a:rPr>
              <a:t>у кормушки обязательно должна быть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крыша</a:t>
            </a:r>
            <a:r>
              <a:rPr b="0" lang="ru-RU" sz="2400" spc="-1" strike="noStrike">
                <a:solidFill>
                  <a:srgbClr val="cc0000"/>
                </a:solidFill>
                <a:latin typeface="Tahoma"/>
              </a:rPr>
              <a:t>, иначе корм может быть засыпан снегом или залит дожде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отверстие</a:t>
            </a:r>
            <a:r>
              <a:rPr b="0" lang="ru-RU" sz="2400" spc="-1" strike="noStrike">
                <a:solidFill>
                  <a:srgbClr val="cc0000"/>
                </a:solidFill>
                <a:latin typeface="Tahoma"/>
              </a:rPr>
              <a:t> в кормушке должно быть настолько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широким</a:t>
            </a:r>
            <a:r>
              <a:rPr b="0" lang="ru-RU" sz="2400" spc="-1" strike="noStrike">
                <a:solidFill>
                  <a:srgbClr val="cc0000"/>
                </a:solidFill>
                <a:latin typeface="Tahoma"/>
              </a:rPr>
              <a:t>, чтобы птица могла спокойно проникнуть внутрь кормушки и покинуть е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ahoma"/>
              </a:rPr>
              <a:t>если вы хотите построить кормушку, которая будет служить птичьей столовой не один сезон, то ее лучше всего сделать из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дере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ahoma"/>
              </a:rPr>
              <a:t>для их изготовления понадобятся: деревянные бруски разной толщины, фанера или древесно–волокнистые плиты, доски. Скреплять детали между собой лучше всего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гвоздями.</a:t>
            </a:r>
            <a:r>
              <a:rPr b="0" lang="ru-RU" sz="2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90840" y="685800"/>
            <a:ext cx="671508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30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66ff99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"/>
              </a:rPr>
              <a:t>Памятка по изготовлению</a:t>
            </a:r>
            <a:endParaRPr b="1" lang="en-US" sz="1800" spc="1" strike="noStrike">
              <a:ln w="19080">
                <a:solidFill>
                  <a:srgbClr val="66ff99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ffff66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66ff99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"/>
              </a:rPr>
              <a:t>кормушки</a:t>
            </a:r>
            <a:endParaRPr b="1" lang="en-US" sz="1800" spc="1" strike="noStrike">
              <a:ln w="19080">
                <a:solidFill>
                  <a:srgbClr val="66ff99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ff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553080" y="5638680"/>
            <a:ext cx="14479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Угощение для птиц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ahoma"/>
              </a:rPr>
              <a:t>-Что бы вы положили в кормушк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Ряби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Макаро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Семеч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Ягоды шиповн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Ржаной хлеб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Белый хле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Шоколадные конфе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Яблок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Пшено (круп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Гречневая каш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Сало солен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Кусочки сырого мя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2581560" cy="2943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010280" y="5105520"/>
            <a:ext cx="1590840" cy="1266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«Кого чем угостим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Воробья       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- крош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синицу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         - сал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снегиря       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- ряби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голубя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         - пшен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свиристель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 - семеч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114300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934320" y="1981080"/>
            <a:ext cx="1218960" cy="952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324480" y="274320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7162920" y="327672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6477120" y="4191120"/>
            <a:ext cx="1028520" cy="990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7238880" y="5105520"/>
            <a:ext cx="1181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ОБЪЯСНИТЕ СМЫСЛ ПОСЛОВИЦ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371600" y="2209680"/>
            <a:ext cx="66294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00ff">
                        <a:alpha val="50196"/>
                      </a:srgbClr>
                    </a:gs>
                    <a:gs pos="100000">
                      <a:srgbClr val="ffcc00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т такой птицы,</a:t>
            </a:r>
            <a:endParaRPr b="1" lang="en-US" sz="1800" spc="1" strike="noStrike">
              <a:ln w="2844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00ff">
                      <a:alpha val="50196"/>
                    </a:srgbClr>
                  </a:gs>
                  <a:gs pos="100000">
                    <a:srgbClr val="ffcc00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00ff">
                        <a:alpha val="50196"/>
                      </a:srgbClr>
                    </a:gs>
                    <a:gs pos="100000">
                      <a:srgbClr val="ffcc00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б пела, да не ела</a:t>
            </a:r>
            <a:endParaRPr b="1" lang="en-US" sz="1800" spc="1" strike="noStrike">
              <a:ln w="2844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00ff">
                      <a:alpha val="50196"/>
                    </a:srgbClr>
                  </a:gs>
                  <a:gs pos="100000">
                    <a:srgbClr val="ffcc00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505320" y="5257800"/>
            <a:ext cx="2133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Вот в этот самый трудный ча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Спасенье птицы ждут от на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Кормите их! Согрейт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Повесьте домик на суку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Рассыпьте крошки на снегу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А то и манной кашки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И оживут бедняжки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По небу весело скольз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Взлетят пернатые друзь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И пропоют, чирика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"Спасибо вам великое!"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91320" y="1600200"/>
            <a:ext cx="2361960" cy="26668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5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5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4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4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Продолжите любое из этих предложений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ahoma"/>
              </a:rPr>
              <a:t>- Теперь я знаю, что …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ahoma"/>
              </a:rPr>
              <a:t>- Я понял, что ……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ahoma"/>
              </a:rPr>
              <a:t>- Я буду …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5334120"/>
            <a:ext cx="1219320" cy="9903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5410080"/>
            <a:ext cx="1218960" cy="990720"/>
          </a:xfrm>
          <a:prstGeom prst="smileyFace">
            <a:avLst>
              <a:gd name="adj" fmla="val -4652"/>
            </a:avLst>
          </a:prstGeom>
          <a:solidFill>
            <a:srgbClr val="33cc3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410080"/>
            <a:ext cx="1218960" cy="990720"/>
          </a:xfrm>
          <a:prstGeom prst="smileyFace">
            <a:avLst>
              <a:gd name="adj" fmla="val 463"/>
            </a:avLst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ИНФОРМАЦИОННЫЕ ИСТОЧНИ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1. Методическое пособие. Я иду на урок в начальную школу. Окружающий мир.- М.: 2000.- 240 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2. Нечаева Л.И. Птицы зимой. // Начальная школа.-2007.- № 11.- с. 38-3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3.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www.vokrugsveta.ru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5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8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Цели: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Вызвать сочувствие к голодающим и замерзающим зимой птицам.   </a:t>
            </a:r>
            <a:br>
              <a:rPr sz="1600"/>
            </a:b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   Научить проявлять заботу к ним.</a:t>
            </a:r>
            <a:br>
              <a:rPr sz="1600"/>
            </a:b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- Расширить знания детей о птицах.</a:t>
            </a:r>
            <a:br>
              <a:rPr sz="1600"/>
            </a:br>
            <a:br>
              <a:rPr sz="1600"/>
            </a:b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Задачи:</a:t>
            </a:r>
            <a:br>
              <a:rPr sz="24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познакомить учащихся с особенностями жизни птиц зимой, с трудностями 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добывания корма, с некоторыми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мероприятиями по охране птиц зимой;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- содействовать развитию умений у детей находить отдельные взаимосвязи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в природе, обеспечить развитие у школьников потребности общения с 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природой и окружающим миром, ответственности за "братьев наших 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меньших"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- прививать бережное отношение к природе, милосердие ко всему живому; 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помочь осознать главные этические законы жизни человека – любви, 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добра, красоты, справедливости к окружающему миру; вызвать желание 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помочь пернатым в трудное зимнее время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то поляны белит белым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И на стенах пишет мелом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Шьёт пуховые перины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Разукрасил все витрины?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ahoma"/>
              </a:rPr>
              <a:t>Птицы – это песнь и полёт!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Их голоса звучат на земле круглый год, голоса их звучат и днём и ночь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ahoma"/>
              </a:rPr>
              <a:t>Птицы – дети воздух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Они могут подняться выше облаков и гор, перелететь через пустыню или мор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ahoma"/>
              </a:rPr>
              <a:t>Птицы – дети радуг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Их перья переливаются разными цвет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ahoma"/>
              </a:rPr>
              <a:t>Птицы – наши верные помощни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Защитники наших лесов, полей, садов, огородов от вредит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ahoma"/>
              </a:rPr>
              <a:t>Птицы – это тайна и красота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Без них нам не обойтись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781680" y="5029200"/>
            <a:ext cx="1428840" cy="138096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36280" y="2057400"/>
            <a:ext cx="7396560" cy="3141720"/>
            <a:chOff x="836280" y="2057400"/>
            <a:chExt cx="7396560" cy="3141720"/>
          </a:xfrm>
        </p:grpSpPr>
        <p:sp>
          <p:nvSpPr>
            <p:cNvPr id="92" name=""/>
            <p:cNvSpPr/>
            <p:nvPr/>
          </p:nvSpPr>
          <p:spPr>
            <a:xfrm>
              <a:off x="3552840" y="2057400"/>
              <a:ext cx="2113560" cy="1047600"/>
            </a:xfrm>
            <a:prstGeom prst="rect">
              <a:avLst/>
            </a:prstGeom>
            <a:solidFill>
              <a:srgbClr val="99cc00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80"/>
                  </a:solidFill>
                  <a:latin typeface="Tahoma"/>
                </a:rPr>
                <a:t>ПТИЦЫ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6280" y="4152960"/>
              <a:ext cx="1962000" cy="104616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Tahoma"/>
                </a:rPr>
                <a:t>ПЕРЕЛЁТНЫ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52840" y="4152960"/>
              <a:ext cx="2113560" cy="104616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Tahoma"/>
                </a:rPr>
                <a:t>ЗИМУЮЩ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21680" y="4152960"/>
              <a:ext cx="1811160" cy="104616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Tahoma"/>
                </a:rPr>
                <a:t>КОЧУЮЩ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0520" y="3105000"/>
              <a:ext cx="0" cy="10479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194920" y="3105000"/>
              <a:ext cx="1357560" cy="10479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66760" y="3105000"/>
              <a:ext cx="1207080" cy="10479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"/>
          <p:cNvSpPr txBox="1"/>
          <p:nvPr/>
        </p:nvSpPr>
        <p:spPr>
          <a:xfrm>
            <a:off x="1066680" y="609480"/>
            <a:ext cx="6934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66ff99"/>
                    </a:gs>
                    <a:gs pos="100000">
                      <a:srgbClr val="2f7546"/>
                    </a:gs>
                  </a:gsLst>
                  <a:lin ang="5400000"/>
                </a:gradFill>
                <a:latin typeface="Arial"/>
              </a:rPr>
              <a:t>ВИДЫ   ПТИЦ</a:t>
            </a:r>
            <a:endParaRPr b="1" lang="en-US" sz="1800" spc="1" strike="noStrike">
              <a:ln w="1260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66ff99"/>
                  </a:gs>
                  <a:gs pos="100000">
                    <a:srgbClr val="2f754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ahoma"/>
              </a:rPr>
              <a:t>РАСШИФРУЙ НАЗВАНИЯ ЗИМУЮЩИХ ПТИ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Tahoma"/>
              </a:rPr>
              <a:t>     </a:t>
            </a:r>
            <a:r>
              <a:rPr b="1" lang="en-US" sz="4800" spc="-1" strike="noStrike">
                <a:solidFill>
                  <a:srgbClr val="cc0066"/>
                </a:solidFill>
                <a:latin typeface="Tahoma"/>
              </a:rPr>
              <a:t>РОЙБЕВО   ЦАНИСИ НАРОВО     ТЕЛДЯ</a:t>
            </a:r>
            <a:r>
              <a:rPr b="1" lang="en-US" sz="3200" spc="-1" strike="noStrike">
                <a:solidFill>
                  <a:srgbClr val="cc0066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190512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2964" t="2333" r="14292" b="4650"/>
          <a:stretch/>
        </p:blipFill>
        <p:spPr>
          <a:xfrm>
            <a:off x="3429000" y="1219320"/>
            <a:ext cx="2057400" cy="2286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3"/>
          <a:srcRect l="0" t="0" r="28281" b="0"/>
          <a:stretch/>
        </p:blipFill>
        <p:spPr>
          <a:xfrm>
            <a:off x="6172200" y="1219320"/>
            <a:ext cx="213372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rcRect l="31540" t="51605" r="39809" b="20239"/>
          <a:stretch/>
        </p:blipFill>
        <p:spPr>
          <a:xfrm>
            <a:off x="2971800" y="4191120"/>
            <a:ext cx="31240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ahoma"/>
              </a:rPr>
              <a:t>ТЕЛЕГРАММ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SOS! SOS! SOS!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Спасите от смерти!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На помощь!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ahoma"/>
              </a:rPr>
              <a:t>                                                 </a:t>
            </a:r>
            <a:r>
              <a:rPr b="1" i="1" lang="en-US" sz="2400" spc="-1" strike="noStrike">
                <a:solidFill>
                  <a:srgbClr val="cc0066"/>
                </a:solidFill>
                <a:latin typeface="Tahoma"/>
              </a:rPr>
              <a:t>ПТИЦ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143000" y="609480"/>
            <a:ext cx="7162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Times New Roman"/>
              </a:rPr>
              <a:t>Какие бывают кормуш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0099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07" name="" descr="Смотреть описание"/>
          <p:cNvPicPr/>
          <p:nvPr/>
        </p:nvPicPr>
        <p:blipFill>
          <a:blip r:embed="rId1"/>
          <a:stretch/>
        </p:blipFill>
        <p:spPr>
          <a:xfrm>
            <a:off x="609480" y="2362320"/>
            <a:ext cx="1752840" cy="1600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Смотреть описание"/>
          <p:cNvPicPr/>
          <p:nvPr/>
        </p:nvPicPr>
        <p:blipFill>
          <a:blip r:embed="rId2"/>
          <a:stretch/>
        </p:blipFill>
        <p:spPr>
          <a:xfrm>
            <a:off x="7238880" y="2362320"/>
            <a:ext cx="1630440" cy="1676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Смотреть описание"/>
          <p:cNvPicPr/>
          <p:nvPr/>
        </p:nvPicPr>
        <p:blipFill>
          <a:blip r:embed="rId3"/>
          <a:stretch/>
        </p:blipFill>
        <p:spPr>
          <a:xfrm>
            <a:off x="5257800" y="4495680"/>
            <a:ext cx="1173240" cy="1524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Смотреть описание"/>
          <p:cNvPicPr/>
          <p:nvPr/>
        </p:nvPicPr>
        <p:blipFill>
          <a:blip r:embed="rId4"/>
          <a:stretch/>
        </p:blipFill>
        <p:spPr>
          <a:xfrm>
            <a:off x="3429000" y="2286000"/>
            <a:ext cx="2819520" cy="1417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Смотреть описание"/>
          <p:cNvPicPr/>
          <p:nvPr/>
        </p:nvPicPr>
        <p:blipFill>
          <a:blip r:embed="rId5"/>
          <a:stretch/>
        </p:blipFill>
        <p:spPr>
          <a:xfrm>
            <a:off x="7620120" y="4495680"/>
            <a:ext cx="855720" cy="1920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Смотреть описание"/>
          <p:cNvPicPr/>
          <p:nvPr/>
        </p:nvPicPr>
        <p:blipFill>
          <a:blip r:embed="rId6"/>
          <a:stretch/>
        </p:blipFill>
        <p:spPr>
          <a:xfrm>
            <a:off x="990720" y="4419720"/>
            <a:ext cx="742680" cy="1752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Смотреть описание"/>
          <p:cNvPicPr/>
          <p:nvPr/>
        </p:nvPicPr>
        <p:blipFill>
          <a:blip r:embed="rId7"/>
          <a:stretch/>
        </p:blipFill>
        <p:spPr>
          <a:xfrm>
            <a:off x="3048120" y="4495680"/>
            <a:ext cx="1101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1-03-02T18:03:3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