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41.jpeg" ContentType="image/jpeg"/>
  <Override PartName="/ppt/media/image4.wmf" ContentType="image/x-wmf"/>
  <Override PartName="/ppt/media/image23.jpeg" ContentType="image/jpeg"/>
  <Override PartName="/ppt/media/image5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0.jpeg" ContentType="image/jpeg"/>
  <Override PartName="/ppt/media/image27.jpeg" ContentType="image/jpeg"/>
  <Override PartName="/ppt/media/image31.png" ContentType="image/png"/>
  <Override PartName="/ppt/media/image49.wmf" ContentType="image/x-wmf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46.wmf" ContentType="image/x-wmf"/>
  <Override PartName="/ppt/media/image36.png" ContentType="image/png"/>
  <Override PartName="/ppt/media/image47.wmf" ContentType="image/x-wmf"/>
  <Override PartName="/ppt/media/image48.wmf" ContentType="image/x-wmf"/>
  <Override PartName="/ppt/media/image10.jpeg" ContentType="image/jpeg"/>
  <Override PartName="/ppt/media/image33.jpeg" ContentType="image/jpeg"/>
  <Override PartName="/ppt/media/image53.wmf" ContentType="image/x-wmf"/>
  <Override PartName="/ppt/media/image37.wmf" ContentType="image/x-wmf"/>
  <Override PartName="/ppt/media/image30.jpeg" ContentType="image/jpeg"/>
  <Override PartName="/ppt/media/image11.jpeg" ContentType="image/jpeg"/>
  <Override PartName="/ppt/media/image5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34.jpeg" ContentType="image/jpeg"/>
  <Override PartName="/ppt/media/image7.png" ContentType="image/png"/>
  <Override PartName="/ppt/media/image50.wmf" ContentType="image/x-wmf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9CD-3D10-4B78-A3E8-8E38060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B7B-7F44-47EF-A887-B77B598D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2E6-7F36-4D09-A862-ED925B7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16D-6B0D-4A8D-9C7A-F5F1DF9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CEB-7737-41AA-8A9F-7A78C59A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F26-EFAC-4B7F-8A54-12AEB739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A25-E458-4D7F-A973-C2D6FCB0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AA8-9614-4AEC-9674-3F9704A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8D2-1FC2-4A18-AC55-88CA90E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315-399A-479A-A4C9-269E5EC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4FE-3C09-49D9-9737-0B180B3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346-0319-4A83-8366-7D80E16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B18-9861-40D3-B23C-02F5A03D3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wmf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457200" y="990720"/>
            <a:ext cx="1447920" cy="1074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n00647_"/>
          <p:cNvPicPr/>
          <p:nvPr/>
        </p:nvPicPr>
        <p:blipFill>
          <a:blip r:embed="rId2"/>
          <a:stretch/>
        </p:blipFill>
        <p:spPr>
          <a:xfrm>
            <a:off x="3200400" y="533520"/>
            <a:ext cx="1924200" cy="1503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00714_"/>
          <p:cNvPicPr/>
          <p:nvPr/>
        </p:nvPicPr>
        <p:blipFill>
          <a:blip r:embed="rId3"/>
          <a:stretch/>
        </p:blipFill>
        <p:spPr>
          <a:xfrm>
            <a:off x="7086600" y="990720"/>
            <a:ext cx="1852560" cy="154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110856"/>
          <p:cNvPicPr/>
          <p:nvPr/>
        </p:nvPicPr>
        <p:blipFill>
          <a:blip r:embed="rId4"/>
          <a:stretch/>
        </p:blipFill>
        <p:spPr>
          <a:xfrm>
            <a:off x="7410600" y="3352680"/>
            <a:ext cx="1733400" cy="129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0111366"/>
          <p:cNvPicPr/>
          <p:nvPr/>
        </p:nvPicPr>
        <p:blipFill>
          <a:blip r:embed="rId5"/>
          <a:stretch/>
        </p:blipFill>
        <p:spPr>
          <a:xfrm>
            <a:off x="304920" y="4952880"/>
            <a:ext cx="1747800" cy="153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j0326494"/>
          <p:cNvPicPr/>
          <p:nvPr/>
        </p:nvPicPr>
        <p:blipFill>
          <a:blip r:embed="rId6"/>
          <a:stretch/>
        </p:blipFill>
        <p:spPr>
          <a:xfrm>
            <a:off x="533520" y="2590920"/>
            <a:ext cx="1833480" cy="17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tiger"/>
          <p:cNvPicPr/>
          <p:nvPr/>
        </p:nvPicPr>
        <p:blipFill>
          <a:blip r:embed="rId7"/>
          <a:stretch/>
        </p:blipFill>
        <p:spPr>
          <a:xfrm>
            <a:off x="3276720" y="4343400"/>
            <a:ext cx="175248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j0356161"/>
          <p:cNvPicPr/>
          <p:nvPr/>
        </p:nvPicPr>
        <p:blipFill>
          <a:blip r:embed="rId8"/>
          <a:stretch/>
        </p:blipFill>
        <p:spPr>
          <a:xfrm>
            <a:off x="5562720" y="4800600"/>
            <a:ext cx="2485800" cy="144612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981080" y="1447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6629400" y="33526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7848720" y="5562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3505320" y="28954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7391520" y="5335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5105520" y="6094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304920" y="36576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1"/>
          <p:cNvSpPr/>
          <p:nvPr/>
        </p:nvSpPr>
        <p:spPr>
          <a:xfrm>
            <a:off x="1981080" y="57913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ть зверей залегающих  в спя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4343400" y="2590920"/>
            <a:ext cx="1711440" cy="1209240"/>
            <a:chOff x="4343400" y="2590920"/>
            <a:chExt cx="1711440" cy="1209240"/>
          </a:xfrm>
        </p:grpSpPr>
        <p:sp>
          <p:nvSpPr>
            <p:cNvPr id="60" name="AutoShape 23"/>
            <p:cNvSpPr/>
            <p:nvPr/>
          </p:nvSpPr>
          <p:spPr>
            <a:xfrm>
              <a:off x="4343400" y="2590920"/>
              <a:ext cx="171144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"/>
            <p:cNvSpPr/>
            <p:nvPr/>
          </p:nvSpPr>
          <p:spPr>
            <a:xfrm>
              <a:off x="4349880" y="2599920"/>
              <a:ext cx="1682640" cy="1200240"/>
            </a:xfrm>
            <a:custGeom>
              <a:avLst/>
              <a:gdLst/>
              <a:ahLst/>
              <a:rect l="l" t="t" r="r" b="b"/>
              <a:pathLst>
                <a:path w="3178" h="2272">
                  <a:moveTo>
                    <a:pt x="1739" y="13"/>
                  </a:moveTo>
                  <a:lnTo>
                    <a:pt x="1751" y="18"/>
                  </a:lnTo>
                  <a:lnTo>
                    <a:pt x="1763" y="25"/>
                  </a:lnTo>
                  <a:lnTo>
                    <a:pt x="1776" y="29"/>
                  </a:lnTo>
                  <a:lnTo>
                    <a:pt x="1789" y="34"/>
                  </a:lnTo>
                  <a:lnTo>
                    <a:pt x="1802" y="39"/>
                  </a:lnTo>
                  <a:lnTo>
                    <a:pt x="1816" y="43"/>
                  </a:lnTo>
                  <a:lnTo>
                    <a:pt x="1828" y="46"/>
                  </a:lnTo>
                  <a:lnTo>
                    <a:pt x="1842" y="50"/>
                  </a:lnTo>
                  <a:lnTo>
                    <a:pt x="1853" y="56"/>
                  </a:lnTo>
                  <a:lnTo>
                    <a:pt x="1863" y="62"/>
                  </a:lnTo>
                  <a:lnTo>
                    <a:pt x="1869" y="64"/>
                  </a:lnTo>
                  <a:lnTo>
                    <a:pt x="1874" y="67"/>
                  </a:lnTo>
                  <a:lnTo>
                    <a:pt x="1881" y="68"/>
                  </a:lnTo>
                  <a:lnTo>
                    <a:pt x="1888" y="70"/>
                  </a:lnTo>
                  <a:lnTo>
                    <a:pt x="1903" y="75"/>
                  </a:lnTo>
                  <a:lnTo>
                    <a:pt x="1918" y="80"/>
                  </a:lnTo>
                  <a:lnTo>
                    <a:pt x="1933" y="84"/>
                  </a:lnTo>
                  <a:lnTo>
                    <a:pt x="1949" y="90"/>
                  </a:lnTo>
                  <a:lnTo>
                    <a:pt x="1964" y="94"/>
                  </a:lnTo>
                  <a:lnTo>
                    <a:pt x="1979" y="99"/>
                  </a:lnTo>
                  <a:lnTo>
                    <a:pt x="1992" y="105"/>
                  </a:lnTo>
                  <a:lnTo>
                    <a:pt x="2007" y="111"/>
                  </a:lnTo>
                  <a:lnTo>
                    <a:pt x="2016" y="102"/>
                  </a:lnTo>
                  <a:lnTo>
                    <a:pt x="2025" y="98"/>
                  </a:lnTo>
                  <a:lnTo>
                    <a:pt x="2035" y="95"/>
                  </a:lnTo>
                  <a:lnTo>
                    <a:pt x="2046" y="96"/>
                  </a:lnTo>
                  <a:lnTo>
                    <a:pt x="2055" y="96"/>
                  </a:lnTo>
                  <a:lnTo>
                    <a:pt x="2066" y="98"/>
                  </a:lnTo>
                  <a:lnTo>
                    <a:pt x="2077" y="99"/>
                  </a:lnTo>
                  <a:lnTo>
                    <a:pt x="2088" y="101"/>
                  </a:lnTo>
                  <a:lnTo>
                    <a:pt x="2107" y="109"/>
                  </a:lnTo>
                  <a:lnTo>
                    <a:pt x="2128" y="117"/>
                  </a:lnTo>
                  <a:lnTo>
                    <a:pt x="2148" y="126"/>
                  </a:lnTo>
                  <a:lnTo>
                    <a:pt x="2168" y="135"/>
                  </a:lnTo>
                  <a:lnTo>
                    <a:pt x="2188" y="143"/>
                  </a:lnTo>
                  <a:lnTo>
                    <a:pt x="2211" y="149"/>
                  </a:lnTo>
                  <a:lnTo>
                    <a:pt x="2233" y="153"/>
                  </a:lnTo>
                  <a:lnTo>
                    <a:pt x="2258" y="155"/>
                  </a:lnTo>
                  <a:lnTo>
                    <a:pt x="2291" y="162"/>
                  </a:lnTo>
                  <a:lnTo>
                    <a:pt x="2325" y="171"/>
                  </a:lnTo>
                  <a:lnTo>
                    <a:pt x="2358" y="178"/>
                  </a:lnTo>
                  <a:lnTo>
                    <a:pt x="2392" y="187"/>
                  </a:lnTo>
                  <a:lnTo>
                    <a:pt x="2425" y="194"/>
                  </a:lnTo>
                  <a:lnTo>
                    <a:pt x="2458" y="203"/>
                  </a:lnTo>
                  <a:lnTo>
                    <a:pt x="2491" y="211"/>
                  </a:lnTo>
                  <a:lnTo>
                    <a:pt x="2525" y="221"/>
                  </a:lnTo>
                  <a:lnTo>
                    <a:pt x="2535" y="219"/>
                  </a:lnTo>
                  <a:lnTo>
                    <a:pt x="2546" y="219"/>
                  </a:lnTo>
                  <a:lnTo>
                    <a:pt x="2556" y="219"/>
                  </a:lnTo>
                  <a:lnTo>
                    <a:pt x="2568" y="220"/>
                  </a:lnTo>
                  <a:lnTo>
                    <a:pt x="2577" y="219"/>
                  </a:lnTo>
                  <a:lnTo>
                    <a:pt x="2587" y="217"/>
                  </a:lnTo>
                  <a:lnTo>
                    <a:pt x="2597" y="215"/>
                  </a:lnTo>
                  <a:lnTo>
                    <a:pt x="2606" y="212"/>
                  </a:lnTo>
                  <a:lnTo>
                    <a:pt x="2632" y="214"/>
                  </a:lnTo>
                  <a:lnTo>
                    <a:pt x="2658" y="220"/>
                  </a:lnTo>
                  <a:lnTo>
                    <a:pt x="2684" y="226"/>
                  </a:lnTo>
                  <a:lnTo>
                    <a:pt x="2710" y="235"/>
                  </a:lnTo>
                  <a:lnTo>
                    <a:pt x="2734" y="242"/>
                  </a:lnTo>
                  <a:lnTo>
                    <a:pt x="2759" y="251"/>
                  </a:lnTo>
                  <a:lnTo>
                    <a:pt x="2784" y="258"/>
                  </a:lnTo>
                  <a:lnTo>
                    <a:pt x="2812" y="265"/>
                  </a:lnTo>
                  <a:lnTo>
                    <a:pt x="2818" y="271"/>
                  </a:lnTo>
                  <a:lnTo>
                    <a:pt x="2827" y="276"/>
                  </a:lnTo>
                  <a:lnTo>
                    <a:pt x="2836" y="279"/>
                  </a:lnTo>
                  <a:lnTo>
                    <a:pt x="2847" y="281"/>
                  </a:lnTo>
                  <a:lnTo>
                    <a:pt x="2871" y="302"/>
                  </a:lnTo>
                  <a:lnTo>
                    <a:pt x="2897" y="324"/>
                  </a:lnTo>
                  <a:lnTo>
                    <a:pt x="2922" y="347"/>
                  </a:lnTo>
                  <a:lnTo>
                    <a:pt x="2945" y="373"/>
                  </a:lnTo>
                  <a:lnTo>
                    <a:pt x="2966" y="398"/>
                  </a:lnTo>
                  <a:lnTo>
                    <a:pt x="2986" y="425"/>
                  </a:lnTo>
                  <a:lnTo>
                    <a:pt x="3001" y="453"/>
                  </a:lnTo>
                  <a:lnTo>
                    <a:pt x="3014" y="484"/>
                  </a:lnTo>
                  <a:lnTo>
                    <a:pt x="3025" y="501"/>
                  </a:lnTo>
                  <a:lnTo>
                    <a:pt x="3036" y="520"/>
                  </a:lnTo>
                  <a:lnTo>
                    <a:pt x="3044" y="539"/>
                  </a:lnTo>
                  <a:lnTo>
                    <a:pt x="3054" y="558"/>
                  </a:lnTo>
                  <a:lnTo>
                    <a:pt x="3062" y="576"/>
                  </a:lnTo>
                  <a:lnTo>
                    <a:pt x="3071" y="596"/>
                  </a:lnTo>
                  <a:lnTo>
                    <a:pt x="3080" y="614"/>
                  </a:lnTo>
                  <a:lnTo>
                    <a:pt x="3092" y="633"/>
                  </a:lnTo>
                  <a:lnTo>
                    <a:pt x="3109" y="664"/>
                  </a:lnTo>
                  <a:lnTo>
                    <a:pt x="3123" y="696"/>
                  </a:lnTo>
                  <a:lnTo>
                    <a:pt x="3134" y="730"/>
                  </a:lnTo>
                  <a:lnTo>
                    <a:pt x="3143" y="765"/>
                  </a:lnTo>
                  <a:lnTo>
                    <a:pt x="3149" y="800"/>
                  </a:lnTo>
                  <a:lnTo>
                    <a:pt x="3153" y="837"/>
                  </a:lnTo>
                  <a:lnTo>
                    <a:pt x="3155" y="875"/>
                  </a:lnTo>
                  <a:lnTo>
                    <a:pt x="3156" y="913"/>
                  </a:lnTo>
                  <a:lnTo>
                    <a:pt x="3158" y="963"/>
                  </a:lnTo>
                  <a:lnTo>
                    <a:pt x="3165" y="1013"/>
                  </a:lnTo>
                  <a:lnTo>
                    <a:pt x="3170" y="1064"/>
                  </a:lnTo>
                  <a:lnTo>
                    <a:pt x="3176" y="1115"/>
                  </a:lnTo>
                  <a:lnTo>
                    <a:pt x="3178" y="1167"/>
                  </a:lnTo>
                  <a:lnTo>
                    <a:pt x="3177" y="1219"/>
                  </a:lnTo>
                  <a:lnTo>
                    <a:pt x="3171" y="1271"/>
                  </a:lnTo>
                  <a:lnTo>
                    <a:pt x="3158" y="1325"/>
                  </a:lnTo>
                  <a:lnTo>
                    <a:pt x="3143" y="1369"/>
                  </a:lnTo>
                  <a:lnTo>
                    <a:pt x="3131" y="1414"/>
                  </a:lnTo>
                  <a:lnTo>
                    <a:pt x="3119" y="1458"/>
                  </a:lnTo>
                  <a:lnTo>
                    <a:pt x="3108" y="1503"/>
                  </a:lnTo>
                  <a:lnTo>
                    <a:pt x="3097" y="1548"/>
                  </a:lnTo>
                  <a:lnTo>
                    <a:pt x="3088" y="1595"/>
                  </a:lnTo>
                  <a:lnTo>
                    <a:pt x="3078" y="1641"/>
                  </a:lnTo>
                  <a:lnTo>
                    <a:pt x="3072" y="1688"/>
                  </a:lnTo>
                  <a:lnTo>
                    <a:pt x="3061" y="1732"/>
                  </a:lnTo>
                  <a:lnTo>
                    <a:pt x="3051" y="1777"/>
                  </a:lnTo>
                  <a:lnTo>
                    <a:pt x="3039" y="1821"/>
                  </a:lnTo>
                  <a:lnTo>
                    <a:pt x="3027" y="1864"/>
                  </a:lnTo>
                  <a:lnTo>
                    <a:pt x="3013" y="1907"/>
                  </a:lnTo>
                  <a:lnTo>
                    <a:pt x="3000" y="1952"/>
                  </a:lnTo>
                  <a:lnTo>
                    <a:pt x="2988" y="1994"/>
                  </a:lnTo>
                  <a:lnTo>
                    <a:pt x="2976" y="2039"/>
                  </a:lnTo>
                  <a:lnTo>
                    <a:pt x="2967" y="2051"/>
                  </a:lnTo>
                  <a:lnTo>
                    <a:pt x="2961" y="2067"/>
                  </a:lnTo>
                  <a:lnTo>
                    <a:pt x="2955" y="2081"/>
                  </a:lnTo>
                  <a:lnTo>
                    <a:pt x="2949" y="2095"/>
                  </a:lnTo>
                  <a:lnTo>
                    <a:pt x="2941" y="2107"/>
                  </a:lnTo>
                  <a:lnTo>
                    <a:pt x="2931" y="2117"/>
                  </a:lnTo>
                  <a:lnTo>
                    <a:pt x="2916" y="2122"/>
                  </a:lnTo>
                  <a:lnTo>
                    <a:pt x="2898" y="2123"/>
                  </a:lnTo>
                  <a:lnTo>
                    <a:pt x="2865" y="2132"/>
                  </a:lnTo>
                  <a:lnTo>
                    <a:pt x="2833" y="2141"/>
                  </a:lnTo>
                  <a:lnTo>
                    <a:pt x="2801" y="2152"/>
                  </a:lnTo>
                  <a:lnTo>
                    <a:pt x="2769" y="2163"/>
                  </a:lnTo>
                  <a:lnTo>
                    <a:pt x="2736" y="2172"/>
                  </a:lnTo>
                  <a:lnTo>
                    <a:pt x="2704" y="2182"/>
                  </a:lnTo>
                  <a:lnTo>
                    <a:pt x="2671" y="2191"/>
                  </a:lnTo>
                  <a:lnTo>
                    <a:pt x="2639" y="2201"/>
                  </a:lnTo>
                  <a:lnTo>
                    <a:pt x="2632" y="2195"/>
                  </a:lnTo>
                  <a:lnTo>
                    <a:pt x="2624" y="2188"/>
                  </a:lnTo>
                  <a:lnTo>
                    <a:pt x="2602" y="2191"/>
                  </a:lnTo>
                  <a:lnTo>
                    <a:pt x="2581" y="2195"/>
                  </a:lnTo>
                  <a:lnTo>
                    <a:pt x="2557" y="2197"/>
                  </a:lnTo>
                  <a:lnTo>
                    <a:pt x="2534" y="2198"/>
                  </a:lnTo>
                  <a:lnTo>
                    <a:pt x="2510" y="2197"/>
                  </a:lnTo>
                  <a:lnTo>
                    <a:pt x="2487" y="2195"/>
                  </a:lnTo>
                  <a:lnTo>
                    <a:pt x="2464" y="2191"/>
                  </a:lnTo>
                  <a:lnTo>
                    <a:pt x="2444" y="2188"/>
                  </a:lnTo>
                  <a:lnTo>
                    <a:pt x="2437" y="2191"/>
                  </a:lnTo>
                  <a:lnTo>
                    <a:pt x="2429" y="2195"/>
                  </a:lnTo>
                  <a:lnTo>
                    <a:pt x="2421" y="2196"/>
                  </a:lnTo>
                  <a:lnTo>
                    <a:pt x="2412" y="2197"/>
                  </a:lnTo>
                  <a:lnTo>
                    <a:pt x="2403" y="2196"/>
                  </a:lnTo>
                  <a:lnTo>
                    <a:pt x="2394" y="2197"/>
                  </a:lnTo>
                  <a:lnTo>
                    <a:pt x="2386" y="2197"/>
                  </a:lnTo>
                  <a:lnTo>
                    <a:pt x="2379" y="2201"/>
                  </a:lnTo>
                  <a:lnTo>
                    <a:pt x="2311" y="2204"/>
                  </a:lnTo>
                  <a:lnTo>
                    <a:pt x="2312" y="2196"/>
                  </a:lnTo>
                  <a:lnTo>
                    <a:pt x="2315" y="2189"/>
                  </a:lnTo>
                  <a:lnTo>
                    <a:pt x="2318" y="2182"/>
                  </a:lnTo>
                  <a:lnTo>
                    <a:pt x="2324" y="2175"/>
                  </a:lnTo>
                  <a:lnTo>
                    <a:pt x="2327" y="2169"/>
                  </a:lnTo>
                  <a:lnTo>
                    <a:pt x="2330" y="2163"/>
                  </a:lnTo>
                  <a:lnTo>
                    <a:pt x="2332" y="2156"/>
                  </a:lnTo>
                  <a:lnTo>
                    <a:pt x="2333" y="2151"/>
                  </a:lnTo>
                  <a:lnTo>
                    <a:pt x="2325" y="2149"/>
                  </a:lnTo>
                  <a:lnTo>
                    <a:pt x="2321" y="2150"/>
                  </a:lnTo>
                  <a:lnTo>
                    <a:pt x="2317" y="2152"/>
                  </a:lnTo>
                  <a:lnTo>
                    <a:pt x="2315" y="2157"/>
                  </a:lnTo>
                  <a:lnTo>
                    <a:pt x="2312" y="2167"/>
                  </a:lnTo>
                  <a:lnTo>
                    <a:pt x="2306" y="2175"/>
                  </a:lnTo>
                  <a:lnTo>
                    <a:pt x="2274" y="2192"/>
                  </a:lnTo>
                  <a:lnTo>
                    <a:pt x="2243" y="2201"/>
                  </a:lnTo>
                  <a:lnTo>
                    <a:pt x="2210" y="2201"/>
                  </a:lnTo>
                  <a:lnTo>
                    <a:pt x="2178" y="2198"/>
                  </a:lnTo>
                  <a:lnTo>
                    <a:pt x="2145" y="2191"/>
                  </a:lnTo>
                  <a:lnTo>
                    <a:pt x="2112" y="2186"/>
                  </a:lnTo>
                  <a:lnTo>
                    <a:pt x="2080" y="2185"/>
                  </a:lnTo>
                  <a:lnTo>
                    <a:pt x="2048" y="2191"/>
                  </a:lnTo>
                  <a:lnTo>
                    <a:pt x="2028" y="2193"/>
                  </a:lnTo>
                  <a:lnTo>
                    <a:pt x="2008" y="2197"/>
                  </a:lnTo>
                  <a:lnTo>
                    <a:pt x="1989" y="2199"/>
                  </a:lnTo>
                  <a:lnTo>
                    <a:pt x="1971" y="2202"/>
                  </a:lnTo>
                  <a:lnTo>
                    <a:pt x="1952" y="2203"/>
                  </a:lnTo>
                  <a:lnTo>
                    <a:pt x="1934" y="2204"/>
                  </a:lnTo>
                  <a:lnTo>
                    <a:pt x="1915" y="2205"/>
                  </a:lnTo>
                  <a:lnTo>
                    <a:pt x="1895" y="2206"/>
                  </a:lnTo>
                  <a:lnTo>
                    <a:pt x="1883" y="2199"/>
                  </a:lnTo>
                  <a:lnTo>
                    <a:pt x="1870" y="2193"/>
                  </a:lnTo>
                  <a:lnTo>
                    <a:pt x="1856" y="2189"/>
                  </a:lnTo>
                  <a:lnTo>
                    <a:pt x="1842" y="2187"/>
                  </a:lnTo>
                  <a:lnTo>
                    <a:pt x="1826" y="2184"/>
                  </a:lnTo>
                  <a:lnTo>
                    <a:pt x="1811" y="2183"/>
                  </a:lnTo>
                  <a:lnTo>
                    <a:pt x="1796" y="2182"/>
                  </a:lnTo>
                  <a:lnTo>
                    <a:pt x="1781" y="2181"/>
                  </a:lnTo>
                  <a:lnTo>
                    <a:pt x="1774" y="2174"/>
                  </a:lnTo>
                  <a:lnTo>
                    <a:pt x="1768" y="2169"/>
                  </a:lnTo>
                  <a:lnTo>
                    <a:pt x="1761" y="2163"/>
                  </a:lnTo>
                  <a:lnTo>
                    <a:pt x="1757" y="2156"/>
                  </a:lnTo>
                  <a:lnTo>
                    <a:pt x="1751" y="2148"/>
                  </a:lnTo>
                  <a:lnTo>
                    <a:pt x="1747" y="2140"/>
                  </a:lnTo>
                  <a:lnTo>
                    <a:pt x="1744" y="2132"/>
                  </a:lnTo>
                  <a:lnTo>
                    <a:pt x="1744" y="2123"/>
                  </a:lnTo>
                  <a:lnTo>
                    <a:pt x="1753" y="2100"/>
                  </a:lnTo>
                  <a:lnTo>
                    <a:pt x="1769" y="2084"/>
                  </a:lnTo>
                  <a:lnTo>
                    <a:pt x="1787" y="2073"/>
                  </a:lnTo>
                  <a:lnTo>
                    <a:pt x="1809" y="2067"/>
                  </a:lnTo>
                  <a:lnTo>
                    <a:pt x="1831" y="2062"/>
                  </a:lnTo>
                  <a:lnTo>
                    <a:pt x="1855" y="2058"/>
                  </a:lnTo>
                  <a:lnTo>
                    <a:pt x="1876" y="2054"/>
                  </a:lnTo>
                  <a:lnTo>
                    <a:pt x="1898" y="2046"/>
                  </a:lnTo>
                  <a:lnTo>
                    <a:pt x="1916" y="2038"/>
                  </a:lnTo>
                  <a:lnTo>
                    <a:pt x="1932" y="2027"/>
                  </a:lnTo>
                  <a:lnTo>
                    <a:pt x="1947" y="2015"/>
                  </a:lnTo>
                  <a:lnTo>
                    <a:pt x="1960" y="2001"/>
                  </a:lnTo>
                  <a:lnTo>
                    <a:pt x="1970" y="1984"/>
                  </a:lnTo>
                  <a:lnTo>
                    <a:pt x="1980" y="1968"/>
                  </a:lnTo>
                  <a:lnTo>
                    <a:pt x="1986" y="1950"/>
                  </a:lnTo>
                  <a:lnTo>
                    <a:pt x="1991" y="1933"/>
                  </a:lnTo>
                  <a:lnTo>
                    <a:pt x="1989" y="1905"/>
                  </a:lnTo>
                  <a:lnTo>
                    <a:pt x="1988" y="1878"/>
                  </a:lnTo>
                  <a:lnTo>
                    <a:pt x="1985" y="1850"/>
                  </a:lnTo>
                  <a:lnTo>
                    <a:pt x="1984" y="1824"/>
                  </a:lnTo>
                  <a:lnTo>
                    <a:pt x="1983" y="1797"/>
                  </a:lnTo>
                  <a:lnTo>
                    <a:pt x="1984" y="1771"/>
                  </a:lnTo>
                  <a:lnTo>
                    <a:pt x="1988" y="1744"/>
                  </a:lnTo>
                  <a:lnTo>
                    <a:pt x="1997" y="1718"/>
                  </a:lnTo>
                  <a:lnTo>
                    <a:pt x="1997" y="1701"/>
                  </a:lnTo>
                  <a:lnTo>
                    <a:pt x="1993" y="1688"/>
                  </a:lnTo>
                  <a:lnTo>
                    <a:pt x="1989" y="1674"/>
                  </a:lnTo>
                  <a:lnTo>
                    <a:pt x="1985" y="1661"/>
                  </a:lnTo>
                  <a:lnTo>
                    <a:pt x="1980" y="1647"/>
                  </a:lnTo>
                  <a:lnTo>
                    <a:pt x="1975" y="1634"/>
                  </a:lnTo>
                  <a:lnTo>
                    <a:pt x="1971" y="1620"/>
                  </a:lnTo>
                  <a:lnTo>
                    <a:pt x="1971" y="1607"/>
                  </a:lnTo>
                  <a:lnTo>
                    <a:pt x="1965" y="1600"/>
                  </a:lnTo>
                  <a:lnTo>
                    <a:pt x="1959" y="1597"/>
                  </a:lnTo>
                  <a:lnTo>
                    <a:pt x="1953" y="1593"/>
                  </a:lnTo>
                  <a:lnTo>
                    <a:pt x="1948" y="1592"/>
                  </a:lnTo>
                  <a:lnTo>
                    <a:pt x="1940" y="1590"/>
                  </a:lnTo>
                  <a:lnTo>
                    <a:pt x="1934" y="1590"/>
                  </a:lnTo>
                  <a:lnTo>
                    <a:pt x="1927" y="1591"/>
                  </a:lnTo>
                  <a:lnTo>
                    <a:pt x="1921" y="1594"/>
                  </a:lnTo>
                  <a:lnTo>
                    <a:pt x="1895" y="1597"/>
                  </a:lnTo>
                  <a:lnTo>
                    <a:pt x="1870" y="1602"/>
                  </a:lnTo>
                  <a:lnTo>
                    <a:pt x="1844" y="1607"/>
                  </a:lnTo>
                  <a:lnTo>
                    <a:pt x="1820" y="1613"/>
                  </a:lnTo>
                  <a:lnTo>
                    <a:pt x="1794" y="1618"/>
                  </a:lnTo>
                  <a:lnTo>
                    <a:pt x="1769" y="1625"/>
                  </a:lnTo>
                  <a:lnTo>
                    <a:pt x="1743" y="1631"/>
                  </a:lnTo>
                  <a:lnTo>
                    <a:pt x="1719" y="1637"/>
                  </a:lnTo>
                  <a:lnTo>
                    <a:pt x="1707" y="1650"/>
                  </a:lnTo>
                  <a:lnTo>
                    <a:pt x="1698" y="1665"/>
                  </a:lnTo>
                  <a:lnTo>
                    <a:pt x="1691" y="1681"/>
                  </a:lnTo>
                  <a:lnTo>
                    <a:pt x="1686" y="1698"/>
                  </a:lnTo>
                  <a:lnTo>
                    <a:pt x="1680" y="1714"/>
                  </a:lnTo>
                  <a:lnTo>
                    <a:pt x="1676" y="1732"/>
                  </a:lnTo>
                  <a:lnTo>
                    <a:pt x="1671" y="1748"/>
                  </a:lnTo>
                  <a:lnTo>
                    <a:pt x="1665" y="1766"/>
                  </a:lnTo>
                  <a:lnTo>
                    <a:pt x="1658" y="1782"/>
                  </a:lnTo>
                  <a:lnTo>
                    <a:pt x="1649" y="1798"/>
                  </a:lnTo>
                  <a:lnTo>
                    <a:pt x="1638" y="1813"/>
                  </a:lnTo>
                  <a:lnTo>
                    <a:pt x="1627" y="1828"/>
                  </a:lnTo>
                  <a:lnTo>
                    <a:pt x="1613" y="1841"/>
                  </a:lnTo>
                  <a:lnTo>
                    <a:pt x="1601" y="1855"/>
                  </a:lnTo>
                  <a:lnTo>
                    <a:pt x="1589" y="1869"/>
                  </a:lnTo>
                  <a:lnTo>
                    <a:pt x="1579" y="1885"/>
                  </a:lnTo>
                  <a:lnTo>
                    <a:pt x="1557" y="1933"/>
                  </a:lnTo>
                  <a:lnTo>
                    <a:pt x="1530" y="1979"/>
                  </a:lnTo>
                  <a:lnTo>
                    <a:pt x="1498" y="2023"/>
                  </a:lnTo>
                  <a:lnTo>
                    <a:pt x="1463" y="2067"/>
                  </a:lnTo>
                  <a:lnTo>
                    <a:pt x="1424" y="2108"/>
                  </a:lnTo>
                  <a:lnTo>
                    <a:pt x="1387" y="2150"/>
                  </a:lnTo>
                  <a:lnTo>
                    <a:pt x="1349" y="2191"/>
                  </a:lnTo>
                  <a:lnTo>
                    <a:pt x="1314" y="2234"/>
                  </a:lnTo>
                  <a:lnTo>
                    <a:pt x="1304" y="2239"/>
                  </a:lnTo>
                  <a:lnTo>
                    <a:pt x="1296" y="2244"/>
                  </a:lnTo>
                  <a:lnTo>
                    <a:pt x="1286" y="2246"/>
                  </a:lnTo>
                  <a:lnTo>
                    <a:pt x="1277" y="2248"/>
                  </a:lnTo>
                  <a:lnTo>
                    <a:pt x="1268" y="2248"/>
                  </a:lnTo>
                  <a:lnTo>
                    <a:pt x="1258" y="2251"/>
                  </a:lnTo>
                  <a:lnTo>
                    <a:pt x="1249" y="2254"/>
                  </a:lnTo>
                  <a:lnTo>
                    <a:pt x="1242" y="2262"/>
                  </a:lnTo>
                  <a:lnTo>
                    <a:pt x="1236" y="2261"/>
                  </a:lnTo>
                  <a:lnTo>
                    <a:pt x="1229" y="2261"/>
                  </a:lnTo>
                  <a:lnTo>
                    <a:pt x="1223" y="2260"/>
                  </a:lnTo>
                  <a:lnTo>
                    <a:pt x="1218" y="2258"/>
                  </a:lnTo>
                  <a:lnTo>
                    <a:pt x="1206" y="2255"/>
                  </a:lnTo>
                  <a:lnTo>
                    <a:pt x="1197" y="2249"/>
                  </a:lnTo>
                  <a:lnTo>
                    <a:pt x="1141" y="2272"/>
                  </a:lnTo>
                  <a:lnTo>
                    <a:pt x="1123" y="2266"/>
                  </a:lnTo>
                  <a:lnTo>
                    <a:pt x="1105" y="2261"/>
                  </a:lnTo>
                  <a:lnTo>
                    <a:pt x="1086" y="2253"/>
                  </a:lnTo>
                  <a:lnTo>
                    <a:pt x="1069" y="2246"/>
                  </a:lnTo>
                  <a:lnTo>
                    <a:pt x="1052" y="2234"/>
                  </a:lnTo>
                  <a:lnTo>
                    <a:pt x="1039" y="2221"/>
                  </a:lnTo>
                  <a:lnTo>
                    <a:pt x="1029" y="2205"/>
                  </a:lnTo>
                  <a:lnTo>
                    <a:pt x="1025" y="2186"/>
                  </a:lnTo>
                  <a:lnTo>
                    <a:pt x="1029" y="2176"/>
                  </a:lnTo>
                  <a:lnTo>
                    <a:pt x="1030" y="2168"/>
                  </a:lnTo>
                  <a:lnTo>
                    <a:pt x="1028" y="2159"/>
                  </a:lnTo>
                  <a:lnTo>
                    <a:pt x="1026" y="2153"/>
                  </a:lnTo>
                  <a:lnTo>
                    <a:pt x="1021" y="2147"/>
                  </a:lnTo>
                  <a:lnTo>
                    <a:pt x="1016" y="2140"/>
                  </a:lnTo>
                  <a:lnTo>
                    <a:pt x="1012" y="2134"/>
                  </a:lnTo>
                  <a:lnTo>
                    <a:pt x="1010" y="2127"/>
                  </a:lnTo>
                  <a:lnTo>
                    <a:pt x="998" y="2125"/>
                  </a:lnTo>
                  <a:lnTo>
                    <a:pt x="990" y="2121"/>
                  </a:lnTo>
                  <a:lnTo>
                    <a:pt x="981" y="2114"/>
                  </a:lnTo>
                  <a:lnTo>
                    <a:pt x="977" y="2105"/>
                  </a:lnTo>
                  <a:lnTo>
                    <a:pt x="972" y="2086"/>
                  </a:lnTo>
                  <a:lnTo>
                    <a:pt x="973" y="2070"/>
                  </a:lnTo>
                  <a:lnTo>
                    <a:pt x="979" y="2055"/>
                  </a:lnTo>
                  <a:lnTo>
                    <a:pt x="990" y="2042"/>
                  </a:lnTo>
                  <a:lnTo>
                    <a:pt x="1001" y="2028"/>
                  </a:lnTo>
                  <a:lnTo>
                    <a:pt x="1015" y="2017"/>
                  </a:lnTo>
                  <a:lnTo>
                    <a:pt x="1027" y="2004"/>
                  </a:lnTo>
                  <a:lnTo>
                    <a:pt x="1038" y="1993"/>
                  </a:lnTo>
                  <a:lnTo>
                    <a:pt x="1044" y="1979"/>
                  </a:lnTo>
                  <a:lnTo>
                    <a:pt x="1050" y="1967"/>
                  </a:lnTo>
                  <a:lnTo>
                    <a:pt x="1057" y="1953"/>
                  </a:lnTo>
                  <a:lnTo>
                    <a:pt x="1063" y="1940"/>
                  </a:lnTo>
                  <a:lnTo>
                    <a:pt x="1070" y="1927"/>
                  </a:lnTo>
                  <a:lnTo>
                    <a:pt x="1076" y="1914"/>
                  </a:lnTo>
                  <a:lnTo>
                    <a:pt x="1083" y="1902"/>
                  </a:lnTo>
                  <a:lnTo>
                    <a:pt x="1093" y="1890"/>
                  </a:lnTo>
                  <a:lnTo>
                    <a:pt x="1104" y="1836"/>
                  </a:lnTo>
                  <a:lnTo>
                    <a:pt x="1112" y="1780"/>
                  </a:lnTo>
                  <a:lnTo>
                    <a:pt x="1119" y="1724"/>
                  </a:lnTo>
                  <a:lnTo>
                    <a:pt x="1123" y="1668"/>
                  </a:lnTo>
                  <a:lnTo>
                    <a:pt x="1123" y="1611"/>
                  </a:lnTo>
                  <a:lnTo>
                    <a:pt x="1123" y="1555"/>
                  </a:lnTo>
                  <a:lnTo>
                    <a:pt x="1120" y="1501"/>
                  </a:lnTo>
                  <a:lnTo>
                    <a:pt x="1117" y="1450"/>
                  </a:lnTo>
                  <a:lnTo>
                    <a:pt x="1106" y="1444"/>
                  </a:lnTo>
                  <a:lnTo>
                    <a:pt x="1098" y="1437"/>
                  </a:lnTo>
                  <a:lnTo>
                    <a:pt x="1093" y="1429"/>
                  </a:lnTo>
                  <a:lnTo>
                    <a:pt x="1089" y="1420"/>
                  </a:lnTo>
                  <a:lnTo>
                    <a:pt x="1083" y="1411"/>
                  </a:lnTo>
                  <a:lnTo>
                    <a:pt x="1077" y="1404"/>
                  </a:lnTo>
                  <a:lnTo>
                    <a:pt x="1070" y="1400"/>
                  </a:lnTo>
                  <a:lnTo>
                    <a:pt x="1060" y="1399"/>
                  </a:lnTo>
                  <a:lnTo>
                    <a:pt x="1052" y="1407"/>
                  </a:lnTo>
                  <a:lnTo>
                    <a:pt x="1043" y="1414"/>
                  </a:lnTo>
                  <a:lnTo>
                    <a:pt x="1032" y="1417"/>
                  </a:lnTo>
                  <a:lnTo>
                    <a:pt x="1023" y="1420"/>
                  </a:lnTo>
                  <a:lnTo>
                    <a:pt x="1011" y="1421"/>
                  </a:lnTo>
                  <a:lnTo>
                    <a:pt x="1000" y="1424"/>
                  </a:lnTo>
                  <a:lnTo>
                    <a:pt x="991" y="1428"/>
                  </a:lnTo>
                  <a:lnTo>
                    <a:pt x="982" y="1435"/>
                  </a:lnTo>
                  <a:lnTo>
                    <a:pt x="985" y="1438"/>
                  </a:lnTo>
                  <a:lnTo>
                    <a:pt x="988" y="1444"/>
                  </a:lnTo>
                  <a:lnTo>
                    <a:pt x="989" y="1450"/>
                  </a:lnTo>
                  <a:lnTo>
                    <a:pt x="990" y="1457"/>
                  </a:lnTo>
                  <a:lnTo>
                    <a:pt x="988" y="1464"/>
                  </a:lnTo>
                  <a:lnTo>
                    <a:pt x="987" y="1471"/>
                  </a:lnTo>
                  <a:lnTo>
                    <a:pt x="984" y="1477"/>
                  </a:lnTo>
                  <a:lnTo>
                    <a:pt x="982" y="1483"/>
                  </a:lnTo>
                  <a:lnTo>
                    <a:pt x="969" y="1492"/>
                  </a:lnTo>
                  <a:lnTo>
                    <a:pt x="957" y="1499"/>
                  </a:lnTo>
                  <a:lnTo>
                    <a:pt x="944" y="1505"/>
                  </a:lnTo>
                  <a:lnTo>
                    <a:pt x="931" y="1512"/>
                  </a:lnTo>
                  <a:lnTo>
                    <a:pt x="918" y="1518"/>
                  </a:lnTo>
                  <a:lnTo>
                    <a:pt x="907" y="1526"/>
                  </a:lnTo>
                  <a:lnTo>
                    <a:pt x="895" y="1535"/>
                  </a:lnTo>
                  <a:lnTo>
                    <a:pt x="885" y="1548"/>
                  </a:lnTo>
                  <a:lnTo>
                    <a:pt x="867" y="1583"/>
                  </a:lnTo>
                  <a:lnTo>
                    <a:pt x="854" y="1621"/>
                  </a:lnTo>
                  <a:lnTo>
                    <a:pt x="846" y="1660"/>
                  </a:lnTo>
                  <a:lnTo>
                    <a:pt x="841" y="1701"/>
                  </a:lnTo>
                  <a:lnTo>
                    <a:pt x="835" y="1742"/>
                  </a:lnTo>
                  <a:lnTo>
                    <a:pt x="830" y="1782"/>
                  </a:lnTo>
                  <a:lnTo>
                    <a:pt x="823" y="1823"/>
                  </a:lnTo>
                  <a:lnTo>
                    <a:pt x="815" y="1862"/>
                  </a:lnTo>
                  <a:lnTo>
                    <a:pt x="811" y="1871"/>
                  </a:lnTo>
                  <a:lnTo>
                    <a:pt x="807" y="1880"/>
                  </a:lnTo>
                  <a:lnTo>
                    <a:pt x="804" y="1890"/>
                  </a:lnTo>
                  <a:lnTo>
                    <a:pt x="801" y="1899"/>
                  </a:lnTo>
                  <a:lnTo>
                    <a:pt x="797" y="1908"/>
                  </a:lnTo>
                  <a:lnTo>
                    <a:pt x="794" y="1918"/>
                  </a:lnTo>
                  <a:lnTo>
                    <a:pt x="790" y="1926"/>
                  </a:lnTo>
                  <a:lnTo>
                    <a:pt x="787" y="1936"/>
                  </a:lnTo>
                  <a:lnTo>
                    <a:pt x="792" y="1947"/>
                  </a:lnTo>
                  <a:lnTo>
                    <a:pt x="795" y="1960"/>
                  </a:lnTo>
                  <a:lnTo>
                    <a:pt x="797" y="1974"/>
                  </a:lnTo>
                  <a:lnTo>
                    <a:pt x="798" y="1988"/>
                  </a:lnTo>
                  <a:lnTo>
                    <a:pt x="798" y="2001"/>
                  </a:lnTo>
                  <a:lnTo>
                    <a:pt x="798" y="2016"/>
                  </a:lnTo>
                  <a:lnTo>
                    <a:pt x="797" y="2031"/>
                  </a:lnTo>
                  <a:lnTo>
                    <a:pt x="797" y="2046"/>
                  </a:lnTo>
                  <a:lnTo>
                    <a:pt x="800" y="2055"/>
                  </a:lnTo>
                  <a:lnTo>
                    <a:pt x="804" y="2065"/>
                  </a:lnTo>
                  <a:lnTo>
                    <a:pt x="806" y="2074"/>
                  </a:lnTo>
                  <a:lnTo>
                    <a:pt x="810" y="2084"/>
                  </a:lnTo>
                  <a:lnTo>
                    <a:pt x="810" y="2093"/>
                  </a:lnTo>
                  <a:lnTo>
                    <a:pt x="811" y="2105"/>
                  </a:lnTo>
                  <a:lnTo>
                    <a:pt x="810" y="2116"/>
                  </a:lnTo>
                  <a:lnTo>
                    <a:pt x="810" y="2127"/>
                  </a:lnTo>
                  <a:lnTo>
                    <a:pt x="810" y="2135"/>
                  </a:lnTo>
                  <a:lnTo>
                    <a:pt x="807" y="2141"/>
                  </a:lnTo>
                  <a:lnTo>
                    <a:pt x="803" y="2144"/>
                  </a:lnTo>
                  <a:lnTo>
                    <a:pt x="799" y="2149"/>
                  </a:lnTo>
                  <a:lnTo>
                    <a:pt x="793" y="2152"/>
                  </a:lnTo>
                  <a:lnTo>
                    <a:pt x="786" y="2156"/>
                  </a:lnTo>
                  <a:lnTo>
                    <a:pt x="782" y="2160"/>
                  </a:lnTo>
                  <a:lnTo>
                    <a:pt x="780" y="2168"/>
                  </a:lnTo>
                  <a:lnTo>
                    <a:pt x="770" y="2178"/>
                  </a:lnTo>
                  <a:lnTo>
                    <a:pt x="762" y="2184"/>
                  </a:lnTo>
                  <a:lnTo>
                    <a:pt x="750" y="2187"/>
                  </a:lnTo>
                  <a:lnTo>
                    <a:pt x="739" y="2191"/>
                  </a:lnTo>
                  <a:lnTo>
                    <a:pt x="727" y="2192"/>
                  </a:lnTo>
                  <a:lnTo>
                    <a:pt x="715" y="2195"/>
                  </a:lnTo>
                  <a:lnTo>
                    <a:pt x="703" y="2198"/>
                  </a:lnTo>
                  <a:lnTo>
                    <a:pt x="693" y="2204"/>
                  </a:lnTo>
                  <a:lnTo>
                    <a:pt x="672" y="2208"/>
                  </a:lnTo>
                  <a:lnTo>
                    <a:pt x="655" y="2207"/>
                  </a:lnTo>
                  <a:lnTo>
                    <a:pt x="639" y="2200"/>
                  </a:lnTo>
                  <a:lnTo>
                    <a:pt x="625" y="2191"/>
                  </a:lnTo>
                  <a:lnTo>
                    <a:pt x="610" y="2183"/>
                  </a:lnTo>
                  <a:lnTo>
                    <a:pt x="594" y="2178"/>
                  </a:lnTo>
                  <a:lnTo>
                    <a:pt x="577" y="2176"/>
                  </a:lnTo>
                  <a:lnTo>
                    <a:pt x="557" y="2186"/>
                  </a:lnTo>
                  <a:lnTo>
                    <a:pt x="534" y="2175"/>
                  </a:lnTo>
                  <a:lnTo>
                    <a:pt x="517" y="2163"/>
                  </a:lnTo>
                  <a:lnTo>
                    <a:pt x="503" y="2147"/>
                  </a:lnTo>
                  <a:lnTo>
                    <a:pt x="492" y="2129"/>
                  </a:lnTo>
                  <a:lnTo>
                    <a:pt x="484" y="2107"/>
                  </a:lnTo>
                  <a:lnTo>
                    <a:pt x="476" y="2087"/>
                  </a:lnTo>
                  <a:lnTo>
                    <a:pt x="470" y="2066"/>
                  </a:lnTo>
                  <a:lnTo>
                    <a:pt x="463" y="2046"/>
                  </a:lnTo>
                  <a:lnTo>
                    <a:pt x="458" y="2031"/>
                  </a:lnTo>
                  <a:lnTo>
                    <a:pt x="453" y="2016"/>
                  </a:lnTo>
                  <a:lnTo>
                    <a:pt x="445" y="2001"/>
                  </a:lnTo>
                  <a:lnTo>
                    <a:pt x="439" y="1988"/>
                  </a:lnTo>
                  <a:lnTo>
                    <a:pt x="430" y="1974"/>
                  </a:lnTo>
                  <a:lnTo>
                    <a:pt x="424" y="1960"/>
                  </a:lnTo>
                  <a:lnTo>
                    <a:pt x="417" y="1946"/>
                  </a:lnTo>
                  <a:lnTo>
                    <a:pt x="415" y="1933"/>
                  </a:lnTo>
                  <a:lnTo>
                    <a:pt x="415" y="1919"/>
                  </a:lnTo>
                  <a:lnTo>
                    <a:pt x="413" y="1907"/>
                  </a:lnTo>
                  <a:lnTo>
                    <a:pt x="408" y="1895"/>
                  </a:lnTo>
                  <a:lnTo>
                    <a:pt x="404" y="1886"/>
                  </a:lnTo>
                  <a:lnTo>
                    <a:pt x="397" y="1875"/>
                  </a:lnTo>
                  <a:lnTo>
                    <a:pt x="394" y="1864"/>
                  </a:lnTo>
                  <a:lnTo>
                    <a:pt x="392" y="1852"/>
                  </a:lnTo>
                  <a:lnTo>
                    <a:pt x="395" y="1840"/>
                  </a:lnTo>
                  <a:lnTo>
                    <a:pt x="382" y="1800"/>
                  </a:lnTo>
                  <a:lnTo>
                    <a:pt x="371" y="1762"/>
                  </a:lnTo>
                  <a:lnTo>
                    <a:pt x="357" y="1725"/>
                  </a:lnTo>
                  <a:lnTo>
                    <a:pt x="344" y="1688"/>
                  </a:lnTo>
                  <a:lnTo>
                    <a:pt x="331" y="1649"/>
                  </a:lnTo>
                  <a:lnTo>
                    <a:pt x="319" y="1612"/>
                  </a:lnTo>
                  <a:lnTo>
                    <a:pt x="310" y="1572"/>
                  </a:lnTo>
                  <a:lnTo>
                    <a:pt x="303" y="1533"/>
                  </a:lnTo>
                  <a:lnTo>
                    <a:pt x="303" y="1520"/>
                  </a:lnTo>
                  <a:lnTo>
                    <a:pt x="306" y="1510"/>
                  </a:lnTo>
                  <a:lnTo>
                    <a:pt x="306" y="1500"/>
                  </a:lnTo>
                  <a:lnTo>
                    <a:pt x="308" y="1492"/>
                  </a:lnTo>
                  <a:lnTo>
                    <a:pt x="308" y="1482"/>
                  </a:lnTo>
                  <a:lnTo>
                    <a:pt x="308" y="1472"/>
                  </a:lnTo>
                  <a:lnTo>
                    <a:pt x="307" y="1462"/>
                  </a:lnTo>
                  <a:lnTo>
                    <a:pt x="307" y="1452"/>
                  </a:lnTo>
                  <a:lnTo>
                    <a:pt x="309" y="1413"/>
                  </a:lnTo>
                  <a:lnTo>
                    <a:pt x="313" y="1373"/>
                  </a:lnTo>
                  <a:lnTo>
                    <a:pt x="316" y="1335"/>
                  </a:lnTo>
                  <a:lnTo>
                    <a:pt x="323" y="1297"/>
                  </a:lnTo>
                  <a:lnTo>
                    <a:pt x="328" y="1258"/>
                  </a:lnTo>
                  <a:lnTo>
                    <a:pt x="334" y="1220"/>
                  </a:lnTo>
                  <a:lnTo>
                    <a:pt x="341" y="1183"/>
                  </a:lnTo>
                  <a:lnTo>
                    <a:pt x="349" y="1146"/>
                  </a:lnTo>
                  <a:lnTo>
                    <a:pt x="347" y="1126"/>
                  </a:lnTo>
                  <a:lnTo>
                    <a:pt x="283" y="1058"/>
                  </a:lnTo>
                  <a:lnTo>
                    <a:pt x="289" y="1059"/>
                  </a:lnTo>
                  <a:lnTo>
                    <a:pt x="295" y="1061"/>
                  </a:lnTo>
                  <a:lnTo>
                    <a:pt x="302" y="1062"/>
                  </a:lnTo>
                  <a:lnTo>
                    <a:pt x="311" y="1063"/>
                  </a:lnTo>
                  <a:lnTo>
                    <a:pt x="317" y="1062"/>
                  </a:lnTo>
                  <a:lnTo>
                    <a:pt x="325" y="1061"/>
                  </a:lnTo>
                  <a:lnTo>
                    <a:pt x="331" y="1059"/>
                  </a:lnTo>
                  <a:lnTo>
                    <a:pt x="339" y="1058"/>
                  </a:lnTo>
                  <a:lnTo>
                    <a:pt x="345" y="1054"/>
                  </a:lnTo>
                  <a:lnTo>
                    <a:pt x="351" y="1048"/>
                  </a:lnTo>
                  <a:lnTo>
                    <a:pt x="357" y="1042"/>
                  </a:lnTo>
                  <a:lnTo>
                    <a:pt x="361" y="1037"/>
                  </a:lnTo>
                  <a:lnTo>
                    <a:pt x="363" y="1029"/>
                  </a:lnTo>
                  <a:lnTo>
                    <a:pt x="364" y="1023"/>
                  </a:lnTo>
                  <a:lnTo>
                    <a:pt x="363" y="1016"/>
                  </a:lnTo>
                  <a:lnTo>
                    <a:pt x="362" y="1010"/>
                  </a:lnTo>
                  <a:lnTo>
                    <a:pt x="344" y="989"/>
                  </a:lnTo>
                  <a:lnTo>
                    <a:pt x="324" y="976"/>
                  </a:lnTo>
                  <a:lnTo>
                    <a:pt x="300" y="967"/>
                  </a:lnTo>
                  <a:lnTo>
                    <a:pt x="276" y="963"/>
                  </a:lnTo>
                  <a:lnTo>
                    <a:pt x="250" y="958"/>
                  </a:lnTo>
                  <a:lnTo>
                    <a:pt x="227" y="950"/>
                  </a:lnTo>
                  <a:lnTo>
                    <a:pt x="205" y="939"/>
                  </a:lnTo>
                  <a:lnTo>
                    <a:pt x="187" y="921"/>
                  </a:lnTo>
                  <a:lnTo>
                    <a:pt x="167" y="907"/>
                  </a:lnTo>
                  <a:lnTo>
                    <a:pt x="147" y="894"/>
                  </a:lnTo>
                  <a:lnTo>
                    <a:pt x="126" y="882"/>
                  </a:lnTo>
                  <a:lnTo>
                    <a:pt x="105" y="872"/>
                  </a:lnTo>
                  <a:lnTo>
                    <a:pt x="84" y="859"/>
                  </a:lnTo>
                  <a:lnTo>
                    <a:pt x="63" y="847"/>
                  </a:lnTo>
                  <a:lnTo>
                    <a:pt x="42" y="834"/>
                  </a:lnTo>
                  <a:lnTo>
                    <a:pt x="23" y="823"/>
                  </a:lnTo>
                  <a:lnTo>
                    <a:pt x="19" y="808"/>
                  </a:lnTo>
                  <a:lnTo>
                    <a:pt x="15" y="793"/>
                  </a:lnTo>
                  <a:lnTo>
                    <a:pt x="12" y="778"/>
                  </a:lnTo>
                  <a:lnTo>
                    <a:pt x="9" y="763"/>
                  </a:lnTo>
                  <a:lnTo>
                    <a:pt x="7" y="747"/>
                  </a:lnTo>
                  <a:lnTo>
                    <a:pt x="7" y="732"/>
                  </a:lnTo>
                  <a:lnTo>
                    <a:pt x="7" y="717"/>
                  </a:lnTo>
                  <a:lnTo>
                    <a:pt x="10" y="703"/>
                  </a:lnTo>
                  <a:lnTo>
                    <a:pt x="2" y="673"/>
                  </a:lnTo>
                  <a:lnTo>
                    <a:pt x="0" y="645"/>
                  </a:lnTo>
                  <a:lnTo>
                    <a:pt x="1" y="615"/>
                  </a:lnTo>
                  <a:lnTo>
                    <a:pt x="5" y="585"/>
                  </a:lnTo>
                  <a:lnTo>
                    <a:pt x="7" y="554"/>
                  </a:lnTo>
                  <a:lnTo>
                    <a:pt x="10" y="523"/>
                  </a:lnTo>
                  <a:lnTo>
                    <a:pt x="10" y="493"/>
                  </a:lnTo>
                  <a:lnTo>
                    <a:pt x="7" y="466"/>
                  </a:lnTo>
                  <a:lnTo>
                    <a:pt x="7" y="457"/>
                  </a:lnTo>
                  <a:lnTo>
                    <a:pt x="9" y="450"/>
                  </a:lnTo>
                  <a:lnTo>
                    <a:pt x="13" y="443"/>
                  </a:lnTo>
                  <a:lnTo>
                    <a:pt x="18" y="437"/>
                  </a:lnTo>
                  <a:lnTo>
                    <a:pt x="22" y="431"/>
                  </a:lnTo>
                  <a:lnTo>
                    <a:pt x="29" y="425"/>
                  </a:lnTo>
                  <a:lnTo>
                    <a:pt x="34" y="421"/>
                  </a:lnTo>
                  <a:lnTo>
                    <a:pt x="40" y="418"/>
                  </a:lnTo>
                  <a:lnTo>
                    <a:pt x="47" y="417"/>
                  </a:lnTo>
                  <a:lnTo>
                    <a:pt x="53" y="415"/>
                  </a:lnTo>
                  <a:lnTo>
                    <a:pt x="58" y="409"/>
                  </a:lnTo>
                  <a:lnTo>
                    <a:pt x="64" y="405"/>
                  </a:lnTo>
                  <a:lnTo>
                    <a:pt x="68" y="400"/>
                  </a:lnTo>
                  <a:lnTo>
                    <a:pt x="73" y="394"/>
                  </a:lnTo>
                  <a:lnTo>
                    <a:pt x="79" y="389"/>
                  </a:lnTo>
                  <a:lnTo>
                    <a:pt x="86" y="387"/>
                  </a:lnTo>
                  <a:lnTo>
                    <a:pt x="102" y="387"/>
                  </a:lnTo>
                  <a:lnTo>
                    <a:pt x="119" y="387"/>
                  </a:lnTo>
                  <a:lnTo>
                    <a:pt x="136" y="386"/>
                  </a:lnTo>
                  <a:lnTo>
                    <a:pt x="153" y="386"/>
                  </a:lnTo>
                  <a:lnTo>
                    <a:pt x="168" y="382"/>
                  </a:lnTo>
                  <a:lnTo>
                    <a:pt x="183" y="375"/>
                  </a:lnTo>
                  <a:lnTo>
                    <a:pt x="197" y="363"/>
                  </a:lnTo>
                  <a:lnTo>
                    <a:pt x="210" y="350"/>
                  </a:lnTo>
                  <a:lnTo>
                    <a:pt x="237" y="339"/>
                  </a:lnTo>
                  <a:lnTo>
                    <a:pt x="263" y="323"/>
                  </a:lnTo>
                  <a:lnTo>
                    <a:pt x="284" y="303"/>
                  </a:lnTo>
                  <a:lnTo>
                    <a:pt x="303" y="280"/>
                  </a:lnTo>
                  <a:lnTo>
                    <a:pt x="321" y="255"/>
                  </a:lnTo>
                  <a:lnTo>
                    <a:pt x="338" y="229"/>
                  </a:lnTo>
                  <a:lnTo>
                    <a:pt x="354" y="205"/>
                  </a:lnTo>
                  <a:lnTo>
                    <a:pt x="372" y="182"/>
                  </a:lnTo>
                  <a:lnTo>
                    <a:pt x="378" y="183"/>
                  </a:lnTo>
                  <a:lnTo>
                    <a:pt x="386" y="187"/>
                  </a:lnTo>
                  <a:lnTo>
                    <a:pt x="393" y="188"/>
                  </a:lnTo>
                  <a:lnTo>
                    <a:pt x="403" y="184"/>
                  </a:lnTo>
                  <a:lnTo>
                    <a:pt x="402" y="173"/>
                  </a:lnTo>
                  <a:lnTo>
                    <a:pt x="395" y="164"/>
                  </a:lnTo>
                  <a:lnTo>
                    <a:pt x="395" y="151"/>
                  </a:lnTo>
                  <a:lnTo>
                    <a:pt x="396" y="139"/>
                  </a:lnTo>
                  <a:lnTo>
                    <a:pt x="397" y="127"/>
                  </a:lnTo>
                  <a:lnTo>
                    <a:pt x="402" y="115"/>
                  </a:lnTo>
                  <a:lnTo>
                    <a:pt x="405" y="104"/>
                  </a:lnTo>
                  <a:lnTo>
                    <a:pt x="410" y="93"/>
                  </a:lnTo>
                  <a:lnTo>
                    <a:pt x="416" y="83"/>
                  </a:lnTo>
                  <a:lnTo>
                    <a:pt x="425" y="74"/>
                  </a:lnTo>
                  <a:lnTo>
                    <a:pt x="435" y="66"/>
                  </a:lnTo>
                  <a:lnTo>
                    <a:pt x="444" y="59"/>
                  </a:lnTo>
                  <a:lnTo>
                    <a:pt x="455" y="52"/>
                  </a:lnTo>
                  <a:lnTo>
                    <a:pt x="465" y="48"/>
                  </a:lnTo>
                  <a:lnTo>
                    <a:pt x="476" y="44"/>
                  </a:lnTo>
                  <a:lnTo>
                    <a:pt x="488" y="43"/>
                  </a:lnTo>
                  <a:lnTo>
                    <a:pt x="501" y="44"/>
                  </a:lnTo>
                  <a:lnTo>
                    <a:pt x="513" y="48"/>
                  </a:lnTo>
                  <a:lnTo>
                    <a:pt x="530" y="52"/>
                  </a:lnTo>
                  <a:lnTo>
                    <a:pt x="546" y="63"/>
                  </a:lnTo>
                  <a:lnTo>
                    <a:pt x="560" y="78"/>
                  </a:lnTo>
                  <a:lnTo>
                    <a:pt x="574" y="93"/>
                  </a:lnTo>
                  <a:lnTo>
                    <a:pt x="587" y="105"/>
                  </a:lnTo>
                  <a:lnTo>
                    <a:pt x="602" y="111"/>
                  </a:lnTo>
                  <a:lnTo>
                    <a:pt x="619" y="109"/>
                  </a:lnTo>
                  <a:lnTo>
                    <a:pt x="640" y="94"/>
                  </a:lnTo>
                  <a:lnTo>
                    <a:pt x="654" y="94"/>
                  </a:lnTo>
                  <a:lnTo>
                    <a:pt x="669" y="94"/>
                  </a:lnTo>
                  <a:lnTo>
                    <a:pt x="684" y="92"/>
                  </a:lnTo>
                  <a:lnTo>
                    <a:pt x="700" y="91"/>
                  </a:lnTo>
                  <a:lnTo>
                    <a:pt x="715" y="89"/>
                  </a:lnTo>
                  <a:lnTo>
                    <a:pt x="731" y="89"/>
                  </a:lnTo>
                  <a:lnTo>
                    <a:pt x="745" y="91"/>
                  </a:lnTo>
                  <a:lnTo>
                    <a:pt x="760" y="96"/>
                  </a:lnTo>
                  <a:lnTo>
                    <a:pt x="777" y="94"/>
                  </a:lnTo>
                  <a:lnTo>
                    <a:pt x="796" y="95"/>
                  </a:lnTo>
                  <a:lnTo>
                    <a:pt x="815" y="96"/>
                  </a:lnTo>
                  <a:lnTo>
                    <a:pt x="834" y="98"/>
                  </a:lnTo>
                  <a:lnTo>
                    <a:pt x="850" y="96"/>
                  </a:lnTo>
                  <a:lnTo>
                    <a:pt x="867" y="92"/>
                  </a:lnTo>
                  <a:lnTo>
                    <a:pt x="882" y="82"/>
                  </a:lnTo>
                  <a:lnTo>
                    <a:pt x="896" y="66"/>
                  </a:lnTo>
                  <a:lnTo>
                    <a:pt x="911" y="62"/>
                  </a:lnTo>
                  <a:lnTo>
                    <a:pt x="928" y="60"/>
                  </a:lnTo>
                  <a:lnTo>
                    <a:pt x="944" y="59"/>
                  </a:lnTo>
                  <a:lnTo>
                    <a:pt x="962" y="60"/>
                  </a:lnTo>
                  <a:lnTo>
                    <a:pt x="978" y="62"/>
                  </a:lnTo>
                  <a:lnTo>
                    <a:pt x="994" y="66"/>
                  </a:lnTo>
                  <a:lnTo>
                    <a:pt x="1009" y="72"/>
                  </a:lnTo>
                  <a:lnTo>
                    <a:pt x="1023" y="79"/>
                  </a:lnTo>
                  <a:lnTo>
                    <a:pt x="1024" y="84"/>
                  </a:lnTo>
                  <a:lnTo>
                    <a:pt x="1027" y="90"/>
                  </a:lnTo>
                  <a:lnTo>
                    <a:pt x="1030" y="95"/>
                  </a:lnTo>
                  <a:lnTo>
                    <a:pt x="1034" y="101"/>
                  </a:lnTo>
                  <a:lnTo>
                    <a:pt x="1037" y="107"/>
                  </a:lnTo>
                  <a:lnTo>
                    <a:pt x="1040" y="112"/>
                  </a:lnTo>
                  <a:lnTo>
                    <a:pt x="1042" y="118"/>
                  </a:lnTo>
                  <a:lnTo>
                    <a:pt x="1043" y="127"/>
                  </a:lnTo>
                  <a:lnTo>
                    <a:pt x="1102" y="96"/>
                  </a:lnTo>
                  <a:lnTo>
                    <a:pt x="1164" y="73"/>
                  </a:lnTo>
                  <a:lnTo>
                    <a:pt x="1229" y="55"/>
                  </a:lnTo>
                  <a:lnTo>
                    <a:pt x="1297" y="41"/>
                  </a:lnTo>
                  <a:lnTo>
                    <a:pt x="1364" y="29"/>
                  </a:lnTo>
                  <a:lnTo>
                    <a:pt x="1431" y="20"/>
                  </a:lnTo>
                  <a:lnTo>
                    <a:pt x="1498" y="10"/>
                  </a:lnTo>
                  <a:lnTo>
                    <a:pt x="1566" y="0"/>
                  </a:lnTo>
                  <a:lnTo>
                    <a:pt x="173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4389480" y="2650680"/>
              <a:ext cx="1582560" cy="1060920"/>
            </a:xfrm>
            <a:custGeom>
              <a:avLst/>
              <a:gdLst/>
              <a:ahLst/>
              <a:rect l="l" t="t" r="r" b="b"/>
              <a:pathLst>
                <a:path w="2989" h="2011">
                  <a:moveTo>
                    <a:pt x="1494" y="83"/>
                  </a:moveTo>
                  <a:lnTo>
                    <a:pt x="1506" y="79"/>
                  </a:lnTo>
                  <a:lnTo>
                    <a:pt x="1519" y="79"/>
                  </a:lnTo>
                  <a:lnTo>
                    <a:pt x="1530" y="81"/>
                  </a:lnTo>
                  <a:lnTo>
                    <a:pt x="1540" y="87"/>
                  </a:lnTo>
                  <a:lnTo>
                    <a:pt x="1550" y="92"/>
                  </a:lnTo>
                  <a:lnTo>
                    <a:pt x="1560" y="96"/>
                  </a:lnTo>
                  <a:lnTo>
                    <a:pt x="1570" y="98"/>
                  </a:lnTo>
                  <a:lnTo>
                    <a:pt x="1583" y="98"/>
                  </a:lnTo>
                  <a:lnTo>
                    <a:pt x="1580" y="89"/>
                  </a:lnTo>
                  <a:lnTo>
                    <a:pt x="1576" y="82"/>
                  </a:lnTo>
                  <a:lnTo>
                    <a:pt x="1573" y="73"/>
                  </a:lnTo>
                  <a:lnTo>
                    <a:pt x="1570" y="66"/>
                  </a:lnTo>
                  <a:lnTo>
                    <a:pt x="1567" y="57"/>
                  </a:lnTo>
                  <a:lnTo>
                    <a:pt x="1564" y="49"/>
                  </a:lnTo>
                  <a:lnTo>
                    <a:pt x="1560" y="40"/>
                  </a:lnTo>
                  <a:lnTo>
                    <a:pt x="1559" y="33"/>
                  </a:lnTo>
                  <a:lnTo>
                    <a:pt x="1566" y="29"/>
                  </a:lnTo>
                  <a:lnTo>
                    <a:pt x="1575" y="30"/>
                  </a:lnTo>
                  <a:lnTo>
                    <a:pt x="1585" y="44"/>
                  </a:lnTo>
                  <a:lnTo>
                    <a:pt x="1595" y="60"/>
                  </a:lnTo>
                  <a:lnTo>
                    <a:pt x="1603" y="76"/>
                  </a:lnTo>
                  <a:lnTo>
                    <a:pt x="1613" y="92"/>
                  </a:lnTo>
                  <a:lnTo>
                    <a:pt x="1622" y="105"/>
                  </a:lnTo>
                  <a:lnTo>
                    <a:pt x="1636" y="118"/>
                  </a:lnTo>
                  <a:lnTo>
                    <a:pt x="1650" y="128"/>
                  </a:lnTo>
                  <a:lnTo>
                    <a:pt x="1669" y="134"/>
                  </a:lnTo>
                  <a:lnTo>
                    <a:pt x="1677" y="138"/>
                  </a:lnTo>
                  <a:lnTo>
                    <a:pt x="1686" y="144"/>
                  </a:lnTo>
                  <a:lnTo>
                    <a:pt x="1696" y="147"/>
                  </a:lnTo>
                  <a:lnTo>
                    <a:pt x="1706" y="144"/>
                  </a:lnTo>
                  <a:lnTo>
                    <a:pt x="1702" y="135"/>
                  </a:lnTo>
                  <a:lnTo>
                    <a:pt x="1698" y="128"/>
                  </a:lnTo>
                  <a:lnTo>
                    <a:pt x="1693" y="120"/>
                  </a:lnTo>
                  <a:lnTo>
                    <a:pt x="1689" y="114"/>
                  </a:lnTo>
                  <a:lnTo>
                    <a:pt x="1685" y="106"/>
                  </a:lnTo>
                  <a:lnTo>
                    <a:pt x="1683" y="99"/>
                  </a:lnTo>
                  <a:lnTo>
                    <a:pt x="1683" y="90"/>
                  </a:lnTo>
                  <a:lnTo>
                    <a:pt x="1686" y="83"/>
                  </a:lnTo>
                  <a:lnTo>
                    <a:pt x="1701" y="88"/>
                  </a:lnTo>
                  <a:lnTo>
                    <a:pt x="1714" y="99"/>
                  </a:lnTo>
                  <a:lnTo>
                    <a:pt x="1726" y="114"/>
                  </a:lnTo>
                  <a:lnTo>
                    <a:pt x="1735" y="129"/>
                  </a:lnTo>
                  <a:lnTo>
                    <a:pt x="1745" y="144"/>
                  </a:lnTo>
                  <a:lnTo>
                    <a:pt x="1753" y="158"/>
                  </a:lnTo>
                  <a:lnTo>
                    <a:pt x="1765" y="170"/>
                  </a:lnTo>
                  <a:lnTo>
                    <a:pt x="1779" y="179"/>
                  </a:lnTo>
                  <a:lnTo>
                    <a:pt x="1798" y="184"/>
                  </a:lnTo>
                  <a:lnTo>
                    <a:pt x="1804" y="186"/>
                  </a:lnTo>
                  <a:lnTo>
                    <a:pt x="1811" y="191"/>
                  </a:lnTo>
                  <a:lnTo>
                    <a:pt x="1817" y="193"/>
                  </a:lnTo>
                  <a:lnTo>
                    <a:pt x="1826" y="195"/>
                  </a:lnTo>
                  <a:lnTo>
                    <a:pt x="1831" y="191"/>
                  </a:lnTo>
                  <a:lnTo>
                    <a:pt x="1831" y="186"/>
                  </a:lnTo>
                  <a:lnTo>
                    <a:pt x="1829" y="180"/>
                  </a:lnTo>
                  <a:lnTo>
                    <a:pt x="1831" y="175"/>
                  </a:lnTo>
                  <a:lnTo>
                    <a:pt x="1829" y="168"/>
                  </a:lnTo>
                  <a:lnTo>
                    <a:pt x="1830" y="163"/>
                  </a:lnTo>
                  <a:lnTo>
                    <a:pt x="1830" y="158"/>
                  </a:lnTo>
                  <a:lnTo>
                    <a:pt x="1832" y="153"/>
                  </a:lnTo>
                  <a:lnTo>
                    <a:pt x="1836" y="144"/>
                  </a:lnTo>
                  <a:lnTo>
                    <a:pt x="1843" y="136"/>
                  </a:lnTo>
                  <a:lnTo>
                    <a:pt x="1837" y="125"/>
                  </a:lnTo>
                  <a:lnTo>
                    <a:pt x="1832" y="113"/>
                  </a:lnTo>
                  <a:lnTo>
                    <a:pt x="1826" y="100"/>
                  </a:lnTo>
                  <a:lnTo>
                    <a:pt x="1819" y="89"/>
                  </a:lnTo>
                  <a:lnTo>
                    <a:pt x="1811" y="78"/>
                  </a:lnTo>
                  <a:lnTo>
                    <a:pt x="1802" y="68"/>
                  </a:lnTo>
                  <a:lnTo>
                    <a:pt x="1792" y="60"/>
                  </a:lnTo>
                  <a:lnTo>
                    <a:pt x="1780" y="53"/>
                  </a:lnTo>
                  <a:lnTo>
                    <a:pt x="1780" y="44"/>
                  </a:lnTo>
                  <a:lnTo>
                    <a:pt x="1785" y="37"/>
                  </a:lnTo>
                  <a:lnTo>
                    <a:pt x="1801" y="36"/>
                  </a:lnTo>
                  <a:lnTo>
                    <a:pt x="1815" y="43"/>
                  </a:lnTo>
                  <a:lnTo>
                    <a:pt x="1827" y="51"/>
                  </a:lnTo>
                  <a:lnTo>
                    <a:pt x="1840" y="64"/>
                  </a:lnTo>
                  <a:lnTo>
                    <a:pt x="1850" y="74"/>
                  </a:lnTo>
                  <a:lnTo>
                    <a:pt x="1863" y="83"/>
                  </a:lnTo>
                  <a:lnTo>
                    <a:pt x="1877" y="88"/>
                  </a:lnTo>
                  <a:lnTo>
                    <a:pt x="1894" y="90"/>
                  </a:lnTo>
                  <a:lnTo>
                    <a:pt x="1908" y="97"/>
                  </a:lnTo>
                  <a:lnTo>
                    <a:pt x="1923" y="103"/>
                  </a:lnTo>
                  <a:lnTo>
                    <a:pt x="1937" y="111"/>
                  </a:lnTo>
                  <a:lnTo>
                    <a:pt x="1951" y="120"/>
                  </a:lnTo>
                  <a:lnTo>
                    <a:pt x="1964" y="129"/>
                  </a:lnTo>
                  <a:lnTo>
                    <a:pt x="1978" y="139"/>
                  </a:lnTo>
                  <a:lnTo>
                    <a:pt x="1990" y="150"/>
                  </a:lnTo>
                  <a:lnTo>
                    <a:pt x="2003" y="164"/>
                  </a:lnTo>
                  <a:lnTo>
                    <a:pt x="2008" y="161"/>
                  </a:lnTo>
                  <a:lnTo>
                    <a:pt x="2014" y="160"/>
                  </a:lnTo>
                  <a:lnTo>
                    <a:pt x="2020" y="160"/>
                  </a:lnTo>
                  <a:lnTo>
                    <a:pt x="2025" y="161"/>
                  </a:lnTo>
                  <a:lnTo>
                    <a:pt x="2035" y="164"/>
                  </a:lnTo>
                  <a:lnTo>
                    <a:pt x="2045" y="167"/>
                  </a:lnTo>
                  <a:lnTo>
                    <a:pt x="2051" y="170"/>
                  </a:lnTo>
                  <a:lnTo>
                    <a:pt x="2053" y="178"/>
                  </a:lnTo>
                  <a:lnTo>
                    <a:pt x="2056" y="182"/>
                  </a:lnTo>
                  <a:lnTo>
                    <a:pt x="2063" y="179"/>
                  </a:lnTo>
                  <a:lnTo>
                    <a:pt x="2062" y="170"/>
                  </a:lnTo>
                  <a:lnTo>
                    <a:pt x="2061" y="162"/>
                  </a:lnTo>
                  <a:lnTo>
                    <a:pt x="2059" y="152"/>
                  </a:lnTo>
                  <a:lnTo>
                    <a:pt x="2058" y="145"/>
                  </a:lnTo>
                  <a:lnTo>
                    <a:pt x="2057" y="136"/>
                  </a:lnTo>
                  <a:lnTo>
                    <a:pt x="2058" y="130"/>
                  </a:lnTo>
                  <a:lnTo>
                    <a:pt x="2062" y="123"/>
                  </a:lnTo>
                  <a:lnTo>
                    <a:pt x="2071" y="121"/>
                  </a:lnTo>
                  <a:lnTo>
                    <a:pt x="2077" y="128"/>
                  </a:lnTo>
                  <a:lnTo>
                    <a:pt x="2080" y="136"/>
                  </a:lnTo>
                  <a:lnTo>
                    <a:pt x="2081" y="139"/>
                  </a:lnTo>
                  <a:lnTo>
                    <a:pt x="2085" y="144"/>
                  </a:lnTo>
                  <a:lnTo>
                    <a:pt x="2088" y="147"/>
                  </a:lnTo>
                  <a:lnTo>
                    <a:pt x="2094" y="149"/>
                  </a:lnTo>
                  <a:lnTo>
                    <a:pt x="2102" y="142"/>
                  </a:lnTo>
                  <a:lnTo>
                    <a:pt x="2106" y="151"/>
                  </a:lnTo>
                  <a:lnTo>
                    <a:pt x="2111" y="161"/>
                  </a:lnTo>
                  <a:lnTo>
                    <a:pt x="2116" y="170"/>
                  </a:lnTo>
                  <a:lnTo>
                    <a:pt x="2121" y="180"/>
                  </a:lnTo>
                  <a:lnTo>
                    <a:pt x="2125" y="188"/>
                  </a:lnTo>
                  <a:lnTo>
                    <a:pt x="2132" y="198"/>
                  </a:lnTo>
                  <a:lnTo>
                    <a:pt x="2138" y="208"/>
                  </a:lnTo>
                  <a:lnTo>
                    <a:pt x="2146" y="217"/>
                  </a:lnTo>
                  <a:lnTo>
                    <a:pt x="2153" y="210"/>
                  </a:lnTo>
                  <a:lnTo>
                    <a:pt x="2156" y="204"/>
                  </a:lnTo>
                  <a:lnTo>
                    <a:pt x="2157" y="201"/>
                  </a:lnTo>
                  <a:lnTo>
                    <a:pt x="2159" y="200"/>
                  </a:lnTo>
                  <a:lnTo>
                    <a:pt x="2162" y="200"/>
                  </a:lnTo>
                  <a:lnTo>
                    <a:pt x="2170" y="202"/>
                  </a:lnTo>
                  <a:lnTo>
                    <a:pt x="2176" y="217"/>
                  </a:lnTo>
                  <a:lnTo>
                    <a:pt x="2184" y="233"/>
                  </a:lnTo>
                  <a:lnTo>
                    <a:pt x="2190" y="249"/>
                  </a:lnTo>
                  <a:lnTo>
                    <a:pt x="2199" y="265"/>
                  </a:lnTo>
                  <a:lnTo>
                    <a:pt x="2207" y="279"/>
                  </a:lnTo>
                  <a:lnTo>
                    <a:pt x="2218" y="294"/>
                  </a:lnTo>
                  <a:lnTo>
                    <a:pt x="2230" y="306"/>
                  </a:lnTo>
                  <a:lnTo>
                    <a:pt x="2246" y="318"/>
                  </a:lnTo>
                  <a:lnTo>
                    <a:pt x="2251" y="313"/>
                  </a:lnTo>
                  <a:lnTo>
                    <a:pt x="2246" y="302"/>
                  </a:lnTo>
                  <a:lnTo>
                    <a:pt x="2242" y="293"/>
                  </a:lnTo>
                  <a:lnTo>
                    <a:pt x="2239" y="282"/>
                  </a:lnTo>
                  <a:lnTo>
                    <a:pt x="2237" y="273"/>
                  </a:lnTo>
                  <a:lnTo>
                    <a:pt x="2234" y="261"/>
                  </a:lnTo>
                  <a:lnTo>
                    <a:pt x="2232" y="250"/>
                  </a:lnTo>
                  <a:lnTo>
                    <a:pt x="2230" y="240"/>
                  </a:lnTo>
                  <a:lnTo>
                    <a:pt x="2227" y="230"/>
                  </a:lnTo>
                  <a:lnTo>
                    <a:pt x="2248" y="223"/>
                  </a:lnTo>
                  <a:lnTo>
                    <a:pt x="2242" y="212"/>
                  </a:lnTo>
                  <a:lnTo>
                    <a:pt x="2236" y="204"/>
                  </a:lnTo>
                  <a:lnTo>
                    <a:pt x="2229" y="197"/>
                  </a:lnTo>
                  <a:lnTo>
                    <a:pt x="2222" y="192"/>
                  </a:lnTo>
                  <a:lnTo>
                    <a:pt x="2214" y="185"/>
                  </a:lnTo>
                  <a:lnTo>
                    <a:pt x="2206" y="179"/>
                  </a:lnTo>
                  <a:lnTo>
                    <a:pt x="2200" y="171"/>
                  </a:lnTo>
                  <a:lnTo>
                    <a:pt x="2196" y="164"/>
                  </a:lnTo>
                  <a:lnTo>
                    <a:pt x="2198" y="160"/>
                  </a:lnTo>
                  <a:lnTo>
                    <a:pt x="2200" y="157"/>
                  </a:lnTo>
                  <a:lnTo>
                    <a:pt x="2208" y="154"/>
                  </a:lnTo>
                  <a:lnTo>
                    <a:pt x="2216" y="157"/>
                  </a:lnTo>
                  <a:lnTo>
                    <a:pt x="2222" y="161"/>
                  </a:lnTo>
                  <a:lnTo>
                    <a:pt x="2230" y="166"/>
                  </a:lnTo>
                  <a:lnTo>
                    <a:pt x="2235" y="169"/>
                  </a:lnTo>
                  <a:lnTo>
                    <a:pt x="2241" y="172"/>
                  </a:lnTo>
                  <a:lnTo>
                    <a:pt x="2248" y="171"/>
                  </a:lnTo>
                  <a:lnTo>
                    <a:pt x="2256" y="167"/>
                  </a:lnTo>
                  <a:lnTo>
                    <a:pt x="2262" y="169"/>
                  </a:lnTo>
                  <a:lnTo>
                    <a:pt x="2268" y="176"/>
                  </a:lnTo>
                  <a:lnTo>
                    <a:pt x="2273" y="182"/>
                  </a:lnTo>
                  <a:lnTo>
                    <a:pt x="2279" y="190"/>
                  </a:lnTo>
                  <a:lnTo>
                    <a:pt x="2283" y="196"/>
                  </a:lnTo>
                  <a:lnTo>
                    <a:pt x="2289" y="203"/>
                  </a:lnTo>
                  <a:lnTo>
                    <a:pt x="2296" y="209"/>
                  </a:lnTo>
                  <a:lnTo>
                    <a:pt x="2304" y="215"/>
                  </a:lnTo>
                  <a:lnTo>
                    <a:pt x="2306" y="207"/>
                  </a:lnTo>
                  <a:lnTo>
                    <a:pt x="2302" y="200"/>
                  </a:lnTo>
                  <a:lnTo>
                    <a:pt x="2299" y="197"/>
                  </a:lnTo>
                  <a:lnTo>
                    <a:pt x="2298" y="194"/>
                  </a:lnTo>
                  <a:lnTo>
                    <a:pt x="2299" y="191"/>
                  </a:lnTo>
                  <a:lnTo>
                    <a:pt x="2304" y="187"/>
                  </a:lnTo>
                  <a:lnTo>
                    <a:pt x="2319" y="187"/>
                  </a:lnTo>
                  <a:lnTo>
                    <a:pt x="2332" y="196"/>
                  </a:lnTo>
                  <a:lnTo>
                    <a:pt x="2346" y="209"/>
                  </a:lnTo>
                  <a:lnTo>
                    <a:pt x="2356" y="220"/>
                  </a:lnTo>
                  <a:lnTo>
                    <a:pt x="2369" y="233"/>
                  </a:lnTo>
                  <a:lnTo>
                    <a:pt x="2380" y="245"/>
                  </a:lnTo>
                  <a:lnTo>
                    <a:pt x="2393" y="256"/>
                  </a:lnTo>
                  <a:lnTo>
                    <a:pt x="2405" y="264"/>
                  </a:lnTo>
                  <a:lnTo>
                    <a:pt x="2422" y="270"/>
                  </a:lnTo>
                  <a:lnTo>
                    <a:pt x="2426" y="268"/>
                  </a:lnTo>
                  <a:lnTo>
                    <a:pt x="2410" y="253"/>
                  </a:lnTo>
                  <a:lnTo>
                    <a:pt x="2395" y="240"/>
                  </a:lnTo>
                  <a:lnTo>
                    <a:pt x="2380" y="224"/>
                  </a:lnTo>
                  <a:lnTo>
                    <a:pt x="2365" y="208"/>
                  </a:lnTo>
                  <a:lnTo>
                    <a:pt x="2349" y="191"/>
                  </a:lnTo>
                  <a:lnTo>
                    <a:pt x="2336" y="175"/>
                  </a:lnTo>
                  <a:lnTo>
                    <a:pt x="2322" y="158"/>
                  </a:lnTo>
                  <a:lnTo>
                    <a:pt x="2312" y="142"/>
                  </a:lnTo>
                  <a:lnTo>
                    <a:pt x="2313" y="136"/>
                  </a:lnTo>
                  <a:lnTo>
                    <a:pt x="2317" y="134"/>
                  </a:lnTo>
                  <a:lnTo>
                    <a:pt x="2327" y="134"/>
                  </a:lnTo>
                  <a:lnTo>
                    <a:pt x="2344" y="148"/>
                  </a:lnTo>
                  <a:lnTo>
                    <a:pt x="2363" y="163"/>
                  </a:lnTo>
                  <a:lnTo>
                    <a:pt x="2382" y="176"/>
                  </a:lnTo>
                  <a:lnTo>
                    <a:pt x="2401" y="188"/>
                  </a:lnTo>
                  <a:lnTo>
                    <a:pt x="2419" y="201"/>
                  </a:lnTo>
                  <a:lnTo>
                    <a:pt x="2438" y="215"/>
                  </a:lnTo>
                  <a:lnTo>
                    <a:pt x="2456" y="230"/>
                  </a:lnTo>
                  <a:lnTo>
                    <a:pt x="2474" y="248"/>
                  </a:lnTo>
                  <a:lnTo>
                    <a:pt x="2483" y="251"/>
                  </a:lnTo>
                  <a:lnTo>
                    <a:pt x="2493" y="250"/>
                  </a:lnTo>
                  <a:lnTo>
                    <a:pt x="2501" y="245"/>
                  </a:lnTo>
                  <a:lnTo>
                    <a:pt x="2511" y="240"/>
                  </a:lnTo>
                  <a:lnTo>
                    <a:pt x="2519" y="224"/>
                  </a:lnTo>
                  <a:lnTo>
                    <a:pt x="2530" y="218"/>
                  </a:lnTo>
                  <a:lnTo>
                    <a:pt x="2540" y="219"/>
                  </a:lnTo>
                  <a:lnTo>
                    <a:pt x="2552" y="226"/>
                  </a:lnTo>
                  <a:lnTo>
                    <a:pt x="2564" y="232"/>
                  </a:lnTo>
                  <a:lnTo>
                    <a:pt x="2577" y="241"/>
                  </a:lnTo>
                  <a:lnTo>
                    <a:pt x="2590" y="246"/>
                  </a:lnTo>
                  <a:lnTo>
                    <a:pt x="2603" y="248"/>
                  </a:lnTo>
                  <a:lnTo>
                    <a:pt x="2610" y="250"/>
                  </a:lnTo>
                  <a:lnTo>
                    <a:pt x="2619" y="253"/>
                  </a:lnTo>
                  <a:lnTo>
                    <a:pt x="2628" y="255"/>
                  </a:lnTo>
                  <a:lnTo>
                    <a:pt x="2638" y="258"/>
                  </a:lnTo>
                  <a:lnTo>
                    <a:pt x="2644" y="261"/>
                  </a:lnTo>
                  <a:lnTo>
                    <a:pt x="2652" y="265"/>
                  </a:lnTo>
                  <a:lnTo>
                    <a:pt x="2656" y="273"/>
                  </a:lnTo>
                  <a:lnTo>
                    <a:pt x="2658" y="283"/>
                  </a:lnTo>
                  <a:lnTo>
                    <a:pt x="2660" y="292"/>
                  </a:lnTo>
                  <a:lnTo>
                    <a:pt x="2664" y="300"/>
                  </a:lnTo>
                  <a:lnTo>
                    <a:pt x="2670" y="307"/>
                  </a:lnTo>
                  <a:lnTo>
                    <a:pt x="2677" y="314"/>
                  </a:lnTo>
                  <a:lnTo>
                    <a:pt x="2684" y="319"/>
                  </a:lnTo>
                  <a:lnTo>
                    <a:pt x="2692" y="326"/>
                  </a:lnTo>
                  <a:lnTo>
                    <a:pt x="2701" y="331"/>
                  </a:lnTo>
                  <a:lnTo>
                    <a:pt x="2709" y="339"/>
                  </a:lnTo>
                  <a:lnTo>
                    <a:pt x="2713" y="329"/>
                  </a:lnTo>
                  <a:lnTo>
                    <a:pt x="2714" y="322"/>
                  </a:lnTo>
                  <a:lnTo>
                    <a:pt x="2711" y="313"/>
                  </a:lnTo>
                  <a:lnTo>
                    <a:pt x="2707" y="306"/>
                  </a:lnTo>
                  <a:lnTo>
                    <a:pt x="2702" y="296"/>
                  </a:lnTo>
                  <a:lnTo>
                    <a:pt x="2696" y="288"/>
                  </a:lnTo>
                  <a:lnTo>
                    <a:pt x="2692" y="279"/>
                  </a:lnTo>
                  <a:lnTo>
                    <a:pt x="2691" y="270"/>
                  </a:lnTo>
                  <a:lnTo>
                    <a:pt x="2693" y="260"/>
                  </a:lnTo>
                  <a:lnTo>
                    <a:pt x="2704" y="262"/>
                  </a:lnTo>
                  <a:lnTo>
                    <a:pt x="2713" y="268"/>
                  </a:lnTo>
                  <a:lnTo>
                    <a:pt x="2720" y="275"/>
                  </a:lnTo>
                  <a:lnTo>
                    <a:pt x="2727" y="284"/>
                  </a:lnTo>
                  <a:lnTo>
                    <a:pt x="2731" y="293"/>
                  </a:lnTo>
                  <a:lnTo>
                    <a:pt x="2738" y="302"/>
                  </a:lnTo>
                  <a:lnTo>
                    <a:pt x="2743" y="311"/>
                  </a:lnTo>
                  <a:lnTo>
                    <a:pt x="2752" y="321"/>
                  </a:lnTo>
                  <a:lnTo>
                    <a:pt x="2758" y="330"/>
                  </a:lnTo>
                  <a:lnTo>
                    <a:pt x="2765" y="340"/>
                  </a:lnTo>
                  <a:lnTo>
                    <a:pt x="2771" y="350"/>
                  </a:lnTo>
                  <a:lnTo>
                    <a:pt x="2777" y="362"/>
                  </a:lnTo>
                  <a:lnTo>
                    <a:pt x="2783" y="372"/>
                  </a:lnTo>
                  <a:lnTo>
                    <a:pt x="2789" y="382"/>
                  </a:lnTo>
                  <a:lnTo>
                    <a:pt x="2795" y="392"/>
                  </a:lnTo>
                  <a:lnTo>
                    <a:pt x="2805" y="402"/>
                  </a:lnTo>
                  <a:lnTo>
                    <a:pt x="2804" y="392"/>
                  </a:lnTo>
                  <a:lnTo>
                    <a:pt x="2803" y="382"/>
                  </a:lnTo>
                  <a:lnTo>
                    <a:pt x="2800" y="372"/>
                  </a:lnTo>
                  <a:lnTo>
                    <a:pt x="2794" y="364"/>
                  </a:lnTo>
                  <a:lnTo>
                    <a:pt x="2791" y="356"/>
                  </a:lnTo>
                  <a:lnTo>
                    <a:pt x="2789" y="349"/>
                  </a:lnTo>
                  <a:lnTo>
                    <a:pt x="2786" y="343"/>
                  </a:lnTo>
                  <a:lnTo>
                    <a:pt x="2784" y="337"/>
                  </a:lnTo>
                  <a:lnTo>
                    <a:pt x="2781" y="329"/>
                  </a:lnTo>
                  <a:lnTo>
                    <a:pt x="2781" y="323"/>
                  </a:lnTo>
                  <a:lnTo>
                    <a:pt x="2782" y="315"/>
                  </a:lnTo>
                  <a:lnTo>
                    <a:pt x="2787" y="309"/>
                  </a:lnTo>
                  <a:lnTo>
                    <a:pt x="2800" y="309"/>
                  </a:lnTo>
                  <a:lnTo>
                    <a:pt x="2808" y="325"/>
                  </a:lnTo>
                  <a:lnTo>
                    <a:pt x="2818" y="341"/>
                  </a:lnTo>
                  <a:lnTo>
                    <a:pt x="2826" y="357"/>
                  </a:lnTo>
                  <a:lnTo>
                    <a:pt x="2836" y="373"/>
                  </a:lnTo>
                  <a:lnTo>
                    <a:pt x="2844" y="389"/>
                  </a:lnTo>
                  <a:lnTo>
                    <a:pt x="2854" y="405"/>
                  </a:lnTo>
                  <a:lnTo>
                    <a:pt x="2863" y="420"/>
                  </a:lnTo>
                  <a:lnTo>
                    <a:pt x="2871" y="435"/>
                  </a:lnTo>
                  <a:lnTo>
                    <a:pt x="2870" y="428"/>
                  </a:lnTo>
                  <a:lnTo>
                    <a:pt x="2870" y="422"/>
                  </a:lnTo>
                  <a:lnTo>
                    <a:pt x="2869" y="414"/>
                  </a:lnTo>
                  <a:lnTo>
                    <a:pt x="2869" y="408"/>
                  </a:lnTo>
                  <a:lnTo>
                    <a:pt x="2869" y="400"/>
                  </a:lnTo>
                  <a:lnTo>
                    <a:pt x="2869" y="393"/>
                  </a:lnTo>
                  <a:lnTo>
                    <a:pt x="2869" y="386"/>
                  </a:lnTo>
                  <a:lnTo>
                    <a:pt x="2871" y="379"/>
                  </a:lnTo>
                  <a:lnTo>
                    <a:pt x="2875" y="374"/>
                  </a:lnTo>
                  <a:lnTo>
                    <a:pt x="2884" y="374"/>
                  </a:lnTo>
                  <a:lnTo>
                    <a:pt x="2885" y="380"/>
                  </a:lnTo>
                  <a:lnTo>
                    <a:pt x="2887" y="387"/>
                  </a:lnTo>
                  <a:lnTo>
                    <a:pt x="2889" y="393"/>
                  </a:lnTo>
                  <a:lnTo>
                    <a:pt x="2892" y="400"/>
                  </a:lnTo>
                  <a:lnTo>
                    <a:pt x="2895" y="407"/>
                  </a:lnTo>
                  <a:lnTo>
                    <a:pt x="2898" y="413"/>
                  </a:lnTo>
                  <a:lnTo>
                    <a:pt x="2901" y="420"/>
                  </a:lnTo>
                  <a:lnTo>
                    <a:pt x="2904" y="427"/>
                  </a:lnTo>
                  <a:lnTo>
                    <a:pt x="2911" y="443"/>
                  </a:lnTo>
                  <a:lnTo>
                    <a:pt x="2918" y="461"/>
                  </a:lnTo>
                  <a:lnTo>
                    <a:pt x="2924" y="478"/>
                  </a:lnTo>
                  <a:lnTo>
                    <a:pt x="2932" y="496"/>
                  </a:lnTo>
                  <a:lnTo>
                    <a:pt x="2937" y="513"/>
                  </a:lnTo>
                  <a:lnTo>
                    <a:pt x="2944" y="533"/>
                  </a:lnTo>
                  <a:lnTo>
                    <a:pt x="2949" y="550"/>
                  </a:lnTo>
                  <a:lnTo>
                    <a:pt x="2954" y="569"/>
                  </a:lnTo>
                  <a:lnTo>
                    <a:pt x="2957" y="591"/>
                  </a:lnTo>
                  <a:lnTo>
                    <a:pt x="2958" y="616"/>
                  </a:lnTo>
                  <a:lnTo>
                    <a:pt x="2958" y="640"/>
                  </a:lnTo>
                  <a:lnTo>
                    <a:pt x="2958" y="666"/>
                  </a:lnTo>
                  <a:lnTo>
                    <a:pt x="2958" y="689"/>
                  </a:lnTo>
                  <a:lnTo>
                    <a:pt x="2963" y="713"/>
                  </a:lnTo>
                  <a:lnTo>
                    <a:pt x="2970" y="734"/>
                  </a:lnTo>
                  <a:lnTo>
                    <a:pt x="2985" y="754"/>
                  </a:lnTo>
                  <a:lnTo>
                    <a:pt x="2985" y="808"/>
                  </a:lnTo>
                  <a:lnTo>
                    <a:pt x="2986" y="863"/>
                  </a:lnTo>
                  <a:lnTo>
                    <a:pt x="2986" y="918"/>
                  </a:lnTo>
                  <a:lnTo>
                    <a:pt x="2987" y="974"/>
                  </a:lnTo>
                  <a:lnTo>
                    <a:pt x="2987" y="1028"/>
                  </a:lnTo>
                  <a:lnTo>
                    <a:pt x="2987" y="1083"/>
                  </a:lnTo>
                  <a:lnTo>
                    <a:pt x="2988" y="1139"/>
                  </a:lnTo>
                  <a:lnTo>
                    <a:pt x="2989" y="1194"/>
                  </a:lnTo>
                  <a:lnTo>
                    <a:pt x="2980" y="1236"/>
                  </a:lnTo>
                  <a:lnTo>
                    <a:pt x="2971" y="1279"/>
                  </a:lnTo>
                  <a:lnTo>
                    <a:pt x="2963" y="1323"/>
                  </a:lnTo>
                  <a:lnTo>
                    <a:pt x="2954" y="1367"/>
                  </a:lnTo>
                  <a:lnTo>
                    <a:pt x="2944" y="1408"/>
                  </a:lnTo>
                  <a:lnTo>
                    <a:pt x="2931" y="1451"/>
                  </a:lnTo>
                  <a:lnTo>
                    <a:pt x="2916" y="1491"/>
                  </a:lnTo>
                  <a:lnTo>
                    <a:pt x="2899" y="1531"/>
                  </a:lnTo>
                  <a:lnTo>
                    <a:pt x="2897" y="1540"/>
                  </a:lnTo>
                  <a:lnTo>
                    <a:pt x="2891" y="1550"/>
                  </a:lnTo>
                  <a:lnTo>
                    <a:pt x="2888" y="1554"/>
                  </a:lnTo>
                  <a:lnTo>
                    <a:pt x="2886" y="1559"/>
                  </a:lnTo>
                  <a:lnTo>
                    <a:pt x="2884" y="1565"/>
                  </a:lnTo>
                  <a:lnTo>
                    <a:pt x="2884" y="1571"/>
                  </a:lnTo>
                  <a:lnTo>
                    <a:pt x="2880" y="1567"/>
                  </a:lnTo>
                  <a:lnTo>
                    <a:pt x="2875" y="1566"/>
                  </a:lnTo>
                  <a:lnTo>
                    <a:pt x="2872" y="1578"/>
                  </a:lnTo>
                  <a:lnTo>
                    <a:pt x="2867" y="1589"/>
                  </a:lnTo>
                  <a:lnTo>
                    <a:pt x="2859" y="1601"/>
                  </a:lnTo>
                  <a:lnTo>
                    <a:pt x="2853" y="1614"/>
                  </a:lnTo>
                  <a:lnTo>
                    <a:pt x="2844" y="1624"/>
                  </a:lnTo>
                  <a:lnTo>
                    <a:pt x="2838" y="1636"/>
                  </a:lnTo>
                  <a:lnTo>
                    <a:pt x="2832" y="1648"/>
                  </a:lnTo>
                  <a:lnTo>
                    <a:pt x="2827" y="1662"/>
                  </a:lnTo>
                  <a:lnTo>
                    <a:pt x="2822" y="1665"/>
                  </a:lnTo>
                  <a:lnTo>
                    <a:pt x="2820" y="1670"/>
                  </a:lnTo>
                  <a:lnTo>
                    <a:pt x="2819" y="1677"/>
                  </a:lnTo>
                  <a:lnTo>
                    <a:pt x="2819" y="1683"/>
                  </a:lnTo>
                  <a:lnTo>
                    <a:pt x="2818" y="1689"/>
                  </a:lnTo>
                  <a:lnTo>
                    <a:pt x="2818" y="1696"/>
                  </a:lnTo>
                  <a:lnTo>
                    <a:pt x="2816" y="1701"/>
                  </a:lnTo>
                  <a:lnTo>
                    <a:pt x="2812" y="1707"/>
                  </a:lnTo>
                  <a:lnTo>
                    <a:pt x="2820" y="1717"/>
                  </a:lnTo>
                  <a:lnTo>
                    <a:pt x="2827" y="1729"/>
                  </a:lnTo>
                  <a:lnTo>
                    <a:pt x="2828" y="1735"/>
                  </a:lnTo>
                  <a:lnTo>
                    <a:pt x="2830" y="1742"/>
                  </a:lnTo>
                  <a:lnTo>
                    <a:pt x="2828" y="1749"/>
                  </a:lnTo>
                  <a:lnTo>
                    <a:pt x="2825" y="1758"/>
                  </a:lnTo>
                  <a:lnTo>
                    <a:pt x="2814" y="1764"/>
                  </a:lnTo>
                  <a:lnTo>
                    <a:pt x="2808" y="1771"/>
                  </a:lnTo>
                  <a:lnTo>
                    <a:pt x="2807" y="1779"/>
                  </a:lnTo>
                  <a:lnTo>
                    <a:pt x="2809" y="1787"/>
                  </a:lnTo>
                  <a:lnTo>
                    <a:pt x="2811" y="1795"/>
                  </a:lnTo>
                  <a:lnTo>
                    <a:pt x="2815" y="1803"/>
                  </a:lnTo>
                  <a:lnTo>
                    <a:pt x="2814" y="1813"/>
                  </a:lnTo>
                  <a:lnTo>
                    <a:pt x="2810" y="1824"/>
                  </a:lnTo>
                  <a:lnTo>
                    <a:pt x="2796" y="1835"/>
                  </a:lnTo>
                  <a:lnTo>
                    <a:pt x="2782" y="1844"/>
                  </a:lnTo>
                  <a:lnTo>
                    <a:pt x="2766" y="1850"/>
                  </a:lnTo>
                  <a:lnTo>
                    <a:pt x="2751" y="1854"/>
                  </a:lnTo>
                  <a:lnTo>
                    <a:pt x="2734" y="1856"/>
                  </a:lnTo>
                  <a:lnTo>
                    <a:pt x="2717" y="1857"/>
                  </a:lnTo>
                  <a:lnTo>
                    <a:pt x="2698" y="1857"/>
                  </a:lnTo>
                  <a:lnTo>
                    <a:pt x="2681" y="1857"/>
                  </a:lnTo>
                  <a:lnTo>
                    <a:pt x="2677" y="1862"/>
                  </a:lnTo>
                  <a:lnTo>
                    <a:pt x="2676" y="1869"/>
                  </a:lnTo>
                  <a:lnTo>
                    <a:pt x="2676" y="1876"/>
                  </a:lnTo>
                  <a:lnTo>
                    <a:pt x="2676" y="1884"/>
                  </a:lnTo>
                  <a:lnTo>
                    <a:pt x="2682" y="1886"/>
                  </a:lnTo>
                  <a:lnTo>
                    <a:pt x="2691" y="1890"/>
                  </a:lnTo>
                  <a:lnTo>
                    <a:pt x="2700" y="1892"/>
                  </a:lnTo>
                  <a:lnTo>
                    <a:pt x="2708" y="1895"/>
                  </a:lnTo>
                  <a:lnTo>
                    <a:pt x="2714" y="1897"/>
                  </a:lnTo>
                  <a:lnTo>
                    <a:pt x="2722" y="1901"/>
                  </a:lnTo>
                  <a:lnTo>
                    <a:pt x="2728" y="1907"/>
                  </a:lnTo>
                  <a:lnTo>
                    <a:pt x="2734" y="1915"/>
                  </a:lnTo>
                  <a:lnTo>
                    <a:pt x="2731" y="1922"/>
                  </a:lnTo>
                  <a:lnTo>
                    <a:pt x="2729" y="1928"/>
                  </a:lnTo>
                  <a:lnTo>
                    <a:pt x="2725" y="1933"/>
                  </a:lnTo>
                  <a:lnTo>
                    <a:pt x="2722" y="1940"/>
                  </a:lnTo>
                  <a:lnTo>
                    <a:pt x="2730" y="1942"/>
                  </a:lnTo>
                  <a:lnTo>
                    <a:pt x="2741" y="1943"/>
                  </a:lnTo>
                  <a:lnTo>
                    <a:pt x="2751" y="1943"/>
                  </a:lnTo>
                  <a:lnTo>
                    <a:pt x="2762" y="1944"/>
                  </a:lnTo>
                  <a:lnTo>
                    <a:pt x="2772" y="1944"/>
                  </a:lnTo>
                  <a:lnTo>
                    <a:pt x="2783" y="1944"/>
                  </a:lnTo>
                  <a:lnTo>
                    <a:pt x="2792" y="1944"/>
                  </a:lnTo>
                  <a:lnTo>
                    <a:pt x="2803" y="1945"/>
                  </a:lnTo>
                  <a:lnTo>
                    <a:pt x="2802" y="1934"/>
                  </a:lnTo>
                  <a:lnTo>
                    <a:pt x="2805" y="1926"/>
                  </a:lnTo>
                  <a:lnTo>
                    <a:pt x="2808" y="1917"/>
                  </a:lnTo>
                  <a:lnTo>
                    <a:pt x="2815" y="1911"/>
                  </a:lnTo>
                  <a:lnTo>
                    <a:pt x="2821" y="1903"/>
                  </a:lnTo>
                  <a:lnTo>
                    <a:pt x="2827" y="1897"/>
                  </a:lnTo>
                  <a:lnTo>
                    <a:pt x="2834" y="1891"/>
                  </a:lnTo>
                  <a:lnTo>
                    <a:pt x="2840" y="1884"/>
                  </a:lnTo>
                  <a:lnTo>
                    <a:pt x="2835" y="1891"/>
                  </a:lnTo>
                  <a:lnTo>
                    <a:pt x="2831" y="1899"/>
                  </a:lnTo>
                  <a:lnTo>
                    <a:pt x="2826" y="1907"/>
                  </a:lnTo>
                  <a:lnTo>
                    <a:pt x="2823" y="1916"/>
                  </a:lnTo>
                  <a:lnTo>
                    <a:pt x="2819" y="1924"/>
                  </a:lnTo>
                  <a:lnTo>
                    <a:pt x="2815" y="1932"/>
                  </a:lnTo>
                  <a:lnTo>
                    <a:pt x="2809" y="1940"/>
                  </a:lnTo>
                  <a:lnTo>
                    <a:pt x="2805" y="1948"/>
                  </a:lnTo>
                  <a:lnTo>
                    <a:pt x="2808" y="1956"/>
                  </a:lnTo>
                  <a:lnTo>
                    <a:pt x="2808" y="1966"/>
                  </a:lnTo>
                  <a:lnTo>
                    <a:pt x="2805" y="1975"/>
                  </a:lnTo>
                  <a:lnTo>
                    <a:pt x="2800" y="1983"/>
                  </a:lnTo>
                  <a:lnTo>
                    <a:pt x="2772" y="1989"/>
                  </a:lnTo>
                  <a:lnTo>
                    <a:pt x="2744" y="1992"/>
                  </a:lnTo>
                  <a:lnTo>
                    <a:pt x="2716" y="1994"/>
                  </a:lnTo>
                  <a:lnTo>
                    <a:pt x="2687" y="1995"/>
                  </a:lnTo>
                  <a:lnTo>
                    <a:pt x="2657" y="1994"/>
                  </a:lnTo>
                  <a:lnTo>
                    <a:pt x="2627" y="1993"/>
                  </a:lnTo>
                  <a:lnTo>
                    <a:pt x="2598" y="1991"/>
                  </a:lnTo>
                  <a:lnTo>
                    <a:pt x="2572" y="1991"/>
                  </a:lnTo>
                  <a:lnTo>
                    <a:pt x="2551" y="1988"/>
                  </a:lnTo>
                  <a:lnTo>
                    <a:pt x="2532" y="1988"/>
                  </a:lnTo>
                  <a:lnTo>
                    <a:pt x="2513" y="1986"/>
                  </a:lnTo>
                  <a:lnTo>
                    <a:pt x="2494" y="1984"/>
                  </a:lnTo>
                  <a:lnTo>
                    <a:pt x="2475" y="1980"/>
                  </a:lnTo>
                  <a:lnTo>
                    <a:pt x="2457" y="1976"/>
                  </a:lnTo>
                  <a:lnTo>
                    <a:pt x="2440" y="1967"/>
                  </a:lnTo>
                  <a:lnTo>
                    <a:pt x="2426" y="1958"/>
                  </a:lnTo>
                  <a:lnTo>
                    <a:pt x="2418" y="1957"/>
                  </a:lnTo>
                  <a:lnTo>
                    <a:pt x="2412" y="1954"/>
                  </a:lnTo>
                  <a:lnTo>
                    <a:pt x="2406" y="1949"/>
                  </a:lnTo>
                  <a:lnTo>
                    <a:pt x="2402" y="1945"/>
                  </a:lnTo>
                  <a:lnTo>
                    <a:pt x="2393" y="1950"/>
                  </a:lnTo>
                  <a:lnTo>
                    <a:pt x="2388" y="1959"/>
                  </a:lnTo>
                  <a:lnTo>
                    <a:pt x="2385" y="1967"/>
                  </a:lnTo>
                  <a:lnTo>
                    <a:pt x="2385" y="1979"/>
                  </a:lnTo>
                  <a:lnTo>
                    <a:pt x="2383" y="1989"/>
                  </a:lnTo>
                  <a:lnTo>
                    <a:pt x="2380" y="1999"/>
                  </a:lnTo>
                  <a:lnTo>
                    <a:pt x="2372" y="2006"/>
                  </a:lnTo>
                  <a:lnTo>
                    <a:pt x="2362" y="2011"/>
                  </a:lnTo>
                  <a:lnTo>
                    <a:pt x="2356" y="2000"/>
                  </a:lnTo>
                  <a:lnTo>
                    <a:pt x="2352" y="1990"/>
                  </a:lnTo>
                  <a:lnTo>
                    <a:pt x="2348" y="1979"/>
                  </a:lnTo>
                  <a:lnTo>
                    <a:pt x="2346" y="1968"/>
                  </a:lnTo>
                  <a:lnTo>
                    <a:pt x="2344" y="1957"/>
                  </a:lnTo>
                  <a:lnTo>
                    <a:pt x="2344" y="1945"/>
                  </a:lnTo>
                  <a:lnTo>
                    <a:pt x="2344" y="1933"/>
                  </a:lnTo>
                  <a:lnTo>
                    <a:pt x="2347" y="1923"/>
                  </a:lnTo>
                  <a:lnTo>
                    <a:pt x="2353" y="1914"/>
                  </a:lnTo>
                  <a:lnTo>
                    <a:pt x="2362" y="1910"/>
                  </a:lnTo>
                  <a:lnTo>
                    <a:pt x="2370" y="1907"/>
                  </a:lnTo>
                  <a:lnTo>
                    <a:pt x="2380" y="1907"/>
                  </a:lnTo>
                  <a:lnTo>
                    <a:pt x="2389" y="1906"/>
                  </a:lnTo>
                  <a:lnTo>
                    <a:pt x="2399" y="1906"/>
                  </a:lnTo>
                  <a:lnTo>
                    <a:pt x="2409" y="1903"/>
                  </a:lnTo>
                  <a:lnTo>
                    <a:pt x="2418" y="1902"/>
                  </a:lnTo>
                  <a:lnTo>
                    <a:pt x="2437" y="1895"/>
                  </a:lnTo>
                  <a:lnTo>
                    <a:pt x="2460" y="1888"/>
                  </a:lnTo>
                  <a:lnTo>
                    <a:pt x="2481" y="1880"/>
                  </a:lnTo>
                  <a:lnTo>
                    <a:pt x="2503" y="1873"/>
                  </a:lnTo>
                  <a:lnTo>
                    <a:pt x="2523" y="1861"/>
                  </a:lnTo>
                  <a:lnTo>
                    <a:pt x="2540" y="1847"/>
                  </a:lnTo>
                  <a:lnTo>
                    <a:pt x="2552" y="1829"/>
                  </a:lnTo>
                  <a:lnTo>
                    <a:pt x="2562" y="1807"/>
                  </a:lnTo>
                  <a:lnTo>
                    <a:pt x="2556" y="1794"/>
                  </a:lnTo>
                  <a:lnTo>
                    <a:pt x="2555" y="1783"/>
                  </a:lnTo>
                  <a:lnTo>
                    <a:pt x="2556" y="1771"/>
                  </a:lnTo>
                  <a:lnTo>
                    <a:pt x="2560" y="1761"/>
                  </a:lnTo>
                  <a:lnTo>
                    <a:pt x="2563" y="1749"/>
                  </a:lnTo>
                  <a:lnTo>
                    <a:pt x="2567" y="1737"/>
                  </a:lnTo>
                  <a:lnTo>
                    <a:pt x="2570" y="1726"/>
                  </a:lnTo>
                  <a:lnTo>
                    <a:pt x="2572" y="1715"/>
                  </a:lnTo>
                  <a:lnTo>
                    <a:pt x="2574" y="1704"/>
                  </a:lnTo>
                  <a:lnTo>
                    <a:pt x="2576" y="1694"/>
                  </a:lnTo>
                  <a:lnTo>
                    <a:pt x="2577" y="1682"/>
                  </a:lnTo>
                  <a:lnTo>
                    <a:pt x="2580" y="1672"/>
                  </a:lnTo>
                  <a:lnTo>
                    <a:pt x="2581" y="1661"/>
                  </a:lnTo>
                  <a:lnTo>
                    <a:pt x="2586" y="1651"/>
                  </a:lnTo>
                  <a:lnTo>
                    <a:pt x="2591" y="1641"/>
                  </a:lnTo>
                  <a:lnTo>
                    <a:pt x="2600" y="1634"/>
                  </a:lnTo>
                  <a:lnTo>
                    <a:pt x="2596" y="1631"/>
                  </a:lnTo>
                  <a:lnTo>
                    <a:pt x="2592" y="1630"/>
                  </a:lnTo>
                  <a:lnTo>
                    <a:pt x="2587" y="1629"/>
                  </a:lnTo>
                  <a:lnTo>
                    <a:pt x="2582" y="1627"/>
                  </a:lnTo>
                  <a:lnTo>
                    <a:pt x="2580" y="1618"/>
                  </a:lnTo>
                  <a:lnTo>
                    <a:pt x="2586" y="1614"/>
                  </a:lnTo>
                  <a:lnTo>
                    <a:pt x="2590" y="1611"/>
                  </a:lnTo>
                  <a:lnTo>
                    <a:pt x="2595" y="1608"/>
                  </a:lnTo>
                  <a:lnTo>
                    <a:pt x="2603" y="1605"/>
                  </a:lnTo>
                  <a:lnTo>
                    <a:pt x="2610" y="1601"/>
                  </a:lnTo>
                  <a:lnTo>
                    <a:pt x="2601" y="1598"/>
                  </a:lnTo>
                  <a:lnTo>
                    <a:pt x="2595" y="1597"/>
                  </a:lnTo>
                  <a:lnTo>
                    <a:pt x="2588" y="1595"/>
                  </a:lnTo>
                  <a:lnTo>
                    <a:pt x="2581" y="1594"/>
                  </a:lnTo>
                  <a:lnTo>
                    <a:pt x="2574" y="1589"/>
                  </a:lnTo>
                  <a:lnTo>
                    <a:pt x="2568" y="1585"/>
                  </a:lnTo>
                  <a:lnTo>
                    <a:pt x="2564" y="1580"/>
                  </a:lnTo>
                  <a:lnTo>
                    <a:pt x="2562" y="1573"/>
                  </a:lnTo>
                  <a:lnTo>
                    <a:pt x="2559" y="1560"/>
                  </a:lnTo>
                  <a:lnTo>
                    <a:pt x="2561" y="1552"/>
                  </a:lnTo>
                  <a:lnTo>
                    <a:pt x="2565" y="1545"/>
                  </a:lnTo>
                  <a:lnTo>
                    <a:pt x="2574" y="1541"/>
                  </a:lnTo>
                  <a:lnTo>
                    <a:pt x="2582" y="1536"/>
                  </a:lnTo>
                  <a:lnTo>
                    <a:pt x="2591" y="1533"/>
                  </a:lnTo>
                  <a:lnTo>
                    <a:pt x="2599" y="1527"/>
                  </a:lnTo>
                  <a:lnTo>
                    <a:pt x="2608" y="1523"/>
                  </a:lnTo>
                  <a:lnTo>
                    <a:pt x="2620" y="1517"/>
                  </a:lnTo>
                  <a:lnTo>
                    <a:pt x="2632" y="1513"/>
                  </a:lnTo>
                  <a:lnTo>
                    <a:pt x="2646" y="1509"/>
                  </a:lnTo>
                  <a:lnTo>
                    <a:pt x="2660" y="1506"/>
                  </a:lnTo>
                  <a:lnTo>
                    <a:pt x="2674" y="1503"/>
                  </a:lnTo>
                  <a:lnTo>
                    <a:pt x="2688" y="1500"/>
                  </a:lnTo>
                  <a:lnTo>
                    <a:pt x="2701" y="1496"/>
                  </a:lnTo>
                  <a:lnTo>
                    <a:pt x="2713" y="1490"/>
                  </a:lnTo>
                  <a:lnTo>
                    <a:pt x="2713" y="1482"/>
                  </a:lnTo>
                  <a:lnTo>
                    <a:pt x="2709" y="1477"/>
                  </a:lnTo>
                  <a:lnTo>
                    <a:pt x="2690" y="1483"/>
                  </a:lnTo>
                  <a:lnTo>
                    <a:pt x="2672" y="1488"/>
                  </a:lnTo>
                  <a:lnTo>
                    <a:pt x="2653" y="1493"/>
                  </a:lnTo>
                  <a:lnTo>
                    <a:pt x="2635" y="1499"/>
                  </a:lnTo>
                  <a:lnTo>
                    <a:pt x="2615" y="1501"/>
                  </a:lnTo>
                  <a:lnTo>
                    <a:pt x="2596" y="1504"/>
                  </a:lnTo>
                  <a:lnTo>
                    <a:pt x="2575" y="1505"/>
                  </a:lnTo>
                  <a:lnTo>
                    <a:pt x="2555" y="1505"/>
                  </a:lnTo>
                  <a:lnTo>
                    <a:pt x="2548" y="1496"/>
                  </a:lnTo>
                  <a:lnTo>
                    <a:pt x="2551" y="1485"/>
                  </a:lnTo>
                  <a:lnTo>
                    <a:pt x="2572" y="1481"/>
                  </a:lnTo>
                  <a:lnTo>
                    <a:pt x="2592" y="1476"/>
                  </a:lnTo>
                  <a:lnTo>
                    <a:pt x="2611" y="1470"/>
                  </a:lnTo>
                  <a:lnTo>
                    <a:pt x="2631" y="1465"/>
                  </a:lnTo>
                  <a:lnTo>
                    <a:pt x="2651" y="1456"/>
                  </a:lnTo>
                  <a:lnTo>
                    <a:pt x="2670" y="1448"/>
                  </a:lnTo>
                  <a:lnTo>
                    <a:pt x="2689" y="1439"/>
                  </a:lnTo>
                  <a:lnTo>
                    <a:pt x="2709" y="1432"/>
                  </a:lnTo>
                  <a:lnTo>
                    <a:pt x="2701" y="1422"/>
                  </a:lnTo>
                  <a:lnTo>
                    <a:pt x="2689" y="1418"/>
                  </a:lnTo>
                  <a:lnTo>
                    <a:pt x="2677" y="1413"/>
                  </a:lnTo>
                  <a:lnTo>
                    <a:pt x="2665" y="1412"/>
                  </a:lnTo>
                  <a:lnTo>
                    <a:pt x="2654" y="1408"/>
                  </a:lnTo>
                  <a:lnTo>
                    <a:pt x="2647" y="1404"/>
                  </a:lnTo>
                  <a:lnTo>
                    <a:pt x="2645" y="1394"/>
                  </a:lnTo>
                  <a:lnTo>
                    <a:pt x="2651" y="1382"/>
                  </a:lnTo>
                  <a:lnTo>
                    <a:pt x="2656" y="1376"/>
                  </a:lnTo>
                  <a:lnTo>
                    <a:pt x="2662" y="1372"/>
                  </a:lnTo>
                  <a:lnTo>
                    <a:pt x="2669" y="1369"/>
                  </a:lnTo>
                  <a:lnTo>
                    <a:pt x="2676" y="1366"/>
                  </a:lnTo>
                  <a:lnTo>
                    <a:pt x="2681" y="1361"/>
                  </a:lnTo>
                  <a:lnTo>
                    <a:pt x="2688" y="1357"/>
                  </a:lnTo>
                  <a:lnTo>
                    <a:pt x="2693" y="1353"/>
                  </a:lnTo>
                  <a:lnTo>
                    <a:pt x="2698" y="1349"/>
                  </a:lnTo>
                  <a:lnTo>
                    <a:pt x="2692" y="1346"/>
                  </a:lnTo>
                  <a:lnTo>
                    <a:pt x="2687" y="1346"/>
                  </a:lnTo>
                  <a:lnTo>
                    <a:pt x="2680" y="1346"/>
                  </a:lnTo>
                  <a:lnTo>
                    <a:pt x="2675" y="1347"/>
                  </a:lnTo>
                  <a:lnTo>
                    <a:pt x="2669" y="1349"/>
                  </a:lnTo>
                  <a:lnTo>
                    <a:pt x="2662" y="1351"/>
                  </a:lnTo>
                  <a:lnTo>
                    <a:pt x="2656" y="1353"/>
                  </a:lnTo>
                  <a:lnTo>
                    <a:pt x="2651" y="1356"/>
                  </a:lnTo>
                  <a:lnTo>
                    <a:pt x="2631" y="1358"/>
                  </a:lnTo>
                  <a:lnTo>
                    <a:pt x="2614" y="1362"/>
                  </a:lnTo>
                  <a:lnTo>
                    <a:pt x="2597" y="1368"/>
                  </a:lnTo>
                  <a:lnTo>
                    <a:pt x="2581" y="1374"/>
                  </a:lnTo>
                  <a:lnTo>
                    <a:pt x="2564" y="1378"/>
                  </a:lnTo>
                  <a:lnTo>
                    <a:pt x="2547" y="1384"/>
                  </a:lnTo>
                  <a:lnTo>
                    <a:pt x="2529" y="1387"/>
                  </a:lnTo>
                  <a:lnTo>
                    <a:pt x="2511" y="1389"/>
                  </a:lnTo>
                  <a:lnTo>
                    <a:pt x="2514" y="1378"/>
                  </a:lnTo>
                  <a:lnTo>
                    <a:pt x="2519" y="1382"/>
                  </a:lnTo>
                  <a:lnTo>
                    <a:pt x="2524" y="1382"/>
                  </a:lnTo>
                  <a:lnTo>
                    <a:pt x="2528" y="1378"/>
                  </a:lnTo>
                  <a:lnTo>
                    <a:pt x="2532" y="1376"/>
                  </a:lnTo>
                  <a:lnTo>
                    <a:pt x="2539" y="1368"/>
                  </a:lnTo>
                  <a:lnTo>
                    <a:pt x="2549" y="1363"/>
                  </a:lnTo>
                  <a:lnTo>
                    <a:pt x="2608" y="1330"/>
                  </a:lnTo>
                  <a:lnTo>
                    <a:pt x="2607" y="1338"/>
                  </a:lnTo>
                  <a:lnTo>
                    <a:pt x="2609" y="1344"/>
                  </a:lnTo>
                  <a:lnTo>
                    <a:pt x="2612" y="1350"/>
                  </a:lnTo>
                  <a:lnTo>
                    <a:pt x="2617" y="1356"/>
                  </a:lnTo>
                  <a:lnTo>
                    <a:pt x="2631" y="1350"/>
                  </a:lnTo>
                  <a:lnTo>
                    <a:pt x="2645" y="1344"/>
                  </a:lnTo>
                  <a:lnTo>
                    <a:pt x="2659" y="1338"/>
                  </a:lnTo>
                  <a:lnTo>
                    <a:pt x="2674" y="1333"/>
                  </a:lnTo>
                  <a:lnTo>
                    <a:pt x="2688" y="1326"/>
                  </a:lnTo>
                  <a:lnTo>
                    <a:pt x="2703" y="1320"/>
                  </a:lnTo>
                  <a:lnTo>
                    <a:pt x="2717" y="1313"/>
                  </a:lnTo>
                  <a:lnTo>
                    <a:pt x="2731" y="1308"/>
                  </a:lnTo>
                  <a:lnTo>
                    <a:pt x="2705" y="1305"/>
                  </a:lnTo>
                  <a:lnTo>
                    <a:pt x="2679" y="1305"/>
                  </a:lnTo>
                  <a:lnTo>
                    <a:pt x="2654" y="1304"/>
                  </a:lnTo>
                  <a:lnTo>
                    <a:pt x="2628" y="1305"/>
                  </a:lnTo>
                  <a:lnTo>
                    <a:pt x="2603" y="1303"/>
                  </a:lnTo>
                  <a:lnTo>
                    <a:pt x="2577" y="1302"/>
                  </a:lnTo>
                  <a:lnTo>
                    <a:pt x="2551" y="1297"/>
                  </a:lnTo>
                  <a:lnTo>
                    <a:pt x="2527" y="1292"/>
                  </a:lnTo>
                  <a:lnTo>
                    <a:pt x="2517" y="1288"/>
                  </a:lnTo>
                  <a:lnTo>
                    <a:pt x="2512" y="1282"/>
                  </a:lnTo>
                  <a:lnTo>
                    <a:pt x="2508" y="1276"/>
                  </a:lnTo>
                  <a:lnTo>
                    <a:pt x="2507" y="1270"/>
                  </a:lnTo>
                  <a:lnTo>
                    <a:pt x="2506" y="1261"/>
                  </a:lnTo>
                  <a:lnTo>
                    <a:pt x="2506" y="1254"/>
                  </a:lnTo>
                  <a:lnTo>
                    <a:pt x="2506" y="1245"/>
                  </a:lnTo>
                  <a:lnTo>
                    <a:pt x="2507" y="1237"/>
                  </a:lnTo>
                  <a:lnTo>
                    <a:pt x="2514" y="1228"/>
                  </a:lnTo>
                  <a:lnTo>
                    <a:pt x="2523" y="1222"/>
                  </a:lnTo>
                  <a:lnTo>
                    <a:pt x="2532" y="1215"/>
                  </a:lnTo>
                  <a:lnTo>
                    <a:pt x="2542" y="1211"/>
                  </a:lnTo>
                  <a:lnTo>
                    <a:pt x="2551" y="1206"/>
                  </a:lnTo>
                  <a:lnTo>
                    <a:pt x="2561" y="1203"/>
                  </a:lnTo>
                  <a:lnTo>
                    <a:pt x="2571" y="1198"/>
                  </a:lnTo>
                  <a:lnTo>
                    <a:pt x="2580" y="1194"/>
                  </a:lnTo>
                  <a:lnTo>
                    <a:pt x="2576" y="1186"/>
                  </a:lnTo>
                  <a:lnTo>
                    <a:pt x="2576" y="1177"/>
                  </a:lnTo>
                  <a:lnTo>
                    <a:pt x="2577" y="1166"/>
                  </a:lnTo>
                  <a:lnTo>
                    <a:pt x="2582" y="1159"/>
                  </a:lnTo>
                  <a:lnTo>
                    <a:pt x="2589" y="1150"/>
                  </a:lnTo>
                  <a:lnTo>
                    <a:pt x="2597" y="1144"/>
                  </a:lnTo>
                  <a:lnTo>
                    <a:pt x="2606" y="1138"/>
                  </a:lnTo>
                  <a:lnTo>
                    <a:pt x="2615" y="1131"/>
                  </a:lnTo>
                  <a:lnTo>
                    <a:pt x="2622" y="1123"/>
                  </a:lnTo>
                  <a:lnTo>
                    <a:pt x="2629" y="1115"/>
                  </a:lnTo>
                  <a:lnTo>
                    <a:pt x="2633" y="1105"/>
                  </a:lnTo>
                  <a:lnTo>
                    <a:pt x="2636" y="1095"/>
                  </a:lnTo>
                  <a:lnTo>
                    <a:pt x="2641" y="1091"/>
                  </a:lnTo>
                  <a:lnTo>
                    <a:pt x="2648" y="1088"/>
                  </a:lnTo>
                  <a:lnTo>
                    <a:pt x="2655" y="1084"/>
                  </a:lnTo>
                  <a:lnTo>
                    <a:pt x="2662" y="1083"/>
                  </a:lnTo>
                  <a:lnTo>
                    <a:pt x="2668" y="1079"/>
                  </a:lnTo>
                  <a:lnTo>
                    <a:pt x="2674" y="1076"/>
                  </a:lnTo>
                  <a:lnTo>
                    <a:pt x="2678" y="1069"/>
                  </a:lnTo>
                  <a:lnTo>
                    <a:pt x="2681" y="1062"/>
                  </a:lnTo>
                  <a:lnTo>
                    <a:pt x="2690" y="1028"/>
                  </a:lnTo>
                  <a:lnTo>
                    <a:pt x="2702" y="996"/>
                  </a:lnTo>
                  <a:lnTo>
                    <a:pt x="2713" y="963"/>
                  </a:lnTo>
                  <a:lnTo>
                    <a:pt x="2725" y="930"/>
                  </a:lnTo>
                  <a:lnTo>
                    <a:pt x="2734" y="895"/>
                  </a:lnTo>
                  <a:lnTo>
                    <a:pt x="2741" y="861"/>
                  </a:lnTo>
                  <a:lnTo>
                    <a:pt x="2744" y="825"/>
                  </a:lnTo>
                  <a:lnTo>
                    <a:pt x="2744" y="789"/>
                  </a:lnTo>
                  <a:lnTo>
                    <a:pt x="2738" y="797"/>
                  </a:lnTo>
                  <a:lnTo>
                    <a:pt x="2733" y="802"/>
                  </a:lnTo>
                  <a:lnTo>
                    <a:pt x="2725" y="803"/>
                  </a:lnTo>
                  <a:lnTo>
                    <a:pt x="2719" y="805"/>
                  </a:lnTo>
                  <a:lnTo>
                    <a:pt x="2711" y="805"/>
                  </a:lnTo>
                  <a:lnTo>
                    <a:pt x="2705" y="808"/>
                  </a:lnTo>
                  <a:lnTo>
                    <a:pt x="2698" y="813"/>
                  </a:lnTo>
                  <a:lnTo>
                    <a:pt x="2696" y="822"/>
                  </a:lnTo>
                  <a:lnTo>
                    <a:pt x="2689" y="822"/>
                  </a:lnTo>
                  <a:lnTo>
                    <a:pt x="2682" y="825"/>
                  </a:lnTo>
                  <a:lnTo>
                    <a:pt x="2676" y="829"/>
                  </a:lnTo>
                  <a:lnTo>
                    <a:pt x="2671" y="835"/>
                  </a:lnTo>
                  <a:lnTo>
                    <a:pt x="2664" y="839"/>
                  </a:lnTo>
                  <a:lnTo>
                    <a:pt x="2660" y="846"/>
                  </a:lnTo>
                  <a:lnTo>
                    <a:pt x="2655" y="851"/>
                  </a:lnTo>
                  <a:lnTo>
                    <a:pt x="2651" y="857"/>
                  </a:lnTo>
                  <a:lnTo>
                    <a:pt x="2646" y="874"/>
                  </a:lnTo>
                  <a:lnTo>
                    <a:pt x="2643" y="893"/>
                  </a:lnTo>
                  <a:lnTo>
                    <a:pt x="2637" y="909"/>
                  </a:lnTo>
                  <a:lnTo>
                    <a:pt x="2630" y="926"/>
                  </a:lnTo>
                  <a:lnTo>
                    <a:pt x="2622" y="941"/>
                  </a:lnTo>
                  <a:lnTo>
                    <a:pt x="2612" y="956"/>
                  </a:lnTo>
                  <a:lnTo>
                    <a:pt x="2601" y="971"/>
                  </a:lnTo>
                  <a:lnTo>
                    <a:pt x="2592" y="986"/>
                  </a:lnTo>
                  <a:lnTo>
                    <a:pt x="2590" y="995"/>
                  </a:lnTo>
                  <a:lnTo>
                    <a:pt x="2588" y="1003"/>
                  </a:lnTo>
                  <a:lnTo>
                    <a:pt x="2584" y="1011"/>
                  </a:lnTo>
                  <a:lnTo>
                    <a:pt x="2582" y="1019"/>
                  </a:lnTo>
                  <a:lnTo>
                    <a:pt x="2578" y="1027"/>
                  </a:lnTo>
                  <a:lnTo>
                    <a:pt x="2575" y="1035"/>
                  </a:lnTo>
                  <a:lnTo>
                    <a:pt x="2572" y="1043"/>
                  </a:lnTo>
                  <a:lnTo>
                    <a:pt x="2570" y="1052"/>
                  </a:lnTo>
                  <a:lnTo>
                    <a:pt x="2547" y="1042"/>
                  </a:lnTo>
                  <a:lnTo>
                    <a:pt x="2549" y="1032"/>
                  </a:lnTo>
                  <a:lnTo>
                    <a:pt x="2554" y="1023"/>
                  </a:lnTo>
                  <a:lnTo>
                    <a:pt x="2556" y="1014"/>
                  </a:lnTo>
                  <a:lnTo>
                    <a:pt x="2555" y="1007"/>
                  </a:lnTo>
                  <a:lnTo>
                    <a:pt x="2548" y="1013"/>
                  </a:lnTo>
                  <a:lnTo>
                    <a:pt x="2543" y="1020"/>
                  </a:lnTo>
                  <a:lnTo>
                    <a:pt x="2536" y="1028"/>
                  </a:lnTo>
                  <a:lnTo>
                    <a:pt x="2532" y="1037"/>
                  </a:lnTo>
                  <a:lnTo>
                    <a:pt x="2526" y="1046"/>
                  </a:lnTo>
                  <a:lnTo>
                    <a:pt x="2522" y="1056"/>
                  </a:lnTo>
                  <a:lnTo>
                    <a:pt x="2517" y="1065"/>
                  </a:lnTo>
                  <a:lnTo>
                    <a:pt x="2514" y="1075"/>
                  </a:lnTo>
                  <a:lnTo>
                    <a:pt x="2509" y="1078"/>
                  </a:lnTo>
                  <a:lnTo>
                    <a:pt x="2506" y="1084"/>
                  </a:lnTo>
                  <a:lnTo>
                    <a:pt x="2502" y="1090"/>
                  </a:lnTo>
                  <a:lnTo>
                    <a:pt x="2499" y="1095"/>
                  </a:lnTo>
                  <a:lnTo>
                    <a:pt x="2495" y="1099"/>
                  </a:lnTo>
                  <a:lnTo>
                    <a:pt x="2491" y="1104"/>
                  </a:lnTo>
                  <a:lnTo>
                    <a:pt x="2484" y="1106"/>
                  </a:lnTo>
                  <a:lnTo>
                    <a:pt x="2479" y="1106"/>
                  </a:lnTo>
                  <a:lnTo>
                    <a:pt x="2479" y="1095"/>
                  </a:lnTo>
                  <a:lnTo>
                    <a:pt x="2481" y="1085"/>
                  </a:lnTo>
                  <a:lnTo>
                    <a:pt x="2484" y="1075"/>
                  </a:lnTo>
                  <a:lnTo>
                    <a:pt x="2487" y="1065"/>
                  </a:lnTo>
                  <a:lnTo>
                    <a:pt x="2491" y="1055"/>
                  </a:lnTo>
                  <a:lnTo>
                    <a:pt x="2495" y="1045"/>
                  </a:lnTo>
                  <a:lnTo>
                    <a:pt x="2498" y="1034"/>
                  </a:lnTo>
                  <a:lnTo>
                    <a:pt x="2501" y="1025"/>
                  </a:lnTo>
                  <a:lnTo>
                    <a:pt x="2505" y="1016"/>
                  </a:lnTo>
                  <a:lnTo>
                    <a:pt x="2508" y="1009"/>
                  </a:lnTo>
                  <a:lnTo>
                    <a:pt x="2511" y="1001"/>
                  </a:lnTo>
                  <a:lnTo>
                    <a:pt x="2515" y="995"/>
                  </a:lnTo>
                  <a:lnTo>
                    <a:pt x="2517" y="986"/>
                  </a:lnTo>
                  <a:lnTo>
                    <a:pt x="2521" y="979"/>
                  </a:lnTo>
                  <a:lnTo>
                    <a:pt x="2524" y="971"/>
                  </a:lnTo>
                  <a:lnTo>
                    <a:pt x="2527" y="964"/>
                  </a:lnTo>
                  <a:lnTo>
                    <a:pt x="2530" y="958"/>
                  </a:lnTo>
                  <a:lnTo>
                    <a:pt x="2533" y="952"/>
                  </a:lnTo>
                  <a:lnTo>
                    <a:pt x="2535" y="947"/>
                  </a:lnTo>
                  <a:lnTo>
                    <a:pt x="2538" y="942"/>
                  </a:lnTo>
                  <a:lnTo>
                    <a:pt x="2539" y="935"/>
                  </a:lnTo>
                  <a:lnTo>
                    <a:pt x="2541" y="929"/>
                  </a:lnTo>
                  <a:lnTo>
                    <a:pt x="2543" y="923"/>
                  </a:lnTo>
                  <a:lnTo>
                    <a:pt x="2547" y="918"/>
                  </a:lnTo>
                  <a:lnTo>
                    <a:pt x="2544" y="910"/>
                  </a:lnTo>
                  <a:lnTo>
                    <a:pt x="2544" y="902"/>
                  </a:lnTo>
                  <a:lnTo>
                    <a:pt x="2545" y="895"/>
                  </a:lnTo>
                  <a:lnTo>
                    <a:pt x="2548" y="888"/>
                  </a:lnTo>
                  <a:lnTo>
                    <a:pt x="2550" y="881"/>
                  </a:lnTo>
                  <a:lnTo>
                    <a:pt x="2552" y="874"/>
                  </a:lnTo>
                  <a:lnTo>
                    <a:pt x="2551" y="868"/>
                  </a:lnTo>
                  <a:lnTo>
                    <a:pt x="2547" y="863"/>
                  </a:lnTo>
                  <a:lnTo>
                    <a:pt x="2538" y="884"/>
                  </a:lnTo>
                  <a:lnTo>
                    <a:pt x="2529" y="905"/>
                  </a:lnTo>
                  <a:lnTo>
                    <a:pt x="2521" y="928"/>
                  </a:lnTo>
                  <a:lnTo>
                    <a:pt x="2513" y="950"/>
                  </a:lnTo>
                  <a:lnTo>
                    <a:pt x="2503" y="971"/>
                  </a:lnTo>
                  <a:lnTo>
                    <a:pt x="2495" y="994"/>
                  </a:lnTo>
                  <a:lnTo>
                    <a:pt x="2483" y="1015"/>
                  </a:lnTo>
                  <a:lnTo>
                    <a:pt x="2470" y="1037"/>
                  </a:lnTo>
                  <a:lnTo>
                    <a:pt x="2466" y="1046"/>
                  </a:lnTo>
                  <a:lnTo>
                    <a:pt x="2463" y="1055"/>
                  </a:lnTo>
                  <a:lnTo>
                    <a:pt x="2459" y="1063"/>
                  </a:lnTo>
                  <a:lnTo>
                    <a:pt x="2456" y="1072"/>
                  </a:lnTo>
                  <a:lnTo>
                    <a:pt x="2451" y="1080"/>
                  </a:lnTo>
                  <a:lnTo>
                    <a:pt x="2447" y="1090"/>
                  </a:lnTo>
                  <a:lnTo>
                    <a:pt x="2444" y="1099"/>
                  </a:lnTo>
                  <a:lnTo>
                    <a:pt x="2443" y="1110"/>
                  </a:lnTo>
                  <a:lnTo>
                    <a:pt x="2437" y="1113"/>
                  </a:lnTo>
                  <a:lnTo>
                    <a:pt x="2433" y="1117"/>
                  </a:lnTo>
                  <a:lnTo>
                    <a:pt x="2428" y="1122"/>
                  </a:lnTo>
                  <a:lnTo>
                    <a:pt x="2426" y="1128"/>
                  </a:lnTo>
                  <a:lnTo>
                    <a:pt x="2420" y="1128"/>
                  </a:lnTo>
                  <a:lnTo>
                    <a:pt x="2415" y="1126"/>
                  </a:lnTo>
                  <a:lnTo>
                    <a:pt x="2415" y="1117"/>
                  </a:lnTo>
                  <a:lnTo>
                    <a:pt x="2417" y="1111"/>
                  </a:lnTo>
                  <a:lnTo>
                    <a:pt x="2419" y="1104"/>
                  </a:lnTo>
                  <a:lnTo>
                    <a:pt x="2422" y="1097"/>
                  </a:lnTo>
                  <a:lnTo>
                    <a:pt x="2424" y="1091"/>
                  </a:lnTo>
                  <a:lnTo>
                    <a:pt x="2426" y="1084"/>
                  </a:lnTo>
                  <a:lnTo>
                    <a:pt x="2425" y="1078"/>
                  </a:lnTo>
                  <a:lnTo>
                    <a:pt x="2422" y="1073"/>
                  </a:lnTo>
                  <a:lnTo>
                    <a:pt x="2417" y="1079"/>
                  </a:lnTo>
                  <a:lnTo>
                    <a:pt x="2413" y="1082"/>
                  </a:lnTo>
                  <a:lnTo>
                    <a:pt x="2406" y="1081"/>
                  </a:lnTo>
                  <a:lnTo>
                    <a:pt x="2400" y="1080"/>
                  </a:lnTo>
                  <a:lnTo>
                    <a:pt x="2393" y="1078"/>
                  </a:lnTo>
                  <a:lnTo>
                    <a:pt x="2386" y="1079"/>
                  </a:lnTo>
                  <a:lnTo>
                    <a:pt x="2382" y="1083"/>
                  </a:lnTo>
                  <a:lnTo>
                    <a:pt x="2380" y="1095"/>
                  </a:lnTo>
                  <a:lnTo>
                    <a:pt x="2372" y="1105"/>
                  </a:lnTo>
                  <a:lnTo>
                    <a:pt x="2366" y="1116"/>
                  </a:lnTo>
                  <a:lnTo>
                    <a:pt x="2360" y="1127"/>
                  </a:lnTo>
                  <a:lnTo>
                    <a:pt x="2354" y="1139"/>
                  </a:lnTo>
                  <a:lnTo>
                    <a:pt x="2347" y="1149"/>
                  </a:lnTo>
                  <a:lnTo>
                    <a:pt x="2340" y="1160"/>
                  </a:lnTo>
                  <a:lnTo>
                    <a:pt x="2332" y="1171"/>
                  </a:lnTo>
                  <a:lnTo>
                    <a:pt x="2324" y="1181"/>
                  </a:lnTo>
                  <a:lnTo>
                    <a:pt x="2322" y="1188"/>
                  </a:lnTo>
                  <a:lnTo>
                    <a:pt x="2322" y="1196"/>
                  </a:lnTo>
                  <a:lnTo>
                    <a:pt x="2319" y="1203"/>
                  </a:lnTo>
                  <a:lnTo>
                    <a:pt x="2314" y="1209"/>
                  </a:lnTo>
                  <a:lnTo>
                    <a:pt x="2312" y="1215"/>
                  </a:lnTo>
                  <a:lnTo>
                    <a:pt x="2310" y="1222"/>
                  </a:lnTo>
                  <a:lnTo>
                    <a:pt x="2306" y="1228"/>
                  </a:lnTo>
                  <a:lnTo>
                    <a:pt x="2304" y="1235"/>
                  </a:lnTo>
                  <a:lnTo>
                    <a:pt x="2300" y="1240"/>
                  </a:lnTo>
                  <a:lnTo>
                    <a:pt x="2297" y="1246"/>
                  </a:lnTo>
                  <a:lnTo>
                    <a:pt x="2294" y="1253"/>
                  </a:lnTo>
                  <a:lnTo>
                    <a:pt x="2291" y="1260"/>
                  </a:lnTo>
                  <a:lnTo>
                    <a:pt x="2281" y="1262"/>
                  </a:lnTo>
                  <a:lnTo>
                    <a:pt x="2271" y="1265"/>
                  </a:lnTo>
                  <a:lnTo>
                    <a:pt x="2262" y="1270"/>
                  </a:lnTo>
                  <a:lnTo>
                    <a:pt x="2252" y="1274"/>
                  </a:lnTo>
                  <a:lnTo>
                    <a:pt x="2241" y="1277"/>
                  </a:lnTo>
                  <a:lnTo>
                    <a:pt x="2232" y="1280"/>
                  </a:lnTo>
                  <a:lnTo>
                    <a:pt x="2222" y="1282"/>
                  </a:lnTo>
                  <a:lnTo>
                    <a:pt x="2213" y="1285"/>
                  </a:lnTo>
                  <a:lnTo>
                    <a:pt x="2222" y="1273"/>
                  </a:lnTo>
                  <a:lnTo>
                    <a:pt x="2233" y="1259"/>
                  </a:lnTo>
                  <a:lnTo>
                    <a:pt x="2240" y="1244"/>
                  </a:lnTo>
                  <a:lnTo>
                    <a:pt x="2250" y="1230"/>
                  </a:lnTo>
                  <a:lnTo>
                    <a:pt x="2258" y="1216"/>
                  </a:lnTo>
                  <a:lnTo>
                    <a:pt x="2269" y="1206"/>
                  </a:lnTo>
                  <a:lnTo>
                    <a:pt x="2282" y="1198"/>
                  </a:lnTo>
                  <a:lnTo>
                    <a:pt x="2299" y="1196"/>
                  </a:lnTo>
                  <a:lnTo>
                    <a:pt x="2307" y="1181"/>
                  </a:lnTo>
                  <a:lnTo>
                    <a:pt x="2316" y="1167"/>
                  </a:lnTo>
                  <a:lnTo>
                    <a:pt x="2322" y="1151"/>
                  </a:lnTo>
                  <a:lnTo>
                    <a:pt x="2329" y="1137"/>
                  </a:lnTo>
                  <a:lnTo>
                    <a:pt x="2333" y="1121"/>
                  </a:lnTo>
                  <a:lnTo>
                    <a:pt x="2338" y="1106"/>
                  </a:lnTo>
                  <a:lnTo>
                    <a:pt x="2343" y="1090"/>
                  </a:lnTo>
                  <a:lnTo>
                    <a:pt x="2349" y="1075"/>
                  </a:lnTo>
                  <a:lnTo>
                    <a:pt x="2353" y="1069"/>
                  </a:lnTo>
                  <a:lnTo>
                    <a:pt x="2356" y="1065"/>
                  </a:lnTo>
                  <a:lnTo>
                    <a:pt x="2356" y="1061"/>
                  </a:lnTo>
                  <a:lnTo>
                    <a:pt x="2354" y="1058"/>
                  </a:lnTo>
                  <a:lnTo>
                    <a:pt x="2348" y="1056"/>
                  </a:lnTo>
                  <a:lnTo>
                    <a:pt x="2341" y="1057"/>
                  </a:lnTo>
                  <a:lnTo>
                    <a:pt x="2334" y="1059"/>
                  </a:lnTo>
                  <a:lnTo>
                    <a:pt x="2328" y="1061"/>
                  </a:lnTo>
                  <a:lnTo>
                    <a:pt x="2320" y="1061"/>
                  </a:lnTo>
                  <a:lnTo>
                    <a:pt x="2313" y="1061"/>
                  </a:lnTo>
                  <a:lnTo>
                    <a:pt x="2306" y="1058"/>
                  </a:lnTo>
                  <a:lnTo>
                    <a:pt x="2301" y="1052"/>
                  </a:lnTo>
                  <a:lnTo>
                    <a:pt x="2297" y="1047"/>
                  </a:lnTo>
                  <a:lnTo>
                    <a:pt x="2292" y="1057"/>
                  </a:lnTo>
                  <a:lnTo>
                    <a:pt x="2287" y="1067"/>
                  </a:lnTo>
                  <a:lnTo>
                    <a:pt x="2281" y="1077"/>
                  </a:lnTo>
                  <a:lnTo>
                    <a:pt x="2275" y="1088"/>
                  </a:lnTo>
                  <a:lnTo>
                    <a:pt x="2269" y="1096"/>
                  </a:lnTo>
                  <a:lnTo>
                    <a:pt x="2263" y="1106"/>
                  </a:lnTo>
                  <a:lnTo>
                    <a:pt x="2256" y="1115"/>
                  </a:lnTo>
                  <a:lnTo>
                    <a:pt x="2253" y="1126"/>
                  </a:lnTo>
                  <a:lnTo>
                    <a:pt x="2258" y="1110"/>
                  </a:lnTo>
                  <a:lnTo>
                    <a:pt x="2263" y="1095"/>
                  </a:lnTo>
                  <a:lnTo>
                    <a:pt x="2266" y="1079"/>
                  </a:lnTo>
                  <a:lnTo>
                    <a:pt x="2269" y="1063"/>
                  </a:lnTo>
                  <a:lnTo>
                    <a:pt x="2272" y="1047"/>
                  </a:lnTo>
                  <a:lnTo>
                    <a:pt x="2275" y="1031"/>
                  </a:lnTo>
                  <a:lnTo>
                    <a:pt x="2281" y="1015"/>
                  </a:lnTo>
                  <a:lnTo>
                    <a:pt x="2288" y="1001"/>
                  </a:lnTo>
                  <a:lnTo>
                    <a:pt x="2298" y="966"/>
                  </a:lnTo>
                  <a:lnTo>
                    <a:pt x="2310" y="931"/>
                  </a:lnTo>
                  <a:lnTo>
                    <a:pt x="2321" y="896"/>
                  </a:lnTo>
                  <a:lnTo>
                    <a:pt x="2333" y="862"/>
                  </a:lnTo>
                  <a:lnTo>
                    <a:pt x="2344" y="825"/>
                  </a:lnTo>
                  <a:lnTo>
                    <a:pt x="2353" y="790"/>
                  </a:lnTo>
                  <a:lnTo>
                    <a:pt x="2361" y="753"/>
                  </a:lnTo>
                  <a:lnTo>
                    <a:pt x="2367" y="716"/>
                  </a:lnTo>
                  <a:lnTo>
                    <a:pt x="2360" y="708"/>
                  </a:lnTo>
                  <a:lnTo>
                    <a:pt x="2350" y="711"/>
                  </a:lnTo>
                  <a:lnTo>
                    <a:pt x="2345" y="718"/>
                  </a:lnTo>
                  <a:lnTo>
                    <a:pt x="2339" y="724"/>
                  </a:lnTo>
                  <a:lnTo>
                    <a:pt x="2337" y="733"/>
                  </a:lnTo>
                  <a:lnTo>
                    <a:pt x="2334" y="740"/>
                  </a:lnTo>
                  <a:lnTo>
                    <a:pt x="2331" y="749"/>
                  </a:lnTo>
                  <a:lnTo>
                    <a:pt x="2328" y="757"/>
                  </a:lnTo>
                  <a:lnTo>
                    <a:pt x="2324" y="766"/>
                  </a:lnTo>
                  <a:lnTo>
                    <a:pt x="2322" y="756"/>
                  </a:lnTo>
                  <a:lnTo>
                    <a:pt x="2317" y="751"/>
                  </a:lnTo>
                  <a:lnTo>
                    <a:pt x="2310" y="780"/>
                  </a:lnTo>
                  <a:lnTo>
                    <a:pt x="2302" y="809"/>
                  </a:lnTo>
                  <a:lnTo>
                    <a:pt x="2294" y="839"/>
                  </a:lnTo>
                  <a:lnTo>
                    <a:pt x="2285" y="869"/>
                  </a:lnTo>
                  <a:lnTo>
                    <a:pt x="2275" y="898"/>
                  </a:lnTo>
                  <a:lnTo>
                    <a:pt x="2266" y="927"/>
                  </a:lnTo>
                  <a:lnTo>
                    <a:pt x="2256" y="956"/>
                  </a:lnTo>
                  <a:lnTo>
                    <a:pt x="2248" y="986"/>
                  </a:lnTo>
                  <a:lnTo>
                    <a:pt x="2241" y="996"/>
                  </a:lnTo>
                  <a:lnTo>
                    <a:pt x="2237" y="1008"/>
                  </a:lnTo>
                  <a:lnTo>
                    <a:pt x="2233" y="1018"/>
                  </a:lnTo>
                  <a:lnTo>
                    <a:pt x="2230" y="1031"/>
                  </a:lnTo>
                  <a:lnTo>
                    <a:pt x="2225" y="1043"/>
                  </a:lnTo>
                  <a:lnTo>
                    <a:pt x="2221" y="1055"/>
                  </a:lnTo>
                  <a:lnTo>
                    <a:pt x="2216" y="1066"/>
                  </a:lnTo>
                  <a:lnTo>
                    <a:pt x="2210" y="1078"/>
                  </a:lnTo>
                  <a:lnTo>
                    <a:pt x="2207" y="1089"/>
                  </a:lnTo>
                  <a:lnTo>
                    <a:pt x="2204" y="1100"/>
                  </a:lnTo>
                  <a:lnTo>
                    <a:pt x="2201" y="1111"/>
                  </a:lnTo>
                  <a:lnTo>
                    <a:pt x="2198" y="1124"/>
                  </a:lnTo>
                  <a:lnTo>
                    <a:pt x="2193" y="1134"/>
                  </a:lnTo>
                  <a:lnTo>
                    <a:pt x="2189" y="1145"/>
                  </a:lnTo>
                  <a:lnTo>
                    <a:pt x="2184" y="1156"/>
                  </a:lnTo>
                  <a:lnTo>
                    <a:pt x="2180" y="1166"/>
                  </a:lnTo>
                  <a:lnTo>
                    <a:pt x="2167" y="1166"/>
                  </a:lnTo>
                  <a:lnTo>
                    <a:pt x="2175" y="1102"/>
                  </a:lnTo>
                  <a:lnTo>
                    <a:pt x="2171" y="1099"/>
                  </a:lnTo>
                  <a:lnTo>
                    <a:pt x="2168" y="1097"/>
                  </a:lnTo>
                  <a:lnTo>
                    <a:pt x="2162" y="1094"/>
                  </a:lnTo>
                  <a:lnTo>
                    <a:pt x="2159" y="1090"/>
                  </a:lnTo>
                  <a:lnTo>
                    <a:pt x="2153" y="1095"/>
                  </a:lnTo>
                  <a:lnTo>
                    <a:pt x="2149" y="1102"/>
                  </a:lnTo>
                  <a:lnTo>
                    <a:pt x="2145" y="1110"/>
                  </a:lnTo>
                  <a:lnTo>
                    <a:pt x="2142" y="1118"/>
                  </a:lnTo>
                  <a:lnTo>
                    <a:pt x="2139" y="1126"/>
                  </a:lnTo>
                  <a:lnTo>
                    <a:pt x="2136" y="1134"/>
                  </a:lnTo>
                  <a:lnTo>
                    <a:pt x="2133" y="1142"/>
                  </a:lnTo>
                  <a:lnTo>
                    <a:pt x="2129" y="1150"/>
                  </a:lnTo>
                  <a:lnTo>
                    <a:pt x="2086" y="1252"/>
                  </a:lnTo>
                  <a:lnTo>
                    <a:pt x="2076" y="1249"/>
                  </a:lnTo>
                  <a:lnTo>
                    <a:pt x="2071" y="1244"/>
                  </a:lnTo>
                  <a:lnTo>
                    <a:pt x="2075" y="1206"/>
                  </a:lnTo>
                  <a:lnTo>
                    <a:pt x="2088" y="1171"/>
                  </a:lnTo>
                  <a:lnTo>
                    <a:pt x="2105" y="1138"/>
                  </a:lnTo>
                  <a:lnTo>
                    <a:pt x="2126" y="1106"/>
                  </a:lnTo>
                  <a:lnTo>
                    <a:pt x="2144" y="1073"/>
                  </a:lnTo>
                  <a:lnTo>
                    <a:pt x="2161" y="1041"/>
                  </a:lnTo>
                  <a:lnTo>
                    <a:pt x="2171" y="1005"/>
                  </a:lnTo>
                  <a:lnTo>
                    <a:pt x="2172" y="968"/>
                  </a:lnTo>
                  <a:lnTo>
                    <a:pt x="2165" y="969"/>
                  </a:lnTo>
                  <a:lnTo>
                    <a:pt x="2160" y="972"/>
                  </a:lnTo>
                  <a:lnTo>
                    <a:pt x="2157" y="977"/>
                  </a:lnTo>
                  <a:lnTo>
                    <a:pt x="2155" y="982"/>
                  </a:lnTo>
                  <a:lnTo>
                    <a:pt x="2151" y="992"/>
                  </a:lnTo>
                  <a:lnTo>
                    <a:pt x="2144" y="1001"/>
                  </a:lnTo>
                  <a:lnTo>
                    <a:pt x="2134" y="1030"/>
                  </a:lnTo>
                  <a:lnTo>
                    <a:pt x="2122" y="1059"/>
                  </a:lnTo>
                  <a:lnTo>
                    <a:pt x="2109" y="1086"/>
                  </a:lnTo>
                  <a:lnTo>
                    <a:pt x="2097" y="1114"/>
                  </a:lnTo>
                  <a:lnTo>
                    <a:pt x="2084" y="1141"/>
                  </a:lnTo>
                  <a:lnTo>
                    <a:pt x="2070" y="1167"/>
                  </a:lnTo>
                  <a:lnTo>
                    <a:pt x="2055" y="1194"/>
                  </a:lnTo>
                  <a:lnTo>
                    <a:pt x="2041" y="1222"/>
                  </a:lnTo>
                  <a:lnTo>
                    <a:pt x="2034" y="1221"/>
                  </a:lnTo>
                  <a:lnTo>
                    <a:pt x="2030" y="1216"/>
                  </a:lnTo>
                  <a:lnTo>
                    <a:pt x="2032" y="1200"/>
                  </a:lnTo>
                  <a:lnTo>
                    <a:pt x="2036" y="1186"/>
                  </a:lnTo>
                  <a:lnTo>
                    <a:pt x="2040" y="1171"/>
                  </a:lnTo>
                  <a:lnTo>
                    <a:pt x="2044" y="1156"/>
                  </a:lnTo>
                  <a:lnTo>
                    <a:pt x="2048" y="1140"/>
                  </a:lnTo>
                  <a:lnTo>
                    <a:pt x="2054" y="1126"/>
                  </a:lnTo>
                  <a:lnTo>
                    <a:pt x="2058" y="1111"/>
                  </a:lnTo>
                  <a:lnTo>
                    <a:pt x="2063" y="1098"/>
                  </a:lnTo>
                  <a:lnTo>
                    <a:pt x="2058" y="1090"/>
                  </a:lnTo>
                  <a:lnTo>
                    <a:pt x="2041" y="1115"/>
                  </a:lnTo>
                  <a:lnTo>
                    <a:pt x="2026" y="1142"/>
                  </a:lnTo>
                  <a:lnTo>
                    <a:pt x="2011" y="1168"/>
                  </a:lnTo>
                  <a:lnTo>
                    <a:pt x="1997" y="1196"/>
                  </a:lnTo>
                  <a:lnTo>
                    <a:pt x="1981" y="1223"/>
                  </a:lnTo>
                  <a:lnTo>
                    <a:pt x="1966" y="1249"/>
                  </a:lnTo>
                  <a:lnTo>
                    <a:pt x="1949" y="1275"/>
                  </a:lnTo>
                  <a:lnTo>
                    <a:pt x="1932" y="1301"/>
                  </a:lnTo>
                  <a:lnTo>
                    <a:pt x="1925" y="1295"/>
                  </a:lnTo>
                  <a:lnTo>
                    <a:pt x="1918" y="1290"/>
                  </a:lnTo>
                  <a:lnTo>
                    <a:pt x="1912" y="1282"/>
                  </a:lnTo>
                  <a:lnTo>
                    <a:pt x="1907" y="1277"/>
                  </a:lnTo>
                  <a:lnTo>
                    <a:pt x="1916" y="1254"/>
                  </a:lnTo>
                  <a:lnTo>
                    <a:pt x="1930" y="1232"/>
                  </a:lnTo>
                  <a:lnTo>
                    <a:pt x="1943" y="1211"/>
                  </a:lnTo>
                  <a:lnTo>
                    <a:pt x="1958" y="1191"/>
                  </a:lnTo>
                  <a:lnTo>
                    <a:pt x="1971" y="1168"/>
                  </a:lnTo>
                  <a:lnTo>
                    <a:pt x="1985" y="1147"/>
                  </a:lnTo>
                  <a:lnTo>
                    <a:pt x="1994" y="1125"/>
                  </a:lnTo>
                  <a:lnTo>
                    <a:pt x="2003" y="1102"/>
                  </a:lnTo>
                  <a:lnTo>
                    <a:pt x="1993" y="1095"/>
                  </a:lnTo>
                  <a:lnTo>
                    <a:pt x="1983" y="1093"/>
                  </a:lnTo>
                  <a:lnTo>
                    <a:pt x="1978" y="1092"/>
                  </a:lnTo>
                  <a:lnTo>
                    <a:pt x="1974" y="1094"/>
                  </a:lnTo>
                  <a:lnTo>
                    <a:pt x="1970" y="1098"/>
                  </a:lnTo>
                  <a:lnTo>
                    <a:pt x="1967" y="1106"/>
                  </a:lnTo>
                  <a:lnTo>
                    <a:pt x="1963" y="1118"/>
                  </a:lnTo>
                  <a:lnTo>
                    <a:pt x="1958" y="1131"/>
                  </a:lnTo>
                  <a:lnTo>
                    <a:pt x="1951" y="1143"/>
                  </a:lnTo>
                  <a:lnTo>
                    <a:pt x="1945" y="1156"/>
                  </a:lnTo>
                  <a:lnTo>
                    <a:pt x="1938" y="1167"/>
                  </a:lnTo>
                  <a:lnTo>
                    <a:pt x="1930" y="1180"/>
                  </a:lnTo>
                  <a:lnTo>
                    <a:pt x="1924" y="1193"/>
                  </a:lnTo>
                  <a:lnTo>
                    <a:pt x="1920" y="1207"/>
                  </a:lnTo>
                  <a:lnTo>
                    <a:pt x="1907" y="1209"/>
                  </a:lnTo>
                  <a:lnTo>
                    <a:pt x="1901" y="1198"/>
                  </a:lnTo>
                  <a:lnTo>
                    <a:pt x="1902" y="1189"/>
                  </a:lnTo>
                  <a:lnTo>
                    <a:pt x="1906" y="1178"/>
                  </a:lnTo>
                  <a:lnTo>
                    <a:pt x="1910" y="1168"/>
                  </a:lnTo>
                  <a:lnTo>
                    <a:pt x="1912" y="1159"/>
                  </a:lnTo>
                  <a:lnTo>
                    <a:pt x="1911" y="1153"/>
                  </a:lnTo>
                  <a:lnTo>
                    <a:pt x="1904" y="1149"/>
                  </a:lnTo>
                  <a:lnTo>
                    <a:pt x="1889" y="1150"/>
                  </a:lnTo>
                  <a:lnTo>
                    <a:pt x="1880" y="1160"/>
                  </a:lnTo>
                  <a:lnTo>
                    <a:pt x="1874" y="1172"/>
                  </a:lnTo>
                  <a:lnTo>
                    <a:pt x="1866" y="1182"/>
                  </a:lnTo>
                  <a:lnTo>
                    <a:pt x="1860" y="1194"/>
                  </a:lnTo>
                  <a:lnTo>
                    <a:pt x="1852" y="1205"/>
                  </a:lnTo>
                  <a:lnTo>
                    <a:pt x="1846" y="1215"/>
                  </a:lnTo>
                  <a:lnTo>
                    <a:pt x="1839" y="1226"/>
                  </a:lnTo>
                  <a:lnTo>
                    <a:pt x="1831" y="1237"/>
                  </a:lnTo>
                  <a:lnTo>
                    <a:pt x="1833" y="1213"/>
                  </a:lnTo>
                  <a:lnTo>
                    <a:pt x="1840" y="1193"/>
                  </a:lnTo>
                  <a:lnTo>
                    <a:pt x="1847" y="1174"/>
                  </a:lnTo>
                  <a:lnTo>
                    <a:pt x="1858" y="1156"/>
                  </a:lnTo>
                  <a:lnTo>
                    <a:pt x="1866" y="1137"/>
                  </a:lnTo>
                  <a:lnTo>
                    <a:pt x="1876" y="1118"/>
                  </a:lnTo>
                  <a:lnTo>
                    <a:pt x="1883" y="1098"/>
                  </a:lnTo>
                  <a:lnTo>
                    <a:pt x="1889" y="1078"/>
                  </a:lnTo>
                  <a:lnTo>
                    <a:pt x="1885" y="1073"/>
                  </a:lnTo>
                  <a:lnTo>
                    <a:pt x="1882" y="1070"/>
                  </a:lnTo>
                  <a:lnTo>
                    <a:pt x="1879" y="1069"/>
                  </a:lnTo>
                  <a:lnTo>
                    <a:pt x="1877" y="1072"/>
                  </a:lnTo>
                  <a:lnTo>
                    <a:pt x="1869" y="1075"/>
                  </a:lnTo>
                  <a:lnTo>
                    <a:pt x="1863" y="1078"/>
                  </a:lnTo>
                  <a:lnTo>
                    <a:pt x="1852" y="1091"/>
                  </a:lnTo>
                  <a:lnTo>
                    <a:pt x="1843" y="1104"/>
                  </a:lnTo>
                  <a:lnTo>
                    <a:pt x="1833" y="1116"/>
                  </a:lnTo>
                  <a:lnTo>
                    <a:pt x="1824" y="1130"/>
                  </a:lnTo>
                  <a:lnTo>
                    <a:pt x="1814" y="1143"/>
                  </a:lnTo>
                  <a:lnTo>
                    <a:pt x="1804" y="1156"/>
                  </a:lnTo>
                  <a:lnTo>
                    <a:pt x="1793" y="1167"/>
                  </a:lnTo>
                  <a:lnTo>
                    <a:pt x="1782" y="1179"/>
                  </a:lnTo>
                  <a:lnTo>
                    <a:pt x="1798" y="1142"/>
                  </a:lnTo>
                  <a:lnTo>
                    <a:pt x="1816" y="1106"/>
                  </a:lnTo>
                  <a:lnTo>
                    <a:pt x="1832" y="1068"/>
                  </a:lnTo>
                  <a:lnTo>
                    <a:pt x="1848" y="1032"/>
                  </a:lnTo>
                  <a:lnTo>
                    <a:pt x="1861" y="993"/>
                  </a:lnTo>
                  <a:lnTo>
                    <a:pt x="1872" y="953"/>
                  </a:lnTo>
                  <a:lnTo>
                    <a:pt x="1879" y="913"/>
                  </a:lnTo>
                  <a:lnTo>
                    <a:pt x="1883" y="872"/>
                  </a:lnTo>
                  <a:lnTo>
                    <a:pt x="1885" y="847"/>
                  </a:lnTo>
                  <a:lnTo>
                    <a:pt x="1891" y="823"/>
                  </a:lnTo>
                  <a:lnTo>
                    <a:pt x="1896" y="800"/>
                  </a:lnTo>
                  <a:lnTo>
                    <a:pt x="1902" y="778"/>
                  </a:lnTo>
                  <a:lnTo>
                    <a:pt x="1908" y="754"/>
                  </a:lnTo>
                  <a:lnTo>
                    <a:pt x="1914" y="732"/>
                  </a:lnTo>
                  <a:lnTo>
                    <a:pt x="1917" y="707"/>
                  </a:lnTo>
                  <a:lnTo>
                    <a:pt x="1920" y="683"/>
                  </a:lnTo>
                  <a:lnTo>
                    <a:pt x="1914" y="675"/>
                  </a:lnTo>
                  <a:lnTo>
                    <a:pt x="1909" y="673"/>
                  </a:lnTo>
                  <a:lnTo>
                    <a:pt x="1899" y="704"/>
                  </a:lnTo>
                  <a:lnTo>
                    <a:pt x="1890" y="735"/>
                  </a:lnTo>
                  <a:lnTo>
                    <a:pt x="1881" y="766"/>
                  </a:lnTo>
                  <a:lnTo>
                    <a:pt x="1874" y="798"/>
                  </a:lnTo>
                  <a:lnTo>
                    <a:pt x="1865" y="829"/>
                  </a:lnTo>
                  <a:lnTo>
                    <a:pt x="1859" y="861"/>
                  </a:lnTo>
                  <a:lnTo>
                    <a:pt x="1852" y="893"/>
                  </a:lnTo>
                  <a:lnTo>
                    <a:pt x="1846" y="926"/>
                  </a:lnTo>
                  <a:lnTo>
                    <a:pt x="1850" y="930"/>
                  </a:lnTo>
                  <a:lnTo>
                    <a:pt x="1859" y="931"/>
                  </a:lnTo>
                  <a:lnTo>
                    <a:pt x="1846" y="944"/>
                  </a:lnTo>
                  <a:lnTo>
                    <a:pt x="1836" y="960"/>
                  </a:lnTo>
                  <a:lnTo>
                    <a:pt x="1828" y="975"/>
                  </a:lnTo>
                  <a:lnTo>
                    <a:pt x="1820" y="992"/>
                  </a:lnTo>
                  <a:lnTo>
                    <a:pt x="1811" y="1007"/>
                  </a:lnTo>
                  <a:lnTo>
                    <a:pt x="1801" y="1023"/>
                  </a:lnTo>
                  <a:lnTo>
                    <a:pt x="1788" y="1035"/>
                  </a:lnTo>
                  <a:lnTo>
                    <a:pt x="1772" y="1047"/>
                  </a:lnTo>
                  <a:lnTo>
                    <a:pt x="1763" y="1065"/>
                  </a:lnTo>
                  <a:lnTo>
                    <a:pt x="1752" y="1082"/>
                  </a:lnTo>
                  <a:lnTo>
                    <a:pt x="1741" y="1099"/>
                  </a:lnTo>
                  <a:lnTo>
                    <a:pt x="1731" y="1117"/>
                  </a:lnTo>
                  <a:lnTo>
                    <a:pt x="1721" y="1134"/>
                  </a:lnTo>
                  <a:lnTo>
                    <a:pt x="1715" y="1153"/>
                  </a:lnTo>
                  <a:lnTo>
                    <a:pt x="1713" y="1172"/>
                  </a:lnTo>
                  <a:lnTo>
                    <a:pt x="1717" y="1194"/>
                  </a:lnTo>
                  <a:lnTo>
                    <a:pt x="1739" y="1216"/>
                  </a:lnTo>
                  <a:lnTo>
                    <a:pt x="1731" y="1229"/>
                  </a:lnTo>
                  <a:lnTo>
                    <a:pt x="1723" y="1242"/>
                  </a:lnTo>
                  <a:lnTo>
                    <a:pt x="1716" y="1256"/>
                  </a:lnTo>
                  <a:lnTo>
                    <a:pt x="1710" y="1271"/>
                  </a:lnTo>
                  <a:lnTo>
                    <a:pt x="1701" y="1284"/>
                  </a:lnTo>
                  <a:lnTo>
                    <a:pt x="1694" y="1297"/>
                  </a:lnTo>
                  <a:lnTo>
                    <a:pt x="1686" y="1311"/>
                  </a:lnTo>
                  <a:lnTo>
                    <a:pt x="1679" y="1325"/>
                  </a:lnTo>
                  <a:lnTo>
                    <a:pt x="1670" y="1319"/>
                  </a:lnTo>
                  <a:lnTo>
                    <a:pt x="1667" y="1312"/>
                  </a:lnTo>
                  <a:lnTo>
                    <a:pt x="1666" y="1304"/>
                  </a:lnTo>
                  <a:lnTo>
                    <a:pt x="1669" y="1295"/>
                  </a:lnTo>
                  <a:lnTo>
                    <a:pt x="1672" y="1286"/>
                  </a:lnTo>
                  <a:lnTo>
                    <a:pt x="1677" y="1277"/>
                  </a:lnTo>
                  <a:lnTo>
                    <a:pt x="1679" y="1268"/>
                  </a:lnTo>
                  <a:lnTo>
                    <a:pt x="1681" y="1260"/>
                  </a:lnTo>
                  <a:lnTo>
                    <a:pt x="1685" y="1248"/>
                  </a:lnTo>
                  <a:lnTo>
                    <a:pt x="1689" y="1238"/>
                  </a:lnTo>
                  <a:lnTo>
                    <a:pt x="1694" y="1226"/>
                  </a:lnTo>
                  <a:lnTo>
                    <a:pt x="1698" y="1215"/>
                  </a:lnTo>
                  <a:lnTo>
                    <a:pt x="1700" y="1204"/>
                  </a:lnTo>
                  <a:lnTo>
                    <a:pt x="1702" y="1193"/>
                  </a:lnTo>
                  <a:lnTo>
                    <a:pt x="1703" y="1181"/>
                  </a:lnTo>
                  <a:lnTo>
                    <a:pt x="1704" y="1171"/>
                  </a:lnTo>
                  <a:lnTo>
                    <a:pt x="1683" y="1173"/>
                  </a:lnTo>
                  <a:lnTo>
                    <a:pt x="1671" y="1170"/>
                  </a:lnTo>
                  <a:lnTo>
                    <a:pt x="1665" y="1160"/>
                  </a:lnTo>
                  <a:lnTo>
                    <a:pt x="1665" y="1147"/>
                  </a:lnTo>
                  <a:lnTo>
                    <a:pt x="1666" y="1131"/>
                  </a:lnTo>
                  <a:lnTo>
                    <a:pt x="1668" y="1115"/>
                  </a:lnTo>
                  <a:lnTo>
                    <a:pt x="1668" y="1100"/>
                  </a:lnTo>
                  <a:lnTo>
                    <a:pt x="1666" y="1090"/>
                  </a:lnTo>
                  <a:lnTo>
                    <a:pt x="1664" y="1067"/>
                  </a:lnTo>
                  <a:lnTo>
                    <a:pt x="1661" y="1047"/>
                  </a:lnTo>
                  <a:lnTo>
                    <a:pt x="1656" y="1027"/>
                  </a:lnTo>
                  <a:lnTo>
                    <a:pt x="1651" y="1008"/>
                  </a:lnTo>
                  <a:lnTo>
                    <a:pt x="1644" y="987"/>
                  </a:lnTo>
                  <a:lnTo>
                    <a:pt x="1635" y="968"/>
                  </a:lnTo>
                  <a:lnTo>
                    <a:pt x="1625" y="950"/>
                  </a:lnTo>
                  <a:lnTo>
                    <a:pt x="1616" y="933"/>
                  </a:lnTo>
                  <a:lnTo>
                    <a:pt x="1611" y="917"/>
                  </a:lnTo>
                  <a:lnTo>
                    <a:pt x="1606" y="902"/>
                  </a:lnTo>
                  <a:lnTo>
                    <a:pt x="1602" y="886"/>
                  </a:lnTo>
                  <a:lnTo>
                    <a:pt x="1598" y="871"/>
                  </a:lnTo>
                  <a:lnTo>
                    <a:pt x="1592" y="855"/>
                  </a:lnTo>
                  <a:lnTo>
                    <a:pt x="1588" y="840"/>
                  </a:lnTo>
                  <a:lnTo>
                    <a:pt x="1583" y="825"/>
                  </a:lnTo>
                  <a:lnTo>
                    <a:pt x="1577" y="812"/>
                  </a:lnTo>
                  <a:lnTo>
                    <a:pt x="1567" y="814"/>
                  </a:lnTo>
                  <a:lnTo>
                    <a:pt x="1557" y="821"/>
                  </a:lnTo>
                  <a:lnTo>
                    <a:pt x="1549" y="829"/>
                  </a:lnTo>
                  <a:lnTo>
                    <a:pt x="1542" y="837"/>
                  </a:lnTo>
                  <a:lnTo>
                    <a:pt x="1537" y="863"/>
                  </a:lnTo>
                  <a:lnTo>
                    <a:pt x="1539" y="886"/>
                  </a:lnTo>
                  <a:lnTo>
                    <a:pt x="1548" y="907"/>
                  </a:lnTo>
                  <a:lnTo>
                    <a:pt x="1559" y="929"/>
                  </a:lnTo>
                  <a:lnTo>
                    <a:pt x="1570" y="948"/>
                  </a:lnTo>
                  <a:lnTo>
                    <a:pt x="1582" y="969"/>
                  </a:lnTo>
                  <a:lnTo>
                    <a:pt x="1588" y="992"/>
                  </a:lnTo>
                  <a:lnTo>
                    <a:pt x="1590" y="1017"/>
                  </a:lnTo>
                  <a:lnTo>
                    <a:pt x="1590" y="1029"/>
                  </a:lnTo>
                  <a:lnTo>
                    <a:pt x="1591" y="1041"/>
                  </a:lnTo>
                  <a:lnTo>
                    <a:pt x="1591" y="1052"/>
                  </a:lnTo>
                  <a:lnTo>
                    <a:pt x="1593" y="1065"/>
                  </a:lnTo>
                  <a:lnTo>
                    <a:pt x="1592" y="1077"/>
                  </a:lnTo>
                  <a:lnTo>
                    <a:pt x="1592" y="1089"/>
                  </a:lnTo>
                  <a:lnTo>
                    <a:pt x="1590" y="1100"/>
                  </a:lnTo>
                  <a:lnTo>
                    <a:pt x="1588" y="1113"/>
                  </a:lnTo>
                  <a:lnTo>
                    <a:pt x="1589" y="1117"/>
                  </a:lnTo>
                  <a:lnTo>
                    <a:pt x="1588" y="1123"/>
                  </a:lnTo>
                  <a:lnTo>
                    <a:pt x="1585" y="1128"/>
                  </a:lnTo>
                  <a:lnTo>
                    <a:pt x="1583" y="1133"/>
                  </a:lnTo>
                  <a:lnTo>
                    <a:pt x="1575" y="1191"/>
                  </a:lnTo>
                  <a:lnTo>
                    <a:pt x="1569" y="1188"/>
                  </a:lnTo>
                  <a:lnTo>
                    <a:pt x="1564" y="1186"/>
                  </a:lnTo>
                  <a:lnTo>
                    <a:pt x="1557" y="1184"/>
                  </a:lnTo>
                  <a:lnTo>
                    <a:pt x="1552" y="1184"/>
                  </a:lnTo>
                  <a:lnTo>
                    <a:pt x="1546" y="1184"/>
                  </a:lnTo>
                  <a:lnTo>
                    <a:pt x="1539" y="1186"/>
                  </a:lnTo>
                  <a:lnTo>
                    <a:pt x="1534" y="1188"/>
                  </a:lnTo>
                  <a:lnTo>
                    <a:pt x="1530" y="1191"/>
                  </a:lnTo>
                  <a:lnTo>
                    <a:pt x="1519" y="1195"/>
                  </a:lnTo>
                  <a:lnTo>
                    <a:pt x="1511" y="1202"/>
                  </a:lnTo>
                  <a:lnTo>
                    <a:pt x="1507" y="1209"/>
                  </a:lnTo>
                  <a:lnTo>
                    <a:pt x="1504" y="1219"/>
                  </a:lnTo>
                  <a:lnTo>
                    <a:pt x="1500" y="1227"/>
                  </a:lnTo>
                  <a:lnTo>
                    <a:pt x="1497" y="1236"/>
                  </a:lnTo>
                  <a:lnTo>
                    <a:pt x="1492" y="1244"/>
                  </a:lnTo>
                  <a:lnTo>
                    <a:pt x="1487" y="1252"/>
                  </a:lnTo>
                  <a:lnTo>
                    <a:pt x="1481" y="1254"/>
                  </a:lnTo>
                  <a:lnTo>
                    <a:pt x="1474" y="1257"/>
                  </a:lnTo>
                  <a:lnTo>
                    <a:pt x="1469" y="1259"/>
                  </a:lnTo>
                  <a:lnTo>
                    <a:pt x="1463" y="1262"/>
                  </a:lnTo>
                  <a:lnTo>
                    <a:pt x="1453" y="1269"/>
                  </a:lnTo>
                  <a:lnTo>
                    <a:pt x="1443" y="1277"/>
                  </a:lnTo>
                  <a:lnTo>
                    <a:pt x="1444" y="1285"/>
                  </a:lnTo>
                  <a:lnTo>
                    <a:pt x="1445" y="1292"/>
                  </a:lnTo>
                  <a:lnTo>
                    <a:pt x="1446" y="1298"/>
                  </a:lnTo>
                  <a:lnTo>
                    <a:pt x="1449" y="1305"/>
                  </a:lnTo>
                  <a:lnTo>
                    <a:pt x="1456" y="1304"/>
                  </a:lnTo>
                  <a:lnTo>
                    <a:pt x="1463" y="1302"/>
                  </a:lnTo>
                  <a:lnTo>
                    <a:pt x="1471" y="1298"/>
                  </a:lnTo>
                  <a:lnTo>
                    <a:pt x="1478" y="1296"/>
                  </a:lnTo>
                  <a:lnTo>
                    <a:pt x="1485" y="1293"/>
                  </a:lnTo>
                  <a:lnTo>
                    <a:pt x="1492" y="1292"/>
                  </a:lnTo>
                  <a:lnTo>
                    <a:pt x="1499" y="1293"/>
                  </a:lnTo>
                  <a:lnTo>
                    <a:pt x="1507" y="1297"/>
                  </a:lnTo>
                  <a:lnTo>
                    <a:pt x="1514" y="1307"/>
                  </a:lnTo>
                  <a:lnTo>
                    <a:pt x="1517" y="1319"/>
                  </a:lnTo>
                  <a:lnTo>
                    <a:pt x="1515" y="1331"/>
                  </a:lnTo>
                  <a:lnTo>
                    <a:pt x="1511" y="1344"/>
                  </a:lnTo>
                  <a:lnTo>
                    <a:pt x="1504" y="1356"/>
                  </a:lnTo>
                  <a:lnTo>
                    <a:pt x="1498" y="1369"/>
                  </a:lnTo>
                  <a:lnTo>
                    <a:pt x="1491" y="1380"/>
                  </a:lnTo>
                  <a:lnTo>
                    <a:pt x="1487" y="1393"/>
                  </a:lnTo>
                  <a:lnTo>
                    <a:pt x="1488" y="1395"/>
                  </a:lnTo>
                  <a:lnTo>
                    <a:pt x="1491" y="1400"/>
                  </a:lnTo>
                  <a:lnTo>
                    <a:pt x="1494" y="1403"/>
                  </a:lnTo>
                  <a:lnTo>
                    <a:pt x="1499" y="1404"/>
                  </a:lnTo>
                  <a:lnTo>
                    <a:pt x="1492" y="1419"/>
                  </a:lnTo>
                  <a:lnTo>
                    <a:pt x="1487" y="1435"/>
                  </a:lnTo>
                  <a:lnTo>
                    <a:pt x="1479" y="1450"/>
                  </a:lnTo>
                  <a:lnTo>
                    <a:pt x="1473" y="1466"/>
                  </a:lnTo>
                  <a:lnTo>
                    <a:pt x="1466" y="1481"/>
                  </a:lnTo>
                  <a:lnTo>
                    <a:pt x="1458" y="1496"/>
                  </a:lnTo>
                  <a:lnTo>
                    <a:pt x="1452" y="1511"/>
                  </a:lnTo>
                  <a:lnTo>
                    <a:pt x="1446" y="1527"/>
                  </a:lnTo>
                  <a:lnTo>
                    <a:pt x="1442" y="1533"/>
                  </a:lnTo>
                  <a:lnTo>
                    <a:pt x="1438" y="1538"/>
                  </a:lnTo>
                  <a:lnTo>
                    <a:pt x="1432" y="1543"/>
                  </a:lnTo>
                  <a:lnTo>
                    <a:pt x="1426" y="1549"/>
                  </a:lnTo>
                  <a:lnTo>
                    <a:pt x="1421" y="1554"/>
                  </a:lnTo>
                  <a:lnTo>
                    <a:pt x="1420" y="1559"/>
                  </a:lnTo>
                  <a:lnTo>
                    <a:pt x="1421" y="1566"/>
                  </a:lnTo>
                  <a:lnTo>
                    <a:pt x="1428" y="1573"/>
                  </a:lnTo>
                  <a:lnTo>
                    <a:pt x="1430" y="1575"/>
                  </a:lnTo>
                  <a:lnTo>
                    <a:pt x="1443" y="1565"/>
                  </a:lnTo>
                  <a:lnTo>
                    <a:pt x="1456" y="1555"/>
                  </a:lnTo>
                  <a:lnTo>
                    <a:pt x="1468" y="1543"/>
                  </a:lnTo>
                  <a:lnTo>
                    <a:pt x="1481" y="1533"/>
                  </a:lnTo>
                  <a:lnTo>
                    <a:pt x="1492" y="1520"/>
                  </a:lnTo>
                  <a:lnTo>
                    <a:pt x="1505" y="1509"/>
                  </a:lnTo>
                  <a:lnTo>
                    <a:pt x="1518" y="1500"/>
                  </a:lnTo>
                  <a:lnTo>
                    <a:pt x="1532" y="1492"/>
                  </a:lnTo>
                  <a:lnTo>
                    <a:pt x="1539" y="1500"/>
                  </a:lnTo>
                  <a:lnTo>
                    <a:pt x="1518" y="1525"/>
                  </a:lnTo>
                  <a:lnTo>
                    <a:pt x="1498" y="1554"/>
                  </a:lnTo>
                  <a:lnTo>
                    <a:pt x="1477" y="1582"/>
                  </a:lnTo>
                  <a:lnTo>
                    <a:pt x="1458" y="1609"/>
                  </a:lnTo>
                  <a:lnTo>
                    <a:pt x="1437" y="1635"/>
                  </a:lnTo>
                  <a:lnTo>
                    <a:pt x="1416" y="1662"/>
                  </a:lnTo>
                  <a:lnTo>
                    <a:pt x="1391" y="1686"/>
                  </a:lnTo>
                  <a:lnTo>
                    <a:pt x="1365" y="1710"/>
                  </a:lnTo>
                  <a:lnTo>
                    <a:pt x="1365" y="1717"/>
                  </a:lnTo>
                  <a:lnTo>
                    <a:pt x="1368" y="1722"/>
                  </a:lnTo>
                  <a:lnTo>
                    <a:pt x="1378" y="1720"/>
                  </a:lnTo>
                  <a:lnTo>
                    <a:pt x="1389" y="1720"/>
                  </a:lnTo>
                  <a:lnTo>
                    <a:pt x="1400" y="1720"/>
                  </a:lnTo>
                  <a:lnTo>
                    <a:pt x="1410" y="1722"/>
                  </a:lnTo>
                  <a:lnTo>
                    <a:pt x="1416" y="1718"/>
                  </a:lnTo>
                  <a:lnTo>
                    <a:pt x="1421" y="1713"/>
                  </a:lnTo>
                  <a:lnTo>
                    <a:pt x="1427" y="1707"/>
                  </a:lnTo>
                  <a:lnTo>
                    <a:pt x="1434" y="1704"/>
                  </a:lnTo>
                  <a:lnTo>
                    <a:pt x="1439" y="1699"/>
                  </a:lnTo>
                  <a:lnTo>
                    <a:pt x="1445" y="1697"/>
                  </a:lnTo>
                  <a:lnTo>
                    <a:pt x="1452" y="1697"/>
                  </a:lnTo>
                  <a:lnTo>
                    <a:pt x="1458" y="1700"/>
                  </a:lnTo>
                  <a:lnTo>
                    <a:pt x="1452" y="1711"/>
                  </a:lnTo>
                  <a:lnTo>
                    <a:pt x="1445" y="1722"/>
                  </a:lnTo>
                  <a:lnTo>
                    <a:pt x="1437" y="1732"/>
                  </a:lnTo>
                  <a:lnTo>
                    <a:pt x="1428" y="1743"/>
                  </a:lnTo>
                  <a:lnTo>
                    <a:pt x="1418" y="1752"/>
                  </a:lnTo>
                  <a:lnTo>
                    <a:pt x="1408" y="1763"/>
                  </a:lnTo>
                  <a:lnTo>
                    <a:pt x="1398" y="1772"/>
                  </a:lnTo>
                  <a:lnTo>
                    <a:pt x="1390" y="1783"/>
                  </a:lnTo>
                  <a:lnTo>
                    <a:pt x="1395" y="1783"/>
                  </a:lnTo>
                  <a:lnTo>
                    <a:pt x="1405" y="1781"/>
                  </a:lnTo>
                  <a:lnTo>
                    <a:pt x="1413" y="1777"/>
                  </a:lnTo>
                  <a:lnTo>
                    <a:pt x="1423" y="1772"/>
                  </a:lnTo>
                  <a:lnTo>
                    <a:pt x="1430" y="1768"/>
                  </a:lnTo>
                  <a:lnTo>
                    <a:pt x="1436" y="1769"/>
                  </a:lnTo>
                  <a:lnTo>
                    <a:pt x="1437" y="1775"/>
                  </a:lnTo>
                  <a:lnTo>
                    <a:pt x="1436" y="1788"/>
                  </a:lnTo>
                  <a:lnTo>
                    <a:pt x="1425" y="1797"/>
                  </a:lnTo>
                  <a:lnTo>
                    <a:pt x="1416" y="1805"/>
                  </a:lnTo>
                  <a:lnTo>
                    <a:pt x="1410" y="1810"/>
                  </a:lnTo>
                  <a:lnTo>
                    <a:pt x="1406" y="1815"/>
                  </a:lnTo>
                  <a:lnTo>
                    <a:pt x="1403" y="1820"/>
                  </a:lnTo>
                  <a:lnTo>
                    <a:pt x="1401" y="1827"/>
                  </a:lnTo>
                  <a:lnTo>
                    <a:pt x="1407" y="1828"/>
                  </a:lnTo>
                  <a:lnTo>
                    <a:pt x="1412" y="1833"/>
                  </a:lnTo>
                  <a:lnTo>
                    <a:pt x="1414" y="1841"/>
                  </a:lnTo>
                  <a:lnTo>
                    <a:pt x="1410" y="1849"/>
                  </a:lnTo>
                  <a:lnTo>
                    <a:pt x="1403" y="1854"/>
                  </a:lnTo>
                  <a:lnTo>
                    <a:pt x="1395" y="1860"/>
                  </a:lnTo>
                  <a:lnTo>
                    <a:pt x="1388" y="1864"/>
                  </a:lnTo>
                  <a:lnTo>
                    <a:pt x="1381" y="1868"/>
                  </a:lnTo>
                  <a:lnTo>
                    <a:pt x="1374" y="1872"/>
                  </a:lnTo>
                  <a:lnTo>
                    <a:pt x="1367" y="1877"/>
                  </a:lnTo>
                  <a:lnTo>
                    <a:pt x="1360" y="1883"/>
                  </a:lnTo>
                  <a:lnTo>
                    <a:pt x="1355" y="1892"/>
                  </a:lnTo>
                  <a:lnTo>
                    <a:pt x="1356" y="1896"/>
                  </a:lnTo>
                  <a:lnTo>
                    <a:pt x="1359" y="1901"/>
                  </a:lnTo>
                  <a:lnTo>
                    <a:pt x="1361" y="1908"/>
                  </a:lnTo>
                  <a:lnTo>
                    <a:pt x="1360" y="1915"/>
                  </a:lnTo>
                  <a:lnTo>
                    <a:pt x="1343" y="1925"/>
                  </a:lnTo>
                  <a:lnTo>
                    <a:pt x="1327" y="1934"/>
                  </a:lnTo>
                  <a:lnTo>
                    <a:pt x="1310" y="1942"/>
                  </a:lnTo>
                  <a:lnTo>
                    <a:pt x="1294" y="1950"/>
                  </a:lnTo>
                  <a:lnTo>
                    <a:pt x="1276" y="1957"/>
                  </a:lnTo>
                  <a:lnTo>
                    <a:pt x="1259" y="1966"/>
                  </a:lnTo>
                  <a:lnTo>
                    <a:pt x="1243" y="1976"/>
                  </a:lnTo>
                  <a:lnTo>
                    <a:pt x="1228" y="1989"/>
                  </a:lnTo>
                  <a:lnTo>
                    <a:pt x="1218" y="1992"/>
                  </a:lnTo>
                  <a:lnTo>
                    <a:pt x="1212" y="1992"/>
                  </a:lnTo>
                  <a:lnTo>
                    <a:pt x="1206" y="1990"/>
                  </a:lnTo>
                  <a:lnTo>
                    <a:pt x="1200" y="1986"/>
                  </a:lnTo>
                  <a:lnTo>
                    <a:pt x="1194" y="1979"/>
                  </a:lnTo>
                  <a:lnTo>
                    <a:pt x="1190" y="1974"/>
                  </a:lnTo>
                  <a:lnTo>
                    <a:pt x="1184" y="1967"/>
                  </a:lnTo>
                  <a:lnTo>
                    <a:pt x="1180" y="1963"/>
                  </a:lnTo>
                  <a:lnTo>
                    <a:pt x="1183" y="1954"/>
                  </a:lnTo>
                  <a:lnTo>
                    <a:pt x="1189" y="1944"/>
                  </a:lnTo>
                  <a:lnTo>
                    <a:pt x="1193" y="1934"/>
                  </a:lnTo>
                  <a:lnTo>
                    <a:pt x="1197" y="1925"/>
                  </a:lnTo>
                  <a:lnTo>
                    <a:pt x="1199" y="1915"/>
                  </a:lnTo>
                  <a:lnTo>
                    <a:pt x="1201" y="1906"/>
                  </a:lnTo>
                  <a:lnTo>
                    <a:pt x="1201" y="1896"/>
                  </a:lnTo>
                  <a:lnTo>
                    <a:pt x="1198" y="1888"/>
                  </a:lnTo>
                  <a:lnTo>
                    <a:pt x="1187" y="1886"/>
                  </a:lnTo>
                  <a:lnTo>
                    <a:pt x="1178" y="1885"/>
                  </a:lnTo>
                  <a:lnTo>
                    <a:pt x="1168" y="1883"/>
                  </a:lnTo>
                  <a:lnTo>
                    <a:pt x="1160" y="1881"/>
                  </a:lnTo>
                  <a:lnTo>
                    <a:pt x="1151" y="1877"/>
                  </a:lnTo>
                  <a:lnTo>
                    <a:pt x="1145" y="1872"/>
                  </a:lnTo>
                  <a:lnTo>
                    <a:pt x="1138" y="1864"/>
                  </a:lnTo>
                  <a:lnTo>
                    <a:pt x="1134" y="1857"/>
                  </a:lnTo>
                  <a:lnTo>
                    <a:pt x="1134" y="1844"/>
                  </a:lnTo>
                  <a:lnTo>
                    <a:pt x="1143" y="1843"/>
                  </a:lnTo>
                  <a:lnTo>
                    <a:pt x="1151" y="1845"/>
                  </a:lnTo>
                  <a:lnTo>
                    <a:pt x="1159" y="1849"/>
                  </a:lnTo>
                  <a:lnTo>
                    <a:pt x="1166" y="1856"/>
                  </a:lnTo>
                  <a:lnTo>
                    <a:pt x="1173" y="1859"/>
                  </a:lnTo>
                  <a:lnTo>
                    <a:pt x="1180" y="1861"/>
                  </a:lnTo>
                  <a:lnTo>
                    <a:pt x="1189" y="1860"/>
                  </a:lnTo>
                  <a:lnTo>
                    <a:pt x="1198" y="1854"/>
                  </a:lnTo>
                  <a:lnTo>
                    <a:pt x="1196" y="1844"/>
                  </a:lnTo>
                  <a:lnTo>
                    <a:pt x="1192" y="1836"/>
                  </a:lnTo>
                  <a:lnTo>
                    <a:pt x="1184" y="1832"/>
                  </a:lnTo>
                  <a:lnTo>
                    <a:pt x="1176" y="1829"/>
                  </a:lnTo>
                  <a:lnTo>
                    <a:pt x="1165" y="1826"/>
                  </a:lnTo>
                  <a:lnTo>
                    <a:pt x="1157" y="1823"/>
                  </a:lnTo>
                  <a:lnTo>
                    <a:pt x="1150" y="1818"/>
                  </a:lnTo>
                  <a:lnTo>
                    <a:pt x="1147" y="1811"/>
                  </a:lnTo>
                  <a:lnTo>
                    <a:pt x="1157" y="1807"/>
                  </a:lnTo>
                  <a:lnTo>
                    <a:pt x="1168" y="1805"/>
                  </a:lnTo>
                  <a:lnTo>
                    <a:pt x="1181" y="1805"/>
                  </a:lnTo>
                  <a:lnTo>
                    <a:pt x="1194" y="1807"/>
                  </a:lnTo>
                  <a:lnTo>
                    <a:pt x="1205" y="1805"/>
                  </a:lnTo>
                  <a:lnTo>
                    <a:pt x="1215" y="1804"/>
                  </a:lnTo>
                  <a:lnTo>
                    <a:pt x="1225" y="1799"/>
                  </a:lnTo>
                  <a:lnTo>
                    <a:pt x="1231" y="1791"/>
                  </a:lnTo>
                  <a:lnTo>
                    <a:pt x="1221" y="1786"/>
                  </a:lnTo>
                  <a:lnTo>
                    <a:pt x="1210" y="1786"/>
                  </a:lnTo>
                  <a:lnTo>
                    <a:pt x="1198" y="1786"/>
                  </a:lnTo>
                  <a:lnTo>
                    <a:pt x="1186" y="1787"/>
                  </a:lnTo>
                  <a:lnTo>
                    <a:pt x="1175" y="1787"/>
                  </a:lnTo>
                  <a:lnTo>
                    <a:pt x="1164" y="1787"/>
                  </a:lnTo>
                  <a:lnTo>
                    <a:pt x="1154" y="1784"/>
                  </a:lnTo>
                  <a:lnTo>
                    <a:pt x="1147" y="1781"/>
                  </a:lnTo>
                  <a:lnTo>
                    <a:pt x="1140" y="1780"/>
                  </a:lnTo>
                  <a:lnTo>
                    <a:pt x="1135" y="1780"/>
                  </a:lnTo>
                  <a:lnTo>
                    <a:pt x="1130" y="1777"/>
                  </a:lnTo>
                  <a:lnTo>
                    <a:pt x="1127" y="1774"/>
                  </a:lnTo>
                  <a:lnTo>
                    <a:pt x="1130" y="1761"/>
                  </a:lnTo>
                  <a:lnTo>
                    <a:pt x="1147" y="1761"/>
                  </a:lnTo>
                  <a:lnTo>
                    <a:pt x="1165" y="1762"/>
                  </a:lnTo>
                  <a:lnTo>
                    <a:pt x="1182" y="1759"/>
                  </a:lnTo>
                  <a:lnTo>
                    <a:pt x="1200" y="1756"/>
                  </a:lnTo>
                  <a:lnTo>
                    <a:pt x="1217" y="1751"/>
                  </a:lnTo>
                  <a:lnTo>
                    <a:pt x="1234" y="1747"/>
                  </a:lnTo>
                  <a:lnTo>
                    <a:pt x="1251" y="1742"/>
                  </a:lnTo>
                  <a:lnTo>
                    <a:pt x="1268" y="1737"/>
                  </a:lnTo>
                  <a:lnTo>
                    <a:pt x="1277" y="1731"/>
                  </a:lnTo>
                  <a:lnTo>
                    <a:pt x="1287" y="1723"/>
                  </a:lnTo>
                  <a:lnTo>
                    <a:pt x="1295" y="1714"/>
                  </a:lnTo>
                  <a:lnTo>
                    <a:pt x="1305" y="1707"/>
                  </a:lnTo>
                  <a:lnTo>
                    <a:pt x="1295" y="1700"/>
                  </a:lnTo>
                  <a:lnTo>
                    <a:pt x="1284" y="1701"/>
                  </a:lnTo>
                  <a:lnTo>
                    <a:pt x="1273" y="1704"/>
                  </a:lnTo>
                  <a:lnTo>
                    <a:pt x="1264" y="1707"/>
                  </a:lnTo>
                  <a:lnTo>
                    <a:pt x="1249" y="1709"/>
                  </a:lnTo>
                  <a:lnTo>
                    <a:pt x="1237" y="1711"/>
                  </a:lnTo>
                  <a:lnTo>
                    <a:pt x="1224" y="1711"/>
                  </a:lnTo>
                  <a:lnTo>
                    <a:pt x="1211" y="1711"/>
                  </a:lnTo>
                  <a:lnTo>
                    <a:pt x="1198" y="1710"/>
                  </a:lnTo>
                  <a:lnTo>
                    <a:pt x="1185" y="1710"/>
                  </a:lnTo>
                  <a:lnTo>
                    <a:pt x="1172" y="1710"/>
                  </a:lnTo>
                  <a:lnTo>
                    <a:pt x="1158" y="1710"/>
                  </a:lnTo>
                  <a:lnTo>
                    <a:pt x="1153" y="1704"/>
                  </a:lnTo>
                  <a:lnTo>
                    <a:pt x="1149" y="1702"/>
                  </a:lnTo>
                  <a:lnTo>
                    <a:pt x="1143" y="1701"/>
                  </a:lnTo>
                  <a:lnTo>
                    <a:pt x="1137" y="1702"/>
                  </a:lnTo>
                  <a:lnTo>
                    <a:pt x="1131" y="1701"/>
                  </a:lnTo>
                  <a:lnTo>
                    <a:pt x="1128" y="1701"/>
                  </a:lnTo>
                  <a:lnTo>
                    <a:pt x="1125" y="1698"/>
                  </a:lnTo>
                  <a:lnTo>
                    <a:pt x="1125" y="1693"/>
                  </a:lnTo>
                  <a:lnTo>
                    <a:pt x="1137" y="1685"/>
                  </a:lnTo>
                  <a:lnTo>
                    <a:pt x="1151" y="1680"/>
                  </a:lnTo>
                  <a:lnTo>
                    <a:pt x="1166" y="1674"/>
                  </a:lnTo>
                  <a:lnTo>
                    <a:pt x="1182" y="1671"/>
                  </a:lnTo>
                  <a:lnTo>
                    <a:pt x="1196" y="1666"/>
                  </a:lnTo>
                  <a:lnTo>
                    <a:pt x="1211" y="1662"/>
                  </a:lnTo>
                  <a:lnTo>
                    <a:pt x="1225" y="1654"/>
                  </a:lnTo>
                  <a:lnTo>
                    <a:pt x="1239" y="1647"/>
                  </a:lnTo>
                  <a:lnTo>
                    <a:pt x="1226" y="1643"/>
                  </a:lnTo>
                  <a:lnTo>
                    <a:pt x="1214" y="1643"/>
                  </a:lnTo>
                  <a:lnTo>
                    <a:pt x="1202" y="1644"/>
                  </a:lnTo>
                  <a:lnTo>
                    <a:pt x="1191" y="1646"/>
                  </a:lnTo>
                  <a:lnTo>
                    <a:pt x="1179" y="1645"/>
                  </a:lnTo>
                  <a:lnTo>
                    <a:pt x="1169" y="1645"/>
                  </a:lnTo>
                  <a:lnTo>
                    <a:pt x="1160" y="1639"/>
                  </a:lnTo>
                  <a:lnTo>
                    <a:pt x="1152" y="1632"/>
                  </a:lnTo>
                  <a:lnTo>
                    <a:pt x="1157" y="1625"/>
                  </a:lnTo>
                  <a:lnTo>
                    <a:pt x="1163" y="1623"/>
                  </a:lnTo>
                  <a:lnTo>
                    <a:pt x="1170" y="1622"/>
                  </a:lnTo>
                  <a:lnTo>
                    <a:pt x="1178" y="1622"/>
                  </a:lnTo>
                  <a:lnTo>
                    <a:pt x="1184" y="1622"/>
                  </a:lnTo>
                  <a:lnTo>
                    <a:pt x="1192" y="1622"/>
                  </a:lnTo>
                  <a:lnTo>
                    <a:pt x="1197" y="1619"/>
                  </a:lnTo>
                  <a:lnTo>
                    <a:pt x="1203" y="1616"/>
                  </a:lnTo>
                  <a:lnTo>
                    <a:pt x="1194" y="1612"/>
                  </a:lnTo>
                  <a:lnTo>
                    <a:pt x="1185" y="1611"/>
                  </a:lnTo>
                  <a:lnTo>
                    <a:pt x="1175" y="1611"/>
                  </a:lnTo>
                  <a:lnTo>
                    <a:pt x="1165" y="1612"/>
                  </a:lnTo>
                  <a:lnTo>
                    <a:pt x="1156" y="1611"/>
                  </a:lnTo>
                  <a:lnTo>
                    <a:pt x="1147" y="1609"/>
                  </a:lnTo>
                  <a:lnTo>
                    <a:pt x="1140" y="1606"/>
                  </a:lnTo>
                  <a:lnTo>
                    <a:pt x="1134" y="1601"/>
                  </a:lnTo>
                  <a:lnTo>
                    <a:pt x="1145" y="1594"/>
                  </a:lnTo>
                  <a:lnTo>
                    <a:pt x="1161" y="1588"/>
                  </a:lnTo>
                  <a:lnTo>
                    <a:pt x="1178" y="1583"/>
                  </a:lnTo>
                  <a:lnTo>
                    <a:pt x="1195" y="1578"/>
                  </a:lnTo>
                  <a:lnTo>
                    <a:pt x="1212" y="1573"/>
                  </a:lnTo>
                  <a:lnTo>
                    <a:pt x="1228" y="1567"/>
                  </a:lnTo>
                  <a:lnTo>
                    <a:pt x="1244" y="1560"/>
                  </a:lnTo>
                  <a:lnTo>
                    <a:pt x="1260" y="1552"/>
                  </a:lnTo>
                  <a:lnTo>
                    <a:pt x="1276" y="1543"/>
                  </a:lnTo>
                  <a:lnTo>
                    <a:pt x="1277" y="1534"/>
                  </a:lnTo>
                  <a:lnTo>
                    <a:pt x="1274" y="1527"/>
                  </a:lnTo>
                  <a:lnTo>
                    <a:pt x="1259" y="1530"/>
                  </a:lnTo>
                  <a:lnTo>
                    <a:pt x="1246" y="1532"/>
                  </a:lnTo>
                  <a:lnTo>
                    <a:pt x="1231" y="1534"/>
                  </a:lnTo>
                  <a:lnTo>
                    <a:pt x="1218" y="1537"/>
                  </a:lnTo>
                  <a:lnTo>
                    <a:pt x="1203" y="1537"/>
                  </a:lnTo>
                  <a:lnTo>
                    <a:pt x="1190" y="1538"/>
                  </a:lnTo>
                  <a:lnTo>
                    <a:pt x="1176" y="1537"/>
                  </a:lnTo>
                  <a:lnTo>
                    <a:pt x="1163" y="1535"/>
                  </a:lnTo>
                  <a:lnTo>
                    <a:pt x="1164" y="1526"/>
                  </a:lnTo>
                  <a:lnTo>
                    <a:pt x="1168" y="1521"/>
                  </a:lnTo>
                  <a:lnTo>
                    <a:pt x="1174" y="1518"/>
                  </a:lnTo>
                  <a:lnTo>
                    <a:pt x="1180" y="1517"/>
                  </a:lnTo>
                  <a:lnTo>
                    <a:pt x="1186" y="1516"/>
                  </a:lnTo>
                  <a:lnTo>
                    <a:pt x="1193" y="1515"/>
                  </a:lnTo>
                  <a:lnTo>
                    <a:pt x="1199" y="1514"/>
                  </a:lnTo>
                  <a:lnTo>
                    <a:pt x="1206" y="1513"/>
                  </a:lnTo>
                  <a:lnTo>
                    <a:pt x="1218" y="1506"/>
                  </a:lnTo>
                  <a:lnTo>
                    <a:pt x="1232" y="1503"/>
                  </a:lnTo>
                  <a:lnTo>
                    <a:pt x="1247" y="1499"/>
                  </a:lnTo>
                  <a:lnTo>
                    <a:pt x="1262" y="1496"/>
                  </a:lnTo>
                  <a:lnTo>
                    <a:pt x="1275" y="1489"/>
                  </a:lnTo>
                  <a:lnTo>
                    <a:pt x="1289" y="1484"/>
                  </a:lnTo>
                  <a:lnTo>
                    <a:pt x="1300" y="1476"/>
                  </a:lnTo>
                  <a:lnTo>
                    <a:pt x="1312" y="1467"/>
                  </a:lnTo>
                  <a:lnTo>
                    <a:pt x="1303" y="1461"/>
                  </a:lnTo>
                  <a:lnTo>
                    <a:pt x="1293" y="1460"/>
                  </a:lnTo>
                  <a:lnTo>
                    <a:pt x="1282" y="1460"/>
                  </a:lnTo>
                  <a:lnTo>
                    <a:pt x="1273" y="1464"/>
                  </a:lnTo>
                  <a:lnTo>
                    <a:pt x="1262" y="1467"/>
                  </a:lnTo>
                  <a:lnTo>
                    <a:pt x="1251" y="1471"/>
                  </a:lnTo>
                  <a:lnTo>
                    <a:pt x="1241" y="1474"/>
                  </a:lnTo>
                  <a:lnTo>
                    <a:pt x="1231" y="1477"/>
                  </a:lnTo>
                  <a:lnTo>
                    <a:pt x="1222" y="1480"/>
                  </a:lnTo>
                  <a:lnTo>
                    <a:pt x="1212" y="1484"/>
                  </a:lnTo>
                  <a:lnTo>
                    <a:pt x="1202" y="1485"/>
                  </a:lnTo>
                  <a:lnTo>
                    <a:pt x="1193" y="1483"/>
                  </a:lnTo>
                  <a:lnTo>
                    <a:pt x="1193" y="1470"/>
                  </a:lnTo>
                  <a:lnTo>
                    <a:pt x="1292" y="1424"/>
                  </a:lnTo>
                  <a:lnTo>
                    <a:pt x="1296" y="1419"/>
                  </a:lnTo>
                  <a:lnTo>
                    <a:pt x="1302" y="1415"/>
                  </a:lnTo>
                  <a:lnTo>
                    <a:pt x="1306" y="1409"/>
                  </a:lnTo>
                  <a:lnTo>
                    <a:pt x="1307" y="1404"/>
                  </a:lnTo>
                  <a:lnTo>
                    <a:pt x="1302" y="1402"/>
                  </a:lnTo>
                  <a:lnTo>
                    <a:pt x="1283" y="1403"/>
                  </a:lnTo>
                  <a:lnTo>
                    <a:pt x="1267" y="1406"/>
                  </a:lnTo>
                  <a:lnTo>
                    <a:pt x="1252" y="1409"/>
                  </a:lnTo>
                  <a:lnTo>
                    <a:pt x="1238" y="1415"/>
                  </a:lnTo>
                  <a:lnTo>
                    <a:pt x="1221" y="1417"/>
                  </a:lnTo>
                  <a:lnTo>
                    <a:pt x="1205" y="1420"/>
                  </a:lnTo>
                  <a:lnTo>
                    <a:pt x="1187" y="1420"/>
                  </a:lnTo>
                  <a:lnTo>
                    <a:pt x="1170" y="1419"/>
                  </a:lnTo>
                  <a:lnTo>
                    <a:pt x="1164" y="1411"/>
                  </a:lnTo>
                  <a:lnTo>
                    <a:pt x="1161" y="1404"/>
                  </a:lnTo>
                  <a:lnTo>
                    <a:pt x="1159" y="1395"/>
                  </a:lnTo>
                  <a:lnTo>
                    <a:pt x="1158" y="1389"/>
                  </a:lnTo>
                  <a:lnTo>
                    <a:pt x="1175" y="1374"/>
                  </a:lnTo>
                  <a:lnTo>
                    <a:pt x="1194" y="1362"/>
                  </a:lnTo>
                  <a:lnTo>
                    <a:pt x="1213" y="1352"/>
                  </a:lnTo>
                  <a:lnTo>
                    <a:pt x="1234" y="1342"/>
                  </a:lnTo>
                  <a:lnTo>
                    <a:pt x="1255" y="1333"/>
                  </a:lnTo>
                  <a:lnTo>
                    <a:pt x="1275" y="1323"/>
                  </a:lnTo>
                  <a:lnTo>
                    <a:pt x="1293" y="1311"/>
                  </a:lnTo>
                  <a:lnTo>
                    <a:pt x="1312" y="1301"/>
                  </a:lnTo>
                  <a:lnTo>
                    <a:pt x="1312" y="1291"/>
                  </a:lnTo>
                  <a:lnTo>
                    <a:pt x="1311" y="1282"/>
                  </a:lnTo>
                  <a:lnTo>
                    <a:pt x="1308" y="1275"/>
                  </a:lnTo>
                  <a:lnTo>
                    <a:pt x="1302" y="1270"/>
                  </a:lnTo>
                  <a:lnTo>
                    <a:pt x="1287" y="1276"/>
                  </a:lnTo>
                  <a:lnTo>
                    <a:pt x="1272" y="1282"/>
                  </a:lnTo>
                  <a:lnTo>
                    <a:pt x="1257" y="1288"/>
                  </a:lnTo>
                  <a:lnTo>
                    <a:pt x="1242" y="1294"/>
                  </a:lnTo>
                  <a:lnTo>
                    <a:pt x="1226" y="1301"/>
                  </a:lnTo>
                  <a:lnTo>
                    <a:pt x="1211" y="1308"/>
                  </a:lnTo>
                  <a:lnTo>
                    <a:pt x="1196" y="1317"/>
                  </a:lnTo>
                  <a:lnTo>
                    <a:pt x="1183" y="1328"/>
                  </a:lnTo>
                  <a:lnTo>
                    <a:pt x="1175" y="1324"/>
                  </a:lnTo>
                  <a:lnTo>
                    <a:pt x="1166" y="1321"/>
                  </a:lnTo>
                  <a:lnTo>
                    <a:pt x="1160" y="1314"/>
                  </a:lnTo>
                  <a:lnTo>
                    <a:pt x="1158" y="1305"/>
                  </a:lnTo>
                  <a:lnTo>
                    <a:pt x="1160" y="1295"/>
                  </a:lnTo>
                  <a:lnTo>
                    <a:pt x="1162" y="1288"/>
                  </a:lnTo>
                  <a:lnTo>
                    <a:pt x="1164" y="1279"/>
                  </a:lnTo>
                  <a:lnTo>
                    <a:pt x="1167" y="1272"/>
                  </a:lnTo>
                  <a:lnTo>
                    <a:pt x="1168" y="1263"/>
                  </a:lnTo>
                  <a:lnTo>
                    <a:pt x="1170" y="1256"/>
                  </a:lnTo>
                  <a:lnTo>
                    <a:pt x="1173" y="1247"/>
                  </a:lnTo>
                  <a:lnTo>
                    <a:pt x="1175" y="1240"/>
                  </a:lnTo>
                  <a:lnTo>
                    <a:pt x="1169" y="1233"/>
                  </a:lnTo>
                  <a:lnTo>
                    <a:pt x="1164" y="1230"/>
                  </a:lnTo>
                  <a:lnTo>
                    <a:pt x="1158" y="1227"/>
                  </a:lnTo>
                  <a:lnTo>
                    <a:pt x="1152" y="1225"/>
                  </a:lnTo>
                  <a:lnTo>
                    <a:pt x="1146" y="1222"/>
                  </a:lnTo>
                  <a:lnTo>
                    <a:pt x="1143" y="1219"/>
                  </a:lnTo>
                  <a:lnTo>
                    <a:pt x="1141" y="1213"/>
                  </a:lnTo>
                  <a:lnTo>
                    <a:pt x="1143" y="1207"/>
                  </a:lnTo>
                  <a:lnTo>
                    <a:pt x="1142" y="1196"/>
                  </a:lnTo>
                  <a:lnTo>
                    <a:pt x="1145" y="1188"/>
                  </a:lnTo>
                  <a:lnTo>
                    <a:pt x="1149" y="1178"/>
                  </a:lnTo>
                  <a:lnTo>
                    <a:pt x="1156" y="1172"/>
                  </a:lnTo>
                  <a:lnTo>
                    <a:pt x="1162" y="1164"/>
                  </a:lnTo>
                  <a:lnTo>
                    <a:pt x="1169" y="1157"/>
                  </a:lnTo>
                  <a:lnTo>
                    <a:pt x="1177" y="1149"/>
                  </a:lnTo>
                  <a:lnTo>
                    <a:pt x="1185" y="1143"/>
                  </a:lnTo>
                  <a:lnTo>
                    <a:pt x="1197" y="1140"/>
                  </a:lnTo>
                  <a:lnTo>
                    <a:pt x="1206" y="1133"/>
                  </a:lnTo>
                  <a:lnTo>
                    <a:pt x="1209" y="1124"/>
                  </a:lnTo>
                  <a:lnTo>
                    <a:pt x="1210" y="1112"/>
                  </a:lnTo>
                  <a:lnTo>
                    <a:pt x="1210" y="1098"/>
                  </a:lnTo>
                  <a:lnTo>
                    <a:pt x="1210" y="1085"/>
                  </a:lnTo>
                  <a:lnTo>
                    <a:pt x="1211" y="1072"/>
                  </a:lnTo>
                  <a:lnTo>
                    <a:pt x="1215" y="1062"/>
                  </a:lnTo>
                  <a:lnTo>
                    <a:pt x="1221" y="1042"/>
                  </a:lnTo>
                  <a:lnTo>
                    <a:pt x="1225" y="1023"/>
                  </a:lnTo>
                  <a:lnTo>
                    <a:pt x="1228" y="1002"/>
                  </a:lnTo>
                  <a:lnTo>
                    <a:pt x="1231" y="983"/>
                  </a:lnTo>
                  <a:lnTo>
                    <a:pt x="1233" y="962"/>
                  </a:lnTo>
                  <a:lnTo>
                    <a:pt x="1238" y="943"/>
                  </a:lnTo>
                  <a:lnTo>
                    <a:pt x="1244" y="923"/>
                  </a:lnTo>
                  <a:lnTo>
                    <a:pt x="1254" y="907"/>
                  </a:lnTo>
                  <a:lnTo>
                    <a:pt x="1261" y="907"/>
                  </a:lnTo>
                  <a:lnTo>
                    <a:pt x="1261" y="922"/>
                  </a:lnTo>
                  <a:lnTo>
                    <a:pt x="1262" y="938"/>
                  </a:lnTo>
                  <a:lnTo>
                    <a:pt x="1262" y="954"/>
                  </a:lnTo>
                  <a:lnTo>
                    <a:pt x="1262" y="971"/>
                  </a:lnTo>
                  <a:lnTo>
                    <a:pt x="1262" y="986"/>
                  </a:lnTo>
                  <a:lnTo>
                    <a:pt x="1263" y="1002"/>
                  </a:lnTo>
                  <a:lnTo>
                    <a:pt x="1265" y="1017"/>
                  </a:lnTo>
                  <a:lnTo>
                    <a:pt x="1272" y="1032"/>
                  </a:lnTo>
                  <a:lnTo>
                    <a:pt x="1287" y="1010"/>
                  </a:lnTo>
                  <a:lnTo>
                    <a:pt x="1296" y="987"/>
                  </a:lnTo>
                  <a:lnTo>
                    <a:pt x="1298" y="963"/>
                  </a:lnTo>
                  <a:lnTo>
                    <a:pt x="1298" y="939"/>
                  </a:lnTo>
                  <a:lnTo>
                    <a:pt x="1295" y="914"/>
                  </a:lnTo>
                  <a:lnTo>
                    <a:pt x="1294" y="888"/>
                  </a:lnTo>
                  <a:lnTo>
                    <a:pt x="1294" y="863"/>
                  </a:lnTo>
                  <a:lnTo>
                    <a:pt x="1299" y="837"/>
                  </a:lnTo>
                  <a:lnTo>
                    <a:pt x="1299" y="827"/>
                  </a:lnTo>
                  <a:lnTo>
                    <a:pt x="1304" y="817"/>
                  </a:lnTo>
                  <a:lnTo>
                    <a:pt x="1307" y="807"/>
                  </a:lnTo>
                  <a:lnTo>
                    <a:pt x="1312" y="799"/>
                  </a:lnTo>
                  <a:lnTo>
                    <a:pt x="1320" y="799"/>
                  </a:lnTo>
                  <a:lnTo>
                    <a:pt x="1324" y="802"/>
                  </a:lnTo>
                  <a:lnTo>
                    <a:pt x="1325" y="807"/>
                  </a:lnTo>
                  <a:lnTo>
                    <a:pt x="1326" y="816"/>
                  </a:lnTo>
                  <a:lnTo>
                    <a:pt x="1324" y="823"/>
                  </a:lnTo>
                  <a:lnTo>
                    <a:pt x="1324" y="832"/>
                  </a:lnTo>
                  <a:lnTo>
                    <a:pt x="1324" y="839"/>
                  </a:lnTo>
                  <a:lnTo>
                    <a:pt x="1327" y="847"/>
                  </a:lnTo>
                  <a:lnTo>
                    <a:pt x="1327" y="856"/>
                  </a:lnTo>
                  <a:lnTo>
                    <a:pt x="1328" y="866"/>
                  </a:lnTo>
                  <a:lnTo>
                    <a:pt x="1328" y="877"/>
                  </a:lnTo>
                  <a:lnTo>
                    <a:pt x="1329" y="887"/>
                  </a:lnTo>
                  <a:lnTo>
                    <a:pt x="1329" y="897"/>
                  </a:lnTo>
                  <a:lnTo>
                    <a:pt x="1331" y="907"/>
                  </a:lnTo>
                  <a:lnTo>
                    <a:pt x="1335" y="916"/>
                  </a:lnTo>
                  <a:lnTo>
                    <a:pt x="1340" y="926"/>
                  </a:lnTo>
                  <a:lnTo>
                    <a:pt x="1344" y="918"/>
                  </a:lnTo>
                  <a:lnTo>
                    <a:pt x="1349" y="911"/>
                  </a:lnTo>
                  <a:lnTo>
                    <a:pt x="1355" y="903"/>
                  </a:lnTo>
                  <a:lnTo>
                    <a:pt x="1360" y="897"/>
                  </a:lnTo>
                  <a:lnTo>
                    <a:pt x="1364" y="889"/>
                  </a:lnTo>
                  <a:lnTo>
                    <a:pt x="1370" y="883"/>
                  </a:lnTo>
                  <a:lnTo>
                    <a:pt x="1374" y="877"/>
                  </a:lnTo>
                  <a:lnTo>
                    <a:pt x="1380" y="870"/>
                  </a:lnTo>
                  <a:lnTo>
                    <a:pt x="1373" y="865"/>
                  </a:lnTo>
                  <a:lnTo>
                    <a:pt x="1367" y="860"/>
                  </a:lnTo>
                  <a:lnTo>
                    <a:pt x="1362" y="853"/>
                  </a:lnTo>
                  <a:lnTo>
                    <a:pt x="1359" y="848"/>
                  </a:lnTo>
                  <a:lnTo>
                    <a:pt x="1356" y="841"/>
                  </a:lnTo>
                  <a:lnTo>
                    <a:pt x="1354" y="835"/>
                  </a:lnTo>
                  <a:lnTo>
                    <a:pt x="1353" y="829"/>
                  </a:lnTo>
                  <a:lnTo>
                    <a:pt x="1353" y="822"/>
                  </a:lnTo>
                  <a:lnTo>
                    <a:pt x="1357" y="809"/>
                  </a:lnTo>
                  <a:lnTo>
                    <a:pt x="1358" y="798"/>
                  </a:lnTo>
                  <a:lnTo>
                    <a:pt x="1355" y="787"/>
                  </a:lnTo>
                  <a:lnTo>
                    <a:pt x="1351" y="778"/>
                  </a:lnTo>
                  <a:lnTo>
                    <a:pt x="1343" y="767"/>
                  </a:lnTo>
                  <a:lnTo>
                    <a:pt x="1337" y="756"/>
                  </a:lnTo>
                  <a:lnTo>
                    <a:pt x="1331" y="746"/>
                  </a:lnTo>
                  <a:lnTo>
                    <a:pt x="1329" y="736"/>
                  </a:lnTo>
                  <a:lnTo>
                    <a:pt x="1327" y="726"/>
                  </a:lnTo>
                  <a:lnTo>
                    <a:pt x="1325" y="718"/>
                  </a:lnTo>
                  <a:lnTo>
                    <a:pt x="1323" y="708"/>
                  </a:lnTo>
                  <a:lnTo>
                    <a:pt x="1323" y="700"/>
                  </a:lnTo>
                  <a:lnTo>
                    <a:pt x="1322" y="690"/>
                  </a:lnTo>
                  <a:lnTo>
                    <a:pt x="1322" y="682"/>
                  </a:lnTo>
                  <a:lnTo>
                    <a:pt x="1322" y="673"/>
                  </a:lnTo>
                  <a:lnTo>
                    <a:pt x="1325" y="665"/>
                  </a:lnTo>
                  <a:lnTo>
                    <a:pt x="1330" y="665"/>
                  </a:lnTo>
                  <a:lnTo>
                    <a:pt x="1336" y="669"/>
                  </a:lnTo>
                  <a:lnTo>
                    <a:pt x="1339" y="674"/>
                  </a:lnTo>
                  <a:lnTo>
                    <a:pt x="1343" y="682"/>
                  </a:lnTo>
                  <a:lnTo>
                    <a:pt x="1345" y="687"/>
                  </a:lnTo>
                  <a:lnTo>
                    <a:pt x="1349" y="693"/>
                  </a:lnTo>
                  <a:lnTo>
                    <a:pt x="1353" y="699"/>
                  </a:lnTo>
                  <a:lnTo>
                    <a:pt x="1360" y="703"/>
                  </a:lnTo>
                  <a:lnTo>
                    <a:pt x="1377" y="729"/>
                  </a:lnTo>
                  <a:lnTo>
                    <a:pt x="1382" y="716"/>
                  </a:lnTo>
                  <a:lnTo>
                    <a:pt x="1385" y="704"/>
                  </a:lnTo>
                  <a:lnTo>
                    <a:pt x="1381" y="693"/>
                  </a:lnTo>
                  <a:lnTo>
                    <a:pt x="1376" y="684"/>
                  </a:lnTo>
                  <a:lnTo>
                    <a:pt x="1368" y="673"/>
                  </a:lnTo>
                  <a:lnTo>
                    <a:pt x="1361" y="664"/>
                  </a:lnTo>
                  <a:lnTo>
                    <a:pt x="1355" y="653"/>
                  </a:lnTo>
                  <a:lnTo>
                    <a:pt x="1353" y="642"/>
                  </a:lnTo>
                  <a:lnTo>
                    <a:pt x="1351" y="634"/>
                  </a:lnTo>
                  <a:lnTo>
                    <a:pt x="1347" y="627"/>
                  </a:lnTo>
                  <a:lnTo>
                    <a:pt x="1345" y="619"/>
                  </a:lnTo>
                  <a:lnTo>
                    <a:pt x="1349" y="612"/>
                  </a:lnTo>
                  <a:lnTo>
                    <a:pt x="1356" y="613"/>
                  </a:lnTo>
                  <a:lnTo>
                    <a:pt x="1363" y="618"/>
                  </a:lnTo>
                  <a:lnTo>
                    <a:pt x="1369" y="623"/>
                  </a:lnTo>
                  <a:lnTo>
                    <a:pt x="1374" y="631"/>
                  </a:lnTo>
                  <a:lnTo>
                    <a:pt x="1378" y="637"/>
                  </a:lnTo>
                  <a:lnTo>
                    <a:pt x="1384" y="644"/>
                  </a:lnTo>
                  <a:lnTo>
                    <a:pt x="1390" y="651"/>
                  </a:lnTo>
                  <a:lnTo>
                    <a:pt x="1397" y="657"/>
                  </a:lnTo>
                  <a:lnTo>
                    <a:pt x="1398" y="650"/>
                  </a:lnTo>
                  <a:lnTo>
                    <a:pt x="1398" y="642"/>
                  </a:lnTo>
                  <a:lnTo>
                    <a:pt x="1397" y="635"/>
                  </a:lnTo>
                  <a:lnTo>
                    <a:pt x="1396" y="628"/>
                  </a:lnTo>
                  <a:lnTo>
                    <a:pt x="1395" y="621"/>
                  </a:lnTo>
                  <a:lnTo>
                    <a:pt x="1396" y="613"/>
                  </a:lnTo>
                  <a:lnTo>
                    <a:pt x="1400" y="607"/>
                  </a:lnTo>
                  <a:lnTo>
                    <a:pt x="1406" y="602"/>
                  </a:lnTo>
                  <a:lnTo>
                    <a:pt x="1397" y="591"/>
                  </a:lnTo>
                  <a:lnTo>
                    <a:pt x="1390" y="582"/>
                  </a:lnTo>
                  <a:lnTo>
                    <a:pt x="1381" y="572"/>
                  </a:lnTo>
                  <a:lnTo>
                    <a:pt x="1374" y="562"/>
                  </a:lnTo>
                  <a:lnTo>
                    <a:pt x="1365" y="552"/>
                  </a:lnTo>
                  <a:lnTo>
                    <a:pt x="1360" y="542"/>
                  </a:lnTo>
                  <a:lnTo>
                    <a:pt x="1355" y="531"/>
                  </a:lnTo>
                  <a:lnTo>
                    <a:pt x="1353" y="521"/>
                  </a:lnTo>
                  <a:lnTo>
                    <a:pt x="1359" y="519"/>
                  </a:lnTo>
                  <a:lnTo>
                    <a:pt x="1365" y="521"/>
                  </a:lnTo>
                  <a:lnTo>
                    <a:pt x="1372" y="524"/>
                  </a:lnTo>
                  <a:lnTo>
                    <a:pt x="1378" y="529"/>
                  </a:lnTo>
                  <a:lnTo>
                    <a:pt x="1384" y="535"/>
                  </a:lnTo>
                  <a:lnTo>
                    <a:pt x="1390" y="541"/>
                  </a:lnTo>
                  <a:lnTo>
                    <a:pt x="1396" y="546"/>
                  </a:lnTo>
                  <a:lnTo>
                    <a:pt x="1403" y="552"/>
                  </a:lnTo>
                  <a:lnTo>
                    <a:pt x="1409" y="545"/>
                  </a:lnTo>
                  <a:lnTo>
                    <a:pt x="1412" y="538"/>
                  </a:lnTo>
                  <a:lnTo>
                    <a:pt x="1411" y="529"/>
                  </a:lnTo>
                  <a:lnTo>
                    <a:pt x="1410" y="523"/>
                  </a:lnTo>
                  <a:lnTo>
                    <a:pt x="1398" y="513"/>
                  </a:lnTo>
                  <a:lnTo>
                    <a:pt x="1388" y="509"/>
                  </a:lnTo>
                  <a:lnTo>
                    <a:pt x="1376" y="507"/>
                  </a:lnTo>
                  <a:lnTo>
                    <a:pt x="1364" y="509"/>
                  </a:lnTo>
                  <a:lnTo>
                    <a:pt x="1352" y="510"/>
                  </a:lnTo>
                  <a:lnTo>
                    <a:pt x="1339" y="513"/>
                  </a:lnTo>
                  <a:lnTo>
                    <a:pt x="1326" y="514"/>
                  </a:lnTo>
                  <a:lnTo>
                    <a:pt x="1314" y="515"/>
                  </a:lnTo>
                  <a:lnTo>
                    <a:pt x="1293" y="525"/>
                  </a:lnTo>
                  <a:lnTo>
                    <a:pt x="1281" y="540"/>
                  </a:lnTo>
                  <a:lnTo>
                    <a:pt x="1275" y="558"/>
                  </a:lnTo>
                  <a:lnTo>
                    <a:pt x="1274" y="578"/>
                  </a:lnTo>
                  <a:lnTo>
                    <a:pt x="1273" y="598"/>
                  </a:lnTo>
                  <a:lnTo>
                    <a:pt x="1273" y="619"/>
                  </a:lnTo>
                  <a:lnTo>
                    <a:pt x="1271" y="638"/>
                  </a:lnTo>
                  <a:lnTo>
                    <a:pt x="1266" y="657"/>
                  </a:lnTo>
                  <a:lnTo>
                    <a:pt x="1259" y="676"/>
                  </a:lnTo>
                  <a:lnTo>
                    <a:pt x="1254" y="696"/>
                  </a:lnTo>
                  <a:lnTo>
                    <a:pt x="1248" y="715"/>
                  </a:lnTo>
                  <a:lnTo>
                    <a:pt x="1244" y="734"/>
                  </a:lnTo>
                  <a:lnTo>
                    <a:pt x="1238" y="752"/>
                  </a:lnTo>
                  <a:lnTo>
                    <a:pt x="1232" y="771"/>
                  </a:lnTo>
                  <a:lnTo>
                    <a:pt x="1224" y="788"/>
                  </a:lnTo>
                  <a:lnTo>
                    <a:pt x="1215" y="806"/>
                  </a:lnTo>
                  <a:lnTo>
                    <a:pt x="1208" y="804"/>
                  </a:lnTo>
                  <a:lnTo>
                    <a:pt x="1203" y="799"/>
                  </a:lnTo>
                  <a:lnTo>
                    <a:pt x="1206" y="785"/>
                  </a:lnTo>
                  <a:lnTo>
                    <a:pt x="1208" y="771"/>
                  </a:lnTo>
                  <a:lnTo>
                    <a:pt x="1209" y="757"/>
                  </a:lnTo>
                  <a:lnTo>
                    <a:pt x="1211" y="745"/>
                  </a:lnTo>
                  <a:lnTo>
                    <a:pt x="1211" y="731"/>
                  </a:lnTo>
                  <a:lnTo>
                    <a:pt x="1212" y="717"/>
                  </a:lnTo>
                  <a:lnTo>
                    <a:pt x="1213" y="704"/>
                  </a:lnTo>
                  <a:lnTo>
                    <a:pt x="1215" y="693"/>
                  </a:lnTo>
                  <a:lnTo>
                    <a:pt x="1209" y="693"/>
                  </a:lnTo>
                  <a:lnTo>
                    <a:pt x="1206" y="696"/>
                  </a:lnTo>
                  <a:lnTo>
                    <a:pt x="1202" y="699"/>
                  </a:lnTo>
                  <a:lnTo>
                    <a:pt x="1201" y="704"/>
                  </a:lnTo>
                  <a:lnTo>
                    <a:pt x="1198" y="711"/>
                  </a:lnTo>
                  <a:lnTo>
                    <a:pt x="1193" y="718"/>
                  </a:lnTo>
                  <a:lnTo>
                    <a:pt x="1183" y="764"/>
                  </a:lnTo>
                  <a:lnTo>
                    <a:pt x="1172" y="809"/>
                  </a:lnTo>
                  <a:lnTo>
                    <a:pt x="1156" y="853"/>
                  </a:lnTo>
                  <a:lnTo>
                    <a:pt x="1136" y="897"/>
                  </a:lnTo>
                  <a:lnTo>
                    <a:pt x="1114" y="937"/>
                  </a:lnTo>
                  <a:lnTo>
                    <a:pt x="1089" y="978"/>
                  </a:lnTo>
                  <a:lnTo>
                    <a:pt x="1064" y="1017"/>
                  </a:lnTo>
                  <a:lnTo>
                    <a:pt x="1038" y="1058"/>
                  </a:lnTo>
                  <a:lnTo>
                    <a:pt x="1021" y="1058"/>
                  </a:lnTo>
                  <a:lnTo>
                    <a:pt x="1018" y="1046"/>
                  </a:lnTo>
                  <a:lnTo>
                    <a:pt x="1020" y="1037"/>
                  </a:lnTo>
                  <a:lnTo>
                    <a:pt x="1023" y="1030"/>
                  </a:lnTo>
                  <a:lnTo>
                    <a:pt x="1031" y="1024"/>
                  </a:lnTo>
                  <a:lnTo>
                    <a:pt x="1037" y="1017"/>
                  </a:lnTo>
                  <a:lnTo>
                    <a:pt x="1045" y="1012"/>
                  </a:lnTo>
                  <a:lnTo>
                    <a:pt x="1050" y="1005"/>
                  </a:lnTo>
                  <a:lnTo>
                    <a:pt x="1056" y="999"/>
                  </a:lnTo>
                  <a:lnTo>
                    <a:pt x="1054" y="983"/>
                  </a:lnTo>
                  <a:lnTo>
                    <a:pt x="1055" y="970"/>
                  </a:lnTo>
                  <a:lnTo>
                    <a:pt x="1059" y="958"/>
                  </a:lnTo>
                  <a:lnTo>
                    <a:pt x="1065" y="946"/>
                  </a:lnTo>
                  <a:lnTo>
                    <a:pt x="1069" y="934"/>
                  </a:lnTo>
                  <a:lnTo>
                    <a:pt x="1076" y="922"/>
                  </a:lnTo>
                  <a:lnTo>
                    <a:pt x="1081" y="911"/>
                  </a:lnTo>
                  <a:lnTo>
                    <a:pt x="1086" y="900"/>
                  </a:lnTo>
                  <a:lnTo>
                    <a:pt x="1080" y="894"/>
                  </a:lnTo>
                  <a:lnTo>
                    <a:pt x="1071" y="893"/>
                  </a:lnTo>
                  <a:lnTo>
                    <a:pt x="1061" y="905"/>
                  </a:lnTo>
                  <a:lnTo>
                    <a:pt x="1053" y="920"/>
                  </a:lnTo>
                  <a:lnTo>
                    <a:pt x="1046" y="935"/>
                  </a:lnTo>
                  <a:lnTo>
                    <a:pt x="1038" y="950"/>
                  </a:lnTo>
                  <a:lnTo>
                    <a:pt x="1029" y="963"/>
                  </a:lnTo>
                  <a:lnTo>
                    <a:pt x="1019" y="977"/>
                  </a:lnTo>
                  <a:lnTo>
                    <a:pt x="1005" y="988"/>
                  </a:lnTo>
                  <a:lnTo>
                    <a:pt x="990" y="999"/>
                  </a:lnTo>
                  <a:lnTo>
                    <a:pt x="981" y="999"/>
                  </a:lnTo>
                  <a:lnTo>
                    <a:pt x="971" y="997"/>
                  </a:lnTo>
                  <a:lnTo>
                    <a:pt x="963" y="993"/>
                  </a:lnTo>
                  <a:lnTo>
                    <a:pt x="957" y="986"/>
                  </a:lnTo>
                  <a:lnTo>
                    <a:pt x="949" y="993"/>
                  </a:lnTo>
                  <a:lnTo>
                    <a:pt x="941" y="1001"/>
                  </a:lnTo>
                  <a:lnTo>
                    <a:pt x="934" y="1010"/>
                  </a:lnTo>
                  <a:lnTo>
                    <a:pt x="927" y="1019"/>
                  </a:lnTo>
                  <a:lnTo>
                    <a:pt x="919" y="1027"/>
                  </a:lnTo>
                  <a:lnTo>
                    <a:pt x="910" y="1035"/>
                  </a:lnTo>
                  <a:lnTo>
                    <a:pt x="901" y="1041"/>
                  </a:lnTo>
                  <a:lnTo>
                    <a:pt x="891" y="1047"/>
                  </a:lnTo>
                  <a:lnTo>
                    <a:pt x="883" y="1044"/>
                  </a:lnTo>
                  <a:lnTo>
                    <a:pt x="874" y="1042"/>
                  </a:lnTo>
                  <a:lnTo>
                    <a:pt x="866" y="1036"/>
                  </a:lnTo>
                  <a:lnTo>
                    <a:pt x="861" y="1029"/>
                  </a:lnTo>
                  <a:lnTo>
                    <a:pt x="853" y="1034"/>
                  </a:lnTo>
                  <a:lnTo>
                    <a:pt x="844" y="1044"/>
                  </a:lnTo>
                  <a:lnTo>
                    <a:pt x="836" y="1052"/>
                  </a:lnTo>
                  <a:lnTo>
                    <a:pt x="828" y="1061"/>
                  </a:lnTo>
                  <a:lnTo>
                    <a:pt x="819" y="1067"/>
                  </a:lnTo>
                  <a:lnTo>
                    <a:pt x="809" y="1072"/>
                  </a:lnTo>
                  <a:lnTo>
                    <a:pt x="799" y="1070"/>
                  </a:lnTo>
                  <a:lnTo>
                    <a:pt x="788" y="1067"/>
                  </a:lnTo>
                  <a:lnTo>
                    <a:pt x="782" y="1057"/>
                  </a:lnTo>
                  <a:lnTo>
                    <a:pt x="773" y="1047"/>
                  </a:lnTo>
                  <a:lnTo>
                    <a:pt x="768" y="1051"/>
                  </a:lnTo>
                  <a:lnTo>
                    <a:pt x="763" y="1058"/>
                  </a:lnTo>
                  <a:lnTo>
                    <a:pt x="760" y="1063"/>
                  </a:lnTo>
                  <a:lnTo>
                    <a:pt x="757" y="1069"/>
                  </a:lnTo>
                  <a:lnTo>
                    <a:pt x="753" y="1074"/>
                  </a:lnTo>
                  <a:lnTo>
                    <a:pt x="748" y="1078"/>
                  </a:lnTo>
                  <a:lnTo>
                    <a:pt x="743" y="1080"/>
                  </a:lnTo>
                  <a:lnTo>
                    <a:pt x="738" y="1082"/>
                  </a:lnTo>
                  <a:lnTo>
                    <a:pt x="729" y="1081"/>
                  </a:lnTo>
                  <a:lnTo>
                    <a:pt x="724" y="1080"/>
                  </a:lnTo>
                  <a:lnTo>
                    <a:pt x="718" y="1076"/>
                  </a:lnTo>
                  <a:lnTo>
                    <a:pt x="714" y="1073"/>
                  </a:lnTo>
                  <a:lnTo>
                    <a:pt x="714" y="1060"/>
                  </a:lnTo>
                  <a:lnTo>
                    <a:pt x="720" y="1049"/>
                  </a:lnTo>
                  <a:lnTo>
                    <a:pt x="725" y="1040"/>
                  </a:lnTo>
                  <a:lnTo>
                    <a:pt x="732" y="1030"/>
                  </a:lnTo>
                  <a:lnTo>
                    <a:pt x="738" y="1020"/>
                  </a:lnTo>
                  <a:lnTo>
                    <a:pt x="743" y="1011"/>
                  </a:lnTo>
                  <a:lnTo>
                    <a:pt x="744" y="1001"/>
                  </a:lnTo>
                  <a:lnTo>
                    <a:pt x="742" y="992"/>
                  </a:lnTo>
                  <a:lnTo>
                    <a:pt x="741" y="980"/>
                  </a:lnTo>
                  <a:lnTo>
                    <a:pt x="744" y="971"/>
                  </a:lnTo>
                  <a:lnTo>
                    <a:pt x="751" y="964"/>
                  </a:lnTo>
                  <a:lnTo>
                    <a:pt x="760" y="961"/>
                  </a:lnTo>
                  <a:lnTo>
                    <a:pt x="764" y="949"/>
                  </a:lnTo>
                  <a:lnTo>
                    <a:pt x="762" y="938"/>
                  </a:lnTo>
                  <a:lnTo>
                    <a:pt x="760" y="933"/>
                  </a:lnTo>
                  <a:lnTo>
                    <a:pt x="760" y="928"/>
                  </a:lnTo>
                  <a:lnTo>
                    <a:pt x="759" y="921"/>
                  </a:lnTo>
                  <a:lnTo>
                    <a:pt x="762" y="916"/>
                  </a:lnTo>
                  <a:lnTo>
                    <a:pt x="770" y="915"/>
                  </a:lnTo>
                  <a:lnTo>
                    <a:pt x="775" y="917"/>
                  </a:lnTo>
                  <a:lnTo>
                    <a:pt x="778" y="919"/>
                  </a:lnTo>
                  <a:lnTo>
                    <a:pt x="783" y="925"/>
                  </a:lnTo>
                  <a:lnTo>
                    <a:pt x="784" y="929"/>
                  </a:lnTo>
                  <a:lnTo>
                    <a:pt x="787" y="935"/>
                  </a:lnTo>
                  <a:lnTo>
                    <a:pt x="790" y="941"/>
                  </a:lnTo>
                  <a:lnTo>
                    <a:pt x="795" y="946"/>
                  </a:lnTo>
                  <a:lnTo>
                    <a:pt x="804" y="943"/>
                  </a:lnTo>
                  <a:lnTo>
                    <a:pt x="813" y="942"/>
                  </a:lnTo>
                  <a:lnTo>
                    <a:pt x="822" y="941"/>
                  </a:lnTo>
                  <a:lnTo>
                    <a:pt x="832" y="938"/>
                  </a:lnTo>
                  <a:lnTo>
                    <a:pt x="840" y="934"/>
                  </a:lnTo>
                  <a:lnTo>
                    <a:pt x="849" y="931"/>
                  </a:lnTo>
                  <a:lnTo>
                    <a:pt x="855" y="925"/>
                  </a:lnTo>
                  <a:lnTo>
                    <a:pt x="861" y="916"/>
                  </a:lnTo>
                  <a:lnTo>
                    <a:pt x="865" y="904"/>
                  </a:lnTo>
                  <a:lnTo>
                    <a:pt x="868" y="893"/>
                  </a:lnTo>
                  <a:lnTo>
                    <a:pt x="870" y="881"/>
                  </a:lnTo>
                  <a:lnTo>
                    <a:pt x="873" y="869"/>
                  </a:lnTo>
                  <a:lnTo>
                    <a:pt x="875" y="857"/>
                  </a:lnTo>
                  <a:lnTo>
                    <a:pt x="878" y="847"/>
                  </a:lnTo>
                  <a:lnTo>
                    <a:pt x="884" y="836"/>
                  </a:lnTo>
                  <a:lnTo>
                    <a:pt x="891" y="827"/>
                  </a:lnTo>
                  <a:lnTo>
                    <a:pt x="902" y="827"/>
                  </a:lnTo>
                  <a:lnTo>
                    <a:pt x="901" y="833"/>
                  </a:lnTo>
                  <a:lnTo>
                    <a:pt x="901" y="840"/>
                  </a:lnTo>
                  <a:lnTo>
                    <a:pt x="900" y="847"/>
                  </a:lnTo>
                  <a:lnTo>
                    <a:pt x="900" y="854"/>
                  </a:lnTo>
                  <a:lnTo>
                    <a:pt x="900" y="861"/>
                  </a:lnTo>
                  <a:lnTo>
                    <a:pt x="901" y="868"/>
                  </a:lnTo>
                  <a:lnTo>
                    <a:pt x="903" y="873"/>
                  </a:lnTo>
                  <a:lnTo>
                    <a:pt x="907" y="880"/>
                  </a:lnTo>
                  <a:lnTo>
                    <a:pt x="916" y="873"/>
                  </a:lnTo>
                  <a:lnTo>
                    <a:pt x="925" y="867"/>
                  </a:lnTo>
                  <a:lnTo>
                    <a:pt x="935" y="861"/>
                  </a:lnTo>
                  <a:lnTo>
                    <a:pt x="946" y="854"/>
                  </a:lnTo>
                  <a:lnTo>
                    <a:pt x="953" y="846"/>
                  </a:lnTo>
                  <a:lnTo>
                    <a:pt x="962" y="837"/>
                  </a:lnTo>
                  <a:lnTo>
                    <a:pt x="969" y="828"/>
                  </a:lnTo>
                  <a:lnTo>
                    <a:pt x="975" y="819"/>
                  </a:lnTo>
                  <a:lnTo>
                    <a:pt x="983" y="815"/>
                  </a:lnTo>
                  <a:lnTo>
                    <a:pt x="992" y="815"/>
                  </a:lnTo>
                  <a:lnTo>
                    <a:pt x="1001" y="816"/>
                  </a:lnTo>
                  <a:lnTo>
                    <a:pt x="1011" y="817"/>
                  </a:lnTo>
                  <a:lnTo>
                    <a:pt x="1018" y="822"/>
                  </a:lnTo>
                  <a:lnTo>
                    <a:pt x="1029" y="822"/>
                  </a:lnTo>
                  <a:lnTo>
                    <a:pt x="1037" y="812"/>
                  </a:lnTo>
                  <a:lnTo>
                    <a:pt x="1044" y="801"/>
                  </a:lnTo>
                  <a:lnTo>
                    <a:pt x="1048" y="788"/>
                  </a:lnTo>
                  <a:lnTo>
                    <a:pt x="1052" y="776"/>
                  </a:lnTo>
                  <a:lnTo>
                    <a:pt x="1055" y="764"/>
                  </a:lnTo>
                  <a:lnTo>
                    <a:pt x="1060" y="752"/>
                  </a:lnTo>
                  <a:lnTo>
                    <a:pt x="1065" y="740"/>
                  </a:lnTo>
                  <a:lnTo>
                    <a:pt x="1073" y="731"/>
                  </a:lnTo>
                  <a:lnTo>
                    <a:pt x="1082" y="731"/>
                  </a:lnTo>
                  <a:lnTo>
                    <a:pt x="1089" y="729"/>
                  </a:lnTo>
                  <a:lnTo>
                    <a:pt x="1089" y="718"/>
                  </a:lnTo>
                  <a:lnTo>
                    <a:pt x="1086" y="714"/>
                  </a:lnTo>
                  <a:lnTo>
                    <a:pt x="1080" y="710"/>
                  </a:lnTo>
                  <a:lnTo>
                    <a:pt x="1073" y="710"/>
                  </a:lnTo>
                  <a:lnTo>
                    <a:pt x="1065" y="708"/>
                  </a:lnTo>
                  <a:lnTo>
                    <a:pt x="1060" y="706"/>
                  </a:lnTo>
                  <a:lnTo>
                    <a:pt x="1054" y="701"/>
                  </a:lnTo>
                  <a:lnTo>
                    <a:pt x="1053" y="693"/>
                  </a:lnTo>
                  <a:lnTo>
                    <a:pt x="1052" y="685"/>
                  </a:lnTo>
                  <a:lnTo>
                    <a:pt x="1055" y="678"/>
                  </a:lnTo>
                  <a:lnTo>
                    <a:pt x="1059" y="673"/>
                  </a:lnTo>
                  <a:lnTo>
                    <a:pt x="1065" y="670"/>
                  </a:lnTo>
                  <a:lnTo>
                    <a:pt x="1069" y="666"/>
                  </a:lnTo>
                  <a:lnTo>
                    <a:pt x="1075" y="661"/>
                  </a:lnTo>
                  <a:lnTo>
                    <a:pt x="1080" y="655"/>
                  </a:lnTo>
                  <a:lnTo>
                    <a:pt x="1084" y="650"/>
                  </a:lnTo>
                  <a:lnTo>
                    <a:pt x="1085" y="639"/>
                  </a:lnTo>
                  <a:lnTo>
                    <a:pt x="1089" y="628"/>
                  </a:lnTo>
                  <a:lnTo>
                    <a:pt x="1093" y="618"/>
                  </a:lnTo>
                  <a:lnTo>
                    <a:pt x="1098" y="608"/>
                  </a:lnTo>
                  <a:lnTo>
                    <a:pt x="1100" y="598"/>
                  </a:lnTo>
                  <a:lnTo>
                    <a:pt x="1101" y="587"/>
                  </a:lnTo>
                  <a:lnTo>
                    <a:pt x="1098" y="577"/>
                  </a:lnTo>
                  <a:lnTo>
                    <a:pt x="1092" y="569"/>
                  </a:lnTo>
                  <a:lnTo>
                    <a:pt x="1088" y="560"/>
                  </a:lnTo>
                  <a:lnTo>
                    <a:pt x="1088" y="553"/>
                  </a:lnTo>
                  <a:lnTo>
                    <a:pt x="1088" y="543"/>
                  </a:lnTo>
                  <a:lnTo>
                    <a:pt x="1088" y="534"/>
                  </a:lnTo>
                  <a:lnTo>
                    <a:pt x="1087" y="524"/>
                  </a:lnTo>
                  <a:lnTo>
                    <a:pt x="1084" y="517"/>
                  </a:lnTo>
                  <a:lnTo>
                    <a:pt x="1078" y="510"/>
                  </a:lnTo>
                  <a:lnTo>
                    <a:pt x="1069" y="508"/>
                  </a:lnTo>
                  <a:lnTo>
                    <a:pt x="1063" y="509"/>
                  </a:lnTo>
                  <a:lnTo>
                    <a:pt x="1061" y="512"/>
                  </a:lnTo>
                  <a:lnTo>
                    <a:pt x="1060" y="517"/>
                  </a:lnTo>
                  <a:lnTo>
                    <a:pt x="1060" y="521"/>
                  </a:lnTo>
                  <a:lnTo>
                    <a:pt x="1060" y="528"/>
                  </a:lnTo>
                  <a:lnTo>
                    <a:pt x="1056" y="536"/>
                  </a:lnTo>
                  <a:lnTo>
                    <a:pt x="1052" y="533"/>
                  </a:lnTo>
                  <a:lnTo>
                    <a:pt x="1050" y="528"/>
                  </a:lnTo>
                  <a:lnTo>
                    <a:pt x="1048" y="523"/>
                  </a:lnTo>
                  <a:lnTo>
                    <a:pt x="1047" y="518"/>
                  </a:lnTo>
                  <a:lnTo>
                    <a:pt x="1044" y="511"/>
                  </a:lnTo>
                  <a:lnTo>
                    <a:pt x="1042" y="508"/>
                  </a:lnTo>
                  <a:lnTo>
                    <a:pt x="1037" y="505"/>
                  </a:lnTo>
                  <a:lnTo>
                    <a:pt x="1031" y="506"/>
                  </a:lnTo>
                  <a:lnTo>
                    <a:pt x="1024" y="515"/>
                  </a:lnTo>
                  <a:lnTo>
                    <a:pt x="1021" y="527"/>
                  </a:lnTo>
                  <a:lnTo>
                    <a:pt x="1021" y="538"/>
                  </a:lnTo>
                  <a:lnTo>
                    <a:pt x="1022" y="550"/>
                  </a:lnTo>
                  <a:lnTo>
                    <a:pt x="1022" y="561"/>
                  </a:lnTo>
                  <a:lnTo>
                    <a:pt x="1023" y="573"/>
                  </a:lnTo>
                  <a:lnTo>
                    <a:pt x="1021" y="585"/>
                  </a:lnTo>
                  <a:lnTo>
                    <a:pt x="1018" y="596"/>
                  </a:lnTo>
                  <a:lnTo>
                    <a:pt x="1021" y="602"/>
                  </a:lnTo>
                  <a:lnTo>
                    <a:pt x="1013" y="604"/>
                  </a:lnTo>
                  <a:lnTo>
                    <a:pt x="1007" y="609"/>
                  </a:lnTo>
                  <a:lnTo>
                    <a:pt x="1001" y="616"/>
                  </a:lnTo>
                  <a:lnTo>
                    <a:pt x="998" y="623"/>
                  </a:lnTo>
                  <a:lnTo>
                    <a:pt x="994" y="631"/>
                  </a:lnTo>
                  <a:lnTo>
                    <a:pt x="991" y="639"/>
                  </a:lnTo>
                  <a:lnTo>
                    <a:pt x="988" y="648"/>
                  </a:lnTo>
                  <a:lnTo>
                    <a:pt x="988" y="657"/>
                  </a:lnTo>
                  <a:lnTo>
                    <a:pt x="979" y="660"/>
                  </a:lnTo>
                  <a:lnTo>
                    <a:pt x="972" y="667"/>
                  </a:lnTo>
                  <a:lnTo>
                    <a:pt x="966" y="672"/>
                  </a:lnTo>
                  <a:lnTo>
                    <a:pt x="963" y="680"/>
                  </a:lnTo>
                  <a:lnTo>
                    <a:pt x="958" y="686"/>
                  </a:lnTo>
                  <a:lnTo>
                    <a:pt x="955" y="693"/>
                  </a:lnTo>
                  <a:lnTo>
                    <a:pt x="952" y="701"/>
                  </a:lnTo>
                  <a:lnTo>
                    <a:pt x="950" y="708"/>
                  </a:lnTo>
                  <a:lnTo>
                    <a:pt x="937" y="719"/>
                  </a:lnTo>
                  <a:lnTo>
                    <a:pt x="924" y="731"/>
                  </a:lnTo>
                  <a:lnTo>
                    <a:pt x="912" y="740"/>
                  </a:lnTo>
                  <a:lnTo>
                    <a:pt x="900" y="751"/>
                  </a:lnTo>
                  <a:lnTo>
                    <a:pt x="887" y="758"/>
                  </a:lnTo>
                  <a:lnTo>
                    <a:pt x="874" y="767"/>
                  </a:lnTo>
                  <a:lnTo>
                    <a:pt x="861" y="775"/>
                  </a:lnTo>
                  <a:lnTo>
                    <a:pt x="849" y="784"/>
                  </a:lnTo>
                  <a:lnTo>
                    <a:pt x="850" y="776"/>
                  </a:lnTo>
                  <a:lnTo>
                    <a:pt x="853" y="772"/>
                  </a:lnTo>
                  <a:lnTo>
                    <a:pt x="857" y="767"/>
                  </a:lnTo>
                  <a:lnTo>
                    <a:pt x="864" y="764"/>
                  </a:lnTo>
                  <a:lnTo>
                    <a:pt x="869" y="758"/>
                  </a:lnTo>
                  <a:lnTo>
                    <a:pt x="874" y="754"/>
                  </a:lnTo>
                  <a:lnTo>
                    <a:pt x="880" y="749"/>
                  </a:lnTo>
                  <a:lnTo>
                    <a:pt x="884" y="743"/>
                  </a:lnTo>
                  <a:lnTo>
                    <a:pt x="888" y="733"/>
                  </a:lnTo>
                  <a:lnTo>
                    <a:pt x="894" y="723"/>
                  </a:lnTo>
                  <a:lnTo>
                    <a:pt x="899" y="713"/>
                  </a:lnTo>
                  <a:lnTo>
                    <a:pt x="900" y="703"/>
                  </a:lnTo>
                  <a:lnTo>
                    <a:pt x="887" y="683"/>
                  </a:lnTo>
                  <a:lnTo>
                    <a:pt x="873" y="691"/>
                  </a:lnTo>
                  <a:lnTo>
                    <a:pt x="861" y="702"/>
                  </a:lnTo>
                  <a:lnTo>
                    <a:pt x="849" y="714"/>
                  </a:lnTo>
                  <a:lnTo>
                    <a:pt x="838" y="725"/>
                  </a:lnTo>
                  <a:lnTo>
                    <a:pt x="825" y="735"/>
                  </a:lnTo>
                  <a:lnTo>
                    <a:pt x="813" y="745"/>
                  </a:lnTo>
                  <a:lnTo>
                    <a:pt x="800" y="750"/>
                  </a:lnTo>
                  <a:lnTo>
                    <a:pt x="786" y="754"/>
                  </a:lnTo>
                  <a:lnTo>
                    <a:pt x="753" y="776"/>
                  </a:lnTo>
                  <a:lnTo>
                    <a:pt x="759" y="767"/>
                  </a:lnTo>
                  <a:lnTo>
                    <a:pt x="768" y="758"/>
                  </a:lnTo>
                  <a:lnTo>
                    <a:pt x="775" y="751"/>
                  </a:lnTo>
                  <a:lnTo>
                    <a:pt x="784" y="745"/>
                  </a:lnTo>
                  <a:lnTo>
                    <a:pt x="791" y="737"/>
                  </a:lnTo>
                  <a:lnTo>
                    <a:pt x="799" y="730"/>
                  </a:lnTo>
                  <a:lnTo>
                    <a:pt x="806" y="721"/>
                  </a:lnTo>
                  <a:lnTo>
                    <a:pt x="813" y="714"/>
                  </a:lnTo>
                  <a:lnTo>
                    <a:pt x="809" y="702"/>
                  </a:lnTo>
                  <a:lnTo>
                    <a:pt x="804" y="698"/>
                  </a:lnTo>
                  <a:lnTo>
                    <a:pt x="797" y="697"/>
                  </a:lnTo>
                  <a:lnTo>
                    <a:pt x="791" y="701"/>
                  </a:lnTo>
                  <a:lnTo>
                    <a:pt x="783" y="705"/>
                  </a:lnTo>
                  <a:lnTo>
                    <a:pt x="775" y="709"/>
                  </a:lnTo>
                  <a:lnTo>
                    <a:pt x="767" y="710"/>
                  </a:lnTo>
                  <a:lnTo>
                    <a:pt x="760" y="708"/>
                  </a:lnTo>
                  <a:lnTo>
                    <a:pt x="736" y="731"/>
                  </a:lnTo>
                  <a:lnTo>
                    <a:pt x="710" y="753"/>
                  </a:lnTo>
                  <a:lnTo>
                    <a:pt x="682" y="773"/>
                  </a:lnTo>
                  <a:lnTo>
                    <a:pt x="654" y="792"/>
                  </a:lnTo>
                  <a:lnTo>
                    <a:pt x="623" y="808"/>
                  </a:lnTo>
                  <a:lnTo>
                    <a:pt x="593" y="824"/>
                  </a:lnTo>
                  <a:lnTo>
                    <a:pt x="562" y="838"/>
                  </a:lnTo>
                  <a:lnTo>
                    <a:pt x="532" y="852"/>
                  </a:lnTo>
                  <a:lnTo>
                    <a:pt x="524" y="852"/>
                  </a:lnTo>
                  <a:lnTo>
                    <a:pt x="516" y="855"/>
                  </a:lnTo>
                  <a:lnTo>
                    <a:pt x="508" y="857"/>
                  </a:lnTo>
                  <a:lnTo>
                    <a:pt x="500" y="860"/>
                  </a:lnTo>
                  <a:lnTo>
                    <a:pt x="491" y="860"/>
                  </a:lnTo>
                  <a:lnTo>
                    <a:pt x="483" y="861"/>
                  </a:lnTo>
                  <a:lnTo>
                    <a:pt x="474" y="860"/>
                  </a:lnTo>
                  <a:lnTo>
                    <a:pt x="466" y="857"/>
                  </a:lnTo>
                  <a:lnTo>
                    <a:pt x="498" y="849"/>
                  </a:lnTo>
                  <a:lnTo>
                    <a:pt x="529" y="836"/>
                  </a:lnTo>
                  <a:lnTo>
                    <a:pt x="558" y="818"/>
                  </a:lnTo>
                  <a:lnTo>
                    <a:pt x="587" y="800"/>
                  </a:lnTo>
                  <a:lnTo>
                    <a:pt x="613" y="779"/>
                  </a:lnTo>
                  <a:lnTo>
                    <a:pt x="641" y="759"/>
                  </a:lnTo>
                  <a:lnTo>
                    <a:pt x="670" y="741"/>
                  </a:lnTo>
                  <a:lnTo>
                    <a:pt x="699" y="729"/>
                  </a:lnTo>
                  <a:lnTo>
                    <a:pt x="698" y="721"/>
                  </a:lnTo>
                  <a:lnTo>
                    <a:pt x="698" y="716"/>
                  </a:lnTo>
                  <a:lnTo>
                    <a:pt x="695" y="711"/>
                  </a:lnTo>
                  <a:lnTo>
                    <a:pt x="692" y="708"/>
                  </a:lnTo>
                  <a:lnTo>
                    <a:pt x="671" y="711"/>
                  </a:lnTo>
                  <a:lnTo>
                    <a:pt x="650" y="718"/>
                  </a:lnTo>
                  <a:lnTo>
                    <a:pt x="630" y="724"/>
                  </a:lnTo>
                  <a:lnTo>
                    <a:pt x="611" y="734"/>
                  </a:lnTo>
                  <a:lnTo>
                    <a:pt x="592" y="742"/>
                  </a:lnTo>
                  <a:lnTo>
                    <a:pt x="573" y="752"/>
                  </a:lnTo>
                  <a:lnTo>
                    <a:pt x="553" y="763"/>
                  </a:lnTo>
                  <a:lnTo>
                    <a:pt x="535" y="774"/>
                  </a:lnTo>
                  <a:lnTo>
                    <a:pt x="541" y="766"/>
                  </a:lnTo>
                  <a:lnTo>
                    <a:pt x="549" y="762"/>
                  </a:lnTo>
                  <a:lnTo>
                    <a:pt x="552" y="758"/>
                  </a:lnTo>
                  <a:lnTo>
                    <a:pt x="556" y="755"/>
                  </a:lnTo>
                  <a:lnTo>
                    <a:pt x="558" y="751"/>
                  </a:lnTo>
                  <a:lnTo>
                    <a:pt x="560" y="746"/>
                  </a:lnTo>
                  <a:lnTo>
                    <a:pt x="547" y="736"/>
                  </a:lnTo>
                  <a:lnTo>
                    <a:pt x="524" y="741"/>
                  </a:lnTo>
                  <a:lnTo>
                    <a:pt x="502" y="749"/>
                  </a:lnTo>
                  <a:lnTo>
                    <a:pt x="480" y="756"/>
                  </a:lnTo>
                  <a:lnTo>
                    <a:pt x="459" y="766"/>
                  </a:lnTo>
                  <a:lnTo>
                    <a:pt x="436" y="773"/>
                  </a:lnTo>
                  <a:lnTo>
                    <a:pt x="415" y="781"/>
                  </a:lnTo>
                  <a:lnTo>
                    <a:pt x="392" y="786"/>
                  </a:lnTo>
                  <a:lnTo>
                    <a:pt x="368" y="789"/>
                  </a:lnTo>
                  <a:lnTo>
                    <a:pt x="378" y="780"/>
                  </a:lnTo>
                  <a:lnTo>
                    <a:pt x="389" y="773"/>
                  </a:lnTo>
                  <a:lnTo>
                    <a:pt x="400" y="767"/>
                  </a:lnTo>
                  <a:lnTo>
                    <a:pt x="412" y="762"/>
                  </a:lnTo>
                  <a:lnTo>
                    <a:pt x="422" y="754"/>
                  </a:lnTo>
                  <a:lnTo>
                    <a:pt x="433" y="748"/>
                  </a:lnTo>
                  <a:lnTo>
                    <a:pt x="444" y="739"/>
                  </a:lnTo>
                  <a:lnTo>
                    <a:pt x="454" y="731"/>
                  </a:lnTo>
                  <a:lnTo>
                    <a:pt x="452" y="723"/>
                  </a:lnTo>
                  <a:lnTo>
                    <a:pt x="453" y="718"/>
                  </a:lnTo>
                  <a:lnTo>
                    <a:pt x="451" y="713"/>
                  </a:lnTo>
                  <a:lnTo>
                    <a:pt x="446" y="714"/>
                  </a:lnTo>
                  <a:lnTo>
                    <a:pt x="439" y="711"/>
                  </a:lnTo>
                  <a:lnTo>
                    <a:pt x="433" y="711"/>
                  </a:lnTo>
                  <a:lnTo>
                    <a:pt x="428" y="714"/>
                  </a:lnTo>
                  <a:lnTo>
                    <a:pt x="422" y="717"/>
                  </a:lnTo>
                  <a:lnTo>
                    <a:pt x="412" y="722"/>
                  </a:lnTo>
                  <a:lnTo>
                    <a:pt x="401" y="729"/>
                  </a:lnTo>
                  <a:lnTo>
                    <a:pt x="412" y="721"/>
                  </a:lnTo>
                  <a:lnTo>
                    <a:pt x="422" y="714"/>
                  </a:lnTo>
                  <a:lnTo>
                    <a:pt x="431" y="705"/>
                  </a:lnTo>
                  <a:lnTo>
                    <a:pt x="441" y="697"/>
                  </a:lnTo>
                  <a:lnTo>
                    <a:pt x="448" y="686"/>
                  </a:lnTo>
                  <a:lnTo>
                    <a:pt x="458" y="675"/>
                  </a:lnTo>
                  <a:lnTo>
                    <a:pt x="465" y="665"/>
                  </a:lnTo>
                  <a:lnTo>
                    <a:pt x="475" y="655"/>
                  </a:lnTo>
                  <a:lnTo>
                    <a:pt x="465" y="652"/>
                  </a:lnTo>
                  <a:lnTo>
                    <a:pt x="457" y="656"/>
                  </a:lnTo>
                  <a:lnTo>
                    <a:pt x="447" y="661"/>
                  </a:lnTo>
                  <a:lnTo>
                    <a:pt x="438" y="665"/>
                  </a:lnTo>
                  <a:lnTo>
                    <a:pt x="430" y="671"/>
                  </a:lnTo>
                  <a:lnTo>
                    <a:pt x="423" y="680"/>
                  </a:lnTo>
                  <a:lnTo>
                    <a:pt x="416" y="687"/>
                  </a:lnTo>
                  <a:lnTo>
                    <a:pt x="410" y="697"/>
                  </a:lnTo>
                  <a:lnTo>
                    <a:pt x="402" y="704"/>
                  </a:lnTo>
                  <a:lnTo>
                    <a:pt x="396" y="713"/>
                  </a:lnTo>
                  <a:lnTo>
                    <a:pt x="388" y="720"/>
                  </a:lnTo>
                  <a:lnTo>
                    <a:pt x="381" y="729"/>
                  </a:lnTo>
                  <a:lnTo>
                    <a:pt x="388" y="736"/>
                  </a:lnTo>
                  <a:lnTo>
                    <a:pt x="383" y="734"/>
                  </a:lnTo>
                  <a:lnTo>
                    <a:pt x="381" y="731"/>
                  </a:lnTo>
                  <a:lnTo>
                    <a:pt x="372" y="737"/>
                  </a:lnTo>
                  <a:lnTo>
                    <a:pt x="364" y="745"/>
                  </a:lnTo>
                  <a:lnTo>
                    <a:pt x="355" y="749"/>
                  </a:lnTo>
                  <a:lnTo>
                    <a:pt x="347" y="753"/>
                  </a:lnTo>
                  <a:lnTo>
                    <a:pt x="337" y="755"/>
                  </a:lnTo>
                  <a:lnTo>
                    <a:pt x="328" y="758"/>
                  </a:lnTo>
                  <a:lnTo>
                    <a:pt x="318" y="762"/>
                  </a:lnTo>
                  <a:lnTo>
                    <a:pt x="309" y="766"/>
                  </a:lnTo>
                  <a:lnTo>
                    <a:pt x="311" y="757"/>
                  </a:lnTo>
                  <a:lnTo>
                    <a:pt x="316" y="751"/>
                  </a:lnTo>
                  <a:lnTo>
                    <a:pt x="320" y="745"/>
                  </a:lnTo>
                  <a:lnTo>
                    <a:pt x="324" y="738"/>
                  </a:lnTo>
                  <a:lnTo>
                    <a:pt x="322" y="736"/>
                  </a:lnTo>
                  <a:lnTo>
                    <a:pt x="312" y="738"/>
                  </a:lnTo>
                  <a:lnTo>
                    <a:pt x="301" y="742"/>
                  </a:lnTo>
                  <a:lnTo>
                    <a:pt x="290" y="747"/>
                  </a:lnTo>
                  <a:lnTo>
                    <a:pt x="281" y="752"/>
                  </a:lnTo>
                  <a:lnTo>
                    <a:pt x="270" y="755"/>
                  </a:lnTo>
                  <a:lnTo>
                    <a:pt x="259" y="758"/>
                  </a:lnTo>
                  <a:lnTo>
                    <a:pt x="249" y="760"/>
                  </a:lnTo>
                  <a:lnTo>
                    <a:pt x="239" y="762"/>
                  </a:lnTo>
                  <a:lnTo>
                    <a:pt x="241" y="758"/>
                  </a:lnTo>
                  <a:lnTo>
                    <a:pt x="255" y="752"/>
                  </a:lnTo>
                  <a:lnTo>
                    <a:pt x="270" y="747"/>
                  </a:lnTo>
                  <a:lnTo>
                    <a:pt x="285" y="739"/>
                  </a:lnTo>
                  <a:lnTo>
                    <a:pt x="300" y="733"/>
                  </a:lnTo>
                  <a:lnTo>
                    <a:pt x="314" y="724"/>
                  </a:lnTo>
                  <a:lnTo>
                    <a:pt x="329" y="718"/>
                  </a:lnTo>
                  <a:lnTo>
                    <a:pt x="342" y="709"/>
                  </a:lnTo>
                  <a:lnTo>
                    <a:pt x="357" y="703"/>
                  </a:lnTo>
                  <a:lnTo>
                    <a:pt x="357" y="692"/>
                  </a:lnTo>
                  <a:lnTo>
                    <a:pt x="353" y="685"/>
                  </a:lnTo>
                  <a:lnTo>
                    <a:pt x="341" y="684"/>
                  </a:lnTo>
                  <a:lnTo>
                    <a:pt x="332" y="687"/>
                  </a:lnTo>
                  <a:lnTo>
                    <a:pt x="321" y="689"/>
                  </a:lnTo>
                  <a:lnTo>
                    <a:pt x="312" y="693"/>
                  </a:lnTo>
                  <a:lnTo>
                    <a:pt x="301" y="696"/>
                  </a:lnTo>
                  <a:lnTo>
                    <a:pt x="291" y="698"/>
                  </a:lnTo>
                  <a:lnTo>
                    <a:pt x="282" y="697"/>
                  </a:lnTo>
                  <a:lnTo>
                    <a:pt x="272" y="693"/>
                  </a:lnTo>
                  <a:lnTo>
                    <a:pt x="264" y="697"/>
                  </a:lnTo>
                  <a:lnTo>
                    <a:pt x="256" y="701"/>
                  </a:lnTo>
                  <a:lnTo>
                    <a:pt x="249" y="704"/>
                  </a:lnTo>
                  <a:lnTo>
                    <a:pt x="241" y="708"/>
                  </a:lnTo>
                  <a:lnTo>
                    <a:pt x="233" y="710"/>
                  </a:lnTo>
                  <a:lnTo>
                    <a:pt x="225" y="713"/>
                  </a:lnTo>
                  <a:lnTo>
                    <a:pt x="217" y="713"/>
                  </a:lnTo>
                  <a:lnTo>
                    <a:pt x="208" y="714"/>
                  </a:lnTo>
                  <a:lnTo>
                    <a:pt x="234" y="688"/>
                  </a:lnTo>
                  <a:lnTo>
                    <a:pt x="226" y="686"/>
                  </a:lnTo>
                  <a:lnTo>
                    <a:pt x="220" y="687"/>
                  </a:lnTo>
                  <a:lnTo>
                    <a:pt x="212" y="690"/>
                  </a:lnTo>
                  <a:lnTo>
                    <a:pt x="206" y="693"/>
                  </a:lnTo>
                  <a:lnTo>
                    <a:pt x="199" y="697"/>
                  </a:lnTo>
                  <a:lnTo>
                    <a:pt x="192" y="700"/>
                  </a:lnTo>
                  <a:lnTo>
                    <a:pt x="185" y="701"/>
                  </a:lnTo>
                  <a:lnTo>
                    <a:pt x="178" y="703"/>
                  </a:lnTo>
                  <a:lnTo>
                    <a:pt x="167" y="702"/>
                  </a:lnTo>
                  <a:lnTo>
                    <a:pt x="157" y="704"/>
                  </a:lnTo>
                  <a:lnTo>
                    <a:pt x="147" y="708"/>
                  </a:lnTo>
                  <a:lnTo>
                    <a:pt x="139" y="714"/>
                  </a:lnTo>
                  <a:lnTo>
                    <a:pt x="129" y="717"/>
                  </a:lnTo>
                  <a:lnTo>
                    <a:pt x="121" y="720"/>
                  </a:lnTo>
                  <a:lnTo>
                    <a:pt x="111" y="719"/>
                  </a:lnTo>
                  <a:lnTo>
                    <a:pt x="102" y="716"/>
                  </a:lnTo>
                  <a:lnTo>
                    <a:pt x="103" y="707"/>
                  </a:lnTo>
                  <a:lnTo>
                    <a:pt x="108" y="702"/>
                  </a:lnTo>
                  <a:lnTo>
                    <a:pt x="114" y="699"/>
                  </a:lnTo>
                  <a:lnTo>
                    <a:pt x="122" y="696"/>
                  </a:lnTo>
                  <a:lnTo>
                    <a:pt x="129" y="692"/>
                  </a:lnTo>
                  <a:lnTo>
                    <a:pt x="138" y="690"/>
                  </a:lnTo>
                  <a:lnTo>
                    <a:pt x="145" y="686"/>
                  </a:lnTo>
                  <a:lnTo>
                    <a:pt x="153" y="683"/>
                  </a:lnTo>
                  <a:lnTo>
                    <a:pt x="149" y="673"/>
                  </a:lnTo>
                  <a:lnTo>
                    <a:pt x="143" y="668"/>
                  </a:lnTo>
                  <a:lnTo>
                    <a:pt x="135" y="667"/>
                  </a:lnTo>
                  <a:lnTo>
                    <a:pt x="127" y="673"/>
                  </a:lnTo>
                  <a:lnTo>
                    <a:pt x="117" y="674"/>
                  </a:lnTo>
                  <a:lnTo>
                    <a:pt x="106" y="675"/>
                  </a:lnTo>
                  <a:lnTo>
                    <a:pt x="96" y="676"/>
                  </a:lnTo>
                  <a:lnTo>
                    <a:pt x="87" y="677"/>
                  </a:lnTo>
                  <a:lnTo>
                    <a:pt x="77" y="678"/>
                  </a:lnTo>
                  <a:lnTo>
                    <a:pt x="68" y="681"/>
                  </a:lnTo>
                  <a:lnTo>
                    <a:pt x="58" y="684"/>
                  </a:lnTo>
                  <a:lnTo>
                    <a:pt x="49" y="688"/>
                  </a:lnTo>
                  <a:lnTo>
                    <a:pt x="43" y="681"/>
                  </a:lnTo>
                  <a:lnTo>
                    <a:pt x="44" y="670"/>
                  </a:lnTo>
                  <a:lnTo>
                    <a:pt x="51" y="660"/>
                  </a:lnTo>
                  <a:lnTo>
                    <a:pt x="61" y="656"/>
                  </a:lnTo>
                  <a:lnTo>
                    <a:pt x="71" y="652"/>
                  </a:lnTo>
                  <a:lnTo>
                    <a:pt x="81" y="650"/>
                  </a:lnTo>
                  <a:lnTo>
                    <a:pt x="75" y="645"/>
                  </a:lnTo>
                  <a:lnTo>
                    <a:pt x="70" y="642"/>
                  </a:lnTo>
                  <a:lnTo>
                    <a:pt x="62" y="641"/>
                  </a:lnTo>
                  <a:lnTo>
                    <a:pt x="56" y="641"/>
                  </a:lnTo>
                  <a:lnTo>
                    <a:pt x="48" y="641"/>
                  </a:lnTo>
                  <a:lnTo>
                    <a:pt x="41" y="643"/>
                  </a:lnTo>
                  <a:lnTo>
                    <a:pt x="35" y="644"/>
                  </a:lnTo>
                  <a:lnTo>
                    <a:pt x="29" y="648"/>
                  </a:lnTo>
                  <a:lnTo>
                    <a:pt x="24" y="650"/>
                  </a:lnTo>
                  <a:lnTo>
                    <a:pt x="20" y="641"/>
                  </a:lnTo>
                  <a:lnTo>
                    <a:pt x="15" y="635"/>
                  </a:lnTo>
                  <a:lnTo>
                    <a:pt x="9" y="626"/>
                  </a:lnTo>
                  <a:lnTo>
                    <a:pt x="4" y="620"/>
                  </a:lnTo>
                  <a:lnTo>
                    <a:pt x="11" y="606"/>
                  </a:lnTo>
                  <a:lnTo>
                    <a:pt x="16" y="592"/>
                  </a:lnTo>
                  <a:lnTo>
                    <a:pt x="16" y="577"/>
                  </a:lnTo>
                  <a:lnTo>
                    <a:pt x="16" y="563"/>
                  </a:lnTo>
                  <a:lnTo>
                    <a:pt x="13" y="549"/>
                  </a:lnTo>
                  <a:lnTo>
                    <a:pt x="10" y="534"/>
                  </a:lnTo>
                  <a:lnTo>
                    <a:pt x="5" y="520"/>
                  </a:lnTo>
                  <a:lnTo>
                    <a:pt x="0" y="508"/>
                  </a:lnTo>
                  <a:lnTo>
                    <a:pt x="0" y="501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4" y="478"/>
                  </a:lnTo>
                  <a:lnTo>
                    <a:pt x="6" y="472"/>
                  </a:lnTo>
                  <a:lnTo>
                    <a:pt x="10" y="468"/>
                  </a:lnTo>
                  <a:lnTo>
                    <a:pt x="16" y="465"/>
                  </a:lnTo>
                  <a:lnTo>
                    <a:pt x="26" y="468"/>
                  </a:lnTo>
                  <a:lnTo>
                    <a:pt x="25" y="449"/>
                  </a:lnTo>
                  <a:lnTo>
                    <a:pt x="32" y="438"/>
                  </a:lnTo>
                  <a:lnTo>
                    <a:pt x="43" y="427"/>
                  </a:lnTo>
                  <a:lnTo>
                    <a:pt x="58" y="421"/>
                  </a:lnTo>
                  <a:lnTo>
                    <a:pt x="71" y="412"/>
                  </a:lnTo>
                  <a:lnTo>
                    <a:pt x="82" y="405"/>
                  </a:lnTo>
                  <a:lnTo>
                    <a:pt x="90" y="393"/>
                  </a:lnTo>
                  <a:lnTo>
                    <a:pt x="92" y="379"/>
                  </a:lnTo>
                  <a:lnTo>
                    <a:pt x="119" y="349"/>
                  </a:lnTo>
                  <a:lnTo>
                    <a:pt x="153" y="328"/>
                  </a:lnTo>
                  <a:lnTo>
                    <a:pt x="189" y="311"/>
                  </a:lnTo>
                  <a:lnTo>
                    <a:pt x="225" y="296"/>
                  </a:lnTo>
                  <a:lnTo>
                    <a:pt x="258" y="277"/>
                  </a:lnTo>
                  <a:lnTo>
                    <a:pt x="288" y="255"/>
                  </a:lnTo>
                  <a:lnTo>
                    <a:pt x="308" y="224"/>
                  </a:lnTo>
                  <a:lnTo>
                    <a:pt x="320" y="184"/>
                  </a:lnTo>
                  <a:lnTo>
                    <a:pt x="325" y="174"/>
                  </a:lnTo>
                  <a:lnTo>
                    <a:pt x="332" y="163"/>
                  </a:lnTo>
                  <a:lnTo>
                    <a:pt x="338" y="152"/>
                  </a:lnTo>
                  <a:lnTo>
                    <a:pt x="347" y="143"/>
                  </a:lnTo>
                  <a:lnTo>
                    <a:pt x="355" y="133"/>
                  </a:lnTo>
                  <a:lnTo>
                    <a:pt x="366" y="127"/>
                  </a:lnTo>
                  <a:lnTo>
                    <a:pt x="377" y="122"/>
                  </a:lnTo>
                  <a:lnTo>
                    <a:pt x="390" y="121"/>
                  </a:lnTo>
                  <a:lnTo>
                    <a:pt x="403" y="110"/>
                  </a:lnTo>
                  <a:lnTo>
                    <a:pt x="419" y="103"/>
                  </a:lnTo>
                  <a:lnTo>
                    <a:pt x="436" y="100"/>
                  </a:lnTo>
                  <a:lnTo>
                    <a:pt x="455" y="101"/>
                  </a:lnTo>
                  <a:lnTo>
                    <a:pt x="472" y="101"/>
                  </a:lnTo>
                  <a:lnTo>
                    <a:pt x="491" y="102"/>
                  </a:lnTo>
                  <a:lnTo>
                    <a:pt x="508" y="100"/>
                  </a:lnTo>
                  <a:lnTo>
                    <a:pt x="525" y="96"/>
                  </a:lnTo>
                  <a:lnTo>
                    <a:pt x="537" y="97"/>
                  </a:lnTo>
                  <a:lnTo>
                    <a:pt x="550" y="98"/>
                  </a:lnTo>
                  <a:lnTo>
                    <a:pt x="563" y="99"/>
                  </a:lnTo>
                  <a:lnTo>
                    <a:pt x="577" y="100"/>
                  </a:lnTo>
                  <a:lnTo>
                    <a:pt x="590" y="100"/>
                  </a:lnTo>
                  <a:lnTo>
                    <a:pt x="602" y="103"/>
                  </a:lnTo>
                  <a:lnTo>
                    <a:pt x="615" y="105"/>
                  </a:lnTo>
                  <a:lnTo>
                    <a:pt x="628" y="111"/>
                  </a:lnTo>
                  <a:lnTo>
                    <a:pt x="637" y="111"/>
                  </a:lnTo>
                  <a:lnTo>
                    <a:pt x="646" y="112"/>
                  </a:lnTo>
                  <a:lnTo>
                    <a:pt x="655" y="114"/>
                  </a:lnTo>
                  <a:lnTo>
                    <a:pt x="664" y="118"/>
                  </a:lnTo>
                  <a:lnTo>
                    <a:pt x="672" y="121"/>
                  </a:lnTo>
                  <a:lnTo>
                    <a:pt x="679" y="128"/>
                  </a:lnTo>
                  <a:lnTo>
                    <a:pt x="686" y="134"/>
                  </a:lnTo>
                  <a:lnTo>
                    <a:pt x="692" y="144"/>
                  </a:lnTo>
                  <a:lnTo>
                    <a:pt x="691" y="160"/>
                  </a:lnTo>
                  <a:lnTo>
                    <a:pt x="690" y="177"/>
                  </a:lnTo>
                  <a:lnTo>
                    <a:pt x="687" y="193"/>
                  </a:lnTo>
                  <a:lnTo>
                    <a:pt x="685" y="211"/>
                  </a:lnTo>
                  <a:lnTo>
                    <a:pt x="681" y="227"/>
                  </a:lnTo>
                  <a:lnTo>
                    <a:pt x="678" y="244"/>
                  </a:lnTo>
                  <a:lnTo>
                    <a:pt x="675" y="261"/>
                  </a:lnTo>
                  <a:lnTo>
                    <a:pt x="674" y="278"/>
                  </a:lnTo>
                  <a:lnTo>
                    <a:pt x="669" y="284"/>
                  </a:lnTo>
                  <a:lnTo>
                    <a:pt x="663" y="286"/>
                  </a:lnTo>
                  <a:lnTo>
                    <a:pt x="658" y="284"/>
                  </a:lnTo>
                  <a:lnTo>
                    <a:pt x="653" y="282"/>
                  </a:lnTo>
                  <a:lnTo>
                    <a:pt x="647" y="279"/>
                  </a:lnTo>
                  <a:lnTo>
                    <a:pt x="644" y="278"/>
                  </a:lnTo>
                  <a:lnTo>
                    <a:pt x="640" y="281"/>
                  </a:lnTo>
                  <a:lnTo>
                    <a:pt x="639" y="291"/>
                  </a:lnTo>
                  <a:lnTo>
                    <a:pt x="644" y="297"/>
                  </a:lnTo>
                  <a:lnTo>
                    <a:pt x="652" y="302"/>
                  </a:lnTo>
                  <a:lnTo>
                    <a:pt x="660" y="306"/>
                  </a:lnTo>
                  <a:lnTo>
                    <a:pt x="670" y="308"/>
                  </a:lnTo>
                  <a:lnTo>
                    <a:pt x="678" y="308"/>
                  </a:lnTo>
                  <a:lnTo>
                    <a:pt x="688" y="308"/>
                  </a:lnTo>
                  <a:lnTo>
                    <a:pt x="697" y="307"/>
                  </a:lnTo>
                  <a:lnTo>
                    <a:pt x="707" y="306"/>
                  </a:lnTo>
                  <a:lnTo>
                    <a:pt x="732" y="278"/>
                  </a:lnTo>
                  <a:lnTo>
                    <a:pt x="739" y="282"/>
                  </a:lnTo>
                  <a:lnTo>
                    <a:pt x="746" y="286"/>
                  </a:lnTo>
                  <a:lnTo>
                    <a:pt x="754" y="289"/>
                  </a:lnTo>
                  <a:lnTo>
                    <a:pt x="763" y="292"/>
                  </a:lnTo>
                  <a:lnTo>
                    <a:pt x="772" y="293"/>
                  </a:lnTo>
                  <a:lnTo>
                    <a:pt x="782" y="293"/>
                  </a:lnTo>
                  <a:lnTo>
                    <a:pt x="791" y="292"/>
                  </a:lnTo>
                  <a:lnTo>
                    <a:pt x="801" y="291"/>
                  </a:lnTo>
                  <a:lnTo>
                    <a:pt x="806" y="284"/>
                  </a:lnTo>
                  <a:lnTo>
                    <a:pt x="816" y="282"/>
                  </a:lnTo>
                  <a:lnTo>
                    <a:pt x="823" y="284"/>
                  </a:lnTo>
                  <a:lnTo>
                    <a:pt x="831" y="291"/>
                  </a:lnTo>
                  <a:lnTo>
                    <a:pt x="840" y="299"/>
                  </a:lnTo>
                  <a:lnTo>
                    <a:pt x="852" y="306"/>
                  </a:lnTo>
                  <a:lnTo>
                    <a:pt x="857" y="308"/>
                  </a:lnTo>
                  <a:lnTo>
                    <a:pt x="862" y="311"/>
                  </a:lnTo>
                  <a:lnTo>
                    <a:pt x="868" y="314"/>
                  </a:lnTo>
                  <a:lnTo>
                    <a:pt x="874" y="318"/>
                  </a:lnTo>
                  <a:lnTo>
                    <a:pt x="876" y="310"/>
                  </a:lnTo>
                  <a:lnTo>
                    <a:pt x="882" y="304"/>
                  </a:lnTo>
                  <a:lnTo>
                    <a:pt x="887" y="297"/>
                  </a:lnTo>
                  <a:lnTo>
                    <a:pt x="893" y="291"/>
                  </a:lnTo>
                  <a:lnTo>
                    <a:pt x="898" y="283"/>
                  </a:lnTo>
                  <a:lnTo>
                    <a:pt x="902" y="277"/>
                  </a:lnTo>
                  <a:lnTo>
                    <a:pt x="903" y="269"/>
                  </a:lnTo>
                  <a:lnTo>
                    <a:pt x="902" y="263"/>
                  </a:lnTo>
                  <a:lnTo>
                    <a:pt x="901" y="255"/>
                  </a:lnTo>
                  <a:lnTo>
                    <a:pt x="903" y="248"/>
                  </a:lnTo>
                  <a:lnTo>
                    <a:pt x="905" y="242"/>
                  </a:lnTo>
                  <a:lnTo>
                    <a:pt x="910" y="237"/>
                  </a:lnTo>
                  <a:lnTo>
                    <a:pt x="915" y="232"/>
                  </a:lnTo>
                  <a:lnTo>
                    <a:pt x="921" y="229"/>
                  </a:lnTo>
                  <a:lnTo>
                    <a:pt x="927" y="226"/>
                  </a:lnTo>
                  <a:lnTo>
                    <a:pt x="935" y="225"/>
                  </a:lnTo>
                  <a:lnTo>
                    <a:pt x="949" y="223"/>
                  </a:lnTo>
                  <a:lnTo>
                    <a:pt x="963" y="220"/>
                  </a:lnTo>
                  <a:lnTo>
                    <a:pt x="975" y="215"/>
                  </a:lnTo>
                  <a:lnTo>
                    <a:pt x="989" y="210"/>
                  </a:lnTo>
                  <a:lnTo>
                    <a:pt x="1002" y="203"/>
                  </a:lnTo>
                  <a:lnTo>
                    <a:pt x="1015" y="197"/>
                  </a:lnTo>
                  <a:lnTo>
                    <a:pt x="1028" y="192"/>
                  </a:lnTo>
                  <a:lnTo>
                    <a:pt x="1042" y="187"/>
                  </a:lnTo>
                  <a:lnTo>
                    <a:pt x="1047" y="185"/>
                  </a:lnTo>
                  <a:lnTo>
                    <a:pt x="1053" y="186"/>
                  </a:lnTo>
                  <a:lnTo>
                    <a:pt x="1057" y="186"/>
                  </a:lnTo>
                  <a:lnTo>
                    <a:pt x="1063" y="190"/>
                  </a:lnTo>
                  <a:lnTo>
                    <a:pt x="1071" y="194"/>
                  </a:lnTo>
                  <a:lnTo>
                    <a:pt x="1079" y="202"/>
                  </a:lnTo>
                  <a:lnTo>
                    <a:pt x="1079" y="208"/>
                  </a:lnTo>
                  <a:lnTo>
                    <a:pt x="1077" y="214"/>
                  </a:lnTo>
                  <a:lnTo>
                    <a:pt x="1073" y="220"/>
                  </a:lnTo>
                  <a:lnTo>
                    <a:pt x="1070" y="227"/>
                  </a:lnTo>
                  <a:lnTo>
                    <a:pt x="1067" y="232"/>
                  </a:lnTo>
                  <a:lnTo>
                    <a:pt x="1068" y="239"/>
                  </a:lnTo>
                  <a:lnTo>
                    <a:pt x="1071" y="243"/>
                  </a:lnTo>
                  <a:lnTo>
                    <a:pt x="1079" y="248"/>
                  </a:lnTo>
                  <a:lnTo>
                    <a:pt x="1084" y="242"/>
                  </a:lnTo>
                  <a:lnTo>
                    <a:pt x="1093" y="236"/>
                  </a:lnTo>
                  <a:lnTo>
                    <a:pt x="1099" y="231"/>
                  </a:lnTo>
                  <a:lnTo>
                    <a:pt x="1107" y="225"/>
                  </a:lnTo>
                  <a:lnTo>
                    <a:pt x="1104" y="217"/>
                  </a:lnTo>
                  <a:lnTo>
                    <a:pt x="1102" y="211"/>
                  </a:lnTo>
                  <a:lnTo>
                    <a:pt x="1099" y="204"/>
                  </a:lnTo>
                  <a:lnTo>
                    <a:pt x="1096" y="198"/>
                  </a:lnTo>
                  <a:lnTo>
                    <a:pt x="1093" y="191"/>
                  </a:lnTo>
                  <a:lnTo>
                    <a:pt x="1094" y="184"/>
                  </a:lnTo>
                  <a:lnTo>
                    <a:pt x="1096" y="178"/>
                  </a:lnTo>
                  <a:lnTo>
                    <a:pt x="1102" y="171"/>
                  </a:lnTo>
                  <a:lnTo>
                    <a:pt x="1111" y="169"/>
                  </a:lnTo>
                  <a:lnTo>
                    <a:pt x="1120" y="170"/>
                  </a:lnTo>
                  <a:lnTo>
                    <a:pt x="1128" y="172"/>
                  </a:lnTo>
                  <a:lnTo>
                    <a:pt x="1136" y="177"/>
                  </a:lnTo>
                  <a:lnTo>
                    <a:pt x="1143" y="179"/>
                  </a:lnTo>
                  <a:lnTo>
                    <a:pt x="1150" y="182"/>
                  </a:lnTo>
                  <a:lnTo>
                    <a:pt x="1158" y="184"/>
                  </a:lnTo>
                  <a:lnTo>
                    <a:pt x="1167" y="184"/>
                  </a:lnTo>
                  <a:lnTo>
                    <a:pt x="1160" y="174"/>
                  </a:lnTo>
                  <a:lnTo>
                    <a:pt x="1152" y="164"/>
                  </a:lnTo>
                  <a:lnTo>
                    <a:pt x="1145" y="153"/>
                  </a:lnTo>
                  <a:lnTo>
                    <a:pt x="1138" y="144"/>
                  </a:lnTo>
                  <a:lnTo>
                    <a:pt x="1132" y="133"/>
                  </a:lnTo>
                  <a:lnTo>
                    <a:pt x="1128" y="122"/>
                  </a:lnTo>
                  <a:lnTo>
                    <a:pt x="1125" y="110"/>
                  </a:lnTo>
                  <a:lnTo>
                    <a:pt x="1125" y="98"/>
                  </a:lnTo>
                  <a:lnTo>
                    <a:pt x="1133" y="92"/>
                  </a:lnTo>
                  <a:lnTo>
                    <a:pt x="1143" y="96"/>
                  </a:lnTo>
                  <a:lnTo>
                    <a:pt x="1148" y="109"/>
                  </a:lnTo>
                  <a:lnTo>
                    <a:pt x="1158" y="122"/>
                  </a:lnTo>
                  <a:lnTo>
                    <a:pt x="1166" y="133"/>
                  </a:lnTo>
                  <a:lnTo>
                    <a:pt x="1179" y="144"/>
                  </a:lnTo>
                  <a:lnTo>
                    <a:pt x="1192" y="152"/>
                  </a:lnTo>
                  <a:lnTo>
                    <a:pt x="1207" y="159"/>
                  </a:lnTo>
                  <a:lnTo>
                    <a:pt x="1222" y="164"/>
                  </a:lnTo>
                  <a:lnTo>
                    <a:pt x="1239" y="167"/>
                  </a:lnTo>
                  <a:lnTo>
                    <a:pt x="1246" y="166"/>
                  </a:lnTo>
                  <a:lnTo>
                    <a:pt x="1254" y="165"/>
                  </a:lnTo>
                  <a:lnTo>
                    <a:pt x="1261" y="162"/>
                  </a:lnTo>
                  <a:lnTo>
                    <a:pt x="1270" y="160"/>
                  </a:lnTo>
                  <a:lnTo>
                    <a:pt x="1276" y="157"/>
                  </a:lnTo>
                  <a:lnTo>
                    <a:pt x="1283" y="153"/>
                  </a:lnTo>
                  <a:lnTo>
                    <a:pt x="1291" y="150"/>
                  </a:lnTo>
                  <a:lnTo>
                    <a:pt x="1299" y="149"/>
                  </a:lnTo>
                  <a:lnTo>
                    <a:pt x="1290" y="135"/>
                  </a:lnTo>
                  <a:lnTo>
                    <a:pt x="1281" y="125"/>
                  </a:lnTo>
                  <a:lnTo>
                    <a:pt x="1271" y="115"/>
                  </a:lnTo>
                  <a:lnTo>
                    <a:pt x="1261" y="105"/>
                  </a:lnTo>
                  <a:lnTo>
                    <a:pt x="1250" y="96"/>
                  </a:lnTo>
                  <a:lnTo>
                    <a:pt x="1241" y="86"/>
                  </a:lnTo>
                  <a:lnTo>
                    <a:pt x="1231" y="76"/>
                  </a:lnTo>
                  <a:lnTo>
                    <a:pt x="1226" y="66"/>
                  </a:lnTo>
                  <a:lnTo>
                    <a:pt x="1232" y="62"/>
                  </a:lnTo>
                  <a:lnTo>
                    <a:pt x="1240" y="57"/>
                  </a:lnTo>
                  <a:lnTo>
                    <a:pt x="1245" y="51"/>
                  </a:lnTo>
                  <a:lnTo>
                    <a:pt x="1248" y="46"/>
                  </a:lnTo>
                  <a:lnTo>
                    <a:pt x="1263" y="43"/>
                  </a:lnTo>
                  <a:lnTo>
                    <a:pt x="1279" y="41"/>
                  </a:lnTo>
                  <a:lnTo>
                    <a:pt x="1295" y="41"/>
                  </a:lnTo>
                  <a:lnTo>
                    <a:pt x="1312" y="41"/>
                  </a:lnTo>
                  <a:lnTo>
                    <a:pt x="1328" y="40"/>
                  </a:lnTo>
                  <a:lnTo>
                    <a:pt x="1344" y="40"/>
                  </a:lnTo>
                  <a:lnTo>
                    <a:pt x="1359" y="39"/>
                  </a:lnTo>
                  <a:lnTo>
                    <a:pt x="1375" y="37"/>
                  </a:lnTo>
                  <a:lnTo>
                    <a:pt x="1372" y="31"/>
                  </a:lnTo>
                  <a:lnTo>
                    <a:pt x="1368" y="28"/>
                  </a:lnTo>
                  <a:lnTo>
                    <a:pt x="1362" y="23"/>
                  </a:lnTo>
                  <a:lnTo>
                    <a:pt x="1357" y="20"/>
                  </a:lnTo>
                  <a:lnTo>
                    <a:pt x="1351" y="16"/>
                  </a:lnTo>
                  <a:lnTo>
                    <a:pt x="1348" y="12"/>
                  </a:lnTo>
                  <a:lnTo>
                    <a:pt x="1348" y="5"/>
                  </a:lnTo>
                  <a:lnTo>
                    <a:pt x="1353" y="0"/>
                  </a:lnTo>
                  <a:lnTo>
                    <a:pt x="1372" y="4"/>
                  </a:lnTo>
                  <a:lnTo>
                    <a:pt x="1391" y="12"/>
                  </a:lnTo>
                  <a:lnTo>
                    <a:pt x="1409" y="20"/>
                  </a:lnTo>
                  <a:lnTo>
                    <a:pt x="1427" y="32"/>
                  </a:lnTo>
                  <a:lnTo>
                    <a:pt x="1443" y="44"/>
                  </a:lnTo>
                  <a:lnTo>
                    <a:pt x="1460" y="56"/>
                  </a:lnTo>
                  <a:lnTo>
                    <a:pt x="1477" y="69"/>
                  </a:lnTo>
                  <a:lnTo>
                    <a:pt x="1494" y="83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"/>
            <p:cNvSpPr/>
            <p:nvPr/>
          </p:nvSpPr>
          <p:spPr>
            <a:xfrm>
              <a:off x="4998960" y="2650680"/>
              <a:ext cx="44640" cy="2340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0"/>
                  </a:moveTo>
                  <a:lnTo>
                    <a:pt x="75" y="6"/>
                  </a:lnTo>
                  <a:lnTo>
                    <a:pt x="65" y="14"/>
                  </a:lnTo>
                  <a:lnTo>
                    <a:pt x="56" y="20"/>
                  </a:lnTo>
                  <a:lnTo>
                    <a:pt x="46" y="28"/>
                  </a:lnTo>
                  <a:lnTo>
                    <a:pt x="34" y="33"/>
                  </a:lnTo>
                  <a:lnTo>
                    <a:pt x="23" y="37"/>
                  </a:lnTo>
                  <a:lnTo>
                    <a:pt x="11" y="41"/>
                  </a:lnTo>
                  <a:lnTo>
                    <a:pt x="0" y="44"/>
                  </a:lnTo>
                  <a:lnTo>
                    <a:pt x="10" y="36"/>
                  </a:lnTo>
                  <a:lnTo>
                    <a:pt x="20" y="30"/>
                  </a:lnTo>
                  <a:lnTo>
                    <a:pt x="31" y="25"/>
                  </a:lnTo>
                  <a:lnTo>
                    <a:pt x="43" y="20"/>
                  </a:lnTo>
                  <a:lnTo>
                    <a:pt x="52" y="15"/>
                  </a:lnTo>
                  <a:lnTo>
                    <a:pt x="64" y="10"/>
                  </a:lnTo>
                  <a:lnTo>
                    <a:pt x="74" y="4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4791240" y="2685600"/>
              <a:ext cx="96840" cy="101160"/>
            </a:xfrm>
            <a:custGeom>
              <a:avLst/>
              <a:gdLst/>
              <a:ahLst/>
              <a:rect l="l" t="t" r="r" b="b"/>
              <a:pathLst>
                <a:path w="181" h="192">
                  <a:moveTo>
                    <a:pt x="148" y="15"/>
                  </a:moveTo>
                  <a:lnTo>
                    <a:pt x="147" y="21"/>
                  </a:lnTo>
                  <a:lnTo>
                    <a:pt x="146" y="31"/>
                  </a:lnTo>
                  <a:lnTo>
                    <a:pt x="144" y="40"/>
                  </a:lnTo>
                  <a:lnTo>
                    <a:pt x="143" y="49"/>
                  </a:lnTo>
                  <a:lnTo>
                    <a:pt x="142" y="57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8" y="76"/>
                  </a:lnTo>
                  <a:lnTo>
                    <a:pt x="164" y="75"/>
                  </a:lnTo>
                  <a:lnTo>
                    <a:pt x="170" y="78"/>
                  </a:lnTo>
                  <a:lnTo>
                    <a:pt x="174" y="80"/>
                  </a:lnTo>
                  <a:lnTo>
                    <a:pt x="181" y="81"/>
                  </a:lnTo>
                  <a:lnTo>
                    <a:pt x="178" y="86"/>
                  </a:lnTo>
                  <a:lnTo>
                    <a:pt x="173" y="91"/>
                  </a:lnTo>
                  <a:lnTo>
                    <a:pt x="155" y="80"/>
                  </a:lnTo>
                  <a:lnTo>
                    <a:pt x="142" y="79"/>
                  </a:lnTo>
                  <a:lnTo>
                    <a:pt x="131" y="85"/>
                  </a:lnTo>
                  <a:lnTo>
                    <a:pt x="124" y="97"/>
                  </a:lnTo>
                  <a:lnTo>
                    <a:pt x="116" y="111"/>
                  </a:lnTo>
                  <a:lnTo>
                    <a:pt x="109" y="126"/>
                  </a:lnTo>
                  <a:lnTo>
                    <a:pt x="101" y="139"/>
                  </a:lnTo>
                  <a:lnTo>
                    <a:pt x="92" y="149"/>
                  </a:lnTo>
                  <a:lnTo>
                    <a:pt x="82" y="157"/>
                  </a:lnTo>
                  <a:lnTo>
                    <a:pt x="74" y="165"/>
                  </a:lnTo>
                  <a:lnTo>
                    <a:pt x="64" y="173"/>
                  </a:lnTo>
                  <a:lnTo>
                    <a:pt x="56" y="180"/>
                  </a:lnTo>
                  <a:lnTo>
                    <a:pt x="45" y="185"/>
                  </a:lnTo>
                  <a:lnTo>
                    <a:pt x="34" y="190"/>
                  </a:lnTo>
                  <a:lnTo>
                    <a:pt x="23" y="192"/>
                  </a:lnTo>
                  <a:lnTo>
                    <a:pt x="11" y="192"/>
                  </a:lnTo>
                  <a:lnTo>
                    <a:pt x="3" y="179"/>
                  </a:lnTo>
                  <a:lnTo>
                    <a:pt x="0" y="167"/>
                  </a:lnTo>
                  <a:lnTo>
                    <a:pt x="1" y="153"/>
                  </a:lnTo>
                  <a:lnTo>
                    <a:pt x="5" y="140"/>
                  </a:lnTo>
                  <a:lnTo>
                    <a:pt x="11" y="126"/>
                  </a:lnTo>
                  <a:lnTo>
                    <a:pt x="17" y="112"/>
                  </a:lnTo>
                  <a:lnTo>
                    <a:pt x="24" y="99"/>
                  </a:lnTo>
                  <a:lnTo>
                    <a:pt x="31" y="89"/>
                  </a:lnTo>
                  <a:lnTo>
                    <a:pt x="37" y="74"/>
                  </a:lnTo>
                  <a:lnTo>
                    <a:pt x="47" y="62"/>
                  </a:lnTo>
                  <a:lnTo>
                    <a:pt x="57" y="50"/>
                  </a:lnTo>
                  <a:lnTo>
                    <a:pt x="69" y="41"/>
                  </a:lnTo>
                  <a:lnTo>
                    <a:pt x="81" y="31"/>
                  </a:lnTo>
                  <a:lnTo>
                    <a:pt x="94" y="21"/>
                  </a:lnTo>
                  <a:lnTo>
                    <a:pt x="107" y="11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5" y="5"/>
                  </a:lnTo>
                  <a:lnTo>
                    <a:pt x="142" y="9"/>
                  </a:lnTo>
                  <a:lnTo>
                    <a:pt x="148" y="15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5062680" y="2687400"/>
              <a:ext cx="77760" cy="31320"/>
            </a:xfrm>
            <a:custGeom>
              <a:avLst/>
              <a:gdLst/>
              <a:ahLst/>
              <a:rect l="l" t="t" r="r" b="b"/>
              <a:pathLst>
                <a:path w="146" h="60">
                  <a:moveTo>
                    <a:pt x="146" y="37"/>
                  </a:moveTo>
                  <a:lnTo>
                    <a:pt x="137" y="42"/>
                  </a:lnTo>
                  <a:lnTo>
                    <a:pt x="130" y="46"/>
                  </a:lnTo>
                  <a:lnTo>
                    <a:pt x="121" y="49"/>
                  </a:lnTo>
                  <a:lnTo>
                    <a:pt x="114" y="53"/>
                  </a:lnTo>
                  <a:lnTo>
                    <a:pt x="105" y="54"/>
                  </a:lnTo>
                  <a:lnTo>
                    <a:pt x="97" y="57"/>
                  </a:lnTo>
                  <a:lnTo>
                    <a:pt x="88" y="58"/>
                  </a:lnTo>
                  <a:lnTo>
                    <a:pt x="81" y="60"/>
                  </a:lnTo>
                  <a:lnTo>
                    <a:pt x="70" y="52"/>
                  </a:lnTo>
                  <a:lnTo>
                    <a:pt x="59" y="46"/>
                  </a:lnTo>
                  <a:lnTo>
                    <a:pt x="49" y="37"/>
                  </a:lnTo>
                  <a:lnTo>
                    <a:pt x="39" y="30"/>
                  </a:lnTo>
                  <a:lnTo>
                    <a:pt x="28" y="21"/>
                  </a:lnTo>
                  <a:lnTo>
                    <a:pt x="18" y="14"/>
                  </a:lnTo>
                  <a:lnTo>
                    <a:pt x="8" y="7"/>
                  </a:lnTo>
                  <a:lnTo>
                    <a:pt x="0" y="1"/>
                  </a:lnTo>
                  <a:lnTo>
                    <a:pt x="19" y="0"/>
                  </a:lnTo>
                  <a:lnTo>
                    <a:pt x="39" y="3"/>
                  </a:lnTo>
                  <a:lnTo>
                    <a:pt x="57" y="7"/>
                  </a:lnTo>
                  <a:lnTo>
                    <a:pt x="75" y="13"/>
                  </a:lnTo>
                  <a:lnTo>
                    <a:pt x="92" y="19"/>
                  </a:lnTo>
                  <a:lnTo>
                    <a:pt x="109" y="26"/>
                  </a:lnTo>
                  <a:lnTo>
                    <a:pt x="126" y="31"/>
                  </a:lnTo>
                  <a:lnTo>
                    <a:pt x="14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4913280" y="2701440"/>
              <a:ext cx="2556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0"/>
                  </a:moveTo>
                  <a:lnTo>
                    <a:pt x="44" y="4"/>
                  </a:lnTo>
                  <a:lnTo>
                    <a:pt x="40" y="12"/>
                  </a:lnTo>
                  <a:lnTo>
                    <a:pt x="35" y="19"/>
                  </a:lnTo>
                  <a:lnTo>
                    <a:pt x="31" y="26"/>
                  </a:lnTo>
                  <a:lnTo>
                    <a:pt x="25" y="32"/>
                  </a:lnTo>
                  <a:lnTo>
                    <a:pt x="19" y="35"/>
                  </a:lnTo>
                  <a:lnTo>
                    <a:pt x="12" y="34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24" y="10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5391000" y="2717280"/>
              <a:ext cx="46080" cy="6012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88" y="88"/>
                  </a:moveTo>
                  <a:lnTo>
                    <a:pt x="83" y="113"/>
                  </a:lnTo>
                  <a:lnTo>
                    <a:pt x="77" y="110"/>
                  </a:lnTo>
                  <a:lnTo>
                    <a:pt x="71" y="109"/>
                  </a:lnTo>
                  <a:lnTo>
                    <a:pt x="66" y="109"/>
                  </a:lnTo>
                  <a:lnTo>
                    <a:pt x="61" y="109"/>
                  </a:lnTo>
                  <a:lnTo>
                    <a:pt x="54" y="109"/>
                  </a:lnTo>
                  <a:lnTo>
                    <a:pt x="48" y="109"/>
                  </a:lnTo>
                  <a:lnTo>
                    <a:pt x="42" y="109"/>
                  </a:lnTo>
                  <a:lnTo>
                    <a:pt x="37" y="110"/>
                  </a:lnTo>
                  <a:lnTo>
                    <a:pt x="31" y="96"/>
                  </a:lnTo>
                  <a:lnTo>
                    <a:pt x="26" y="82"/>
                  </a:lnTo>
                  <a:lnTo>
                    <a:pt x="22" y="67"/>
                  </a:lnTo>
                  <a:lnTo>
                    <a:pt x="19" y="53"/>
                  </a:lnTo>
                  <a:lnTo>
                    <a:pt x="15" y="39"/>
                  </a:lnTo>
                  <a:lnTo>
                    <a:pt x="10" y="25"/>
                  </a:lnTo>
                  <a:lnTo>
                    <a:pt x="5" y="12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5" y="16"/>
                  </a:lnTo>
                  <a:lnTo>
                    <a:pt x="36" y="25"/>
                  </a:lnTo>
                  <a:lnTo>
                    <a:pt x="48" y="37"/>
                  </a:lnTo>
                  <a:lnTo>
                    <a:pt x="57" y="49"/>
                  </a:lnTo>
                  <a:lnTo>
                    <a:pt x="68" y="61"/>
                  </a:lnTo>
                  <a:lnTo>
                    <a:pt x="78" y="74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4594320" y="2741040"/>
              <a:ext cx="23760" cy="1224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0"/>
                  </a:moveTo>
                  <a:lnTo>
                    <a:pt x="35" y="9"/>
                  </a:lnTo>
                  <a:lnTo>
                    <a:pt x="26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7" y="23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6" y="13"/>
                  </a:lnTo>
                  <a:lnTo>
                    <a:pt x="11" y="10"/>
                  </a:lnTo>
                  <a:lnTo>
                    <a:pt x="18" y="8"/>
                  </a:lnTo>
                  <a:lnTo>
                    <a:pt x="25" y="9"/>
                  </a:lnTo>
                  <a:lnTo>
                    <a:pt x="31" y="6"/>
                  </a:lnTo>
                  <a:lnTo>
                    <a:pt x="3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4692600" y="2745720"/>
              <a:ext cx="28800" cy="154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5" y="13"/>
                  </a:moveTo>
                  <a:lnTo>
                    <a:pt x="50" y="28"/>
                  </a:lnTo>
                  <a:lnTo>
                    <a:pt x="43" y="21"/>
                  </a:lnTo>
                  <a:lnTo>
                    <a:pt x="38" y="18"/>
                  </a:lnTo>
                  <a:lnTo>
                    <a:pt x="31" y="14"/>
                  </a:lnTo>
                  <a:lnTo>
                    <a:pt x="26" y="12"/>
                  </a:lnTo>
                  <a:lnTo>
                    <a:pt x="19" y="9"/>
                  </a:lnTo>
                  <a:lnTo>
                    <a:pt x="12" y="6"/>
                  </a:lnTo>
                  <a:lnTo>
                    <a:pt x="6" y="4"/>
                  </a:lnTo>
                  <a:lnTo>
                    <a:pt x="0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9" y="1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4608360" y="2748960"/>
              <a:ext cx="73080" cy="80640"/>
            </a:xfrm>
            <a:custGeom>
              <a:avLst/>
              <a:gdLst/>
              <a:ahLst/>
              <a:rect l="l" t="t" r="r" b="b"/>
              <a:pathLst>
                <a:path w="137" h="151">
                  <a:moveTo>
                    <a:pt x="132" y="37"/>
                  </a:moveTo>
                  <a:lnTo>
                    <a:pt x="130" y="46"/>
                  </a:lnTo>
                  <a:lnTo>
                    <a:pt x="129" y="56"/>
                  </a:lnTo>
                  <a:lnTo>
                    <a:pt x="130" y="64"/>
                  </a:lnTo>
                  <a:lnTo>
                    <a:pt x="137" y="72"/>
                  </a:lnTo>
                  <a:lnTo>
                    <a:pt x="133" y="85"/>
                  </a:lnTo>
                  <a:lnTo>
                    <a:pt x="128" y="95"/>
                  </a:lnTo>
                  <a:lnTo>
                    <a:pt x="120" y="104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4" y="128"/>
                  </a:lnTo>
                  <a:lnTo>
                    <a:pt x="83" y="136"/>
                  </a:lnTo>
                  <a:lnTo>
                    <a:pt x="73" y="145"/>
                  </a:lnTo>
                  <a:lnTo>
                    <a:pt x="67" y="145"/>
                  </a:lnTo>
                  <a:lnTo>
                    <a:pt x="62" y="146"/>
                  </a:lnTo>
                  <a:lnTo>
                    <a:pt x="55" y="147"/>
                  </a:lnTo>
                  <a:lnTo>
                    <a:pt x="50" y="150"/>
                  </a:lnTo>
                  <a:lnTo>
                    <a:pt x="38" y="151"/>
                  </a:lnTo>
                  <a:lnTo>
                    <a:pt x="29" y="145"/>
                  </a:lnTo>
                  <a:lnTo>
                    <a:pt x="21" y="136"/>
                  </a:lnTo>
                  <a:lnTo>
                    <a:pt x="15" y="127"/>
                  </a:lnTo>
                  <a:lnTo>
                    <a:pt x="8" y="118"/>
                  </a:lnTo>
                  <a:lnTo>
                    <a:pt x="4" y="109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1" y="78"/>
                  </a:lnTo>
                  <a:lnTo>
                    <a:pt x="5" y="68"/>
                  </a:lnTo>
                  <a:lnTo>
                    <a:pt x="7" y="61"/>
                  </a:lnTo>
                  <a:lnTo>
                    <a:pt x="10" y="55"/>
                  </a:lnTo>
                  <a:lnTo>
                    <a:pt x="15" y="48"/>
                  </a:lnTo>
                  <a:lnTo>
                    <a:pt x="20" y="44"/>
                  </a:lnTo>
                  <a:lnTo>
                    <a:pt x="24" y="38"/>
                  </a:lnTo>
                  <a:lnTo>
                    <a:pt x="30" y="33"/>
                  </a:lnTo>
                  <a:lnTo>
                    <a:pt x="36" y="29"/>
                  </a:lnTo>
                  <a:lnTo>
                    <a:pt x="44" y="27"/>
                  </a:lnTo>
                  <a:lnTo>
                    <a:pt x="45" y="18"/>
                  </a:lnTo>
                  <a:lnTo>
                    <a:pt x="50" y="11"/>
                  </a:lnTo>
                  <a:lnTo>
                    <a:pt x="56" y="5"/>
                  </a:lnTo>
                  <a:lnTo>
                    <a:pt x="64" y="2"/>
                  </a:lnTo>
                  <a:lnTo>
                    <a:pt x="73" y="0"/>
                  </a:lnTo>
                  <a:lnTo>
                    <a:pt x="84" y="2"/>
                  </a:lnTo>
                  <a:lnTo>
                    <a:pt x="94" y="3"/>
                  </a:lnTo>
                  <a:lnTo>
                    <a:pt x="104" y="7"/>
                  </a:lnTo>
                  <a:lnTo>
                    <a:pt x="113" y="11"/>
                  </a:lnTo>
                  <a:lnTo>
                    <a:pt x="121" y="18"/>
                  </a:lnTo>
                  <a:lnTo>
                    <a:pt x="127" y="26"/>
                  </a:lnTo>
                  <a:lnTo>
                    <a:pt x="13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5581800" y="2770920"/>
              <a:ext cx="17280" cy="284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31" y="53"/>
                  </a:moveTo>
                  <a:lnTo>
                    <a:pt x="25" y="49"/>
                  </a:lnTo>
                  <a:lnTo>
                    <a:pt x="20" y="45"/>
                  </a:lnTo>
                  <a:lnTo>
                    <a:pt x="17" y="38"/>
                  </a:lnTo>
                  <a:lnTo>
                    <a:pt x="15" y="33"/>
                  </a:lnTo>
                  <a:lnTo>
                    <a:pt x="12" y="27"/>
                  </a:lnTo>
                  <a:lnTo>
                    <a:pt x="10" y="20"/>
                  </a:lnTo>
                  <a:lnTo>
                    <a:pt x="6" y="14"/>
                  </a:lnTo>
                  <a:lnTo>
                    <a:pt x="3" y="1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0" y="10"/>
                  </a:lnTo>
                  <a:lnTo>
                    <a:pt x="15" y="16"/>
                  </a:lnTo>
                  <a:lnTo>
                    <a:pt x="20" y="22"/>
                  </a:lnTo>
                  <a:lnTo>
                    <a:pt x="23" y="29"/>
                  </a:lnTo>
                  <a:lnTo>
                    <a:pt x="28" y="36"/>
                  </a:lnTo>
                  <a:lnTo>
                    <a:pt x="30" y="44"/>
                  </a:lnTo>
                  <a:lnTo>
                    <a:pt x="3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4627440" y="2770920"/>
              <a:ext cx="33480" cy="34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2" y="1"/>
                  </a:moveTo>
                  <a:lnTo>
                    <a:pt x="61" y="10"/>
                  </a:lnTo>
                  <a:lnTo>
                    <a:pt x="61" y="19"/>
                  </a:lnTo>
                  <a:lnTo>
                    <a:pt x="59" y="28"/>
                  </a:lnTo>
                  <a:lnTo>
                    <a:pt x="58" y="37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2" y="60"/>
                  </a:lnTo>
                  <a:lnTo>
                    <a:pt x="34" y="67"/>
                  </a:lnTo>
                  <a:lnTo>
                    <a:pt x="25" y="66"/>
                  </a:lnTo>
                  <a:lnTo>
                    <a:pt x="16" y="64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1" y="15"/>
                  </a:lnTo>
                  <a:lnTo>
                    <a:pt x="17" y="10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2" y="1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4621320" y="2772720"/>
              <a:ext cx="28440" cy="2988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1"/>
                  </a:moveTo>
                  <a:lnTo>
                    <a:pt x="53" y="8"/>
                  </a:lnTo>
                  <a:lnTo>
                    <a:pt x="53" y="16"/>
                  </a:lnTo>
                  <a:lnTo>
                    <a:pt x="50" y="24"/>
                  </a:lnTo>
                  <a:lnTo>
                    <a:pt x="49" y="32"/>
                  </a:lnTo>
                  <a:lnTo>
                    <a:pt x="45" y="38"/>
                  </a:lnTo>
                  <a:lnTo>
                    <a:pt x="42" y="46"/>
                  </a:lnTo>
                  <a:lnTo>
                    <a:pt x="34" y="51"/>
                  </a:lnTo>
                  <a:lnTo>
                    <a:pt x="28" y="58"/>
                  </a:lnTo>
                  <a:lnTo>
                    <a:pt x="20" y="55"/>
                  </a:lnTo>
                  <a:lnTo>
                    <a:pt x="14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4898880" y="2791800"/>
              <a:ext cx="19080" cy="75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22" y="15"/>
                  </a:moveTo>
                  <a:lnTo>
                    <a:pt x="0" y="15"/>
                  </a:lnTo>
                  <a:lnTo>
                    <a:pt x="6" y="9"/>
                  </a:lnTo>
                  <a:lnTo>
                    <a:pt x="16" y="6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4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5522760" y="2796480"/>
              <a:ext cx="17640" cy="2664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33" y="40"/>
                  </a:moveTo>
                  <a:lnTo>
                    <a:pt x="20" y="51"/>
                  </a:lnTo>
                  <a:lnTo>
                    <a:pt x="15" y="45"/>
                  </a:lnTo>
                  <a:lnTo>
                    <a:pt x="11" y="38"/>
                  </a:lnTo>
                  <a:lnTo>
                    <a:pt x="8" y="32"/>
                  </a:lnTo>
                  <a:lnTo>
                    <a:pt x="6" y="27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6" y="19"/>
                  </a:lnTo>
                  <a:lnTo>
                    <a:pt x="25" y="29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4869000" y="2801160"/>
              <a:ext cx="25200" cy="2196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8" y="0"/>
                  </a:moveTo>
                  <a:lnTo>
                    <a:pt x="48" y="7"/>
                  </a:lnTo>
                  <a:lnTo>
                    <a:pt x="48" y="13"/>
                  </a:lnTo>
                  <a:lnTo>
                    <a:pt x="45" y="19"/>
                  </a:lnTo>
                  <a:lnTo>
                    <a:pt x="43" y="25"/>
                  </a:lnTo>
                  <a:lnTo>
                    <a:pt x="34" y="32"/>
                  </a:lnTo>
                  <a:lnTo>
                    <a:pt x="23" y="39"/>
                  </a:lnTo>
                  <a:lnTo>
                    <a:pt x="17" y="41"/>
                  </a:lnTo>
                  <a:lnTo>
                    <a:pt x="12" y="43"/>
                  </a:lnTo>
                  <a:lnTo>
                    <a:pt x="5" y="4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9" y="21"/>
                  </a:lnTo>
                  <a:lnTo>
                    <a:pt x="26" y="14"/>
                  </a:lnTo>
                  <a:lnTo>
                    <a:pt x="33" y="10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5316480" y="2821680"/>
              <a:ext cx="23760" cy="155160"/>
            </a:xfrm>
            <a:custGeom>
              <a:avLst/>
              <a:gdLst/>
              <a:ahLst/>
              <a:rect l="l" t="t" r="r" b="b"/>
              <a:pathLst>
                <a:path w="45" h="296">
                  <a:moveTo>
                    <a:pt x="36" y="55"/>
                  </a:moveTo>
                  <a:lnTo>
                    <a:pt x="31" y="64"/>
                  </a:lnTo>
                  <a:lnTo>
                    <a:pt x="28" y="73"/>
                  </a:lnTo>
                  <a:lnTo>
                    <a:pt x="26" y="83"/>
                  </a:lnTo>
                  <a:lnTo>
                    <a:pt x="29" y="93"/>
                  </a:lnTo>
                  <a:lnTo>
                    <a:pt x="37" y="102"/>
                  </a:lnTo>
                  <a:lnTo>
                    <a:pt x="43" y="115"/>
                  </a:lnTo>
                  <a:lnTo>
                    <a:pt x="45" y="128"/>
                  </a:lnTo>
                  <a:lnTo>
                    <a:pt x="45" y="144"/>
                  </a:lnTo>
                  <a:lnTo>
                    <a:pt x="43" y="158"/>
                  </a:lnTo>
                  <a:lnTo>
                    <a:pt x="42" y="173"/>
                  </a:lnTo>
                  <a:lnTo>
                    <a:pt x="40" y="188"/>
                  </a:lnTo>
                  <a:lnTo>
                    <a:pt x="42" y="204"/>
                  </a:lnTo>
                  <a:lnTo>
                    <a:pt x="37" y="214"/>
                  </a:lnTo>
                  <a:lnTo>
                    <a:pt x="35" y="226"/>
                  </a:lnTo>
                  <a:lnTo>
                    <a:pt x="33" y="236"/>
                  </a:lnTo>
                  <a:lnTo>
                    <a:pt x="33" y="248"/>
                  </a:lnTo>
                  <a:lnTo>
                    <a:pt x="32" y="260"/>
                  </a:lnTo>
                  <a:lnTo>
                    <a:pt x="32" y="271"/>
                  </a:lnTo>
                  <a:lnTo>
                    <a:pt x="31" y="283"/>
                  </a:lnTo>
                  <a:lnTo>
                    <a:pt x="31" y="296"/>
                  </a:lnTo>
                  <a:lnTo>
                    <a:pt x="27" y="292"/>
                  </a:lnTo>
                  <a:lnTo>
                    <a:pt x="25" y="287"/>
                  </a:lnTo>
                  <a:lnTo>
                    <a:pt x="24" y="281"/>
                  </a:lnTo>
                  <a:lnTo>
                    <a:pt x="24" y="276"/>
                  </a:lnTo>
                  <a:lnTo>
                    <a:pt x="23" y="268"/>
                  </a:lnTo>
                  <a:lnTo>
                    <a:pt x="21" y="262"/>
                  </a:lnTo>
                  <a:lnTo>
                    <a:pt x="20" y="255"/>
                  </a:lnTo>
                  <a:lnTo>
                    <a:pt x="19" y="250"/>
                  </a:lnTo>
                  <a:lnTo>
                    <a:pt x="15" y="218"/>
                  </a:lnTo>
                  <a:lnTo>
                    <a:pt x="12" y="187"/>
                  </a:lnTo>
                  <a:lnTo>
                    <a:pt x="9" y="156"/>
                  </a:lnTo>
                  <a:lnTo>
                    <a:pt x="5" y="125"/>
                  </a:lnTo>
                  <a:lnTo>
                    <a:pt x="2" y="93"/>
                  </a:lnTo>
                  <a:lnTo>
                    <a:pt x="0" y="63"/>
                  </a:lnTo>
                  <a:lnTo>
                    <a:pt x="0" y="31"/>
                  </a:lnTo>
                  <a:lnTo>
                    <a:pt x="3" y="0"/>
                  </a:lnTo>
                  <a:lnTo>
                    <a:pt x="9" y="4"/>
                  </a:lnTo>
                  <a:lnTo>
                    <a:pt x="14" y="10"/>
                  </a:lnTo>
                  <a:lnTo>
                    <a:pt x="18" y="17"/>
                  </a:lnTo>
                  <a:lnTo>
                    <a:pt x="24" y="24"/>
                  </a:lnTo>
                  <a:lnTo>
                    <a:pt x="27" y="31"/>
                  </a:lnTo>
                  <a:lnTo>
                    <a:pt x="30" y="39"/>
                  </a:lnTo>
                  <a:lnTo>
                    <a:pt x="33" y="47"/>
                  </a:lnTo>
                  <a:lnTo>
                    <a:pt x="3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5460840" y="2831400"/>
              <a:ext cx="5040" cy="3132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7" y="0"/>
                  </a:moveTo>
                  <a:lnTo>
                    <a:pt x="8" y="6"/>
                  </a:lnTo>
                  <a:lnTo>
                    <a:pt x="9" y="13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7" y="35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5276880" y="2839320"/>
              <a:ext cx="7920" cy="36000"/>
            </a:xfrm>
            <a:custGeom>
              <a:avLst/>
              <a:gdLst/>
              <a:ahLst/>
              <a:rect l="l" t="t" r="r" b="b"/>
              <a:pathLst>
                <a:path w="14" h="70">
                  <a:moveTo>
                    <a:pt x="14" y="70"/>
                  </a:moveTo>
                  <a:lnTo>
                    <a:pt x="11" y="60"/>
                  </a:lnTo>
                  <a:lnTo>
                    <a:pt x="9" y="52"/>
                  </a:lnTo>
                  <a:lnTo>
                    <a:pt x="7" y="43"/>
                  </a:lnTo>
                  <a:lnTo>
                    <a:pt x="5" y="35"/>
                  </a:lnTo>
                  <a:lnTo>
                    <a:pt x="2" y="25"/>
                  </a:lnTo>
                  <a:lnTo>
                    <a:pt x="1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6"/>
                  </a:lnTo>
                  <a:lnTo>
                    <a:pt x="6" y="14"/>
                  </a:lnTo>
                  <a:lnTo>
                    <a:pt x="9" y="21"/>
                  </a:lnTo>
                  <a:lnTo>
                    <a:pt x="12" y="31"/>
                  </a:lnTo>
                  <a:lnTo>
                    <a:pt x="13" y="39"/>
                  </a:lnTo>
                  <a:lnTo>
                    <a:pt x="14" y="49"/>
                  </a:lnTo>
                  <a:lnTo>
                    <a:pt x="14" y="59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5738760" y="2880360"/>
              <a:ext cx="19080" cy="5364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5" y="33"/>
                  </a:moveTo>
                  <a:lnTo>
                    <a:pt x="22" y="35"/>
                  </a:lnTo>
                  <a:lnTo>
                    <a:pt x="14" y="41"/>
                  </a:lnTo>
                  <a:lnTo>
                    <a:pt x="10" y="50"/>
                  </a:lnTo>
                  <a:lnTo>
                    <a:pt x="10" y="61"/>
                  </a:lnTo>
                  <a:lnTo>
                    <a:pt x="10" y="72"/>
                  </a:lnTo>
                  <a:lnTo>
                    <a:pt x="10" y="84"/>
                  </a:lnTo>
                  <a:lnTo>
                    <a:pt x="9" y="94"/>
                  </a:lnTo>
                  <a:lnTo>
                    <a:pt x="6" y="104"/>
                  </a:lnTo>
                  <a:lnTo>
                    <a:pt x="5" y="90"/>
                  </a:lnTo>
                  <a:lnTo>
                    <a:pt x="3" y="77"/>
                  </a:lnTo>
                  <a:lnTo>
                    <a:pt x="2" y="65"/>
                  </a:lnTo>
                  <a:lnTo>
                    <a:pt x="2" y="52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2" y="0"/>
                  </a:lnTo>
                  <a:lnTo>
                    <a:pt x="5" y="5"/>
                  </a:lnTo>
                  <a:lnTo>
                    <a:pt x="10" y="8"/>
                  </a:lnTo>
                  <a:lnTo>
                    <a:pt x="15" y="10"/>
                  </a:lnTo>
                  <a:lnTo>
                    <a:pt x="22" y="12"/>
                  </a:lnTo>
                  <a:lnTo>
                    <a:pt x="27" y="14"/>
                  </a:lnTo>
                  <a:lnTo>
                    <a:pt x="31" y="18"/>
                  </a:lnTo>
                  <a:lnTo>
                    <a:pt x="34" y="23"/>
                  </a:lnTo>
                  <a:lnTo>
                    <a:pt x="3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224320" y="2889720"/>
              <a:ext cx="5040" cy="1404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8" y="5"/>
                  </a:moveTo>
                  <a:lnTo>
                    <a:pt x="3" y="29"/>
                  </a:lnTo>
                  <a:lnTo>
                    <a:pt x="0" y="0"/>
                  </a:lnTo>
                  <a:lnTo>
                    <a:pt x="7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364000" y="2889720"/>
              <a:ext cx="3240" cy="34560"/>
            </a:xfrm>
            <a:custGeom>
              <a:avLst/>
              <a:gdLst/>
              <a:ahLst/>
              <a:rect l="l" t="t" r="r" b="b"/>
              <a:pathLst>
                <a:path w="7" h="66">
                  <a:moveTo>
                    <a:pt x="0" y="66"/>
                  </a:moveTo>
                  <a:lnTo>
                    <a:pt x="5" y="0"/>
                  </a:lnTo>
                  <a:lnTo>
                    <a:pt x="7" y="4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694480" y="2889720"/>
              <a:ext cx="2880" cy="936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16"/>
                  </a:moveTo>
                  <a:lnTo>
                    <a:pt x="2" y="0"/>
                  </a:lnTo>
                  <a:lnTo>
                    <a:pt x="4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5443560" y="2910240"/>
              <a:ext cx="1440" cy="2664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0" y="50"/>
                  </a:moveTo>
                  <a:lnTo>
                    <a:pt x="0" y="0"/>
                  </a:lnTo>
                  <a:lnTo>
                    <a:pt x="3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619600" y="2916720"/>
              <a:ext cx="22320" cy="88560"/>
            </a:xfrm>
            <a:custGeom>
              <a:avLst/>
              <a:gdLst/>
              <a:ahLst/>
              <a:rect l="l" t="t" r="r" b="b"/>
              <a:pathLst>
                <a:path w="44" h="167">
                  <a:moveTo>
                    <a:pt x="44" y="33"/>
                  </a:moveTo>
                  <a:lnTo>
                    <a:pt x="41" y="48"/>
                  </a:lnTo>
                  <a:lnTo>
                    <a:pt x="40" y="65"/>
                  </a:lnTo>
                  <a:lnTo>
                    <a:pt x="38" y="82"/>
                  </a:lnTo>
                  <a:lnTo>
                    <a:pt x="38" y="100"/>
                  </a:lnTo>
                  <a:lnTo>
                    <a:pt x="37" y="117"/>
                  </a:lnTo>
                  <a:lnTo>
                    <a:pt x="36" y="135"/>
                  </a:lnTo>
                  <a:lnTo>
                    <a:pt x="34" y="151"/>
                  </a:lnTo>
                  <a:lnTo>
                    <a:pt x="34" y="167"/>
                  </a:lnTo>
                  <a:lnTo>
                    <a:pt x="31" y="151"/>
                  </a:lnTo>
                  <a:lnTo>
                    <a:pt x="28" y="136"/>
                  </a:lnTo>
                  <a:lnTo>
                    <a:pt x="24" y="121"/>
                  </a:lnTo>
                  <a:lnTo>
                    <a:pt x="21" y="106"/>
                  </a:lnTo>
                  <a:lnTo>
                    <a:pt x="17" y="90"/>
                  </a:lnTo>
                  <a:lnTo>
                    <a:pt x="15" y="76"/>
                  </a:lnTo>
                  <a:lnTo>
                    <a:pt x="14" y="61"/>
                  </a:lnTo>
                  <a:lnTo>
                    <a:pt x="16" y="46"/>
                  </a:lnTo>
                  <a:lnTo>
                    <a:pt x="8" y="38"/>
                  </a:lnTo>
                  <a:lnTo>
                    <a:pt x="4" y="32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8" y="8"/>
                  </a:lnTo>
                  <a:lnTo>
                    <a:pt x="17" y="5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5016600" y="2918160"/>
              <a:ext cx="21960" cy="4572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41" y="61"/>
                  </a:moveTo>
                  <a:lnTo>
                    <a:pt x="29" y="61"/>
                  </a:lnTo>
                  <a:lnTo>
                    <a:pt x="20" y="64"/>
                  </a:lnTo>
                  <a:lnTo>
                    <a:pt x="10" y="67"/>
                  </a:lnTo>
                  <a:lnTo>
                    <a:pt x="2" y="74"/>
                  </a:lnTo>
                  <a:lnTo>
                    <a:pt x="0" y="88"/>
                  </a:lnTo>
                  <a:lnTo>
                    <a:pt x="2" y="77"/>
                  </a:lnTo>
                  <a:lnTo>
                    <a:pt x="5" y="66"/>
                  </a:lnTo>
                  <a:lnTo>
                    <a:pt x="6" y="55"/>
                  </a:lnTo>
                  <a:lnTo>
                    <a:pt x="8" y="46"/>
                  </a:lnTo>
                  <a:lnTo>
                    <a:pt x="8" y="35"/>
                  </a:lnTo>
                  <a:lnTo>
                    <a:pt x="9" y="26"/>
                  </a:lnTo>
                  <a:lnTo>
                    <a:pt x="10" y="15"/>
                  </a:lnTo>
                  <a:lnTo>
                    <a:pt x="13" y="5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2" y="6"/>
                  </a:lnTo>
                  <a:lnTo>
                    <a:pt x="36" y="14"/>
                  </a:lnTo>
                  <a:lnTo>
                    <a:pt x="37" y="20"/>
                  </a:lnTo>
                  <a:lnTo>
                    <a:pt x="39" y="29"/>
                  </a:lnTo>
                  <a:lnTo>
                    <a:pt x="39" y="36"/>
                  </a:lnTo>
                  <a:lnTo>
                    <a:pt x="40" y="45"/>
                  </a:lnTo>
                  <a:lnTo>
                    <a:pt x="40" y="52"/>
                  </a:lnTo>
                  <a:lnTo>
                    <a:pt x="4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5546880" y="2921400"/>
              <a:ext cx="9360" cy="117360"/>
            </a:xfrm>
            <a:custGeom>
              <a:avLst/>
              <a:gdLst/>
              <a:ahLst/>
              <a:rect l="l" t="t" r="r" b="b"/>
              <a:pathLst>
                <a:path w="17" h="221">
                  <a:moveTo>
                    <a:pt x="13" y="142"/>
                  </a:moveTo>
                  <a:lnTo>
                    <a:pt x="0" y="221"/>
                  </a:lnTo>
                  <a:lnTo>
                    <a:pt x="4" y="192"/>
                  </a:lnTo>
                  <a:lnTo>
                    <a:pt x="7" y="163"/>
                  </a:lnTo>
                  <a:lnTo>
                    <a:pt x="7" y="136"/>
                  </a:lnTo>
                  <a:lnTo>
                    <a:pt x="9" y="109"/>
                  </a:lnTo>
                  <a:lnTo>
                    <a:pt x="6" y="80"/>
                  </a:lnTo>
                  <a:lnTo>
                    <a:pt x="5" y="54"/>
                  </a:lnTo>
                  <a:lnTo>
                    <a:pt x="5" y="26"/>
                  </a:lnTo>
                  <a:lnTo>
                    <a:pt x="9" y="0"/>
                  </a:lnTo>
                  <a:lnTo>
                    <a:pt x="11" y="16"/>
                  </a:lnTo>
                  <a:lnTo>
                    <a:pt x="14" y="34"/>
                  </a:lnTo>
                  <a:lnTo>
                    <a:pt x="15" y="52"/>
                  </a:lnTo>
                  <a:lnTo>
                    <a:pt x="17" y="71"/>
                  </a:lnTo>
                  <a:lnTo>
                    <a:pt x="16" y="89"/>
                  </a:lnTo>
                  <a:lnTo>
                    <a:pt x="15" y="107"/>
                  </a:lnTo>
                  <a:lnTo>
                    <a:pt x="14" y="124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5268960" y="2934360"/>
              <a:ext cx="4680" cy="295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5470560" y="2939040"/>
              <a:ext cx="20520" cy="109080"/>
            </a:xfrm>
            <a:custGeom>
              <a:avLst/>
              <a:gdLst/>
              <a:ahLst/>
              <a:rect l="l" t="t" r="r" b="b"/>
              <a:pathLst>
                <a:path w="38" h="208">
                  <a:moveTo>
                    <a:pt x="38" y="56"/>
                  </a:moveTo>
                  <a:lnTo>
                    <a:pt x="13" y="208"/>
                  </a:lnTo>
                  <a:lnTo>
                    <a:pt x="3" y="184"/>
                  </a:lnTo>
                  <a:lnTo>
                    <a:pt x="0" y="160"/>
                  </a:lnTo>
                  <a:lnTo>
                    <a:pt x="1" y="136"/>
                  </a:lnTo>
                  <a:lnTo>
                    <a:pt x="7" y="112"/>
                  </a:lnTo>
                  <a:lnTo>
                    <a:pt x="12" y="87"/>
                  </a:lnTo>
                  <a:lnTo>
                    <a:pt x="17" y="62"/>
                  </a:lnTo>
                  <a:lnTo>
                    <a:pt x="23" y="37"/>
                  </a:lnTo>
                  <a:lnTo>
                    <a:pt x="26" y="13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31" y="6"/>
                  </a:lnTo>
                  <a:lnTo>
                    <a:pt x="33" y="12"/>
                  </a:lnTo>
                  <a:lnTo>
                    <a:pt x="34" y="18"/>
                  </a:lnTo>
                  <a:lnTo>
                    <a:pt x="36" y="26"/>
                  </a:lnTo>
                  <a:lnTo>
                    <a:pt x="36" y="32"/>
                  </a:lnTo>
                  <a:lnTo>
                    <a:pt x="36" y="40"/>
                  </a:lnTo>
                  <a:lnTo>
                    <a:pt x="36" y="47"/>
                  </a:lnTo>
                  <a:lnTo>
                    <a:pt x="3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5299200" y="2950200"/>
              <a:ext cx="4680" cy="18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8" y="35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9" y="16"/>
                  </a:lnTo>
                  <a:lnTo>
                    <a:pt x="9" y="25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5302080" y="2973960"/>
              <a:ext cx="5040" cy="108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15"/>
                  </a:moveTo>
                  <a:lnTo>
                    <a:pt x="4" y="21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6" y="5"/>
                  </a:lnTo>
                  <a:lnTo>
                    <a:pt x="7" y="0"/>
                  </a:lnTo>
                  <a:lnTo>
                    <a:pt x="7" y="6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4863960" y="2975400"/>
              <a:ext cx="14400" cy="12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2" y="5"/>
                  </a:moveTo>
                  <a:lnTo>
                    <a:pt x="15" y="1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25" y="8"/>
                  </a:lnTo>
                  <a:lnTo>
                    <a:pt x="21" y="14"/>
                  </a:lnTo>
                  <a:lnTo>
                    <a:pt x="15" y="19"/>
                  </a:lnTo>
                  <a:lnTo>
                    <a:pt x="10" y="25"/>
                  </a:lnTo>
                  <a:lnTo>
                    <a:pt x="5" y="23"/>
                  </a:lnTo>
                  <a:lnTo>
                    <a:pt x="3" y="18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5008680" y="2980080"/>
              <a:ext cx="4680" cy="187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38"/>
                  </a:moveTo>
                  <a:lnTo>
                    <a:pt x="8" y="0"/>
                  </a:lnTo>
                  <a:lnTo>
                    <a:pt x="6" y="8"/>
                  </a:lnTo>
                  <a:lnTo>
                    <a:pt x="6" y="17"/>
                  </a:lnTo>
                  <a:lnTo>
                    <a:pt x="4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5243400" y="2980080"/>
              <a:ext cx="11160" cy="3780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21" y="41"/>
                  </a:moveTo>
                  <a:lnTo>
                    <a:pt x="4" y="74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1" y="4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16" y="11"/>
                  </a:lnTo>
                  <a:lnTo>
                    <a:pt x="18" y="17"/>
                  </a:lnTo>
                  <a:lnTo>
                    <a:pt x="17" y="23"/>
                  </a:lnTo>
                  <a:lnTo>
                    <a:pt x="18" y="29"/>
                  </a:lnTo>
                  <a:lnTo>
                    <a:pt x="18" y="34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5815080" y="2980080"/>
              <a:ext cx="1440" cy="29880"/>
            </a:xfrm>
            <a:custGeom>
              <a:avLst/>
              <a:gdLst/>
              <a:ahLst/>
              <a:rect l="l" t="t" r="r" b="b"/>
              <a:pathLst>
                <a:path w="1" h="59">
                  <a:moveTo>
                    <a:pt x="0" y="59"/>
                  </a:moveTo>
                  <a:lnTo>
                    <a:pt x="0" y="0"/>
                  </a:lnTo>
                  <a:lnTo>
                    <a:pt x="0" y="5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5156280" y="2989800"/>
              <a:ext cx="14040" cy="313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25" y="61"/>
                  </a:moveTo>
                  <a:lnTo>
                    <a:pt x="16" y="56"/>
                  </a:lnTo>
                  <a:lnTo>
                    <a:pt x="9" y="48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7" y="10"/>
                  </a:lnTo>
                  <a:lnTo>
                    <a:pt x="20" y="16"/>
                  </a:lnTo>
                  <a:lnTo>
                    <a:pt x="22" y="26"/>
                  </a:lnTo>
                  <a:lnTo>
                    <a:pt x="22" y="34"/>
                  </a:lnTo>
                  <a:lnTo>
                    <a:pt x="22" y="43"/>
                  </a:lnTo>
                  <a:lnTo>
                    <a:pt x="22" y="51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4626000" y="2995920"/>
              <a:ext cx="69840" cy="597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132" y="7"/>
                  </a:moveTo>
                  <a:lnTo>
                    <a:pt x="130" y="18"/>
                  </a:lnTo>
                  <a:lnTo>
                    <a:pt x="115" y="30"/>
                  </a:lnTo>
                  <a:lnTo>
                    <a:pt x="101" y="42"/>
                  </a:lnTo>
                  <a:lnTo>
                    <a:pt x="86" y="52"/>
                  </a:lnTo>
                  <a:lnTo>
                    <a:pt x="72" y="63"/>
                  </a:lnTo>
                  <a:lnTo>
                    <a:pt x="57" y="71"/>
                  </a:lnTo>
                  <a:lnTo>
                    <a:pt x="42" y="81"/>
                  </a:lnTo>
                  <a:lnTo>
                    <a:pt x="28" y="90"/>
                  </a:lnTo>
                  <a:lnTo>
                    <a:pt x="13" y="99"/>
                  </a:lnTo>
                  <a:lnTo>
                    <a:pt x="0" y="114"/>
                  </a:lnTo>
                  <a:lnTo>
                    <a:pt x="11" y="94"/>
                  </a:lnTo>
                  <a:lnTo>
                    <a:pt x="25" y="79"/>
                  </a:lnTo>
                  <a:lnTo>
                    <a:pt x="41" y="66"/>
                  </a:lnTo>
                  <a:lnTo>
                    <a:pt x="61" y="56"/>
                  </a:lnTo>
                  <a:lnTo>
                    <a:pt x="78" y="45"/>
                  </a:lnTo>
                  <a:lnTo>
                    <a:pt x="94" y="33"/>
                  </a:lnTo>
                  <a:lnTo>
                    <a:pt x="107" y="18"/>
                  </a:lnTo>
                  <a:lnTo>
                    <a:pt x="119" y="0"/>
                  </a:lnTo>
                  <a:lnTo>
                    <a:pt x="126" y="2"/>
                  </a:lnTo>
                  <a:lnTo>
                    <a:pt x="1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5638680" y="2998800"/>
              <a:ext cx="46080" cy="186840"/>
            </a:xfrm>
            <a:custGeom>
              <a:avLst/>
              <a:gdLst/>
              <a:ahLst/>
              <a:rect l="l" t="t" r="r" b="b"/>
              <a:pathLst>
                <a:path w="87" h="352">
                  <a:moveTo>
                    <a:pt x="87" y="23"/>
                  </a:moveTo>
                  <a:lnTo>
                    <a:pt x="81" y="65"/>
                  </a:lnTo>
                  <a:lnTo>
                    <a:pt x="75" y="109"/>
                  </a:lnTo>
                  <a:lnTo>
                    <a:pt x="68" y="152"/>
                  </a:lnTo>
                  <a:lnTo>
                    <a:pt x="59" y="194"/>
                  </a:lnTo>
                  <a:lnTo>
                    <a:pt x="48" y="235"/>
                  </a:lnTo>
                  <a:lnTo>
                    <a:pt x="35" y="275"/>
                  </a:lnTo>
                  <a:lnTo>
                    <a:pt x="19" y="314"/>
                  </a:lnTo>
                  <a:lnTo>
                    <a:pt x="1" y="352"/>
                  </a:lnTo>
                  <a:lnTo>
                    <a:pt x="0" y="346"/>
                  </a:lnTo>
                  <a:lnTo>
                    <a:pt x="0" y="340"/>
                  </a:lnTo>
                  <a:lnTo>
                    <a:pt x="1" y="334"/>
                  </a:lnTo>
                  <a:lnTo>
                    <a:pt x="3" y="329"/>
                  </a:lnTo>
                  <a:lnTo>
                    <a:pt x="4" y="322"/>
                  </a:lnTo>
                  <a:lnTo>
                    <a:pt x="6" y="316"/>
                  </a:lnTo>
                  <a:lnTo>
                    <a:pt x="8" y="310"/>
                  </a:lnTo>
                  <a:lnTo>
                    <a:pt x="11" y="306"/>
                  </a:lnTo>
                  <a:lnTo>
                    <a:pt x="20" y="268"/>
                  </a:lnTo>
                  <a:lnTo>
                    <a:pt x="27" y="231"/>
                  </a:lnTo>
                  <a:lnTo>
                    <a:pt x="34" y="192"/>
                  </a:lnTo>
                  <a:lnTo>
                    <a:pt x="41" y="154"/>
                  </a:lnTo>
                  <a:lnTo>
                    <a:pt x="48" y="114"/>
                  </a:lnTo>
                  <a:lnTo>
                    <a:pt x="54" y="76"/>
                  </a:lnTo>
                  <a:lnTo>
                    <a:pt x="60" y="38"/>
                  </a:lnTo>
                  <a:lnTo>
                    <a:pt x="69" y="0"/>
                  </a:lnTo>
                  <a:lnTo>
                    <a:pt x="71" y="6"/>
                  </a:lnTo>
                  <a:lnTo>
                    <a:pt x="75" y="13"/>
                  </a:lnTo>
                  <a:lnTo>
                    <a:pt x="80" y="19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5003640" y="3006720"/>
              <a:ext cx="3240" cy="93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5" y="0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5859360" y="3029040"/>
              <a:ext cx="14400" cy="122040"/>
            </a:xfrm>
            <a:custGeom>
              <a:avLst/>
              <a:gdLst/>
              <a:ahLst/>
              <a:rect l="l" t="t" r="r" b="b"/>
              <a:pathLst>
                <a:path w="29" h="230">
                  <a:moveTo>
                    <a:pt x="29" y="11"/>
                  </a:moveTo>
                  <a:lnTo>
                    <a:pt x="25" y="37"/>
                  </a:lnTo>
                  <a:lnTo>
                    <a:pt x="24" y="65"/>
                  </a:lnTo>
                  <a:lnTo>
                    <a:pt x="24" y="93"/>
                  </a:lnTo>
                  <a:lnTo>
                    <a:pt x="24" y="120"/>
                  </a:lnTo>
                  <a:lnTo>
                    <a:pt x="23" y="147"/>
                  </a:lnTo>
                  <a:lnTo>
                    <a:pt x="23" y="174"/>
                  </a:lnTo>
                  <a:lnTo>
                    <a:pt x="20" y="200"/>
                  </a:lnTo>
                  <a:lnTo>
                    <a:pt x="18" y="228"/>
                  </a:lnTo>
                  <a:lnTo>
                    <a:pt x="10" y="230"/>
                  </a:lnTo>
                  <a:lnTo>
                    <a:pt x="1" y="228"/>
                  </a:lnTo>
                  <a:lnTo>
                    <a:pt x="0" y="214"/>
                  </a:lnTo>
                  <a:lnTo>
                    <a:pt x="0" y="200"/>
                  </a:lnTo>
                  <a:lnTo>
                    <a:pt x="1" y="186"/>
                  </a:lnTo>
                  <a:lnTo>
                    <a:pt x="5" y="172"/>
                  </a:lnTo>
                  <a:lnTo>
                    <a:pt x="6" y="158"/>
                  </a:lnTo>
                  <a:lnTo>
                    <a:pt x="9" y="145"/>
                  </a:lnTo>
                  <a:lnTo>
                    <a:pt x="11" y="130"/>
                  </a:lnTo>
                  <a:lnTo>
                    <a:pt x="14" y="117"/>
                  </a:lnTo>
                  <a:lnTo>
                    <a:pt x="14" y="0"/>
                  </a:lnTo>
                  <a:lnTo>
                    <a:pt x="22" y="3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5848200" y="3032280"/>
              <a:ext cx="1800" cy="61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5245200" y="3035520"/>
              <a:ext cx="38160" cy="7884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3" y="136"/>
                  </a:moveTo>
                  <a:lnTo>
                    <a:pt x="67" y="132"/>
                  </a:lnTo>
                  <a:lnTo>
                    <a:pt x="63" y="127"/>
                  </a:lnTo>
                  <a:lnTo>
                    <a:pt x="60" y="121"/>
                  </a:lnTo>
                  <a:lnTo>
                    <a:pt x="57" y="116"/>
                  </a:lnTo>
                  <a:lnTo>
                    <a:pt x="54" y="109"/>
                  </a:lnTo>
                  <a:lnTo>
                    <a:pt x="52" y="104"/>
                  </a:lnTo>
                  <a:lnTo>
                    <a:pt x="48" y="98"/>
                  </a:lnTo>
                  <a:lnTo>
                    <a:pt x="45" y="93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4" y="112"/>
                  </a:lnTo>
                  <a:lnTo>
                    <a:pt x="36" y="120"/>
                  </a:lnTo>
                  <a:lnTo>
                    <a:pt x="36" y="127"/>
                  </a:lnTo>
                  <a:lnTo>
                    <a:pt x="38" y="135"/>
                  </a:lnTo>
                  <a:lnTo>
                    <a:pt x="37" y="142"/>
                  </a:lnTo>
                  <a:lnTo>
                    <a:pt x="37" y="151"/>
                  </a:lnTo>
                  <a:lnTo>
                    <a:pt x="29" y="138"/>
                  </a:lnTo>
                  <a:lnTo>
                    <a:pt x="23" y="126"/>
                  </a:lnTo>
                  <a:lnTo>
                    <a:pt x="17" y="114"/>
                  </a:lnTo>
                  <a:lnTo>
                    <a:pt x="14" y="101"/>
                  </a:lnTo>
                  <a:lnTo>
                    <a:pt x="8" y="86"/>
                  </a:lnTo>
                  <a:lnTo>
                    <a:pt x="5" y="73"/>
                  </a:lnTo>
                  <a:lnTo>
                    <a:pt x="2" y="58"/>
                  </a:lnTo>
                  <a:lnTo>
                    <a:pt x="0" y="45"/>
                  </a:lnTo>
                  <a:lnTo>
                    <a:pt x="5" y="40"/>
                  </a:lnTo>
                  <a:lnTo>
                    <a:pt x="12" y="35"/>
                  </a:lnTo>
                  <a:lnTo>
                    <a:pt x="18" y="29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35" y="11"/>
                  </a:lnTo>
                  <a:lnTo>
                    <a:pt x="38" y="5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50" y="33"/>
                  </a:lnTo>
                  <a:lnTo>
                    <a:pt x="51" y="50"/>
                  </a:lnTo>
                  <a:lnTo>
                    <a:pt x="54" y="68"/>
                  </a:lnTo>
                  <a:lnTo>
                    <a:pt x="56" y="85"/>
                  </a:lnTo>
                  <a:lnTo>
                    <a:pt x="61" y="103"/>
                  </a:lnTo>
                  <a:lnTo>
                    <a:pt x="65" y="119"/>
                  </a:lnTo>
                  <a:lnTo>
                    <a:pt x="73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5332320" y="3038760"/>
              <a:ext cx="4680" cy="13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26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4486320" y="3054600"/>
              <a:ext cx="4680" cy="43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7" y="5"/>
                  </a:lnTo>
                  <a:lnTo>
                    <a:pt x="3" y="1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5481720" y="3062520"/>
              <a:ext cx="39600" cy="11052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73" y="0"/>
                  </a:moveTo>
                  <a:lnTo>
                    <a:pt x="63" y="25"/>
                  </a:lnTo>
                  <a:lnTo>
                    <a:pt x="55" y="51"/>
                  </a:lnTo>
                  <a:lnTo>
                    <a:pt x="47" y="78"/>
                  </a:lnTo>
                  <a:lnTo>
                    <a:pt x="41" y="105"/>
                  </a:lnTo>
                  <a:lnTo>
                    <a:pt x="32" y="131"/>
                  </a:lnTo>
                  <a:lnTo>
                    <a:pt x="25" y="157"/>
                  </a:lnTo>
                  <a:lnTo>
                    <a:pt x="14" y="183"/>
                  </a:lnTo>
                  <a:lnTo>
                    <a:pt x="5" y="210"/>
                  </a:lnTo>
                  <a:lnTo>
                    <a:pt x="0" y="201"/>
                  </a:lnTo>
                  <a:lnTo>
                    <a:pt x="0" y="193"/>
                  </a:lnTo>
                  <a:lnTo>
                    <a:pt x="2" y="184"/>
                  </a:lnTo>
                  <a:lnTo>
                    <a:pt x="5" y="176"/>
                  </a:lnTo>
                  <a:lnTo>
                    <a:pt x="6" y="166"/>
                  </a:lnTo>
                  <a:lnTo>
                    <a:pt x="7" y="156"/>
                  </a:lnTo>
                  <a:lnTo>
                    <a:pt x="6" y="148"/>
                  </a:lnTo>
                  <a:lnTo>
                    <a:pt x="2" y="141"/>
                  </a:lnTo>
                  <a:lnTo>
                    <a:pt x="8" y="122"/>
                  </a:lnTo>
                  <a:lnTo>
                    <a:pt x="16" y="103"/>
                  </a:lnTo>
                  <a:lnTo>
                    <a:pt x="26" y="85"/>
                  </a:lnTo>
                  <a:lnTo>
                    <a:pt x="36" y="68"/>
                  </a:lnTo>
                  <a:lnTo>
                    <a:pt x="45" y="50"/>
                  </a:lnTo>
                  <a:lnTo>
                    <a:pt x="55" y="33"/>
                  </a:lnTo>
                  <a:lnTo>
                    <a:pt x="63" y="1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5897520" y="3071880"/>
              <a:ext cx="6480" cy="172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1" y="23"/>
                  </a:moveTo>
                  <a:lnTo>
                    <a:pt x="4" y="33"/>
                  </a:lnTo>
                  <a:lnTo>
                    <a:pt x="1" y="23"/>
                  </a:lnTo>
                  <a:lnTo>
                    <a:pt x="0" y="15"/>
                  </a:lnTo>
                  <a:lnTo>
                    <a:pt x="1" y="6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467240" y="3076560"/>
              <a:ext cx="11160" cy="79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0"/>
                  </a:moveTo>
                  <a:lnTo>
                    <a:pt x="23" y="13"/>
                  </a:lnTo>
                  <a:lnTo>
                    <a:pt x="11" y="8"/>
                  </a:lnTo>
                  <a:lnTo>
                    <a:pt x="0" y="3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8" y="9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5942160" y="3086280"/>
              <a:ext cx="9360" cy="55080"/>
            </a:xfrm>
            <a:custGeom>
              <a:avLst/>
              <a:gdLst/>
              <a:ahLst/>
              <a:rect l="l" t="t" r="r" b="b"/>
              <a:pathLst>
                <a:path w="20" h="104">
                  <a:moveTo>
                    <a:pt x="17" y="104"/>
                  </a:moveTo>
                  <a:lnTo>
                    <a:pt x="15" y="90"/>
                  </a:lnTo>
                  <a:lnTo>
                    <a:pt x="14" y="77"/>
                  </a:lnTo>
                  <a:lnTo>
                    <a:pt x="10" y="65"/>
                  </a:lnTo>
                  <a:lnTo>
                    <a:pt x="7" y="53"/>
                  </a:lnTo>
                  <a:lnTo>
                    <a:pt x="4" y="39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2" y="0"/>
                  </a:lnTo>
                  <a:lnTo>
                    <a:pt x="9" y="8"/>
                  </a:lnTo>
                  <a:lnTo>
                    <a:pt x="15" y="20"/>
                  </a:lnTo>
                  <a:lnTo>
                    <a:pt x="18" y="33"/>
                  </a:lnTo>
                  <a:lnTo>
                    <a:pt x="20" y="46"/>
                  </a:lnTo>
                  <a:lnTo>
                    <a:pt x="20" y="60"/>
                  </a:lnTo>
                  <a:lnTo>
                    <a:pt x="20" y="75"/>
                  </a:lnTo>
                  <a:lnTo>
                    <a:pt x="18" y="89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5437080" y="3098880"/>
              <a:ext cx="30240" cy="6336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56" y="0"/>
                  </a:moveTo>
                  <a:lnTo>
                    <a:pt x="52" y="16"/>
                  </a:lnTo>
                  <a:lnTo>
                    <a:pt x="48" y="33"/>
                  </a:lnTo>
                  <a:lnTo>
                    <a:pt x="41" y="48"/>
                  </a:lnTo>
                  <a:lnTo>
                    <a:pt x="34" y="64"/>
                  </a:lnTo>
                  <a:lnTo>
                    <a:pt x="25" y="78"/>
                  </a:lnTo>
                  <a:lnTo>
                    <a:pt x="16" y="93"/>
                  </a:lnTo>
                  <a:lnTo>
                    <a:pt x="8" y="106"/>
                  </a:lnTo>
                  <a:lnTo>
                    <a:pt x="0" y="121"/>
                  </a:lnTo>
                  <a:lnTo>
                    <a:pt x="5" y="104"/>
                  </a:lnTo>
                  <a:lnTo>
                    <a:pt x="9" y="87"/>
                  </a:lnTo>
                  <a:lnTo>
                    <a:pt x="11" y="69"/>
                  </a:lnTo>
                  <a:lnTo>
                    <a:pt x="15" y="52"/>
                  </a:lnTo>
                  <a:lnTo>
                    <a:pt x="19" y="35"/>
                  </a:lnTo>
                  <a:lnTo>
                    <a:pt x="27" y="21"/>
                  </a:lnTo>
                  <a:lnTo>
                    <a:pt x="39" y="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4908600" y="3127680"/>
              <a:ext cx="9360" cy="75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0"/>
                  </a:moveTo>
                  <a:lnTo>
                    <a:pt x="11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5540400" y="3130200"/>
              <a:ext cx="6480" cy="140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27"/>
                  </a:moveTo>
                  <a:lnTo>
                    <a:pt x="10" y="0"/>
                  </a:lnTo>
                  <a:lnTo>
                    <a:pt x="12" y="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857840" y="3154320"/>
              <a:ext cx="15840" cy="20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3" y="2"/>
                  </a:lnTo>
                  <a:lnTo>
                    <a:pt x="31" y="0"/>
                  </a:lnTo>
                  <a:lnTo>
                    <a:pt x="24" y="10"/>
                  </a:lnTo>
                  <a:lnTo>
                    <a:pt x="16" y="20"/>
                  </a:lnTo>
                  <a:lnTo>
                    <a:pt x="6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5951520" y="3162240"/>
              <a:ext cx="1440" cy="47160"/>
            </a:xfrm>
            <a:custGeom>
              <a:avLst/>
              <a:gdLst/>
              <a:ahLst/>
              <a:rect l="l" t="t" r="r" b="b"/>
              <a:pathLst>
                <a:path w="2" h="89">
                  <a:moveTo>
                    <a:pt x="2" y="0"/>
                  </a:moveTo>
                  <a:lnTo>
                    <a:pt x="0" y="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5397480" y="3165120"/>
              <a:ext cx="12600" cy="37800"/>
            </a:xfrm>
            <a:custGeom>
              <a:avLst/>
              <a:gdLst/>
              <a:ahLst/>
              <a:rect l="l" t="t" r="r" b="b"/>
              <a:pathLst>
                <a:path w="22" h="70">
                  <a:moveTo>
                    <a:pt x="11" y="48"/>
                  </a:moveTo>
                  <a:lnTo>
                    <a:pt x="2" y="70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4" y="34"/>
                  </a:lnTo>
                  <a:lnTo>
                    <a:pt x="7" y="24"/>
                  </a:lnTo>
                  <a:lnTo>
                    <a:pt x="11" y="15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21" y="3"/>
                  </a:lnTo>
                  <a:lnTo>
                    <a:pt x="21" y="9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6" y="28"/>
                  </a:lnTo>
                  <a:lnTo>
                    <a:pt x="13" y="35"/>
                  </a:lnTo>
                  <a:lnTo>
                    <a:pt x="11" y="41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5106960" y="3170160"/>
              <a:ext cx="11160" cy="2484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12" y="45"/>
                  </a:moveTo>
                  <a:lnTo>
                    <a:pt x="1" y="48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18" y="3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5" y="32"/>
                  </a:lnTo>
                  <a:lnTo>
                    <a:pt x="13" y="39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4729320" y="3178080"/>
              <a:ext cx="20520" cy="7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6" y="0"/>
                  </a:moveTo>
                  <a:lnTo>
                    <a:pt x="35" y="6"/>
                  </a:lnTo>
                  <a:lnTo>
                    <a:pt x="38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4"/>
                  </a:lnTo>
                  <a:lnTo>
                    <a:pt x="19" y="13"/>
                  </a:lnTo>
                  <a:lnTo>
                    <a:pt x="8" y="7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4570560" y="3197160"/>
              <a:ext cx="180720" cy="452520"/>
            </a:xfrm>
            <a:custGeom>
              <a:avLst/>
              <a:gdLst/>
              <a:ahLst/>
              <a:rect l="l" t="t" r="r" b="b"/>
              <a:pathLst>
                <a:path w="342" h="860">
                  <a:moveTo>
                    <a:pt x="175" y="38"/>
                  </a:moveTo>
                  <a:lnTo>
                    <a:pt x="288" y="53"/>
                  </a:lnTo>
                  <a:lnTo>
                    <a:pt x="289" y="60"/>
                  </a:lnTo>
                  <a:lnTo>
                    <a:pt x="292" y="69"/>
                  </a:lnTo>
                  <a:lnTo>
                    <a:pt x="293" y="77"/>
                  </a:lnTo>
                  <a:lnTo>
                    <a:pt x="291" y="86"/>
                  </a:lnTo>
                  <a:lnTo>
                    <a:pt x="283" y="94"/>
                  </a:lnTo>
                  <a:lnTo>
                    <a:pt x="281" y="106"/>
                  </a:lnTo>
                  <a:lnTo>
                    <a:pt x="286" y="119"/>
                  </a:lnTo>
                  <a:lnTo>
                    <a:pt x="297" y="130"/>
                  </a:lnTo>
                  <a:lnTo>
                    <a:pt x="309" y="140"/>
                  </a:lnTo>
                  <a:lnTo>
                    <a:pt x="323" y="149"/>
                  </a:lnTo>
                  <a:lnTo>
                    <a:pt x="334" y="158"/>
                  </a:lnTo>
                  <a:lnTo>
                    <a:pt x="341" y="169"/>
                  </a:lnTo>
                  <a:lnTo>
                    <a:pt x="342" y="180"/>
                  </a:lnTo>
                  <a:lnTo>
                    <a:pt x="337" y="196"/>
                  </a:lnTo>
                  <a:lnTo>
                    <a:pt x="318" y="267"/>
                  </a:lnTo>
                  <a:lnTo>
                    <a:pt x="302" y="340"/>
                  </a:lnTo>
                  <a:lnTo>
                    <a:pt x="289" y="414"/>
                  </a:lnTo>
                  <a:lnTo>
                    <a:pt x="280" y="490"/>
                  </a:lnTo>
                  <a:lnTo>
                    <a:pt x="273" y="566"/>
                  </a:lnTo>
                  <a:lnTo>
                    <a:pt x="270" y="643"/>
                  </a:lnTo>
                  <a:lnTo>
                    <a:pt x="270" y="717"/>
                  </a:lnTo>
                  <a:lnTo>
                    <a:pt x="273" y="792"/>
                  </a:lnTo>
                  <a:lnTo>
                    <a:pt x="277" y="798"/>
                  </a:lnTo>
                  <a:lnTo>
                    <a:pt x="282" y="808"/>
                  </a:lnTo>
                  <a:lnTo>
                    <a:pt x="283" y="817"/>
                  </a:lnTo>
                  <a:lnTo>
                    <a:pt x="281" y="827"/>
                  </a:lnTo>
                  <a:lnTo>
                    <a:pt x="278" y="830"/>
                  </a:lnTo>
                  <a:lnTo>
                    <a:pt x="275" y="834"/>
                  </a:lnTo>
                  <a:lnTo>
                    <a:pt x="270" y="838"/>
                  </a:lnTo>
                  <a:lnTo>
                    <a:pt x="268" y="842"/>
                  </a:lnTo>
                  <a:lnTo>
                    <a:pt x="260" y="841"/>
                  </a:lnTo>
                  <a:lnTo>
                    <a:pt x="256" y="844"/>
                  </a:lnTo>
                  <a:lnTo>
                    <a:pt x="247" y="841"/>
                  </a:lnTo>
                  <a:lnTo>
                    <a:pt x="238" y="838"/>
                  </a:lnTo>
                  <a:lnTo>
                    <a:pt x="231" y="830"/>
                  </a:lnTo>
                  <a:lnTo>
                    <a:pt x="231" y="822"/>
                  </a:lnTo>
                  <a:lnTo>
                    <a:pt x="226" y="814"/>
                  </a:lnTo>
                  <a:lnTo>
                    <a:pt x="220" y="814"/>
                  </a:lnTo>
                  <a:lnTo>
                    <a:pt x="207" y="817"/>
                  </a:lnTo>
                  <a:lnTo>
                    <a:pt x="194" y="819"/>
                  </a:lnTo>
                  <a:lnTo>
                    <a:pt x="179" y="821"/>
                  </a:lnTo>
                  <a:lnTo>
                    <a:pt x="167" y="823"/>
                  </a:lnTo>
                  <a:lnTo>
                    <a:pt x="153" y="826"/>
                  </a:lnTo>
                  <a:lnTo>
                    <a:pt x="143" y="832"/>
                  </a:lnTo>
                  <a:lnTo>
                    <a:pt x="137" y="843"/>
                  </a:lnTo>
                  <a:lnTo>
                    <a:pt x="135" y="860"/>
                  </a:lnTo>
                  <a:lnTo>
                    <a:pt x="130" y="856"/>
                  </a:lnTo>
                  <a:lnTo>
                    <a:pt x="126" y="851"/>
                  </a:lnTo>
                  <a:lnTo>
                    <a:pt x="122" y="845"/>
                  </a:lnTo>
                  <a:lnTo>
                    <a:pt x="118" y="840"/>
                  </a:lnTo>
                  <a:lnTo>
                    <a:pt x="111" y="833"/>
                  </a:lnTo>
                  <a:lnTo>
                    <a:pt x="106" y="831"/>
                  </a:lnTo>
                  <a:lnTo>
                    <a:pt x="98" y="831"/>
                  </a:lnTo>
                  <a:lnTo>
                    <a:pt x="91" y="834"/>
                  </a:lnTo>
                  <a:lnTo>
                    <a:pt x="85" y="829"/>
                  </a:lnTo>
                  <a:lnTo>
                    <a:pt x="83" y="825"/>
                  </a:lnTo>
                  <a:lnTo>
                    <a:pt x="85" y="821"/>
                  </a:lnTo>
                  <a:lnTo>
                    <a:pt x="88" y="817"/>
                  </a:lnTo>
                  <a:lnTo>
                    <a:pt x="91" y="813"/>
                  </a:lnTo>
                  <a:lnTo>
                    <a:pt x="96" y="810"/>
                  </a:lnTo>
                  <a:lnTo>
                    <a:pt x="99" y="807"/>
                  </a:lnTo>
                  <a:lnTo>
                    <a:pt x="102" y="804"/>
                  </a:lnTo>
                  <a:lnTo>
                    <a:pt x="97" y="796"/>
                  </a:lnTo>
                  <a:lnTo>
                    <a:pt x="95" y="789"/>
                  </a:lnTo>
                  <a:lnTo>
                    <a:pt x="94" y="780"/>
                  </a:lnTo>
                  <a:lnTo>
                    <a:pt x="94" y="774"/>
                  </a:lnTo>
                  <a:lnTo>
                    <a:pt x="91" y="765"/>
                  </a:lnTo>
                  <a:lnTo>
                    <a:pt x="89" y="760"/>
                  </a:lnTo>
                  <a:lnTo>
                    <a:pt x="82" y="755"/>
                  </a:lnTo>
                  <a:lnTo>
                    <a:pt x="74" y="753"/>
                  </a:lnTo>
                  <a:lnTo>
                    <a:pt x="75" y="748"/>
                  </a:lnTo>
                  <a:lnTo>
                    <a:pt x="77" y="743"/>
                  </a:lnTo>
                  <a:lnTo>
                    <a:pt x="79" y="739"/>
                  </a:lnTo>
                  <a:lnTo>
                    <a:pt x="86" y="741"/>
                  </a:lnTo>
                  <a:lnTo>
                    <a:pt x="88" y="733"/>
                  </a:lnTo>
                  <a:lnTo>
                    <a:pt x="90" y="726"/>
                  </a:lnTo>
                  <a:lnTo>
                    <a:pt x="90" y="718"/>
                  </a:lnTo>
                  <a:lnTo>
                    <a:pt x="91" y="711"/>
                  </a:lnTo>
                  <a:lnTo>
                    <a:pt x="91" y="702"/>
                  </a:lnTo>
                  <a:lnTo>
                    <a:pt x="92" y="695"/>
                  </a:lnTo>
                  <a:lnTo>
                    <a:pt x="92" y="686"/>
                  </a:lnTo>
                  <a:lnTo>
                    <a:pt x="94" y="680"/>
                  </a:lnTo>
                  <a:lnTo>
                    <a:pt x="87" y="677"/>
                  </a:lnTo>
                  <a:lnTo>
                    <a:pt x="79" y="676"/>
                  </a:lnTo>
                  <a:lnTo>
                    <a:pt x="71" y="675"/>
                  </a:lnTo>
                  <a:lnTo>
                    <a:pt x="63" y="675"/>
                  </a:lnTo>
                  <a:lnTo>
                    <a:pt x="56" y="672"/>
                  </a:lnTo>
                  <a:lnTo>
                    <a:pt x="50" y="669"/>
                  </a:lnTo>
                  <a:lnTo>
                    <a:pt x="47" y="664"/>
                  </a:lnTo>
                  <a:lnTo>
                    <a:pt x="48" y="658"/>
                  </a:lnTo>
                  <a:lnTo>
                    <a:pt x="69" y="659"/>
                  </a:lnTo>
                  <a:lnTo>
                    <a:pt x="83" y="654"/>
                  </a:lnTo>
                  <a:lnTo>
                    <a:pt x="92" y="644"/>
                  </a:lnTo>
                  <a:lnTo>
                    <a:pt x="98" y="631"/>
                  </a:lnTo>
                  <a:lnTo>
                    <a:pt x="101" y="614"/>
                  </a:lnTo>
                  <a:lnTo>
                    <a:pt x="102" y="597"/>
                  </a:lnTo>
                  <a:lnTo>
                    <a:pt x="103" y="580"/>
                  </a:lnTo>
                  <a:lnTo>
                    <a:pt x="106" y="566"/>
                  </a:lnTo>
                  <a:lnTo>
                    <a:pt x="106" y="559"/>
                  </a:lnTo>
                  <a:lnTo>
                    <a:pt x="93" y="555"/>
                  </a:lnTo>
                  <a:lnTo>
                    <a:pt x="81" y="552"/>
                  </a:lnTo>
                  <a:lnTo>
                    <a:pt x="69" y="549"/>
                  </a:lnTo>
                  <a:lnTo>
                    <a:pt x="57" y="547"/>
                  </a:lnTo>
                  <a:lnTo>
                    <a:pt x="44" y="543"/>
                  </a:lnTo>
                  <a:lnTo>
                    <a:pt x="33" y="538"/>
                  </a:lnTo>
                  <a:lnTo>
                    <a:pt x="24" y="531"/>
                  </a:lnTo>
                  <a:lnTo>
                    <a:pt x="15" y="523"/>
                  </a:lnTo>
                  <a:lnTo>
                    <a:pt x="18" y="516"/>
                  </a:lnTo>
                  <a:lnTo>
                    <a:pt x="21" y="510"/>
                  </a:lnTo>
                  <a:lnTo>
                    <a:pt x="22" y="502"/>
                  </a:lnTo>
                  <a:lnTo>
                    <a:pt x="23" y="496"/>
                  </a:lnTo>
                  <a:lnTo>
                    <a:pt x="26" y="504"/>
                  </a:lnTo>
                  <a:lnTo>
                    <a:pt x="33" y="512"/>
                  </a:lnTo>
                  <a:lnTo>
                    <a:pt x="43" y="515"/>
                  </a:lnTo>
                  <a:lnTo>
                    <a:pt x="55" y="518"/>
                  </a:lnTo>
                  <a:lnTo>
                    <a:pt x="66" y="518"/>
                  </a:lnTo>
                  <a:lnTo>
                    <a:pt x="79" y="518"/>
                  </a:lnTo>
                  <a:lnTo>
                    <a:pt x="90" y="518"/>
                  </a:lnTo>
                  <a:lnTo>
                    <a:pt x="102" y="518"/>
                  </a:lnTo>
                  <a:lnTo>
                    <a:pt x="109" y="511"/>
                  </a:lnTo>
                  <a:lnTo>
                    <a:pt x="106" y="503"/>
                  </a:lnTo>
                  <a:lnTo>
                    <a:pt x="106" y="496"/>
                  </a:lnTo>
                  <a:lnTo>
                    <a:pt x="106" y="488"/>
                  </a:lnTo>
                  <a:lnTo>
                    <a:pt x="107" y="481"/>
                  </a:lnTo>
                  <a:lnTo>
                    <a:pt x="107" y="472"/>
                  </a:lnTo>
                  <a:lnTo>
                    <a:pt x="108" y="465"/>
                  </a:lnTo>
                  <a:lnTo>
                    <a:pt x="108" y="456"/>
                  </a:lnTo>
                  <a:lnTo>
                    <a:pt x="109" y="450"/>
                  </a:lnTo>
                  <a:lnTo>
                    <a:pt x="96" y="449"/>
                  </a:lnTo>
                  <a:lnTo>
                    <a:pt x="86" y="448"/>
                  </a:lnTo>
                  <a:lnTo>
                    <a:pt x="75" y="445"/>
                  </a:lnTo>
                  <a:lnTo>
                    <a:pt x="65" y="442"/>
                  </a:lnTo>
                  <a:lnTo>
                    <a:pt x="55" y="439"/>
                  </a:lnTo>
                  <a:lnTo>
                    <a:pt x="45" y="436"/>
                  </a:lnTo>
                  <a:lnTo>
                    <a:pt x="34" y="433"/>
                  </a:lnTo>
                  <a:lnTo>
                    <a:pt x="25" y="432"/>
                  </a:lnTo>
                  <a:lnTo>
                    <a:pt x="22" y="436"/>
                  </a:lnTo>
                  <a:lnTo>
                    <a:pt x="21" y="441"/>
                  </a:lnTo>
                  <a:lnTo>
                    <a:pt x="20" y="448"/>
                  </a:lnTo>
                  <a:lnTo>
                    <a:pt x="20" y="454"/>
                  </a:lnTo>
                  <a:lnTo>
                    <a:pt x="18" y="461"/>
                  </a:lnTo>
                  <a:lnTo>
                    <a:pt x="18" y="467"/>
                  </a:lnTo>
                  <a:lnTo>
                    <a:pt x="17" y="473"/>
                  </a:lnTo>
                  <a:lnTo>
                    <a:pt x="17" y="480"/>
                  </a:lnTo>
                  <a:lnTo>
                    <a:pt x="15" y="468"/>
                  </a:lnTo>
                  <a:lnTo>
                    <a:pt x="15" y="458"/>
                  </a:lnTo>
                  <a:lnTo>
                    <a:pt x="14" y="447"/>
                  </a:lnTo>
                  <a:lnTo>
                    <a:pt x="13" y="437"/>
                  </a:lnTo>
                  <a:lnTo>
                    <a:pt x="11" y="426"/>
                  </a:lnTo>
                  <a:lnTo>
                    <a:pt x="9" y="416"/>
                  </a:lnTo>
                  <a:lnTo>
                    <a:pt x="5" y="406"/>
                  </a:lnTo>
                  <a:lnTo>
                    <a:pt x="0" y="397"/>
                  </a:lnTo>
                  <a:lnTo>
                    <a:pt x="1" y="387"/>
                  </a:lnTo>
                  <a:lnTo>
                    <a:pt x="8" y="382"/>
                  </a:lnTo>
                  <a:lnTo>
                    <a:pt x="13" y="381"/>
                  </a:lnTo>
                  <a:lnTo>
                    <a:pt x="20" y="384"/>
                  </a:lnTo>
                  <a:lnTo>
                    <a:pt x="25" y="388"/>
                  </a:lnTo>
                  <a:lnTo>
                    <a:pt x="30" y="394"/>
                  </a:lnTo>
                  <a:lnTo>
                    <a:pt x="34" y="400"/>
                  </a:lnTo>
                  <a:lnTo>
                    <a:pt x="40" y="405"/>
                  </a:lnTo>
                  <a:lnTo>
                    <a:pt x="46" y="408"/>
                  </a:lnTo>
                  <a:lnTo>
                    <a:pt x="54" y="412"/>
                  </a:lnTo>
                  <a:lnTo>
                    <a:pt x="60" y="410"/>
                  </a:lnTo>
                  <a:lnTo>
                    <a:pt x="66" y="409"/>
                  </a:lnTo>
                  <a:lnTo>
                    <a:pt x="73" y="408"/>
                  </a:lnTo>
                  <a:lnTo>
                    <a:pt x="79" y="408"/>
                  </a:lnTo>
                  <a:lnTo>
                    <a:pt x="86" y="407"/>
                  </a:lnTo>
                  <a:lnTo>
                    <a:pt x="93" y="406"/>
                  </a:lnTo>
                  <a:lnTo>
                    <a:pt x="101" y="405"/>
                  </a:lnTo>
                  <a:lnTo>
                    <a:pt x="109" y="404"/>
                  </a:lnTo>
                  <a:lnTo>
                    <a:pt x="110" y="398"/>
                  </a:lnTo>
                  <a:lnTo>
                    <a:pt x="111" y="391"/>
                  </a:lnTo>
                  <a:lnTo>
                    <a:pt x="112" y="384"/>
                  </a:lnTo>
                  <a:lnTo>
                    <a:pt x="113" y="377"/>
                  </a:lnTo>
                  <a:lnTo>
                    <a:pt x="113" y="370"/>
                  </a:lnTo>
                  <a:lnTo>
                    <a:pt x="113" y="363"/>
                  </a:lnTo>
                  <a:lnTo>
                    <a:pt x="112" y="356"/>
                  </a:lnTo>
                  <a:lnTo>
                    <a:pt x="111" y="351"/>
                  </a:lnTo>
                  <a:lnTo>
                    <a:pt x="99" y="345"/>
                  </a:lnTo>
                  <a:lnTo>
                    <a:pt x="89" y="340"/>
                  </a:lnTo>
                  <a:lnTo>
                    <a:pt x="79" y="334"/>
                  </a:lnTo>
                  <a:lnTo>
                    <a:pt x="70" y="327"/>
                  </a:lnTo>
                  <a:lnTo>
                    <a:pt x="60" y="319"/>
                  </a:lnTo>
                  <a:lnTo>
                    <a:pt x="52" y="311"/>
                  </a:lnTo>
                  <a:lnTo>
                    <a:pt x="43" y="303"/>
                  </a:lnTo>
                  <a:lnTo>
                    <a:pt x="36" y="295"/>
                  </a:lnTo>
                  <a:lnTo>
                    <a:pt x="34" y="289"/>
                  </a:lnTo>
                  <a:lnTo>
                    <a:pt x="41" y="280"/>
                  </a:lnTo>
                  <a:lnTo>
                    <a:pt x="50" y="280"/>
                  </a:lnTo>
                  <a:lnTo>
                    <a:pt x="60" y="285"/>
                  </a:lnTo>
                  <a:lnTo>
                    <a:pt x="69" y="290"/>
                  </a:lnTo>
                  <a:lnTo>
                    <a:pt x="77" y="296"/>
                  </a:lnTo>
                  <a:lnTo>
                    <a:pt x="85" y="302"/>
                  </a:lnTo>
                  <a:lnTo>
                    <a:pt x="93" y="308"/>
                  </a:lnTo>
                  <a:lnTo>
                    <a:pt x="103" y="311"/>
                  </a:lnTo>
                  <a:lnTo>
                    <a:pt x="114" y="314"/>
                  </a:lnTo>
                  <a:lnTo>
                    <a:pt x="115" y="304"/>
                  </a:lnTo>
                  <a:lnTo>
                    <a:pt x="118" y="295"/>
                  </a:lnTo>
                  <a:lnTo>
                    <a:pt x="119" y="286"/>
                  </a:lnTo>
                  <a:lnTo>
                    <a:pt x="121" y="277"/>
                  </a:lnTo>
                  <a:lnTo>
                    <a:pt x="122" y="268"/>
                  </a:lnTo>
                  <a:lnTo>
                    <a:pt x="125" y="259"/>
                  </a:lnTo>
                  <a:lnTo>
                    <a:pt x="126" y="251"/>
                  </a:lnTo>
                  <a:lnTo>
                    <a:pt x="129" y="242"/>
                  </a:lnTo>
                  <a:lnTo>
                    <a:pt x="111" y="235"/>
                  </a:lnTo>
                  <a:lnTo>
                    <a:pt x="94" y="227"/>
                  </a:lnTo>
                  <a:lnTo>
                    <a:pt x="75" y="220"/>
                  </a:lnTo>
                  <a:lnTo>
                    <a:pt x="59" y="213"/>
                  </a:lnTo>
                  <a:lnTo>
                    <a:pt x="42" y="203"/>
                  </a:lnTo>
                  <a:lnTo>
                    <a:pt x="29" y="191"/>
                  </a:lnTo>
                  <a:lnTo>
                    <a:pt x="18" y="175"/>
                  </a:lnTo>
                  <a:lnTo>
                    <a:pt x="13" y="156"/>
                  </a:lnTo>
                  <a:lnTo>
                    <a:pt x="20" y="149"/>
                  </a:lnTo>
                  <a:lnTo>
                    <a:pt x="27" y="148"/>
                  </a:lnTo>
                  <a:lnTo>
                    <a:pt x="33" y="152"/>
                  </a:lnTo>
                  <a:lnTo>
                    <a:pt x="40" y="158"/>
                  </a:lnTo>
                  <a:lnTo>
                    <a:pt x="45" y="164"/>
                  </a:lnTo>
                  <a:lnTo>
                    <a:pt x="50" y="171"/>
                  </a:lnTo>
                  <a:lnTo>
                    <a:pt x="57" y="177"/>
                  </a:lnTo>
                  <a:lnTo>
                    <a:pt x="65" y="181"/>
                  </a:lnTo>
                  <a:lnTo>
                    <a:pt x="75" y="184"/>
                  </a:lnTo>
                  <a:lnTo>
                    <a:pt x="87" y="187"/>
                  </a:lnTo>
                  <a:lnTo>
                    <a:pt x="96" y="190"/>
                  </a:lnTo>
                  <a:lnTo>
                    <a:pt x="108" y="193"/>
                  </a:lnTo>
                  <a:lnTo>
                    <a:pt x="119" y="195"/>
                  </a:lnTo>
                  <a:lnTo>
                    <a:pt x="129" y="197"/>
                  </a:lnTo>
                  <a:lnTo>
                    <a:pt x="140" y="197"/>
                  </a:lnTo>
                  <a:lnTo>
                    <a:pt x="152" y="196"/>
                  </a:lnTo>
                  <a:lnTo>
                    <a:pt x="134" y="186"/>
                  </a:lnTo>
                  <a:lnTo>
                    <a:pt x="118" y="176"/>
                  </a:lnTo>
                  <a:lnTo>
                    <a:pt x="102" y="165"/>
                  </a:lnTo>
                  <a:lnTo>
                    <a:pt x="86" y="154"/>
                  </a:lnTo>
                  <a:lnTo>
                    <a:pt x="70" y="141"/>
                  </a:lnTo>
                  <a:lnTo>
                    <a:pt x="55" y="128"/>
                  </a:lnTo>
                  <a:lnTo>
                    <a:pt x="40" y="114"/>
                  </a:lnTo>
                  <a:lnTo>
                    <a:pt x="25" y="100"/>
                  </a:lnTo>
                  <a:lnTo>
                    <a:pt x="24" y="91"/>
                  </a:lnTo>
                  <a:lnTo>
                    <a:pt x="30" y="86"/>
                  </a:lnTo>
                  <a:lnTo>
                    <a:pt x="41" y="89"/>
                  </a:lnTo>
                  <a:lnTo>
                    <a:pt x="52" y="93"/>
                  </a:lnTo>
                  <a:lnTo>
                    <a:pt x="61" y="98"/>
                  </a:lnTo>
                  <a:lnTo>
                    <a:pt x="72" y="105"/>
                  </a:lnTo>
                  <a:lnTo>
                    <a:pt x="81" y="110"/>
                  </a:lnTo>
                  <a:lnTo>
                    <a:pt x="91" y="116"/>
                  </a:lnTo>
                  <a:lnTo>
                    <a:pt x="101" y="122"/>
                  </a:lnTo>
                  <a:lnTo>
                    <a:pt x="111" y="128"/>
                  </a:lnTo>
                  <a:lnTo>
                    <a:pt x="119" y="130"/>
                  </a:lnTo>
                  <a:lnTo>
                    <a:pt x="128" y="133"/>
                  </a:lnTo>
                  <a:lnTo>
                    <a:pt x="136" y="137"/>
                  </a:lnTo>
                  <a:lnTo>
                    <a:pt x="145" y="140"/>
                  </a:lnTo>
                  <a:lnTo>
                    <a:pt x="153" y="142"/>
                  </a:lnTo>
                  <a:lnTo>
                    <a:pt x="161" y="145"/>
                  </a:lnTo>
                  <a:lnTo>
                    <a:pt x="169" y="148"/>
                  </a:lnTo>
                  <a:lnTo>
                    <a:pt x="177" y="152"/>
                  </a:lnTo>
                  <a:lnTo>
                    <a:pt x="180" y="141"/>
                  </a:lnTo>
                  <a:lnTo>
                    <a:pt x="186" y="131"/>
                  </a:lnTo>
                  <a:lnTo>
                    <a:pt x="188" y="122"/>
                  </a:lnTo>
                  <a:lnTo>
                    <a:pt x="183" y="113"/>
                  </a:lnTo>
                  <a:lnTo>
                    <a:pt x="176" y="112"/>
                  </a:lnTo>
                  <a:lnTo>
                    <a:pt x="172" y="114"/>
                  </a:lnTo>
                  <a:lnTo>
                    <a:pt x="168" y="116"/>
                  </a:lnTo>
                  <a:lnTo>
                    <a:pt x="164" y="120"/>
                  </a:lnTo>
                  <a:lnTo>
                    <a:pt x="157" y="126"/>
                  </a:lnTo>
                  <a:lnTo>
                    <a:pt x="150" y="131"/>
                  </a:lnTo>
                  <a:lnTo>
                    <a:pt x="150" y="112"/>
                  </a:lnTo>
                  <a:lnTo>
                    <a:pt x="147" y="95"/>
                  </a:lnTo>
                  <a:lnTo>
                    <a:pt x="141" y="79"/>
                  </a:lnTo>
                  <a:lnTo>
                    <a:pt x="134" y="66"/>
                  </a:lnTo>
                  <a:lnTo>
                    <a:pt x="122" y="54"/>
                  </a:lnTo>
                  <a:lnTo>
                    <a:pt x="110" y="43"/>
                  </a:lnTo>
                  <a:lnTo>
                    <a:pt x="96" y="32"/>
                  </a:lnTo>
                  <a:lnTo>
                    <a:pt x="83" y="25"/>
                  </a:lnTo>
                  <a:lnTo>
                    <a:pt x="76" y="25"/>
                  </a:lnTo>
                  <a:lnTo>
                    <a:pt x="70" y="27"/>
                  </a:lnTo>
                  <a:lnTo>
                    <a:pt x="62" y="28"/>
                  </a:lnTo>
                  <a:lnTo>
                    <a:pt x="56" y="27"/>
                  </a:lnTo>
                  <a:lnTo>
                    <a:pt x="50" y="20"/>
                  </a:lnTo>
                  <a:lnTo>
                    <a:pt x="55" y="13"/>
                  </a:lnTo>
                  <a:lnTo>
                    <a:pt x="62" y="8"/>
                  </a:lnTo>
                  <a:lnTo>
                    <a:pt x="71" y="2"/>
                  </a:lnTo>
                  <a:lnTo>
                    <a:pt x="86" y="0"/>
                  </a:lnTo>
                  <a:lnTo>
                    <a:pt x="99" y="2"/>
                  </a:lnTo>
                  <a:lnTo>
                    <a:pt x="112" y="7"/>
                  </a:lnTo>
                  <a:lnTo>
                    <a:pt x="125" y="13"/>
                  </a:lnTo>
                  <a:lnTo>
                    <a:pt x="137" y="18"/>
                  </a:lnTo>
                  <a:lnTo>
                    <a:pt x="148" y="25"/>
                  </a:lnTo>
                  <a:lnTo>
                    <a:pt x="161" y="31"/>
                  </a:lnTo>
                  <a:lnTo>
                    <a:pt x="175" y="38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5937120" y="3219120"/>
              <a:ext cx="14400" cy="10440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4" y="199"/>
                  </a:moveTo>
                  <a:lnTo>
                    <a:pt x="0" y="183"/>
                  </a:lnTo>
                  <a:lnTo>
                    <a:pt x="1" y="168"/>
                  </a:lnTo>
                  <a:lnTo>
                    <a:pt x="4" y="152"/>
                  </a:lnTo>
                  <a:lnTo>
                    <a:pt x="9" y="137"/>
                  </a:lnTo>
                  <a:lnTo>
                    <a:pt x="12" y="120"/>
                  </a:lnTo>
                  <a:lnTo>
                    <a:pt x="15" y="104"/>
                  </a:lnTo>
                  <a:lnTo>
                    <a:pt x="16" y="88"/>
                  </a:lnTo>
                  <a:lnTo>
                    <a:pt x="14" y="72"/>
                  </a:lnTo>
                  <a:lnTo>
                    <a:pt x="22" y="0"/>
                  </a:lnTo>
                  <a:lnTo>
                    <a:pt x="25" y="22"/>
                  </a:lnTo>
                  <a:lnTo>
                    <a:pt x="25" y="46"/>
                  </a:lnTo>
                  <a:lnTo>
                    <a:pt x="24" y="70"/>
                  </a:lnTo>
                  <a:lnTo>
                    <a:pt x="22" y="96"/>
                  </a:lnTo>
                  <a:lnTo>
                    <a:pt x="17" y="121"/>
                  </a:lnTo>
                  <a:lnTo>
                    <a:pt x="13" y="147"/>
                  </a:lnTo>
                  <a:lnTo>
                    <a:pt x="8" y="173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5110200" y="3224160"/>
              <a:ext cx="7920" cy="1692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5" y="0"/>
                  </a:moveTo>
                  <a:lnTo>
                    <a:pt x="15" y="8"/>
                  </a:lnTo>
                  <a:lnTo>
                    <a:pt x="13" y="17"/>
                  </a:lnTo>
                  <a:lnTo>
                    <a:pt x="8" y="24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5883120" y="3227040"/>
              <a:ext cx="32040" cy="2196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60" y="10"/>
                  </a:moveTo>
                  <a:lnTo>
                    <a:pt x="59" y="18"/>
                  </a:lnTo>
                  <a:lnTo>
                    <a:pt x="56" y="26"/>
                  </a:lnTo>
                  <a:lnTo>
                    <a:pt x="53" y="34"/>
                  </a:lnTo>
                  <a:lnTo>
                    <a:pt x="54" y="43"/>
                  </a:lnTo>
                  <a:lnTo>
                    <a:pt x="45" y="37"/>
                  </a:lnTo>
                  <a:lnTo>
                    <a:pt x="36" y="32"/>
                  </a:lnTo>
                  <a:lnTo>
                    <a:pt x="27" y="29"/>
                  </a:lnTo>
                  <a:lnTo>
                    <a:pt x="17" y="34"/>
                  </a:lnTo>
                  <a:lnTo>
                    <a:pt x="6" y="41"/>
                  </a:lnTo>
                  <a:lnTo>
                    <a:pt x="0" y="27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9" y="3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5045040" y="3230280"/>
              <a:ext cx="36720" cy="85320"/>
            </a:xfrm>
            <a:custGeom>
              <a:avLst/>
              <a:gdLst/>
              <a:ahLst/>
              <a:rect l="l" t="t" r="r" b="b"/>
              <a:pathLst>
                <a:path w="68" h="162">
                  <a:moveTo>
                    <a:pt x="55" y="81"/>
                  </a:moveTo>
                  <a:lnTo>
                    <a:pt x="47" y="88"/>
                  </a:lnTo>
                  <a:lnTo>
                    <a:pt x="44" y="96"/>
                  </a:lnTo>
                  <a:lnTo>
                    <a:pt x="45" y="105"/>
                  </a:lnTo>
                  <a:lnTo>
                    <a:pt x="49" y="114"/>
                  </a:lnTo>
                  <a:lnTo>
                    <a:pt x="50" y="122"/>
                  </a:lnTo>
                  <a:lnTo>
                    <a:pt x="50" y="129"/>
                  </a:lnTo>
                  <a:lnTo>
                    <a:pt x="45" y="135"/>
                  </a:lnTo>
                  <a:lnTo>
                    <a:pt x="35" y="142"/>
                  </a:lnTo>
                  <a:lnTo>
                    <a:pt x="25" y="146"/>
                  </a:lnTo>
                  <a:lnTo>
                    <a:pt x="17" y="151"/>
                  </a:lnTo>
                  <a:lnTo>
                    <a:pt x="7" y="155"/>
                  </a:lnTo>
                  <a:lnTo>
                    <a:pt x="0" y="162"/>
                  </a:lnTo>
                  <a:lnTo>
                    <a:pt x="5" y="155"/>
                  </a:lnTo>
                  <a:lnTo>
                    <a:pt x="15" y="148"/>
                  </a:lnTo>
                  <a:lnTo>
                    <a:pt x="23" y="141"/>
                  </a:lnTo>
                  <a:lnTo>
                    <a:pt x="33" y="133"/>
                  </a:lnTo>
                  <a:lnTo>
                    <a:pt x="34" y="123"/>
                  </a:lnTo>
                  <a:lnTo>
                    <a:pt x="36" y="113"/>
                  </a:lnTo>
                  <a:lnTo>
                    <a:pt x="37" y="102"/>
                  </a:lnTo>
                  <a:lnTo>
                    <a:pt x="38" y="92"/>
                  </a:lnTo>
                  <a:lnTo>
                    <a:pt x="38" y="81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40" y="52"/>
                  </a:lnTo>
                  <a:lnTo>
                    <a:pt x="41" y="44"/>
                  </a:lnTo>
                  <a:lnTo>
                    <a:pt x="43" y="36"/>
                  </a:lnTo>
                  <a:lnTo>
                    <a:pt x="47" y="30"/>
                  </a:lnTo>
                  <a:lnTo>
                    <a:pt x="50" y="24"/>
                  </a:lnTo>
                  <a:lnTo>
                    <a:pt x="53" y="17"/>
                  </a:lnTo>
                  <a:lnTo>
                    <a:pt x="57" y="11"/>
                  </a:lnTo>
                  <a:lnTo>
                    <a:pt x="61" y="6"/>
                  </a:lnTo>
                  <a:lnTo>
                    <a:pt x="68" y="0"/>
                  </a:lnTo>
                  <a:lnTo>
                    <a:pt x="66" y="11"/>
                  </a:lnTo>
                  <a:lnTo>
                    <a:pt x="65" y="21"/>
                  </a:lnTo>
                  <a:lnTo>
                    <a:pt x="65" y="31"/>
                  </a:lnTo>
                  <a:lnTo>
                    <a:pt x="65" y="42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58" y="69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5857920" y="3241440"/>
              <a:ext cx="3240" cy="14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22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8"/>
                  </a:lnTo>
                  <a:lnTo>
                    <a:pt x="4" y="14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4681440" y="3254040"/>
              <a:ext cx="28800" cy="61560"/>
            </a:xfrm>
            <a:custGeom>
              <a:avLst/>
              <a:gdLst/>
              <a:ahLst/>
              <a:rect l="l" t="t" r="r" b="b"/>
              <a:pathLst>
                <a:path w="53" h="117">
                  <a:moveTo>
                    <a:pt x="53" y="20"/>
                  </a:moveTo>
                  <a:lnTo>
                    <a:pt x="53" y="30"/>
                  </a:lnTo>
                  <a:lnTo>
                    <a:pt x="51" y="40"/>
                  </a:lnTo>
                  <a:lnTo>
                    <a:pt x="49" y="50"/>
                  </a:lnTo>
                  <a:lnTo>
                    <a:pt x="48" y="61"/>
                  </a:lnTo>
                  <a:lnTo>
                    <a:pt x="45" y="70"/>
                  </a:lnTo>
                  <a:lnTo>
                    <a:pt x="44" y="80"/>
                  </a:lnTo>
                  <a:lnTo>
                    <a:pt x="44" y="90"/>
                  </a:lnTo>
                  <a:lnTo>
                    <a:pt x="47" y="101"/>
                  </a:lnTo>
                  <a:lnTo>
                    <a:pt x="45" y="104"/>
                  </a:lnTo>
                  <a:lnTo>
                    <a:pt x="47" y="109"/>
                  </a:lnTo>
                  <a:lnTo>
                    <a:pt x="43" y="112"/>
                  </a:lnTo>
                  <a:lnTo>
                    <a:pt x="42" y="117"/>
                  </a:lnTo>
                  <a:lnTo>
                    <a:pt x="34" y="116"/>
                  </a:lnTo>
                  <a:lnTo>
                    <a:pt x="30" y="114"/>
                  </a:lnTo>
                  <a:lnTo>
                    <a:pt x="25" y="111"/>
                  </a:lnTo>
                  <a:lnTo>
                    <a:pt x="20" y="109"/>
                  </a:lnTo>
                  <a:lnTo>
                    <a:pt x="29" y="101"/>
                  </a:lnTo>
                  <a:lnTo>
                    <a:pt x="37" y="95"/>
                  </a:lnTo>
                  <a:lnTo>
                    <a:pt x="42" y="87"/>
                  </a:lnTo>
                  <a:lnTo>
                    <a:pt x="47" y="79"/>
                  </a:lnTo>
                  <a:lnTo>
                    <a:pt x="43" y="67"/>
                  </a:lnTo>
                  <a:lnTo>
                    <a:pt x="37" y="61"/>
                  </a:lnTo>
                  <a:lnTo>
                    <a:pt x="27" y="55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5" y="2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5" y="7"/>
                  </a:lnTo>
                  <a:lnTo>
                    <a:pt x="31" y="10"/>
                  </a:lnTo>
                  <a:lnTo>
                    <a:pt x="37" y="10"/>
                  </a:lnTo>
                  <a:lnTo>
                    <a:pt x="43" y="12"/>
                  </a:lnTo>
                  <a:lnTo>
                    <a:pt x="48" y="14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5838840" y="3283920"/>
              <a:ext cx="19080" cy="140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0"/>
                  </a:moveTo>
                  <a:lnTo>
                    <a:pt x="28" y="23"/>
                  </a:lnTo>
                  <a:lnTo>
                    <a:pt x="19" y="26"/>
                  </a:lnTo>
                  <a:lnTo>
                    <a:pt x="9" y="26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5797440" y="3291840"/>
              <a:ext cx="6480" cy="154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2" y="31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3" y="8"/>
                  </a:lnTo>
                  <a:lnTo>
                    <a:pt x="10" y="15"/>
                  </a:lnTo>
                  <a:lnTo>
                    <a:pt x="4" y="23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5516640" y="3298320"/>
              <a:ext cx="15840" cy="248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0"/>
                  </a:moveTo>
                  <a:lnTo>
                    <a:pt x="29" y="7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20" y="24"/>
                  </a:lnTo>
                  <a:lnTo>
                    <a:pt x="14" y="28"/>
                  </a:lnTo>
                  <a:lnTo>
                    <a:pt x="10" y="33"/>
                  </a:lnTo>
                  <a:lnTo>
                    <a:pt x="7" y="39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5" y="32"/>
                  </a:lnTo>
                  <a:lnTo>
                    <a:pt x="8" y="26"/>
                  </a:lnTo>
                  <a:lnTo>
                    <a:pt x="12" y="19"/>
                  </a:lnTo>
                  <a:lnTo>
                    <a:pt x="21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5315040" y="3299760"/>
              <a:ext cx="19080" cy="26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21"/>
                  </a:moveTo>
                  <a:lnTo>
                    <a:pt x="33" y="28"/>
                  </a:lnTo>
                  <a:lnTo>
                    <a:pt x="30" y="37"/>
                  </a:lnTo>
                  <a:lnTo>
                    <a:pt x="24" y="44"/>
                  </a:lnTo>
                  <a:lnTo>
                    <a:pt x="17" y="51"/>
                  </a:lnTo>
                  <a:lnTo>
                    <a:pt x="18" y="41"/>
                  </a:lnTo>
                  <a:lnTo>
                    <a:pt x="17" y="34"/>
                  </a:lnTo>
                  <a:lnTo>
                    <a:pt x="12" y="28"/>
                  </a:lnTo>
                  <a:lnTo>
                    <a:pt x="7" y="24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1" y="7"/>
                  </a:lnTo>
                  <a:lnTo>
                    <a:pt x="10" y="0"/>
                  </a:lnTo>
                  <a:lnTo>
                    <a:pt x="13" y="9"/>
                  </a:lnTo>
                  <a:lnTo>
                    <a:pt x="19" y="16"/>
                  </a:lnTo>
                  <a:lnTo>
                    <a:pt x="28" y="20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5621400" y="3299760"/>
              <a:ext cx="25200" cy="3456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48" y="0"/>
                  </a:moveTo>
                  <a:lnTo>
                    <a:pt x="45" y="9"/>
                  </a:lnTo>
                  <a:lnTo>
                    <a:pt x="43" y="18"/>
                  </a:lnTo>
                  <a:lnTo>
                    <a:pt x="39" y="27"/>
                  </a:lnTo>
                  <a:lnTo>
                    <a:pt x="35" y="35"/>
                  </a:lnTo>
                  <a:lnTo>
                    <a:pt x="28" y="42"/>
                  </a:lnTo>
                  <a:lnTo>
                    <a:pt x="23" y="49"/>
                  </a:lnTo>
                  <a:lnTo>
                    <a:pt x="17" y="57"/>
                  </a:lnTo>
                  <a:lnTo>
                    <a:pt x="12" y="66"/>
                  </a:lnTo>
                  <a:lnTo>
                    <a:pt x="4" y="65"/>
                  </a:lnTo>
                  <a:lnTo>
                    <a:pt x="0" y="61"/>
                  </a:lnTo>
                  <a:lnTo>
                    <a:pt x="35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5753160" y="3306240"/>
              <a:ext cx="19080" cy="75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7" y="11"/>
                  </a:moveTo>
                  <a:lnTo>
                    <a:pt x="28" y="15"/>
                  </a:lnTo>
                  <a:lnTo>
                    <a:pt x="20" y="13"/>
                  </a:lnTo>
                  <a:lnTo>
                    <a:pt x="15" y="11"/>
                  </a:lnTo>
                  <a:lnTo>
                    <a:pt x="11" y="10"/>
                  </a:lnTo>
                  <a:lnTo>
                    <a:pt x="5" y="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5" y="8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4781520" y="3315600"/>
              <a:ext cx="3240" cy="75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6"/>
                  </a:moveTo>
                  <a:lnTo>
                    <a:pt x="2" y="15"/>
                  </a:lnTo>
                  <a:lnTo>
                    <a:pt x="0" y="0"/>
                  </a:lnTo>
                  <a:lnTo>
                    <a:pt x="3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4684680" y="3341160"/>
              <a:ext cx="19080" cy="248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13"/>
                  </a:moveTo>
                  <a:lnTo>
                    <a:pt x="30" y="48"/>
                  </a:lnTo>
                  <a:lnTo>
                    <a:pt x="0" y="43"/>
                  </a:lnTo>
                  <a:lnTo>
                    <a:pt x="2" y="0"/>
                  </a:lnTo>
                  <a:lnTo>
                    <a:pt x="8" y="3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7" y="4"/>
                  </a:lnTo>
                  <a:lnTo>
                    <a:pt x="31" y="6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5283360" y="3344400"/>
              <a:ext cx="9360" cy="154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7" y="26"/>
                  </a:moveTo>
                  <a:lnTo>
                    <a:pt x="13" y="29"/>
                  </a:lnTo>
                  <a:lnTo>
                    <a:pt x="9" y="30"/>
                  </a:lnTo>
                  <a:lnTo>
                    <a:pt x="5" y="28"/>
                  </a:lnTo>
                  <a:lnTo>
                    <a:pt x="0" y="26"/>
                  </a:lnTo>
                  <a:lnTo>
                    <a:pt x="15" y="0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7" y="18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5445000" y="3344400"/>
              <a:ext cx="17640" cy="108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1"/>
                  </a:moveTo>
                  <a:lnTo>
                    <a:pt x="33" y="9"/>
                  </a:lnTo>
                  <a:lnTo>
                    <a:pt x="31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2" y="17"/>
                  </a:lnTo>
                  <a:lnTo>
                    <a:pt x="6" y="19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5367240" y="3347640"/>
              <a:ext cx="17640" cy="1044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8"/>
                  </a:moveTo>
                  <a:lnTo>
                    <a:pt x="32" y="15"/>
                  </a:lnTo>
                  <a:lnTo>
                    <a:pt x="29" y="18"/>
                  </a:lnTo>
                  <a:lnTo>
                    <a:pt x="25" y="19"/>
                  </a:lnTo>
                  <a:lnTo>
                    <a:pt x="20" y="21"/>
                  </a:lnTo>
                  <a:lnTo>
                    <a:pt x="12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5145120" y="3366360"/>
              <a:ext cx="22320" cy="187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36" y="8"/>
                  </a:lnTo>
                  <a:lnTo>
                    <a:pt x="30" y="18"/>
                  </a:lnTo>
                  <a:lnTo>
                    <a:pt x="23" y="28"/>
                  </a:lnTo>
                  <a:lnTo>
                    <a:pt x="17" y="37"/>
                  </a:lnTo>
                  <a:lnTo>
                    <a:pt x="15" y="28"/>
                  </a:lnTo>
                  <a:lnTo>
                    <a:pt x="11" y="19"/>
                  </a:lnTo>
                  <a:lnTo>
                    <a:pt x="6" y="12"/>
                  </a:lnTo>
                  <a:lnTo>
                    <a:pt x="0" y="7"/>
                  </a:lnTo>
                  <a:lnTo>
                    <a:pt x="9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4684680" y="3393360"/>
              <a:ext cx="14400" cy="154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3"/>
                  </a:moveTo>
                  <a:lnTo>
                    <a:pt x="25" y="10"/>
                  </a:lnTo>
                  <a:lnTo>
                    <a:pt x="24" y="17"/>
                  </a:lnTo>
                  <a:lnTo>
                    <a:pt x="22" y="24"/>
                  </a:lnTo>
                  <a:lnTo>
                    <a:pt x="22" y="31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1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5924520" y="3398040"/>
              <a:ext cx="1440" cy="36000"/>
            </a:xfrm>
            <a:custGeom>
              <a:avLst/>
              <a:gdLst/>
              <a:ahLst/>
              <a:rect l="l" t="t" r="r" b="b"/>
              <a:pathLst>
                <a:path w="2" h="68">
                  <a:moveTo>
                    <a:pt x="0" y="68"/>
                  </a:moveTo>
                  <a:lnTo>
                    <a:pt x="2" y="0"/>
                  </a:lnTo>
                  <a:lnTo>
                    <a:pt x="2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4654440" y="3399480"/>
              <a:ext cx="1800" cy="61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1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5127480" y="3398040"/>
              <a:ext cx="16200" cy="122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3" y="24"/>
                  </a:moveTo>
                  <a:lnTo>
                    <a:pt x="0" y="17"/>
                  </a:lnTo>
                  <a:lnTo>
                    <a:pt x="1" y="8"/>
                  </a:lnTo>
                  <a:lnTo>
                    <a:pt x="8" y="5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5362560" y="3413880"/>
              <a:ext cx="293760" cy="317880"/>
            </a:xfrm>
            <a:custGeom>
              <a:avLst/>
              <a:gdLst/>
              <a:ahLst/>
              <a:rect l="l" t="t" r="r" b="b"/>
              <a:pathLst>
                <a:path w="554" h="602">
                  <a:moveTo>
                    <a:pt x="495" y="15"/>
                  </a:moveTo>
                  <a:lnTo>
                    <a:pt x="496" y="26"/>
                  </a:lnTo>
                  <a:lnTo>
                    <a:pt x="500" y="36"/>
                  </a:lnTo>
                  <a:lnTo>
                    <a:pt x="507" y="31"/>
                  </a:lnTo>
                  <a:lnTo>
                    <a:pt x="516" y="30"/>
                  </a:lnTo>
                  <a:lnTo>
                    <a:pt x="525" y="30"/>
                  </a:lnTo>
                  <a:lnTo>
                    <a:pt x="533" y="30"/>
                  </a:lnTo>
                  <a:lnTo>
                    <a:pt x="531" y="40"/>
                  </a:lnTo>
                  <a:lnTo>
                    <a:pt x="526" y="47"/>
                  </a:lnTo>
                  <a:lnTo>
                    <a:pt x="517" y="54"/>
                  </a:lnTo>
                  <a:lnTo>
                    <a:pt x="509" y="60"/>
                  </a:lnTo>
                  <a:lnTo>
                    <a:pt x="498" y="66"/>
                  </a:lnTo>
                  <a:lnTo>
                    <a:pt x="490" y="72"/>
                  </a:lnTo>
                  <a:lnTo>
                    <a:pt x="480" y="79"/>
                  </a:lnTo>
                  <a:lnTo>
                    <a:pt x="475" y="91"/>
                  </a:lnTo>
                  <a:lnTo>
                    <a:pt x="483" y="101"/>
                  </a:lnTo>
                  <a:lnTo>
                    <a:pt x="493" y="111"/>
                  </a:lnTo>
                  <a:lnTo>
                    <a:pt x="495" y="118"/>
                  </a:lnTo>
                  <a:lnTo>
                    <a:pt x="497" y="124"/>
                  </a:lnTo>
                  <a:lnTo>
                    <a:pt x="496" y="131"/>
                  </a:lnTo>
                  <a:lnTo>
                    <a:pt x="493" y="139"/>
                  </a:lnTo>
                  <a:lnTo>
                    <a:pt x="487" y="143"/>
                  </a:lnTo>
                  <a:lnTo>
                    <a:pt x="480" y="148"/>
                  </a:lnTo>
                  <a:lnTo>
                    <a:pt x="473" y="151"/>
                  </a:lnTo>
                  <a:lnTo>
                    <a:pt x="467" y="157"/>
                  </a:lnTo>
                  <a:lnTo>
                    <a:pt x="467" y="168"/>
                  </a:lnTo>
                  <a:lnTo>
                    <a:pt x="469" y="177"/>
                  </a:lnTo>
                  <a:lnTo>
                    <a:pt x="477" y="169"/>
                  </a:lnTo>
                  <a:lnTo>
                    <a:pt x="484" y="161"/>
                  </a:lnTo>
                  <a:lnTo>
                    <a:pt x="492" y="156"/>
                  </a:lnTo>
                  <a:lnTo>
                    <a:pt x="502" y="157"/>
                  </a:lnTo>
                  <a:lnTo>
                    <a:pt x="502" y="164"/>
                  </a:lnTo>
                  <a:lnTo>
                    <a:pt x="501" y="171"/>
                  </a:lnTo>
                  <a:lnTo>
                    <a:pt x="498" y="178"/>
                  </a:lnTo>
                  <a:lnTo>
                    <a:pt x="495" y="186"/>
                  </a:lnTo>
                  <a:lnTo>
                    <a:pt x="490" y="192"/>
                  </a:lnTo>
                  <a:lnTo>
                    <a:pt x="484" y="199"/>
                  </a:lnTo>
                  <a:lnTo>
                    <a:pt x="478" y="206"/>
                  </a:lnTo>
                  <a:lnTo>
                    <a:pt x="475" y="215"/>
                  </a:lnTo>
                  <a:lnTo>
                    <a:pt x="469" y="219"/>
                  </a:lnTo>
                  <a:lnTo>
                    <a:pt x="464" y="223"/>
                  </a:lnTo>
                  <a:lnTo>
                    <a:pt x="459" y="227"/>
                  </a:lnTo>
                  <a:lnTo>
                    <a:pt x="455" y="233"/>
                  </a:lnTo>
                  <a:lnTo>
                    <a:pt x="447" y="242"/>
                  </a:lnTo>
                  <a:lnTo>
                    <a:pt x="447" y="253"/>
                  </a:lnTo>
                  <a:lnTo>
                    <a:pt x="455" y="253"/>
                  </a:lnTo>
                  <a:lnTo>
                    <a:pt x="539" y="177"/>
                  </a:lnTo>
                  <a:lnTo>
                    <a:pt x="542" y="176"/>
                  </a:lnTo>
                  <a:lnTo>
                    <a:pt x="547" y="175"/>
                  </a:lnTo>
                  <a:lnTo>
                    <a:pt x="552" y="175"/>
                  </a:lnTo>
                  <a:lnTo>
                    <a:pt x="554" y="180"/>
                  </a:lnTo>
                  <a:lnTo>
                    <a:pt x="550" y="186"/>
                  </a:lnTo>
                  <a:lnTo>
                    <a:pt x="547" y="192"/>
                  </a:lnTo>
                  <a:lnTo>
                    <a:pt x="543" y="199"/>
                  </a:lnTo>
                  <a:lnTo>
                    <a:pt x="539" y="206"/>
                  </a:lnTo>
                  <a:lnTo>
                    <a:pt x="532" y="213"/>
                  </a:lnTo>
                  <a:lnTo>
                    <a:pt x="528" y="219"/>
                  </a:lnTo>
                  <a:lnTo>
                    <a:pt x="523" y="225"/>
                  </a:lnTo>
                  <a:lnTo>
                    <a:pt x="521" y="233"/>
                  </a:lnTo>
                  <a:lnTo>
                    <a:pt x="526" y="233"/>
                  </a:lnTo>
                  <a:lnTo>
                    <a:pt x="532" y="236"/>
                  </a:lnTo>
                  <a:lnTo>
                    <a:pt x="537" y="238"/>
                  </a:lnTo>
                  <a:lnTo>
                    <a:pt x="542" y="242"/>
                  </a:lnTo>
                  <a:lnTo>
                    <a:pt x="548" y="251"/>
                  </a:lnTo>
                  <a:lnTo>
                    <a:pt x="554" y="263"/>
                  </a:lnTo>
                  <a:lnTo>
                    <a:pt x="549" y="283"/>
                  </a:lnTo>
                  <a:lnTo>
                    <a:pt x="541" y="302"/>
                  </a:lnTo>
                  <a:lnTo>
                    <a:pt x="527" y="318"/>
                  </a:lnTo>
                  <a:lnTo>
                    <a:pt x="512" y="334"/>
                  </a:lnTo>
                  <a:lnTo>
                    <a:pt x="494" y="347"/>
                  </a:lnTo>
                  <a:lnTo>
                    <a:pt x="476" y="361"/>
                  </a:lnTo>
                  <a:lnTo>
                    <a:pt x="459" y="373"/>
                  </a:lnTo>
                  <a:lnTo>
                    <a:pt x="445" y="387"/>
                  </a:lnTo>
                  <a:lnTo>
                    <a:pt x="437" y="403"/>
                  </a:lnTo>
                  <a:lnTo>
                    <a:pt x="431" y="420"/>
                  </a:lnTo>
                  <a:lnTo>
                    <a:pt x="424" y="437"/>
                  </a:lnTo>
                  <a:lnTo>
                    <a:pt x="417" y="454"/>
                  </a:lnTo>
                  <a:lnTo>
                    <a:pt x="409" y="470"/>
                  </a:lnTo>
                  <a:lnTo>
                    <a:pt x="400" y="486"/>
                  </a:lnTo>
                  <a:lnTo>
                    <a:pt x="388" y="501"/>
                  </a:lnTo>
                  <a:lnTo>
                    <a:pt x="377" y="516"/>
                  </a:lnTo>
                  <a:lnTo>
                    <a:pt x="365" y="518"/>
                  </a:lnTo>
                  <a:lnTo>
                    <a:pt x="355" y="521"/>
                  </a:lnTo>
                  <a:lnTo>
                    <a:pt x="346" y="525"/>
                  </a:lnTo>
                  <a:lnTo>
                    <a:pt x="336" y="529"/>
                  </a:lnTo>
                  <a:lnTo>
                    <a:pt x="327" y="531"/>
                  </a:lnTo>
                  <a:lnTo>
                    <a:pt x="317" y="534"/>
                  </a:lnTo>
                  <a:lnTo>
                    <a:pt x="307" y="535"/>
                  </a:lnTo>
                  <a:lnTo>
                    <a:pt x="298" y="536"/>
                  </a:lnTo>
                  <a:lnTo>
                    <a:pt x="294" y="527"/>
                  </a:lnTo>
                  <a:lnTo>
                    <a:pt x="290" y="524"/>
                  </a:lnTo>
                  <a:lnTo>
                    <a:pt x="285" y="525"/>
                  </a:lnTo>
                  <a:lnTo>
                    <a:pt x="280" y="529"/>
                  </a:lnTo>
                  <a:lnTo>
                    <a:pt x="273" y="533"/>
                  </a:lnTo>
                  <a:lnTo>
                    <a:pt x="267" y="537"/>
                  </a:lnTo>
                  <a:lnTo>
                    <a:pt x="261" y="541"/>
                  </a:lnTo>
                  <a:lnTo>
                    <a:pt x="255" y="542"/>
                  </a:lnTo>
                  <a:lnTo>
                    <a:pt x="246" y="539"/>
                  </a:lnTo>
                  <a:lnTo>
                    <a:pt x="237" y="539"/>
                  </a:lnTo>
                  <a:lnTo>
                    <a:pt x="229" y="540"/>
                  </a:lnTo>
                  <a:lnTo>
                    <a:pt x="220" y="544"/>
                  </a:lnTo>
                  <a:lnTo>
                    <a:pt x="212" y="547"/>
                  </a:lnTo>
                  <a:lnTo>
                    <a:pt x="204" y="553"/>
                  </a:lnTo>
                  <a:lnTo>
                    <a:pt x="196" y="559"/>
                  </a:lnTo>
                  <a:lnTo>
                    <a:pt x="189" y="564"/>
                  </a:lnTo>
                  <a:lnTo>
                    <a:pt x="176" y="564"/>
                  </a:lnTo>
                  <a:lnTo>
                    <a:pt x="167" y="568"/>
                  </a:lnTo>
                  <a:lnTo>
                    <a:pt x="157" y="573"/>
                  </a:lnTo>
                  <a:lnTo>
                    <a:pt x="148" y="578"/>
                  </a:lnTo>
                  <a:lnTo>
                    <a:pt x="138" y="581"/>
                  </a:lnTo>
                  <a:lnTo>
                    <a:pt x="128" y="585"/>
                  </a:lnTo>
                  <a:lnTo>
                    <a:pt x="119" y="586"/>
                  </a:lnTo>
                  <a:lnTo>
                    <a:pt x="110" y="586"/>
                  </a:lnTo>
                  <a:lnTo>
                    <a:pt x="108" y="579"/>
                  </a:lnTo>
                  <a:lnTo>
                    <a:pt x="110" y="574"/>
                  </a:lnTo>
                  <a:lnTo>
                    <a:pt x="115" y="569"/>
                  </a:lnTo>
                  <a:lnTo>
                    <a:pt x="120" y="567"/>
                  </a:lnTo>
                  <a:lnTo>
                    <a:pt x="123" y="564"/>
                  </a:lnTo>
                  <a:lnTo>
                    <a:pt x="126" y="562"/>
                  </a:lnTo>
                  <a:lnTo>
                    <a:pt x="125" y="559"/>
                  </a:lnTo>
                  <a:lnTo>
                    <a:pt x="121" y="557"/>
                  </a:lnTo>
                  <a:lnTo>
                    <a:pt x="106" y="557"/>
                  </a:lnTo>
                  <a:lnTo>
                    <a:pt x="92" y="560"/>
                  </a:lnTo>
                  <a:lnTo>
                    <a:pt x="79" y="564"/>
                  </a:lnTo>
                  <a:lnTo>
                    <a:pt x="67" y="570"/>
                  </a:lnTo>
                  <a:lnTo>
                    <a:pt x="54" y="577"/>
                  </a:lnTo>
                  <a:lnTo>
                    <a:pt x="43" y="584"/>
                  </a:lnTo>
                  <a:lnTo>
                    <a:pt x="32" y="593"/>
                  </a:lnTo>
                  <a:lnTo>
                    <a:pt x="22" y="602"/>
                  </a:lnTo>
                  <a:lnTo>
                    <a:pt x="11" y="595"/>
                  </a:lnTo>
                  <a:lnTo>
                    <a:pt x="2" y="586"/>
                  </a:lnTo>
                  <a:lnTo>
                    <a:pt x="2" y="582"/>
                  </a:lnTo>
                  <a:lnTo>
                    <a:pt x="3" y="578"/>
                  </a:lnTo>
                  <a:lnTo>
                    <a:pt x="3" y="574"/>
                  </a:lnTo>
                  <a:lnTo>
                    <a:pt x="0" y="572"/>
                  </a:lnTo>
                  <a:lnTo>
                    <a:pt x="6" y="564"/>
                  </a:lnTo>
                  <a:lnTo>
                    <a:pt x="16" y="561"/>
                  </a:lnTo>
                  <a:lnTo>
                    <a:pt x="25" y="558"/>
                  </a:lnTo>
                  <a:lnTo>
                    <a:pt x="35" y="551"/>
                  </a:lnTo>
                  <a:lnTo>
                    <a:pt x="51" y="534"/>
                  </a:lnTo>
                  <a:lnTo>
                    <a:pt x="70" y="521"/>
                  </a:lnTo>
                  <a:lnTo>
                    <a:pt x="89" y="510"/>
                  </a:lnTo>
                  <a:lnTo>
                    <a:pt x="109" y="499"/>
                  </a:lnTo>
                  <a:lnTo>
                    <a:pt x="127" y="486"/>
                  </a:lnTo>
                  <a:lnTo>
                    <a:pt x="146" y="474"/>
                  </a:lnTo>
                  <a:lnTo>
                    <a:pt x="160" y="456"/>
                  </a:lnTo>
                  <a:lnTo>
                    <a:pt x="174" y="437"/>
                  </a:lnTo>
                  <a:lnTo>
                    <a:pt x="179" y="431"/>
                  </a:lnTo>
                  <a:lnTo>
                    <a:pt x="184" y="427"/>
                  </a:lnTo>
                  <a:lnTo>
                    <a:pt x="189" y="423"/>
                  </a:lnTo>
                  <a:lnTo>
                    <a:pt x="197" y="425"/>
                  </a:lnTo>
                  <a:lnTo>
                    <a:pt x="199" y="433"/>
                  </a:lnTo>
                  <a:lnTo>
                    <a:pt x="198" y="442"/>
                  </a:lnTo>
                  <a:lnTo>
                    <a:pt x="193" y="449"/>
                  </a:lnTo>
                  <a:lnTo>
                    <a:pt x="189" y="458"/>
                  </a:lnTo>
                  <a:lnTo>
                    <a:pt x="183" y="464"/>
                  </a:lnTo>
                  <a:lnTo>
                    <a:pt x="180" y="472"/>
                  </a:lnTo>
                  <a:lnTo>
                    <a:pt x="179" y="481"/>
                  </a:lnTo>
                  <a:lnTo>
                    <a:pt x="182" y="491"/>
                  </a:lnTo>
                  <a:lnTo>
                    <a:pt x="187" y="490"/>
                  </a:lnTo>
                  <a:lnTo>
                    <a:pt x="192" y="486"/>
                  </a:lnTo>
                  <a:lnTo>
                    <a:pt x="197" y="482"/>
                  </a:lnTo>
                  <a:lnTo>
                    <a:pt x="202" y="478"/>
                  </a:lnTo>
                  <a:lnTo>
                    <a:pt x="239" y="407"/>
                  </a:lnTo>
                  <a:lnTo>
                    <a:pt x="233" y="404"/>
                  </a:lnTo>
                  <a:lnTo>
                    <a:pt x="228" y="402"/>
                  </a:lnTo>
                  <a:lnTo>
                    <a:pt x="222" y="401"/>
                  </a:lnTo>
                  <a:lnTo>
                    <a:pt x="217" y="400"/>
                  </a:lnTo>
                  <a:lnTo>
                    <a:pt x="211" y="398"/>
                  </a:lnTo>
                  <a:lnTo>
                    <a:pt x="206" y="396"/>
                  </a:lnTo>
                  <a:lnTo>
                    <a:pt x="201" y="392"/>
                  </a:lnTo>
                  <a:lnTo>
                    <a:pt x="199" y="387"/>
                  </a:lnTo>
                  <a:lnTo>
                    <a:pt x="208" y="380"/>
                  </a:lnTo>
                  <a:lnTo>
                    <a:pt x="221" y="377"/>
                  </a:lnTo>
                  <a:lnTo>
                    <a:pt x="234" y="373"/>
                  </a:lnTo>
                  <a:lnTo>
                    <a:pt x="247" y="372"/>
                  </a:lnTo>
                  <a:lnTo>
                    <a:pt x="257" y="368"/>
                  </a:lnTo>
                  <a:lnTo>
                    <a:pt x="266" y="364"/>
                  </a:lnTo>
                  <a:lnTo>
                    <a:pt x="271" y="354"/>
                  </a:lnTo>
                  <a:lnTo>
                    <a:pt x="272" y="341"/>
                  </a:lnTo>
                  <a:lnTo>
                    <a:pt x="263" y="345"/>
                  </a:lnTo>
                  <a:lnTo>
                    <a:pt x="254" y="347"/>
                  </a:lnTo>
                  <a:lnTo>
                    <a:pt x="245" y="348"/>
                  </a:lnTo>
                  <a:lnTo>
                    <a:pt x="236" y="349"/>
                  </a:lnTo>
                  <a:lnTo>
                    <a:pt x="227" y="348"/>
                  </a:lnTo>
                  <a:lnTo>
                    <a:pt x="217" y="348"/>
                  </a:lnTo>
                  <a:lnTo>
                    <a:pt x="207" y="348"/>
                  </a:lnTo>
                  <a:lnTo>
                    <a:pt x="199" y="349"/>
                  </a:lnTo>
                  <a:lnTo>
                    <a:pt x="193" y="339"/>
                  </a:lnTo>
                  <a:lnTo>
                    <a:pt x="197" y="334"/>
                  </a:lnTo>
                  <a:lnTo>
                    <a:pt x="208" y="329"/>
                  </a:lnTo>
                  <a:lnTo>
                    <a:pt x="222" y="324"/>
                  </a:lnTo>
                  <a:lnTo>
                    <a:pt x="237" y="320"/>
                  </a:lnTo>
                  <a:lnTo>
                    <a:pt x="252" y="316"/>
                  </a:lnTo>
                  <a:lnTo>
                    <a:pt x="266" y="309"/>
                  </a:lnTo>
                  <a:lnTo>
                    <a:pt x="281" y="303"/>
                  </a:lnTo>
                  <a:lnTo>
                    <a:pt x="293" y="296"/>
                  </a:lnTo>
                  <a:lnTo>
                    <a:pt x="305" y="288"/>
                  </a:lnTo>
                  <a:lnTo>
                    <a:pt x="296" y="281"/>
                  </a:lnTo>
                  <a:lnTo>
                    <a:pt x="287" y="280"/>
                  </a:lnTo>
                  <a:lnTo>
                    <a:pt x="277" y="281"/>
                  </a:lnTo>
                  <a:lnTo>
                    <a:pt x="267" y="284"/>
                  </a:lnTo>
                  <a:lnTo>
                    <a:pt x="257" y="286"/>
                  </a:lnTo>
                  <a:lnTo>
                    <a:pt x="250" y="286"/>
                  </a:lnTo>
                  <a:lnTo>
                    <a:pt x="245" y="282"/>
                  </a:lnTo>
                  <a:lnTo>
                    <a:pt x="242" y="273"/>
                  </a:lnTo>
                  <a:lnTo>
                    <a:pt x="249" y="266"/>
                  </a:lnTo>
                  <a:lnTo>
                    <a:pt x="256" y="263"/>
                  </a:lnTo>
                  <a:lnTo>
                    <a:pt x="263" y="259"/>
                  </a:lnTo>
                  <a:lnTo>
                    <a:pt x="271" y="258"/>
                  </a:lnTo>
                  <a:lnTo>
                    <a:pt x="279" y="256"/>
                  </a:lnTo>
                  <a:lnTo>
                    <a:pt x="286" y="254"/>
                  </a:lnTo>
                  <a:lnTo>
                    <a:pt x="293" y="250"/>
                  </a:lnTo>
                  <a:lnTo>
                    <a:pt x="300" y="246"/>
                  </a:lnTo>
                  <a:lnTo>
                    <a:pt x="293" y="239"/>
                  </a:lnTo>
                  <a:lnTo>
                    <a:pt x="286" y="238"/>
                  </a:lnTo>
                  <a:lnTo>
                    <a:pt x="278" y="237"/>
                  </a:lnTo>
                  <a:lnTo>
                    <a:pt x="269" y="239"/>
                  </a:lnTo>
                  <a:lnTo>
                    <a:pt x="260" y="239"/>
                  </a:lnTo>
                  <a:lnTo>
                    <a:pt x="251" y="240"/>
                  </a:lnTo>
                  <a:lnTo>
                    <a:pt x="244" y="237"/>
                  </a:lnTo>
                  <a:lnTo>
                    <a:pt x="237" y="233"/>
                  </a:lnTo>
                  <a:lnTo>
                    <a:pt x="239" y="223"/>
                  </a:lnTo>
                  <a:lnTo>
                    <a:pt x="245" y="219"/>
                  </a:lnTo>
                  <a:lnTo>
                    <a:pt x="252" y="216"/>
                  </a:lnTo>
                  <a:lnTo>
                    <a:pt x="263" y="216"/>
                  </a:lnTo>
                  <a:lnTo>
                    <a:pt x="272" y="214"/>
                  </a:lnTo>
                  <a:lnTo>
                    <a:pt x="282" y="213"/>
                  </a:lnTo>
                  <a:lnTo>
                    <a:pt x="290" y="207"/>
                  </a:lnTo>
                  <a:lnTo>
                    <a:pt x="298" y="200"/>
                  </a:lnTo>
                  <a:lnTo>
                    <a:pt x="297" y="192"/>
                  </a:lnTo>
                  <a:lnTo>
                    <a:pt x="295" y="188"/>
                  </a:lnTo>
                  <a:lnTo>
                    <a:pt x="294" y="183"/>
                  </a:lnTo>
                  <a:lnTo>
                    <a:pt x="296" y="177"/>
                  </a:lnTo>
                  <a:lnTo>
                    <a:pt x="286" y="172"/>
                  </a:lnTo>
                  <a:lnTo>
                    <a:pt x="278" y="171"/>
                  </a:lnTo>
                  <a:lnTo>
                    <a:pt x="268" y="171"/>
                  </a:lnTo>
                  <a:lnTo>
                    <a:pt x="260" y="173"/>
                  </a:lnTo>
                  <a:lnTo>
                    <a:pt x="251" y="172"/>
                  </a:lnTo>
                  <a:lnTo>
                    <a:pt x="246" y="171"/>
                  </a:lnTo>
                  <a:lnTo>
                    <a:pt x="242" y="166"/>
                  </a:lnTo>
                  <a:lnTo>
                    <a:pt x="245" y="157"/>
                  </a:lnTo>
                  <a:lnTo>
                    <a:pt x="261" y="150"/>
                  </a:lnTo>
                  <a:lnTo>
                    <a:pt x="277" y="143"/>
                  </a:lnTo>
                  <a:lnTo>
                    <a:pt x="294" y="138"/>
                  </a:lnTo>
                  <a:lnTo>
                    <a:pt x="312" y="134"/>
                  </a:lnTo>
                  <a:lnTo>
                    <a:pt x="328" y="128"/>
                  </a:lnTo>
                  <a:lnTo>
                    <a:pt x="345" y="123"/>
                  </a:lnTo>
                  <a:lnTo>
                    <a:pt x="362" y="118"/>
                  </a:lnTo>
                  <a:lnTo>
                    <a:pt x="379" y="113"/>
                  </a:lnTo>
                  <a:lnTo>
                    <a:pt x="391" y="112"/>
                  </a:lnTo>
                  <a:lnTo>
                    <a:pt x="401" y="109"/>
                  </a:lnTo>
                  <a:lnTo>
                    <a:pt x="411" y="103"/>
                  </a:lnTo>
                  <a:lnTo>
                    <a:pt x="422" y="96"/>
                  </a:lnTo>
                  <a:lnTo>
                    <a:pt x="430" y="87"/>
                  </a:lnTo>
                  <a:lnTo>
                    <a:pt x="440" y="77"/>
                  </a:lnTo>
                  <a:lnTo>
                    <a:pt x="449" y="68"/>
                  </a:lnTo>
                  <a:lnTo>
                    <a:pt x="460" y="60"/>
                  </a:lnTo>
                  <a:lnTo>
                    <a:pt x="451" y="57"/>
                  </a:lnTo>
                  <a:lnTo>
                    <a:pt x="444" y="57"/>
                  </a:lnTo>
                  <a:lnTo>
                    <a:pt x="436" y="57"/>
                  </a:lnTo>
                  <a:lnTo>
                    <a:pt x="429" y="60"/>
                  </a:lnTo>
                  <a:lnTo>
                    <a:pt x="422" y="63"/>
                  </a:lnTo>
                  <a:lnTo>
                    <a:pt x="414" y="67"/>
                  </a:lnTo>
                  <a:lnTo>
                    <a:pt x="408" y="70"/>
                  </a:lnTo>
                  <a:lnTo>
                    <a:pt x="401" y="73"/>
                  </a:lnTo>
                  <a:lnTo>
                    <a:pt x="378" y="77"/>
                  </a:lnTo>
                  <a:lnTo>
                    <a:pt x="355" y="82"/>
                  </a:lnTo>
                  <a:lnTo>
                    <a:pt x="333" y="86"/>
                  </a:lnTo>
                  <a:lnTo>
                    <a:pt x="311" y="91"/>
                  </a:lnTo>
                  <a:lnTo>
                    <a:pt x="287" y="93"/>
                  </a:lnTo>
                  <a:lnTo>
                    <a:pt x="265" y="96"/>
                  </a:lnTo>
                  <a:lnTo>
                    <a:pt x="241" y="98"/>
                  </a:lnTo>
                  <a:lnTo>
                    <a:pt x="219" y="99"/>
                  </a:lnTo>
                  <a:lnTo>
                    <a:pt x="214" y="91"/>
                  </a:lnTo>
                  <a:lnTo>
                    <a:pt x="217" y="85"/>
                  </a:lnTo>
                  <a:lnTo>
                    <a:pt x="224" y="78"/>
                  </a:lnTo>
                  <a:lnTo>
                    <a:pt x="232" y="76"/>
                  </a:lnTo>
                  <a:lnTo>
                    <a:pt x="241" y="75"/>
                  </a:lnTo>
                  <a:lnTo>
                    <a:pt x="251" y="73"/>
                  </a:lnTo>
                  <a:lnTo>
                    <a:pt x="260" y="70"/>
                  </a:lnTo>
                  <a:lnTo>
                    <a:pt x="269" y="68"/>
                  </a:lnTo>
                  <a:lnTo>
                    <a:pt x="278" y="64"/>
                  </a:lnTo>
                  <a:lnTo>
                    <a:pt x="286" y="62"/>
                  </a:lnTo>
                  <a:lnTo>
                    <a:pt x="296" y="60"/>
                  </a:lnTo>
                  <a:lnTo>
                    <a:pt x="305" y="60"/>
                  </a:lnTo>
                  <a:lnTo>
                    <a:pt x="312" y="57"/>
                  </a:lnTo>
                  <a:lnTo>
                    <a:pt x="317" y="52"/>
                  </a:lnTo>
                  <a:lnTo>
                    <a:pt x="321" y="44"/>
                  </a:lnTo>
                  <a:lnTo>
                    <a:pt x="326" y="38"/>
                  </a:lnTo>
                  <a:lnTo>
                    <a:pt x="329" y="31"/>
                  </a:lnTo>
                  <a:lnTo>
                    <a:pt x="332" y="29"/>
                  </a:lnTo>
                  <a:lnTo>
                    <a:pt x="337" y="30"/>
                  </a:lnTo>
                  <a:lnTo>
                    <a:pt x="346" y="38"/>
                  </a:lnTo>
                  <a:lnTo>
                    <a:pt x="363" y="34"/>
                  </a:lnTo>
                  <a:lnTo>
                    <a:pt x="380" y="28"/>
                  </a:lnTo>
                  <a:lnTo>
                    <a:pt x="397" y="22"/>
                  </a:lnTo>
                  <a:lnTo>
                    <a:pt x="414" y="17"/>
                  </a:lnTo>
                  <a:lnTo>
                    <a:pt x="430" y="9"/>
                  </a:lnTo>
                  <a:lnTo>
                    <a:pt x="448" y="4"/>
                  </a:lnTo>
                  <a:lnTo>
                    <a:pt x="466" y="0"/>
                  </a:lnTo>
                  <a:lnTo>
                    <a:pt x="485" y="0"/>
                  </a:lnTo>
                  <a:lnTo>
                    <a:pt x="495" y="15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4684680" y="3442320"/>
              <a:ext cx="9720" cy="1728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20" y="5"/>
                  </a:moveTo>
                  <a:lnTo>
                    <a:pt x="2" y="35"/>
                  </a:lnTo>
                  <a:lnTo>
                    <a:pt x="0" y="0"/>
                  </a:lnTo>
                  <a:lnTo>
                    <a:pt x="10" y="1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5705640" y="3461400"/>
              <a:ext cx="4680" cy="34560"/>
            </a:xfrm>
            <a:custGeom>
              <a:avLst/>
              <a:gdLst/>
              <a:ahLst/>
              <a:rect l="l" t="t" r="r" b="b"/>
              <a:pathLst>
                <a:path w="10" h="66">
                  <a:moveTo>
                    <a:pt x="10" y="48"/>
                  </a:moveTo>
                  <a:lnTo>
                    <a:pt x="9" y="52"/>
                  </a:lnTo>
                  <a:lnTo>
                    <a:pt x="9" y="58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4" y="57"/>
                  </a:lnTo>
                  <a:lnTo>
                    <a:pt x="3" y="48"/>
                  </a:lnTo>
                  <a:lnTo>
                    <a:pt x="1" y="40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3" y="3"/>
                  </a:lnTo>
                  <a:lnTo>
                    <a:pt x="4" y="9"/>
                  </a:lnTo>
                  <a:lnTo>
                    <a:pt x="3" y="15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3" y="36"/>
                  </a:lnTo>
                  <a:lnTo>
                    <a:pt x="5" y="42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5584680" y="3512160"/>
              <a:ext cx="22320" cy="122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3" y="0"/>
                  </a:moveTo>
                  <a:lnTo>
                    <a:pt x="32" y="7"/>
                  </a:lnTo>
                  <a:lnTo>
                    <a:pt x="23" y="17"/>
                  </a:lnTo>
                  <a:lnTo>
                    <a:pt x="17" y="19"/>
                  </a:lnTo>
                  <a:lnTo>
                    <a:pt x="12" y="22"/>
                  </a:lnTo>
                  <a:lnTo>
                    <a:pt x="6" y="2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7" y="13"/>
                  </a:lnTo>
                  <a:lnTo>
                    <a:pt x="23" y="11"/>
                  </a:lnTo>
                  <a:lnTo>
                    <a:pt x="32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5791320" y="3524760"/>
              <a:ext cx="28440" cy="1728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21"/>
                  </a:moveTo>
                  <a:lnTo>
                    <a:pt x="53" y="27"/>
                  </a:lnTo>
                  <a:lnTo>
                    <a:pt x="48" y="33"/>
                  </a:lnTo>
                  <a:lnTo>
                    <a:pt x="41" y="31"/>
                  </a:lnTo>
                  <a:lnTo>
                    <a:pt x="34" y="30"/>
                  </a:lnTo>
                  <a:lnTo>
                    <a:pt x="28" y="27"/>
                  </a:lnTo>
                  <a:lnTo>
                    <a:pt x="23" y="25"/>
                  </a:lnTo>
                  <a:lnTo>
                    <a:pt x="11" y="18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15" y="8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3" y="9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5770440" y="3554640"/>
              <a:ext cx="5040" cy="1872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15"/>
                  </a:moveTo>
                  <a:lnTo>
                    <a:pt x="3" y="17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6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5788080" y="3562560"/>
              <a:ext cx="34920" cy="154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20"/>
                  </a:moveTo>
                  <a:lnTo>
                    <a:pt x="61" y="24"/>
                  </a:lnTo>
                  <a:lnTo>
                    <a:pt x="57" y="26"/>
                  </a:lnTo>
                  <a:lnTo>
                    <a:pt x="51" y="26"/>
                  </a:lnTo>
                  <a:lnTo>
                    <a:pt x="48" y="25"/>
                  </a:lnTo>
                  <a:lnTo>
                    <a:pt x="38" y="22"/>
                  </a:lnTo>
                  <a:lnTo>
                    <a:pt x="30" y="28"/>
                  </a:lnTo>
                  <a:lnTo>
                    <a:pt x="20" y="28"/>
                  </a:lnTo>
                  <a:lnTo>
                    <a:pt x="14" y="25"/>
                  </a:lnTo>
                  <a:lnTo>
                    <a:pt x="6" y="22"/>
                  </a:lnTo>
                  <a:lnTo>
                    <a:pt x="0" y="2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20" y="2"/>
                  </a:lnTo>
                  <a:lnTo>
                    <a:pt x="28" y="3"/>
                  </a:lnTo>
                  <a:lnTo>
                    <a:pt x="36" y="5"/>
                  </a:lnTo>
                  <a:lnTo>
                    <a:pt x="44" y="6"/>
                  </a:lnTo>
                  <a:lnTo>
                    <a:pt x="51" y="9"/>
                  </a:lnTo>
                  <a:lnTo>
                    <a:pt x="59" y="14"/>
                  </a:lnTo>
                  <a:lnTo>
                    <a:pt x="6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778360" y="3591360"/>
              <a:ext cx="65160" cy="2340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121" y="24"/>
                  </a:moveTo>
                  <a:lnTo>
                    <a:pt x="115" y="29"/>
                  </a:lnTo>
                  <a:lnTo>
                    <a:pt x="108" y="33"/>
                  </a:lnTo>
                  <a:lnTo>
                    <a:pt x="99" y="34"/>
                  </a:lnTo>
                  <a:lnTo>
                    <a:pt x="92" y="35"/>
                  </a:lnTo>
                  <a:lnTo>
                    <a:pt x="82" y="34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9" y="41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9" y="43"/>
                  </a:lnTo>
                  <a:lnTo>
                    <a:pt x="20" y="42"/>
                  </a:lnTo>
                  <a:lnTo>
                    <a:pt x="14" y="43"/>
                  </a:lnTo>
                  <a:lnTo>
                    <a:pt x="6" y="43"/>
                  </a:lnTo>
                  <a:lnTo>
                    <a:pt x="0" y="46"/>
                  </a:lnTo>
                  <a:lnTo>
                    <a:pt x="7" y="0"/>
                  </a:lnTo>
                  <a:lnTo>
                    <a:pt x="20" y="3"/>
                  </a:lnTo>
                  <a:lnTo>
                    <a:pt x="35" y="7"/>
                  </a:lnTo>
                  <a:lnTo>
                    <a:pt x="50" y="8"/>
                  </a:lnTo>
                  <a:lnTo>
                    <a:pt x="65" y="10"/>
                  </a:lnTo>
                  <a:lnTo>
                    <a:pt x="79" y="11"/>
                  </a:lnTo>
                  <a:lnTo>
                    <a:pt x="94" y="13"/>
                  </a:lnTo>
                  <a:lnTo>
                    <a:pt x="108" y="16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648320" y="3603960"/>
              <a:ext cx="12600" cy="9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1"/>
                  </a:moveTo>
                  <a:lnTo>
                    <a:pt x="14" y="18"/>
                  </a:lnTo>
                  <a:lnTo>
                    <a:pt x="7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5"/>
                  </a:lnTo>
                  <a:lnTo>
                    <a:pt x="3" y="0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5514840" y="3623040"/>
              <a:ext cx="15840" cy="313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1" y="50"/>
                  </a:lnTo>
                  <a:lnTo>
                    <a:pt x="3" y="42"/>
                  </a:lnTo>
                  <a:lnTo>
                    <a:pt x="7" y="35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6" y="13"/>
                  </a:lnTo>
                  <a:lnTo>
                    <a:pt x="20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15"/>
                  </a:lnTo>
                  <a:lnTo>
                    <a:pt x="27" y="21"/>
                  </a:lnTo>
                  <a:lnTo>
                    <a:pt x="23" y="30"/>
                  </a:lnTo>
                  <a:lnTo>
                    <a:pt x="16" y="36"/>
                  </a:lnTo>
                  <a:lnTo>
                    <a:pt x="11" y="44"/>
                  </a:lnTo>
                  <a:lnTo>
                    <a:pt x="5" y="5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4"/>
            <p:cNvSpPr/>
            <p:nvPr/>
          </p:nvSpPr>
          <p:spPr>
            <a:xfrm>
              <a:off x="4719600" y="3670200"/>
              <a:ext cx="22320" cy="2664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39" y="26"/>
                  </a:moveTo>
                  <a:lnTo>
                    <a:pt x="42" y="30"/>
                  </a:lnTo>
                  <a:lnTo>
                    <a:pt x="44" y="37"/>
                  </a:lnTo>
                  <a:lnTo>
                    <a:pt x="44" y="43"/>
                  </a:lnTo>
                  <a:lnTo>
                    <a:pt x="44" y="49"/>
                  </a:lnTo>
                  <a:lnTo>
                    <a:pt x="38" y="50"/>
                  </a:lnTo>
                  <a:lnTo>
                    <a:pt x="33" y="48"/>
                  </a:lnTo>
                  <a:lnTo>
                    <a:pt x="27" y="44"/>
                  </a:lnTo>
                  <a:lnTo>
                    <a:pt x="22" y="42"/>
                  </a:lnTo>
                  <a:lnTo>
                    <a:pt x="19" y="36"/>
                  </a:lnTo>
                  <a:lnTo>
                    <a:pt x="16" y="31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6" y="9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6" y="23"/>
                  </a:lnTo>
                  <a:lnTo>
                    <a:pt x="39" y="26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5770440" y="3672000"/>
              <a:ext cx="28800" cy="576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55" y="5"/>
                  </a:moveTo>
                  <a:lnTo>
                    <a:pt x="49" y="9"/>
                  </a:lnTo>
                  <a:lnTo>
                    <a:pt x="43" y="11"/>
                  </a:lnTo>
                  <a:lnTo>
                    <a:pt x="35" y="11"/>
                  </a:lnTo>
                  <a:lnTo>
                    <a:pt x="29" y="12"/>
                  </a:lnTo>
                  <a:lnTo>
                    <a:pt x="21" y="10"/>
                  </a:lnTo>
                  <a:lnTo>
                    <a:pt x="14" y="9"/>
                  </a:lnTo>
                  <a:lnTo>
                    <a:pt x="6" y="8"/>
                  </a:lnTo>
                  <a:lnTo>
                    <a:pt x="0" y="10"/>
                  </a:lnTo>
                  <a:lnTo>
                    <a:pt x="3" y="5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6"/>
            <p:cNvSpPr/>
            <p:nvPr/>
          </p:nvSpPr>
          <p:spPr>
            <a:xfrm>
              <a:off x="4892760" y="3676680"/>
              <a:ext cx="69840" cy="392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133" y="14"/>
                  </a:moveTo>
                  <a:lnTo>
                    <a:pt x="132" y="21"/>
                  </a:lnTo>
                  <a:lnTo>
                    <a:pt x="130" y="30"/>
                  </a:lnTo>
                  <a:lnTo>
                    <a:pt x="124" y="37"/>
                  </a:lnTo>
                  <a:lnTo>
                    <a:pt x="117" y="45"/>
                  </a:lnTo>
                  <a:lnTo>
                    <a:pt x="101" y="43"/>
                  </a:lnTo>
                  <a:lnTo>
                    <a:pt x="86" y="45"/>
                  </a:lnTo>
                  <a:lnTo>
                    <a:pt x="71" y="48"/>
                  </a:lnTo>
                  <a:lnTo>
                    <a:pt x="58" y="54"/>
                  </a:lnTo>
                  <a:lnTo>
                    <a:pt x="45" y="59"/>
                  </a:lnTo>
                  <a:lnTo>
                    <a:pt x="32" y="65"/>
                  </a:lnTo>
                  <a:lnTo>
                    <a:pt x="19" y="70"/>
                  </a:lnTo>
                  <a:lnTo>
                    <a:pt x="6" y="77"/>
                  </a:lnTo>
                  <a:lnTo>
                    <a:pt x="0" y="71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6" y="54"/>
                  </a:lnTo>
                  <a:lnTo>
                    <a:pt x="17" y="46"/>
                  </a:lnTo>
                  <a:lnTo>
                    <a:pt x="28" y="38"/>
                  </a:lnTo>
                  <a:lnTo>
                    <a:pt x="38" y="31"/>
                  </a:lnTo>
                  <a:lnTo>
                    <a:pt x="50" y="24"/>
                  </a:lnTo>
                  <a:lnTo>
                    <a:pt x="59" y="17"/>
                  </a:lnTo>
                  <a:lnTo>
                    <a:pt x="71" y="11"/>
                  </a:lnTo>
                  <a:lnTo>
                    <a:pt x="82" y="5"/>
                  </a:lnTo>
                  <a:lnTo>
                    <a:pt x="95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4" y="3"/>
                  </a:lnTo>
                  <a:lnTo>
                    <a:pt x="129" y="6"/>
                  </a:lnTo>
                  <a:lnTo>
                    <a:pt x="133" y="14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7"/>
            <p:cNvSpPr/>
            <p:nvPr/>
          </p:nvSpPr>
          <p:spPr>
            <a:xfrm>
              <a:off x="4684680" y="3684600"/>
              <a:ext cx="54000" cy="3456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101" y="47"/>
                  </a:moveTo>
                  <a:lnTo>
                    <a:pt x="100" y="52"/>
                  </a:lnTo>
                  <a:lnTo>
                    <a:pt x="99" y="57"/>
                  </a:lnTo>
                  <a:lnTo>
                    <a:pt x="96" y="61"/>
                  </a:lnTo>
                  <a:lnTo>
                    <a:pt x="94" y="64"/>
                  </a:lnTo>
                  <a:lnTo>
                    <a:pt x="84" y="66"/>
                  </a:lnTo>
                  <a:lnTo>
                    <a:pt x="73" y="67"/>
                  </a:lnTo>
                  <a:lnTo>
                    <a:pt x="64" y="58"/>
                  </a:lnTo>
                  <a:lnTo>
                    <a:pt x="55" y="51"/>
                  </a:lnTo>
                  <a:lnTo>
                    <a:pt x="47" y="44"/>
                  </a:lnTo>
                  <a:lnTo>
                    <a:pt x="38" y="37"/>
                  </a:lnTo>
                  <a:lnTo>
                    <a:pt x="29" y="30"/>
                  </a:lnTo>
                  <a:lnTo>
                    <a:pt x="20" y="24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43" y="8"/>
                  </a:lnTo>
                  <a:lnTo>
                    <a:pt x="53" y="13"/>
                  </a:lnTo>
                  <a:lnTo>
                    <a:pt x="63" y="17"/>
                  </a:lnTo>
                  <a:lnTo>
                    <a:pt x="72" y="22"/>
                  </a:lnTo>
                  <a:lnTo>
                    <a:pt x="81" y="27"/>
                  </a:lnTo>
                  <a:lnTo>
                    <a:pt x="89" y="32"/>
                  </a:lnTo>
                  <a:lnTo>
                    <a:pt x="95" y="38"/>
                  </a:lnTo>
                  <a:lnTo>
                    <a:pt x="101" y="47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8"/>
            <p:cNvSpPr/>
            <p:nvPr/>
          </p:nvSpPr>
          <p:spPr>
            <a:xfrm>
              <a:off x="4648320" y="3686040"/>
              <a:ext cx="55440" cy="4248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27" y="30"/>
                  </a:moveTo>
                  <a:lnTo>
                    <a:pt x="37" y="34"/>
                  </a:lnTo>
                  <a:lnTo>
                    <a:pt x="49" y="38"/>
                  </a:lnTo>
                  <a:lnTo>
                    <a:pt x="63" y="40"/>
                  </a:lnTo>
                  <a:lnTo>
                    <a:pt x="77" y="43"/>
                  </a:lnTo>
                  <a:lnTo>
                    <a:pt x="89" y="45"/>
                  </a:lnTo>
                  <a:lnTo>
                    <a:pt x="97" y="51"/>
                  </a:lnTo>
                  <a:lnTo>
                    <a:pt x="103" y="61"/>
                  </a:lnTo>
                  <a:lnTo>
                    <a:pt x="105" y="78"/>
                  </a:lnTo>
                  <a:lnTo>
                    <a:pt x="92" y="81"/>
                  </a:lnTo>
                  <a:lnTo>
                    <a:pt x="80" y="82"/>
                  </a:lnTo>
                  <a:lnTo>
                    <a:pt x="69" y="79"/>
                  </a:lnTo>
                  <a:lnTo>
                    <a:pt x="58" y="77"/>
                  </a:lnTo>
                  <a:lnTo>
                    <a:pt x="46" y="72"/>
                  </a:lnTo>
                  <a:lnTo>
                    <a:pt x="36" y="66"/>
                  </a:lnTo>
                  <a:lnTo>
                    <a:pt x="25" y="61"/>
                  </a:lnTo>
                  <a:lnTo>
                    <a:pt x="14" y="58"/>
                  </a:lnTo>
                  <a:lnTo>
                    <a:pt x="9" y="52"/>
                  </a:lnTo>
                  <a:lnTo>
                    <a:pt x="6" y="47"/>
                  </a:lnTo>
                  <a:lnTo>
                    <a:pt x="3" y="41"/>
                  </a:lnTo>
                  <a:lnTo>
                    <a:pt x="2" y="35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7" y="10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4" y="19"/>
                  </a:lnTo>
                  <a:lnTo>
                    <a:pt x="25" y="25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9"/>
            <p:cNvSpPr/>
            <p:nvPr/>
          </p:nvSpPr>
          <p:spPr>
            <a:xfrm>
              <a:off x="4924440" y="3711600"/>
              <a:ext cx="42840" cy="313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82" y="8"/>
                  </a:moveTo>
                  <a:lnTo>
                    <a:pt x="79" y="17"/>
                  </a:lnTo>
                  <a:lnTo>
                    <a:pt x="75" y="26"/>
                  </a:lnTo>
                  <a:lnTo>
                    <a:pt x="68" y="32"/>
                  </a:lnTo>
                  <a:lnTo>
                    <a:pt x="61" y="38"/>
                  </a:lnTo>
                  <a:lnTo>
                    <a:pt x="52" y="43"/>
                  </a:lnTo>
                  <a:lnTo>
                    <a:pt x="43" y="48"/>
                  </a:lnTo>
                  <a:lnTo>
                    <a:pt x="35" y="53"/>
                  </a:lnTo>
                  <a:lnTo>
                    <a:pt x="28" y="61"/>
                  </a:lnTo>
                  <a:lnTo>
                    <a:pt x="1" y="61"/>
                  </a:lnTo>
                  <a:lnTo>
                    <a:pt x="0" y="50"/>
                  </a:lnTo>
                  <a:lnTo>
                    <a:pt x="6" y="41"/>
                  </a:lnTo>
                  <a:lnTo>
                    <a:pt x="17" y="37"/>
                  </a:lnTo>
                  <a:lnTo>
                    <a:pt x="27" y="31"/>
                  </a:lnTo>
                  <a:lnTo>
                    <a:pt x="36" y="21"/>
                  </a:lnTo>
                  <a:lnTo>
                    <a:pt x="44" y="13"/>
                  </a:lnTo>
                  <a:lnTo>
                    <a:pt x="52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0"/>
            <p:cNvSpPr/>
            <p:nvPr/>
          </p:nvSpPr>
          <p:spPr>
            <a:xfrm>
              <a:off x="5614920" y="3716280"/>
              <a:ext cx="12600" cy="61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8"/>
                  </a:moveTo>
                  <a:lnTo>
                    <a:pt x="17" y="7"/>
                  </a:lnTo>
                  <a:lnTo>
                    <a:pt x="13" y="10"/>
                  </a:lnTo>
                  <a:lnTo>
                    <a:pt x="6" y="11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1"/>
            <p:cNvSpPr/>
            <p:nvPr/>
          </p:nvSpPr>
          <p:spPr>
            <a:xfrm>
              <a:off x="4964040" y="3720960"/>
              <a:ext cx="34920" cy="4248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68" y="16"/>
                  </a:moveTo>
                  <a:lnTo>
                    <a:pt x="60" y="25"/>
                  </a:lnTo>
                  <a:lnTo>
                    <a:pt x="52" y="32"/>
                  </a:lnTo>
                  <a:lnTo>
                    <a:pt x="44" y="40"/>
                  </a:lnTo>
                  <a:lnTo>
                    <a:pt x="37" y="47"/>
                  </a:lnTo>
                  <a:lnTo>
                    <a:pt x="29" y="53"/>
                  </a:lnTo>
                  <a:lnTo>
                    <a:pt x="23" y="62"/>
                  </a:lnTo>
                  <a:lnTo>
                    <a:pt x="16" y="70"/>
                  </a:lnTo>
                  <a:lnTo>
                    <a:pt x="13" y="82"/>
                  </a:lnTo>
                  <a:lnTo>
                    <a:pt x="7" y="82"/>
                  </a:lnTo>
                  <a:lnTo>
                    <a:pt x="3" y="79"/>
                  </a:lnTo>
                  <a:lnTo>
                    <a:pt x="1" y="74"/>
                  </a:lnTo>
                  <a:lnTo>
                    <a:pt x="0" y="69"/>
                  </a:lnTo>
                  <a:lnTo>
                    <a:pt x="1" y="59"/>
                  </a:lnTo>
                  <a:lnTo>
                    <a:pt x="4" y="49"/>
                  </a:lnTo>
                  <a:lnTo>
                    <a:pt x="8" y="41"/>
                  </a:lnTo>
                  <a:lnTo>
                    <a:pt x="14" y="33"/>
                  </a:lnTo>
                  <a:lnTo>
                    <a:pt x="20" y="25"/>
                  </a:lnTo>
                  <a:lnTo>
                    <a:pt x="27" y="17"/>
                  </a:lnTo>
                  <a:lnTo>
                    <a:pt x="34" y="9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9" y="3"/>
                  </a:lnTo>
                  <a:lnTo>
                    <a:pt x="65" y="8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838080" y="838080"/>
            <a:ext cx="6324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оч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5"/>
          <p:cNvSpPr txBox="1"/>
          <p:nvPr/>
        </p:nvSpPr>
        <p:spPr>
          <a:xfrm>
            <a:off x="914400" y="3809880"/>
            <a:ext cx="6477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a380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опа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a380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1143000" y="99072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ждин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1143000" y="4267080"/>
            <a:ext cx="6324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летаю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CANADAGO"/>
          <p:cNvPicPr/>
          <p:nvPr/>
        </p:nvPicPr>
        <p:blipFill>
          <a:blip r:embed="rId1"/>
          <a:stretch/>
        </p:blipFill>
        <p:spPr>
          <a:xfrm>
            <a:off x="533520" y="457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RANEC"/>
          <p:cNvPicPr/>
          <p:nvPr/>
        </p:nvPicPr>
        <p:blipFill>
          <a:blip r:embed="rId2"/>
          <a:stretch/>
        </p:blipFill>
        <p:spPr>
          <a:xfrm>
            <a:off x="3581280" y="4724280"/>
            <a:ext cx="1535400" cy="153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DUCKC"/>
          <p:cNvPicPr/>
          <p:nvPr/>
        </p:nvPicPr>
        <p:blipFill>
          <a:blip r:embed="rId3"/>
          <a:stretch/>
        </p:blipFill>
        <p:spPr>
          <a:xfrm>
            <a:off x="5562720" y="1143000"/>
            <a:ext cx="1633320" cy="1633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ENTOO"/>
          <p:cNvPicPr/>
          <p:nvPr/>
        </p:nvPicPr>
        <p:blipFill>
          <a:blip r:embed="rId4"/>
          <a:stretch/>
        </p:blipFill>
        <p:spPr>
          <a:xfrm>
            <a:off x="3124080" y="2666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SWANT"/>
          <p:cNvPicPr/>
          <p:nvPr/>
        </p:nvPicPr>
        <p:blipFill>
          <a:blip r:embed="rId5"/>
          <a:stretch/>
        </p:blipFill>
        <p:spPr>
          <a:xfrm>
            <a:off x="5410080" y="5181480"/>
            <a:ext cx="1567080" cy="15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SAW_OWL"/>
          <p:cNvPicPr/>
          <p:nvPr/>
        </p:nvPicPr>
        <p:blipFill>
          <a:blip r:embed="rId6"/>
          <a:stretch/>
        </p:blipFill>
        <p:spPr>
          <a:xfrm>
            <a:off x="7315200" y="259092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ROOSTER"/>
          <p:cNvPicPr/>
          <p:nvPr/>
        </p:nvPicPr>
        <p:blipFill>
          <a:blip r:embed="rId7"/>
          <a:stretch/>
        </p:blipFill>
        <p:spPr>
          <a:xfrm>
            <a:off x="5105520" y="2971800"/>
            <a:ext cx="179532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RED_HEAD"/>
          <p:cNvPicPr/>
          <p:nvPr/>
        </p:nvPicPr>
        <p:blipFill>
          <a:blip r:embed="rId8"/>
          <a:stretch/>
        </p:blipFill>
        <p:spPr>
          <a:xfrm>
            <a:off x="1219320" y="31240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PIGEON"/>
          <p:cNvPicPr/>
          <p:nvPr/>
        </p:nvPicPr>
        <p:blipFill>
          <a:blip r:embed="rId9"/>
          <a:stretch/>
        </p:blipFill>
        <p:spPr>
          <a:xfrm>
            <a:off x="7391520" y="4648320"/>
            <a:ext cx="1535040" cy="153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BIRD916"/>
          <p:cNvPicPr/>
          <p:nvPr/>
        </p:nvPicPr>
        <p:blipFill>
          <a:blip r:embed="rId10"/>
          <a:stretch/>
        </p:blipFill>
        <p:spPr>
          <a:xfrm>
            <a:off x="3429000" y="457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BIRD792"/>
          <p:cNvPicPr/>
          <p:nvPr/>
        </p:nvPicPr>
        <p:blipFill>
          <a:blip r:embed="rId11"/>
          <a:stretch/>
        </p:blipFill>
        <p:spPr>
          <a:xfrm>
            <a:off x="7162920" y="533520"/>
            <a:ext cx="1404720" cy="14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BIRD405"/>
          <p:cNvPicPr/>
          <p:nvPr/>
        </p:nvPicPr>
        <p:blipFill>
          <a:blip r:embed="rId12"/>
          <a:stretch/>
        </p:blipFill>
        <p:spPr>
          <a:xfrm>
            <a:off x="45720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Oval 18"/>
          <p:cNvSpPr/>
          <p:nvPr/>
        </p:nvSpPr>
        <p:spPr>
          <a:xfrm>
            <a:off x="784872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7620120" y="3657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"/>
          <p:cNvSpPr/>
          <p:nvPr/>
        </p:nvSpPr>
        <p:spPr>
          <a:xfrm>
            <a:off x="640080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5943600" y="5105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4495680" y="5486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4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5"/>
          <p:cNvSpPr/>
          <p:nvPr/>
        </p:nvSpPr>
        <p:spPr>
          <a:xfrm>
            <a:off x="5410080" y="1981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6"/>
          <p:cNvSpPr/>
          <p:nvPr/>
        </p:nvSpPr>
        <p:spPr>
          <a:xfrm>
            <a:off x="4648320" y="1447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7"/>
          <p:cNvSpPr/>
          <p:nvPr/>
        </p:nvSpPr>
        <p:spPr>
          <a:xfrm>
            <a:off x="1828800" y="1981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2362320" y="4267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205740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ть перелётны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пишит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Берёза"/>
          <p:cNvPicPr/>
          <p:nvPr/>
        </p:nvPicPr>
        <p:blipFill>
          <a:blip r:embed="rId1"/>
          <a:stretch/>
        </p:blipFill>
        <p:spPr>
          <a:xfrm>
            <a:off x="6400800" y="990720"/>
            <a:ext cx="20574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Дуб"/>
          <p:cNvPicPr/>
          <p:nvPr/>
        </p:nvPicPr>
        <p:blipFill>
          <a:blip r:embed="rId2"/>
          <a:stretch/>
        </p:blipFill>
        <p:spPr>
          <a:xfrm>
            <a:off x="2743200" y="3581280"/>
            <a:ext cx="1506600" cy="2819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льха"/>
          <p:cNvPicPr/>
          <p:nvPr/>
        </p:nvPicPr>
        <p:blipFill>
          <a:blip r:embed="rId3"/>
          <a:stretch/>
        </p:blipFill>
        <p:spPr>
          <a:xfrm>
            <a:off x="5334120" y="4038480"/>
            <a:ext cx="153972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Липа"/>
          <p:cNvPicPr/>
          <p:nvPr/>
        </p:nvPicPr>
        <p:blipFill>
          <a:blip r:embed="rId4"/>
          <a:stretch/>
        </p:blipFill>
        <p:spPr>
          <a:xfrm>
            <a:off x="762120" y="3886200"/>
            <a:ext cx="1090440" cy="236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Клён"/>
          <p:cNvPicPr/>
          <p:nvPr/>
        </p:nvPicPr>
        <p:blipFill>
          <a:blip r:embed="rId5"/>
          <a:stretch/>
        </p:blipFill>
        <p:spPr>
          <a:xfrm>
            <a:off x="4267080" y="914400"/>
            <a:ext cx="1516320" cy="205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Ель"/>
          <p:cNvPicPr/>
          <p:nvPr/>
        </p:nvPicPr>
        <p:blipFill>
          <a:blip r:embed="rId6"/>
          <a:stretch/>
        </p:blipFill>
        <p:spPr>
          <a:xfrm>
            <a:off x="2362320" y="914400"/>
            <a:ext cx="1317600" cy="2209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Сосна"/>
          <p:cNvPicPr/>
          <p:nvPr/>
        </p:nvPicPr>
        <p:blipFill>
          <a:blip r:embed="rId7"/>
          <a:stretch/>
        </p:blipFill>
        <p:spPr>
          <a:xfrm>
            <a:off x="7391520" y="3809880"/>
            <a:ext cx="119196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Тополь"/>
          <p:cNvPicPr/>
          <p:nvPr/>
        </p:nvPicPr>
        <p:blipFill>
          <a:blip r:embed="rId8"/>
          <a:stretch/>
        </p:blipFill>
        <p:spPr>
          <a:xfrm>
            <a:off x="380880" y="380880"/>
            <a:ext cx="1219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74680"/>
            <a:ext cx="8305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тьте цветы , которые не цветут осен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4" descr="Тюльпан"/>
          <p:cNvPicPr/>
          <p:nvPr/>
        </p:nvPicPr>
        <p:blipFill>
          <a:blip r:embed="rId1"/>
          <a:stretch/>
        </p:blipFill>
        <p:spPr>
          <a:xfrm>
            <a:off x="3200400" y="3733920"/>
            <a:ext cx="1754280" cy="250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Ромашка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09480" y="4191120"/>
            <a:ext cx="163224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Роза"/>
          <p:cNvPicPr/>
          <p:nvPr/>
        </p:nvPicPr>
        <p:blipFill>
          <a:blip r:embed="rId3"/>
          <a:stretch/>
        </p:blipFill>
        <p:spPr>
          <a:xfrm>
            <a:off x="7543800" y="4572000"/>
            <a:ext cx="1146240" cy="1752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Мак"/>
          <p:cNvPicPr/>
          <p:nvPr/>
        </p:nvPicPr>
        <p:blipFill>
          <a:blip r:embed="rId4"/>
          <a:stretch/>
        </p:blipFill>
        <p:spPr>
          <a:xfrm>
            <a:off x="7315200" y="990720"/>
            <a:ext cx="1214280" cy="2209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Ландыш"/>
          <p:cNvPicPr/>
          <p:nvPr/>
        </p:nvPicPr>
        <p:blipFill>
          <a:blip r:embed="rId5">
            <a:lum contrast="48000"/>
          </a:blip>
          <a:stretch/>
        </p:blipFill>
        <p:spPr>
          <a:xfrm>
            <a:off x="685800" y="1219320"/>
            <a:ext cx="1320840" cy="1904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Кувшинка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2438280" y="1143000"/>
            <a:ext cx="1955880" cy="2057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GLADILS1"/>
          <p:cNvPicPr/>
          <p:nvPr/>
        </p:nvPicPr>
        <p:blipFill>
          <a:blip r:embed="rId7"/>
          <a:stretch/>
        </p:blipFill>
        <p:spPr>
          <a:xfrm>
            <a:off x="5638680" y="3657600"/>
            <a:ext cx="1428840" cy="259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NASTURTI"/>
          <p:cNvPicPr/>
          <p:nvPr/>
        </p:nvPicPr>
        <p:blipFill>
          <a:blip r:embed="rId8"/>
          <a:stretch/>
        </p:blipFill>
        <p:spPr>
          <a:xfrm>
            <a:off x="5105520" y="137160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029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растение по пл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Рисунок43"/>
          <p:cNvPicPr/>
          <p:nvPr/>
        </p:nvPicPr>
        <p:blipFill>
          <a:blip r:embed="rId1"/>
          <a:srcRect l="17944" t="11026" r="35919" b="39338"/>
          <a:stretch/>
        </p:blipFill>
        <p:spPr>
          <a:xfrm>
            <a:off x="380880" y="304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Барбарис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66880" y="1600200"/>
            <a:ext cx="2057400" cy="1795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Боярышник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029200" y="1600200"/>
            <a:ext cx="1914480" cy="1978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Калина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7086600" y="1371600"/>
            <a:ext cx="1660680" cy="1924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Облепиха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228600" y="2362320"/>
            <a:ext cx="1879560" cy="1904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Рябина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2895480" y="434340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Черёмуха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5029200" y="4038480"/>
            <a:ext cx="1515960" cy="19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Черноплодная рябина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7010280" y="4191120"/>
            <a:ext cx="174168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Шиповник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304920" y="4419720"/>
            <a:ext cx="1885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9"/>
          <p:cNvPicPr/>
          <p:nvPr/>
        </p:nvPicPr>
        <p:blipFill>
          <a:blip r:embed="rId1"/>
          <a:stretch/>
        </p:blipFill>
        <p:spPr>
          <a:xfrm>
            <a:off x="152280" y="189000"/>
            <a:ext cx="8839440" cy="65167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4"/>
          <p:cNvSpPr txBox="1"/>
          <p:nvPr/>
        </p:nvSpPr>
        <p:spPr>
          <a:xfrm>
            <a:off x="3200400" y="228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вод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05120" y="1904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Привал для смекали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49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Привал «Загадоч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49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Привал «Гриб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49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Привал «Угадай-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49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490b"/>
                </a:solidFill>
                <a:latin typeface="Arial"/>
              </a:rPr>
              <a:t>Общий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38880" y="20574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876920" y="4419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7238880" y="26668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6248520" y="32004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248520" y="37339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Рисунок54"/>
          <p:cNvPicPr/>
          <p:nvPr/>
        </p:nvPicPr>
        <p:blipFill>
          <a:blip r:embed="rId2"/>
          <a:stretch/>
        </p:blipFill>
        <p:spPr>
          <a:xfrm rot="16200000">
            <a:off x="-117360" y="117000"/>
            <a:ext cx="2057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"/>
          <p:cNvPicPr/>
          <p:nvPr/>
        </p:nvPicPr>
        <p:blipFill>
          <a:blip r:embed="rId1"/>
          <a:stretch/>
        </p:blipFill>
        <p:spPr>
          <a:xfrm>
            <a:off x="533520" y="28116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3200400" y="228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утевод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1904760"/>
            <a:ext cx="5790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ривал «Угадай-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ривал для смекали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ривал «Загадоч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ривал «Гриб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ий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858000" y="207504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876920" y="4419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38880" y="260496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7238880" y="325296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248520" y="37339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Рисунок54"/>
          <p:cNvPicPr/>
          <p:nvPr/>
        </p:nvPicPr>
        <p:blipFill>
          <a:blip r:embed="rId2"/>
          <a:stretch/>
        </p:blipFill>
        <p:spPr>
          <a:xfrm rot="16200000">
            <a:off x="-117360" y="117000"/>
            <a:ext cx="2057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9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WordArt 3"/>
          <p:cNvSpPr txBox="1"/>
          <p:nvPr/>
        </p:nvSpPr>
        <p:spPr>
          <a:xfrm>
            <a:off x="3200400" y="228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Путевод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905120" y="1904760"/>
            <a:ext cx="5790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ивал «Гриб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ивал «Угадай-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ивал для смекал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ивал «Загадоч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Общий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248520" y="20574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76920" y="4419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248520" y="2666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7391520" y="3168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6843600" y="37339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Рисунок54"/>
          <p:cNvPicPr/>
          <p:nvPr/>
        </p:nvPicPr>
        <p:blipFill>
          <a:blip r:embed="rId2"/>
          <a:stretch/>
        </p:blipFill>
        <p:spPr>
          <a:xfrm rot="16200000">
            <a:off x="-117360" y="117000"/>
            <a:ext cx="2057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9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6248520"/>
          </a:xfrm>
          <a:prstGeom prst="rect">
            <a:avLst/>
          </a:prstGeom>
          <a:ln w="0">
            <a:noFill/>
          </a:ln>
        </p:spPr>
      </p:pic>
      <p:sp>
        <p:nvSpPr>
          <p:cNvPr id="239" name="WordArt 3"/>
          <p:cNvSpPr txBox="1"/>
          <p:nvPr/>
        </p:nvSpPr>
        <p:spPr>
          <a:xfrm>
            <a:off x="3200400" y="228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Путевод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905120" y="1904760"/>
            <a:ext cx="5790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ривал «Загадоч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ривал «Гриб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ривал «Угадай-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ривал для смекали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Общий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0" y="206064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876920" y="4419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858000" y="26668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858000" y="32004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7273800" y="373680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Рисунок54"/>
          <p:cNvPicPr/>
          <p:nvPr/>
        </p:nvPicPr>
        <p:blipFill>
          <a:blip r:embed="rId2"/>
          <a:stretch/>
        </p:blipFill>
        <p:spPr>
          <a:xfrm rot="16200000">
            <a:off x="-117360" y="117000"/>
            <a:ext cx="2057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2-10-23T20:42:14Z</cp:lastPrinted>
  <dcterms:modified xsi:type="dcterms:W3CDTF">2012-10-23T20:43:4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